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1.xls" ContentType="application/vnd.ms-exce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175F22-0279-473B-9C91-DA3A07AA0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073B0F-DC31-453C-9DF4-B721EF366077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ED738C-701D-4EE5-BBDD-CAC6F2D56D1D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91F069-537D-4E33-B62E-D073F0369F8D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728C2B-223E-473D-959F-67325850CA0F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1FC9AA-810D-4DF7-80C1-6FD197B60639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47A4B5-DDE7-4E0A-ACE0-F0672BCA0D05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ECC2A4-1A7F-435D-8FF4-B9E52C6A6FC9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D5E5FC-A1C8-4B57-BF96-E3C819A23619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066924-9B70-41EA-87A1-D98B8091A88F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126FC0-8ED9-43C6-BB2C-AAF9E8091BBC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7CF4BD-48EF-413A-BA93-90D7762A28C2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533D08-099E-4D6F-BD64-FFB5F52873FF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FE90EF-CB1B-45E9-B020-5EFCF7EF5FAC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586984-EFF2-4F8E-A2A8-AF5DEEFCBAC0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F7D5BF-914A-4DD7-95EB-F36F9E7D03D3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313355-9C1F-45E1-83FE-4666AC09BD34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7BEF16-75F6-441B-8D84-AA60376958C3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ABD358-2BDF-4B4D-9C44-A8CE340D664B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5D76B8-9BF3-4BA7-ADE0-4CDE7D40664E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E9BDAC-ED02-4364-A576-D6386AC2BF24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93A6E2-C9E3-467E-AC88-97BA59C20661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BC72DA-36FB-4362-B446-5DBE441F79B2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22ADAF-0BCE-493D-9585-FD2DCE67148E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CFBBB6-DE98-4E22-871E-7AED8C516C95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BF7F21-A685-4ECF-AE3E-724DBAC91A15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EF4A29-F480-4C2C-81BA-D3109AFAE8CB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7E5216-5B7B-4B1C-A99A-E7FF64712CE0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7773E8-5B2C-40C5-87ED-4E36A2A6674D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D852F2-9F41-4584-A1A6-F63236D317C3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BDF45C-87CB-49DC-A953-8F892C49599A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E426-BDDE-480D-8515-316B0A48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4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955320"/>
            <a:ext cx="86864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BB46-CEB5-44B2-AB9C-69DE8B36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964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9553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9640" y="39553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7FE-6631-41E2-9B1B-845BDA84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65840" y="14479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02720" y="14479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9553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65840" y="39553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02720" y="39553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DA10-491D-4DF6-90F8-4952DEDB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F85B-7D28-42E1-96B0-0054BD36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864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CF34-361B-4ABD-96A5-E62DCF38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4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6586-5BF1-4FD8-873E-A2BF7374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86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9640" y="1447920"/>
            <a:ext cx="42386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29BF-9FD6-46BF-ACB6-0CD2DA5E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0E77-105D-43E8-86FA-DD8AC980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D4F4-AE5F-4106-B2BF-A9892011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640" y="1447920"/>
            <a:ext cx="42386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600" y="39553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EC4C-33C7-4628-8DCC-43CC43CA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864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E042-6901-4A2D-A1A5-FC5113EA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86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64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9640" y="39553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83CB-8822-4915-92DF-79FB162E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64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955320"/>
            <a:ext cx="86864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3D14-17CB-4718-8B75-0FEA90E2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4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28600" y="3955320"/>
            <a:ext cx="86864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789A-95CA-4FDE-98D2-7C8BAF36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964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600" y="39553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9640" y="39553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B0FF-BFC7-4905-8A3D-9574CA63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65840" y="14479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02720" y="14479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28600" y="39553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65840" y="39553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02720" y="39553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B8DE-D33F-4927-8960-36304A00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15C3B-9EBA-40FA-9993-BA313438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864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12804-D925-4C49-97B5-122B5AB4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4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E52CA-2311-4FB9-90B9-C524FE4E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86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9640" y="1447920"/>
            <a:ext cx="42386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0EA59-B2D3-4743-8318-B2A4454F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27F8D-E5A3-447A-B1CF-DE9B4531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4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1CDD-2F8E-44B1-8629-C0E8F54E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C9433-69DD-4659-82AE-8C87676F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9640" y="1447920"/>
            <a:ext cx="42386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28600" y="39553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B04B5-B16C-40DF-8CEF-02B873B3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86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64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9640" y="39553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28977-8D6A-48A1-9FB5-13FB6408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964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28600" y="3955320"/>
            <a:ext cx="86864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D6DC3-0E91-434F-B401-E3AD14BB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4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28600" y="3955320"/>
            <a:ext cx="86864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68826-CCC4-41BB-BBB3-45F2C8F4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964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228600" y="39553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9640" y="39553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6AC75-9E9C-4725-81EE-976D20C8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65840" y="14479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02720" y="14479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228600" y="39553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65840" y="39553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02720" y="39553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4FEBD-3C60-4843-8A4D-05A0D61B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7BD23-4F17-4080-8455-0301DE1C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864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023B0-670E-45FA-8780-8EAB588B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4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E6336-42EB-4AF1-BA9F-C0B8C7CB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86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640" y="1447920"/>
            <a:ext cx="42386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DB18-165A-47B5-9072-0A780788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86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640" y="1447920"/>
            <a:ext cx="42386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52529-44CB-44E3-8D92-49C31EC3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168D7-7C9A-47AF-9568-712FA60D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FAB13-C0C6-44EA-A5B1-619EC46C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9640" y="1447920"/>
            <a:ext cx="42386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600" y="39553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E0458-D3E4-4059-B64E-644B71E2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86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964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9640" y="39553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7872A-559B-4291-AFCE-A13035CC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964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8600" y="3955320"/>
            <a:ext cx="86864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EAC72-638D-4134-9ECD-4990E424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4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28600" y="3955320"/>
            <a:ext cx="86864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00BA6-8DC0-47EB-A757-2FCD2EE8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964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8600" y="39553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9640" y="39553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811F7-E72E-4323-8610-5900B144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65840" y="14479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02720" y="14479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28600" y="39553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65840" y="39553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02720" y="39553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A377D-03D6-487F-B42F-C28B3300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85C6A-B247-4C96-87C3-2290F1DA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FE65-4653-443F-A421-947A4F43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864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9D3C8-A16C-4FFF-9205-F44A7058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4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54F75-9722-468A-A67D-9BC2EE77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86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9640" y="1447920"/>
            <a:ext cx="42386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CA903-946F-4814-8B23-290518A5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B6EC7-1571-4A9D-8095-C1112529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42AE6-2F2A-4FCE-8D53-140426A8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9640" y="1447920"/>
            <a:ext cx="42386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28600" y="39553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56006-839E-4EBD-BAB1-D15D3827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86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964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9640" y="39553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193FC-556C-425E-A383-15E8EE66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964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28600" y="3955320"/>
            <a:ext cx="86864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5FF5B-81B1-48E6-B20D-A2E5CA19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4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28600" y="3955320"/>
            <a:ext cx="86864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330EF-8A49-45D9-8276-C70922C5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964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28600" y="39553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9640" y="39553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5E807-D9C8-4E02-A17E-1E23B5EA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2C17-CA27-46B3-9A65-76E78C07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65840" y="14479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02720" y="14479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228600" y="39553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65840" y="39553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02720" y="39553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1C621-D6A2-4CCC-9B2D-F9858DA2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F306F-7E0B-4C11-AEE5-B1A6935C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864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99DA5-7884-4AC8-B635-014808C9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4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D7C65-CF12-4AC6-B49D-3E5F8FBE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86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9640" y="1447920"/>
            <a:ext cx="42386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E9B51-6D1C-40E7-AF98-A960F0C4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06A45-C45A-4E39-95A0-2AEA7D17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C62C3-7A65-486C-8B29-750AE0FA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9640" y="1447920"/>
            <a:ext cx="42386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228600" y="39553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FF78C-C949-4E3D-A521-6ADAE8CC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86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964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9640" y="39553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FD7E1-53B9-457E-B752-3952C8FA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964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228600" y="3955320"/>
            <a:ext cx="86864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E6708-3B09-4D52-B6A9-ED365F91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640" y="1447920"/>
            <a:ext cx="42386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9553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FF58-F775-41B2-8141-03DB509C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4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28600" y="3955320"/>
            <a:ext cx="86864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0A828-01DB-4A05-A3C6-8860243C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964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228600" y="39553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9640" y="39553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65B21-5ABA-40B6-A2A0-39B1F7FC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165840" y="14479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02720" y="14479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228600" y="39553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165840" y="39553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02720" y="39553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22F0D-F6E2-4354-82E4-8DDC848E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864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64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9640" y="39553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BEF7-CADE-4FA6-9A7A-801B781F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9640" y="1447920"/>
            <a:ext cx="42386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955320"/>
            <a:ext cx="86864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8BF5-77B8-42AC-BA56-0420D54A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3640" cy="11300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 hidden="1"/>
          <p:cNvSpPr/>
          <p:nvPr/>
        </p:nvSpPr>
        <p:spPr>
          <a:xfrm>
            <a:off x="0" y="1130400"/>
            <a:ext cx="9142200" cy="151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2" descr="Sprite 10"/>
          <p:cNvPicPr/>
          <p:nvPr/>
        </p:nvPicPr>
        <p:blipFill>
          <a:blip r:embed="rId3"/>
          <a:srcRect l="-35" t="0" r="416" b="1937"/>
          <a:stretch/>
        </p:blipFill>
        <p:spPr>
          <a:xfrm>
            <a:off x="-3240" y="2895480"/>
            <a:ext cx="9146880" cy="113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CO" sz="4400" spc="-1" strike="noStrike">
                <a:solidFill>
                  <a:srgbClr val="ffffff"/>
                </a:solidFill>
                <a:latin typeface="Arial Black"/>
              </a:rPr>
              <a:t>Click to edit Master title style</a:t>
            </a:r>
            <a:endParaRPr b="0" lang="es-CO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AB9FAA-FD1A-4C4B-A64C-2D412D2440F9}" type="slidenum"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0" y="4025880"/>
            <a:ext cx="9142200" cy="151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0" y="2743200"/>
            <a:ext cx="9142200" cy="15192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24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3640" cy="11300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0" y="1130400"/>
            <a:ext cx="9142200" cy="151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Master title style</a:t>
            </a:r>
            <a:endParaRPr b="0" lang="es-CO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868644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Master text styles</a:t>
            </a: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level</a:t>
            </a:r>
            <a:endParaRPr b="0" lang="es-CO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level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level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level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28600" y="639936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10280" y="639936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6CC747-CDFC-4FB0-8D94-9B24E5FB5A05}" type="slidenum"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3640" cy="11300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8"/>
          <p:cNvSpPr/>
          <p:nvPr/>
        </p:nvSpPr>
        <p:spPr>
          <a:xfrm>
            <a:off x="0" y="1130400"/>
            <a:ext cx="9142200" cy="151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Master title style</a:t>
            </a:r>
            <a:endParaRPr b="0" lang="es-CO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426672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Master text styles</a:t>
            </a: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level</a:t>
            </a:r>
            <a:endParaRPr b="0" lang="es-CO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level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level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level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4648320" y="1447920"/>
            <a:ext cx="4266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4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24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24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4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4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4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228600" y="639936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3124080" y="639936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7010280" y="639936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B5F156-2794-4F8E-B204-587C128EB733}" type="slidenum"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3640" cy="11300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8"/>
          <p:cNvSpPr/>
          <p:nvPr/>
        </p:nvSpPr>
        <p:spPr>
          <a:xfrm>
            <a:off x="0" y="1130400"/>
            <a:ext cx="9142200" cy="151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Master title style</a:t>
            </a:r>
            <a:endParaRPr b="0" lang="es-CO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228600" y="639936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39936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7010280" y="639936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C19D5A-DC67-4712-88BF-BB0F44B966BE}" type="slidenum"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24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3640" cy="11300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8"/>
          <p:cNvSpPr/>
          <p:nvPr/>
        </p:nvSpPr>
        <p:spPr>
          <a:xfrm>
            <a:off x="0" y="1130400"/>
            <a:ext cx="9142200" cy="151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Master title style</a:t>
            </a:r>
            <a:endParaRPr b="0" lang="es-CO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868644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4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24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24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4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4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4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228600" y="639936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39936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010280" y="639936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76354D-0BA0-4A27-8B71-D4CA9E1BC5AA}" type="slidenum"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3640" cy="11300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8"/>
          <p:cNvSpPr/>
          <p:nvPr/>
        </p:nvSpPr>
        <p:spPr>
          <a:xfrm>
            <a:off x="0" y="1130400"/>
            <a:ext cx="9142200" cy="151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dt" idx="16"/>
          </p:nvPr>
        </p:nvSpPr>
        <p:spPr>
          <a:xfrm>
            <a:off x="228600" y="639936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17"/>
          </p:nvPr>
        </p:nvSpPr>
        <p:spPr>
          <a:xfrm>
            <a:off x="3124080" y="639936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18"/>
          </p:nvPr>
        </p:nvSpPr>
        <p:spPr>
          <a:xfrm>
            <a:off x="7010280" y="639936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47D1C3-F156-43D2-AC39-9826347E7205}" type="slidenum"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24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lachealthaccounts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600" y="981000"/>
            <a:ext cx="7448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CO" sz="3600" spc="-1" strike="noStrike">
                <a:solidFill>
                  <a:srgbClr val="ffff00"/>
                </a:solidFill>
                <a:latin typeface="Verdana"/>
              </a:rPr>
              <a:t>Cuentas de Salud </a:t>
            </a:r>
            <a:br>
              <a:rPr sz="3600"/>
            </a:br>
            <a:r>
              <a:rPr b="0" lang="es-CO" sz="2800" spc="-1" strike="noStrike">
                <a:solidFill>
                  <a:srgbClr val="ffff00"/>
                </a:solidFill>
                <a:latin typeface="Verdana"/>
              </a:rPr>
              <a:t>Progresos y Retos en América Latina</a:t>
            </a:r>
            <a:endParaRPr b="0" lang="es-CO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Verdana"/>
              </a:rPr>
              <a:t>André Med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Verdana"/>
              </a:rPr>
              <a:t>Banco Interamericano de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Verdana"/>
              </a:rPr>
              <a:t>Bogotá, 26 de Marzo de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250920" y="189000"/>
            <a:ext cx="1142640" cy="1294560"/>
            <a:chOff x="250920" y="189000"/>
            <a:chExt cx="1142640" cy="1294560"/>
          </a:xfrm>
        </p:grpSpPr>
        <p:sp>
          <p:nvSpPr>
            <p:cNvPr id="271" name="AutoShape 5"/>
            <p:cNvSpPr/>
            <p:nvPr/>
          </p:nvSpPr>
          <p:spPr>
            <a:xfrm flipV="1">
              <a:off x="452880" y="378000"/>
              <a:ext cx="940680" cy="1104840"/>
            </a:xfrm>
            <a:prstGeom prst="roundRect">
              <a:avLst>
                <a:gd name="adj" fmla="val 0"/>
              </a:avLst>
            </a:prstGeom>
            <a:solidFill>
              <a:srgbClr val="82c0ff"/>
            </a:solidFill>
            <a:ln w="18415">
              <a:solidFill>
                <a:srgbClr val="82c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2" name="Picture 6" descr=""/>
            <p:cNvPicPr/>
            <p:nvPr/>
          </p:nvPicPr>
          <p:blipFill>
            <a:blip r:embed="rId1"/>
            <a:stretch/>
          </p:blipFill>
          <p:spPr>
            <a:xfrm>
              <a:off x="250920" y="189000"/>
              <a:ext cx="936360" cy="109980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CO" sz="3200" spc="-1" strike="noStrike">
                <a:solidFill>
                  <a:srgbClr val="ffff00"/>
                </a:solidFill>
                <a:latin typeface="Arial Black"/>
              </a:rPr>
              <a:t>Pasos para institucionalizar cuentas de salud</a:t>
            </a:r>
            <a:endParaRPr b="0" lang="es-C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44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Instalación de sistemas de información contable y financiera de salud (Ministerios de Salud, Institutos de Estadísticas y Bancos Centrales);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Cultura de transparencia y uso de información en los gobiernos;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Prioridad presupuestaria;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Captando el interés de los políticos y directivos de instituciones;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Evitar modelos complejos y facilitar el conocimiento y su diseminación;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Crear capacidad institucional para la producción y uso sistemático de las informaciones;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Esfuerzos regionales y prioridad de los organismos regionales e internacionales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indefinite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indefinite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indefinite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indefinite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indefinite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indefinite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indefinite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indefinite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indefinite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indefinite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indefinite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indefinite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indefinite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331" dur="indefinite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indefinite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336" dur="indefinite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indefinite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indefinite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346" dur="indefinite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indefinite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indefinite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356" dur="indefinite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indefinite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indefinite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CO" sz="4000" spc="-1" strike="noStrike">
                <a:solidFill>
                  <a:srgbClr val="ffff00"/>
                </a:solidFill>
                <a:latin typeface="Arial Black"/>
              </a:rPr>
              <a:t>El Progreso alcanzado por Colombia</a:t>
            </a:r>
            <a:endParaRPr b="0" lang="es-CO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Group 6"/>
          <p:cNvGrpSpPr/>
          <p:nvPr/>
        </p:nvGrpSpPr>
        <p:grpSpPr>
          <a:xfrm>
            <a:off x="8001000" y="5562720"/>
            <a:ext cx="1142640" cy="1294560"/>
            <a:chOff x="8001000" y="5562720"/>
            <a:chExt cx="1142640" cy="1294560"/>
          </a:xfrm>
        </p:grpSpPr>
        <p:sp>
          <p:nvSpPr>
            <p:cNvPr id="339" name="AutoShape 7"/>
            <p:cNvSpPr/>
            <p:nvPr/>
          </p:nvSpPr>
          <p:spPr>
            <a:xfrm flipV="1">
              <a:off x="8202960" y="5752080"/>
              <a:ext cx="940680" cy="1104840"/>
            </a:xfrm>
            <a:prstGeom prst="roundRect">
              <a:avLst>
                <a:gd name="adj" fmla="val 0"/>
              </a:avLst>
            </a:prstGeom>
            <a:solidFill>
              <a:srgbClr val="82c0ff"/>
            </a:solidFill>
            <a:ln w="18415">
              <a:solidFill>
                <a:srgbClr val="82c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0" name="Picture 8" descr=""/>
            <p:cNvPicPr/>
            <p:nvPr/>
          </p:nvPicPr>
          <p:blipFill>
            <a:blip r:embed="rId1"/>
            <a:stretch/>
          </p:blipFill>
          <p:spPr>
            <a:xfrm>
              <a:off x="8001000" y="5562720"/>
              <a:ext cx="936360" cy="109980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CO" sz="4400" spc="-1" strike="noStrike">
                <a:solidFill>
                  <a:srgbClr val="ffff00"/>
                </a:solidFill>
                <a:latin typeface="Verdana"/>
              </a:rPr>
              <a:t>Avances</a:t>
            </a:r>
            <a:endParaRPr b="0" lang="es-CO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44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000" spc="-1" strike="noStrike">
                <a:solidFill>
                  <a:srgbClr val="ffffff"/>
                </a:solidFill>
                <a:latin typeface="Verdana"/>
              </a:rPr>
              <a:t>Colombia es uno de los primeros países latinoamericanos (junto con México y Chile) a reconocer la necesidad de institucionalizar cuentas de salud como parte de un proceso permanente de evaluación de los esfuerzos de reforma.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000" spc="-1" strike="noStrike">
                <a:solidFill>
                  <a:srgbClr val="ffffff"/>
                </a:solidFill>
                <a:latin typeface="Verdana"/>
              </a:rPr>
              <a:t>Los labores de utilizar el instrumento empiezan luego después del inicio de la Reforma de Salud (1994), a través de Convenio con la Escuela de Salud Pública de la Universidad de Harvard 1994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000" spc="-1" strike="noStrike">
                <a:solidFill>
                  <a:srgbClr val="ffffff"/>
                </a:solidFill>
                <a:latin typeface="Verdana"/>
              </a:rPr>
              <a:t>Colombia es el primero país a crear una serie de datos de 11 años cuentas de salud con una metodología consistente. La mayoría de los países de la Región tienen estudios que cubren uno o dos años o series parciales de datos como aquellos de los presupuestos públicos.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000" spc="-1" strike="noStrike">
                <a:solidFill>
                  <a:srgbClr val="ffffff"/>
                </a:solidFill>
                <a:latin typeface="Verdana"/>
              </a:rPr>
              <a:t>En 2003 se evoluciona al modelo de cuentas-satélite de salud en el marco del SCN 1993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000" spc="-1" strike="noStrike">
                <a:solidFill>
                  <a:srgbClr val="ffffff"/>
                </a:solidFill>
                <a:latin typeface="Verdana"/>
              </a:rPr>
              <a:t>El esfuerzo integra y compatibiliza distintas fuentes de datos superando problemas metodológicos de estudios anteriores.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343" name="Group 4"/>
          <p:cNvGrpSpPr/>
          <p:nvPr/>
        </p:nvGrpSpPr>
        <p:grpSpPr>
          <a:xfrm>
            <a:off x="8317080" y="5950080"/>
            <a:ext cx="826560" cy="907200"/>
            <a:chOff x="8317080" y="5950080"/>
            <a:chExt cx="826560" cy="907200"/>
          </a:xfrm>
        </p:grpSpPr>
        <p:sp>
          <p:nvSpPr>
            <p:cNvPr id="344" name="AutoShape 5"/>
            <p:cNvSpPr/>
            <p:nvPr/>
          </p:nvSpPr>
          <p:spPr>
            <a:xfrm flipV="1">
              <a:off x="8462880" y="6082560"/>
              <a:ext cx="680760" cy="774360"/>
            </a:xfrm>
            <a:prstGeom prst="roundRect">
              <a:avLst>
                <a:gd name="adj" fmla="val 0"/>
              </a:avLst>
            </a:prstGeom>
            <a:solidFill>
              <a:srgbClr val="82c0ff"/>
            </a:solidFill>
            <a:ln w="18415">
              <a:solidFill>
                <a:srgbClr val="82c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5" name="Picture 6" descr=""/>
            <p:cNvPicPr/>
            <p:nvPr/>
          </p:nvPicPr>
          <p:blipFill>
            <a:blip r:embed="rId1"/>
            <a:stretch/>
          </p:blipFill>
          <p:spPr>
            <a:xfrm>
              <a:off x="8317080" y="5950080"/>
              <a:ext cx="677520" cy="77076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indefinite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indefinite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indefinite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indefinite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indefinite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indefinite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indefinite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indefinite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indefinite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indefinite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385" dur="indefinite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indefinite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390" dur="indefinite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indefinite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395" dur="indefinite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indefinite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400" dur="indefinite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indefinite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405" dur="indefinite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indefinite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CO" sz="4400" spc="-1" strike="noStrike">
                <a:solidFill>
                  <a:srgbClr val="ffff00"/>
                </a:solidFill>
                <a:latin typeface="Verdana"/>
              </a:rPr>
              <a:t>Uso del Instrumento</a:t>
            </a:r>
            <a:endParaRPr b="0" lang="es-CO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44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Evaluación y perfeccionamiento del proceso de reforma de salud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Monitoreo detallado en el cambio del sistema de financiamiento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Hay que avanzar en: 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s-CO" sz="2000" spc="-1" strike="noStrike">
                <a:solidFill>
                  <a:srgbClr val="ffffff"/>
                </a:solidFill>
                <a:latin typeface="Verdana"/>
              </a:rPr>
              <a:t>(a) la armonización de los conceptos de las distintas metodologías buscando su complementariedad; 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s-CO" sz="2000" spc="-1" strike="noStrike">
                <a:solidFill>
                  <a:srgbClr val="ffffff"/>
                </a:solidFill>
                <a:latin typeface="Verdana"/>
              </a:rPr>
              <a:t>(b) la continuidad de los esfuerzos de institucionalización de la producción de datos anuales según las metodologías existentes; 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s-CO" sz="2000" spc="-1" strike="noStrike">
                <a:solidFill>
                  <a:srgbClr val="ffffff"/>
                </a:solidFill>
                <a:latin typeface="Verdana"/>
              </a:rPr>
              <a:t>(c) la comparación internacional de los datos y 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s-CO" sz="2000" spc="-1" strike="noStrike">
                <a:solidFill>
                  <a:srgbClr val="ffffff"/>
                </a:solidFill>
                <a:latin typeface="Verdana"/>
              </a:rPr>
              <a:t>(d) el uso de los datos en la planificación y en la toma de decisiones en los sectores públicos y privados en salud.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8172360" y="5950080"/>
            <a:ext cx="971280" cy="907200"/>
            <a:chOff x="8172360" y="5950080"/>
            <a:chExt cx="971280" cy="907200"/>
          </a:xfrm>
        </p:grpSpPr>
        <p:sp>
          <p:nvSpPr>
            <p:cNvPr id="349" name="AutoShape 5"/>
            <p:cNvSpPr/>
            <p:nvPr/>
          </p:nvSpPr>
          <p:spPr>
            <a:xfrm flipV="1">
              <a:off x="8344080" y="6082560"/>
              <a:ext cx="799560" cy="774360"/>
            </a:xfrm>
            <a:prstGeom prst="roundRect">
              <a:avLst>
                <a:gd name="adj" fmla="val 0"/>
              </a:avLst>
            </a:prstGeom>
            <a:solidFill>
              <a:srgbClr val="82c0ff"/>
            </a:solidFill>
            <a:ln w="18415">
              <a:solidFill>
                <a:srgbClr val="82c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0" name="Picture 6" descr=""/>
            <p:cNvPicPr/>
            <p:nvPr/>
          </p:nvPicPr>
          <p:blipFill>
            <a:blip r:embed="rId1"/>
            <a:stretch/>
          </p:blipFill>
          <p:spPr>
            <a:xfrm>
              <a:off x="8172360" y="5950080"/>
              <a:ext cx="795600" cy="77076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indefinite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indefinite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indefinite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indefinite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indefinite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indefinite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indefinite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indefinite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indefinite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indefinite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indefinite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indefinite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indefinite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indefinite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435" dur="indefinite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indefinite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440" dur="indefinite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indefinite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445" dur="indefinite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indefinite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448" dur="indefinite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indefinite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451" dur="indefinite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indefinite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454" dur="indefinite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indefinite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457" dur="indefinite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indefinite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CO" sz="4000" spc="-1" strike="noStrike">
                <a:solidFill>
                  <a:srgbClr val="ffff00"/>
                </a:solidFill>
                <a:latin typeface="Arial Black"/>
              </a:rPr>
              <a:t>El libro de Gilberto Barón</a:t>
            </a:r>
            <a:endParaRPr b="0" lang="es-CO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44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000" spc="-1" strike="noStrike">
                <a:solidFill>
                  <a:srgbClr val="ffffff"/>
                </a:solidFill>
                <a:latin typeface="Verdana"/>
              </a:rPr>
              <a:t>Presenta, de forma didáctica, las definiciones, conceptos y metodologías para el cálculo de las cuentas nacionales de salud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000" spc="-1" strike="noStrike">
                <a:solidFill>
                  <a:srgbClr val="ffffff"/>
                </a:solidFill>
                <a:latin typeface="Verdana"/>
              </a:rPr>
              <a:t>Presenta el contexto de su desarrollo en Colombia y de su uso en la interpretación del proceso de reforma que se inicia con la Ley 100.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000" spc="-1" strike="noStrike">
                <a:solidFill>
                  <a:srgbClr val="ffffff"/>
                </a:solidFill>
                <a:latin typeface="Verdana"/>
              </a:rPr>
              <a:t>Presenta la evolución del gasto en salud y de sus principales características asociadas a fuentes, usos, sectores y agentes involucrados;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000" spc="-1" strike="noStrike">
                <a:solidFill>
                  <a:srgbClr val="ffffff"/>
                </a:solidFill>
                <a:latin typeface="Verdana"/>
              </a:rPr>
              <a:t>Presenta lecciones aprendidas para América Latina (institucionalización de la reforma x gasto del bolsillo)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000" spc="-1" strike="noStrike">
                <a:solidFill>
                  <a:srgbClr val="ffffff"/>
                </a:solidFill>
                <a:latin typeface="Verdana"/>
              </a:rPr>
              <a:t>Avanza en comparaciones internacionales con la metodología existente en Colombia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000" spc="-1" strike="noStrike">
                <a:solidFill>
                  <a:srgbClr val="ffffff"/>
                </a:solidFill>
                <a:latin typeface="Verdana"/>
              </a:rPr>
              <a:t>Presenta el conjunto de tablas que permitirá estudios más pormenorizados sobre el financiamiento y gasto del sector salud en el país.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353" name="Group 7"/>
          <p:cNvGrpSpPr/>
          <p:nvPr/>
        </p:nvGrpSpPr>
        <p:grpSpPr>
          <a:xfrm>
            <a:off x="8101080" y="5805360"/>
            <a:ext cx="1042560" cy="1051920"/>
            <a:chOff x="8101080" y="5805360"/>
            <a:chExt cx="1042560" cy="1051920"/>
          </a:xfrm>
        </p:grpSpPr>
        <p:sp>
          <p:nvSpPr>
            <p:cNvPr id="354" name="AutoShape 8"/>
            <p:cNvSpPr/>
            <p:nvPr/>
          </p:nvSpPr>
          <p:spPr>
            <a:xfrm flipV="1">
              <a:off x="8285400" y="5959440"/>
              <a:ext cx="858240" cy="897480"/>
            </a:xfrm>
            <a:prstGeom prst="roundRect">
              <a:avLst>
                <a:gd name="adj" fmla="val 0"/>
              </a:avLst>
            </a:prstGeom>
            <a:solidFill>
              <a:srgbClr val="82c0ff"/>
            </a:solidFill>
            <a:ln w="18415">
              <a:solidFill>
                <a:srgbClr val="82c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5" name="Picture 9" descr=""/>
            <p:cNvPicPr/>
            <p:nvPr/>
          </p:nvPicPr>
          <p:blipFill>
            <a:blip r:embed="rId1"/>
            <a:stretch/>
          </p:blipFill>
          <p:spPr>
            <a:xfrm>
              <a:off x="8101080" y="5805360"/>
              <a:ext cx="854280" cy="89352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indefinite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indefinite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indefinite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indefinite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indefinite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indefinite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indefinite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indefinite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indefinite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indefinite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indefinite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indefinite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indefinite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489" dur="indefinite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indefinite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494" dur="indefinite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indefinite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499" dur="indefinite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indefinite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504" dur="indefinite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indefinite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509" dur="indefinite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indefinite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CO" sz="4000" spc="-1" strike="noStrike">
                <a:solidFill>
                  <a:srgbClr val="ffff00"/>
                </a:solidFill>
                <a:latin typeface="Arial Black"/>
              </a:rPr>
              <a:t>Los esfuerzos en América Latina</a:t>
            </a:r>
            <a:endParaRPr b="0" lang="es-CO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Group 7"/>
          <p:cNvGrpSpPr/>
          <p:nvPr/>
        </p:nvGrpSpPr>
        <p:grpSpPr>
          <a:xfrm>
            <a:off x="8001000" y="5562720"/>
            <a:ext cx="1142640" cy="1294560"/>
            <a:chOff x="8001000" y="5562720"/>
            <a:chExt cx="1142640" cy="1294560"/>
          </a:xfrm>
        </p:grpSpPr>
        <p:sp>
          <p:nvSpPr>
            <p:cNvPr id="358" name="AutoShape 8"/>
            <p:cNvSpPr/>
            <p:nvPr/>
          </p:nvSpPr>
          <p:spPr>
            <a:xfrm flipV="1">
              <a:off x="8202960" y="5752080"/>
              <a:ext cx="940680" cy="1104840"/>
            </a:xfrm>
            <a:prstGeom prst="roundRect">
              <a:avLst>
                <a:gd name="adj" fmla="val 0"/>
              </a:avLst>
            </a:prstGeom>
            <a:solidFill>
              <a:srgbClr val="82c0ff"/>
            </a:solidFill>
            <a:ln w="18415">
              <a:solidFill>
                <a:srgbClr val="82c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9" name="Picture 9" descr=""/>
            <p:cNvPicPr/>
            <p:nvPr/>
          </p:nvPicPr>
          <p:blipFill>
            <a:blip r:embed="rId1"/>
            <a:stretch/>
          </p:blipFill>
          <p:spPr>
            <a:xfrm>
              <a:off x="8001000" y="5562720"/>
              <a:ext cx="936360" cy="109980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CO" sz="2800" spc="-1" strike="noStrike">
                <a:solidFill>
                  <a:srgbClr val="ffff00"/>
                </a:solidFill>
                <a:latin typeface="Arial Black"/>
              </a:rPr>
              <a:t>Niveles de Institucionalización de CS</a:t>
            </a:r>
            <a:endParaRPr b="0" lang="es-CO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44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Font typeface="Symbol" charset="2"/>
              <a:buChar char=""/>
            </a:pPr>
            <a:r>
              <a:rPr b="0" lang="es-CO" sz="2400" spc="-1" strike="noStrike">
                <a:solidFill>
                  <a:srgbClr val="ffff00"/>
                </a:solidFill>
                <a:latin typeface="Verdana"/>
              </a:rPr>
              <a:t>Grupo 1</a:t>
            </a: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 – países con sistemas permanentes de CS, con actualización anual rutinera de los datos y el mínimo de 3 años de series completas.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Font typeface="Symbol" charset="2"/>
              <a:buChar char=""/>
            </a:pPr>
            <a:r>
              <a:rPr b="0" lang="es-CO" sz="2400" spc="-1" strike="noStrike">
                <a:solidFill>
                  <a:srgbClr val="ffff00"/>
                </a:solidFill>
                <a:latin typeface="Verdana"/>
              </a:rPr>
              <a:t>Grupo 2</a:t>
            </a: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 – Países que han declarado oficialmente la producción regular de CS en el futuro y que ha producido al menos dos años de estimativas.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Font typeface="Symbol" charset="2"/>
              <a:buChar char=""/>
            </a:pPr>
            <a:r>
              <a:rPr b="0" lang="es-CO" sz="2400" spc="-1" strike="noStrike">
                <a:solidFill>
                  <a:srgbClr val="ffff00"/>
                </a:solidFill>
                <a:latin typeface="Verdana"/>
              </a:rPr>
              <a:t>Grupo 3</a:t>
            </a: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 – Países involucrados en el esfuerzo de perfeccionar metodologías para producción de CS con al menos un año de estimativa.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Font typeface="Symbol" charset="2"/>
              <a:buChar char=""/>
            </a:pPr>
            <a:r>
              <a:rPr b="0" lang="es-CO" sz="2400" spc="-1" strike="noStrike">
                <a:solidFill>
                  <a:srgbClr val="ffff00"/>
                </a:solidFill>
                <a:latin typeface="Verdana"/>
              </a:rPr>
              <a:t>Grupo 4</a:t>
            </a: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 – Países que indicaron interés en producir cuentas nacionales pero todavía no han producido ninguna estimativa. 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8172360" y="5805360"/>
            <a:ext cx="971280" cy="1051920"/>
            <a:chOff x="8172360" y="5805360"/>
            <a:chExt cx="971280" cy="1051920"/>
          </a:xfrm>
        </p:grpSpPr>
        <p:sp>
          <p:nvSpPr>
            <p:cNvPr id="363" name="AutoShape 5"/>
            <p:cNvSpPr/>
            <p:nvPr/>
          </p:nvSpPr>
          <p:spPr>
            <a:xfrm flipV="1">
              <a:off x="8344080" y="5959440"/>
              <a:ext cx="799560" cy="897480"/>
            </a:xfrm>
            <a:prstGeom prst="roundRect">
              <a:avLst>
                <a:gd name="adj" fmla="val 0"/>
              </a:avLst>
            </a:prstGeom>
            <a:solidFill>
              <a:srgbClr val="82c0ff"/>
            </a:solidFill>
            <a:ln w="18415">
              <a:solidFill>
                <a:srgbClr val="82c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4" name="Picture 6" descr=""/>
            <p:cNvPicPr/>
            <p:nvPr/>
          </p:nvPicPr>
          <p:blipFill>
            <a:blip r:embed="rId1"/>
            <a:stretch/>
          </p:blipFill>
          <p:spPr>
            <a:xfrm>
              <a:off x="8172360" y="5805360"/>
              <a:ext cx="795600" cy="89352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indefinite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indefinite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indefinite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indefinite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indefinite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indefinite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indefinite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indefinite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530" dur="indefinite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indefinite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535" dur="indefinite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indefinite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540" dur="indefinite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indefinite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545" dur="indefinite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indefinite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CO" sz="4400" spc="-1" strike="noStrike">
                <a:solidFill>
                  <a:srgbClr val="ffff00"/>
                </a:solidFill>
                <a:latin typeface="Arial Black"/>
              </a:rPr>
              <a:t>Situación en ALC</a:t>
            </a:r>
            <a:endParaRPr b="0" lang="es-CO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Group 142"/>
          <p:cNvGraphicFramePr/>
          <p:nvPr/>
        </p:nvGraphicFramePr>
        <p:xfrm>
          <a:off x="228600" y="1484280"/>
          <a:ext cx="8686440" cy="4020120"/>
        </p:xfrm>
        <a:graphic>
          <a:graphicData uri="http://schemas.openxmlformats.org/drawingml/2006/table">
            <a:tbl>
              <a:tblPr/>
              <a:tblGrid>
                <a:gridCol w="1668240"/>
                <a:gridCol w="1776240"/>
                <a:gridCol w="1803240"/>
                <a:gridCol w="1746000"/>
                <a:gridCol w="1692000"/>
              </a:tblGrid>
              <a:tr h="55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97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x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omb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gent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s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livia, República DominicanaEcuador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 Salvador, Guatemala, Nicaragua, Surin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ice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C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ba, Granada, Honduras, Jamaica, Panamá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grpSp>
        <p:nvGrpSpPr>
          <p:cNvPr id="367" name="Group 143"/>
          <p:cNvGrpSpPr/>
          <p:nvPr/>
        </p:nvGrpSpPr>
        <p:grpSpPr>
          <a:xfrm>
            <a:off x="8172360" y="5805360"/>
            <a:ext cx="971280" cy="1051920"/>
            <a:chOff x="8172360" y="5805360"/>
            <a:chExt cx="971280" cy="1051920"/>
          </a:xfrm>
        </p:grpSpPr>
        <p:sp>
          <p:nvSpPr>
            <p:cNvPr id="368" name="AutoShape 144"/>
            <p:cNvSpPr/>
            <p:nvPr/>
          </p:nvSpPr>
          <p:spPr>
            <a:xfrm flipV="1">
              <a:off x="8344080" y="5959440"/>
              <a:ext cx="799560" cy="897480"/>
            </a:xfrm>
            <a:prstGeom prst="roundRect">
              <a:avLst>
                <a:gd name="adj" fmla="val 0"/>
              </a:avLst>
            </a:prstGeom>
            <a:solidFill>
              <a:srgbClr val="82c0ff"/>
            </a:solidFill>
            <a:ln w="18415">
              <a:solidFill>
                <a:srgbClr val="82c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9" name="Picture 145" descr=""/>
            <p:cNvPicPr/>
            <p:nvPr/>
          </p:nvPicPr>
          <p:blipFill>
            <a:blip r:embed="rId1"/>
            <a:stretch/>
          </p:blipFill>
          <p:spPr>
            <a:xfrm>
              <a:off x="8172360" y="5805360"/>
              <a:ext cx="795600" cy="89352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CO" sz="4000" spc="-1" strike="noStrike">
                <a:solidFill>
                  <a:srgbClr val="ffff00"/>
                </a:solidFill>
                <a:latin typeface="Arial Black"/>
              </a:rPr>
              <a:t>Algunos avances colectivos en ALC</a:t>
            </a:r>
            <a:endParaRPr b="0" lang="es-CO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44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000" spc="-1" strike="noStrike">
                <a:solidFill>
                  <a:srgbClr val="ffffff"/>
                </a:solidFill>
                <a:latin typeface="Verdana"/>
              </a:rPr>
              <a:t>Proyecto EQUILAC (Banco Mundial) – serie completa de 1995-2002 para 35 países (incluyendo Canadá y Estados Unidos) con gastos totales, públicos (central, local, seguridad social), privados (empresas, planos de salud y del bolsillo) y transferencias internacionales;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000" spc="-1" strike="noStrike">
                <a:solidFill>
                  <a:srgbClr val="ffffff"/>
                </a:solidFill>
                <a:latin typeface="Verdana"/>
              </a:rPr>
              <a:t>Página web de cuentas nacionales de salud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lachealthaccounts.org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000" spc="-1" strike="noStrike">
                <a:solidFill>
                  <a:srgbClr val="ffffff"/>
                </a:solidFill>
                <a:latin typeface="Verdana"/>
              </a:rPr>
              <a:t>Capacitación de personal para trabajo en cuentas nacionales de salud, a través de fondos de la Red Bobadilla (BID y FUNSALUD) en países de Centro América y Caribe.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000" spc="-1" strike="noStrike">
                <a:solidFill>
                  <a:srgbClr val="ffffff"/>
                </a:solidFill>
                <a:latin typeface="Verdana"/>
              </a:rPr>
              <a:t>Traducción de materiales para el español, como es el caso del Manual de la OECD de Cuentas de Salud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000" spc="-1" strike="noStrike">
                <a:solidFill>
                  <a:srgbClr val="ffffff"/>
                </a:solidFill>
                <a:latin typeface="Verdana"/>
              </a:rPr>
              <a:t>Apoyo a iniciativas para sub-cuentas de salud en temas de interés global (SIDA, Salud Reproductiva, etc.)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372" name="Group 4"/>
          <p:cNvGrpSpPr/>
          <p:nvPr/>
        </p:nvGrpSpPr>
        <p:grpSpPr>
          <a:xfrm>
            <a:off x="8172360" y="5805360"/>
            <a:ext cx="971280" cy="1051920"/>
            <a:chOff x="8172360" y="5805360"/>
            <a:chExt cx="971280" cy="1051920"/>
          </a:xfrm>
        </p:grpSpPr>
        <p:sp>
          <p:nvSpPr>
            <p:cNvPr id="373" name="AutoShape 5"/>
            <p:cNvSpPr/>
            <p:nvPr/>
          </p:nvSpPr>
          <p:spPr>
            <a:xfrm flipV="1">
              <a:off x="8344080" y="5959440"/>
              <a:ext cx="799560" cy="897480"/>
            </a:xfrm>
            <a:prstGeom prst="roundRect">
              <a:avLst>
                <a:gd name="adj" fmla="val 0"/>
              </a:avLst>
            </a:prstGeom>
            <a:solidFill>
              <a:srgbClr val="82c0ff"/>
            </a:solidFill>
            <a:ln w="18415">
              <a:solidFill>
                <a:srgbClr val="82c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4" name="Picture 6" descr=""/>
            <p:cNvPicPr/>
            <p:nvPr/>
          </p:nvPicPr>
          <p:blipFill>
            <a:blip r:embed="rId2"/>
            <a:stretch/>
          </p:blipFill>
          <p:spPr>
            <a:xfrm>
              <a:off x="8172360" y="5805360"/>
              <a:ext cx="795600" cy="89352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indefinite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indefinite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indefinite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indefinite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indefinite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indefinite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indefinite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indefinite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indefinite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indefinite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569" dur="indefinite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indefinite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574" dur="indefinite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indefinite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579" dur="indefinite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indefinite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584" dur="indefinite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indefinite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589" dur="indefinite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indefinite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astos de Salud en ALC en el contexto mundial</a:t>
            </a:r>
            <a:endParaRPr b="0" lang="es-CO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2900520" y="21099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Object 4"/>
          <p:cNvGraphicFramePr/>
          <p:nvPr/>
        </p:nvGraphicFramePr>
        <p:xfrm>
          <a:off x="1352520" y="1700280"/>
          <a:ext cx="6171840" cy="487152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3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700280"/>
                    <a:ext cx="6171840" cy="48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497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CO" sz="4800" spc="-1" strike="noStrike">
                <a:solidFill>
                  <a:srgbClr val="ffff00"/>
                </a:solidFill>
                <a:latin typeface="Verdana"/>
              </a:rPr>
              <a:t>Sumario</a:t>
            </a:r>
            <a:endParaRPr b="0" lang="es-CO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44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4000" spc="-1" strike="noStrike">
                <a:solidFill>
                  <a:srgbClr val="ffffff"/>
                </a:solidFill>
                <a:latin typeface="Verdana"/>
              </a:rPr>
              <a:t>Navegando con cuentas de salud</a:t>
            </a:r>
            <a:endParaRPr b="0" lang="es-CO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4000" spc="-1" strike="noStrike">
                <a:solidFill>
                  <a:srgbClr val="ffffff"/>
                </a:solidFill>
                <a:latin typeface="Verdana"/>
              </a:rPr>
              <a:t>El progreso en Colombia</a:t>
            </a:r>
            <a:endParaRPr b="0" lang="es-CO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4000" spc="-1" strike="noStrike">
                <a:solidFill>
                  <a:srgbClr val="ffffff"/>
                </a:solidFill>
                <a:latin typeface="Verdana"/>
              </a:rPr>
              <a:t>Los esfuerzos en América Latina</a:t>
            </a:r>
            <a:endParaRPr b="0" lang="es-CO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4000" spc="-1" strike="noStrike">
                <a:solidFill>
                  <a:srgbClr val="ffffff"/>
                </a:solidFill>
                <a:latin typeface="Verdana"/>
              </a:rPr>
              <a:t>El Papel del BID</a:t>
            </a:r>
            <a:endParaRPr b="0" lang="es-CO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4000" spc="-1" strike="noStrike">
                <a:solidFill>
                  <a:srgbClr val="ffffff"/>
                </a:solidFill>
                <a:latin typeface="Verdana"/>
              </a:rPr>
              <a:t>Perspectivas</a:t>
            </a:r>
            <a:endParaRPr b="0" lang="es-CO" sz="4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8001000" y="5562720"/>
            <a:ext cx="1142640" cy="1294560"/>
            <a:chOff x="8001000" y="5562720"/>
            <a:chExt cx="1142640" cy="1294560"/>
          </a:xfrm>
        </p:grpSpPr>
        <p:sp>
          <p:nvSpPr>
            <p:cNvPr id="276" name="AutoShape 5"/>
            <p:cNvSpPr/>
            <p:nvPr/>
          </p:nvSpPr>
          <p:spPr>
            <a:xfrm flipV="1">
              <a:off x="8202960" y="5752080"/>
              <a:ext cx="940680" cy="1104840"/>
            </a:xfrm>
            <a:prstGeom prst="roundRect">
              <a:avLst>
                <a:gd name="adj" fmla="val 0"/>
              </a:avLst>
            </a:prstGeom>
            <a:solidFill>
              <a:srgbClr val="82c0ff"/>
            </a:solidFill>
            <a:ln w="18415">
              <a:solidFill>
                <a:srgbClr val="82c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Picture 6" descr=""/>
            <p:cNvPicPr/>
            <p:nvPr/>
          </p:nvPicPr>
          <p:blipFill>
            <a:blip r:embed="rId1"/>
            <a:stretch/>
          </p:blipFill>
          <p:spPr>
            <a:xfrm>
              <a:off x="8001000" y="5562720"/>
              <a:ext cx="936360" cy="109980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indefinite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indefinite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indefinite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indefinite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indefinite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indefinite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indefinite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23" dur="indefinite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indefinite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indefinite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indefinite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indefinite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43" dur="indefinite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indefinite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1440" y="303120"/>
            <a:ext cx="9143640" cy="1004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Gastos Públicos y Privados en Salud en los Países de América Latina y el Cari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como % del PIB por tipo de Gasto: 1980-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3"/>
          <p:cNvGrpSpPr/>
          <p:nvPr/>
        </p:nvGrpSpPr>
        <p:grpSpPr>
          <a:xfrm>
            <a:off x="1828800" y="1773360"/>
            <a:ext cx="6311520" cy="4535280"/>
            <a:chOff x="1828800" y="1773360"/>
            <a:chExt cx="6311520" cy="4535280"/>
          </a:xfrm>
        </p:grpSpPr>
        <p:grpSp>
          <p:nvGrpSpPr>
            <p:cNvPr id="381" name="Group 4"/>
            <p:cNvGrpSpPr/>
            <p:nvPr/>
          </p:nvGrpSpPr>
          <p:grpSpPr>
            <a:xfrm>
              <a:off x="1832040" y="1775880"/>
              <a:ext cx="6305040" cy="4529880"/>
              <a:chOff x="1832040" y="1775880"/>
              <a:chExt cx="6305040" cy="4529880"/>
            </a:xfrm>
          </p:grpSpPr>
          <p:grpSp>
            <p:nvGrpSpPr>
              <p:cNvPr id="382" name="Group 5"/>
              <p:cNvGrpSpPr/>
              <p:nvPr/>
            </p:nvGrpSpPr>
            <p:grpSpPr>
              <a:xfrm>
                <a:off x="1832040" y="1775880"/>
                <a:ext cx="1850760" cy="502920"/>
                <a:chOff x="1832040" y="1775880"/>
                <a:chExt cx="1850760" cy="502920"/>
              </a:xfrm>
            </p:grpSpPr>
            <p:sp>
              <p:nvSpPr>
                <p:cNvPr id="383" name="Rectangle 6"/>
                <p:cNvSpPr/>
                <p:nvPr/>
              </p:nvSpPr>
              <p:spPr>
                <a:xfrm>
                  <a:off x="1900080" y="1775880"/>
                  <a:ext cx="17143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Tipo de Gast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Rectangle 7"/>
                <p:cNvSpPr/>
                <p:nvPr/>
              </p:nvSpPr>
              <p:spPr>
                <a:xfrm>
                  <a:off x="1832040" y="1775880"/>
                  <a:ext cx="18507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Group 8"/>
              <p:cNvGrpSpPr/>
              <p:nvPr/>
            </p:nvGrpSpPr>
            <p:grpSpPr>
              <a:xfrm>
                <a:off x="3683160" y="1775880"/>
                <a:ext cx="936360" cy="502920"/>
                <a:chOff x="3683160" y="1775880"/>
                <a:chExt cx="936360" cy="502920"/>
              </a:xfrm>
            </p:grpSpPr>
            <p:sp>
              <p:nvSpPr>
                <p:cNvPr id="386" name="Rectangle 9"/>
                <p:cNvSpPr/>
                <p:nvPr/>
              </p:nvSpPr>
              <p:spPr>
                <a:xfrm>
                  <a:off x="3751200" y="1775880"/>
                  <a:ext cx="7999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198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10"/>
                <p:cNvSpPr/>
                <p:nvPr/>
              </p:nvSpPr>
              <p:spPr>
                <a:xfrm>
                  <a:off x="3683160" y="1775880"/>
                  <a:ext cx="9363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Group 11"/>
              <p:cNvGrpSpPr/>
              <p:nvPr/>
            </p:nvGrpSpPr>
            <p:grpSpPr>
              <a:xfrm>
                <a:off x="4619520" y="1775880"/>
                <a:ext cx="936360" cy="502920"/>
                <a:chOff x="4619520" y="1775880"/>
                <a:chExt cx="936360" cy="502920"/>
              </a:xfrm>
            </p:grpSpPr>
            <p:sp>
              <p:nvSpPr>
                <p:cNvPr id="389" name="Rectangle 12"/>
                <p:cNvSpPr/>
                <p:nvPr/>
              </p:nvSpPr>
              <p:spPr>
                <a:xfrm>
                  <a:off x="4687920" y="1775880"/>
                  <a:ext cx="7999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198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13"/>
                <p:cNvSpPr/>
                <p:nvPr/>
              </p:nvSpPr>
              <p:spPr>
                <a:xfrm>
                  <a:off x="4619520" y="1775880"/>
                  <a:ext cx="9363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Group 14"/>
              <p:cNvGrpSpPr/>
              <p:nvPr/>
            </p:nvGrpSpPr>
            <p:grpSpPr>
              <a:xfrm>
                <a:off x="5556240" y="1775880"/>
                <a:ext cx="936360" cy="502920"/>
                <a:chOff x="5556240" y="1775880"/>
                <a:chExt cx="936360" cy="502920"/>
              </a:xfrm>
            </p:grpSpPr>
            <p:sp>
              <p:nvSpPr>
                <p:cNvPr id="392" name="Rectangle 15"/>
                <p:cNvSpPr/>
                <p:nvPr/>
              </p:nvSpPr>
              <p:spPr>
                <a:xfrm>
                  <a:off x="5624640" y="1775880"/>
                  <a:ext cx="7999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199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16"/>
                <p:cNvSpPr/>
                <p:nvPr/>
              </p:nvSpPr>
              <p:spPr>
                <a:xfrm>
                  <a:off x="5556240" y="1775880"/>
                  <a:ext cx="9363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Group 17"/>
              <p:cNvGrpSpPr/>
              <p:nvPr/>
            </p:nvGrpSpPr>
            <p:grpSpPr>
              <a:xfrm>
                <a:off x="6492960" y="1775880"/>
                <a:ext cx="821880" cy="502920"/>
                <a:chOff x="6492960" y="1775880"/>
                <a:chExt cx="821880" cy="502920"/>
              </a:xfrm>
            </p:grpSpPr>
            <p:sp>
              <p:nvSpPr>
                <p:cNvPr id="395" name="Rectangle 18"/>
                <p:cNvSpPr/>
                <p:nvPr/>
              </p:nvSpPr>
              <p:spPr>
                <a:xfrm>
                  <a:off x="6561000" y="1775880"/>
                  <a:ext cx="68544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199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19"/>
                <p:cNvSpPr/>
                <p:nvPr/>
              </p:nvSpPr>
              <p:spPr>
                <a:xfrm>
                  <a:off x="6492960" y="1775880"/>
                  <a:ext cx="82188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Group 20"/>
              <p:cNvGrpSpPr/>
              <p:nvPr/>
            </p:nvGrpSpPr>
            <p:grpSpPr>
              <a:xfrm>
                <a:off x="7315200" y="1775880"/>
                <a:ext cx="821880" cy="502920"/>
                <a:chOff x="7315200" y="1775880"/>
                <a:chExt cx="821880" cy="502920"/>
              </a:xfrm>
            </p:grpSpPr>
            <p:sp>
              <p:nvSpPr>
                <p:cNvPr id="398" name="Rectangle 21"/>
                <p:cNvSpPr/>
                <p:nvPr/>
              </p:nvSpPr>
              <p:spPr>
                <a:xfrm>
                  <a:off x="7383600" y="1775880"/>
                  <a:ext cx="68544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2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22"/>
                <p:cNvSpPr/>
                <p:nvPr/>
              </p:nvSpPr>
              <p:spPr>
                <a:xfrm>
                  <a:off x="7315200" y="1775880"/>
                  <a:ext cx="82188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Group 23"/>
              <p:cNvGrpSpPr/>
              <p:nvPr/>
            </p:nvGrpSpPr>
            <p:grpSpPr>
              <a:xfrm>
                <a:off x="1832040" y="2279160"/>
                <a:ext cx="1850760" cy="502920"/>
                <a:chOff x="1832040" y="2279160"/>
                <a:chExt cx="1850760" cy="502920"/>
              </a:xfrm>
            </p:grpSpPr>
            <p:sp>
              <p:nvSpPr>
                <p:cNvPr id="401" name="Rectangle 24"/>
                <p:cNvSpPr/>
                <p:nvPr/>
              </p:nvSpPr>
              <p:spPr>
                <a:xfrm>
                  <a:off x="1900080" y="2279160"/>
                  <a:ext cx="17143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just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Públic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Rectangle 25"/>
                <p:cNvSpPr/>
                <p:nvPr/>
              </p:nvSpPr>
              <p:spPr>
                <a:xfrm>
                  <a:off x="1832040" y="2279160"/>
                  <a:ext cx="18507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Group 26"/>
              <p:cNvGrpSpPr/>
              <p:nvPr/>
            </p:nvGrpSpPr>
            <p:grpSpPr>
              <a:xfrm>
                <a:off x="3683160" y="2279160"/>
                <a:ext cx="936360" cy="502920"/>
                <a:chOff x="3683160" y="2279160"/>
                <a:chExt cx="936360" cy="502920"/>
              </a:xfrm>
            </p:grpSpPr>
            <p:sp>
              <p:nvSpPr>
                <p:cNvPr id="404" name="Rectangle 27"/>
                <p:cNvSpPr/>
                <p:nvPr/>
              </p:nvSpPr>
              <p:spPr>
                <a:xfrm>
                  <a:off x="3751200" y="2279160"/>
                  <a:ext cx="7999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2.8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Rectangle 28"/>
                <p:cNvSpPr/>
                <p:nvPr/>
              </p:nvSpPr>
              <p:spPr>
                <a:xfrm>
                  <a:off x="3683160" y="2279160"/>
                  <a:ext cx="9363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Group 29"/>
              <p:cNvGrpSpPr/>
              <p:nvPr/>
            </p:nvGrpSpPr>
            <p:grpSpPr>
              <a:xfrm>
                <a:off x="4619520" y="2279160"/>
                <a:ext cx="936360" cy="502920"/>
                <a:chOff x="4619520" y="2279160"/>
                <a:chExt cx="936360" cy="502920"/>
              </a:xfrm>
            </p:grpSpPr>
            <p:sp>
              <p:nvSpPr>
                <p:cNvPr id="407" name="Rectangle 30"/>
                <p:cNvSpPr/>
                <p:nvPr/>
              </p:nvSpPr>
              <p:spPr>
                <a:xfrm>
                  <a:off x="4687920" y="2279160"/>
                  <a:ext cx="7999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2.5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31"/>
                <p:cNvSpPr/>
                <p:nvPr/>
              </p:nvSpPr>
              <p:spPr>
                <a:xfrm>
                  <a:off x="4619520" y="2279160"/>
                  <a:ext cx="9363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Group 32"/>
              <p:cNvGrpSpPr/>
              <p:nvPr/>
            </p:nvGrpSpPr>
            <p:grpSpPr>
              <a:xfrm>
                <a:off x="5556240" y="2279160"/>
                <a:ext cx="936360" cy="502920"/>
                <a:chOff x="5556240" y="2279160"/>
                <a:chExt cx="936360" cy="502920"/>
              </a:xfrm>
            </p:grpSpPr>
            <p:sp>
              <p:nvSpPr>
                <p:cNvPr id="410" name="Rectangle 33"/>
                <p:cNvSpPr/>
                <p:nvPr/>
              </p:nvSpPr>
              <p:spPr>
                <a:xfrm>
                  <a:off x="5624640" y="2279160"/>
                  <a:ext cx="7999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3.0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Rectangle 34"/>
                <p:cNvSpPr/>
                <p:nvPr/>
              </p:nvSpPr>
              <p:spPr>
                <a:xfrm>
                  <a:off x="5556240" y="2279160"/>
                  <a:ext cx="9363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Group 35"/>
              <p:cNvGrpSpPr/>
              <p:nvPr/>
            </p:nvGrpSpPr>
            <p:grpSpPr>
              <a:xfrm>
                <a:off x="6492960" y="2279160"/>
                <a:ext cx="821880" cy="502920"/>
                <a:chOff x="6492960" y="2279160"/>
                <a:chExt cx="821880" cy="502920"/>
              </a:xfrm>
            </p:grpSpPr>
            <p:sp>
              <p:nvSpPr>
                <p:cNvPr id="413" name="Rectangle 36"/>
                <p:cNvSpPr/>
                <p:nvPr/>
              </p:nvSpPr>
              <p:spPr>
                <a:xfrm>
                  <a:off x="6561000" y="2279160"/>
                  <a:ext cx="68544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3.4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37"/>
                <p:cNvSpPr/>
                <p:nvPr/>
              </p:nvSpPr>
              <p:spPr>
                <a:xfrm>
                  <a:off x="6492960" y="2279160"/>
                  <a:ext cx="82188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Group 38"/>
              <p:cNvGrpSpPr/>
              <p:nvPr/>
            </p:nvGrpSpPr>
            <p:grpSpPr>
              <a:xfrm>
                <a:off x="7315200" y="2279160"/>
                <a:ext cx="821880" cy="502920"/>
                <a:chOff x="7315200" y="2279160"/>
                <a:chExt cx="821880" cy="502920"/>
              </a:xfrm>
            </p:grpSpPr>
            <p:sp>
              <p:nvSpPr>
                <p:cNvPr id="416" name="Rectangle 39"/>
                <p:cNvSpPr/>
                <p:nvPr/>
              </p:nvSpPr>
              <p:spPr>
                <a:xfrm>
                  <a:off x="7383600" y="2279160"/>
                  <a:ext cx="68544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3.3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Rectangle 40"/>
                <p:cNvSpPr/>
                <p:nvPr/>
              </p:nvSpPr>
              <p:spPr>
                <a:xfrm>
                  <a:off x="7315200" y="2279160"/>
                  <a:ext cx="82188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Group 41"/>
              <p:cNvGrpSpPr/>
              <p:nvPr/>
            </p:nvGrpSpPr>
            <p:grpSpPr>
              <a:xfrm>
                <a:off x="1832040" y="2782440"/>
                <a:ext cx="1850760" cy="502920"/>
                <a:chOff x="1832040" y="2782440"/>
                <a:chExt cx="1850760" cy="502920"/>
              </a:xfrm>
            </p:grpSpPr>
            <p:sp>
              <p:nvSpPr>
                <p:cNvPr id="419" name="Rectangle 42"/>
                <p:cNvSpPr/>
                <p:nvPr/>
              </p:nvSpPr>
              <p:spPr>
                <a:xfrm>
                  <a:off x="1900080" y="2782440"/>
                  <a:ext cx="17143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just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Centr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Rectangle 43"/>
                <p:cNvSpPr/>
                <p:nvPr/>
              </p:nvSpPr>
              <p:spPr>
                <a:xfrm>
                  <a:off x="1832040" y="2782440"/>
                  <a:ext cx="18507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Group 44"/>
              <p:cNvGrpSpPr/>
              <p:nvPr/>
            </p:nvGrpSpPr>
            <p:grpSpPr>
              <a:xfrm>
                <a:off x="3683160" y="2782440"/>
                <a:ext cx="936360" cy="502920"/>
                <a:chOff x="3683160" y="2782440"/>
                <a:chExt cx="936360" cy="502920"/>
              </a:xfrm>
            </p:grpSpPr>
            <p:sp>
              <p:nvSpPr>
                <p:cNvPr id="422" name="Rectangle 45"/>
                <p:cNvSpPr/>
                <p:nvPr/>
              </p:nvSpPr>
              <p:spPr>
                <a:xfrm>
                  <a:off x="3751200" y="2782440"/>
                  <a:ext cx="7999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1.2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46"/>
                <p:cNvSpPr/>
                <p:nvPr/>
              </p:nvSpPr>
              <p:spPr>
                <a:xfrm>
                  <a:off x="3683160" y="2782440"/>
                  <a:ext cx="9363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Group 47"/>
              <p:cNvGrpSpPr/>
              <p:nvPr/>
            </p:nvGrpSpPr>
            <p:grpSpPr>
              <a:xfrm>
                <a:off x="4619520" y="2782440"/>
                <a:ext cx="936360" cy="502920"/>
                <a:chOff x="4619520" y="2782440"/>
                <a:chExt cx="936360" cy="502920"/>
              </a:xfrm>
            </p:grpSpPr>
            <p:sp>
              <p:nvSpPr>
                <p:cNvPr id="425" name="Rectangle 48"/>
                <p:cNvSpPr/>
                <p:nvPr/>
              </p:nvSpPr>
              <p:spPr>
                <a:xfrm>
                  <a:off x="4687920" y="2782440"/>
                  <a:ext cx="7999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1.1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Rectangle 49"/>
                <p:cNvSpPr/>
                <p:nvPr/>
              </p:nvSpPr>
              <p:spPr>
                <a:xfrm>
                  <a:off x="4619520" y="2782440"/>
                  <a:ext cx="9363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Group 50"/>
              <p:cNvGrpSpPr/>
              <p:nvPr/>
            </p:nvGrpSpPr>
            <p:grpSpPr>
              <a:xfrm>
                <a:off x="5556240" y="2782440"/>
                <a:ext cx="936360" cy="502920"/>
                <a:chOff x="5556240" y="2782440"/>
                <a:chExt cx="936360" cy="502920"/>
              </a:xfrm>
            </p:grpSpPr>
            <p:sp>
              <p:nvSpPr>
                <p:cNvPr id="428" name="Rectangle 51"/>
                <p:cNvSpPr/>
                <p:nvPr/>
              </p:nvSpPr>
              <p:spPr>
                <a:xfrm>
                  <a:off x="5624640" y="2782440"/>
                  <a:ext cx="7999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1.1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52"/>
                <p:cNvSpPr/>
                <p:nvPr/>
              </p:nvSpPr>
              <p:spPr>
                <a:xfrm>
                  <a:off x="5556240" y="2782440"/>
                  <a:ext cx="9363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Group 53"/>
              <p:cNvGrpSpPr/>
              <p:nvPr/>
            </p:nvGrpSpPr>
            <p:grpSpPr>
              <a:xfrm>
                <a:off x="6492960" y="2782440"/>
                <a:ext cx="821880" cy="502920"/>
                <a:chOff x="6492960" y="2782440"/>
                <a:chExt cx="821880" cy="502920"/>
              </a:xfrm>
            </p:grpSpPr>
            <p:sp>
              <p:nvSpPr>
                <p:cNvPr id="431" name="Rectangle 54"/>
                <p:cNvSpPr/>
                <p:nvPr/>
              </p:nvSpPr>
              <p:spPr>
                <a:xfrm>
                  <a:off x="6561000" y="2782440"/>
                  <a:ext cx="68544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1.4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55"/>
                <p:cNvSpPr/>
                <p:nvPr/>
              </p:nvSpPr>
              <p:spPr>
                <a:xfrm>
                  <a:off x="6492960" y="2782440"/>
                  <a:ext cx="82188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Group 56"/>
              <p:cNvGrpSpPr/>
              <p:nvPr/>
            </p:nvGrpSpPr>
            <p:grpSpPr>
              <a:xfrm>
                <a:off x="7315200" y="2782440"/>
                <a:ext cx="821880" cy="502920"/>
                <a:chOff x="7315200" y="2782440"/>
                <a:chExt cx="821880" cy="502920"/>
              </a:xfrm>
            </p:grpSpPr>
            <p:sp>
              <p:nvSpPr>
                <p:cNvPr id="434" name="Rectangle 57"/>
                <p:cNvSpPr/>
                <p:nvPr/>
              </p:nvSpPr>
              <p:spPr>
                <a:xfrm>
                  <a:off x="7383600" y="2782440"/>
                  <a:ext cx="68544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1.5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58"/>
                <p:cNvSpPr/>
                <p:nvPr/>
              </p:nvSpPr>
              <p:spPr>
                <a:xfrm>
                  <a:off x="7315200" y="2782440"/>
                  <a:ext cx="82188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Group 59"/>
              <p:cNvGrpSpPr/>
              <p:nvPr/>
            </p:nvGrpSpPr>
            <p:grpSpPr>
              <a:xfrm>
                <a:off x="1832040" y="3286080"/>
                <a:ext cx="1850760" cy="502920"/>
                <a:chOff x="1832040" y="3286080"/>
                <a:chExt cx="1850760" cy="502920"/>
              </a:xfrm>
            </p:grpSpPr>
            <p:sp>
              <p:nvSpPr>
                <p:cNvPr id="437" name="Rectangle 60"/>
                <p:cNvSpPr/>
                <p:nvPr/>
              </p:nvSpPr>
              <p:spPr>
                <a:xfrm>
                  <a:off x="1900080" y="3286080"/>
                  <a:ext cx="17143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just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Loc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61"/>
                <p:cNvSpPr/>
                <p:nvPr/>
              </p:nvSpPr>
              <p:spPr>
                <a:xfrm>
                  <a:off x="1832040" y="3286080"/>
                  <a:ext cx="18507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Group 62"/>
              <p:cNvGrpSpPr/>
              <p:nvPr/>
            </p:nvGrpSpPr>
            <p:grpSpPr>
              <a:xfrm>
                <a:off x="3683160" y="3286080"/>
                <a:ext cx="936360" cy="502920"/>
                <a:chOff x="3683160" y="3286080"/>
                <a:chExt cx="936360" cy="502920"/>
              </a:xfrm>
            </p:grpSpPr>
            <p:sp>
              <p:nvSpPr>
                <p:cNvPr id="440" name="Rectangle 63"/>
                <p:cNvSpPr/>
                <p:nvPr/>
              </p:nvSpPr>
              <p:spPr>
                <a:xfrm>
                  <a:off x="3751200" y="3286080"/>
                  <a:ext cx="7999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0.4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Rectangle 64"/>
                <p:cNvSpPr/>
                <p:nvPr/>
              </p:nvSpPr>
              <p:spPr>
                <a:xfrm>
                  <a:off x="3683160" y="3286080"/>
                  <a:ext cx="9363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Group 65"/>
              <p:cNvGrpSpPr/>
              <p:nvPr/>
            </p:nvGrpSpPr>
            <p:grpSpPr>
              <a:xfrm>
                <a:off x="4619520" y="3286080"/>
                <a:ext cx="936360" cy="502920"/>
                <a:chOff x="4619520" y="3286080"/>
                <a:chExt cx="936360" cy="502920"/>
              </a:xfrm>
            </p:grpSpPr>
            <p:sp>
              <p:nvSpPr>
                <p:cNvPr id="443" name="Rectangle 66"/>
                <p:cNvSpPr/>
                <p:nvPr/>
              </p:nvSpPr>
              <p:spPr>
                <a:xfrm>
                  <a:off x="4687920" y="3286080"/>
                  <a:ext cx="7999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0.4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Rectangle 67"/>
                <p:cNvSpPr/>
                <p:nvPr/>
              </p:nvSpPr>
              <p:spPr>
                <a:xfrm>
                  <a:off x="4619520" y="3286080"/>
                  <a:ext cx="9363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Group 68"/>
              <p:cNvGrpSpPr/>
              <p:nvPr/>
            </p:nvGrpSpPr>
            <p:grpSpPr>
              <a:xfrm>
                <a:off x="5556240" y="3286080"/>
                <a:ext cx="936360" cy="502920"/>
                <a:chOff x="5556240" y="3286080"/>
                <a:chExt cx="936360" cy="502920"/>
              </a:xfrm>
            </p:grpSpPr>
            <p:sp>
              <p:nvSpPr>
                <p:cNvPr id="446" name="Rectangle 69"/>
                <p:cNvSpPr/>
                <p:nvPr/>
              </p:nvSpPr>
              <p:spPr>
                <a:xfrm>
                  <a:off x="5624640" y="3286080"/>
                  <a:ext cx="7999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0.5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Rectangle 70"/>
                <p:cNvSpPr/>
                <p:nvPr/>
              </p:nvSpPr>
              <p:spPr>
                <a:xfrm>
                  <a:off x="5556240" y="3286080"/>
                  <a:ext cx="9363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Group 71"/>
              <p:cNvGrpSpPr/>
              <p:nvPr/>
            </p:nvGrpSpPr>
            <p:grpSpPr>
              <a:xfrm>
                <a:off x="6492960" y="3286080"/>
                <a:ext cx="821880" cy="502920"/>
                <a:chOff x="6492960" y="3286080"/>
                <a:chExt cx="821880" cy="502920"/>
              </a:xfrm>
            </p:grpSpPr>
            <p:sp>
              <p:nvSpPr>
                <p:cNvPr id="449" name="Rectangle 72"/>
                <p:cNvSpPr/>
                <p:nvPr/>
              </p:nvSpPr>
              <p:spPr>
                <a:xfrm>
                  <a:off x="6561000" y="3286080"/>
                  <a:ext cx="68544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0.9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73"/>
                <p:cNvSpPr/>
                <p:nvPr/>
              </p:nvSpPr>
              <p:spPr>
                <a:xfrm>
                  <a:off x="6492960" y="3286080"/>
                  <a:ext cx="82188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Group 74"/>
              <p:cNvGrpSpPr/>
              <p:nvPr/>
            </p:nvGrpSpPr>
            <p:grpSpPr>
              <a:xfrm>
                <a:off x="7315200" y="3286080"/>
                <a:ext cx="821880" cy="502920"/>
                <a:chOff x="7315200" y="3286080"/>
                <a:chExt cx="821880" cy="502920"/>
              </a:xfrm>
            </p:grpSpPr>
            <p:sp>
              <p:nvSpPr>
                <p:cNvPr id="452" name="Rectangle 75"/>
                <p:cNvSpPr/>
                <p:nvPr/>
              </p:nvSpPr>
              <p:spPr>
                <a:xfrm>
                  <a:off x="7383600" y="3286080"/>
                  <a:ext cx="68544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0.8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Rectangle 76"/>
                <p:cNvSpPr/>
                <p:nvPr/>
              </p:nvSpPr>
              <p:spPr>
                <a:xfrm>
                  <a:off x="7315200" y="3286080"/>
                  <a:ext cx="82188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Group 77"/>
              <p:cNvGrpSpPr/>
              <p:nvPr/>
            </p:nvGrpSpPr>
            <p:grpSpPr>
              <a:xfrm>
                <a:off x="1832040" y="3789360"/>
                <a:ext cx="1850760" cy="502920"/>
                <a:chOff x="1832040" y="3789360"/>
                <a:chExt cx="1850760" cy="502920"/>
              </a:xfrm>
            </p:grpSpPr>
            <p:sp>
              <p:nvSpPr>
                <p:cNvPr id="455" name="Rectangle 78"/>
                <p:cNvSpPr/>
                <p:nvPr/>
              </p:nvSpPr>
              <p:spPr>
                <a:xfrm>
                  <a:off x="1900080" y="3789360"/>
                  <a:ext cx="17143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just">
                    <a:lnSpc>
                      <a:spcPct val="100000"/>
                    </a:lnSpc>
                  </a:pPr>
                  <a:r>
                    <a:rPr b="0" lang="es-UY" sz="1000" spc="-1" strike="noStrike">
                      <a:solidFill>
                        <a:srgbClr val="000000"/>
                      </a:solidFill>
                      <a:latin typeface="Times New Roman"/>
                    </a:rPr>
                    <a:t>Seguridad</a:t>
                  </a: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 Soci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Rectangle 79"/>
                <p:cNvSpPr/>
                <p:nvPr/>
              </p:nvSpPr>
              <p:spPr>
                <a:xfrm>
                  <a:off x="1832040" y="3789360"/>
                  <a:ext cx="18507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Group 80"/>
              <p:cNvGrpSpPr/>
              <p:nvPr/>
            </p:nvGrpSpPr>
            <p:grpSpPr>
              <a:xfrm>
                <a:off x="3683160" y="3789360"/>
                <a:ext cx="936360" cy="502920"/>
                <a:chOff x="3683160" y="3789360"/>
                <a:chExt cx="936360" cy="502920"/>
              </a:xfrm>
            </p:grpSpPr>
            <p:sp>
              <p:nvSpPr>
                <p:cNvPr id="458" name="Rectangle 81"/>
                <p:cNvSpPr/>
                <p:nvPr/>
              </p:nvSpPr>
              <p:spPr>
                <a:xfrm>
                  <a:off x="3751200" y="3789360"/>
                  <a:ext cx="7999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1.1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Rectangle 82"/>
                <p:cNvSpPr/>
                <p:nvPr/>
              </p:nvSpPr>
              <p:spPr>
                <a:xfrm>
                  <a:off x="3683160" y="3789360"/>
                  <a:ext cx="9363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Group 83"/>
              <p:cNvGrpSpPr/>
              <p:nvPr/>
            </p:nvGrpSpPr>
            <p:grpSpPr>
              <a:xfrm>
                <a:off x="4619520" y="3789360"/>
                <a:ext cx="936360" cy="502920"/>
                <a:chOff x="4619520" y="3789360"/>
                <a:chExt cx="936360" cy="502920"/>
              </a:xfrm>
            </p:grpSpPr>
            <p:sp>
              <p:nvSpPr>
                <p:cNvPr id="461" name="Rectangle 84"/>
                <p:cNvSpPr/>
                <p:nvPr/>
              </p:nvSpPr>
              <p:spPr>
                <a:xfrm>
                  <a:off x="4687920" y="3789360"/>
                  <a:ext cx="7999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0.9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Rectangle 85"/>
                <p:cNvSpPr/>
                <p:nvPr/>
              </p:nvSpPr>
              <p:spPr>
                <a:xfrm>
                  <a:off x="4619520" y="3789360"/>
                  <a:ext cx="9363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Group 86"/>
              <p:cNvGrpSpPr/>
              <p:nvPr/>
            </p:nvGrpSpPr>
            <p:grpSpPr>
              <a:xfrm>
                <a:off x="5556240" y="3789360"/>
                <a:ext cx="936360" cy="502920"/>
                <a:chOff x="5556240" y="3789360"/>
                <a:chExt cx="936360" cy="502920"/>
              </a:xfrm>
            </p:grpSpPr>
            <p:sp>
              <p:nvSpPr>
                <p:cNvPr id="464" name="Rectangle 87"/>
                <p:cNvSpPr/>
                <p:nvPr/>
              </p:nvSpPr>
              <p:spPr>
                <a:xfrm>
                  <a:off x="5624640" y="3789360"/>
                  <a:ext cx="7999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1.2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Rectangle 88"/>
                <p:cNvSpPr/>
                <p:nvPr/>
              </p:nvSpPr>
              <p:spPr>
                <a:xfrm>
                  <a:off x="5556240" y="3789360"/>
                  <a:ext cx="9363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Group 89"/>
              <p:cNvGrpSpPr/>
              <p:nvPr/>
            </p:nvGrpSpPr>
            <p:grpSpPr>
              <a:xfrm>
                <a:off x="6492960" y="3789360"/>
                <a:ext cx="821880" cy="502920"/>
                <a:chOff x="6492960" y="3789360"/>
                <a:chExt cx="821880" cy="502920"/>
              </a:xfrm>
            </p:grpSpPr>
            <p:sp>
              <p:nvSpPr>
                <p:cNvPr id="467" name="Rectangle 90"/>
                <p:cNvSpPr/>
                <p:nvPr/>
              </p:nvSpPr>
              <p:spPr>
                <a:xfrm>
                  <a:off x="6561000" y="3789360"/>
                  <a:ext cx="68544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1.0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91"/>
                <p:cNvSpPr/>
                <p:nvPr/>
              </p:nvSpPr>
              <p:spPr>
                <a:xfrm>
                  <a:off x="6492960" y="3789360"/>
                  <a:ext cx="82188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Group 92"/>
              <p:cNvGrpSpPr/>
              <p:nvPr/>
            </p:nvGrpSpPr>
            <p:grpSpPr>
              <a:xfrm>
                <a:off x="7315200" y="3789360"/>
                <a:ext cx="821880" cy="502920"/>
                <a:chOff x="7315200" y="3789360"/>
                <a:chExt cx="821880" cy="502920"/>
              </a:xfrm>
            </p:grpSpPr>
            <p:sp>
              <p:nvSpPr>
                <p:cNvPr id="470" name="Rectangle 93"/>
                <p:cNvSpPr/>
                <p:nvPr/>
              </p:nvSpPr>
              <p:spPr>
                <a:xfrm>
                  <a:off x="7383600" y="3789360"/>
                  <a:ext cx="68544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1.0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Rectangle 94"/>
                <p:cNvSpPr/>
                <p:nvPr/>
              </p:nvSpPr>
              <p:spPr>
                <a:xfrm>
                  <a:off x="7315200" y="3789360"/>
                  <a:ext cx="82188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Group 95"/>
              <p:cNvGrpSpPr/>
              <p:nvPr/>
            </p:nvGrpSpPr>
            <p:grpSpPr>
              <a:xfrm>
                <a:off x="1832040" y="4292640"/>
                <a:ext cx="1850760" cy="502920"/>
                <a:chOff x="1832040" y="4292640"/>
                <a:chExt cx="1850760" cy="502920"/>
              </a:xfrm>
            </p:grpSpPr>
            <p:sp>
              <p:nvSpPr>
                <p:cNvPr id="473" name="Rectangle 96"/>
                <p:cNvSpPr/>
                <p:nvPr/>
              </p:nvSpPr>
              <p:spPr>
                <a:xfrm>
                  <a:off x="1900080" y="4292640"/>
                  <a:ext cx="17143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just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Privad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Rectangle 97"/>
                <p:cNvSpPr/>
                <p:nvPr/>
              </p:nvSpPr>
              <p:spPr>
                <a:xfrm>
                  <a:off x="1832040" y="4292640"/>
                  <a:ext cx="18507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Group 98"/>
              <p:cNvGrpSpPr/>
              <p:nvPr/>
            </p:nvGrpSpPr>
            <p:grpSpPr>
              <a:xfrm>
                <a:off x="3683160" y="4292640"/>
                <a:ext cx="936360" cy="502920"/>
                <a:chOff x="3683160" y="4292640"/>
                <a:chExt cx="936360" cy="502920"/>
              </a:xfrm>
            </p:grpSpPr>
            <p:sp>
              <p:nvSpPr>
                <p:cNvPr id="476" name="Rectangle 99"/>
                <p:cNvSpPr/>
                <p:nvPr/>
              </p:nvSpPr>
              <p:spPr>
                <a:xfrm>
                  <a:off x="3751200" y="4292640"/>
                  <a:ext cx="7999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3.2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Rectangle 100"/>
                <p:cNvSpPr/>
                <p:nvPr/>
              </p:nvSpPr>
              <p:spPr>
                <a:xfrm>
                  <a:off x="3683160" y="4292640"/>
                  <a:ext cx="9363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Group 101"/>
              <p:cNvGrpSpPr/>
              <p:nvPr/>
            </p:nvGrpSpPr>
            <p:grpSpPr>
              <a:xfrm>
                <a:off x="4619520" y="4292640"/>
                <a:ext cx="936360" cy="502920"/>
                <a:chOff x="4619520" y="4292640"/>
                <a:chExt cx="936360" cy="502920"/>
              </a:xfrm>
            </p:grpSpPr>
            <p:sp>
              <p:nvSpPr>
                <p:cNvPr id="479" name="Rectangle 102"/>
                <p:cNvSpPr/>
                <p:nvPr/>
              </p:nvSpPr>
              <p:spPr>
                <a:xfrm>
                  <a:off x="4687920" y="4292640"/>
                  <a:ext cx="7999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3.2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Rectangle 103"/>
                <p:cNvSpPr/>
                <p:nvPr/>
              </p:nvSpPr>
              <p:spPr>
                <a:xfrm>
                  <a:off x="4619520" y="4292640"/>
                  <a:ext cx="9363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Group 104"/>
              <p:cNvGrpSpPr/>
              <p:nvPr/>
            </p:nvGrpSpPr>
            <p:grpSpPr>
              <a:xfrm>
                <a:off x="5556240" y="4292640"/>
                <a:ext cx="936360" cy="502920"/>
                <a:chOff x="5556240" y="4292640"/>
                <a:chExt cx="936360" cy="502920"/>
              </a:xfrm>
            </p:grpSpPr>
            <p:sp>
              <p:nvSpPr>
                <p:cNvPr id="482" name="Rectangle 105"/>
                <p:cNvSpPr/>
                <p:nvPr/>
              </p:nvSpPr>
              <p:spPr>
                <a:xfrm>
                  <a:off x="5624640" y="4292640"/>
                  <a:ext cx="7999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3.9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Rectangle 106"/>
                <p:cNvSpPr/>
                <p:nvPr/>
              </p:nvSpPr>
              <p:spPr>
                <a:xfrm>
                  <a:off x="5556240" y="4292640"/>
                  <a:ext cx="9363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Group 107"/>
              <p:cNvGrpSpPr/>
              <p:nvPr/>
            </p:nvGrpSpPr>
            <p:grpSpPr>
              <a:xfrm>
                <a:off x="6492960" y="4292640"/>
                <a:ext cx="821880" cy="502920"/>
                <a:chOff x="6492960" y="4292640"/>
                <a:chExt cx="821880" cy="502920"/>
              </a:xfrm>
            </p:grpSpPr>
            <p:sp>
              <p:nvSpPr>
                <p:cNvPr id="485" name="Rectangle 108"/>
                <p:cNvSpPr/>
                <p:nvPr/>
              </p:nvSpPr>
              <p:spPr>
                <a:xfrm>
                  <a:off x="6561000" y="4292640"/>
                  <a:ext cx="68544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4.0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Rectangle 109"/>
                <p:cNvSpPr/>
                <p:nvPr/>
              </p:nvSpPr>
              <p:spPr>
                <a:xfrm>
                  <a:off x="6492960" y="4292640"/>
                  <a:ext cx="82188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Group 110"/>
              <p:cNvGrpSpPr/>
              <p:nvPr/>
            </p:nvGrpSpPr>
            <p:grpSpPr>
              <a:xfrm>
                <a:off x="7315200" y="4292640"/>
                <a:ext cx="821880" cy="502920"/>
                <a:chOff x="7315200" y="4292640"/>
                <a:chExt cx="821880" cy="502920"/>
              </a:xfrm>
            </p:grpSpPr>
            <p:sp>
              <p:nvSpPr>
                <p:cNvPr id="488" name="Rectangle 111"/>
                <p:cNvSpPr/>
                <p:nvPr/>
              </p:nvSpPr>
              <p:spPr>
                <a:xfrm>
                  <a:off x="7383600" y="4292640"/>
                  <a:ext cx="68544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3.9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Rectangle 112"/>
                <p:cNvSpPr/>
                <p:nvPr/>
              </p:nvSpPr>
              <p:spPr>
                <a:xfrm>
                  <a:off x="7315200" y="4292640"/>
                  <a:ext cx="82188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Group 113"/>
              <p:cNvGrpSpPr/>
              <p:nvPr/>
            </p:nvGrpSpPr>
            <p:grpSpPr>
              <a:xfrm>
                <a:off x="1832040" y="4795920"/>
                <a:ext cx="1850760" cy="502920"/>
                <a:chOff x="1832040" y="4795920"/>
                <a:chExt cx="1850760" cy="502920"/>
              </a:xfrm>
            </p:grpSpPr>
            <p:sp>
              <p:nvSpPr>
                <p:cNvPr id="491" name="Rectangle 114"/>
                <p:cNvSpPr/>
                <p:nvPr/>
              </p:nvSpPr>
              <p:spPr>
                <a:xfrm>
                  <a:off x="1900080" y="4795920"/>
                  <a:ext cx="17143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just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Domicilia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Rectangle 115"/>
                <p:cNvSpPr/>
                <p:nvPr/>
              </p:nvSpPr>
              <p:spPr>
                <a:xfrm>
                  <a:off x="1832040" y="4795920"/>
                  <a:ext cx="18507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Group 116"/>
              <p:cNvGrpSpPr/>
              <p:nvPr/>
            </p:nvGrpSpPr>
            <p:grpSpPr>
              <a:xfrm>
                <a:off x="3683160" y="4795920"/>
                <a:ext cx="936360" cy="502920"/>
                <a:chOff x="3683160" y="4795920"/>
                <a:chExt cx="936360" cy="502920"/>
              </a:xfrm>
            </p:grpSpPr>
            <p:sp>
              <p:nvSpPr>
                <p:cNvPr id="494" name="Rectangle 117"/>
                <p:cNvSpPr/>
                <p:nvPr/>
              </p:nvSpPr>
              <p:spPr>
                <a:xfrm>
                  <a:off x="3751200" y="4795920"/>
                  <a:ext cx="7999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3.1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Rectangle 118"/>
                <p:cNvSpPr/>
                <p:nvPr/>
              </p:nvSpPr>
              <p:spPr>
                <a:xfrm>
                  <a:off x="3683160" y="4795920"/>
                  <a:ext cx="9363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Group 119"/>
              <p:cNvGrpSpPr/>
              <p:nvPr/>
            </p:nvGrpSpPr>
            <p:grpSpPr>
              <a:xfrm>
                <a:off x="4619520" y="4795920"/>
                <a:ext cx="936360" cy="502920"/>
                <a:chOff x="4619520" y="4795920"/>
                <a:chExt cx="936360" cy="502920"/>
              </a:xfrm>
            </p:grpSpPr>
            <p:sp>
              <p:nvSpPr>
                <p:cNvPr id="497" name="Rectangle 120"/>
                <p:cNvSpPr/>
                <p:nvPr/>
              </p:nvSpPr>
              <p:spPr>
                <a:xfrm>
                  <a:off x="4687920" y="4795920"/>
                  <a:ext cx="7999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3.1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Rectangle 121"/>
                <p:cNvSpPr/>
                <p:nvPr/>
              </p:nvSpPr>
              <p:spPr>
                <a:xfrm>
                  <a:off x="4619520" y="4795920"/>
                  <a:ext cx="9363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Group 122"/>
              <p:cNvGrpSpPr/>
              <p:nvPr/>
            </p:nvGrpSpPr>
            <p:grpSpPr>
              <a:xfrm>
                <a:off x="5556240" y="4795920"/>
                <a:ext cx="936360" cy="502920"/>
                <a:chOff x="5556240" y="4795920"/>
                <a:chExt cx="936360" cy="502920"/>
              </a:xfrm>
            </p:grpSpPr>
            <p:sp>
              <p:nvSpPr>
                <p:cNvPr id="500" name="Rectangle 123"/>
                <p:cNvSpPr/>
                <p:nvPr/>
              </p:nvSpPr>
              <p:spPr>
                <a:xfrm>
                  <a:off x="5624640" y="4795920"/>
                  <a:ext cx="7999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3.9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Rectangle 124"/>
                <p:cNvSpPr/>
                <p:nvPr/>
              </p:nvSpPr>
              <p:spPr>
                <a:xfrm>
                  <a:off x="5556240" y="4795920"/>
                  <a:ext cx="9363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Group 125"/>
              <p:cNvGrpSpPr/>
              <p:nvPr/>
            </p:nvGrpSpPr>
            <p:grpSpPr>
              <a:xfrm>
                <a:off x="6492960" y="4795920"/>
                <a:ext cx="821880" cy="502920"/>
                <a:chOff x="6492960" y="4795920"/>
                <a:chExt cx="821880" cy="502920"/>
              </a:xfrm>
            </p:grpSpPr>
            <p:sp>
              <p:nvSpPr>
                <p:cNvPr id="503" name="Rectangle 126"/>
                <p:cNvSpPr/>
                <p:nvPr/>
              </p:nvSpPr>
              <p:spPr>
                <a:xfrm>
                  <a:off x="6561000" y="4795920"/>
                  <a:ext cx="68544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2.9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Rectangle 127"/>
                <p:cNvSpPr/>
                <p:nvPr/>
              </p:nvSpPr>
              <p:spPr>
                <a:xfrm>
                  <a:off x="6492960" y="4795920"/>
                  <a:ext cx="82188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Group 128"/>
              <p:cNvGrpSpPr/>
              <p:nvPr/>
            </p:nvGrpSpPr>
            <p:grpSpPr>
              <a:xfrm>
                <a:off x="7315200" y="4795920"/>
                <a:ext cx="821880" cy="502920"/>
                <a:chOff x="7315200" y="4795920"/>
                <a:chExt cx="821880" cy="502920"/>
              </a:xfrm>
            </p:grpSpPr>
            <p:sp>
              <p:nvSpPr>
                <p:cNvPr id="506" name="Rectangle 129"/>
                <p:cNvSpPr/>
                <p:nvPr/>
              </p:nvSpPr>
              <p:spPr>
                <a:xfrm>
                  <a:off x="7383600" y="4795920"/>
                  <a:ext cx="68544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2.8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Rectangle 130"/>
                <p:cNvSpPr/>
                <p:nvPr/>
              </p:nvSpPr>
              <p:spPr>
                <a:xfrm>
                  <a:off x="7315200" y="4795920"/>
                  <a:ext cx="82188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Group 131"/>
              <p:cNvGrpSpPr/>
              <p:nvPr/>
            </p:nvGrpSpPr>
            <p:grpSpPr>
              <a:xfrm>
                <a:off x="1832040" y="5299560"/>
                <a:ext cx="1850760" cy="502920"/>
                <a:chOff x="1832040" y="5299560"/>
                <a:chExt cx="1850760" cy="502920"/>
              </a:xfrm>
            </p:grpSpPr>
            <p:sp>
              <p:nvSpPr>
                <p:cNvPr id="509" name="Rectangle 132"/>
                <p:cNvSpPr/>
                <p:nvPr/>
              </p:nvSpPr>
              <p:spPr>
                <a:xfrm>
                  <a:off x="1900080" y="5299560"/>
                  <a:ext cx="17143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just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Seguro Privad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Rectangle 133"/>
                <p:cNvSpPr/>
                <p:nvPr/>
              </p:nvSpPr>
              <p:spPr>
                <a:xfrm>
                  <a:off x="1832040" y="5299560"/>
                  <a:ext cx="18507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Group 134"/>
              <p:cNvGrpSpPr/>
              <p:nvPr/>
            </p:nvGrpSpPr>
            <p:grpSpPr>
              <a:xfrm>
                <a:off x="3683160" y="5299560"/>
                <a:ext cx="936360" cy="502920"/>
                <a:chOff x="3683160" y="5299560"/>
                <a:chExt cx="936360" cy="502920"/>
              </a:xfrm>
            </p:grpSpPr>
            <p:sp>
              <p:nvSpPr>
                <p:cNvPr id="512" name="Rectangle 135"/>
                <p:cNvSpPr/>
                <p:nvPr/>
              </p:nvSpPr>
              <p:spPr>
                <a:xfrm>
                  <a:off x="3751200" y="5299560"/>
                  <a:ext cx="7999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0.0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Rectangle 136"/>
                <p:cNvSpPr/>
                <p:nvPr/>
              </p:nvSpPr>
              <p:spPr>
                <a:xfrm>
                  <a:off x="3683160" y="5299560"/>
                  <a:ext cx="9363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Group 137"/>
              <p:cNvGrpSpPr/>
              <p:nvPr/>
            </p:nvGrpSpPr>
            <p:grpSpPr>
              <a:xfrm>
                <a:off x="4619520" y="5299560"/>
                <a:ext cx="936360" cy="502920"/>
                <a:chOff x="4619520" y="5299560"/>
                <a:chExt cx="936360" cy="502920"/>
              </a:xfrm>
            </p:grpSpPr>
            <p:sp>
              <p:nvSpPr>
                <p:cNvPr id="515" name="Rectangle 138"/>
                <p:cNvSpPr/>
                <p:nvPr/>
              </p:nvSpPr>
              <p:spPr>
                <a:xfrm>
                  <a:off x="4687920" y="5299560"/>
                  <a:ext cx="7999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0.0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Rectangle 139"/>
                <p:cNvSpPr/>
                <p:nvPr/>
              </p:nvSpPr>
              <p:spPr>
                <a:xfrm>
                  <a:off x="4619520" y="5299560"/>
                  <a:ext cx="9363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Group 140"/>
              <p:cNvGrpSpPr/>
              <p:nvPr/>
            </p:nvGrpSpPr>
            <p:grpSpPr>
              <a:xfrm>
                <a:off x="5556240" y="5299560"/>
                <a:ext cx="936360" cy="502920"/>
                <a:chOff x="5556240" y="5299560"/>
                <a:chExt cx="936360" cy="502920"/>
              </a:xfrm>
            </p:grpSpPr>
            <p:sp>
              <p:nvSpPr>
                <p:cNvPr id="518" name="Rectangle 141"/>
                <p:cNvSpPr/>
                <p:nvPr/>
              </p:nvSpPr>
              <p:spPr>
                <a:xfrm>
                  <a:off x="5624640" y="5299560"/>
                  <a:ext cx="7999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0.0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Rectangle 142"/>
                <p:cNvSpPr/>
                <p:nvPr/>
              </p:nvSpPr>
              <p:spPr>
                <a:xfrm>
                  <a:off x="5556240" y="5299560"/>
                  <a:ext cx="9363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Group 143"/>
              <p:cNvGrpSpPr/>
              <p:nvPr/>
            </p:nvGrpSpPr>
            <p:grpSpPr>
              <a:xfrm>
                <a:off x="6492960" y="5299560"/>
                <a:ext cx="821880" cy="502920"/>
                <a:chOff x="6492960" y="5299560"/>
                <a:chExt cx="821880" cy="502920"/>
              </a:xfrm>
            </p:grpSpPr>
            <p:sp>
              <p:nvSpPr>
                <p:cNvPr id="521" name="Rectangle 144"/>
                <p:cNvSpPr/>
                <p:nvPr/>
              </p:nvSpPr>
              <p:spPr>
                <a:xfrm>
                  <a:off x="6561000" y="5299560"/>
                  <a:ext cx="68544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1.1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Rectangle 145"/>
                <p:cNvSpPr/>
                <p:nvPr/>
              </p:nvSpPr>
              <p:spPr>
                <a:xfrm>
                  <a:off x="6492960" y="5299560"/>
                  <a:ext cx="82188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Group 146"/>
              <p:cNvGrpSpPr/>
              <p:nvPr/>
            </p:nvGrpSpPr>
            <p:grpSpPr>
              <a:xfrm>
                <a:off x="7315200" y="5299560"/>
                <a:ext cx="821880" cy="502920"/>
                <a:chOff x="7315200" y="5299560"/>
                <a:chExt cx="821880" cy="502920"/>
              </a:xfrm>
            </p:grpSpPr>
            <p:sp>
              <p:nvSpPr>
                <p:cNvPr id="524" name="Rectangle 147"/>
                <p:cNvSpPr/>
                <p:nvPr/>
              </p:nvSpPr>
              <p:spPr>
                <a:xfrm>
                  <a:off x="7383600" y="5299560"/>
                  <a:ext cx="68544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1.0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Rectangle 148"/>
                <p:cNvSpPr/>
                <p:nvPr/>
              </p:nvSpPr>
              <p:spPr>
                <a:xfrm>
                  <a:off x="7315200" y="5299560"/>
                  <a:ext cx="82188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Group 149"/>
              <p:cNvGrpSpPr/>
              <p:nvPr/>
            </p:nvGrpSpPr>
            <p:grpSpPr>
              <a:xfrm>
                <a:off x="1832040" y="5802840"/>
                <a:ext cx="1850760" cy="502920"/>
                <a:chOff x="1832040" y="5802840"/>
                <a:chExt cx="1850760" cy="502920"/>
              </a:xfrm>
            </p:grpSpPr>
            <p:sp>
              <p:nvSpPr>
                <p:cNvPr id="527" name="Rectangle 150"/>
                <p:cNvSpPr/>
                <p:nvPr/>
              </p:nvSpPr>
              <p:spPr>
                <a:xfrm>
                  <a:off x="1900080" y="5802840"/>
                  <a:ext cx="17143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just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Tot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Rectangle 151"/>
                <p:cNvSpPr/>
                <p:nvPr/>
              </p:nvSpPr>
              <p:spPr>
                <a:xfrm>
                  <a:off x="1832040" y="5802840"/>
                  <a:ext cx="18507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Group 152"/>
              <p:cNvGrpSpPr/>
              <p:nvPr/>
            </p:nvGrpSpPr>
            <p:grpSpPr>
              <a:xfrm>
                <a:off x="3683160" y="5802840"/>
                <a:ext cx="936360" cy="502920"/>
                <a:chOff x="3683160" y="5802840"/>
                <a:chExt cx="936360" cy="502920"/>
              </a:xfrm>
            </p:grpSpPr>
            <p:sp>
              <p:nvSpPr>
                <p:cNvPr id="530" name="Rectangle 153"/>
                <p:cNvSpPr/>
                <p:nvPr/>
              </p:nvSpPr>
              <p:spPr>
                <a:xfrm>
                  <a:off x="3751200" y="5802840"/>
                  <a:ext cx="7999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6.1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Rectangle 154"/>
                <p:cNvSpPr/>
                <p:nvPr/>
              </p:nvSpPr>
              <p:spPr>
                <a:xfrm>
                  <a:off x="3683160" y="5802840"/>
                  <a:ext cx="9363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Group 155"/>
              <p:cNvGrpSpPr/>
              <p:nvPr/>
            </p:nvGrpSpPr>
            <p:grpSpPr>
              <a:xfrm>
                <a:off x="4619520" y="5802840"/>
                <a:ext cx="936360" cy="502920"/>
                <a:chOff x="4619520" y="5802840"/>
                <a:chExt cx="936360" cy="502920"/>
              </a:xfrm>
            </p:grpSpPr>
            <p:sp>
              <p:nvSpPr>
                <p:cNvPr id="533" name="Rectangle 156"/>
                <p:cNvSpPr/>
                <p:nvPr/>
              </p:nvSpPr>
              <p:spPr>
                <a:xfrm>
                  <a:off x="4687920" y="5802840"/>
                  <a:ext cx="7999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5.7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Rectangle 157"/>
                <p:cNvSpPr/>
                <p:nvPr/>
              </p:nvSpPr>
              <p:spPr>
                <a:xfrm>
                  <a:off x="4619520" y="5802840"/>
                  <a:ext cx="9363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58"/>
              <p:cNvGrpSpPr/>
              <p:nvPr/>
            </p:nvGrpSpPr>
            <p:grpSpPr>
              <a:xfrm>
                <a:off x="5556240" y="5802840"/>
                <a:ext cx="936360" cy="502920"/>
                <a:chOff x="5556240" y="5802840"/>
                <a:chExt cx="936360" cy="502920"/>
              </a:xfrm>
            </p:grpSpPr>
            <p:sp>
              <p:nvSpPr>
                <p:cNvPr id="536" name="Rectangle 159"/>
                <p:cNvSpPr/>
                <p:nvPr/>
              </p:nvSpPr>
              <p:spPr>
                <a:xfrm>
                  <a:off x="5624640" y="5802840"/>
                  <a:ext cx="79992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7.0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Rectangle 160"/>
                <p:cNvSpPr/>
                <p:nvPr/>
              </p:nvSpPr>
              <p:spPr>
                <a:xfrm>
                  <a:off x="5556240" y="5802840"/>
                  <a:ext cx="93636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Group 161"/>
              <p:cNvGrpSpPr/>
              <p:nvPr/>
            </p:nvGrpSpPr>
            <p:grpSpPr>
              <a:xfrm>
                <a:off x="6492960" y="5802840"/>
                <a:ext cx="821880" cy="502920"/>
                <a:chOff x="6492960" y="5802840"/>
                <a:chExt cx="821880" cy="502920"/>
              </a:xfrm>
            </p:grpSpPr>
            <p:sp>
              <p:nvSpPr>
                <p:cNvPr id="539" name="Rectangle 162"/>
                <p:cNvSpPr/>
                <p:nvPr/>
              </p:nvSpPr>
              <p:spPr>
                <a:xfrm>
                  <a:off x="6561000" y="5802840"/>
                  <a:ext cx="68544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7.4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Rectangle 163"/>
                <p:cNvSpPr/>
                <p:nvPr/>
              </p:nvSpPr>
              <p:spPr>
                <a:xfrm>
                  <a:off x="6492960" y="5802840"/>
                  <a:ext cx="82188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Group 164"/>
              <p:cNvGrpSpPr/>
              <p:nvPr/>
            </p:nvGrpSpPr>
            <p:grpSpPr>
              <a:xfrm>
                <a:off x="7315200" y="5802840"/>
                <a:ext cx="821880" cy="502920"/>
                <a:chOff x="7315200" y="5802840"/>
                <a:chExt cx="821880" cy="502920"/>
              </a:xfrm>
            </p:grpSpPr>
            <p:sp>
              <p:nvSpPr>
                <p:cNvPr id="542" name="Rectangle 165"/>
                <p:cNvSpPr/>
                <p:nvPr/>
              </p:nvSpPr>
              <p:spPr>
                <a:xfrm>
                  <a:off x="7383600" y="5802840"/>
                  <a:ext cx="685440" cy="50292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7.3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Rectangle 166"/>
                <p:cNvSpPr/>
                <p:nvPr/>
              </p:nvSpPr>
              <p:spPr>
                <a:xfrm>
                  <a:off x="7315200" y="5802840"/>
                  <a:ext cx="821880" cy="50292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4" name="Rectangle 167"/>
            <p:cNvSpPr/>
            <p:nvPr/>
          </p:nvSpPr>
          <p:spPr>
            <a:xfrm>
              <a:off x="1828800" y="1773360"/>
              <a:ext cx="6311520" cy="4535280"/>
            </a:xfrm>
            <a:prstGeom prst="rect">
              <a:avLst/>
            </a:prstGeom>
            <a:noFill/>
            <a:ln w="635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UY" sz="2000" spc="-1" strike="noStrike">
                <a:solidFill>
                  <a:srgbClr val="ffff00"/>
                </a:solidFill>
                <a:latin typeface="Arial Black"/>
              </a:rPr>
              <a:t>Distribución  % de los beneficios del gasto público en salud por quintil de ingreso</a:t>
            </a:r>
            <a:br>
              <a:rPr sz="2000"/>
            </a:br>
            <a:r>
              <a:rPr b="0" lang="es-UY" sz="2000" spc="-1" strike="noStrike">
                <a:solidFill>
                  <a:srgbClr val="ffff00"/>
                </a:solidFill>
                <a:latin typeface="Arial Black"/>
              </a:rPr>
              <a:t>Pa</a:t>
            </a:r>
            <a:r>
              <a:rPr b="1" lang="es-UY" sz="2000" spc="-1" strike="noStrike">
                <a:solidFill>
                  <a:srgbClr val="ffff00"/>
                </a:solidFill>
                <a:latin typeface="Arial Black"/>
              </a:rPr>
              <a:t>íses seleccionados </a:t>
            </a:r>
            <a:r>
              <a:rPr b="1" lang="es-UY" sz="2000" spc="-1" strike="noStrike">
                <a:solidFill>
                  <a:srgbClr val="ffff00"/>
                </a:solidFill>
                <a:latin typeface="Times New Roman"/>
              </a:rPr>
              <a:t>de</a:t>
            </a:r>
            <a:r>
              <a:rPr b="1" lang="es-UY" sz="2000" spc="-1" strike="noStrike">
                <a:solidFill>
                  <a:srgbClr val="ffff00"/>
                </a:solidFill>
                <a:latin typeface="Arial Black"/>
              </a:rPr>
              <a:t> ALC – década de 1990</a:t>
            </a: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s-CO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Group 3"/>
          <p:cNvGrpSpPr/>
          <p:nvPr/>
        </p:nvGrpSpPr>
        <p:grpSpPr>
          <a:xfrm>
            <a:off x="304920" y="1981080"/>
            <a:ext cx="8229240" cy="4343040"/>
            <a:chOff x="304920" y="1981080"/>
            <a:chExt cx="8229240" cy="4343040"/>
          </a:xfrm>
        </p:grpSpPr>
        <p:grpSp>
          <p:nvGrpSpPr>
            <p:cNvPr id="547" name="Group 4"/>
            <p:cNvGrpSpPr/>
            <p:nvPr/>
          </p:nvGrpSpPr>
          <p:grpSpPr>
            <a:xfrm>
              <a:off x="308880" y="1983240"/>
              <a:ext cx="8220960" cy="4339440"/>
              <a:chOff x="308880" y="1983240"/>
              <a:chExt cx="8220960" cy="4339440"/>
            </a:xfrm>
          </p:grpSpPr>
          <p:grpSp>
            <p:nvGrpSpPr>
              <p:cNvPr id="548" name="Group 5"/>
              <p:cNvGrpSpPr/>
              <p:nvPr/>
            </p:nvGrpSpPr>
            <p:grpSpPr>
              <a:xfrm>
                <a:off x="308880" y="1983240"/>
                <a:ext cx="1965960" cy="722880"/>
                <a:chOff x="308880" y="1983240"/>
                <a:chExt cx="1965960" cy="722880"/>
              </a:xfrm>
            </p:grpSpPr>
            <p:sp>
              <p:nvSpPr>
                <p:cNvPr id="549" name="Rectangle 6"/>
                <p:cNvSpPr/>
                <p:nvPr/>
              </p:nvSpPr>
              <p:spPr>
                <a:xfrm>
                  <a:off x="397800" y="1983240"/>
                  <a:ext cx="1788120" cy="72288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País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Rectangle 7"/>
                <p:cNvSpPr/>
                <p:nvPr/>
              </p:nvSpPr>
              <p:spPr>
                <a:xfrm>
                  <a:off x="308880" y="1983240"/>
                  <a:ext cx="1965960" cy="72288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Group 8"/>
              <p:cNvGrpSpPr/>
              <p:nvPr/>
            </p:nvGrpSpPr>
            <p:grpSpPr>
              <a:xfrm>
                <a:off x="2275200" y="1983240"/>
                <a:ext cx="6254640" cy="361440"/>
                <a:chOff x="2275200" y="1983240"/>
                <a:chExt cx="6254640" cy="361440"/>
              </a:xfrm>
            </p:grpSpPr>
            <p:sp>
              <p:nvSpPr>
                <p:cNvPr id="552" name="Rectangle 9"/>
                <p:cNvSpPr/>
                <p:nvPr/>
              </p:nvSpPr>
              <p:spPr>
                <a:xfrm>
                  <a:off x="2364120" y="1983240"/>
                  <a:ext cx="607680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Quintiles de Ingres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Rectangle 10"/>
                <p:cNvSpPr/>
                <p:nvPr/>
              </p:nvSpPr>
              <p:spPr>
                <a:xfrm>
                  <a:off x="2275200" y="1983240"/>
                  <a:ext cx="625464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Group 11"/>
              <p:cNvGrpSpPr/>
              <p:nvPr/>
            </p:nvGrpSpPr>
            <p:grpSpPr>
              <a:xfrm>
                <a:off x="2275200" y="2344680"/>
                <a:ext cx="1369800" cy="361440"/>
                <a:chOff x="2275200" y="2344680"/>
                <a:chExt cx="1369800" cy="361440"/>
              </a:xfrm>
            </p:grpSpPr>
            <p:sp>
              <p:nvSpPr>
                <p:cNvPr id="555" name="Rectangle 12"/>
                <p:cNvSpPr/>
                <p:nvPr/>
              </p:nvSpPr>
              <p:spPr>
                <a:xfrm>
                  <a:off x="2364120" y="2344680"/>
                  <a:ext cx="119196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Más Pobr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Rectangle 13"/>
                <p:cNvSpPr/>
                <p:nvPr/>
              </p:nvSpPr>
              <p:spPr>
                <a:xfrm>
                  <a:off x="2275200" y="2344680"/>
                  <a:ext cx="136980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Group 14"/>
              <p:cNvGrpSpPr/>
              <p:nvPr/>
            </p:nvGrpSpPr>
            <p:grpSpPr>
              <a:xfrm>
                <a:off x="3645360" y="2344680"/>
                <a:ext cx="1220760" cy="361440"/>
                <a:chOff x="3645360" y="2344680"/>
                <a:chExt cx="1220760" cy="361440"/>
              </a:xfrm>
            </p:grpSpPr>
            <p:sp>
              <p:nvSpPr>
                <p:cNvPr id="558" name="Rectangle 15"/>
                <p:cNvSpPr/>
                <p:nvPr/>
              </p:nvSpPr>
              <p:spPr>
                <a:xfrm>
                  <a:off x="3734640" y="234468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Segund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Rectangle 16"/>
                <p:cNvSpPr/>
                <p:nvPr/>
              </p:nvSpPr>
              <p:spPr>
                <a:xfrm>
                  <a:off x="3645360" y="234468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Group 17"/>
              <p:cNvGrpSpPr/>
              <p:nvPr/>
            </p:nvGrpSpPr>
            <p:grpSpPr>
              <a:xfrm>
                <a:off x="4866840" y="2344680"/>
                <a:ext cx="1220760" cy="361440"/>
                <a:chOff x="4866840" y="2344680"/>
                <a:chExt cx="1220760" cy="361440"/>
              </a:xfrm>
            </p:grpSpPr>
            <p:sp>
              <p:nvSpPr>
                <p:cNvPr id="561" name="Rectangle 18"/>
                <p:cNvSpPr/>
                <p:nvPr/>
              </p:nvSpPr>
              <p:spPr>
                <a:xfrm>
                  <a:off x="4955760" y="234468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Tercer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Rectangle 19"/>
                <p:cNvSpPr/>
                <p:nvPr/>
              </p:nvSpPr>
              <p:spPr>
                <a:xfrm>
                  <a:off x="4866840" y="234468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Group 20"/>
              <p:cNvGrpSpPr/>
              <p:nvPr/>
            </p:nvGrpSpPr>
            <p:grpSpPr>
              <a:xfrm>
                <a:off x="6087960" y="2344680"/>
                <a:ext cx="1220760" cy="361440"/>
                <a:chOff x="6087960" y="2344680"/>
                <a:chExt cx="1220760" cy="361440"/>
              </a:xfrm>
            </p:grpSpPr>
            <p:sp>
              <p:nvSpPr>
                <p:cNvPr id="564" name="Rectangle 21"/>
                <p:cNvSpPr/>
                <p:nvPr/>
              </p:nvSpPr>
              <p:spPr>
                <a:xfrm>
                  <a:off x="6176880" y="234468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Cuart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Rectangle 22"/>
                <p:cNvSpPr/>
                <p:nvPr/>
              </p:nvSpPr>
              <p:spPr>
                <a:xfrm>
                  <a:off x="6087960" y="234468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Group 23"/>
              <p:cNvGrpSpPr/>
              <p:nvPr/>
            </p:nvGrpSpPr>
            <p:grpSpPr>
              <a:xfrm>
                <a:off x="7309080" y="2344680"/>
                <a:ext cx="1220760" cy="361440"/>
                <a:chOff x="7309080" y="2344680"/>
                <a:chExt cx="1220760" cy="361440"/>
              </a:xfrm>
            </p:grpSpPr>
            <p:sp>
              <p:nvSpPr>
                <p:cNvPr id="567" name="Rectangle 24"/>
                <p:cNvSpPr/>
                <p:nvPr/>
              </p:nvSpPr>
              <p:spPr>
                <a:xfrm>
                  <a:off x="7398000" y="234468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Más Ric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Rectangle 25"/>
                <p:cNvSpPr/>
                <p:nvPr/>
              </p:nvSpPr>
              <p:spPr>
                <a:xfrm>
                  <a:off x="7309080" y="234468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Group 26"/>
              <p:cNvGrpSpPr/>
              <p:nvPr/>
            </p:nvGrpSpPr>
            <p:grpSpPr>
              <a:xfrm>
                <a:off x="308880" y="2706480"/>
                <a:ext cx="1965960" cy="361440"/>
                <a:chOff x="308880" y="2706480"/>
                <a:chExt cx="1965960" cy="361440"/>
              </a:xfrm>
            </p:grpSpPr>
            <p:sp>
              <p:nvSpPr>
                <p:cNvPr id="570" name="Rectangle 27"/>
                <p:cNvSpPr/>
                <p:nvPr/>
              </p:nvSpPr>
              <p:spPr>
                <a:xfrm>
                  <a:off x="397800" y="2706480"/>
                  <a:ext cx="17881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just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Argentina (1991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Rectangle 28"/>
                <p:cNvSpPr/>
                <p:nvPr/>
              </p:nvSpPr>
              <p:spPr>
                <a:xfrm>
                  <a:off x="308880" y="2706480"/>
                  <a:ext cx="19659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Group 29"/>
              <p:cNvGrpSpPr/>
              <p:nvPr/>
            </p:nvGrpSpPr>
            <p:grpSpPr>
              <a:xfrm>
                <a:off x="2275200" y="2706480"/>
                <a:ext cx="1369800" cy="361440"/>
                <a:chOff x="2275200" y="2706480"/>
                <a:chExt cx="1369800" cy="361440"/>
              </a:xfrm>
            </p:grpSpPr>
            <p:sp>
              <p:nvSpPr>
                <p:cNvPr id="573" name="Rectangle 30"/>
                <p:cNvSpPr/>
                <p:nvPr/>
              </p:nvSpPr>
              <p:spPr>
                <a:xfrm>
                  <a:off x="2364120" y="2706480"/>
                  <a:ext cx="119196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38.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Rectangle 31"/>
                <p:cNvSpPr/>
                <p:nvPr/>
              </p:nvSpPr>
              <p:spPr>
                <a:xfrm>
                  <a:off x="2275200" y="2706480"/>
                  <a:ext cx="136980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Group 32"/>
              <p:cNvGrpSpPr/>
              <p:nvPr/>
            </p:nvGrpSpPr>
            <p:grpSpPr>
              <a:xfrm>
                <a:off x="3645360" y="2706480"/>
                <a:ext cx="1220760" cy="361440"/>
                <a:chOff x="3645360" y="2706480"/>
                <a:chExt cx="1220760" cy="361440"/>
              </a:xfrm>
            </p:grpSpPr>
            <p:sp>
              <p:nvSpPr>
                <p:cNvPr id="576" name="Rectangle 33"/>
                <p:cNvSpPr/>
                <p:nvPr/>
              </p:nvSpPr>
              <p:spPr>
                <a:xfrm>
                  <a:off x="3734640" y="270648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16.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Rectangle 34"/>
                <p:cNvSpPr/>
                <p:nvPr/>
              </p:nvSpPr>
              <p:spPr>
                <a:xfrm>
                  <a:off x="3645360" y="270648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Group 35"/>
              <p:cNvGrpSpPr/>
              <p:nvPr/>
            </p:nvGrpSpPr>
            <p:grpSpPr>
              <a:xfrm>
                <a:off x="4866840" y="2706480"/>
                <a:ext cx="1220760" cy="361440"/>
                <a:chOff x="4866840" y="2706480"/>
                <a:chExt cx="1220760" cy="361440"/>
              </a:xfrm>
            </p:grpSpPr>
            <p:sp>
              <p:nvSpPr>
                <p:cNvPr id="579" name="Rectangle 36"/>
                <p:cNvSpPr/>
                <p:nvPr/>
              </p:nvSpPr>
              <p:spPr>
                <a:xfrm>
                  <a:off x="4955760" y="270648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25.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Rectangle 37"/>
                <p:cNvSpPr/>
                <p:nvPr/>
              </p:nvSpPr>
              <p:spPr>
                <a:xfrm>
                  <a:off x="4866840" y="270648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Group 38"/>
              <p:cNvGrpSpPr/>
              <p:nvPr/>
            </p:nvGrpSpPr>
            <p:grpSpPr>
              <a:xfrm>
                <a:off x="6087960" y="2706480"/>
                <a:ext cx="1220760" cy="361440"/>
                <a:chOff x="6087960" y="2706480"/>
                <a:chExt cx="1220760" cy="361440"/>
              </a:xfrm>
            </p:grpSpPr>
            <p:sp>
              <p:nvSpPr>
                <p:cNvPr id="582" name="Rectangle 39"/>
                <p:cNvSpPr/>
                <p:nvPr/>
              </p:nvSpPr>
              <p:spPr>
                <a:xfrm>
                  <a:off x="6176880" y="270648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14.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Rectangle 40"/>
                <p:cNvSpPr/>
                <p:nvPr/>
              </p:nvSpPr>
              <p:spPr>
                <a:xfrm>
                  <a:off x="6087960" y="270648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Group 41"/>
              <p:cNvGrpSpPr/>
              <p:nvPr/>
            </p:nvGrpSpPr>
            <p:grpSpPr>
              <a:xfrm>
                <a:off x="7309080" y="2706480"/>
                <a:ext cx="1220760" cy="361440"/>
                <a:chOff x="7309080" y="2706480"/>
                <a:chExt cx="1220760" cy="361440"/>
              </a:xfrm>
            </p:grpSpPr>
            <p:sp>
              <p:nvSpPr>
                <p:cNvPr id="585" name="Rectangle 42"/>
                <p:cNvSpPr/>
                <p:nvPr/>
              </p:nvSpPr>
              <p:spPr>
                <a:xfrm>
                  <a:off x="7398000" y="270648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4.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Rectangle 43"/>
                <p:cNvSpPr/>
                <p:nvPr/>
              </p:nvSpPr>
              <p:spPr>
                <a:xfrm>
                  <a:off x="7309080" y="270648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Group 44"/>
              <p:cNvGrpSpPr/>
              <p:nvPr/>
            </p:nvGrpSpPr>
            <p:grpSpPr>
              <a:xfrm>
                <a:off x="308880" y="3067920"/>
                <a:ext cx="1965960" cy="361440"/>
                <a:chOff x="308880" y="3067920"/>
                <a:chExt cx="1965960" cy="361440"/>
              </a:xfrm>
            </p:grpSpPr>
            <p:sp>
              <p:nvSpPr>
                <p:cNvPr id="588" name="Rectangle 45"/>
                <p:cNvSpPr/>
                <p:nvPr/>
              </p:nvSpPr>
              <p:spPr>
                <a:xfrm>
                  <a:off x="397800" y="3067920"/>
                  <a:ext cx="17881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just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Bolivia (1990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Rectangle 46"/>
                <p:cNvSpPr/>
                <p:nvPr/>
              </p:nvSpPr>
              <p:spPr>
                <a:xfrm>
                  <a:off x="308880" y="3067920"/>
                  <a:ext cx="19659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Group 47"/>
              <p:cNvGrpSpPr/>
              <p:nvPr/>
            </p:nvGrpSpPr>
            <p:grpSpPr>
              <a:xfrm>
                <a:off x="2275200" y="3067920"/>
                <a:ext cx="1369800" cy="361440"/>
                <a:chOff x="2275200" y="3067920"/>
                <a:chExt cx="1369800" cy="361440"/>
              </a:xfrm>
            </p:grpSpPr>
            <p:sp>
              <p:nvSpPr>
                <p:cNvPr id="591" name="Rectangle 48"/>
                <p:cNvSpPr/>
                <p:nvPr/>
              </p:nvSpPr>
              <p:spPr>
                <a:xfrm>
                  <a:off x="2364120" y="3067920"/>
                  <a:ext cx="119196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31.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Rectangle 49"/>
                <p:cNvSpPr/>
                <p:nvPr/>
              </p:nvSpPr>
              <p:spPr>
                <a:xfrm>
                  <a:off x="2275200" y="3067920"/>
                  <a:ext cx="136980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Group 50"/>
              <p:cNvGrpSpPr/>
              <p:nvPr/>
            </p:nvGrpSpPr>
            <p:grpSpPr>
              <a:xfrm>
                <a:off x="3645360" y="3067920"/>
                <a:ext cx="1220760" cy="361440"/>
                <a:chOff x="3645360" y="3067920"/>
                <a:chExt cx="1220760" cy="361440"/>
              </a:xfrm>
            </p:grpSpPr>
            <p:sp>
              <p:nvSpPr>
                <p:cNvPr id="594" name="Rectangle 51"/>
                <p:cNvSpPr/>
                <p:nvPr/>
              </p:nvSpPr>
              <p:spPr>
                <a:xfrm>
                  <a:off x="3734640" y="306792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26.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Rectangle 52"/>
                <p:cNvSpPr/>
                <p:nvPr/>
              </p:nvSpPr>
              <p:spPr>
                <a:xfrm>
                  <a:off x="3645360" y="306792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Group 53"/>
              <p:cNvGrpSpPr/>
              <p:nvPr/>
            </p:nvGrpSpPr>
            <p:grpSpPr>
              <a:xfrm>
                <a:off x="4866840" y="3067920"/>
                <a:ext cx="1220760" cy="361440"/>
                <a:chOff x="4866840" y="3067920"/>
                <a:chExt cx="1220760" cy="361440"/>
              </a:xfrm>
            </p:grpSpPr>
            <p:sp>
              <p:nvSpPr>
                <p:cNvPr id="597" name="Rectangle 54"/>
                <p:cNvSpPr/>
                <p:nvPr/>
              </p:nvSpPr>
              <p:spPr>
                <a:xfrm>
                  <a:off x="4955760" y="306792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19.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Rectangle 55"/>
                <p:cNvSpPr/>
                <p:nvPr/>
              </p:nvSpPr>
              <p:spPr>
                <a:xfrm>
                  <a:off x="4866840" y="306792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Group 56"/>
              <p:cNvGrpSpPr/>
              <p:nvPr/>
            </p:nvGrpSpPr>
            <p:grpSpPr>
              <a:xfrm>
                <a:off x="6087960" y="3067920"/>
                <a:ext cx="1220760" cy="361440"/>
                <a:chOff x="6087960" y="3067920"/>
                <a:chExt cx="1220760" cy="361440"/>
              </a:xfrm>
            </p:grpSpPr>
            <p:sp>
              <p:nvSpPr>
                <p:cNvPr id="600" name="Rectangle 57"/>
                <p:cNvSpPr/>
                <p:nvPr/>
              </p:nvSpPr>
              <p:spPr>
                <a:xfrm>
                  <a:off x="6176880" y="306792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14.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Rectangle 58"/>
                <p:cNvSpPr/>
                <p:nvPr/>
              </p:nvSpPr>
              <p:spPr>
                <a:xfrm>
                  <a:off x="6087960" y="306792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Group 59"/>
              <p:cNvGrpSpPr/>
              <p:nvPr/>
            </p:nvGrpSpPr>
            <p:grpSpPr>
              <a:xfrm>
                <a:off x="7309080" y="3067920"/>
                <a:ext cx="1220760" cy="361440"/>
                <a:chOff x="7309080" y="3067920"/>
                <a:chExt cx="1220760" cy="361440"/>
              </a:xfrm>
            </p:grpSpPr>
            <p:sp>
              <p:nvSpPr>
                <p:cNvPr id="603" name="Rectangle 60"/>
                <p:cNvSpPr/>
                <p:nvPr/>
              </p:nvSpPr>
              <p:spPr>
                <a:xfrm>
                  <a:off x="7398000" y="306792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8.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Rectangle 61"/>
                <p:cNvSpPr/>
                <p:nvPr/>
              </p:nvSpPr>
              <p:spPr>
                <a:xfrm>
                  <a:off x="7309080" y="306792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Group 62"/>
              <p:cNvGrpSpPr/>
              <p:nvPr/>
            </p:nvGrpSpPr>
            <p:grpSpPr>
              <a:xfrm>
                <a:off x="308880" y="3429720"/>
                <a:ext cx="1965960" cy="361440"/>
                <a:chOff x="308880" y="3429720"/>
                <a:chExt cx="1965960" cy="361440"/>
              </a:xfrm>
            </p:grpSpPr>
            <p:sp>
              <p:nvSpPr>
                <p:cNvPr id="606" name="Rectangle 63"/>
                <p:cNvSpPr/>
                <p:nvPr/>
              </p:nvSpPr>
              <p:spPr>
                <a:xfrm>
                  <a:off x="397800" y="3429720"/>
                  <a:ext cx="17881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just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Chile (1996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Rectangle 64"/>
                <p:cNvSpPr/>
                <p:nvPr/>
              </p:nvSpPr>
              <p:spPr>
                <a:xfrm>
                  <a:off x="308880" y="3429720"/>
                  <a:ext cx="19659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Group 65"/>
              <p:cNvGrpSpPr/>
              <p:nvPr/>
            </p:nvGrpSpPr>
            <p:grpSpPr>
              <a:xfrm>
                <a:off x="2275200" y="3429720"/>
                <a:ext cx="1369800" cy="361440"/>
                <a:chOff x="2275200" y="3429720"/>
                <a:chExt cx="1369800" cy="361440"/>
              </a:xfrm>
            </p:grpSpPr>
            <p:sp>
              <p:nvSpPr>
                <p:cNvPr id="609" name="Rectangle 66"/>
                <p:cNvSpPr/>
                <p:nvPr/>
              </p:nvSpPr>
              <p:spPr>
                <a:xfrm>
                  <a:off x="2364120" y="3429720"/>
                  <a:ext cx="119196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30.9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Rectangle 67"/>
                <p:cNvSpPr/>
                <p:nvPr/>
              </p:nvSpPr>
              <p:spPr>
                <a:xfrm>
                  <a:off x="2275200" y="3429720"/>
                  <a:ext cx="136980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Group 68"/>
              <p:cNvGrpSpPr/>
              <p:nvPr/>
            </p:nvGrpSpPr>
            <p:grpSpPr>
              <a:xfrm>
                <a:off x="3645360" y="3429720"/>
                <a:ext cx="1220760" cy="361440"/>
                <a:chOff x="3645360" y="3429720"/>
                <a:chExt cx="1220760" cy="361440"/>
              </a:xfrm>
            </p:grpSpPr>
            <p:sp>
              <p:nvSpPr>
                <p:cNvPr id="612" name="Rectangle 69"/>
                <p:cNvSpPr/>
                <p:nvPr/>
              </p:nvSpPr>
              <p:spPr>
                <a:xfrm>
                  <a:off x="3734640" y="342972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23.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Rectangle 70"/>
                <p:cNvSpPr/>
                <p:nvPr/>
              </p:nvSpPr>
              <p:spPr>
                <a:xfrm>
                  <a:off x="3645360" y="342972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Group 71"/>
              <p:cNvGrpSpPr/>
              <p:nvPr/>
            </p:nvGrpSpPr>
            <p:grpSpPr>
              <a:xfrm>
                <a:off x="4866840" y="3429720"/>
                <a:ext cx="1220760" cy="361440"/>
                <a:chOff x="4866840" y="3429720"/>
                <a:chExt cx="1220760" cy="361440"/>
              </a:xfrm>
            </p:grpSpPr>
            <p:sp>
              <p:nvSpPr>
                <p:cNvPr id="615" name="Rectangle 72"/>
                <p:cNvSpPr/>
                <p:nvPr/>
              </p:nvSpPr>
              <p:spPr>
                <a:xfrm>
                  <a:off x="4955760" y="342972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22.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Rectangle 73"/>
                <p:cNvSpPr/>
                <p:nvPr/>
              </p:nvSpPr>
              <p:spPr>
                <a:xfrm>
                  <a:off x="4866840" y="342972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Group 74"/>
              <p:cNvGrpSpPr/>
              <p:nvPr/>
            </p:nvGrpSpPr>
            <p:grpSpPr>
              <a:xfrm>
                <a:off x="6087960" y="3429720"/>
                <a:ext cx="1220760" cy="361440"/>
                <a:chOff x="6087960" y="3429720"/>
                <a:chExt cx="1220760" cy="361440"/>
              </a:xfrm>
            </p:grpSpPr>
            <p:sp>
              <p:nvSpPr>
                <p:cNvPr id="618" name="Rectangle 75"/>
                <p:cNvSpPr/>
                <p:nvPr/>
              </p:nvSpPr>
              <p:spPr>
                <a:xfrm>
                  <a:off x="6176880" y="342972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16.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Rectangle 76"/>
                <p:cNvSpPr/>
                <p:nvPr/>
              </p:nvSpPr>
              <p:spPr>
                <a:xfrm>
                  <a:off x="6087960" y="342972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Group 77"/>
              <p:cNvGrpSpPr/>
              <p:nvPr/>
            </p:nvGrpSpPr>
            <p:grpSpPr>
              <a:xfrm>
                <a:off x="7309080" y="3429720"/>
                <a:ext cx="1220760" cy="361440"/>
                <a:chOff x="7309080" y="3429720"/>
                <a:chExt cx="1220760" cy="361440"/>
              </a:xfrm>
            </p:grpSpPr>
            <p:sp>
              <p:nvSpPr>
                <p:cNvPr id="621" name="Rectangle 78"/>
                <p:cNvSpPr/>
                <p:nvPr/>
              </p:nvSpPr>
              <p:spPr>
                <a:xfrm>
                  <a:off x="7398000" y="342972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7.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79"/>
                <p:cNvSpPr/>
                <p:nvPr/>
              </p:nvSpPr>
              <p:spPr>
                <a:xfrm>
                  <a:off x="7309080" y="342972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Group 80"/>
              <p:cNvGrpSpPr/>
              <p:nvPr/>
            </p:nvGrpSpPr>
            <p:grpSpPr>
              <a:xfrm>
                <a:off x="308880" y="3791160"/>
                <a:ext cx="1965960" cy="361440"/>
                <a:chOff x="308880" y="3791160"/>
                <a:chExt cx="1965960" cy="361440"/>
              </a:xfrm>
            </p:grpSpPr>
            <p:sp>
              <p:nvSpPr>
                <p:cNvPr id="624" name="Rectangle 81"/>
                <p:cNvSpPr/>
                <p:nvPr/>
              </p:nvSpPr>
              <p:spPr>
                <a:xfrm>
                  <a:off x="397800" y="3791160"/>
                  <a:ext cx="17881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just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Colombia (1997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Rectangle 82"/>
                <p:cNvSpPr/>
                <p:nvPr/>
              </p:nvSpPr>
              <p:spPr>
                <a:xfrm>
                  <a:off x="308880" y="3791160"/>
                  <a:ext cx="19659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Group 83"/>
              <p:cNvGrpSpPr/>
              <p:nvPr/>
            </p:nvGrpSpPr>
            <p:grpSpPr>
              <a:xfrm>
                <a:off x="2275200" y="3791160"/>
                <a:ext cx="1369800" cy="361440"/>
                <a:chOff x="2275200" y="3791160"/>
                <a:chExt cx="1369800" cy="361440"/>
              </a:xfrm>
            </p:grpSpPr>
            <p:sp>
              <p:nvSpPr>
                <p:cNvPr id="627" name="Rectangle 84"/>
                <p:cNvSpPr/>
                <p:nvPr/>
              </p:nvSpPr>
              <p:spPr>
                <a:xfrm>
                  <a:off x="2364120" y="3791160"/>
                  <a:ext cx="119196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17.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Rectangle 85"/>
                <p:cNvSpPr/>
                <p:nvPr/>
              </p:nvSpPr>
              <p:spPr>
                <a:xfrm>
                  <a:off x="2275200" y="3791160"/>
                  <a:ext cx="136980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Group 86"/>
              <p:cNvGrpSpPr/>
              <p:nvPr/>
            </p:nvGrpSpPr>
            <p:grpSpPr>
              <a:xfrm>
                <a:off x="3645360" y="3791160"/>
                <a:ext cx="1220760" cy="361440"/>
                <a:chOff x="3645360" y="3791160"/>
                <a:chExt cx="1220760" cy="361440"/>
              </a:xfrm>
            </p:grpSpPr>
            <p:sp>
              <p:nvSpPr>
                <p:cNvPr id="630" name="Rectangle 87"/>
                <p:cNvSpPr/>
                <p:nvPr/>
              </p:nvSpPr>
              <p:spPr>
                <a:xfrm>
                  <a:off x="3734640" y="379116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19.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Rectangle 88"/>
                <p:cNvSpPr/>
                <p:nvPr/>
              </p:nvSpPr>
              <p:spPr>
                <a:xfrm>
                  <a:off x="3645360" y="379116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Group 89"/>
              <p:cNvGrpSpPr/>
              <p:nvPr/>
            </p:nvGrpSpPr>
            <p:grpSpPr>
              <a:xfrm>
                <a:off x="4866840" y="3791160"/>
                <a:ext cx="1220760" cy="361440"/>
                <a:chOff x="4866840" y="3791160"/>
                <a:chExt cx="1220760" cy="361440"/>
              </a:xfrm>
            </p:grpSpPr>
            <p:sp>
              <p:nvSpPr>
                <p:cNvPr id="633" name="Rectangle 90"/>
                <p:cNvSpPr/>
                <p:nvPr/>
              </p:nvSpPr>
              <p:spPr>
                <a:xfrm>
                  <a:off x="4955760" y="379116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22.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Rectangle 91"/>
                <p:cNvSpPr/>
                <p:nvPr/>
              </p:nvSpPr>
              <p:spPr>
                <a:xfrm>
                  <a:off x="4866840" y="379116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Group 92"/>
              <p:cNvGrpSpPr/>
              <p:nvPr/>
            </p:nvGrpSpPr>
            <p:grpSpPr>
              <a:xfrm>
                <a:off x="6087960" y="3791160"/>
                <a:ext cx="1220760" cy="361440"/>
                <a:chOff x="6087960" y="3791160"/>
                <a:chExt cx="1220760" cy="361440"/>
              </a:xfrm>
            </p:grpSpPr>
            <p:sp>
              <p:nvSpPr>
                <p:cNvPr id="636" name="Rectangle 93"/>
                <p:cNvSpPr/>
                <p:nvPr/>
              </p:nvSpPr>
              <p:spPr>
                <a:xfrm>
                  <a:off x="6176880" y="379116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20.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Rectangle 94"/>
                <p:cNvSpPr/>
                <p:nvPr/>
              </p:nvSpPr>
              <p:spPr>
                <a:xfrm>
                  <a:off x="6087960" y="379116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Group 95"/>
              <p:cNvGrpSpPr/>
              <p:nvPr/>
            </p:nvGrpSpPr>
            <p:grpSpPr>
              <a:xfrm>
                <a:off x="7309080" y="3791160"/>
                <a:ext cx="1220760" cy="361440"/>
                <a:chOff x="7309080" y="3791160"/>
                <a:chExt cx="1220760" cy="361440"/>
              </a:xfrm>
            </p:grpSpPr>
            <p:sp>
              <p:nvSpPr>
                <p:cNvPr id="639" name="Rectangle 96"/>
                <p:cNvSpPr/>
                <p:nvPr/>
              </p:nvSpPr>
              <p:spPr>
                <a:xfrm>
                  <a:off x="7398000" y="379116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19.9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Rectangle 97"/>
                <p:cNvSpPr/>
                <p:nvPr/>
              </p:nvSpPr>
              <p:spPr>
                <a:xfrm>
                  <a:off x="7309080" y="379116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Group 98"/>
              <p:cNvGrpSpPr/>
              <p:nvPr/>
            </p:nvGrpSpPr>
            <p:grpSpPr>
              <a:xfrm>
                <a:off x="308880" y="4152960"/>
                <a:ext cx="1965960" cy="361440"/>
                <a:chOff x="308880" y="4152960"/>
                <a:chExt cx="1965960" cy="361440"/>
              </a:xfrm>
            </p:grpSpPr>
            <p:sp>
              <p:nvSpPr>
                <p:cNvPr id="642" name="Rectangle 99"/>
                <p:cNvSpPr/>
                <p:nvPr/>
              </p:nvSpPr>
              <p:spPr>
                <a:xfrm>
                  <a:off x="397800" y="4152960"/>
                  <a:ext cx="17881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just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Costa Rica (1996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Rectangle 100"/>
                <p:cNvSpPr/>
                <p:nvPr/>
              </p:nvSpPr>
              <p:spPr>
                <a:xfrm>
                  <a:off x="308880" y="4152960"/>
                  <a:ext cx="19659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Group 101"/>
              <p:cNvGrpSpPr/>
              <p:nvPr/>
            </p:nvGrpSpPr>
            <p:grpSpPr>
              <a:xfrm>
                <a:off x="2275200" y="4152960"/>
                <a:ext cx="1369800" cy="361440"/>
                <a:chOff x="2275200" y="4152960"/>
                <a:chExt cx="1369800" cy="361440"/>
              </a:xfrm>
            </p:grpSpPr>
            <p:sp>
              <p:nvSpPr>
                <p:cNvPr id="645" name="Rectangle 102"/>
                <p:cNvSpPr/>
                <p:nvPr/>
              </p:nvSpPr>
              <p:spPr>
                <a:xfrm>
                  <a:off x="2364120" y="4152960"/>
                  <a:ext cx="119196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27.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Rectangle 103"/>
                <p:cNvSpPr/>
                <p:nvPr/>
              </p:nvSpPr>
              <p:spPr>
                <a:xfrm>
                  <a:off x="2275200" y="4152960"/>
                  <a:ext cx="136980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Group 104"/>
              <p:cNvGrpSpPr/>
              <p:nvPr/>
            </p:nvGrpSpPr>
            <p:grpSpPr>
              <a:xfrm>
                <a:off x="3645360" y="4152960"/>
                <a:ext cx="1220760" cy="361440"/>
                <a:chOff x="3645360" y="4152960"/>
                <a:chExt cx="1220760" cy="361440"/>
              </a:xfrm>
            </p:grpSpPr>
            <p:sp>
              <p:nvSpPr>
                <p:cNvPr id="648" name="Rectangle 105"/>
                <p:cNvSpPr/>
                <p:nvPr/>
              </p:nvSpPr>
              <p:spPr>
                <a:xfrm>
                  <a:off x="3734640" y="415296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23.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Rectangle 106"/>
                <p:cNvSpPr/>
                <p:nvPr/>
              </p:nvSpPr>
              <p:spPr>
                <a:xfrm>
                  <a:off x="3645360" y="415296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Group 107"/>
              <p:cNvGrpSpPr/>
              <p:nvPr/>
            </p:nvGrpSpPr>
            <p:grpSpPr>
              <a:xfrm>
                <a:off x="4866840" y="4152960"/>
                <a:ext cx="1220760" cy="361440"/>
                <a:chOff x="4866840" y="4152960"/>
                <a:chExt cx="1220760" cy="361440"/>
              </a:xfrm>
            </p:grpSpPr>
            <p:sp>
              <p:nvSpPr>
                <p:cNvPr id="651" name="Rectangle 108"/>
                <p:cNvSpPr/>
                <p:nvPr/>
              </p:nvSpPr>
              <p:spPr>
                <a:xfrm>
                  <a:off x="4955760" y="415296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24.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Rectangle 109"/>
                <p:cNvSpPr/>
                <p:nvPr/>
              </p:nvSpPr>
              <p:spPr>
                <a:xfrm>
                  <a:off x="4866840" y="415296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Group 110"/>
              <p:cNvGrpSpPr/>
              <p:nvPr/>
            </p:nvGrpSpPr>
            <p:grpSpPr>
              <a:xfrm>
                <a:off x="6087960" y="4152960"/>
                <a:ext cx="1220760" cy="361440"/>
                <a:chOff x="6087960" y="4152960"/>
                <a:chExt cx="1220760" cy="361440"/>
              </a:xfrm>
            </p:grpSpPr>
            <p:sp>
              <p:nvSpPr>
                <p:cNvPr id="654" name="Rectangle 111"/>
                <p:cNvSpPr/>
                <p:nvPr/>
              </p:nvSpPr>
              <p:spPr>
                <a:xfrm>
                  <a:off x="6176880" y="415296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13.9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Rectangle 112"/>
                <p:cNvSpPr/>
                <p:nvPr/>
              </p:nvSpPr>
              <p:spPr>
                <a:xfrm>
                  <a:off x="6087960" y="415296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Group 113"/>
              <p:cNvGrpSpPr/>
              <p:nvPr/>
            </p:nvGrpSpPr>
            <p:grpSpPr>
              <a:xfrm>
                <a:off x="7309080" y="4152960"/>
                <a:ext cx="1220760" cy="361440"/>
                <a:chOff x="7309080" y="4152960"/>
                <a:chExt cx="1220760" cy="361440"/>
              </a:xfrm>
            </p:grpSpPr>
            <p:sp>
              <p:nvSpPr>
                <p:cNvPr id="657" name="Rectangle 114"/>
                <p:cNvSpPr/>
                <p:nvPr/>
              </p:nvSpPr>
              <p:spPr>
                <a:xfrm>
                  <a:off x="7398000" y="415296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10.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Rectangle 115"/>
                <p:cNvSpPr/>
                <p:nvPr/>
              </p:nvSpPr>
              <p:spPr>
                <a:xfrm>
                  <a:off x="7309080" y="415296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Group 116"/>
              <p:cNvGrpSpPr/>
              <p:nvPr/>
            </p:nvGrpSpPr>
            <p:grpSpPr>
              <a:xfrm>
                <a:off x="308880" y="4514400"/>
                <a:ext cx="1965960" cy="361440"/>
                <a:chOff x="308880" y="4514400"/>
                <a:chExt cx="1965960" cy="361440"/>
              </a:xfrm>
            </p:grpSpPr>
            <p:sp>
              <p:nvSpPr>
                <p:cNvPr id="660" name="Rectangle 117"/>
                <p:cNvSpPr/>
                <p:nvPr/>
              </p:nvSpPr>
              <p:spPr>
                <a:xfrm>
                  <a:off x="397800" y="4514400"/>
                  <a:ext cx="17881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just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Ecuador (1995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Rectangle 118"/>
                <p:cNvSpPr/>
                <p:nvPr/>
              </p:nvSpPr>
              <p:spPr>
                <a:xfrm>
                  <a:off x="308880" y="4514400"/>
                  <a:ext cx="19659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Group 119"/>
              <p:cNvGrpSpPr/>
              <p:nvPr/>
            </p:nvGrpSpPr>
            <p:grpSpPr>
              <a:xfrm>
                <a:off x="2275200" y="4514400"/>
                <a:ext cx="1369800" cy="361440"/>
                <a:chOff x="2275200" y="4514400"/>
                <a:chExt cx="1369800" cy="361440"/>
              </a:xfrm>
            </p:grpSpPr>
            <p:sp>
              <p:nvSpPr>
                <p:cNvPr id="663" name="Rectangle 120"/>
                <p:cNvSpPr/>
                <p:nvPr/>
              </p:nvSpPr>
              <p:spPr>
                <a:xfrm>
                  <a:off x="2364120" y="4514400"/>
                  <a:ext cx="119196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12.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Rectangle 121"/>
                <p:cNvSpPr/>
                <p:nvPr/>
              </p:nvSpPr>
              <p:spPr>
                <a:xfrm>
                  <a:off x="2275200" y="4514400"/>
                  <a:ext cx="136980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Group 122"/>
              <p:cNvGrpSpPr/>
              <p:nvPr/>
            </p:nvGrpSpPr>
            <p:grpSpPr>
              <a:xfrm>
                <a:off x="3645360" y="4514400"/>
                <a:ext cx="1220760" cy="361440"/>
                <a:chOff x="3645360" y="4514400"/>
                <a:chExt cx="1220760" cy="361440"/>
              </a:xfrm>
            </p:grpSpPr>
            <p:sp>
              <p:nvSpPr>
                <p:cNvPr id="666" name="Rectangle 123"/>
                <p:cNvSpPr/>
                <p:nvPr/>
              </p:nvSpPr>
              <p:spPr>
                <a:xfrm>
                  <a:off x="3734640" y="451440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15.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Rectangle 124"/>
                <p:cNvSpPr/>
                <p:nvPr/>
              </p:nvSpPr>
              <p:spPr>
                <a:xfrm>
                  <a:off x="3645360" y="451440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Group 125"/>
              <p:cNvGrpSpPr/>
              <p:nvPr/>
            </p:nvGrpSpPr>
            <p:grpSpPr>
              <a:xfrm>
                <a:off x="4866840" y="4514400"/>
                <a:ext cx="1220760" cy="361440"/>
                <a:chOff x="4866840" y="4514400"/>
                <a:chExt cx="1220760" cy="361440"/>
              </a:xfrm>
            </p:grpSpPr>
            <p:sp>
              <p:nvSpPr>
                <p:cNvPr id="669" name="Rectangle 126"/>
                <p:cNvSpPr/>
                <p:nvPr/>
              </p:nvSpPr>
              <p:spPr>
                <a:xfrm>
                  <a:off x="4955760" y="451440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19.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Rectangle 127"/>
                <p:cNvSpPr/>
                <p:nvPr/>
              </p:nvSpPr>
              <p:spPr>
                <a:xfrm>
                  <a:off x="4866840" y="451440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Group 128"/>
              <p:cNvGrpSpPr/>
              <p:nvPr/>
            </p:nvGrpSpPr>
            <p:grpSpPr>
              <a:xfrm>
                <a:off x="6087960" y="4514400"/>
                <a:ext cx="1220760" cy="361440"/>
                <a:chOff x="6087960" y="4514400"/>
                <a:chExt cx="1220760" cy="361440"/>
              </a:xfrm>
            </p:grpSpPr>
            <p:sp>
              <p:nvSpPr>
                <p:cNvPr id="672" name="Rectangle 129"/>
                <p:cNvSpPr/>
                <p:nvPr/>
              </p:nvSpPr>
              <p:spPr>
                <a:xfrm>
                  <a:off x="6176880" y="451440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22.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Rectangle 130"/>
                <p:cNvSpPr/>
                <p:nvPr/>
              </p:nvSpPr>
              <p:spPr>
                <a:xfrm>
                  <a:off x="6087960" y="451440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" name="Group 131"/>
              <p:cNvGrpSpPr/>
              <p:nvPr/>
            </p:nvGrpSpPr>
            <p:grpSpPr>
              <a:xfrm>
                <a:off x="7309080" y="4514400"/>
                <a:ext cx="1220760" cy="361440"/>
                <a:chOff x="7309080" y="4514400"/>
                <a:chExt cx="1220760" cy="361440"/>
              </a:xfrm>
            </p:grpSpPr>
            <p:sp>
              <p:nvSpPr>
                <p:cNvPr id="675" name="Rectangle 132"/>
                <p:cNvSpPr/>
                <p:nvPr/>
              </p:nvSpPr>
              <p:spPr>
                <a:xfrm>
                  <a:off x="7398000" y="451440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30.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Rectangle 133"/>
                <p:cNvSpPr/>
                <p:nvPr/>
              </p:nvSpPr>
              <p:spPr>
                <a:xfrm>
                  <a:off x="7309080" y="451440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Group 134"/>
              <p:cNvGrpSpPr/>
              <p:nvPr/>
            </p:nvGrpSpPr>
            <p:grpSpPr>
              <a:xfrm>
                <a:off x="308880" y="4876200"/>
                <a:ext cx="1965960" cy="361440"/>
                <a:chOff x="308880" y="4876200"/>
                <a:chExt cx="1965960" cy="361440"/>
              </a:xfrm>
            </p:grpSpPr>
            <p:sp>
              <p:nvSpPr>
                <p:cNvPr id="678" name="Rectangle 135"/>
                <p:cNvSpPr/>
                <p:nvPr/>
              </p:nvSpPr>
              <p:spPr>
                <a:xfrm>
                  <a:off x="397800" y="4876200"/>
                  <a:ext cx="17881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just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Guatemala (1999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Rectangle 136"/>
                <p:cNvSpPr/>
                <p:nvPr/>
              </p:nvSpPr>
              <p:spPr>
                <a:xfrm>
                  <a:off x="308880" y="4876200"/>
                  <a:ext cx="19659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Group 137"/>
              <p:cNvGrpSpPr/>
              <p:nvPr/>
            </p:nvGrpSpPr>
            <p:grpSpPr>
              <a:xfrm>
                <a:off x="2275200" y="4876200"/>
                <a:ext cx="1369800" cy="361440"/>
                <a:chOff x="2275200" y="4876200"/>
                <a:chExt cx="1369800" cy="361440"/>
              </a:xfrm>
            </p:grpSpPr>
            <p:sp>
              <p:nvSpPr>
                <p:cNvPr id="681" name="Rectangle 138"/>
                <p:cNvSpPr/>
                <p:nvPr/>
              </p:nvSpPr>
              <p:spPr>
                <a:xfrm>
                  <a:off x="2364120" y="4876200"/>
                  <a:ext cx="119196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12.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Rectangle 139"/>
                <p:cNvSpPr/>
                <p:nvPr/>
              </p:nvSpPr>
              <p:spPr>
                <a:xfrm>
                  <a:off x="2275200" y="4876200"/>
                  <a:ext cx="136980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Group 140"/>
              <p:cNvGrpSpPr/>
              <p:nvPr/>
            </p:nvGrpSpPr>
            <p:grpSpPr>
              <a:xfrm>
                <a:off x="3645360" y="4876200"/>
                <a:ext cx="1220760" cy="361440"/>
                <a:chOff x="3645360" y="4876200"/>
                <a:chExt cx="1220760" cy="361440"/>
              </a:xfrm>
            </p:grpSpPr>
            <p:sp>
              <p:nvSpPr>
                <p:cNvPr id="684" name="Rectangle 141"/>
                <p:cNvSpPr/>
                <p:nvPr/>
              </p:nvSpPr>
              <p:spPr>
                <a:xfrm>
                  <a:off x="3734640" y="487620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12.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Rectangle 142"/>
                <p:cNvSpPr/>
                <p:nvPr/>
              </p:nvSpPr>
              <p:spPr>
                <a:xfrm>
                  <a:off x="3645360" y="487620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6" name="Group 143"/>
              <p:cNvGrpSpPr/>
              <p:nvPr/>
            </p:nvGrpSpPr>
            <p:grpSpPr>
              <a:xfrm>
                <a:off x="4866840" y="4876200"/>
                <a:ext cx="1220760" cy="361440"/>
                <a:chOff x="4866840" y="4876200"/>
                <a:chExt cx="1220760" cy="361440"/>
              </a:xfrm>
            </p:grpSpPr>
            <p:sp>
              <p:nvSpPr>
                <p:cNvPr id="687" name="Rectangle 144"/>
                <p:cNvSpPr/>
                <p:nvPr/>
              </p:nvSpPr>
              <p:spPr>
                <a:xfrm>
                  <a:off x="4955760" y="487620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16.9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Rectangle 145"/>
                <p:cNvSpPr/>
                <p:nvPr/>
              </p:nvSpPr>
              <p:spPr>
                <a:xfrm>
                  <a:off x="4866840" y="487620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Group 146"/>
              <p:cNvGrpSpPr/>
              <p:nvPr/>
            </p:nvGrpSpPr>
            <p:grpSpPr>
              <a:xfrm>
                <a:off x="6087960" y="4876200"/>
                <a:ext cx="1220760" cy="361440"/>
                <a:chOff x="6087960" y="4876200"/>
                <a:chExt cx="1220760" cy="361440"/>
              </a:xfrm>
            </p:grpSpPr>
            <p:sp>
              <p:nvSpPr>
                <p:cNvPr id="690" name="Rectangle 147"/>
                <p:cNvSpPr/>
                <p:nvPr/>
              </p:nvSpPr>
              <p:spPr>
                <a:xfrm>
                  <a:off x="6176880" y="487620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26.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Rectangle 148"/>
                <p:cNvSpPr/>
                <p:nvPr/>
              </p:nvSpPr>
              <p:spPr>
                <a:xfrm>
                  <a:off x="6087960" y="487620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Group 149"/>
              <p:cNvGrpSpPr/>
              <p:nvPr/>
            </p:nvGrpSpPr>
            <p:grpSpPr>
              <a:xfrm>
                <a:off x="7309080" y="4876200"/>
                <a:ext cx="1220760" cy="361440"/>
                <a:chOff x="7309080" y="4876200"/>
                <a:chExt cx="1220760" cy="361440"/>
              </a:xfrm>
            </p:grpSpPr>
            <p:sp>
              <p:nvSpPr>
                <p:cNvPr id="693" name="Rectangle 150"/>
                <p:cNvSpPr/>
                <p:nvPr/>
              </p:nvSpPr>
              <p:spPr>
                <a:xfrm>
                  <a:off x="7398000" y="487620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31.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Rectangle 151"/>
                <p:cNvSpPr/>
                <p:nvPr/>
              </p:nvSpPr>
              <p:spPr>
                <a:xfrm>
                  <a:off x="7309080" y="487620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Group 152"/>
              <p:cNvGrpSpPr/>
              <p:nvPr/>
            </p:nvGrpSpPr>
            <p:grpSpPr>
              <a:xfrm>
                <a:off x="308880" y="5237640"/>
                <a:ext cx="1965960" cy="361440"/>
                <a:chOff x="308880" y="5237640"/>
                <a:chExt cx="1965960" cy="361440"/>
              </a:xfrm>
            </p:grpSpPr>
            <p:sp>
              <p:nvSpPr>
                <p:cNvPr id="696" name="Rectangle 153"/>
                <p:cNvSpPr/>
                <p:nvPr/>
              </p:nvSpPr>
              <p:spPr>
                <a:xfrm>
                  <a:off x="397800" y="5237640"/>
                  <a:ext cx="17881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just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Jamaica (1996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Rectangle 154"/>
                <p:cNvSpPr/>
                <p:nvPr/>
              </p:nvSpPr>
              <p:spPr>
                <a:xfrm>
                  <a:off x="308880" y="5237640"/>
                  <a:ext cx="19659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8" name="Group 155"/>
              <p:cNvGrpSpPr/>
              <p:nvPr/>
            </p:nvGrpSpPr>
            <p:grpSpPr>
              <a:xfrm>
                <a:off x="2275200" y="5237640"/>
                <a:ext cx="1369800" cy="361440"/>
                <a:chOff x="2275200" y="5237640"/>
                <a:chExt cx="1369800" cy="361440"/>
              </a:xfrm>
            </p:grpSpPr>
            <p:sp>
              <p:nvSpPr>
                <p:cNvPr id="699" name="Rectangle 156"/>
                <p:cNvSpPr/>
                <p:nvPr/>
              </p:nvSpPr>
              <p:spPr>
                <a:xfrm>
                  <a:off x="2364120" y="5237640"/>
                  <a:ext cx="119196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25.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Rectangle 157"/>
                <p:cNvSpPr/>
                <p:nvPr/>
              </p:nvSpPr>
              <p:spPr>
                <a:xfrm>
                  <a:off x="2275200" y="5237640"/>
                  <a:ext cx="136980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Group 158"/>
              <p:cNvGrpSpPr/>
              <p:nvPr/>
            </p:nvGrpSpPr>
            <p:grpSpPr>
              <a:xfrm>
                <a:off x="3645360" y="5237640"/>
                <a:ext cx="1220760" cy="361440"/>
                <a:chOff x="3645360" y="5237640"/>
                <a:chExt cx="1220760" cy="361440"/>
              </a:xfrm>
            </p:grpSpPr>
            <p:sp>
              <p:nvSpPr>
                <p:cNvPr id="702" name="Rectangle 159"/>
                <p:cNvSpPr/>
                <p:nvPr/>
              </p:nvSpPr>
              <p:spPr>
                <a:xfrm>
                  <a:off x="3734640" y="523764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23.9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Rectangle 160"/>
                <p:cNvSpPr/>
                <p:nvPr/>
              </p:nvSpPr>
              <p:spPr>
                <a:xfrm>
                  <a:off x="3645360" y="523764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" name="Group 161"/>
              <p:cNvGrpSpPr/>
              <p:nvPr/>
            </p:nvGrpSpPr>
            <p:grpSpPr>
              <a:xfrm>
                <a:off x="4866840" y="5237640"/>
                <a:ext cx="1220760" cy="361440"/>
                <a:chOff x="4866840" y="5237640"/>
                <a:chExt cx="1220760" cy="361440"/>
              </a:xfrm>
            </p:grpSpPr>
            <p:sp>
              <p:nvSpPr>
                <p:cNvPr id="705" name="Rectangle 162"/>
                <p:cNvSpPr/>
                <p:nvPr/>
              </p:nvSpPr>
              <p:spPr>
                <a:xfrm>
                  <a:off x="4955760" y="523764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19.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Rectangle 163"/>
                <p:cNvSpPr/>
                <p:nvPr/>
              </p:nvSpPr>
              <p:spPr>
                <a:xfrm>
                  <a:off x="4866840" y="523764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Group 164"/>
              <p:cNvGrpSpPr/>
              <p:nvPr/>
            </p:nvGrpSpPr>
            <p:grpSpPr>
              <a:xfrm>
                <a:off x="6087960" y="5237640"/>
                <a:ext cx="1220760" cy="361440"/>
                <a:chOff x="6087960" y="5237640"/>
                <a:chExt cx="1220760" cy="361440"/>
              </a:xfrm>
            </p:grpSpPr>
            <p:sp>
              <p:nvSpPr>
                <p:cNvPr id="708" name="Rectangle 165"/>
                <p:cNvSpPr/>
                <p:nvPr/>
              </p:nvSpPr>
              <p:spPr>
                <a:xfrm>
                  <a:off x="6176880" y="523764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16.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Rectangle 166"/>
                <p:cNvSpPr/>
                <p:nvPr/>
              </p:nvSpPr>
              <p:spPr>
                <a:xfrm>
                  <a:off x="6087960" y="523764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" name="Group 167"/>
              <p:cNvGrpSpPr/>
              <p:nvPr/>
            </p:nvGrpSpPr>
            <p:grpSpPr>
              <a:xfrm>
                <a:off x="7309080" y="5237640"/>
                <a:ext cx="1220760" cy="361440"/>
                <a:chOff x="7309080" y="5237640"/>
                <a:chExt cx="1220760" cy="361440"/>
              </a:xfrm>
            </p:grpSpPr>
            <p:sp>
              <p:nvSpPr>
                <p:cNvPr id="711" name="Rectangle 168"/>
                <p:cNvSpPr/>
                <p:nvPr/>
              </p:nvSpPr>
              <p:spPr>
                <a:xfrm>
                  <a:off x="7398000" y="523764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15.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Rectangle 169"/>
                <p:cNvSpPr/>
                <p:nvPr/>
              </p:nvSpPr>
              <p:spPr>
                <a:xfrm>
                  <a:off x="7309080" y="523764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3" name="Group 170"/>
              <p:cNvGrpSpPr/>
              <p:nvPr/>
            </p:nvGrpSpPr>
            <p:grpSpPr>
              <a:xfrm>
                <a:off x="308880" y="5599440"/>
                <a:ext cx="1965960" cy="361440"/>
                <a:chOff x="308880" y="5599440"/>
                <a:chExt cx="1965960" cy="361440"/>
              </a:xfrm>
            </p:grpSpPr>
            <p:sp>
              <p:nvSpPr>
                <p:cNvPr id="714" name="Rectangle 171"/>
                <p:cNvSpPr/>
                <p:nvPr/>
              </p:nvSpPr>
              <p:spPr>
                <a:xfrm>
                  <a:off x="397800" y="5599440"/>
                  <a:ext cx="17881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just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Perú (1996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Rectangle 172"/>
                <p:cNvSpPr/>
                <p:nvPr/>
              </p:nvSpPr>
              <p:spPr>
                <a:xfrm>
                  <a:off x="308880" y="5599440"/>
                  <a:ext cx="19659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6" name="Group 173"/>
              <p:cNvGrpSpPr/>
              <p:nvPr/>
            </p:nvGrpSpPr>
            <p:grpSpPr>
              <a:xfrm>
                <a:off x="2275200" y="5599440"/>
                <a:ext cx="1369800" cy="361440"/>
                <a:chOff x="2275200" y="5599440"/>
                <a:chExt cx="1369800" cy="361440"/>
              </a:xfrm>
            </p:grpSpPr>
            <p:sp>
              <p:nvSpPr>
                <p:cNvPr id="717" name="Rectangle 174"/>
                <p:cNvSpPr/>
                <p:nvPr/>
              </p:nvSpPr>
              <p:spPr>
                <a:xfrm>
                  <a:off x="2364120" y="5599440"/>
                  <a:ext cx="119196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2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Rectangle 175"/>
                <p:cNvSpPr/>
                <p:nvPr/>
              </p:nvSpPr>
              <p:spPr>
                <a:xfrm>
                  <a:off x="2275200" y="5599440"/>
                  <a:ext cx="136980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Group 176"/>
              <p:cNvGrpSpPr/>
              <p:nvPr/>
            </p:nvGrpSpPr>
            <p:grpSpPr>
              <a:xfrm>
                <a:off x="3645360" y="5599440"/>
                <a:ext cx="1220760" cy="361440"/>
                <a:chOff x="3645360" y="5599440"/>
                <a:chExt cx="1220760" cy="361440"/>
              </a:xfrm>
            </p:grpSpPr>
            <p:sp>
              <p:nvSpPr>
                <p:cNvPr id="720" name="Rectangle 177"/>
                <p:cNvSpPr/>
                <p:nvPr/>
              </p:nvSpPr>
              <p:spPr>
                <a:xfrm>
                  <a:off x="3734640" y="559944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20.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Rectangle 178"/>
                <p:cNvSpPr/>
                <p:nvPr/>
              </p:nvSpPr>
              <p:spPr>
                <a:xfrm>
                  <a:off x="3645360" y="559944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" name="Group 179"/>
              <p:cNvGrpSpPr/>
              <p:nvPr/>
            </p:nvGrpSpPr>
            <p:grpSpPr>
              <a:xfrm>
                <a:off x="4866840" y="5599440"/>
                <a:ext cx="1220760" cy="361440"/>
                <a:chOff x="4866840" y="5599440"/>
                <a:chExt cx="1220760" cy="361440"/>
              </a:xfrm>
            </p:grpSpPr>
            <p:sp>
              <p:nvSpPr>
                <p:cNvPr id="723" name="Rectangle 180"/>
                <p:cNvSpPr/>
                <p:nvPr/>
              </p:nvSpPr>
              <p:spPr>
                <a:xfrm>
                  <a:off x="4955760" y="559944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21.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Rectangle 181"/>
                <p:cNvSpPr/>
                <p:nvPr/>
              </p:nvSpPr>
              <p:spPr>
                <a:xfrm>
                  <a:off x="4866840" y="559944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Group 182"/>
              <p:cNvGrpSpPr/>
              <p:nvPr/>
            </p:nvGrpSpPr>
            <p:grpSpPr>
              <a:xfrm>
                <a:off x="6087960" y="5599440"/>
                <a:ext cx="1220760" cy="361440"/>
                <a:chOff x="6087960" y="5599440"/>
                <a:chExt cx="1220760" cy="361440"/>
              </a:xfrm>
            </p:grpSpPr>
            <p:sp>
              <p:nvSpPr>
                <p:cNvPr id="726" name="Rectangle 183"/>
                <p:cNvSpPr/>
                <p:nvPr/>
              </p:nvSpPr>
              <p:spPr>
                <a:xfrm>
                  <a:off x="6176880" y="559944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20.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Rectangle 184"/>
                <p:cNvSpPr/>
                <p:nvPr/>
              </p:nvSpPr>
              <p:spPr>
                <a:xfrm>
                  <a:off x="6087960" y="559944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" name="Group 185"/>
              <p:cNvGrpSpPr/>
              <p:nvPr/>
            </p:nvGrpSpPr>
            <p:grpSpPr>
              <a:xfrm>
                <a:off x="7309080" y="5599440"/>
                <a:ext cx="1220760" cy="361440"/>
                <a:chOff x="7309080" y="5599440"/>
                <a:chExt cx="1220760" cy="361440"/>
              </a:xfrm>
            </p:grpSpPr>
            <p:sp>
              <p:nvSpPr>
                <p:cNvPr id="729" name="Rectangle 186"/>
                <p:cNvSpPr/>
                <p:nvPr/>
              </p:nvSpPr>
              <p:spPr>
                <a:xfrm>
                  <a:off x="7398000" y="559944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17.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Rectangle 187"/>
                <p:cNvSpPr/>
                <p:nvPr/>
              </p:nvSpPr>
              <p:spPr>
                <a:xfrm>
                  <a:off x="7309080" y="559944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Group 188"/>
              <p:cNvGrpSpPr/>
              <p:nvPr/>
            </p:nvGrpSpPr>
            <p:grpSpPr>
              <a:xfrm>
                <a:off x="308880" y="5961240"/>
                <a:ext cx="1965960" cy="361440"/>
                <a:chOff x="308880" y="5961240"/>
                <a:chExt cx="1965960" cy="361440"/>
              </a:xfrm>
            </p:grpSpPr>
            <p:sp>
              <p:nvSpPr>
                <p:cNvPr id="732" name="Rectangle 189"/>
                <p:cNvSpPr/>
                <p:nvPr/>
              </p:nvSpPr>
              <p:spPr>
                <a:xfrm>
                  <a:off x="397800" y="5961240"/>
                  <a:ext cx="17881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just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Uruguay (1993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Rectangle 190"/>
                <p:cNvSpPr/>
                <p:nvPr/>
              </p:nvSpPr>
              <p:spPr>
                <a:xfrm>
                  <a:off x="308880" y="5961240"/>
                  <a:ext cx="19659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" name="Group 191"/>
              <p:cNvGrpSpPr/>
              <p:nvPr/>
            </p:nvGrpSpPr>
            <p:grpSpPr>
              <a:xfrm>
                <a:off x="2275200" y="5961240"/>
                <a:ext cx="1369800" cy="361440"/>
                <a:chOff x="2275200" y="5961240"/>
                <a:chExt cx="1369800" cy="361440"/>
              </a:xfrm>
            </p:grpSpPr>
            <p:sp>
              <p:nvSpPr>
                <p:cNvPr id="735" name="Rectangle 192"/>
                <p:cNvSpPr/>
                <p:nvPr/>
              </p:nvSpPr>
              <p:spPr>
                <a:xfrm>
                  <a:off x="2364120" y="5961240"/>
                  <a:ext cx="119196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34.9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Rectangle 193"/>
                <p:cNvSpPr/>
                <p:nvPr/>
              </p:nvSpPr>
              <p:spPr>
                <a:xfrm>
                  <a:off x="2275200" y="5961240"/>
                  <a:ext cx="136980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" name="Group 194"/>
              <p:cNvGrpSpPr/>
              <p:nvPr/>
            </p:nvGrpSpPr>
            <p:grpSpPr>
              <a:xfrm>
                <a:off x="3645360" y="5961240"/>
                <a:ext cx="1220760" cy="361440"/>
                <a:chOff x="3645360" y="5961240"/>
                <a:chExt cx="1220760" cy="361440"/>
              </a:xfrm>
            </p:grpSpPr>
            <p:sp>
              <p:nvSpPr>
                <p:cNvPr id="738" name="Rectangle 195"/>
                <p:cNvSpPr/>
                <p:nvPr/>
              </p:nvSpPr>
              <p:spPr>
                <a:xfrm>
                  <a:off x="3734640" y="596124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19.9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Rectangle 196"/>
                <p:cNvSpPr/>
                <p:nvPr/>
              </p:nvSpPr>
              <p:spPr>
                <a:xfrm>
                  <a:off x="3645360" y="596124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0" name="Group 197"/>
              <p:cNvGrpSpPr/>
              <p:nvPr/>
            </p:nvGrpSpPr>
            <p:grpSpPr>
              <a:xfrm>
                <a:off x="4866840" y="5961240"/>
                <a:ext cx="1220760" cy="361440"/>
                <a:chOff x="4866840" y="5961240"/>
                <a:chExt cx="1220760" cy="361440"/>
              </a:xfrm>
            </p:grpSpPr>
            <p:sp>
              <p:nvSpPr>
                <p:cNvPr id="741" name="Rectangle 198"/>
                <p:cNvSpPr/>
                <p:nvPr/>
              </p:nvSpPr>
              <p:spPr>
                <a:xfrm>
                  <a:off x="4955760" y="596124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22.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Rectangle 199"/>
                <p:cNvSpPr/>
                <p:nvPr/>
              </p:nvSpPr>
              <p:spPr>
                <a:xfrm>
                  <a:off x="4866840" y="596124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3" name="Group 200"/>
              <p:cNvGrpSpPr/>
              <p:nvPr/>
            </p:nvGrpSpPr>
            <p:grpSpPr>
              <a:xfrm>
                <a:off x="6087960" y="5961240"/>
                <a:ext cx="1220760" cy="361440"/>
                <a:chOff x="6087960" y="5961240"/>
                <a:chExt cx="1220760" cy="361440"/>
              </a:xfrm>
            </p:grpSpPr>
            <p:sp>
              <p:nvSpPr>
                <p:cNvPr id="744" name="Rectangle 201"/>
                <p:cNvSpPr/>
                <p:nvPr/>
              </p:nvSpPr>
              <p:spPr>
                <a:xfrm>
                  <a:off x="6176880" y="596124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13.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Rectangle 202"/>
                <p:cNvSpPr/>
                <p:nvPr/>
              </p:nvSpPr>
              <p:spPr>
                <a:xfrm>
                  <a:off x="6087960" y="596124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6" name="Group 203"/>
              <p:cNvGrpSpPr/>
              <p:nvPr/>
            </p:nvGrpSpPr>
            <p:grpSpPr>
              <a:xfrm>
                <a:off x="7309080" y="5961240"/>
                <a:ext cx="1220760" cy="361440"/>
                <a:chOff x="7309080" y="5961240"/>
                <a:chExt cx="1220760" cy="361440"/>
              </a:xfrm>
            </p:grpSpPr>
            <p:sp>
              <p:nvSpPr>
                <p:cNvPr id="747" name="Rectangle 204"/>
                <p:cNvSpPr/>
                <p:nvPr/>
              </p:nvSpPr>
              <p:spPr>
                <a:xfrm>
                  <a:off x="7398000" y="5961240"/>
                  <a:ext cx="1042920" cy="3614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es-UY" sz="1400" spc="-1" strike="noStrike">
                      <a:solidFill>
                        <a:srgbClr val="000000"/>
                      </a:solidFill>
                      <a:latin typeface="Times New Roman"/>
                    </a:rPr>
                    <a:t>10.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Rectangle 205"/>
                <p:cNvSpPr/>
                <p:nvPr/>
              </p:nvSpPr>
              <p:spPr>
                <a:xfrm>
                  <a:off x="7309080" y="5961240"/>
                  <a:ext cx="1220760" cy="3614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9" name="Rectangle 206"/>
            <p:cNvSpPr/>
            <p:nvPr/>
          </p:nvSpPr>
          <p:spPr>
            <a:xfrm>
              <a:off x="304920" y="1981080"/>
              <a:ext cx="8229240" cy="4343040"/>
            </a:xfrm>
            <a:prstGeom prst="rect">
              <a:avLst/>
            </a:prstGeom>
            <a:noFill/>
            <a:ln w="635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Las reformas y la privatizacion</a:t>
            </a:r>
            <a:endParaRPr b="0" lang="es-CO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3"/>
          <p:cNvSpPr/>
          <p:nvPr/>
        </p:nvSpPr>
        <p:spPr>
          <a:xfrm>
            <a:off x="990720" y="1752480"/>
            <a:ext cx="66290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Porcentage de los gastos públicos em el gasto total de salud en 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países que realizaron  reformas estructurales de salud: 1995-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4"/>
          <p:cNvGrpSpPr/>
          <p:nvPr/>
        </p:nvGrpSpPr>
        <p:grpSpPr>
          <a:xfrm>
            <a:off x="1143000" y="2819520"/>
            <a:ext cx="6683040" cy="2898360"/>
            <a:chOff x="1143000" y="2819520"/>
            <a:chExt cx="6683040" cy="2898360"/>
          </a:xfrm>
        </p:grpSpPr>
        <p:grpSp>
          <p:nvGrpSpPr>
            <p:cNvPr id="753" name="Group 5"/>
            <p:cNvGrpSpPr/>
            <p:nvPr/>
          </p:nvGrpSpPr>
          <p:grpSpPr>
            <a:xfrm>
              <a:off x="1146240" y="2822040"/>
              <a:ext cx="6676560" cy="2893320"/>
              <a:chOff x="1146240" y="2822040"/>
              <a:chExt cx="6676560" cy="2893320"/>
            </a:xfrm>
          </p:grpSpPr>
          <p:grpSp>
            <p:nvGrpSpPr>
              <p:cNvPr id="754" name="Group 6"/>
              <p:cNvGrpSpPr/>
              <p:nvPr/>
            </p:nvGrpSpPr>
            <p:grpSpPr>
              <a:xfrm>
                <a:off x="1146240" y="2822040"/>
                <a:ext cx="1628280" cy="482040"/>
                <a:chOff x="1146240" y="2822040"/>
                <a:chExt cx="1628280" cy="482040"/>
              </a:xfrm>
            </p:grpSpPr>
            <p:sp>
              <p:nvSpPr>
                <p:cNvPr id="755" name="Rectangle 7"/>
                <p:cNvSpPr/>
                <p:nvPr/>
              </p:nvSpPr>
              <p:spPr>
                <a:xfrm>
                  <a:off x="1214280" y="2822040"/>
                  <a:ext cx="149184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Paíse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Rectangle 8"/>
                <p:cNvSpPr/>
                <p:nvPr/>
              </p:nvSpPr>
              <p:spPr>
                <a:xfrm>
                  <a:off x="1146240" y="2822040"/>
                  <a:ext cx="162828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Group 9"/>
              <p:cNvGrpSpPr/>
              <p:nvPr/>
            </p:nvGrpSpPr>
            <p:grpSpPr>
              <a:xfrm>
                <a:off x="2774880" y="2822040"/>
                <a:ext cx="764640" cy="482040"/>
                <a:chOff x="2774880" y="2822040"/>
                <a:chExt cx="764640" cy="482040"/>
              </a:xfrm>
            </p:grpSpPr>
            <p:sp>
              <p:nvSpPr>
                <p:cNvPr id="758" name="Rectangle 10"/>
                <p:cNvSpPr/>
                <p:nvPr/>
              </p:nvSpPr>
              <p:spPr>
                <a:xfrm>
                  <a:off x="2843280" y="2822040"/>
                  <a:ext cx="62820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199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Rectangle 11"/>
                <p:cNvSpPr/>
                <p:nvPr/>
              </p:nvSpPr>
              <p:spPr>
                <a:xfrm>
                  <a:off x="2774880" y="2822040"/>
                  <a:ext cx="76464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Group 12"/>
              <p:cNvGrpSpPr/>
              <p:nvPr/>
            </p:nvGrpSpPr>
            <p:grpSpPr>
              <a:xfrm>
                <a:off x="3540240" y="2822040"/>
                <a:ext cx="821880" cy="482040"/>
                <a:chOff x="3540240" y="2822040"/>
                <a:chExt cx="821880" cy="482040"/>
              </a:xfrm>
            </p:grpSpPr>
            <p:sp>
              <p:nvSpPr>
                <p:cNvPr id="761" name="Rectangle 13"/>
                <p:cNvSpPr/>
                <p:nvPr/>
              </p:nvSpPr>
              <p:spPr>
                <a:xfrm>
                  <a:off x="3608280" y="2822040"/>
                  <a:ext cx="68544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199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Rectangle 14"/>
                <p:cNvSpPr/>
                <p:nvPr/>
              </p:nvSpPr>
              <p:spPr>
                <a:xfrm>
                  <a:off x="3540240" y="2822040"/>
                  <a:ext cx="82188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Group 15"/>
              <p:cNvGrpSpPr/>
              <p:nvPr/>
            </p:nvGrpSpPr>
            <p:grpSpPr>
              <a:xfrm>
                <a:off x="4362480" y="2822040"/>
                <a:ext cx="936360" cy="482040"/>
                <a:chOff x="4362480" y="2822040"/>
                <a:chExt cx="936360" cy="482040"/>
              </a:xfrm>
            </p:grpSpPr>
            <p:sp>
              <p:nvSpPr>
                <p:cNvPr id="764" name="Rectangle 16"/>
                <p:cNvSpPr/>
                <p:nvPr/>
              </p:nvSpPr>
              <p:spPr>
                <a:xfrm>
                  <a:off x="4430880" y="2822040"/>
                  <a:ext cx="79992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199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Rectangle 17"/>
                <p:cNvSpPr/>
                <p:nvPr/>
              </p:nvSpPr>
              <p:spPr>
                <a:xfrm>
                  <a:off x="4362480" y="2822040"/>
                  <a:ext cx="93636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Group 18"/>
              <p:cNvGrpSpPr/>
              <p:nvPr/>
            </p:nvGrpSpPr>
            <p:grpSpPr>
              <a:xfrm>
                <a:off x="5299200" y="2822040"/>
                <a:ext cx="879120" cy="482040"/>
                <a:chOff x="5299200" y="2822040"/>
                <a:chExt cx="879120" cy="482040"/>
              </a:xfrm>
            </p:grpSpPr>
            <p:sp>
              <p:nvSpPr>
                <p:cNvPr id="767" name="Rectangle 19"/>
                <p:cNvSpPr/>
                <p:nvPr/>
              </p:nvSpPr>
              <p:spPr>
                <a:xfrm>
                  <a:off x="5367240" y="2822040"/>
                  <a:ext cx="74268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199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Rectangle 20"/>
                <p:cNvSpPr/>
                <p:nvPr/>
              </p:nvSpPr>
              <p:spPr>
                <a:xfrm>
                  <a:off x="5299200" y="2822040"/>
                  <a:ext cx="87912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Group 21"/>
              <p:cNvGrpSpPr/>
              <p:nvPr/>
            </p:nvGrpSpPr>
            <p:grpSpPr>
              <a:xfrm>
                <a:off x="6178680" y="2822040"/>
                <a:ext cx="821880" cy="482040"/>
                <a:chOff x="6178680" y="2822040"/>
                <a:chExt cx="821880" cy="482040"/>
              </a:xfrm>
            </p:grpSpPr>
            <p:sp>
              <p:nvSpPr>
                <p:cNvPr id="770" name="Rectangle 22"/>
                <p:cNvSpPr/>
                <p:nvPr/>
              </p:nvSpPr>
              <p:spPr>
                <a:xfrm>
                  <a:off x="6246720" y="2822040"/>
                  <a:ext cx="68544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199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23"/>
                <p:cNvSpPr/>
                <p:nvPr/>
              </p:nvSpPr>
              <p:spPr>
                <a:xfrm>
                  <a:off x="6178680" y="2822040"/>
                  <a:ext cx="82188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Group 24"/>
              <p:cNvGrpSpPr/>
              <p:nvPr/>
            </p:nvGrpSpPr>
            <p:grpSpPr>
              <a:xfrm>
                <a:off x="7000920" y="2822040"/>
                <a:ext cx="821880" cy="482040"/>
                <a:chOff x="7000920" y="2822040"/>
                <a:chExt cx="821880" cy="482040"/>
              </a:xfrm>
            </p:grpSpPr>
            <p:sp>
              <p:nvSpPr>
                <p:cNvPr id="773" name="Rectangle 25"/>
                <p:cNvSpPr/>
                <p:nvPr/>
              </p:nvSpPr>
              <p:spPr>
                <a:xfrm>
                  <a:off x="7068960" y="2822040"/>
                  <a:ext cx="68544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2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26"/>
                <p:cNvSpPr/>
                <p:nvPr/>
              </p:nvSpPr>
              <p:spPr>
                <a:xfrm>
                  <a:off x="7000920" y="2822040"/>
                  <a:ext cx="82188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Group 27"/>
              <p:cNvGrpSpPr/>
              <p:nvPr/>
            </p:nvGrpSpPr>
            <p:grpSpPr>
              <a:xfrm>
                <a:off x="1146240" y="3304080"/>
                <a:ext cx="1628280" cy="482040"/>
                <a:chOff x="1146240" y="3304080"/>
                <a:chExt cx="1628280" cy="482040"/>
              </a:xfrm>
            </p:grpSpPr>
            <p:sp>
              <p:nvSpPr>
                <p:cNvPr id="776" name="Rectangle 28"/>
                <p:cNvSpPr/>
                <p:nvPr/>
              </p:nvSpPr>
              <p:spPr>
                <a:xfrm>
                  <a:off x="1214280" y="3304080"/>
                  <a:ext cx="149184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Argentin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Rectangle 29"/>
                <p:cNvSpPr/>
                <p:nvPr/>
              </p:nvSpPr>
              <p:spPr>
                <a:xfrm>
                  <a:off x="1146240" y="3304080"/>
                  <a:ext cx="162828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Group 30"/>
              <p:cNvGrpSpPr/>
              <p:nvPr/>
            </p:nvGrpSpPr>
            <p:grpSpPr>
              <a:xfrm>
                <a:off x="2774880" y="3304080"/>
                <a:ext cx="764640" cy="482040"/>
                <a:chOff x="2774880" y="3304080"/>
                <a:chExt cx="764640" cy="482040"/>
              </a:xfrm>
            </p:grpSpPr>
            <p:sp>
              <p:nvSpPr>
                <p:cNvPr id="779" name="Rectangle 31"/>
                <p:cNvSpPr/>
                <p:nvPr/>
              </p:nvSpPr>
              <p:spPr>
                <a:xfrm>
                  <a:off x="2843280" y="3304080"/>
                  <a:ext cx="62820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6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Rectangle 32"/>
                <p:cNvSpPr/>
                <p:nvPr/>
              </p:nvSpPr>
              <p:spPr>
                <a:xfrm>
                  <a:off x="2774880" y="3304080"/>
                  <a:ext cx="76464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Group 33"/>
              <p:cNvGrpSpPr/>
              <p:nvPr/>
            </p:nvGrpSpPr>
            <p:grpSpPr>
              <a:xfrm>
                <a:off x="3540240" y="3304080"/>
                <a:ext cx="821880" cy="482040"/>
                <a:chOff x="3540240" y="3304080"/>
                <a:chExt cx="821880" cy="482040"/>
              </a:xfrm>
            </p:grpSpPr>
            <p:sp>
              <p:nvSpPr>
                <p:cNvPr id="782" name="Rectangle 34"/>
                <p:cNvSpPr/>
                <p:nvPr/>
              </p:nvSpPr>
              <p:spPr>
                <a:xfrm>
                  <a:off x="3608280" y="3304080"/>
                  <a:ext cx="68544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5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Rectangle 35"/>
                <p:cNvSpPr/>
                <p:nvPr/>
              </p:nvSpPr>
              <p:spPr>
                <a:xfrm>
                  <a:off x="3540240" y="3304080"/>
                  <a:ext cx="82188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Group 36"/>
              <p:cNvGrpSpPr/>
              <p:nvPr/>
            </p:nvGrpSpPr>
            <p:grpSpPr>
              <a:xfrm>
                <a:off x="4362480" y="3304080"/>
                <a:ext cx="936360" cy="482040"/>
                <a:chOff x="4362480" y="3304080"/>
                <a:chExt cx="936360" cy="482040"/>
              </a:xfrm>
            </p:grpSpPr>
            <p:sp>
              <p:nvSpPr>
                <p:cNvPr id="785" name="Rectangle 37"/>
                <p:cNvSpPr/>
                <p:nvPr/>
              </p:nvSpPr>
              <p:spPr>
                <a:xfrm>
                  <a:off x="4430880" y="3304080"/>
                  <a:ext cx="79992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5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Rectangle 38"/>
                <p:cNvSpPr/>
                <p:nvPr/>
              </p:nvSpPr>
              <p:spPr>
                <a:xfrm>
                  <a:off x="4362480" y="3304080"/>
                  <a:ext cx="93636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Group 39"/>
              <p:cNvGrpSpPr/>
              <p:nvPr/>
            </p:nvGrpSpPr>
            <p:grpSpPr>
              <a:xfrm>
                <a:off x="5299200" y="3304080"/>
                <a:ext cx="879120" cy="482040"/>
                <a:chOff x="5299200" y="3304080"/>
                <a:chExt cx="879120" cy="482040"/>
              </a:xfrm>
            </p:grpSpPr>
            <p:sp>
              <p:nvSpPr>
                <p:cNvPr id="788" name="Rectangle 40"/>
                <p:cNvSpPr/>
                <p:nvPr/>
              </p:nvSpPr>
              <p:spPr>
                <a:xfrm>
                  <a:off x="5367240" y="3304080"/>
                  <a:ext cx="74268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5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Rectangle 41"/>
                <p:cNvSpPr/>
                <p:nvPr/>
              </p:nvSpPr>
              <p:spPr>
                <a:xfrm>
                  <a:off x="5299200" y="3304080"/>
                  <a:ext cx="87912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Group 42"/>
              <p:cNvGrpSpPr/>
              <p:nvPr/>
            </p:nvGrpSpPr>
            <p:grpSpPr>
              <a:xfrm>
                <a:off x="6178680" y="3304080"/>
                <a:ext cx="821880" cy="482040"/>
                <a:chOff x="6178680" y="3304080"/>
                <a:chExt cx="821880" cy="482040"/>
              </a:xfrm>
            </p:grpSpPr>
            <p:sp>
              <p:nvSpPr>
                <p:cNvPr id="791" name="Rectangle 43"/>
                <p:cNvSpPr/>
                <p:nvPr/>
              </p:nvSpPr>
              <p:spPr>
                <a:xfrm>
                  <a:off x="6246720" y="3304080"/>
                  <a:ext cx="68544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5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Rectangle 44"/>
                <p:cNvSpPr/>
                <p:nvPr/>
              </p:nvSpPr>
              <p:spPr>
                <a:xfrm>
                  <a:off x="6178680" y="3304080"/>
                  <a:ext cx="82188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Group 45"/>
              <p:cNvGrpSpPr/>
              <p:nvPr/>
            </p:nvGrpSpPr>
            <p:grpSpPr>
              <a:xfrm>
                <a:off x="7000920" y="3304080"/>
                <a:ext cx="821880" cy="482040"/>
                <a:chOff x="7000920" y="3304080"/>
                <a:chExt cx="821880" cy="482040"/>
              </a:xfrm>
            </p:grpSpPr>
            <p:sp>
              <p:nvSpPr>
                <p:cNvPr id="794" name="Rectangle 46"/>
                <p:cNvSpPr/>
                <p:nvPr/>
              </p:nvSpPr>
              <p:spPr>
                <a:xfrm>
                  <a:off x="7068960" y="3304080"/>
                  <a:ext cx="68544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5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Rectangle 47"/>
                <p:cNvSpPr/>
                <p:nvPr/>
              </p:nvSpPr>
              <p:spPr>
                <a:xfrm>
                  <a:off x="7000920" y="3304080"/>
                  <a:ext cx="82188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Group 48"/>
              <p:cNvGrpSpPr/>
              <p:nvPr/>
            </p:nvGrpSpPr>
            <p:grpSpPr>
              <a:xfrm>
                <a:off x="1146240" y="3786480"/>
                <a:ext cx="1628280" cy="482040"/>
                <a:chOff x="1146240" y="3786480"/>
                <a:chExt cx="1628280" cy="482040"/>
              </a:xfrm>
            </p:grpSpPr>
            <p:sp>
              <p:nvSpPr>
                <p:cNvPr id="797" name="Rectangle 49"/>
                <p:cNvSpPr/>
                <p:nvPr/>
              </p:nvSpPr>
              <p:spPr>
                <a:xfrm>
                  <a:off x="1214280" y="3786480"/>
                  <a:ext cx="149184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Brasi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Rectangle 50"/>
                <p:cNvSpPr/>
                <p:nvPr/>
              </p:nvSpPr>
              <p:spPr>
                <a:xfrm>
                  <a:off x="1146240" y="3786480"/>
                  <a:ext cx="162828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Group 51"/>
              <p:cNvGrpSpPr/>
              <p:nvPr/>
            </p:nvGrpSpPr>
            <p:grpSpPr>
              <a:xfrm>
                <a:off x="2774880" y="3786480"/>
                <a:ext cx="764640" cy="482040"/>
                <a:chOff x="2774880" y="3786480"/>
                <a:chExt cx="764640" cy="482040"/>
              </a:xfrm>
            </p:grpSpPr>
            <p:sp>
              <p:nvSpPr>
                <p:cNvPr id="800" name="Rectangle 52"/>
                <p:cNvSpPr/>
                <p:nvPr/>
              </p:nvSpPr>
              <p:spPr>
                <a:xfrm>
                  <a:off x="2843280" y="3786480"/>
                  <a:ext cx="62820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4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Rectangle 53"/>
                <p:cNvSpPr/>
                <p:nvPr/>
              </p:nvSpPr>
              <p:spPr>
                <a:xfrm>
                  <a:off x="2774880" y="3786480"/>
                  <a:ext cx="76464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Group 54"/>
              <p:cNvGrpSpPr/>
              <p:nvPr/>
            </p:nvGrpSpPr>
            <p:grpSpPr>
              <a:xfrm>
                <a:off x="3540240" y="3786480"/>
                <a:ext cx="821880" cy="482040"/>
                <a:chOff x="3540240" y="3786480"/>
                <a:chExt cx="821880" cy="482040"/>
              </a:xfrm>
            </p:grpSpPr>
            <p:sp>
              <p:nvSpPr>
                <p:cNvPr id="803" name="Rectangle 55"/>
                <p:cNvSpPr/>
                <p:nvPr/>
              </p:nvSpPr>
              <p:spPr>
                <a:xfrm>
                  <a:off x="3608280" y="3786480"/>
                  <a:ext cx="68544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Rectangle 56"/>
                <p:cNvSpPr/>
                <p:nvPr/>
              </p:nvSpPr>
              <p:spPr>
                <a:xfrm>
                  <a:off x="3540240" y="3786480"/>
                  <a:ext cx="82188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Group 57"/>
              <p:cNvGrpSpPr/>
              <p:nvPr/>
            </p:nvGrpSpPr>
            <p:grpSpPr>
              <a:xfrm>
                <a:off x="4362480" y="3786480"/>
                <a:ext cx="936360" cy="482040"/>
                <a:chOff x="4362480" y="3786480"/>
                <a:chExt cx="936360" cy="482040"/>
              </a:xfrm>
            </p:grpSpPr>
            <p:sp>
              <p:nvSpPr>
                <p:cNvPr id="806" name="Rectangle 58"/>
                <p:cNvSpPr/>
                <p:nvPr/>
              </p:nvSpPr>
              <p:spPr>
                <a:xfrm>
                  <a:off x="4430880" y="3786480"/>
                  <a:ext cx="79992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4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Rectangle 59"/>
                <p:cNvSpPr/>
                <p:nvPr/>
              </p:nvSpPr>
              <p:spPr>
                <a:xfrm>
                  <a:off x="4362480" y="3786480"/>
                  <a:ext cx="93636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Group 60"/>
              <p:cNvGrpSpPr/>
              <p:nvPr/>
            </p:nvGrpSpPr>
            <p:grpSpPr>
              <a:xfrm>
                <a:off x="5299200" y="3786480"/>
                <a:ext cx="879120" cy="482040"/>
                <a:chOff x="5299200" y="3786480"/>
                <a:chExt cx="879120" cy="482040"/>
              </a:xfrm>
            </p:grpSpPr>
            <p:sp>
              <p:nvSpPr>
                <p:cNvPr id="809" name="Rectangle 61"/>
                <p:cNvSpPr/>
                <p:nvPr/>
              </p:nvSpPr>
              <p:spPr>
                <a:xfrm>
                  <a:off x="5367240" y="3786480"/>
                  <a:ext cx="74268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4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Rectangle 62"/>
                <p:cNvSpPr/>
                <p:nvPr/>
              </p:nvSpPr>
              <p:spPr>
                <a:xfrm>
                  <a:off x="5299200" y="3786480"/>
                  <a:ext cx="87912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Group 63"/>
              <p:cNvGrpSpPr/>
              <p:nvPr/>
            </p:nvGrpSpPr>
            <p:grpSpPr>
              <a:xfrm>
                <a:off x="6178680" y="3786480"/>
                <a:ext cx="821880" cy="482040"/>
                <a:chOff x="6178680" y="3786480"/>
                <a:chExt cx="821880" cy="482040"/>
              </a:xfrm>
            </p:grpSpPr>
            <p:sp>
              <p:nvSpPr>
                <p:cNvPr id="812" name="Rectangle 64"/>
                <p:cNvSpPr/>
                <p:nvPr/>
              </p:nvSpPr>
              <p:spPr>
                <a:xfrm>
                  <a:off x="6246720" y="3786480"/>
                  <a:ext cx="68544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4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Rectangle 65"/>
                <p:cNvSpPr/>
                <p:nvPr/>
              </p:nvSpPr>
              <p:spPr>
                <a:xfrm>
                  <a:off x="6178680" y="3786480"/>
                  <a:ext cx="82188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Group 66"/>
              <p:cNvGrpSpPr/>
              <p:nvPr/>
            </p:nvGrpSpPr>
            <p:grpSpPr>
              <a:xfrm>
                <a:off x="7000920" y="3786480"/>
                <a:ext cx="821880" cy="482040"/>
                <a:chOff x="7000920" y="3786480"/>
                <a:chExt cx="821880" cy="482040"/>
              </a:xfrm>
            </p:grpSpPr>
            <p:sp>
              <p:nvSpPr>
                <p:cNvPr id="815" name="Rectangle 67"/>
                <p:cNvSpPr/>
                <p:nvPr/>
              </p:nvSpPr>
              <p:spPr>
                <a:xfrm>
                  <a:off x="7068960" y="3786480"/>
                  <a:ext cx="68544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4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Rectangle 68"/>
                <p:cNvSpPr/>
                <p:nvPr/>
              </p:nvSpPr>
              <p:spPr>
                <a:xfrm>
                  <a:off x="7000920" y="3786480"/>
                  <a:ext cx="82188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Group 69"/>
              <p:cNvGrpSpPr/>
              <p:nvPr/>
            </p:nvGrpSpPr>
            <p:grpSpPr>
              <a:xfrm>
                <a:off x="1146240" y="4268880"/>
                <a:ext cx="1628280" cy="482040"/>
                <a:chOff x="1146240" y="4268880"/>
                <a:chExt cx="1628280" cy="482040"/>
              </a:xfrm>
            </p:grpSpPr>
            <p:sp>
              <p:nvSpPr>
                <p:cNvPr id="818" name="Rectangle 70"/>
                <p:cNvSpPr/>
                <p:nvPr/>
              </p:nvSpPr>
              <p:spPr>
                <a:xfrm>
                  <a:off x="1214280" y="4268880"/>
                  <a:ext cx="149184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Chi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Rectangle 71"/>
                <p:cNvSpPr/>
                <p:nvPr/>
              </p:nvSpPr>
              <p:spPr>
                <a:xfrm>
                  <a:off x="1146240" y="4268880"/>
                  <a:ext cx="162828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Group 72"/>
              <p:cNvGrpSpPr/>
              <p:nvPr/>
            </p:nvGrpSpPr>
            <p:grpSpPr>
              <a:xfrm>
                <a:off x="2774880" y="4268880"/>
                <a:ext cx="764640" cy="482040"/>
                <a:chOff x="2774880" y="4268880"/>
                <a:chExt cx="764640" cy="482040"/>
              </a:xfrm>
            </p:grpSpPr>
            <p:sp>
              <p:nvSpPr>
                <p:cNvPr id="821" name="Rectangle 73"/>
                <p:cNvSpPr/>
                <p:nvPr/>
              </p:nvSpPr>
              <p:spPr>
                <a:xfrm>
                  <a:off x="2843280" y="4268880"/>
                  <a:ext cx="62820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3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Rectangle 74"/>
                <p:cNvSpPr/>
                <p:nvPr/>
              </p:nvSpPr>
              <p:spPr>
                <a:xfrm>
                  <a:off x="2774880" y="4268880"/>
                  <a:ext cx="76464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Group 75"/>
              <p:cNvGrpSpPr/>
              <p:nvPr/>
            </p:nvGrpSpPr>
            <p:grpSpPr>
              <a:xfrm>
                <a:off x="3540240" y="4268880"/>
                <a:ext cx="821880" cy="482040"/>
                <a:chOff x="3540240" y="4268880"/>
                <a:chExt cx="821880" cy="482040"/>
              </a:xfrm>
            </p:grpSpPr>
            <p:sp>
              <p:nvSpPr>
                <p:cNvPr id="824" name="Rectangle 76"/>
                <p:cNvSpPr/>
                <p:nvPr/>
              </p:nvSpPr>
              <p:spPr>
                <a:xfrm>
                  <a:off x="3608280" y="4268880"/>
                  <a:ext cx="68544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3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Rectangle 77"/>
                <p:cNvSpPr/>
                <p:nvPr/>
              </p:nvSpPr>
              <p:spPr>
                <a:xfrm>
                  <a:off x="3540240" y="4268880"/>
                  <a:ext cx="82188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Group 78"/>
              <p:cNvGrpSpPr/>
              <p:nvPr/>
            </p:nvGrpSpPr>
            <p:grpSpPr>
              <a:xfrm>
                <a:off x="4362480" y="4268880"/>
                <a:ext cx="936360" cy="482040"/>
                <a:chOff x="4362480" y="4268880"/>
                <a:chExt cx="936360" cy="482040"/>
              </a:xfrm>
            </p:grpSpPr>
            <p:sp>
              <p:nvSpPr>
                <p:cNvPr id="827" name="Rectangle 79"/>
                <p:cNvSpPr/>
                <p:nvPr/>
              </p:nvSpPr>
              <p:spPr>
                <a:xfrm>
                  <a:off x="4430880" y="4268880"/>
                  <a:ext cx="79992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3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Rectangle 80"/>
                <p:cNvSpPr/>
                <p:nvPr/>
              </p:nvSpPr>
              <p:spPr>
                <a:xfrm>
                  <a:off x="4362480" y="4268880"/>
                  <a:ext cx="93636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Group 81"/>
              <p:cNvGrpSpPr/>
              <p:nvPr/>
            </p:nvGrpSpPr>
            <p:grpSpPr>
              <a:xfrm>
                <a:off x="5299200" y="4268880"/>
                <a:ext cx="879120" cy="482040"/>
                <a:chOff x="5299200" y="4268880"/>
                <a:chExt cx="879120" cy="482040"/>
              </a:xfrm>
            </p:grpSpPr>
            <p:sp>
              <p:nvSpPr>
                <p:cNvPr id="830" name="Rectangle 82"/>
                <p:cNvSpPr/>
                <p:nvPr/>
              </p:nvSpPr>
              <p:spPr>
                <a:xfrm>
                  <a:off x="5367240" y="4268880"/>
                  <a:ext cx="74268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Rectangle 83"/>
                <p:cNvSpPr/>
                <p:nvPr/>
              </p:nvSpPr>
              <p:spPr>
                <a:xfrm>
                  <a:off x="5299200" y="4268880"/>
                  <a:ext cx="87912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Group 84"/>
              <p:cNvGrpSpPr/>
              <p:nvPr/>
            </p:nvGrpSpPr>
            <p:grpSpPr>
              <a:xfrm>
                <a:off x="6178680" y="4268880"/>
                <a:ext cx="821880" cy="482040"/>
                <a:chOff x="6178680" y="4268880"/>
                <a:chExt cx="821880" cy="482040"/>
              </a:xfrm>
            </p:grpSpPr>
            <p:sp>
              <p:nvSpPr>
                <p:cNvPr id="833" name="Rectangle 85"/>
                <p:cNvSpPr/>
                <p:nvPr/>
              </p:nvSpPr>
              <p:spPr>
                <a:xfrm>
                  <a:off x="6246720" y="4268880"/>
                  <a:ext cx="68544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4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Rectangle 86"/>
                <p:cNvSpPr/>
                <p:nvPr/>
              </p:nvSpPr>
              <p:spPr>
                <a:xfrm>
                  <a:off x="6178680" y="4268880"/>
                  <a:ext cx="82188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Group 87"/>
              <p:cNvGrpSpPr/>
              <p:nvPr/>
            </p:nvGrpSpPr>
            <p:grpSpPr>
              <a:xfrm>
                <a:off x="7000920" y="4268880"/>
                <a:ext cx="821880" cy="482040"/>
                <a:chOff x="7000920" y="4268880"/>
                <a:chExt cx="821880" cy="482040"/>
              </a:xfrm>
            </p:grpSpPr>
            <p:sp>
              <p:nvSpPr>
                <p:cNvPr id="836" name="Rectangle 88"/>
                <p:cNvSpPr/>
                <p:nvPr/>
              </p:nvSpPr>
              <p:spPr>
                <a:xfrm>
                  <a:off x="7068960" y="4268880"/>
                  <a:ext cx="68544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4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Rectangle 89"/>
                <p:cNvSpPr/>
                <p:nvPr/>
              </p:nvSpPr>
              <p:spPr>
                <a:xfrm>
                  <a:off x="7000920" y="4268880"/>
                  <a:ext cx="82188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Group 90"/>
              <p:cNvGrpSpPr/>
              <p:nvPr/>
            </p:nvGrpSpPr>
            <p:grpSpPr>
              <a:xfrm>
                <a:off x="1146240" y="4750920"/>
                <a:ext cx="1628280" cy="482040"/>
                <a:chOff x="1146240" y="4750920"/>
                <a:chExt cx="1628280" cy="482040"/>
              </a:xfrm>
            </p:grpSpPr>
            <p:sp>
              <p:nvSpPr>
                <p:cNvPr id="839" name="Rectangle 91"/>
                <p:cNvSpPr/>
                <p:nvPr/>
              </p:nvSpPr>
              <p:spPr>
                <a:xfrm>
                  <a:off x="1214280" y="4750920"/>
                  <a:ext cx="149184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Colômbi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Rectangle 92"/>
                <p:cNvSpPr/>
                <p:nvPr/>
              </p:nvSpPr>
              <p:spPr>
                <a:xfrm>
                  <a:off x="1146240" y="4750920"/>
                  <a:ext cx="162828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Group 93"/>
              <p:cNvGrpSpPr/>
              <p:nvPr/>
            </p:nvGrpSpPr>
            <p:grpSpPr>
              <a:xfrm>
                <a:off x="2774880" y="4750920"/>
                <a:ext cx="764640" cy="482040"/>
                <a:chOff x="2774880" y="4750920"/>
                <a:chExt cx="764640" cy="482040"/>
              </a:xfrm>
            </p:grpSpPr>
            <p:sp>
              <p:nvSpPr>
                <p:cNvPr id="842" name="Rectangle 94"/>
                <p:cNvSpPr/>
                <p:nvPr/>
              </p:nvSpPr>
              <p:spPr>
                <a:xfrm>
                  <a:off x="2843280" y="4750920"/>
                  <a:ext cx="62820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5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Rectangle 95"/>
                <p:cNvSpPr/>
                <p:nvPr/>
              </p:nvSpPr>
              <p:spPr>
                <a:xfrm>
                  <a:off x="2774880" y="4750920"/>
                  <a:ext cx="76464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Group 96"/>
              <p:cNvGrpSpPr/>
              <p:nvPr/>
            </p:nvGrpSpPr>
            <p:grpSpPr>
              <a:xfrm>
                <a:off x="3540240" y="4750920"/>
                <a:ext cx="821880" cy="482040"/>
                <a:chOff x="3540240" y="4750920"/>
                <a:chExt cx="821880" cy="482040"/>
              </a:xfrm>
            </p:grpSpPr>
            <p:sp>
              <p:nvSpPr>
                <p:cNvPr id="845" name="Rectangle 97"/>
                <p:cNvSpPr/>
                <p:nvPr/>
              </p:nvSpPr>
              <p:spPr>
                <a:xfrm>
                  <a:off x="3608280" y="4750920"/>
                  <a:ext cx="68544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5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Rectangle 98"/>
                <p:cNvSpPr/>
                <p:nvPr/>
              </p:nvSpPr>
              <p:spPr>
                <a:xfrm>
                  <a:off x="3540240" y="4750920"/>
                  <a:ext cx="82188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Group 99"/>
              <p:cNvGrpSpPr/>
              <p:nvPr/>
            </p:nvGrpSpPr>
            <p:grpSpPr>
              <a:xfrm>
                <a:off x="4362480" y="4750920"/>
                <a:ext cx="936360" cy="482040"/>
                <a:chOff x="4362480" y="4750920"/>
                <a:chExt cx="936360" cy="482040"/>
              </a:xfrm>
            </p:grpSpPr>
            <p:sp>
              <p:nvSpPr>
                <p:cNvPr id="848" name="Rectangle 100"/>
                <p:cNvSpPr/>
                <p:nvPr/>
              </p:nvSpPr>
              <p:spPr>
                <a:xfrm>
                  <a:off x="4430880" y="4750920"/>
                  <a:ext cx="79992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5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Rectangle 101"/>
                <p:cNvSpPr/>
                <p:nvPr/>
              </p:nvSpPr>
              <p:spPr>
                <a:xfrm>
                  <a:off x="4362480" y="4750920"/>
                  <a:ext cx="93636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Group 102"/>
              <p:cNvGrpSpPr/>
              <p:nvPr/>
            </p:nvGrpSpPr>
            <p:grpSpPr>
              <a:xfrm>
                <a:off x="5299200" y="4750920"/>
                <a:ext cx="879120" cy="482040"/>
                <a:chOff x="5299200" y="4750920"/>
                <a:chExt cx="879120" cy="482040"/>
              </a:xfrm>
            </p:grpSpPr>
            <p:sp>
              <p:nvSpPr>
                <p:cNvPr id="851" name="Rectangle 103"/>
                <p:cNvSpPr/>
                <p:nvPr/>
              </p:nvSpPr>
              <p:spPr>
                <a:xfrm>
                  <a:off x="5367240" y="4750920"/>
                  <a:ext cx="74268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5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Rectangle 104"/>
                <p:cNvSpPr/>
                <p:nvPr/>
              </p:nvSpPr>
              <p:spPr>
                <a:xfrm>
                  <a:off x="5299200" y="4750920"/>
                  <a:ext cx="87912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Group 105"/>
              <p:cNvGrpSpPr/>
              <p:nvPr/>
            </p:nvGrpSpPr>
            <p:grpSpPr>
              <a:xfrm>
                <a:off x="6178680" y="4750920"/>
                <a:ext cx="821880" cy="482040"/>
                <a:chOff x="6178680" y="4750920"/>
                <a:chExt cx="821880" cy="482040"/>
              </a:xfrm>
            </p:grpSpPr>
            <p:sp>
              <p:nvSpPr>
                <p:cNvPr id="854" name="Rectangle 106"/>
                <p:cNvSpPr/>
                <p:nvPr/>
              </p:nvSpPr>
              <p:spPr>
                <a:xfrm>
                  <a:off x="6246720" y="4750920"/>
                  <a:ext cx="68544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5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Rectangle 107"/>
                <p:cNvSpPr/>
                <p:nvPr/>
              </p:nvSpPr>
              <p:spPr>
                <a:xfrm>
                  <a:off x="6178680" y="4750920"/>
                  <a:ext cx="82188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Group 108"/>
              <p:cNvGrpSpPr/>
              <p:nvPr/>
            </p:nvGrpSpPr>
            <p:grpSpPr>
              <a:xfrm>
                <a:off x="7000920" y="4750920"/>
                <a:ext cx="821880" cy="482040"/>
                <a:chOff x="7000920" y="4750920"/>
                <a:chExt cx="821880" cy="482040"/>
              </a:xfrm>
            </p:grpSpPr>
            <p:sp>
              <p:nvSpPr>
                <p:cNvPr id="857" name="Rectangle 109"/>
                <p:cNvSpPr/>
                <p:nvPr/>
              </p:nvSpPr>
              <p:spPr>
                <a:xfrm>
                  <a:off x="7068960" y="4750920"/>
                  <a:ext cx="68544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5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Rectangle 110"/>
                <p:cNvSpPr/>
                <p:nvPr/>
              </p:nvSpPr>
              <p:spPr>
                <a:xfrm>
                  <a:off x="7000920" y="4750920"/>
                  <a:ext cx="82188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Group 111"/>
              <p:cNvGrpSpPr/>
              <p:nvPr/>
            </p:nvGrpSpPr>
            <p:grpSpPr>
              <a:xfrm>
                <a:off x="1146240" y="5233320"/>
                <a:ext cx="1628280" cy="482040"/>
                <a:chOff x="1146240" y="5233320"/>
                <a:chExt cx="1628280" cy="482040"/>
              </a:xfrm>
            </p:grpSpPr>
            <p:sp>
              <p:nvSpPr>
                <p:cNvPr id="860" name="Rectangle 112"/>
                <p:cNvSpPr/>
                <p:nvPr/>
              </p:nvSpPr>
              <p:spPr>
                <a:xfrm>
                  <a:off x="1214280" y="5233320"/>
                  <a:ext cx="149184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Costa Ric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Rectangle 113"/>
                <p:cNvSpPr/>
                <p:nvPr/>
              </p:nvSpPr>
              <p:spPr>
                <a:xfrm>
                  <a:off x="1146240" y="5233320"/>
                  <a:ext cx="162828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Group 114"/>
              <p:cNvGrpSpPr/>
              <p:nvPr/>
            </p:nvGrpSpPr>
            <p:grpSpPr>
              <a:xfrm>
                <a:off x="2774880" y="5233320"/>
                <a:ext cx="764640" cy="482040"/>
                <a:chOff x="2774880" y="5233320"/>
                <a:chExt cx="764640" cy="482040"/>
              </a:xfrm>
            </p:grpSpPr>
            <p:sp>
              <p:nvSpPr>
                <p:cNvPr id="863" name="Rectangle 115"/>
                <p:cNvSpPr/>
                <p:nvPr/>
              </p:nvSpPr>
              <p:spPr>
                <a:xfrm>
                  <a:off x="2843280" y="5233320"/>
                  <a:ext cx="62820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6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Rectangle 116"/>
                <p:cNvSpPr/>
                <p:nvPr/>
              </p:nvSpPr>
              <p:spPr>
                <a:xfrm>
                  <a:off x="2774880" y="5233320"/>
                  <a:ext cx="76464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Group 117"/>
              <p:cNvGrpSpPr/>
              <p:nvPr/>
            </p:nvGrpSpPr>
            <p:grpSpPr>
              <a:xfrm>
                <a:off x="3540240" y="5233320"/>
                <a:ext cx="821880" cy="482040"/>
                <a:chOff x="3540240" y="5233320"/>
                <a:chExt cx="821880" cy="482040"/>
              </a:xfrm>
            </p:grpSpPr>
            <p:sp>
              <p:nvSpPr>
                <p:cNvPr id="866" name="Rectangle 118"/>
                <p:cNvSpPr/>
                <p:nvPr/>
              </p:nvSpPr>
              <p:spPr>
                <a:xfrm>
                  <a:off x="3608280" y="5233320"/>
                  <a:ext cx="68544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6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Rectangle 119"/>
                <p:cNvSpPr/>
                <p:nvPr/>
              </p:nvSpPr>
              <p:spPr>
                <a:xfrm>
                  <a:off x="3540240" y="5233320"/>
                  <a:ext cx="82188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Group 120"/>
              <p:cNvGrpSpPr/>
              <p:nvPr/>
            </p:nvGrpSpPr>
            <p:grpSpPr>
              <a:xfrm>
                <a:off x="4362480" y="5233320"/>
                <a:ext cx="936360" cy="482040"/>
                <a:chOff x="4362480" y="5233320"/>
                <a:chExt cx="936360" cy="482040"/>
              </a:xfrm>
            </p:grpSpPr>
            <p:sp>
              <p:nvSpPr>
                <p:cNvPr id="869" name="Rectangle 121"/>
                <p:cNvSpPr/>
                <p:nvPr/>
              </p:nvSpPr>
              <p:spPr>
                <a:xfrm>
                  <a:off x="4430880" y="5233320"/>
                  <a:ext cx="79992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6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Rectangle 122"/>
                <p:cNvSpPr/>
                <p:nvPr/>
              </p:nvSpPr>
              <p:spPr>
                <a:xfrm>
                  <a:off x="4362480" y="5233320"/>
                  <a:ext cx="93636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Group 123"/>
              <p:cNvGrpSpPr/>
              <p:nvPr/>
            </p:nvGrpSpPr>
            <p:grpSpPr>
              <a:xfrm>
                <a:off x="5299200" y="5233320"/>
                <a:ext cx="879120" cy="482040"/>
                <a:chOff x="5299200" y="5233320"/>
                <a:chExt cx="879120" cy="482040"/>
              </a:xfrm>
            </p:grpSpPr>
            <p:sp>
              <p:nvSpPr>
                <p:cNvPr id="872" name="Rectangle 124"/>
                <p:cNvSpPr/>
                <p:nvPr/>
              </p:nvSpPr>
              <p:spPr>
                <a:xfrm>
                  <a:off x="5367240" y="5233320"/>
                  <a:ext cx="74268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6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Rectangle 125"/>
                <p:cNvSpPr/>
                <p:nvPr/>
              </p:nvSpPr>
              <p:spPr>
                <a:xfrm>
                  <a:off x="5299200" y="5233320"/>
                  <a:ext cx="87912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Group 126"/>
              <p:cNvGrpSpPr/>
              <p:nvPr/>
            </p:nvGrpSpPr>
            <p:grpSpPr>
              <a:xfrm>
                <a:off x="6178680" y="5233320"/>
                <a:ext cx="821880" cy="482040"/>
                <a:chOff x="6178680" y="5233320"/>
                <a:chExt cx="821880" cy="482040"/>
              </a:xfrm>
            </p:grpSpPr>
            <p:sp>
              <p:nvSpPr>
                <p:cNvPr id="875" name="Rectangle 127"/>
                <p:cNvSpPr/>
                <p:nvPr/>
              </p:nvSpPr>
              <p:spPr>
                <a:xfrm>
                  <a:off x="6246720" y="5233320"/>
                  <a:ext cx="68544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6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Rectangle 128"/>
                <p:cNvSpPr/>
                <p:nvPr/>
              </p:nvSpPr>
              <p:spPr>
                <a:xfrm>
                  <a:off x="6178680" y="5233320"/>
                  <a:ext cx="82188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Group 129"/>
              <p:cNvGrpSpPr/>
              <p:nvPr/>
            </p:nvGrpSpPr>
            <p:grpSpPr>
              <a:xfrm>
                <a:off x="7000920" y="5233320"/>
                <a:ext cx="821880" cy="482040"/>
                <a:chOff x="7000920" y="5233320"/>
                <a:chExt cx="821880" cy="482040"/>
              </a:xfrm>
            </p:grpSpPr>
            <p:sp>
              <p:nvSpPr>
                <p:cNvPr id="878" name="Rectangle 130"/>
                <p:cNvSpPr/>
                <p:nvPr/>
              </p:nvSpPr>
              <p:spPr>
                <a:xfrm>
                  <a:off x="7068960" y="5233320"/>
                  <a:ext cx="685440" cy="48204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6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Rectangle 131"/>
                <p:cNvSpPr/>
                <p:nvPr/>
              </p:nvSpPr>
              <p:spPr>
                <a:xfrm>
                  <a:off x="7000920" y="5233320"/>
                  <a:ext cx="821880" cy="482040"/>
                </a:xfrm>
                <a:prstGeom prst="rect">
                  <a:avLst/>
                </a:prstGeom>
                <a:noFill/>
                <a:ln w="7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0" name="Rectangle 132"/>
            <p:cNvSpPr/>
            <p:nvPr/>
          </p:nvSpPr>
          <p:spPr>
            <a:xfrm>
              <a:off x="1143000" y="2819520"/>
              <a:ext cx="6683040" cy="2898360"/>
            </a:xfrm>
            <a:prstGeom prst="rect">
              <a:avLst/>
            </a:prstGeom>
            <a:noFill/>
            <a:ln w="635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2800" spc="-1" strike="noStrike">
                <a:solidFill>
                  <a:srgbClr val="ffff00"/>
                </a:solidFill>
                <a:latin typeface="Arial Black"/>
              </a:rPr>
              <a:t>Datos de gastos de las cuentas de SIDA en ALC</a:t>
            </a: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s-CO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2" name="Picture 4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772040" cy="4714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3" name="Object 2"/>
          <p:cNvGraphicFramePr/>
          <p:nvPr/>
        </p:nvGraphicFramePr>
        <p:xfrm>
          <a:off x="255600" y="1295280"/>
          <a:ext cx="8888040" cy="556236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8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295280"/>
                    <a:ext cx="888804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Países con datos de cuentas de SIDA en ALC</a:t>
            </a:r>
            <a:endParaRPr b="0" lang="es-CO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CO" sz="3200" spc="-1" strike="noStrike">
                <a:solidFill>
                  <a:srgbClr val="ffff00"/>
                </a:solidFill>
                <a:latin typeface="Arial Black"/>
              </a:rPr>
              <a:t>CN Salud Reproductiva en México</a:t>
            </a:r>
            <a:endParaRPr b="0" lang="es-C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Picture 4" descr=""/>
          <p:cNvPicPr/>
          <p:nvPr/>
        </p:nvPicPr>
        <p:blipFill>
          <a:blip r:embed="rId1"/>
          <a:srcRect l="2621" t="14026" r="1956" b="9892"/>
          <a:stretch/>
        </p:blipFill>
        <p:spPr>
          <a:xfrm>
            <a:off x="0" y="1327320"/>
            <a:ext cx="9143640" cy="5468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CO" sz="3600" spc="-1" strike="noStrike">
                <a:solidFill>
                  <a:srgbClr val="ffff00"/>
                </a:solidFill>
                <a:latin typeface="Arial Black"/>
              </a:rPr>
              <a:t>Mucho hay todavía por hacer</a:t>
            </a:r>
            <a:endParaRPr b="0" lang="es-CO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44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Aumentar el nivel de prioridad en los países y en los organismos internacionales;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Establecer mecanismos de abogacía y coordinación con los donantes para lograr interés y fondos;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Mejorar la calidad de las estimativas y de los sistemas estadísticos nacionales para la producción de datos;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Involucrar más a los gobiernos, sector público, sector privado y no gubernamental entre los usuarios y demandantes de información;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Posibilitar estimaciones de fuentes y usos por patologías y por niveles subnacionales de gobierno;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Incrementar esfuerzos de capacitación en los cursos tradicionales de gestión de salud;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890" name="Group 4"/>
          <p:cNvGrpSpPr/>
          <p:nvPr/>
        </p:nvGrpSpPr>
        <p:grpSpPr>
          <a:xfrm>
            <a:off x="8172360" y="5805360"/>
            <a:ext cx="971280" cy="1051920"/>
            <a:chOff x="8172360" y="5805360"/>
            <a:chExt cx="971280" cy="1051920"/>
          </a:xfrm>
        </p:grpSpPr>
        <p:sp>
          <p:nvSpPr>
            <p:cNvPr id="891" name="AutoShape 5"/>
            <p:cNvSpPr/>
            <p:nvPr/>
          </p:nvSpPr>
          <p:spPr>
            <a:xfrm flipV="1">
              <a:off x="8344080" y="5959440"/>
              <a:ext cx="799560" cy="897480"/>
            </a:xfrm>
            <a:prstGeom prst="roundRect">
              <a:avLst>
                <a:gd name="adj" fmla="val 0"/>
              </a:avLst>
            </a:prstGeom>
            <a:solidFill>
              <a:srgbClr val="82c0ff"/>
            </a:solidFill>
            <a:ln w="18415">
              <a:solidFill>
                <a:srgbClr val="82c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2" name="Picture 6" descr=""/>
            <p:cNvPicPr/>
            <p:nvPr/>
          </p:nvPicPr>
          <p:blipFill>
            <a:blip r:embed="rId1"/>
            <a:stretch/>
          </p:blipFill>
          <p:spPr>
            <a:xfrm>
              <a:off x="8172360" y="5805360"/>
              <a:ext cx="795600" cy="89352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indefinite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indefinite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indefinite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indefinite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indefinite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indefinite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indefinite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indefinite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indefinite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indefinite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indefinite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indefinite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616" dur="indefinite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indefinite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621" dur="indefinite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indefinite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626" dur="indefinite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indefinite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631" dur="indefinite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indefinite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636" dur="indefinite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indefinite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641" dur="indefinite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indefinite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CO" sz="4400" spc="-1" strike="noStrike">
                <a:solidFill>
                  <a:srgbClr val="ffff00"/>
                </a:solidFill>
                <a:latin typeface="Arial Black"/>
              </a:rPr>
              <a:t>El papel del BID</a:t>
            </a:r>
            <a:endParaRPr b="0" lang="es-CO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Group 6"/>
          <p:cNvGrpSpPr/>
          <p:nvPr/>
        </p:nvGrpSpPr>
        <p:grpSpPr>
          <a:xfrm>
            <a:off x="8172360" y="5805360"/>
            <a:ext cx="971280" cy="1051920"/>
            <a:chOff x="8172360" y="5805360"/>
            <a:chExt cx="971280" cy="1051920"/>
          </a:xfrm>
        </p:grpSpPr>
        <p:sp>
          <p:nvSpPr>
            <p:cNvPr id="895" name="AutoShape 7"/>
            <p:cNvSpPr/>
            <p:nvPr/>
          </p:nvSpPr>
          <p:spPr>
            <a:xfrm flipV="1">
              <a:off x="8344080" y="5959440"/>
              <a:ext cx="799560" cy="897480"/>
            </a:xfrm>
            <a:prstGeom prst="roundRect">
              <a:avLst>
                <a:gd name="adj" fmla="val 0"/>
              </a:avLst>
            </a:prstGeom>
            <a:solidFill>
              <a:srgbClr val="82c0ff"/>
            </a:solidFill>
            <a:ln w="18415">
              <a:solidFill>
                <a:srgbClr val="82c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6" name="Picture 8" descr=""/>
            <p:cNvPicPr/>
            <p:nvPr/>
          </p:nvPicPr>
          <p:blipFill>
            <a:blip r:embed="rId1"/>
            <a:stretch/>
          </p:blipFill>
          <p:spPr>
            <a:xfrm>
              <a:off x="8172360" y="5805360"/>
              <a:ext cx="795600" cy="89352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CO" sz="4400" spc="-1" strike="noStrike">
                <a:solidFill>
                  <a:srgbClr val="ffff00"/>
                </a:solidFill>
                <a:latin typeface="Arial Black"/>
              </a:rPr>
              <a:t>Principales apoyos</a:t>
            </a:r>
            <a:endParaRPr b="0" lang="es-CO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44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800" spc="-1" strike="noStrike">
                <a:solidFill>
                  <a:srgbClr val="ffffff"/>
                </a:solidFill>
                <a:latin typeface="Verdana"/>
              </a:rPr>
              <a:t>Agenda Compartida de Salud</a:t>
            </a:r>
            <a:endParaRPr b="0" lang="es-CO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800" spc="-1" strike="noStrike">
                <a:solidFill>
                  <a:srgbClr val="ffffff"/>
                </a:solidFill>
                <a:latin typeface="Verdana"/>
              </a:rPr>
              <a:t>Cooperaciones Técnicas</a:t>
            </a:r>
            <a:endParaRPr b="0" lang="es-CO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Capacitación, entrenamiento;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Montaje y administración de la página web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Subcuentas de salud de SIDA (varios países)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Subcuentas de salud reproductiva 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Institucionalización de las cuentas de salud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Cuentas de Salud y Seguridad Social (Colombia)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800" spc="-1" strike="noStrike">
                <a:solidFill>
                  <a:srgbClr val="ffffff"/>
                </a:solidFill>
                <a:latin typeface="Verdana"/>
              </a:rPr>
              <a:t>Coordinación Intersectorial (OPS, Banco Mundial, USAID)</a:t>
            </a:r>
            <a:endParaRPr b="0" lang="es-CO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800" spc="-1" strike="noStrike">
                <a:solidFill>
                  <a:srgbClr val="ffffff"/>
                </a:solidFill>
                <a:latin typeface="Verdana"/>
              </a:rPr>
              <a:t>Fortalecimiento de sistemas estadísticos nacionales</a:t>
            </a:r>
            <a:endParaRPr b="0" lang="es-CO" sz="2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899" name="Group 4"/>
          <p:cNvGrpSpPr/>
          <p:nvPr/>
        </p:nvGrpSpPr>
        <p:grpSpPr>
          <a:xfrm>
            <a:off x="8172360" y="5805360"/>
            <a:ext cx="971280" cy="1051920"/>
            <a:chOff x="8172360" y="5805360"/>
            <a:chExt cx="971280" cy="1051920"/>
          </a:xfrm>
        </p:grpSpPr>
        <p:sp>
          <p:nvSpPr>
            <p:cNvPr id="900" name="AutoShape 5"/>
            <p:cNvSpPr/>
            <p:nvPr/>
          </p:nvSpPr>
          <p:spPr>
            <a:xfrm flipV="1">
              <a:off x="8344080" y="5959440"/>
              <a:ext cx="799560" cy="897480"/>
            </a:xfrm>
            <a:prstGeom prst="roundRect">
              <a:avLst>
                <a:gd name="adj" fmla="val 0"/>
              </a:avLst>
            </a:prstGeom>
            <a:solidFill>
              <a:srgbClr val="82c0ff"/>
            </a:solidFill>
            <a:ln w="18415">
              <a:solidFill>
                <a:srgbClr val="82c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1" name="Picture 6" descr=""/>
            <p:cNvPicPr/>
            <p:nvPr/>
          </p:nvPicPr>
          <p:blipFill>
            <a:blip r:embed="rId1"/>
            <a:stretch/>
          </p:blipFill>
          <p:spPr>
            <a:xfrm>
              <a:off x="8172360" y="5805360"/>
              <a:ext cx="795600" cy="89352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indefinite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indefinite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indefinite"/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indefinite"/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indefinite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indefinite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indefinite"/>
                                        <p:tgtEl>
                                          <p:spTgt spid="8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indefinite"/>
                                        <p:tgtEl>
                                          <p:spTgt spid="8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indefinite"/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indefinite"/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indefinite"/>
                                        <p:tgtEl>
                                          <p:spTgt spid="8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indefinite"/>
                                        <p:tgtEl>
                                          <p:spTgt spid="8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indefinite"/>
                                        <p:tgtEl>
                                          <p:spTgt spid="8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indefinite"/>
                                        <p:tgtEl>
                                          <p:spTgt spid="8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indefinite"/>
                                        <p:tgtEl>
                                          <p:spTgt spid="8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indefinite"/>
                                        <p:tgtEl>
                                          <p:spTgt spid="8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indefinite"/>
                                        <p:tgtEl>
                                          <p:spTgt spid="8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indefinite"/>
                                        <p:tgtEl>
                                          <p:spTgt spid="8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indefinite"/>
                                        <p:tgtEl>
                                          <p:spTgt spid="8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indefinite"/>
                                        <p:tgtEl>
                                          <p:spTgt spid="8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680" dur="indefinite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indefinite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685" dur="indefinite"/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indefinite"/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688" dur="indefinite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indefinite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691" dur="indefinite"/>
                                        <p:tgtEl>
                                          <p:spTgt spid="8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indefinite"/>
                                        <p:tgtEl>
                                          <p:spTgt spid="8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694" dur="indefinite"/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indefinite"/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697" dur="indefinite"/>
                                        <p:tgtEl>
                                          <p:spTgt spid="8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indefinite"/>
                                        <p:tgtEl>
                                          <p:spTgt spid="8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700" dur="indefinite"/>
                                        <p:tgtEl>
                                          <p:spTgt spid="8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indefinite"/>
                                        <p:tgtEl>
                                          <p:spTgt spid="8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703" dur="indefinite"/>
                                        <p:tgtEl>
                                          <p:spTgt spid="8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indefinite"/>
                                        <p:tgtEl>
                                          <p:spTgt spid="8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708" dur="indefinite"/>
                                        <p:tgtEl>
                                          <p:spTgt spid="8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indefinite"/>
                                        <p:tgtEl>
                                          <p:spTgt spid="8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713" dur="indefinite"/>
                                        <p:tgtEl>
                                          <p:spTgt spid="8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indefinite"/>
                                        <p:tgtEl>
                                          <p:spTgt spid="8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CO" sz="4400" spc="-1" strike="noStrike">
                <a:solidFill>
                  <a:srgbClr val="ffff00"/>
                </a:solidFill>
                <a:latin typeface="Arial Black"/>
              </a:rPr>
              <a:t>Perspectivas</a:t>
            </a:r>
            <a:endParaRPr b="0" lang="es-CO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Group 7"/>
          <p:cNvGrpSpPr/>
          <p:nvPr/>
        </p:nvGrpSpPr>
        <p:grpSpPr>
          <a:xfrm>
            <a:off x="8172360" y="5805360"/>
            <a:ext cx="971280" cy="1051920"/>
            <a:chOff x="8172360" y="5805360"/>
            <a:chExt cx="971280" cy="1051920"/>
          </a:xfrm>
        </p:grpSpPr>
        <p:sp>
          <p:nvSpPr>
            <p:cNvPr id="904" name="AutoShape 8"/>
            <p:cNvSpPr/>
            <p:nvPr/>
          </p:nvSpPr>
          <p:spPr>
            <a:xfrm flipV="1">
              <a:off x="8344080" y="5959440"/>
              <a:ext cx="799560" cy="897480"/>
            </a:xfrm>
            <a:prstGeom prst="roundRect">
              <a:avLst>
                <a:gd name="adj" fmla="val 0"/>
              </a:avLst>
            </a:prstGeom>
            <a:solidFill>
              <a:srgbClr val="82c0ff"/>
            </a:solidFill>
            <a:ln w="18415">
              <a:solidFill>
                <a:srgbClr val="82c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5" name="Picture 9" descr=""/>
            <p:cNvPicPr/>
            <p:nvPr/>
          </p:nvPicPr>
          <p:blipFill>
            <a:blip r:embed="rId1"/>
            <a:stretch/>
          </p:blipFill>
          <p:spPr>
            <a:xfrm>
              <a:off x="8172360" y="5805360"/>
              <a:ext cx="795600" cy="89352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6920" y="12682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CO" sz="4000" spc="-1" strike="noStrike">
                <a:solidFill>
                  <a:srgbClr val="ffff00"/>
                </a:solidFill>
                <a:latin typeface="Arial Black"/>
              </a:rPr>
              <a:t>Navegando con cuentas de salud</a:t>
            </a:r>
            <a:endParaRPr b="0" lang="es-CO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Group 5"/>
          <p:cNvGrpSpPr/>
          <p:nvPr/>
        </p:nvGrpSpPr>
        <p:grpSpPr>
          <a:xfrm>
            <a:off x="8001000" y="5562720"/>
            <a:ext cx="1142640" cy="1294560"/>
            <a:chOff x="8001000" y="5562720"/>
            <a:chExt cx="1142640" cy="1294560"/>
          </a:xfrm>
        </p:grpSpPr>
        <p:sp>
          <p:nvSpPr>
            <p:cNvPr id="280" name="AutoShape 6"/>
            <p:cNvSpPr/>
            <p:nvPr/>
          </p:nvSpPr>
          <p:spPr>
            <a:xfrm flipV="1">
              <a:off x="8202960" y="5752080"/>
              <a:ext cx="940680" cy="1104840"/>
            </a:xfrm>
            <a:prstGeom prst="roundRect">
              <a:avLst>
                <a:gd name="adj" fmla="val 0"/>
              </a:avLst>
            </a:prstGeom>
            <a:solidFill>
              <a:srgbClr val="82c0ff"/>
            </a:solidFill>
            <a:ln w="18415">
              <a:solidFill>
                <a:srgbClr val="82c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1" name="Picture 7" descr=""/>
            <p:cNvPicPr/>
            <p:nvPr/>
          </p:nvPicPr>
          <p:blipFill>
            <a:blip r:embed="rId1"/>
            <a:stretch/>
          </p:blipFill>
          <p:spPr>
            <a:xfrm>
              <a:off x="8001000" y="5562720"/>
              <a:ext cx="936360" cy="109980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CO" sz="4400" spc="-1" strike="noStrike">
                <a:solidFill>
                  <a:srgbClr val="ffff00"/>
                </a:solidFill>
                <a:latin typeface="Arial Black"/>
              </a:rPr>
              <a:t>Avances esperados</a:t>
            </a:r>
            <a:endParaRPr b="0" lang="es-CO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44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3200" spc="-1" strike="noStrike">
                <a:solidFill>
                  <a:srgbClr val="ffffff"/>
                </a:solidFill>
                <a:latin typeface="Verdana"/>
              </a:rPr>
              <a:t>Subcuentas por patología</a:t>
            </a: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3200" spc="-1" strike="noStrike">
                <a:solidFill>
                  <a:srgbClr val="ffffff"/>
                </a:solidFill>
                <a:latin typeface="Verdana"/>
              </a:rPr>
              <a:t>Sub-Matrices insumo-producto en salud</a:t>
            </a: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3200" spc="-1" strike="noStrike">
                <a:solidFill>
                  <a:srgbClr val="ffffff"/>
                </a:solidFill>
                <a:latin typeface="Verdana"/>
              </a:rPr>
              <a:t>Áreas de interés de la industria (equipamientos médicos; fármacos, vacunas, etc.)</a:t>
            </a: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3200" spc="-1" strike="noStrike">
                <a:solidFill>
                  <a:srgbClr val="ffffff"/>
                </a:solidFill>
                <a:latin typeface="Verdana"/>
              </a:rPr>
              <a:t>Equidad sub-nacional en salud – cuentas regionales de salud;</a:t>
            </a: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3200" spc="-1" strike="noStrike">
                <a:solidFill>
                  <a:srgbClr val="ffffff"/>
                </a:solidFill>
                <a:latin typeface="Verdana"/>
              </a:rPr>
              <a:t>Integración macro y micro en salud </a:t>
            </a:r>
            <a:endParaRPr b="0" lang="es-CO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908" name="Group 4"/>
          <p:cNvGrpSpPr/>
          <p:nvPr/>
        </p:nvGrpSpPr>
        <p:grpSpPr>
          <a:xfrm>
            <a:off x="8172360" y="5805360"/>
            <a:ext cx="971280" cy="1051920"/>
            <a:chOff x="8172360" y="5805360"/>
            <a:chExt cx="971280" cy="1051920"/>
          </a:xfrm>
        </p:grpSpPr>
        <p:sp>
          <p:nvSpPr>
            <p:cNvPr id="909" name="AutoShape 5"/>
            <p:cNvSpPr/>
            <p:nvPr/>
          </p:nvSpPr>
          <p:spPr>
            <a:xfrm flipV="1">
              <a:off x="8344080" y="5959440"/>
              <a:ext cx="799560" cy="897480"/>
            </a:xfrm>
            <a:prstGeom prst="roundRect">
              <a:avLst>
                <a:gd name="adj" fmla="val 0"/>
              </a:avLst>
            </a:prstGeom>
            <a:solidFill>
              <a:srgbClr val="82c0ff"/>
            </a:solidFill>
            <a:ln w="18415">
              <a:solidFill>
                <a:srgbClr val="82c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0" name="Picture 6" descr=""/>
            <p:cNvPicPr/>
            <p:nvPr/>
          </p:nvPicPr>
          <p:blipFill>
            <a:blip r:embed="rId1"/>
            <a:stretch/>
          </p:blipFill>
          <p:spPr>
            <a:xfrm>
              <a:off x="8172360" y="5805360"/>
              <a:ext cx="795600" cy="89352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indefinite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indefinite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indefinite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indefinite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indefinite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indefinite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indefinite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indefinite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indefinite"/>
                                        <p:tgtEl>
                                          <p:spTgt spid="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indefinite"/>
                                        <p:tgtEl>
                                          <p:spTgt spid="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737" dur="indefinite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indefinite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742" dur="indefinite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indefinite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747" dur="indefinite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indefinite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752" dur="indefinite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indefinite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757" dur="indefinite"/>
                                        <p:tgtEl>
                                          <p:spTgt spid="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indefinite"/>
                                        <p:tgtEl>
                                          <p:spTgt spid="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CO" sz="3200" spc="-1" strike="noStrike">
                <a:solidFill>
                  <a:srgbClr val="ffff00"/>
                </a:solidFill>
                <a:latin typeface="Verdana"/>
              </a:rPr>
              <a:t>¿Qué debemos saber acerca de los indicadores de desempeño en salud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?</a:t>
            </a:r>
            <a:endParaRPr b="0" lang="es-C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573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¿</a:t>
            </a:r>
            <a:r>
              <a:rPr b="0" lang="es-CO" sz="1800" spc="-1" strike="noStrike">
                <a:solidFill>
                  <a:srgbClr val="ffffff"/>
                </a:solidFill>
                <a:latin typeface="Verdana"/>
              </a:rPr>
              <a:t>Cuánto gastar en salud para</a:t>
            </a:r>
            <a:r>
              <a:rPr b="0" lang="es-CO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CO" sz="1800" spc="-1" strike="noStrike">
                <a:solidFill>
                  <a:srgbClr val="ffffff"/>
                </a:solidFill>
                <a:latin typeface="Verdana"/>
              </a:rPr>
              <a:t>alcanzar la mejor cobertura con la máxima eficiencia?</a:t>
            </a:r>
            <a:endParaRPr b="0" lang="es-CO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1800" spc="-1" strike="noStrike">
                <a:solidFill>
                  <a:srgbClr val="ffffff"/>
                </a:solidFill>
                <a:latin typeface="Verdana"/>
              </a:rPr>
              <a:t>¿Adonde y con quiénes gastar para garantizar equidad?</a:t>
            </a:r>
            <a:endParaRPr b="0" lang="es-CO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1800" spc="-1" strike="noStrike">
                <a:solidFill>
                  <a:srgbClr val="ffffff"/>
                </a:solidFill>
                <a:latin typeface="Verdana"/>
              </a:rPr>
              <a:t>¿Qué sector gasta mejor en salud para cumplir con los objetivos sociales: el público o el privado?</a:t>
            </a:r>
            <a:endParaRPr b="0" lang="es-CO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1800" spc="-1" strike="noStrike">
                <a:solidFill>
                  <a:srgbClr val="ffffff"/>
                </a:solidFill>
                <a:latin typeface="Verdana"/>
              </a:rPr>
              <a:t>¿Cuánto debemos importar y como podremos exportar bienes y servicios de salud para inserirse de forma competitiva en la sociedad global?</a:t>
            </a:r>
            <a:endParaRPr b="0" lang="es-CO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1800" spc="-1" strike="noStrike">
                <a:solidFill>
                  <a:srgbClr val="ffffff"/>
                </a:solidFill>
                <a:latin typeface="Verdana"/>
              </a:rPr>
              <a:t>¿Cuánto y adonde se debe invertir en salud?</a:t>
            </a:r>
            <a:endParaRPr b="0" lang="es-CO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84" name="Object 4"/>
          <p:cNvGraphicFramePr/>
          <p:nvPr/>
        </p:nvGraphicFramePr>
        <p:xfrm>
          <a:off x="5716440" y="1447920"/>
          <a:ext cx="2138040" cy="4800240"/>
        </p:xfrm>
        <a:graphic>
          <a:graphicData uri="http://schemas.openxmlformats.org/presentationml/2006/ole">
            <p:oleObj progId="MS_ClipArt_Gallery.2" r:id="rId1" spid="">
              <p:embed/>
              <p:pic>
                <p:nvPicPr>
                  <p:cNvPr id="2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440" y="1447920"/>
                    <a:ext cx="2138040" cy="48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6" name="Group 5"/>
          <p:cNvGrpSpPr/>
          <p:nvPr/>
        </p:nvGrpSpPr>
        <p:grpSpPr>
          <a:xfrm>
            <a:off x="8001000" y="5562720"/>
            <a:ext cx="1142640" cy="1294560"/>
            <a:chOff x="8001000" y="5562720"/>
            <a:chExt cx="1142640" cy="1294560"/>
          </a:xfrm>
        </p:grpSpPr>
        <p:sp>
          <p:nvSpPr>
            <p:cNvPr id="287" name="AutoShape 6"/>
            <p:cNvSpPr/>
            <p:nvPr/>
          </p:nvSpPr>
          <p:spPr>
            <a:xfrm flipV="1">
              <a:off x="8202960" y="5752080"/>
              <a:ext cx="940680" cy="1104840"/>
            </a:xfrm>
            <a:prstGeom prst="roundRect">
              <a:avLst>
                <a:gd name="adj" fmla="val 0"/>
              </a:avLst>
            </a:prstGeom>
            <a:solidFill>
              <a:srgbClr val="82c0ff"/>
            </a:solidFill>
            <a:ln w="18415">
              <a:solidFill>
                <a:srgbClr val="82c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8" name="Picture 7" descr=""/>
            <p:cNvPicPr/>
            <p:nvPr/>
          </p:nvPicPr>
          <p:blipFill>
            <a:blip r:embed="rId3"/>
            <a:stretch/>
          </p:blipFill>
          <p:spPr>
            <a:xfrm>
              <a:off x="8001000" y="5562720"/>
              <a:ext cx="936360" cy="109980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indefinite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indefinite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indefinite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indefinite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indefinite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indefinite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67" dur="indefinite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indefinite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indefinite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77" dur="indefinite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indefinite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indefinite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87" dur="indefinite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indefinite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CO" sz="3200" spc="-1" strike="noStrike">
                <a:solidFill>
                  <a:srgbClr val="ffff00"/>
                </a:solidFill>
                <a:latin typeface="Verdana"/>
              </a:rPr>
              <a:t>Anualmente tendremos que elaborar el presupuesto de salud pero ….</a:t>
            </a:r>
            <a:endParaRPr b="0" lang="es-C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573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000" spc="-1" strike="noStrike">
                <a:solidFill>
                  <a:srgbClr val="ffffff"/>
                </a:solidFill>
                <a:latin typeface="Verdana"/>
              </a:rPr>
              <a:t>No tenemos información suficiente…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000" spc="-1" strike="noStrike">
                <a:solidFill>
                  <a:srgbClr val="ffffff"/>
                </a:solidFill>
                <a:latin typeface="Verdana"/>
              </a:rPr>
              <a:t>Los datos no son consistentes porque no hay coherencia en las metodologías para obtener y clasificar el gasto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000" spc="-1" strike="noStrike">
                <a:solidFill>
                  <a:srgbClr val="ffffff"/>
                </a:solidFill>
                <a:latin typeface="Verdana"/>
              </a:rPr>
              <a:t>Nadie se preocupa con la calidad de la información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000" spc="-1" strike="noStrike">
                <a:solidFill>
                  <a:srgbClr val="ffffff"/>
                </a:solidFill>
                <a:latin typeface="Verdana"/>
              </a:rPr>
              <a:t>No hay transparencia en la información..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000" spc="-1" strike="noStrike">
                <a:solidFill>
                  <a:srgbClr val="ffffff"/>
                </a:solidFill>
                <a:latin typeface="Verdana"/>
              </a:rPr>
              <a:t>Nadie utiliza la información sobre gastos para evaluar la calidad y los resultados alcanzados por el sistema de salud.</a:t>
            </a:r>
            <a:endParaRPr b="0" lang="es-CO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4657680" y="2824200"/>
          <a:ext cx="4257360" cy="2047680"/>
        </p:xfrm>
        <a:graphic>
          <a:graphicData uri="http://schemas.openxmlformats.org/presentationml/2006/ole">
            <p:oleObj progId="MS_ClipArt_Gallery.2"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7680" y="2824200"/>
                    <a:ext cx="425736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3" name="Group 5"/>
          <p:cNvGrpSpPr/>
          <p:nvPr/>
        </p:nvGrpSpPr>
        <p:grpSpPr>
          <a:xfrm>
            <a:off x="8001000" y="5562720"/>
            <a:ext cx="1142640" cy="1294560"/>
            <a:chOff x="8001000" y="5562720"/>
            <a:chExt cx="1142640" cy="1294560"/>
          </a:xfrm>
        </p:grpSpPr>
        <p:sp>
          <p:nvSpPr>
            <p:cNvPr id="294" name="AutoShape 6"/>
            <p:cNvSpPr/>
            <p:nvPr/>
          </p:nvSpPr>
          <p:spPr>
            <a:xfrm flipV="1">
              <a:off x="8202960" y="5752080"/>
              <a:ext cx="940680" cy="1104840"/>
            </a:xfrm>
            <a:prstGeom prst="roundRect">
              <a:avLst>
                <a:gd name="adj" fmla="val 0"/>
              </a:avLst>
            </a:prstGeom>
            <a:solidFill>
              <a:srgbClr val="82c0ff"/>
            </a:solidFill>
            <a:ln w="18415">
              <a:solidFill>
                <a:srgbClr val="82c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Picture 7" descr=""/>
            <p:cNvPicPr/>
            <p:nvPr/>
          </p:nvPicPr>
          <p:blipFill>
            <a:blip r:embed="rId3"/>
            <a:stretch/>
          </p:blipFill>
          <p:spPr>
            <a:xfrm>
              <a:off x="8001000" y="5562720"/>
              <a:ext cx="936360" cy="109980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indefinite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indefinite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indefinite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indefinite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indefinite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indefinite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indefinite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111" dur="indefinite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indefinite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indefinite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121" dur="indefinite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indefinite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indefinite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indefinite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CO" sz="3200" spc="-1" strike="noStrike">
                <a:solidFill>
                  <a:srgbClr val="ffff00"/>
                </a:solidFill>
                <a:latin typeface="Verdana"/>
              </a:rPr>
              <a:t>Así, sometemos nuestras vidas a decisiones tomadas a las ciegas</a:t>
            </a:r>
            <a:r>
              <a:rPr b="0" lang="es-CO" sz="3200" spc="-1" strike="noStrike">
                <a:solidFill>
                  <a:srgbClr val="ffff00"/>
                </a:solidFill>
                <a:latin typeface="Arial Black"/>
              </a:rPr>
              <a:t> …</a:t>
            </a:r>
            <a:endParaRPr b="0" lang="es-C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95108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1800" spc="-1" strike="noStrike">
                <a:solidFill>
                  <a:srgbClr val="ffffff"/>
                </a:solidFill>
                <a:latin typeface="Verdana"/>
              </a:rPr>
              <a:t>Expandimos o cortamos presupuesto en salud si saber lo que estamos haciendo y si tiene impacto positivo o negativo;</a:t>
            </a:r>
            <a:endParaRPr b="0" lang="es-CO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1800" spc="-1" strike="noStrike">
                <a:solidFill>
                  <a:srgbClr val="ffffff"/>
                </a:solidFill>
                <a:latin typeface="Verdana"/>
              </a:rPr>
              <a:t>Invertimos en salud empujados por presiones políticas sin orientarnos por decisiones informadas adecuadamente</a:t>
            </a:r>
            <a:endParaRPr b="0" lang="es-CO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Verdana"/>
              </a:rPr>
              <a:t>Y como resultados tenemos ….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s-CO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Verdana"/>
              </a:rPr>
              <a:t>Ineficiencia en la programación de los gastos</a:t>
            </a:r>
            <a:endParaRPr b="0" lang="es-CO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Verdana"/>
              </a:rPr>
              <a:t>Falta de responsabilidad y de transparencia;</a:t>
            </a:r>
            <a:endParaRPr b="0" lang="es-CO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Verdana"/>
              </a:rPr>
              <a:t>Inequidad</a:t>
            </a:r>
            <a:endParaRPr b="0" lang="es-CO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Verdana"/>
              </a:rPr>
              <a:t>Alimentamos el ciclo vicioso del populismo y de las demandas insatisfechas con salud </a:t>
            </a:r>
            <a:endParaRPr b="0" lang="es-CO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98" name="Object 4"/>
          <p:cNvGraphicFramePr/>
          <p:nvPr/>
        </p:nvGraphicFramePr>
        <p:xfrm>
          <a:off x="5292720" y="1844640"/>
          <a:ext cx="3658680" cy="3389040"/>
        </p:xfrm>
        <a:graphic>
          <a:graphicData uri="http://schemas.openxmlformats.org/presentationml/2006/ole">
            <p:oleObj progId="MS_ClipArt_Gallery.2" r:id="rId1" spid="">
              <p:embed/>
              <p:pic>
                <p:nvPicPr>
                  <p:cNvPr id="2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1844640"/>
                    <a:ext cx="3658680" cy="33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0" name="Group 5"/>
          <p:cNvGrpSpPr/>
          <p:nvPr/>
        </p:nvGrpSpPr>
        <p:grpSpPr>
          <a:xfrm>
            <a:off x="8001000" y="5562720"/>
            <a:ext cx="1142640" cy="1294560"/>
            <a:chOff x="8001000" y="5562720"/>
            <a:chExt cx="1142640" cy="1294560"/>
          </a:xfrm>
        </p:grpSpPr>
        <p:sp>
          <p:nvSpPr>
            <p:cNvPr id="301" name="AutoShape 6"/>
            <p:cNvSpPr/>
            <p:nvPr/>
          </p:nvSpPr>
          <p:spPr>
            <a:xfrm flipV="1">
              <a:off x="8202960" y="5752080"/>
              <a:ext cx="940680" cy="1104840"/>
            </a:xfrm>
            <a:prstGeom prst="roundRect">
              <a:avLst>
                <a:gd name="adj" fmla="val 0"/>
              </a:avLst>
            </a:prstGeom>
            <a:solidFill>
              <a:srgbClr val="82c0ff"/>
            </a:solidFill>
            <a:ln w="18415">
              <a:solidFill>
                <a:srgbClr val="82c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2" name="Picture 7" descr=""/>
            <p:cNvPicPr/>
            <p:nvPr/>
          </p:nvPicPr>
          <p:blipFill>
            <a:blip r:embed="rId3"/>
            <a:stretch/>
          </p:blipFill>
          <p:spPr>
            <a:xfrm>
              <a:off x="8001000" y="5562720"/>
              <a:ext cx="936360" cy="109980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indefinite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indefinite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indefinite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indefinite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indefinite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indefinite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indefinite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indefinite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indefinite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indefinite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indefinite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161" dur="indefinite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indefinite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166" dur="indefinite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indefinite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171" dur="indefinite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indefinite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indefinite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181" dur="indefinite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indefinite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186" dur="indefinite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indefinite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191" dur="indefinite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indefinite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CO" sz="4000" spc="-1" strike="noStrike">
                <a:solidFill>
                  <a:srgbClr val="ffff00"/>
                </a:solidFill>
                <a:latin typeface="Arial Black"/>
              </a:rPr>
              <a:t>¿Qué facilitan las cuentas de salud?</a:t>
            </a:r>
            <a:endParaRPr b="0" lang="es-CO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44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Decisiones financieras y presupuestarias en salud basadas en evidencia;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Detección de inequidades en los procesos de financiamiento y uso de recursos para salud;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Decisiones cuanto a inversiones en áreas de mayor necesidad y eficiencia, para los sectores público y privado;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Comparaciones internacionales y mayor precisión de las lecciones aprendidas internacionalmente;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Base para la negociación de recursos internacionales de salud junto a los organismos multilaterales;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Estimaciones de tendencias futuras y proyecciones de gastos asociados a metas de salud.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305" name="Group 4"/>
          <p:cNvGrpSpPr/>
          <p:nvPr/>
        </p:nvGrpSpPr>
        <p:grpSpPr>
          <a:xfrm>
            <a:off x="8244000" y="6021360"/>
            <a:ext cx="899640" cy="836280"/>
            <a:chOff x="8244000" y="6021360"/>
            <a:chExt cx="899640" cy="836280"/>
          </a:xfrm>
        </p:grpSpPr>
        <p:sp>
          <p:nvSpPr>
            <p:cNvPr id="306" name="AutoShape 5"/>
            <p:cNvSpPr/>
            <p:nvPr/>
          </p:nvSpPr>
          <p:spPr>
            <a:xfrm flipV="1">
              <a:off x="8402760" y="6144120"/>
              <a:ext cx="740880" cy="713520"/>
            </a:xfrm>
            <a:prstGeom prst="roundRect">
              <a:avLst>
                <a:gd name="adj" fmla="val 0"/>
              </a:avLst>
            </a:prstGeom>
            <a:solidFill>
              <a:srgbClr val="82c0ff"/>
            </a:solidFill>
            <a:ln w="18415">
              <a:solidFill>
                <a:srgbClr val="82c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7" name="Picture 6" descr=""/>
            <p:cNvPicPr/>
            <p:nvPr/>
          </p:nvPicPr>
          <p:blipFill>
            <a:blip r:embed="rId1"/>
            <a:stretch/>
          </p:blipFill>
          <p:spPr>
            <a:xfrm>
              <a:off x="8244000" y="6021360"/>
              <a:ext cx="737280" cy="71028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indefinite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indefinite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indefinite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indefinite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indefinite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indefinite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indefinite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indefinite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indefinite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indefinite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indefinite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indefinite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indefinite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223" dur="indefinite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indefinite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228" dur="indefinite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indefinite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233" dur="indefinite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indefinite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238" dur="indefinite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indefinite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243" dur="indefinite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indefinite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CO" sz="4000" spc="-1" strike="noStrike">
                <a:solidFill>
                  <a:srgbClr val="ffff00"/>
                </a:solidFill>
                <a:latin typeface="Verdana"/>
              </a:rPr>
              <a:t>Desarrollo de las cuentas de salud</a:t>
            </a:r>
            <a:r>
              <a:rPr b="0" lang="es-CO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s-CO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395280" y="5516280"/>
            <a:ext cx="8569080" cy="360"/>
          </a:xfrm>
          <a:prstGeom prst="line">
            <a:avLst/>
          </a:prstGeom>
          <a:ln cap="sq" w="57150">
            <a:solidFill>
              <a:srgbClr val="ffff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304920" y="5610240"/>
            <a:ext cx="1205280" cy="45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2400" spc="-1" strike="noStrike">
                <a:solidFill>
                  <a:srgbClr val="ffff00"/>
                </a:solidFill>
                <a:latin typeface="Times New Roman"/>
              </a:rPr>
              <a:t>Años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1818000" y="5610240"/>
            <a:ext cx="1205280" cy="45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2400" spc="-1" strike="noStrike">
                <a:solidFill>
                  <a:srgbClr val="ffff00"/>
                </a:solidFill>
                <a:latin typeface="Times New Roman"/>
              </a:rPr>
              <a:t>Años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3473640" y="5610240"/>
            <a:ext cx="1205280" cy="45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2400" spc="-1" strike="noStrike">
                <a:solidFill>
                  <a:srgbClr val="ffff00"/>
                </a:solidFill>
                <a:latin typeface="Times New Roman"/>
              </a:rPr>
              <a:t>Años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5150160" y="5589720"/>
            <a:ext cx="1205280" cy="45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2400" spc="-1" strike="noStrike">
                <a:solidFill>
                  <a:srgbClr val="ffff00"/>
                </a:solidFill>
                <a:latin typeface="Times New Roman"/>
              </a:rPr>
              <a:t>Años 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7021800" y="5589720"/>
            <a:ext cx="1205280" cy="45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2400" spc="-1" strike="noStrike">
                <a:solidFill>
                  <a:srgbClr val="ffff00"/>
                </a:solidFill>
                <a:latin typeface="Times New Roman"/>
              </a:rPr>
              <a:t>Años 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322200" y="4437000"/>
            <a:ext cx="2131920" cy="821160"/>
          </a:xfrm>
          <a:prstGeom prst="rect">
            <a:avLst/>
          </a:prstGeom>
          <a:solidFill>
            <a:schemeClr val="accent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Cu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Administr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1762560" y="3429000"/>
            <a:ext cx="2570760" cy="821160"/>
          </a:xfrm>
          <a:prstGeom prst="rect">
            <a:avLst/>
          </a:prstGeom>
          <a:solidFill>
            <a:schemeClr val="accent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Sistema de Cu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Nacionales (SC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3634200" y="2421000"/>
            <a:ext cx="2570760" cy="821160"/>
          </a:xfrm>
          <a:prstGeom prst="rect">
            <a:avLst/>
          </a:prstGeom>
          <a:solidFill>
            <a:schemeClr val="accent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Sistema de Cu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De Salud (OEC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2"/>
          <p:cNvSpPr/>
          <p:nvPr/>
        </p:nvSpPr>
        <p:spPr>
          <a:xfrm flipV="1">
            <a:off x="1403280" y="2636640"/>
            <a:ext cx="360" cy="1800360"/>
          </a:xfrm>
          <a:prstGeom prst="line">
            <a:avLst/>
          </a:prstGeom>
          <a:ln cap="sq" w="127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13"/>
          <p:cNvSpPr/>
          <p:nvPr/>
        </p:nvSpPr>
        <p:spPr>
          <a:xfrm flipV="1">
            <a:off x="2987640" y="2781000"/>
            <a:ext cx="360" cy="648000"/>
          </a:xfrm>
          <a:prstGeom prst="line">
            <a:avLst/>
          </a:prstGeom>
          <a:ln cap="sq" w="127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>
            <a:off x="2987640" y="2781000"/>
            <a:ext cx="647640" cy="360"/>
          </a:xfrm>
          <a:prstGeom prst="line">
            <a:avLst/>
          </a:prstGeom>
          <a:ln cap="sq" w="12700">
            <a:solidFill>
              <a:srgbClr val="ffff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15"/>
          <p:cNvSpPr/>
          <p:nvPr/>
        </p:nvSpPr>
        <p:spPr>
          <a:xfrm>
            <a:off x="1403280" y="2636640"/>
            <a:ext cx="2232000" cy="360"/>
          </a:xfrm>
          <a:prstGeom prst="line">
            <a:avLst/>
          </a:prstGeom>
          <a:ln cap="sq" w="127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6715800" y="4457880"/>
            <a:ext cx="1804320" cy="821160"/>
          </a:xfrm>
          <a:prstGeom prst="rect">
            <a:avLst/>
          </a:prstGeom>
          <a:solidFill>
            <a:schemeClr val="accent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HR-US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Harv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7"/>
          <p:cNvSpPr/>
          <p:nvPr/>
        </p:nvSpPr>
        <p:spPr>
          <a:xfrm>
            <a:off x="2411280" y="4868640"/>
            <a:ext cx="4321080" cy="360"/>
          </a:xfrm>
          <a:prstGeom prst="line">
            <a:avLst/>
          </a:prstGeom>
          <a:ln cap="sq" w="12700">
            <a:solidFill>
              <a:srgbClr val="ffff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6748920" y="1773360"/>
            <a:ext cx="1810080" cy="1186920"/>
          </a:xfrm>
          <a:prstGeom prst="rect">
            <a:avLst/>
          </a:prstGeom>
          <a:solidFill>
            <a:schemeClr val="accent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HR-US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WHO Wor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9"/>
          <p:cNvSpPr/>
          <p:nvPr/>
        </p:nvSpPr>
        <p:spPr>
          <a:xfrm flipV="1">
            <a:off x="7596000" y="2997000"/>
            <a:ext cx="360" cy="1440000"/>
          </a:xfrm>
          <a:prstGeom prst="line">
            <a:avLst/>
          </a:prstGeom>
          <a:ln cap="sq" w="12700">
            <a:solidFill>
              <a:srgbClr val="ffff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20"/>
          <p:cNvSpPr/>
          <p:nvPr/>
        </p:nvSpPr>
        <p:spPr>
          <a:xfrm>
            <a:off x="6156000" y="2707920"/>
            <a:ext cx="576360" cy="360"/>
          </a:xfrm>
          <a:prstGeom prst="line">
            <a:avLst/>
          </a:prstGeom>
          <a:ln cap="sq" w="12700">
            <a:solidFill>
              <a:srgbClr val="ffff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21"/>
          <p:cNvGrpSpPr/>
          <p:nvPr/>
        </p:nvGrpSpPr>
        <p:grpSpPr>
          <a:xfrm>
            <a:off x="8172360" y="5950080"/>
            <a:ext cx="971280" cy="907200"/>
            <a:chOff x="8172360" y="5950080"/>
            <a:chExt cx="971280" cy="907200"/>
          </a:xfrm>
        </p:grpSpPr>
        <p:sp>
          <p:nvSpPr>
            <p:cNvPr id="328" name="AutoShape 22"/>
            <p:cNvSpPr/>
            <p:nvPr/>
          </p:nvSpPr>
          <p:spPr>
            <a:xfrm flipV="1">
              <a:off x="8344080" y="6082560"/>
              <a:ext cx="799560" cy="774360"/>
            </a:xfrm>
            <a:prstGeom prst="roundRect">
              <a:avLst>
                <a:gd name="adj" fmla="val 0"/>
              </a:avLst>
            </a:prstGeom>
            <a:solidFill>
              <a:srgbClr val="82c0ff"/>
            </a:solidFill>
            <a:ln w="18415">
              <a:solidFill>
                <a:srgbClr val="82c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9" name="Picture 23" descr=""/>
            <p:cNvPicPr/>
            <p:nvPr/>
          </p:nvPicPr>
          <p:blipFill>
            <a:blip r:embed="rId1"/>
            <a:stretch/>
          </p:blipFill>
          <p:spPr>
            <a:xfrm>
              <a:off x="8172360" y="5950080"/>
              <a:ext cx="795600" cy="77076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CO" sz="4400" spc="-1" strike="noStrike">
                <a:solidFill>
                  <a:srgbClr val="ffff00"/>
                </a:solidFill>
                <a:latin typeface="Verdana"/>
              </a:rPr>
              <a:t>Énfasis de cada modelo</a:t>
            </a:r>
            <a:r>
              <a:rPr b="0" lang="es-CO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s-CO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44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800" spc="-1" strike="noStrike">
                <a:solidFill>
                  <a:srgbClr val="ffffff"/>
                </a:solidFill>
                <a:latin typeface="Verdana"/>
              </a:rPr>
              <a:t>Cuentas Administrativas</a:t>
            </a:r>
            <a:endParaRPr b="0" lang="es-CO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Énfasis en fuentes y usos según categorías especificadas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Enfoque matricial (quién, cuánto, para qué)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800" spc="-1" strike="noStrike">
                <a:solidFill>
                  <a:srgbClr val="ffffff"/>
                </a:solidFill>
                <a:latin typeface="Verdana"/>
              </a:rPr>
              <a:t>SCN-1993</a:t>
            </a:r>
            <a:endParaRPr b="0" lang="es-CO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Cuentas Satélite de Salud – enfoque tradicional de cuentas nacionales integradas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para 2003 en ALC en 9 países (AR, BR, CH, CO, ME, PN, PR, PE)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s-CO" sz="2800" spc="-1" strike="noStrike">
                <a:solidFill>
                  <a:srgbClr val="ffffff"/>
                </a:solidFill>
                <a:latin typeface="Verdana"/>
              </a:rPr>
              <a:t>SCS – OECD</a:t>
            </a:r>
            <a:endParaRPr b="0" lang="es-CO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s-CO" sz="2400" spc="-1" strike="noStrike">
                <a:solidFill>
                  <a:srgbClr val="ffffff"/>
                </a:solidFill>
                <a:latin typeface="Verdana"/>
              </a:rPr>
              <a:t>Clasificación internacional homogénea de funciones de salud, proveedores de servicio y fuentes de financiamiento.</a:t>
            </a:r>
            <a:endParaRPr b="0" lang="es-CO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332" name="Group 4"/>
          <p:cNvGrpSpPr/>
          <p:nvPr/>
        </p:nvGrpSpPr>
        <p:grpSpPr>
          <a:xfrm>
            <a:off x="8172360" y="5950080"/>
            <a:ext cx="971280" cy="907200"/>
            <a:chOff x="8172360" y="5950080"/>
            <a:chExt cx="971280" cy="907200"/>
          </a:xfrm>
        </p:grpSpPr>
        <p:sp>
          <p:nvSpPr>
            <p:cNvPr id="333" name="AutoShape 5"/>
            <p:cNvSpPr/>
            <p:nvPr/>
          </p:nvSpPr>
          <p:spPr>
            <a:xfrm flipV="1">
              <a:off x="8344080" y="6082560"/>
              <a:ext cx="799560" cy="774360"/>
            </a:xfrm>
            <a:prstGeom prst="roundRect">
              <a:avLst>
                <a:gd name="adj" fmla="val 0"/>
              </a:avLst>
            </a:prstGeom>
            <a:solidFill>
              <a:srgbClr val="82c0ff"/>
            </a:solidFill>
            <a:ln w="18415">
              <a:solidFill>
                <a:srgbClr val="82c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4" name="Picture 6" descr=""/>
            <p:cNvPicPr/>
            <p:nvPr/>
          </p:nvPicPr>
          <p:blipFill>
            <a:blip r:embed="rId1"/>
            <a:stretch/>
          </p:blipFill>
          <p:spPr>
            <a:xfrm>
              <a:off x="8172360" y="5950080"/>
              <a:ext cx="795600" cy="77076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indefinite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indefinite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indefinite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indefinite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indefinite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indefinite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indefinite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indefinite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276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279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282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287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indefinite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293" dur="indefinite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indefinite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298" dur="indefinite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indefinite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301" dur="indefinite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indefinite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Financial Overview">
  <a:themeElements>
    <a:clrScheme name="Financial Overview 1">
      <a:dk1>
        <a:srgbClr val="000000"/>
      </a:dk1>
      <a:lt1>
        <a:srgbClr val="006666"/>
      </a:lt1>
      <a:dk2>
        <a:srgbClr val="ffffff"/>
      </a:dk2>
      <a:lt2>
        <a:srgbClr val="969696"/>
      </a:lt2>
      <a:accent1>
        <a:srgbClr val="99ffcc"/>
      </a:accent1>
      <a:accent2>
        <a:srgbClr val="00cccc"/>
      </a:accent2>
      <a:accent3>
        <a:srgbClr val="aab8b8"/>
      </a:accent3>
      <a:accent4>
        <a:srgbClr val="000000"/>
      </a:accent4>
      <a:accent5>
        <a:srgbClr val="caffe2"/>
      </a:accent5>
      <a:accent6>
        <a:srgbClr val="00b9b9"/>
      </a:accent6>
      <a:hlink>
        <a:srgbClr val="ccccff"/>
      </a:hlink>
      <a:folHlink>
        <a:srgbClr val="a3bab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Financial Overview">
  <a:themeElements>
    <a:clrScheme name="Financial Overview 1">
      <a:dk1>
        <a:srgbClr val="000000"/>
      </a:dk1>
      <a:lt1>
        <a:srgbClr val="006666"/>
      </a:lt1>
      <a:dk2>
        <a:srgbClr val="ffffff"/>
      </a:dk2>
      <a:lt2>
        <a:srgbClr val="969696"/>
      </a:lt2>
      <a:accent1>
        <a:srgbClr val="99ffcc"/>
      </a:accent1>
      <a:accent2>
        <a:srgbClr val="00cccc"/>
      </a:accent2>
      <a:accent3>
        <a:srgbClr val="aab8b8"/>
      </a:accent3>
      <a:accent4>
        <a:srgbClr val="000000"/>
      </a:accent4>
      <a:accent5>
        <a:srgbClr val="caffe2"/>
      </a:accent5>
      <a:accent6>
        <a:srgbClr val="00b9b9"/>
      </a:accent6>
      <a:hlink>
        <a:srgbClr val="ccccff"/>
      </a:hlink>
      <a:folHlink>
        <a:srgbClr val="a3bab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Financial Overview">
  <a:themeElements>
    <a:clrScheme name="Financial Overview 1">
      <a:dk1>
        <a:srgbClr val="000000"/>
      </a:dk1>
      <a:lt1>
        <a:srgbClr val="006666"/>
      </a:lt1>
      <a:dk2>
        <a:srgbClr val="ffffff"/>
      </a:dk2>
      <a:lt2>
        <a:srgbClr val="969696"/>
      </a:lt2>
      <a:accent1>
        <a:srgbClr val="99ffcc"/>
      </a:accent1>
      <a:accent2>
        <a:srgbClr val="00cccc"/>
      </a:accent2>
      <a:accent3>
        <a:srgbClr val="aab8b8"/>
      </a:accent3>
      <a:accent4>
        <a:srgbClr val="000000"/>
      </a:accent4>
      <a:accent5>
        <a:srgbClr val="caffe2"/>
      </a:accent5>
      <a:accent6>
        <a:srgbClr val="00b9b9"/>
      </a:accent6>
      <a:hlink>
        <a:srgbClr val="ccccff"/>
      </a:hlink>
      <a:folHlink>
        <a:srgbClr val="a3bab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Financial Overview">
  <a:themeElements>
    <a:clrScheme name="Financial Overview 1">
      <a:dk1>
        <a:srgbClr val="000000"/>
      </a:dk1>
      <a:lt1>
        <a:srgbClr val="006666"/>
      </a:lt1>
      <a:dk2>
        <a:srgbClr val="ffffff"/>
      </a:dk2>
      <a:lt2>
        <a:srgbClr val="969696"/>
      </a:lt2>
      <a:accent1>
        <a:srgbClr val="99ffcc"/>
      </a:accent1>
      <a:accent2>
        <a:srgbClr val="00cccc"/>
      </a:accent2>
      <a:accent3>
        <a:srgbClr val="aab8b8"/>
      </a:accent3>
      <a:accent4>
        <a:srgbClr val="000000"/>
      </a:accent4>
      <a:accent5>
        <a:srgbClr val="caffe2"/>
      </a:accent5>
      <a:accent6>
        <a:srgbClr val="00b9b9"/>
      </a:accent6>
      <a:hlink>
        <a:srgbClr val="ccccff"/>
      </a:hlink>
      <a:folHlink>
        <a:srgbClr val="a3bab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Financial Overview">
  <a:themeElements>
    <a:clrScheme name="Financial Overview 1">
      <a:dk1>
        <a:srgbClr val="000000"/>
      </a:dk1>
      <a:lt1>
        <a:srgbClr val="006666"/>
      </a:lt1>
      <a:dk2>
        <a:srgbClr val="ffffff"/>
      </a:dk2>
      <a:lt2>
        <a:srgbClr val="969696"/>
      </a:lt2>
      <a:accent1>
        <a:srgbClr val="99ffcc"/>
      </a:accent1>
      <a:accent2>
        <a:srgbClr val="00cccc"/>
      </a:accent2>
      <a:accent3>
        <a:srgbClr val="aab8b8"/>
      </a:accent3>
      <a:accent4>
        <a:srgbClr val="000000"/>
      </a:accent4>
      <a:accent5>
        <a:srgbClr val="caffe2"/>
      </a:accent5>
      <a:accent6>
        <a:srgbClr val="00b9b9"/>
      </a:accent6>
      <a:hlink>
        <a:srgbClr val="ccccff"/>
      </a:hlink>
      <a:folHlink>
        <a:srgbClr val="a3bab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Financial Overview">
  <a:themeElements>
    <a:clrScheme name="Financial Overview 1">
      <a:dk1>
        <a:srgbClr val="000000"/>
      </a:dk1>
      <a:lt1>
        <a:srgbClr val="006666"/>
      </a:lt1>
      <a:dk2>
        <a:srgbClr val="ffffff"/>
      </a:dk2>
      <a:lt2>
        <a:srgbClr val="969696"/>
      </a:lt2>
      <a:accent1>
        <a:srgbClr val="99ffcc"/>
      </a:accent1>
      <a:accent2>
        <a:srgbClr val="00cccc"/>
      </a:accent2>
      <a:accent3>
        <a:srgbClr val="aab8b8"/>
      </a:accent3>
      <a:accent4>
        <a:srgbClr val="000000"/>
      </a:accent4>
      <a:accent5>
        <a:srgbClr val="caffe2"/>
      </a:accent5>
      <a:accent6>
        <a:srgbClr val="00b9b9"/>
      </a:accent6>
      <a:hlink>
        <a:srgbClr val="ccccff"/>
      </a:hlink>
      <a:folHlink>
        <a:srgbClr val="a3bab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ffffff"/>
      </a:dk2>
      <a:lt2>
        <a:srgbClr val="969696"/>
      </a:lt2>
      <a:accent1>
        <a:srgbClr val="99ffcc"/>
      </a:accent1>
      <a:accent2>
        <a:srgbClr val="00cccc"/>
      </a:accent2>
      <a:accent3>
        <a:srgbClr val="aab8b8"/>
      </a:accent3>
      <a:accent4>
        <a:srgbClr val="000000"/>
      </a:accent4>
      <a:accent5>
        <a:srgbClr val="caffe2"/>
      </a:accent5>
      <a:accent6>
        <a:srgbClr val="00b9b9"/>
      </a:accent6>
      <a:hlink>
        <a:srgbClr val="ccccff"/>
      </a:hlink>
      <a:folHlink>
        <a:srgbClr val="a3bab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inancial Overview</Template>
  <TotalTime>408</TotalTime>
  <Application>LibreOffice/7.4.7.2$Linux_X86_64 LibreOffice_project/40$Build-2</Application>
  <AppVersion>15.0000</AppVersion>
  <Words>1787</Words>
  <Paragraphs>356</Paragraphs>
  <Company> 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11:19:28Z</dcterms:created>
  <dc:creator>Andre Medici</dc:creator>
  <dc:description/>
  <dc:language>en-US</dc:language>
  <cp:lastModifiedBy>anarod</cp:lastModifiedBy>
  <dcterms:modified xsi:type="dcterms:W3CDTF">2010-07-12T03:57:01Z</dcterms:modified>
  <cp:revision>17</cp:revision>
  <dc:subject/>
  <dc:title>Cuentas Nacionales de Salud  Progresos y Retos en América Lati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0</vt:r8>
  </property>
  <property fmtid="{D5CDD505-2E9C-101B-9397-08002B2CF9AE}" pid="3" name="PresentationFormat">
    <vt:lpwstr>On-screen Show (4:3)</vt:lpwstr>
  </property>
  <property fmtid="{D5CDD505-2E9C-101B-9397-08002B2CF9AE}" pid="4" name="Slides">
    <vt:r8>30</vt:r8>
  </property>
</Properties>
</file>