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2.png" ContentType="image/png"/>
  <Override PartName="/ppt/media/image10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047F2-C2D5-40C9-A569-DC7CF976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AE342B-C641-4E68-9D76-DFAFE604A3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3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6640" cy="418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3" hidden="1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 hidden="1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5B88BCCB-3BCB-4AF6-9E95-A6B7B69B322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Logo Ipsos-Napoleon Fracno"/>
          <p:cNvPicPr/>
          <p:nvPr/>
        </p:nvPicPr>
        <p:blipFill>
          <a:blip r:embed="rId3"/>
          <a:stretch/>
        </p:blipFill>
        <p:spPr>
          <a:xfrm>
            <a:off x="285840" y="260280"/>
            <a:ext cx="3061800" cy="810720"/>
          </a:xfrm>
          <a:prstGeom prst="rect">
            <a:avLst/>
          </a:prstGeom>
          <a:ln w="0">
            <a:noFill/>
          </a:ln>
        </p:spPr>
      </p:pic>
      <p:sp>
        <p:nvSpPr>
          <p:cNvPr id="5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4"/>
          <p:cNvSpPr/>
          <p:nvPr/>
        </p:nvSpPr>
        <p:spPr>
          <a:xfrm>
            <a:off x="1160280" y="2234880"/>
            <a:ext cx="66484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"/>
          <p:cNvSpPr/>
          <p:nvPr/>
        </p:nvSpPr>
        <p:spPr>
          <a:xfrm>
            <a:off x="1190520" y="4636800"/>
            <a:ext cx="66484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Haga clic para cambiar el estilo de título</a:t>
            </a: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	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68054190-303C-48A3-9113-E87F04A09E3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854BF44E-CB57-49AA-8079-5B01676D03A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21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14440" y="3813120"/>
            <a:ext cx="8172000" cy="21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EC995DF6-40B9-4C26-BF54-E3DC8A6E3FD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3"/>
          <p:cNvSpPr/>
          <p:nvPr/>
        </p:nvSpPr>
        <p:spPr>
          <a:xfrm>
            <a:off x="0" y="6408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726920" y="105228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902720" y="6446880"/>
            <a:ext cx="107604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85BABD7E-17AD-49F3-BF19-DEDDEC95FA3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1540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4520" y="33336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ond transparent"/>
          <p:cNvPicPr/>
          <p:nvPr/>
        </p:nvPicPr>
        <p:blipFill>
          <a:blip r:embed="rId1"/>
          <a:stretch/>
        </p:blipFill>
        <p:spPr>
          <a:xfrm>
            <a:off x="8166240" y="5676840"/>
            <a:ext cx="786960" cy="72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5931000" y="6076800"/>
            <a:ext cx="222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Nobody’s Unpredic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0" y="6540480"/>
            <a:ext cx="9144000" cy="360"/>
          </a:xfrm>
          <a:prstGeom prst="line">
            <a:avLst/>
          </a:prstGeom>
          <a:ln w="9525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12600" y="12600"/>
            <a:ext cx="9143640" cy="2997000"/>
            <a:chOff x="12600" y="12600"/>
            <a:chExt cx="9143640" cy="2997000"/>
          </a:xfrm>
        </p:grpSpPr>
        <p:sp>
          <p:nvSpPr>
            <p:cNvPr id="225" name="Rectangle 6"/>
            <p:cNvSpPr/>
            <p:nvPr/>
          </p:nvSpPr>
          <p:spPr>
            <a:xfrm>
              <a:off x="12600" y="12600"/>
              <a:ext cx="9143640" cy="299700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12600" y="12600"/>
              <a:ext cx="1547280" cy="1412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768240" y="201600"/>
              <a:ext cx="8064360" cy="2592000"/>
              <a:chOff x="768240" y="201600"/>
              <a:chExt cx="8064360" cy="2592000"/>
            </a:xfrm>
          </p:grpSpPr>
          <p:pic>
            <p:nvPicPr>
              <p:cNvPr id="228" name="Picture 9" descr="le jardinier"/>
              <p:cNvPicPr/>
              <p:nvPr/>
            </p:nvPicPr>
            <p:blipFill>
              <a:blip r:embed="rId2"/>
              <a:stretch/>
            </p:blipFill>
            <p:spPr>
              <a:xfrm>
                <a:off x="3509280" y="201600"/>
                <a:ext cx="2583720" cy="258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0" descr="sancho panza"/>
              <p:cNvPicPr/>
              <p:nvPr/>
            </p:nvPicPr>
            <p:blipFill>
              <a:blip r:embed="rId3"/>
              <a:stretch/>
            </p:blipFill>
            <p:spPr>
              <a:xfrm>
                <a:off x="768240" y="201600"/>
                <a:ext cx="2583720" cy="25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1" descr="Che Guevara"/>
              <p:cNvPicPr/>
              <p:nvPr/>
            </p:nvPicPr>
            <p:blipFill>
              <a:blip r:embed="rId4"/>
              <a:stretch/>
            </p:blipFill>
            <p:spPr>
              <a:xfrm>
                <a:off x="6248880" y="201600"/>
                <a:ext cx="2583720" cy="258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Text Box 12"/>
            <p:cNvSpPr/>
            <p:nvPr/>
          </p:nvSpPr>
          <p:spPr>
            <a:xfrm rot="16200000">
              <a:off x="-860040" y="1255680"/>
              <a:ext cx="2590560" cy="48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600" spc="-1" strike="noStrike">
                  <a:solidFill>
                    <a:schemeClr val="accent2"/>
                  </a:solidFill>
                  <a:latin typeface="Times New Roman"/>
                </a:rPr>
                <a:t>What do we see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-9360" y="6629400"/>
            <a:ext cx="2925360" cy="13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chemeClr val="accent2"/>
                </a:solidFill>
                <a:latin typeface="Arial"/>
              </a:rPr>
              <a:t>Bogotá, Febrer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8091360" y="6610320"/>
            <a:ext cx="98244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chemeClr val="accent2"/>
                </a:solidFill>
                <a:latin typeface="Arial"/>
              </a:rPr>
              <a:t>Nº 77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149760" y="3500280"/>
            <a:ext cx="7418520" cy="164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Evaluación Electrónica del IX For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QUITO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187200" y="5519160"/>
            <a:ext cx="553680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10000"/>
              </a:lnSpc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parada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NCO INTERAMERICANO DE DESARROLLO -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Group 38"/>
          <p:cNvGraphicFramePr/>
          <p:nvPr/>
        </p:nvGraphicFramePr>
        <p:xfrm>
          <a:off x="1836720" y="1916280"/>
          <a:ext cx="5471640" cy="3718440"/>
        </p:xfrm>
        <a:graphic>
          <a:graphicData uri="http://schemas.openxmlformats.org/drawingml/2006/table">
            <a:tbl>
              <a:tblPr/>
              <a:tblGrid>
                <a:gridCol w="4098600"/>
                <a:gridCol w="1373040"/>
              </a:tblGrid>
              <a:tr h="1504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IPO DE INSTITU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no-gubernamental 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stitución micro financ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internacional/ don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stitución financ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idad guberna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sultores/ Empresas de Consulto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des internacionales/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académica o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ámaras de comercio/ Aso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Perfil de los Asistentes que respondieron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la encuesta electrónic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3"/>
          <p:cNvSpPr/>
          <p:nvPr/>
        </p:nvSpPr>
        <p:spPr>
          <a:xfrm>
            <a:off x="2409480" y="4941720"/>
            <a:ext cx="2953080" cy="1008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 flipV="1">
            <a:off x="2338200" y="1989000"/>
            <a:ext cx="3024360" cy="71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66560" y="1341360"/>
            <a:ext cx="29523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Usted ha participado en uno o más de los foros anteri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376200" y="2282760"/>
          <a:ext cx="3619080" cy="30906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282760"/>
                    <a:ext cx="36190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4"/>
          <p:cNvSpPr/>
          <p:nvPr/>
        </p:nvSpPr>
        <p:spPr>
          <a:xfrm>
            <a:off x="3938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211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en Foros Anterior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Group 68"/>
          <p:cNvGraphicFramePr/>
          <p:nvPr/>
        </p:nvGraphicFramePr>
        <p:xfrm>
          <a:off x="5362560" y="1969920"/>
          <a:ext cx="3457080" cy="3792960"/>
        </p:xfrm>
        <a:graphic>
          <a:graphicData uri="http://schemas.openxmlformats.org/drawingml/2006/table">
            <a:tbl>
              <a:tblPr/>
              <a:tblGrid>
                <a:gridCol w="2950920"/>
                <a:gridCol w="50616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ta Cruz de la Sierra -Bolivia, Octubre de 2005 -VIII Foro “Ampliar las Fronteras de la Microempresa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tagena de Indias -Colombia, Septiembre de 2004- VII Foro "Clima Cambiante, responsabilidades Compartid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uatemala - Guatemala, Septiembre 2003 - VI Foro "Cómo Enfrentamos Cambios y Gestionamos Riesgo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ío de Janeiro - Brasil, Septiembre 2002 - V Foro “Entorno Favorable para las Micro y Pequeñas Empres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to Domingo – Republica Dominicana, Noviembre 2001 -IV Foro "Innovación para el Desarrollo de la Microempresa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rcelona - España, Octubre 2000  - III Foro "Creando Alianzas para el Desarrollo de la Microempresas"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enos Aires - Argentina, Junio 1999 - II Foro "La Urgencia de un Enfoque Integral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, Marzo 1998 - I F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 Box 60"/>
          <p:cNvSpPr/>
          <p:nvPr/>
        </p:nvSpPr>
        <p:spPr>
          <a:xfrm>
            <a:off x="5724360" y="1398600"/>
            <a:ext cx="2879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s-ES" sz="1400" spc="-1" strike="noStrike">
                <a:solidFill>
                  <a:schemeClr val="accent2"/>
                </a:solidFill>
                <a:latin typeface="Arial"/>
              </a:rPr>
              <a:t>¿En cuáles de los siguientes ha particip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3"/>
          <p:cNvSpPr/>
          <p:nvPr/>
        </p:nvSpPr>
        <p:spPr>
          <a:xfrm>
            <a:off x="7308720" y="5962680"/>
            <a:ext cx="158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86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878200"/>
            <a:ext cx="7772040" cy="112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Conocimientos adquiridos y utilización de instrument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828720" y="1341360"/>
            <a:ext cx="7488000" cy="67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Transcurridos tres meses después del IX For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ree usted que valió la pena la inversión en tiempo / 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1619280" y="2060640"/>
          <a:ext cx="5859000" cy="3692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60640"/>
                    <a:ext cx="5859000" cy="36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6"/>
          <p:cNvSpPr/>
          <p:nvPr/>
        </p:nvSpPr>
        <p:spPr>
          <a:xfrm>
            <a:off x="7556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211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6"/>
          <p:cNvGrpSpPr/>
          <p:nvPr/>
        </p:nvGrpSpPr>
        <p:grpSpPr>
          <a:xfrm>
            <a:off x="7020000" y="4365720"/>
            <a:ext cx="1296720" cy="934560"/>
            <a:chOff x="7020000" y="4365720"/>
            <a:chExt cx="1296720" cy="934560"/>
          </a:xfrm>
        </p:grpSpPr>
        <p:sp>
          <p:nvSpPr>
            <p:cNvPr id="270" name="Rectangle 7"/>
            <p:cNvSpPr/>
            <p:nvPr/>
          </p:nvSpPr>
          <p:spPr>
            <a:xfrm>
              <a:off x="730872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730872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752472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752472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702000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900000" y="136368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razón opina usted que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SI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valió la pena la inversión en tiempo/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7164360" y="6107040"/>
            <a:ext cx="158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99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Group 219"/>
          <p:cNvGraphicFramePr/>
          <p:nvPr/>
        </p:nvGraphicFramePr>
        <p:xfrm>
          <a:off x="755640" y="1773360"/>
          <a:ext cx="7854480" cy="4131000"/>
        </p:xfrm>
        <a:graphic>
          <a:graphicData uri="http://schemas.openxmlformats.org/drawingml/2006/table">
            <a:tbl>
              <a:tblPr/>
              <a:tblGrid>
                <a:gridCol w="7092720"/>
                <a:gridCol w="761760"/>
              </a:tblGrid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ortunidad de hacer contactos / encontrar personas involucradas en el camp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cambio y enriquecimiento de ideas y experiencias/información de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tualización de temas sobr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ción de conocimientos /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ortunidad de hacer nego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nto de encuentr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iciativa de apoyo a micro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 y progresos de la tecnología micro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luciones que ayuda a las personas de bajos recursos /personas más necesi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lidad y variedad de conferencias/ buenos exposi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la importancia del BID en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sobre nuevas ideas de nego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la situación de las microfinanzas a nivel re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btener financiamiento /relación con institucion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yuda al desarrollo de los países tercermund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rse a conocer a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00000" y="157968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razón opina usted que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valió la pena la inversión en tiempo/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16000" y="3284640"/>
            <a:ext cx="1439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6 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Group 124"/>
          <p:cNvGraphicFramePr/>
          <p:nvPr/>
        </p:nvGraphicFramePr>
        <p:xfrm>
          <a:off x="1116000" y="2125800"/>
          <a:ext cx="6840000" cy="972000"/>
        </p:xfrm>
        <a:graphic>
          <a:graphicData uri="http://schemas.openxmlformats.org/drawingml/2006/table">
            <a:tbl>
              <a:tblPr/>
              <a:tblGrid>
                <a:gridCol w="5976720"/>
                <a:gridCol w="863280"/>
              </a:tblGrid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e logró obtener información nu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e concretaron relaciones comerciales, los contactos no diero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discusión fue más descriptiva, lo que no permitió llegar a conclusiones 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126"/>
          <p:cNvSpPr/>
          <p:nvPr/>
        </p:nvSpPr>
        <p:spPr>
          <a:xfrm>
            <a:off x="5367240" y="3213000"/>
            <a:ext cx="2660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755640" y="13413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sidera usted que adquirió nuevos conocimientos en 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556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83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6"/>
          <p:cNvGraphicFramePr/>
          <p:nvPr/>
        </p:nvGraphicFramePr>
        <p:xfrm>
          <a:off x="108000" y="1844640"/>
          <a:ext cx="5859000" cy="3692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8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44640"/>
                    <a:ext cx="5859000" cy="36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30"/>
          <p:cNvSpPr/>
          <p:nvPr/>
        </p:nvSpPr>
        <p:spPr>
          <a:xfrm>
            <a:off x="6516720" y="220500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crofinanzas      4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1"/>
          <p:cNvSpPr/>
          <p:nvPr/>
        </p:nvSpPr>
        <p:spPr>
          <a:xfrm>
            <a:off x="6516720" y="285264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cimient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eriencias        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6516720" y="350028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ustria 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cnología           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6516720" y="414972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lidade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icroempresa   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6516720" y="479736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   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5435640" y="2278080"/>
            <a:ext cx="720360" cy="286920"/>
          </a:xfrm>
          <a:prstGeom prst="rightArrow">
            <a:avLst>
              <a:gd name="adj1" fmla="val 50000"/>
              <a:gd name="adj2" fmla="val 62707"/>
            </a:avLst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6300720" y="2060640"/>
            <a:ext cx="2590560" cy="374472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8"/>
          <p:cNvSpPr/>
          <p:nvPr/>
        </p:nvSpPr>
        <p:spPr>
          <a:xfrm>
            <a:off x="7667640" y="544500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9"/>
          <p:cNvGrpSpPr/>
          <p:nvPr/>
        </p:nvGrpSpPr>
        <p:grpSpPr>
          <a:xfrm>
            <a:off x="3851280" y="4581360"/>
            <a:ext cx="1296720" cy="934560"/>
            <a:chOff x="3851280" y="4581360"/>
            <a:chExt cx="1296720" cy="934560"/>
          </a:xfrm>
        </p:grpSpPr>
        <p:sp>
          <p:nvSpPr>
            <p:cNvPr id="299" name="Rectangle 40"/>
            <p:cNvSpPr/>
            <p:nvPr/>
          </p:nvSpPr>
          <p:spPr>
            <a:xfrm>
              <a:off x="4140360" y="472428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1"/>
            <p:cNvSpPr/>
            <p:nvPr/>
          </p:nvSpPr>
          <p:spPr>
            <a:xfrm>
              <a:off x="4140360" y="508464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4356000" y="472428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4356000" y="5084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4"/>
            <p:cNvSpPr/>
            <p:nvPr/>
          </p:nvSpPr>
          <p:spPr>
            <a:xfrm>
              <a:off x="3851280" y="458136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Group 295"/>
          <p:cNvGraphicFramePr/>
          <p:nvPr/>
        </p:nvGraphicFramePr>
        <p:xfrm>
          <a:off x="1187280" y="1819440"/>
          <a:ext cx="6840000" cy="3912120"/>
        </p:xfrm>
        <a:graphic>
          <a:graphicData uri="http://schemas.openxmlformats.org/drawingml/2006/table">
            <a:tbl>
              <a:tblPr/>
              <a:tblGrid>
                <a:gridCol w="6016320"/>
                <a:gridCol w="823680"/>
              </a:tblGrid>
              <a:tr h="3031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 /Regu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 y análisis de instituciones en el campo d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 del B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s rem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y profundización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esgos y fraudes en organizaciones de microcrédito /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relevancia del ahorro en el futuro / disminuir la vulnerabilidad de la población p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bre la Banca Priv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imientos sobre las normas de BASILEA II para entidad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dustria de micro finanzas en la reg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, regulación y supervisión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seguros /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gulación y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291"/>
          <p:cNvSpPr/>
          <p:nvPr/>
        </p:nvSpPr>
        <p:spPr>
          <a:xfrm>
            <a:off x="2627280" y="1341360"/>
            <a:ext cx="4032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Principales conocimientos adqui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93"/>
          <p:cNvSpPr/>
          <p:nvPr/>
        </p:nvSpPr>
        <p:spPr>
          <a:xfrm>
            <a:off x="1255320" y="602136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Group 263"/>
          <p:cNvGraphicFramePr/>
          <p:nvPr/>
        </p:nvGraphicFramePr>
        <p:xfrm>
          <a:off x="1628640" y="1341360"/>
          <a:ext cx="6183000" cy="4925520"/>
        </p:xfrm>
        <a:graphic>
          <a:graphicData uri="http://schemas.openxmlformats.org/drawingml/2006/table">
            <a:tbl>
              <a:tblPr/>
              <a:tblGrid>
                <a:gridCol w="5175000"/>
                <a:gridCol w="1008000"/>
              </a:tblGrid>
              <a:tr h="3031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Conocimiento de Experiencias en Amé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exi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utilizadas en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novacion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e impac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tivación para emprend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alización de ali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comercial a nivel Latinoameric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mer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tuación de los IFM/Tend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ndos y Bussines Ang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s Cadenas de va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l 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imiento de experiencias de las 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 internacional y tendencias en el tema de microcréd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gentes públicos y pr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264"/>
          <p:cNvSpPr/>
          <p:nvPr/>
        </p:nvSpPr>
        <p:spPr>
          <a:xfrm>
            <a:off x="7605360" y="616572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Group 359"/>
          <p:cNvGraphicFramePr/>
          <p:nvPr/>
        </p:nvGraphicFramePr>
        <p:xfrm>
          <a:off x="1116000" y="1413000"/>
          <a:ext cx="6957720" cy="4741560"/>
        </p:xfrm>
        <a:graphic>
          <a:graphicData uri="http://schemas.openxmlformats.org/drawingml/2006/table">
            <a:tbl>
              <a:tblPr/>
              <a:tblGrid>
                <a:gridCol w="6195960"/>
                <a:gridCol w="761760"/>
              </a:tblGrid>
              <a:tr h="3031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Industria / Tecnología / Infor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estación de servicios a través del uso de tecnologías de información y comunicación/ Tecnología crediticia / re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y manejo de productos específ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Generalidades sobre las Microempr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yuda a microempresarios /fin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empresa y finanzas ru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ción y actualización de conocimiento empresa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organizacional es de la micro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empresa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ymes en el desarrollo económico local y latinoameric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tactos 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formalización y desarrollo de micro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 micro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sobre oportunidades de fon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nculación de las microempresas en el desarrollo económico 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y operación de los microcréd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Rectangle 360"/>
          <p:cNvSpPr/>
          <p:nvPr/>
        </p:nvSpPr>
        <p:spPr>
          <a:xfrm>
            <a:off x="7016400" y="616572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1395360"/>
            <a:ext cx="77720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 algn="just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1"/>
              </a:buBlip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Introducción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Antecedente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Objetiv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Metodología</a:t>
            </a: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	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91908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2. Evaluación Electrónica General IX Foro Interamericano de la Microempresa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MX" sz="1600" spc="-1" strike="noStrike">
                <a:solidFill>
                  <a:schemeClr val="accent2"/>
                </a:solidFill>
                <a:latin typeface="Arial"/>
              </a:rPr>
              <a:t>Perfil de los asistentes que respondieron la encuesta electrónica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Conocimiento adquiridos y  utilización de instrument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Evaluación temáticas del IX Foro Interamericano de la Microempresa.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chemeClr val="accent2"/>
                </a:solidFill>
                <a:latin typeface="Arial"/>
              </a:rPr>
              <a:t>Sesión Plenaria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Microfinanza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Mercados Financiero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Acceso a Mercado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Entorno y Capital Humano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Expectativas sobre futuros for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919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s-E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784520" y="4096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tenid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755640" y="1333440"/>
            <a:ext cx="748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0" lang="es-ES" sz="1800" spc="-1" strike="noStrike">
                <a:solidFill>
                  <a:schemeClr val="accent2"/>
                </a:solidFill>
                <a:latin typeface="Arial"/>
              </a:rPr>
              <a:t>¿Ha aplicado los conocimientos adquiridos en el IX Foro a su trabaj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755640" y="6024600"/>
            <a:ext cx="525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9 personas que respondieron Si haber adquirido cono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481800" y="299880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atégico        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481800" y="3645000"/>
            <a:ext cx="2231640" cy="57600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ón          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481800" y="436572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6265800" y="220500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Proceso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donde se han aplicado los conocimientos adquiri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6"/>
          <p:cNvGraphicFramePr/>
          <p:nvPr/>
        </p:nvGraphicFramePr>
        <p:xfrm>
          <a:off x="324000" y="191628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2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7"/>
          <p:cNvSpPr/>
          <p:nvPr/>
        </p:nvSpPr>
        <p:spPr>
          <a:xfrm>
            <a:off x="6302520" y="2060640"/>
            <a:ext cx="2590560" cy="34556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932360" y="2565360"/>
            <a:ext cx="11523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7669080" y="509904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27" name="Rectangle 34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6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539640" y="14367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Ha consultado material de apoyo de las Mesas Redond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372360" y="407844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ágina Web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D sobre el Foro  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372360" y="278136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resos             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6372360" y="342900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p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gitales               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156360" y="206064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Medio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a través de los cuales han consult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372360" y="472608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  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755640" y="5950080"/>
            <a:ext cx="453672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88 personas que respondieron l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5"/>
          <p:cNvGraphicFramePr/>
          <p:nvPr/>
        </p:nvGraphicFramePr>
        <p:xfrm>
          <a:off x="324000" y="195120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40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5120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 Box 36"/>
          <p:cNvSpPr/>
          <p:nvPr/>
        </p:nvSpPr>
        <p:spPr>
          <a:xfrm>
            <a:off x="7596360" y="531504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7"/>
          <p:cNvSpPr/>
          <p:nvPr/>
        </p:nvSpPr>
        <p:spPr>
          <a:xfrm>
            <a:off x="5940360" y="1916280"/>
            <a:ext cx="3025440" cy="374472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8"/>
          <p:cNvSpPr/>
          <p:nvPr/>
        </p:nvSpPr>
        <p:spPr>
          <a:xfrm>
            <a:off x="4211280" y="2565360"/>
            <a:ext cx="151308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46" name="Rectangle 53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4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55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6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7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973080" y="1628640"/>
            <a:ext cx="7127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ha consultado el material de apoyo de las Mesas Redond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Group 97"/>
          <p:cNvGraphicFramePr/>
          <p:nvPr/>
        </p:nvGraphicFramePr>
        <p:xfrm>
          <a:off x="1908000" y="2679840"/>
          <a:ext cx="5208120" cy="3130200"/>
        </p:xfrm>
        <a:graphic>
          <a:graphicData uri="http://schemas.openxmlformats.org/drawingml/2006/table">
            <a:tbl>
              <a:tblPr/>
              <a:tblGrid>
                <a:gridCol w="4103640"/>
                <a:gridCol w="1104840"/>
              </a:tblGrid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 u="sng">
                          <a:solidFill>
                            <a:schemeClr val="accent2"/>
                          </a:solidFill>
                          <a:uFillTx/>
                          <a:latin typeface="Arial"/>
                        </a:rPr>
                        <a:t>No</a:t>
                      </a: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 ha consultado el material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r falta de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lo ha considerado neces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 difícil de con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69"/>
          <p:cNvSpPr/>
          <p:nvPr/>
        </p:nvSpPr>
        <p:spPr>
          <a:xfrm>
            <a:off x="6373080" y="5877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289080" y="1579680"/>
            <a:ext cx="8675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 qué objetivo ha consultado el material de apoyo de las mesas redondas d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Group 101"/>
          <p:cNvGraphicFramePr/>
          <p:nvPr/>
        </p:nvGraphicFramePr>
        <p:xfrm>
          <a:off x="1403280" y="2262240"/>
          <a:ext cx="6284520" cy="3414600"/>
        </p:xfrm>
        <a:graphic>
          <a:graphicData uri="http://schemas.openxmlformats.org/drawingml/2006/table">
            <a:tbl>
              <a:tblPr/>
              <a:tblGrid>
                <a:gridCol w="5522760"/>
                <a:gridCol w="76176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cando información /Adquirir conocimiento /consulta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oder difundir la información a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reparar presentaciones/  propuestas / doc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documentar experiencias/ conocer experi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er información reciente sobre tecnologí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tener bibliograf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Aclaración de Du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retroalimentar conceptos/ repasar concep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verificar concep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aclarar du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90"/>
          <p:cNvSpPr/>
          <p:nvPr/>
        </p:nvSpPr>
        <p:spPr>
          <a:xfrm>
            <a:off x="6939360" y="602136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50920" y="1557360"/>
            <a:ext cx="8675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 qué objetivo ha consultado el material de apoyo de las mesas redondas d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Group 132"/>
          <p:cNvGraphicFramePr/>
          <p:nvPr/>
        </p:nvGraphicFramePr>
        <p:xfrm>
          <a:off x="1403280" y="2206800"/>
          <a:ext cx="6568560" cy="3689280"/>
        </p:xfrm>
        <a:graphic>
          <a:graphicData uri="http://schemas.openxmlformats.org/drawingml/2006/table">
            <a:tbl>
              <a:tblPr/>
              <a:tblGrid>
                <a:gridCol w="5616360"/>
                <a:gridCol w="95220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Actualización/ 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cando ideas innovad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rofundizar en algunos te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estudiar acerca de 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oder aplicar lo aprend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el mejoramiento de programas de microcred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el estado de las demás microempresas en 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jorar la calidad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conocer otras instit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obtener re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actualiza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124"/>
          <p:cNvSpPr/>
          <p:nvPr/>
        </p:nvSpPr>
        <p:spPr>
          <a:xfrm>
            <a:off x="7085520" y="602136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468360" y="13413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Usted ha compartido o divulgado el material que ha consul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9640" y="256536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tr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presa                    6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6119640" y="386064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a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presa                   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119640" y="321300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nto dentro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a de la empresa   4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6048360" y="193212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Lugare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donde ha divulgado el mate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395280" y="5950080"/>
            <a:ext cx="5832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20 personas que responden de las 123 que consultan el material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1"/>
          <p:cNvGraphicFramePr/>
          <p:nvPr/>
        </p:nvGraphicFramePr>
        <p:xfrm>
          <a:off x="324000" y="195120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7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5120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22"/>
          <p:cNvSpPr/>
          <p:nvPr/>
        </p:nvSpPr>
        <p:spPr>
          <a:xfrm>
            <a:off x="7596360" y="517032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6119640" y="451008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                           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5796000" y="1844640"/>
            <a:ext cx="3173040" cy="36716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>
            <a:off x="5003640" y="2565360"/>
            <a:ext cx="5763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9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77" name="Rectangle 40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1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2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4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909800" y="1628640"/>
            <a:ext cx="539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ha compartido o divulgado el materi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Group 83"/>
          <p:cNvGraphicFramePr/>
          <p:nvPr/>
        </p:nvGraphicFramePr>
        <p:xfrm>
          <a:off x="1955880" y="2349360"/>
          <a:ext cx="5208120" cy="3187080"/>
        </p:xfrm>
        <a:graphic>
          <a:graphicData uri="http://schemas.openxmlformats.org/drawingml/2006/table">
            <a:tbl>
              <a:tblPr/>
              <a:tblGrid>
                <a:gridCol w="4103640"/>
                <a:gridCol w="1104840"/>
              </a:tblGrid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 u="sng">
                          <a:solidFill>
                            <a:schemeClr val="accent2"/>
                          </a:solidFill>
                          <a:uFillTx/>
                          <a:latin typeface="Arial"/>
                        </a:rPr>
                        <a:t>No</a:t>
                      </a: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 comparte el material con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ha tenido oportun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ha sido necesario/ no ha sido relevante/temas ya conoc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lo ha sido para consulta pro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32"/>
          <p:cNvSpPr/>
          <p:nvPr/>
        </p:nvSpPr>
        <p:spPr>
          <a:xfrm>
            <a:off x="1980360" y="5661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5076720" y="5668920"/>
            <a:ext cx="2660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7600" y="2576520"/>
            <a:ext cx="7772040" cy="1644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temáticas del IX Foro Interamericano de la Microempresa.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Sesión Plenaria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sión Plenari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359720" y="1557360"/>
            <a:ext cx="648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1400" spc="-1" strike="noStrike">
                <a:solidFill>
                  <a:schemeClr val="accent2"/>
                </a:solidFill>
                <a:latin typeface="Arial"/>
              </a:rPr>
              <a:t>Oportunidades para la mayoría: el sector privado como aliado estratég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Group 63"/>
          <p:cNvGraphicFramePr/>
          <p:nvPr/>
        </p:nvGraphicFramePr>
        <p:xfrm>
          <a:off x="3348000" y="3502080"/>
          <a:ext cx="5616360" cy="2754000"/>
        </p:xfrm>
        <a:graphic>
          <a:graphicData uri="http://schemas.openxmlformats.org/drawingml/2006/table">
            <a:tbl>
              <a:tblPr/>
              <a:tblGrid>
                <a:gridCol w="2519280"/>
                <a:gridCol w="576000"/>
                <a:gridCol w="208908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uis Alberto Moreno, Presidente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Álvaro R. Ramirez,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uel José Carvajal, Fundación Carvajal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hael Chu, Harvard Business School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erto Salas, Grupo Amanco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34"/>
          <p:cNvSpPr/>
          <p:nvPr/>
        </p:nvSpPr>
        <p:spPr>
          <a:xfrm>
            <a:off x="5293440" y="29275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5"/>
          <p:cNvSpPr/>
          <p:nvPr/>
        </p:nvSpPr>
        <p:spPr>
          <a:xfrm>
            <a:off x="6302520" y="22780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5580720" y="61372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37"/>
          <p:cNvGraphicFramePr/>
          <p:nvPr/>
        </p:nvGraphicFramePr>
        <p:xfrm>
          <a:off x="3059280" y="14860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9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60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7" name="AutoShape 38"/>
          <p:cNvCxnSpPr/>
          <p:nvPr/>
        </p:nvCxnSpPr>
        <p:spPr>
          <a:xfrm flipV="1">
            <a:off x="1476360" y="350172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8" name="Line 39"/>
          <p:cNvSpPr/>
          <p:nvPr/>
        </p:nvSpPr>
        <p:spPr>
          <a:xfrm>
            <a:off x="4211280" y="27828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1693080" y="45100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1"/>
          <p:cNvGrpSpPr/>
          <p:nvPr/>
        </p:nvGrpSpPr>
        <p:grpSpPr>
          <a:xfrm>
            <a:off x="6877080" y="2249640"/>
            <a:ext cx="930240" cy="457560"/>
            <a:chOff x="6877080" y="2249640"/>
            <a:chExt cx="930240" cy="457560"/>
          </a:xfrm>
        </p:grpSpPr>
        <p:sp>
          <p:nvSpPr>
            <p:cNvPr id="401" name="Rectangle 42"/>
            <p:cNvSpPr/>
            <p:nvPr/>
          </p:nvSpPr>
          <p:spPr>
            <a:xfrm>
              <a:off x="6877080" y="2322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43"/>
            <p:cNvSpPr/>
            <p:nvPr/>
          </p:nvSpPr>
          <p:spPr>
            <a:xfrm>
              <a:off x="6877080" y="2538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7021080" y="22496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5"/>
            <p:cNvSpPr/>
            <p:nvPr/>
          </p:nvSpPr>
          <p:spPr>
            <a:xfrm>
              <a:off x="7021080" y="2465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46"/>
          <p:cNvSpPr/>
          <p:nvPr/>
        </p:nvSpPr>
        <p:spPr>
          <a:xfrm>
            <a:off x="823356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Group 47"/>
          <p:cNvGraphicFramePr/>
          <p:nvPr/>
        </p:nvGraphicFramePr>
        <p:xfrm>
          <a:off x="395280" y="35434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Introducción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1640" y="278136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Microfinanza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303560" y="1611360"/>
            <a:ext cx="6903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Servicios financieros para la mayoría: el futuro de los bancos en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Group 5"/>
          <p:cNvGraphicFramePr/>
          <p:nvPr/>
        </p:nvGraphicFramePr>
        <p:xfrm>
          <a:off x="3348000" y="3716280"/>
          <a:ext cx="5363640" cy="211248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uido Cordero, Banco del Pichinch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erbert Müller, Bancosol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triz Marulanda, Marulanda Consultores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uricio Múnera, Bancolombi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2" name="Group 32"/>
          <p:cNvGraphicFramePr/>
          <p:nvPr/>
        </p:nvGraphicFramePr>
        <p:xfrm>
          <a:off x="395280" y="376092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 Box 43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5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46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17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18" name="AutoShape 47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9" name="Line 48"/>
          <p:cNvSpPr/>
          <p:nvPr/>
        </p:nvSpPr>
        <p:spPr>
          <a:xfrm>
            <a:off x="385092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9"/>
          <p:cNvSpPr/>
          <p:nvPr/>
        </p:nvSpPr>
        <p:spPr>
          <a:xfrm>
            <a:off x="1693080" y="479736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50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422" name="Rectangle 51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52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53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4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55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6519960" y="5208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180880" y="1484280"/>
            <a:ext cx="4703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 papel de las ONG en el futuro de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Group 4"/>
          <p:cNvGraphicFramePr/>
          <p:nvPr/>
        </p:nvGraphicFramePr>
        <p:xfrm>
          <a:off x="3348000" y="3662280"/>
          <a:ext cx="5616360" cy="2295000"/>
        </p:xfrm>
        <a:graphic>
          <a:graphicData uri="http://schemas.openxmlformats.org/drawingml/2006/table">
            <a:tbl>
              <a:tblPr/>
              <a:tblGrid>
                <a:gridCol w="2288880"/>
                <a:gridCol w="518760"/>
                <a:gridCol w="2174760"/>
                <a:gridCol w="633240"/>
              </a:tblGrid>
              <a:tr h="14112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ldi Delgado, Pro Mujer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y Ellen Iskenderian, Banco Mundial de la Mujer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lio Flores, Fondo de Desarrollo Local (FDL)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ardo Suxo, Diaconía FRIF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Object 32"/>
          <p:cNvGraphicFramePr/>
          <p:nvPr/>
        </p:nvGraphicFramePr>
        <p:xfrm>
          <a:off x="2987640" y="16160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3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160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Group 33"/>
          <p:cNvGraphicFramePr/>
          <p:nvPr/>
        </p:nvGraphicFramePr>
        <p:xfrm>
          <a:off x="395280" y="363384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Text Box 44"/>
          <p:cNvSpPr/>
          <p:nvPr/>
        </p:nvSpPr>
        <p:spPr>
          <a:xfrm>
            <a:off x="5293440" y="30146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5"/>
          <p:cNvSpPr/>
          <p:nvPr/>
        </p:nvSpPr>
        <p:spPr>
          <a:xfrm>
            <a:off x="6229440" y="2438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AutoShape 46"/>
          <p:cNvCxnSpPr/>
          <p:nvPr/>
        </p:nvCxnSpPr>
        <p:spPr>
          <a:xfrm flipV="1">
            <a:off x="1476360" y="358920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7" name="Line 47"/>
          <p:cNvSpPr/>
          <p:nvPr/>
        </p:nvSpPr>
        <p:spPr>
          <a:xfrm>
            <a:off x="3850920" y="294156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8"/>
          <p:cNvSpPr/>
          <p:nvPr/>
        </p:nvSpPr>
        <p:spPr>
          <a:xfrm>
            <a:off x="1764360" y="4653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9"/>
          <p:cNvSpPr/>
          <p:nvPr/>
        </p:nvSpPr>
        <p:spPr>
          <a:xfrm>
            <a:off x="8235000" y="602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50"/>
          <p:cNvGrpSpPr/>
          <p:nvPr/>
        </p:nvGrpSpPr>
        <p:grpSpPr>
          <a:xfrm>
            <a:off x="6877080" y="2349360"/>
            <a:ext cx="930240" cy="457920"/>
            <a:chOff x="6877080" y="2349360"/>
            <a:chExt cx="930240" cy="457920"/>
          </a:xfrm>
        </p:grpSpPr>
        <p:sp>
          <p:nvSpPr>
            <p:cNvPr id="441" name="Rectangle 51"/>
            <p:cNvSpPr/>
            <p:nvPr/>
          </p:nvSpPr>
          <p:spPr>
            <a:xfrm>
              <a:off x="6877080" y="24224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52"/>
            <p:cNvSpPr/>
            <p:nvPr/>
          </p:nvSpPr>
          <p:spPr>
            <a:xfrm>
              <a:off x="6877080" y="26384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53"/>
            <p:cNvSpPr/>
            <p:nvPr/>
          </p:nvSpPr>
          <p:spPr>
            <a:xfrm>
              <a:off x="7021080" y="23493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4"/>
            <p:cNvSpPr/>
            <p:nvPr/>
          </p:nvSpPr>
          <p:spPr>
            <a:xfrm>
              <a:off x="7021080" y="25653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55"/>
          <p:cNvSpPr/>
          <p:nvPr/>
        </p:nvSpPr>
        <p:spPr>
          <a:xfrm>
            <a:off x="5425200" y="602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919600" y="1611360"/>
            <a:ext cx="3660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Remesas y la democratización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Group 5"/>
          <p:cNvGraphicFramePr/>
          <p:nvPr/>
        </p:nvGraphicFramePr>
        <p:xfrm>
          <a:off x="2987640" y="3408480"/>
          <a:ext cx="5905080" cy="2696760"/>
        </p:xfrm>
        <a:graphic>
          <a:graphicData uri="http://schemas.openxmlformats.org/drawingml/2006/table">
            <a:tbl>
              <a:tblPr/>
              <a:tblGrid>
                <a:gridCol w="2508120"/>
                <a:gridCol w="444240"/>
                <a:gridCol w="2447640"/>
                <a:gridCol w="288720"/>
                <a:gridCol w="215640"/>
              </a:tblGrid>
              <a:tr h="214200"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rgio Bendixen, Consultor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nald Terry, Fondo Multilateral de Inversiones (FOMIN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ónica Brand, Acción Internacional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x Chion Li, Banco del Trabajo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istóteles Esperanza, Banco Mundial de la Mujer, EE.U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Object 41"/>
          <p:cNvGraphicFramePr/>
          <p:nvPr/>
        </p:nvGraphicFramePr>
        <p:xfrm>
          <a:off x="3132000" y="14558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5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4558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Group 42"/>
          <p:cNvGraphicFramePr/>
          <p:nvPr/>
        </p:nvGraphicFramePr>
        <p:xfrm>
          <a:off x="250920" y="344016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56"/>
          <p:cNvSpPr/>
          <p:nvPr/>
        </p:nvSpPr>
        <p:spPr>
          <a:xfrm>
            <a:off x="5436360" y="28242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7"/>
          <p:cNvSpPr/>
          <p:nvPr/>
        </p:nvSpPr>
        <p:spPr>
          <a:xfrm>
            <a:off x="6374160" y="233856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58"/>
          <p:cNvCxnSpPr/>
          <p:nvPr/>
        </p:nvCxnSpPr>
        <p:spPr>
          <a:xfrm flipV="1">
            <a:off x="1476360" y="340020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6" name="Line 59"/>
          <p:cNvSpPr/>
          <p:nvPr/>
        </p:nvSpPr>
        <p:spPr>
          <a:xfrm>
            <a:off x="3850920" y="275256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60"/>
          <p:cNvGrpSpPr/>
          <p:nvPr/>
        </p:nvGrpSpPr>
        <p:grpSpPr>
          <a:xfrm>
            <a:off x="6953400" y="2249640"/>
            <a:ext cx="929880" cy="457560"/>
            <a:chOff x="6953400" y="2249640"/>
            <a:chExt cx="929880" cy="457560"/>
          </a:xfrm>
        </p:grpSpPr>
        <p:sp>
          <p:nvSpPr>
            <p:cNvPr id="458" name="Rectangle 61"/>
            <p:cNvSpPr/>
            <p:nvPr/>
          </p:nvSpPr>
          <p:spPr>
            <a:xfrm>
              <a:off x="6953400" y="2322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2"/>
            <p:cNvSpPr/>
            <p:nvPr/>
          </p:nvSpPr>
          <p:spPr>
            <a:xfrm>
              <a:off x="6953400" y="2538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3"/>
            <p:cNvSpPr/>
            <p:nvPr/>
          </p:nvSpPr>
          <p:spPr>
            <a:xfrm>
              <a:off x="7097040" y="22496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64"/>
            <p:cNvSpPr/>
            <p:nvPr/>
          </p:nvSpPr>
          <p:spPr>
            <a:xfrm>
              <a:off x="7097040" y="2465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65"/>
          <p:cNvSpPr/>
          <p:nvPr/>
        </p:nvSpPr>
        <p:spPr>
          <a:xfrm>
            <a:off x="522036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6"/>
          <p:cNvSpPr/>
          <p:nvPr/>
        </p:nvSpPr>
        <p:spPr>
          <a:xfrm>
            <a:off x="823356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7"/>
          <p:cNvSpPr/>
          <p:nvPr/>
        </p:nvSpPr>
        <p:spPr>
          <a:xfrm>
            <a:off x="1620000" y="469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260080" y="1611360"/>
            <a:ext cx="4617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Tecnología para reducir costos en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Group 5"/>
          <p:cNvGraphicFramePr/>
          <p:nvPr/>
        </p:nvGraphicFramePr>
        <p:xfrm>
          <a:off x="3348000" y="3624120"/>
          <a:ext cx="5471640" cy="2477520"/>
        </p:xfrm>
        <a:graphic>
          <a:graphicData uri="http://schemas.openxmlformats.org/drawingml/2006/table">
            <a:tbl>
              <a:tblPr/>
              <a:tblGrid>
                <a:gridCol w="2160360"/>
                <a:gridCol w="431640"/>
                <a:gridCol w="230328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nine Firpo, Sevak Solutions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triz Morant Zacarés, Agencia Española de Cooperación Internacional (AECI)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ime Maestre, Consejo Mundial de Cooperativas de Ahorro y Crédito (WOCCU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Object 33"/>
          <p:cNvGraphicFramePr/>
          <p:nvPr/>
        </p:nvGraphicFramePr>
        <p:xfrm>
          <a:off x="2987640" y="16714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70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714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Group 34"/>
          <p:cNvGraphicFramePr/>
          <p:nvPr/>
        </p:nvGraphicFramePr>
        <p:xfrm>
          <a:off x="395280" y="364500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48"/>
          <p:cNvSpPr/>
          <p:nvPr/>
        </p:nvSpPr>
        <p:spPr>
          <a:xfrm>
            <a:off x="5293440" y="30686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9"/>
          <p:cNvSpPr/>
          <p:nvPr/>
        </p:nvSpPr>
        <p:spPr>
          <a:xfrm>
            <a:off x="6229440" y="25160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0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475" name="Rectangle 51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2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53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4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9" name="AutoShape 55"/>
          <p:cNvCxnSpPr/>
          <p:nvPr/>
        </p:nvCxnSpPr>
        <p:spPr>
          <a:xfrm flipV="1">
            <a:off x="1476360" y="360036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0" name="Line 56"/>
          <p:cNvSpPr/>
          <p:nvPr/>
        </p:nvSpPr>
        <p:spPr>
          <a:xfrm>
            <a:off x="3850920" y="295272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824840" y="4913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53521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823356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675800" y="1628640"/>
            <a:ext cx="5643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Movilización de pequeños depósitos: diseño y control de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Group 5"/>
          <p:cNvGraphicFramePr/>
          <p:nvPr/>
        </p:nvGraphicFramePr>
        <p:xfrm>
          <a:off x="3276720" y="3807000"/>
          <a:ext cx="5471640" cy="2295000"/>
        </p:xfrm>
        <a:graphic>
          <a:graphicData uri="http://schemas.openxmlformats.org/drawingml/2006/table">
            <a:tbl>
              <a:tblPr/>
              <a:tblGrid>
                <a:gridCol w="2160360"/>
                <a:gridCol w="431640"/>
                <a:gridCol w="230328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i Deshpande, Grupo Consultivo de Ayuda a la Población Pobre (CGAP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lio Cárdenas, Bancentro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sé Arce Monte de Oca, FFP Prodem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Object 33"/>
          <p:cNvGraphicFramePr/>
          <p:nvPr/>
        </p:nvGraphicFramePr>
        <p:xfrm>
          <a:off x="3305160" y="18162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8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8162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Group 34"/>
          <p:cNvGraphicFramePr/>
          <p:nvPr/>
        </p:nvGraphicFramePr>
        <p:xfrm>
          <a:off x="324000" y="382752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48"/>
          <p:cNvSpPr/>
          <p:nvPr/>
        </p:nvSpPr>
        <p:spPr>
          <a:xfrm>
            <a:off x="5580720" y="32130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9"/>
          <p:cNvSpPr/>
          <p:nvPr/>
        </p:nvSpPr>
        <p:spPr>
          <a:xfrm>
            <a:off x="6377040" y="258912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50"/>
          <p:cNvGrpSpPr/>
          <p:nvPr/>
        </p:nvGrpSpPr>
        <p:grpSpPr>
          <a:xfrm>
            <a:off x="7024680" y="2536920"/>
            <a:ext cx="930240" cy="457560"/>
            <a:chOff x="7024680" y="2536920"/>
            <a:chExt cx="930240" cy="457560"/>
          </a:xfrm>
        </p:grpSpPr>
        <p:sp>
          <p:nvSpPr>
            <p:cNvPr id="494" name="Rectangle 51"/>
            <p:cNvSpPr/>
            <p:nvPr/>
          </p:nvSpPr>
          <p:spPr>
            <a:xfrm>
              <a:off x="7024680" y="261000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2"/>
            <p:cNvSpPr/>
            <p:nvPr/>
          </p:nvSpPr>
          <p:spPr>
            <a:xfrm>
              <a:off x="7024680" y="28256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53"/>
            <p:cNvSpPr/>
            <p:nvPr/>
          </p:nvSpPr>
          <p:spPr>
            <a:xfrm>
              <a:off x="7168680" y="253692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54"/>
            <p:cNvSpPr/>
            <p:nvPr/>
          </p:nvSpPr>
          <p:spPr>
            <a:xfrm>
              <a:off x="7168680" y="27525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8" name="AutoShape 55"/>
          <p:cNvCxnSpPr/>
          <p:nvPr/>
        </p:nvCxnSpPr>
        <p:spPr>
          <a:xfrm flipV="1">
            <a:off x="1404720" y="37828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9" name="Line 56"/>
          <p:cNvSpPr/>
          <p:nvPr/>
        </p:nvSpPr>
        <p:spPr>
          <a:xfrm>
            <a:off x="3779640" y="313524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7"/>
          <p:cNvSpPr/>
          <p:nvPr/>
        </p:nvSpPr>
        <p:spPr>
          <a:xfrm>
            <a:off x="1753200" y="5095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52808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9"/>
          <p:cNvSpPr/>
          <p:nvPr/>
        </p:nvSpPr>
        <p:spPr>
          <a:xfrm>
            <a:off x="81619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852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Mercados Financier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195640" y="1484280"/>
            <a:ext cx="5328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Gestión del riesgo en mercados financieros rurales: nuevos enfoques, nuevas 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Group 5"/>
          <p:cNvGraphicFramePr/>
          <p:nvPr/>
        </p:nvGraphicFramePr>
        <p:xfrm>
          <a:off x="3348000" y="3716280"/>
          <a:ext cx="5363640" cy="238896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del Durán Pitarque, Banco Soldario;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vier Vaca, Red Financiera Rural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dolfo Fernando Peña, Banrural, 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izabeth Ventura, EDPYME Confianza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35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5580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38"/>
          <p:cNvGraphicFramePr/>
          <p:nvPr/>
        </p:nvGraphicFramePr>
        <p:xfrm>
          <a:off x="3059280" y="174312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12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4312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13" name="AutoShape 39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4" name="Line 40"/>
          <p:cNvSpPr/>
          <p:nvPr/>
        </p:nvSpPr>
        <p:spPr>
          <a:xfrm>
            <a:off x="385092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1"/>
          <p:cNvSpPr/>
          <p:nvPr/>
        </p:nvSpPr>
        <p:spPr>
          <a:xfrm>
            <a:off x="1836000" y="5084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2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517" name="Rectangle 43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4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46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47"/>
          <p:cNvSpPr/>
          <p:nvPr/>
        </p:nvSpPr>
        <p:spPr>
          <a:xfrm>
            <a:off x="80892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Group 48"/>
          <p:cNvGraphicFramePr/>
          <p:nvPr/>
        </p:nvGraphicFramePr>
        <p:xfrm>
          <a:off x="395280" y="375768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2572920" y="1611360"/>
            <a:ext cx="3945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Reformas de las transacciones garantiz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Group 4"/>
          <p:cNvGraphicFramePr/>
          <p:nvPr/>
        </p:nvGraphicFramePr>
        <p:xfrm>
          <a:off x="2987640" y="3386160"/>
          <a:ext cx="6048000" cy="2660040"/>
        </p:xfrm>
        <a:graphic>
          <a:graphicData uri="http://schemas.openxmlformats.org/drawingml/2006/table">
            <a:tbl>
              <a:tblPr/>
              <a:tblGrid>
                <a:gridCol w="2879640"/>
                <a:gridCol w="504720"/>
                <a:gridCol w="2160360"/>
                <a:gridCol w="50292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Cantuarias, Universidad Peruana de Ciencias Aplicadas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rah Fandell, Corporación Interamericana de Inversiones (CII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ederique Dahan, Banco Europeo para la Reconstrucción y el Desarrollo (EBRD), Reino U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le Furnish, Centro Nacional Legal para el Libre Intercambio Interamericano (NLCIFT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6" name="Text Box 31"/>
          <p:cNvSpPr/>
          <p:nvPr/>
        </p:nvSpPr>
        <p:spPr>
          <a:xfrm>
            <a:off x="5293440" y="28116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2"/>
          <p:cNvSpPr/>
          <p:nvPr/>
        </p:nvSpPr>
        <p:spPr>
          <a:xfrm>
            <a:off x="6302520" y="216216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7152480" y="6093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34"/>
          <p:cNvGraphicFramePr/>
          <p:nvPr/>
        </p:nvGraphicFramePr>
        <p:xfrm>
          <a:off x="3059280" y="13842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3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3842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1" name="AutoShape 35"/>
          <p:cNvCxnSpPr/>
          <p:nvPr/>
        </p:nvCxnSpPr>
        <p:spPr>
          <a:xfrm flipV="1">
            <a:off x="1476360" y="338580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2" name="Line 36"/>
          <p:cNvSpPr/>
          <p:nvPr/>
        </p:nvSpPr>
        <p:spPr>
          <a:xfrm>
            <a:off x="3348000" y="2707920"/>
            <a:ext cx="360" cy="4622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2112120" y="43941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8"/>
          <p:cNvGrpSpPr/>
          <p:nvPr/>
        </p:nvGrpSpPr>
        <p:grpSpPr>
          <a:xfrm>
            <a:off x="6877080" y="2133720"/>
            <a:ext cx="930240" cy="457560"/>
            <a:chOff x="6877080" y="2133720"/>
            <a:chExt cx="930240" cy="457560"/>
          </a:xfrm>
        </p:grpSpPr>
        <p:sp>
          <p:nvSpPr>
            <p:cNvPr id="535" name="Rectangle 39"/>
            <p:cNvSpPr/>
            <p:nvPr/>
          </p:nvSpPr>
          <p:spPr>
            <a:xfrm>
              <a:off x="6877080" y="220680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0"/>
            <p:cNvSpPr/>
            <p:nvPr/>
          </p:nvSpPr>
          <p:spPr>
            <a:xfrm>
              <a:off x="6877080" y="24224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1"/>
            <p:cNvSpPr/>
            <p:nvPr/>
          </p:nvSpPr>
          <p:spPr>
            <a:xfrm>
              <a:off x="7021080" y="213372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42"/>
            <p:cNvSpPr/>
            <p:nvPr/>
          </p:nvSpPr>
          <p:spPr>
            <a:xfrm>
              <a:off x="7021080" y="23493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Group 43"/>
          <p:cNvGraphicFramePr/>
          <p:nvPr/>
        </p:nvGraphicFramePr>
        <p:xfrm>
          <a:off x="395280" y="342756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55"/>
          <p:cNvSpPr/>
          <p:nvPr/>
        </p:nvSpPr>
        <p:spPr>
          <a:xfrm>
            <a:off x="4415760" y="6064200"/>
            <a:ext cx="1805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* En número de men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7"/>
          <p:cNvSpPr/>
          <p:nvPr/>
        </p:nvSpPr>
        <p:spPr>
          <a:xfrm>
            <a:off x="326880" y="551664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656800" y="1611360"/>
            <a:ext cx="4154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Los gobiernos de la región y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Group 4"/>
          <p:cNvGraphicFramePr/>
          <p:nvPr/>
        </p:nvGraphicFramePr>
        <p:xfrm>
          <a:off x="2843280" y="3330720"/>
          <a:ext cx="6121080" cy="2847960"/>
        </p:xfrm>
        <a:graphic>
          <a:graphicData uri="http://schemas.openxmlformats.org/drawingml/2006/table">
            <a:tbl>
              <a:tblPr/>
              <a:tblGrid>
                <a:gridCol w="2952720"/>
                <a:gridCol w="647640"/>
                <a:gridCol w="2016000"/>
                <a:gridCol w="50472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rnesto Aguirre, Grupo Consultivo de Ayuda a la Población Pobre (CGAP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Lucano, Cyrano Management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dro Arriola, Banco ProCredit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abel Guzmán, Banco Estado Microempresas S.A.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Padilla, Consultor Independiente de Microfinanzas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lar Ramirez, F.I.E., S.A.;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37"/>
          <p:cNvSpPr/>
          <p:nvPr/>
        </p:nvSpPr>
        <p:spPr>
          <a:xfrm>
            <a:off x="5293440" y="27558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6302520" y="2205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96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40"/>
          <p:cNvGraphicFramePr/>
          <p:nvPr/>
        </p:nvGraphicFramePr>
        <p:xfrm>
          <a:off x="3059280" y="14018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4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018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50" name="AutoShape 41"/>
          <p:cNvCxnSpPr/>
          <p:nvPr/>
        </p:nvCxnSpPr>
        <p:spPr>
          <a:xfrm flipV="1">
            <a:off x="1476360" y="333036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1" name="Line 42"/>
          <p:cNvSpPr/>
          <p:nvPr/>
        </p:nvSpPr>
        <p:spPr>
          <a:xfrm>
            <a:off x="3850920" y="2707920"/>
            <a:ext cx="360" cy="4064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1755000" y="4411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44"/>
          <p:cNvGrpSpPr/>
          <p:nvPr/>
        </p:nvGrpSpPr>
        <p:grpSpPr>
          <a:xfrm>
            <a:off x="6877080" y="2176560"/>
            <a:ext cx="930240" cy="457560"/>
            <a:chOff x="6877080" y="2176560"/>
            <a:chExt cx="930240" cy="457560"/>
          </a:xfrm>
        </p:grpSpPr>
        <p:sp>
          <p:nvSpPr>
            <p:cNvPr id="554" name="Rectangle 45"/>
            <p:cNvSpPr/>
            <p:nvPr/>
          </p:nvSpPr>
          <p:spPr>
            <a:xfrm>
              <a:off x="6877080" y="22496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47"/>
            <p:cNvSpPr/>
            <p:nvPr/>
          </p:nvSpPr>
          <p:spPr>
            <a:xfrm>
              <a:off x="7021080" y="21765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8"/>
            <p:cNvSpPr/>
            <p:nvPr/>
          </p:nvSpPr>
          <p:spPr>
            <a:xfrm>
              <a:off x="7021080" y="2392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49"/>
          <p:cNvSpPr/>
          <p:nvPr/>
        </p:nvSpPr>
        <p:spPr>
          <a:xfrm>
            <a:off x="83178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Group 50"/>
          <p:cNvGraphicFramePr/>
          <p:nvPr/>
        </p:nvGraphicFramePr>
        <p:xfrm>
          <a:off x="395280" y="337176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Rectangle 61"/>
          <p:cNvSpPr/>
          <p:nvPr/>
        </p:nvSpPr>
        <p:spPr>
          <a:xfrm>
            <a:off x="6519960" y="5424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335240"/>
            <a:ext cx="7772040" cy="490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1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Foro Interamericano de la Microempresa es un evento anual organizado por el Banco Interamericano de Desarrollo (BID), que se ha constituido en un importante mecanismo de difusión y divulgación de los avances e innovaciones de los servicios financieros y de desarrollo empresarial para las micro y pequeñas empresas que están ocurriendo en diferentes países e institucione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2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stos foros constituyen un esfuerzo sistemático del BID y de organismos públicos y privados de divulgar entre ONG’s, organismos internacionales y empresarios, informaciones relacionadas con los instrumentos y mecanismos que comúnmente se utilizan para la promoción y desarrollo de las micro y pequeñas empresas. 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cedent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3341160" y="1611360"/>
            <a:ext cx="2343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Microfinanzas y Basilea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Group 5"/>
          <p:cNvGraphicFramePr/>
          <p:nvPr/>
        </p:nvGraphicFramePr>
        <p:xfrm>
          <a:off x="3348000" y="3673440"/>
          <a:ext cx="5616360" cy="2477520"/>
        </p:xfrm>
        <a:graphic>
          <a:graphicData uri="http://schemas.openxmlformats.org/drawingml/2006/table">
            <a:tbl>
              <a:tblPr/>
              <a:tblGrid>
                <a:gridCol w="2232000"/>
                <a:gridCol w="576000"/>
                <a:gridCol w="237636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rique Navarrete, SCALAR Consulting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dy Araujo, Asociación de Supervisores Bancarios de las Americas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drew Powell, EE.UU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rda Sotomayor, Superintendencia de Banca y Seguros, 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32"/>
          <p:cNvSpPr/>
          <p:nvPr/>
        </p:nvSpPr>
        <p:spPr>
          <a:xfrm>
            <a:off x="5293440" y="30988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6521760" y="25210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550944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5"/>
          <p:cNvGraphicFramePr/>
          <p:nvPr/>
        </p:nvGraphicFramePr>
        <p:xfrm>
          <a:off x="330516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69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70" name="AutoShape 36"/>
          <p:cNvCxnSpPr/>
          <p:nvPr/>
        </p:nvCxnSpPr>
        <p:spPr>
          <a:xfrm flipV="1">
            <a:off x="1476360" y="367344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1" name="Line 37"/>
          <p:cNvSpPr/>
          <p:nvPr/>
        </p:nvSpPr>
        <p:spPr>
          <a:xfrm>
            <a:off x="3850920" y="302544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8"/>
          <p:cNvSpPr/>
          <p:nvPr/>
        </p:nvSpPr>
        <p:spPr>
          <a:xfrm>
            <a:off x="1755000" y="5041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9"/>
          <p:cNvGrpSpPr/>
          <p:nvPr/>
        </p:nvGrpSpPr>
        <p:grpSpPr>
          <a:xfrm>
            <a:off x="7095960" y="2492280"/>
            <a:ext cx="930240" cy="457920"/>
            <a:chOff x="7095960" y="2492280"/>
            <a:chExt cx="930240" cy="457920"/>
          </a:xfrm>
        </p:grpSpPr>
        <p:sp>
          <p:nvSpPr>
            <p:cNvPr id="574" name="Rectangle 40"/>
            <p:cNvSpPr/>
            <p:nvPr/>
          </p:nvSpPr>
          <p:spPr>
            <a:xfrm>
              <a:off x="7095960" y="2565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1"/>
            <p:cNvSpPr/>
            <p:nvPr/>
          </p:nvSpPr>
          <p:spPr>
            <a:xfrm>
              <a:off x="7095960" y="2781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42"/>
            <p:cNvSpPr/>
            <p:nvPr/>
          </p:nvSpPr>
          <p:spPr>
            <a:xfrm>
              <a:off x="7239960" y="249228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43"/>
            <p:cNvSpPr/>
            <p:nvPr/>
          </p:nvSpPr>
          <p:spPr>
            <a:xfrm>
              <a:off x="7239960" y="2708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44"/>
          <p:cNvSpPr/>
          <p:nvPr/>
        </p:nvSpPr>
        <p:spPr>
          <a:xfrm>
            <a:off x="830484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Group 45"/>
          <p:cNvGraphicFramePr/>
          <p:nvPr/>
        </p:nvGraphicFramePr>
        <p:xfrm>
          <a:off x="395280" y="371484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59"/>
          <p:cNvSpPr/>
          <p:nvPr/>
        </p:nvSpPr>
        <p:spPr>
          <a:xfrm>
            <a:off x="6372360" y="549576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50920" y="602136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713520" y="1341360"/>
            <a:ext cx="7657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 intercambio de información crediticia y su efecto sobre la expansión de los 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financieros y comerciales a personas de bajos 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Group 5"/>
          <p:cNvGraphicFramePr/>
          <p:nvPr/>
        </p:nvGraphicFramePr>
        <p:xfrm>
          <a:off x="3348000" y="3571920"/>
          <a:ext cx="5616360" cy="2571480"/>
        </p:xfrm>
        <a:graphic>
          <a:graphicData uri="http://schemas.openxmlformats.org/drawingml/2006/table">
            <a:tbl>
              <a:tblPr/>
              <a:tblGrid>
                <a:gridCol w="2592360"/>
                <a:gridCol w="718920"/>
                <a:gridCol w="187308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Pablo Guerra Galán, Unión de Cooperativas de Ahorro y Crédito del Sur (UCACSUR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rnai Velarde, USAID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Manuel Ruiz Palmieri, Círculo de Crédito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in Young, Development Alternatives, Inc. (DAI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5" name="Text Box 35"/>
          <p:cNvSpPr/>
          <p:nvPr/>
        </p:nvSpPr>
        <p:spPr>
          <a:xfrm>
            <a:off x="5293440" y="299736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6"/>
          <p:cNvSpPr/>
          <p:nvPr/>
        </p:nvSpPr>
        <p:spPr>
          <a:xfrm>
            <a:off x="6302520" y="2421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7"/>
          <p:cNvSpPr/>
          <p:nvPr/>
        </p:nvSpPr>
        <p:spPr>
          <a:xfrm>
            <a:off x="594108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38"/>
          <p:cNvGraphicFramePr/>
          <p:nvPr/>
        </p:nvGraphicFramePr>
        <p:xfrm>
          <a:off x="3059280" y="16286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89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90" name="AutoShape 39"/>
          <p:cNvCxnSpPr/>
          <p:nvPr/>
        </p:nvCxnSpPr>
        <p:spPr>
          <a:xfrm flipV="1">
            <a:off x="1476360" y="357156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1" name="Line 40"/>
          <p:cNvSpPr/>
          <p:nvPr/>
        </p:nvSpPr>
        <p:spPr>
          <a:xfrm>
            <a:off x="3850920" y="292392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1755000" y="4940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2"/>
          <p:cNvGrpSpPr/>
          <p:nvPr/>
        </p:nvGrpSpPr>
        <p:grpSpPr>
          <a:xfrm>
            <a:off x="6877080" y="2392200"/>
            <a:ext cx="930240" cy="457920"/>
            <a:chOff x="6877080" y="2392200"/>
            <a:chExt cx="930240" cy="457920"/>
          </a:xfrm>
        </p:grpSpPr>
        <p:sp>
          <p:nvSpPr>
            <p:cNvPr id="594" name="Rectangle 43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6877080" y="2681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5"/>
            <p:cNvSpPr/>
            <p:nvPr/>
          </p:nvSpPr>
          <p:spPr>
            <a:xfrm>
              <a:off x="7021080" y="239220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6"/>
            <p:cNvSpPr/>
            <p:nvPr/>
          </p:nvSpPr>
          <p:spPr>
            <a:xfrm>
              <a:off x="7021080" y="2608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7"/>
          <p:cNvSpPr/>
          <p:nvPr/>
        </p:nvSpPr>
        <p:spPr>
          <a:xfrm>
            <a:off x="8244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Group 48"/>
          <p:cNvGraphicFramePr/>
          <p:nvPr/>
        </p:nvGraphicFramePr>
        <p:xfrm>
          <a:off x="395280" y="361332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63"/>
          <p:cNvSpPr/>
          <p:nvPr/>
        </p:nvSpPr>
        <p:spPr>
          <a:xfrm>
            <a:off x="673560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71640" y="2852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Acceso a Mercad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752840" y="1611360"/>
            <a:ext cx="56095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Nuevas tendencias en el financiamiento de las cadenas 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Group 4"/>
          <p:cNvGraphicFramePr/>
          <p:nvPr/>
        </p:nvGraphicFramePr>
        <p:xfrm>
          <a:off x="3348000" y="3716280"/>
          <a:ext cx="5616360" cy="2206440"/>
        </p:xfrm>
        <a:graphic>
          <a:graphicData uri="http://schemas.openxmlformats.org/drawingml/2006/table">
            <a:tbl>
              <a:tblPr/>
              <a:tblGrid>
                <a:gridCol w="2447640"/>
                <a:gridCol w="504720"/>
                <a:gridCol w="2016000"/>
                <a:gridCol w="647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va Ramos, Fundación Ecología y Desarrollo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ardo Estrada, CORPEI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en Shwedel, Rabobank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Vaca, Pronac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rique Zamora, Grupo LAFISE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5" name="Text Box 34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5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6"/>
          <p:cNvSpPr/>
          <p:nvPr/>
        </p:nvSpPr>
        <p:spPr>
          <a:xfrm>
            <a:off x="571248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Object 37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0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0" name="AutoShape 38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1" name="Line 39"/>
          <p:cNvSpPr/>
          <p:nvPr/>
        </p:nvSpPr>
        <p:spPr>
          <a:xfrm>
            <a:off x="385092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1755000" y="5084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1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14" name="Rectangle 42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3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4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45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 Box 46"/>
          <p:cNvSpPr/>
          <p:nvPr/>
        </p:nvSpPr>
        <p:spPr>
          <a:xfrm>
            <a:off x="83048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Group 47"/>
          <p:cNvGraphicFramePr/>
          <p:nvPr/>
        </p:nvGraphicFramePr>
        <p:xfrm>
          <a:off x="395280" y="375768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Rectangle 61"/>
          <p:cNvSpPr/>
          <p:nvPr/>
        </p:nvSpPr>
        <p:spPr>
          <a:xfrm>
            <a:off x="6448320" y="5208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84520" y="4096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218320" y="1413000"/>
            <a:ext cx="4677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ortunidades para la mayoría  en el entorn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Group 57"/>
          <p:cNvGraphicFramePr/>
          <p:nvPr/>
        </p:nvGraphicFramePr>
        <p:xfrm>
          <a:off x="3348000" y="3716280"/>
          <a:ext cx="5363640" cy="211248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los Calderón, Chile Emprende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ris Becker, GTZ, 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co Moncayo, Alcalde de la Ciudad de Quito;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avillas Rojo, Barcelona Activa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4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3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2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9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0" name="Line 36"/>
          <p:cNvSpPr/>
          <p:nvPr/>
        </p:nvSpPr>
        <p:spPr>
          <a:xfrm>
            <a:off x="356364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182484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33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 Box 43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Rectangle 58"/>
          <p:cNvSpPr/>
          <p:nvPr/>
        </p:nvSpPr>
        <p:spPr>
          <a:xfrm>
            <a:off x="3348000" y="580536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2730960" y="1611360"/>
            <a:ext cx="3640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strategias para acceder a los mer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Group 4"/>
          <p:cNvGraphicFramePr/>
          <p:nvPr/>
        </p:nvGraphicFramePr>
        <p:xfrm>
          <a:off x="3348000" y="3716280"/>
          <a:ext cx="5616360" cy="2571480"/>
        </p:xfrm>
        <a:graphic>
          <a:graphicData uri="http://schemas.openxmlformats.org/drawingml/2006/table">
            <a:tbl>
              <a:tblPr/>
              <a:tblGrid>
                <a:gridCol w="2447640"/>
                <a:gridCol w="576000"/>
                <a:gridCol w="1944360"/>
                <a:gridCol w="647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eslie Claros, FUNDES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cilia Duque, Artesanías de Colombi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y Cockram, Aid to Artisans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layson Ferrari Dos Santos, Visión Mundial Internacional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uel Eguiguren, INPART;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34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6"/>
          <p:cNvSpPr/>
          <p:nvPr/>
        </p:nvSpPr>
        <p:spPr>
          <a:xfrm>
            <a:off x="571248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37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47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48" name="AutoShape 38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9" name="Line 39"/>
          <p:cNvSpPr/>
          <p:nvPr/>
        </p:nvSpPr>
        <p:spPr>
          <a:xfrm>
            <a:off x="363528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175500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41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52" name="Rectangle 42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3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44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5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46"/>
          <p:cNvSpPr/>
          <p:nvPr/>
        </p:nvSpPr>
        <p:spPr>
          <a:xfrm>
            <a:off x="83048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Group 47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Rectangle 58"/>
          <p:cNvSpPr/>
          <p:nvPr/>
        </p:nvSpPr>
        <p:spPr>
          <a:xfrm>
            <a:off x="65199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604440" y="1413000"/>
            <a:ext cx="79351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Creando riqueza e impacto social: el rol de los emprendedores sociales y el sector priv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n el desarrollo de mercados al servicio de las may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Group 4"/>
          <p:cNvGraphicFramePr/>
          <p:nvPr/>
        </p:nvGraphicFramePr>
        <p:xfrm>
          <a:off x="3132000" y="3500280"/>
          <a:ext cx="5832000" cy="2665440"/>
        </p:xfrm>
        <a:graphic>
          <a:graphicData uri="http://schemas.openxmlformats.org/drawingml/2006/table">
            <a:tbl>
              <a:tblPr/>
              <a:tblGrid>
                <a:gridCol w="2766960"/>
                <a:gridCol w="447480"/>
                <a:gridCol w="2170080"/>
                <a:gridCol w="44748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tonio Bunchaft, PANGEA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aleria Budinich, Ashoka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ancisco de la Torre, Amanco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aidy Duque, Taller de Vid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uro García, Red de Agricultores Sustentables Autogestivos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erto Gutierrez, Social Enterprise Knowledge Network (SEKN)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2" name="Text Box 37"/>
          <p:cNvSpPr/>
          <p:nvPr/>
        </p:nvSpPr>
        <p:spPr>
          <a:xfrm>
            <a:off x="5293440" y="2925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302520" y="22766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572508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40"/>
          <p:cNvGraphicFramePr/>
          <p:nvPr/>
        </p:nvGraphicFramePr>
        <p:xfrm>
          <a:off x="3059280" y="1484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6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4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7" name="AutoShape 41"/>
          <p:cNvCxnSpPr/>
          <p:nvPr/>
        </p:nvCxnSpPr>
        <p:spPr>
          <a:xfrm flipV="1">
            <a:off x="1476360" y="3500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8" name="Line 42"/>
          <p:cNvSpPr/>
          <p:nvPr/>
        </p:nvSpPr>
        <p:spPr>
          <a:xfrm>
            <a:off x="3635280" y="2781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3"/>
          <p:cNvSpPr/>
          <p:nvPr/>
        </p:nvSpPr>
        <p:spPr>
          <a:xfrm>
            <a:off x="1755000" y="458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4"/>
          <p:cNvGrpSpPr/>
          <p:nvPr/>
        </p:nvGrpSpPr>
        <p:grpSpPr>
          <a:xfrm>
            <a:off x="6877080" y="2247840"/>
            <a:ext cx="930240" cy="457920"/>
            <a:chOff x="6877080" y="2247840"/>
            <a:chExt cx="930240" cy="457920"/>
          </a:xfrm>
        </p:grpSpPr>
        <p:sp>
          <p:nvSpPr>
            <p:cNvPr id="671" name="Rectangle 45"/>
            <p:cNvSpPr/>
            <p:nvPr/>
          </p:nvSpPr>
          <p:spPr>
            <a:xfrm>
              <a:off x="6877080" y="2320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47"/>
            <p:cNvSpPr/>
            <p:nvPr/>
          </p:nvSpPr>
          <p:spPr>
            <a:xfrm>
              <a:off x="7021080" y="2247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48"/>
            <p:cNvSpPr/>
            <p:nvPr/>
          </p:nvSpPr>
          <p:spPr>
            <a:xfrm>
              <a:off x="7021080" y="2463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 Box 49"/>
          <p:cNvSpPr/>
          <p:nvPr/>
        </p:nvSpPr>
        <p:spPr>
          <a:xfrm>
            <a:off x="83178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Group 50"/>
          <p:cNvGraphicFramePr/>
          <p:nvPr/>
        </p:nvGraphicFramePr>
        <p:xfrm>
          <a:off x="395280" y="3541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Rectangle 62"/>
          <p:cNvSpPr/>
          <p:nvPr/>
        </p:nvSpPr>
        <p:spPr>
          <a:xfrm>
            <a:off x="65199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026720" y="1611360"/>
            <a:ext cx="7066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ciones no tradicionales para el financiamiento de nuevas empresas diná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Group 59"/>
          <p:cNvGraphicFramePr/>
          <p:nvPr/>
        </p:nvGraphicFramePr>
        <p:xfrm>
          <a:off x="3348000" y="3716280"/>
          <a:ext cx="5363640" cy="2295000"/>
        </p:xfrm>
        <a:graphic>
          <a:graphicData uri="http://schemas.openxmlformats.org/drawingml/2006/table">
            <a:tbl>
              <a:tblPr/>
              <a:tblGrid>
                <a:gridCol w="2138040"/>
                <a:gridCol w="74736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án Echocopar, Universidad Adolfo Ibáez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uis Palau, Corporación Andina de Fomento (CAF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Prieto, Red Angeles Inversionistas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iano Ruani, Universidad Austral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1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5580720" y="60642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85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86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7" name="Line 36"/>
          <p:cNvSpPr/>
          <p:nvPr/>
        </p:nvSpPr>
        <p:spPr>
          <a:xfrm>
            <a:off x="349236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175500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90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43"/>
          <p:cNvSpPr/>
          <p:nvPr/>
        </p:nvSpPr>
        <p:spPr>
          <a:xfrm>
            <a:off x="7957440" y="60642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58"/>
          <p:cNvSpPr/>
          <p:nvPr/>
        </p:nvSpPr>
        <p:spPr>
          <a:xfrm>
            <a:off x="903240" y="5661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565360"/>
            <a:ext cx="7200720" cy="179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Entorno y Capital Humano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2783520" y="1611360"/>
            <a:ext cx="3651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Caminos hacia la formalidad empresa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Group 4"/>
          <p:cNvGraphicFramePr/>
          <p:nvPr/>
        </p:nvGraphicFramePr>
        <p:xfrm>
          <a:off x="3348000" y="3716280"/>
          <a:ext cx="5544720" cy="2201040"/>
        </p:xfrm>
        <a:graphic>
          <a:graphicData uri="http://schemas.openxmlformats.org/drawingml/2006/table">
            <a:tbl>
              <a:tblPr/>
              <a:tblGrid>
                <a:gridCol w="2303280"/>
                <a:gridCol w="582480"/>
                <a:gridCol w="208260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o Camacho, Intendencia Nacional de Estudios Tributarios y Planeamiento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io Tueros, Organización Internacional del Trabajo (OIT)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rge Madera, Experto en Seguridad Social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eopoldo Tornarolli, Centro de Estudios Distributivos Laborales y Sociales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1" name="Text Box 26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8"/>
          <p:cNvSpPr/>
          <p:nvPr/>
        </p:nvSpPr>
        <p:spPr>
          <a:xfrm>
            <a:off x="550944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Object 29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0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06" name="AutoShape 30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7" name="Line 31"/>
          <p:cNvSpPr/>
          <p:nvPr/>
        </p:nvSpPr>
        <p:spPr>
          <a:xfrm>
            <a:off x="341928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2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09" name="Rectangle 33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34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5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6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816048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Group 38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49"/>
          <p:cNvSpPr/>
          <p:nvPr/>
        </p:nvSpPr>
        <p:spPr>
          <a:xfrm>
            <a:off x="2112120" y="4768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2"/>
          <p:cNvSpPr/>
          <p:nvPr/>
        </p:nvSpPr>
        <p:spPr>
          <a:xfrm>
            <a:off x="47160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384200"/>
            <a:ext cx="81338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1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BID reconoce la importancia de documentar y sistematizar la información de los foros. La evaluación tiene como objetivo fundamental medir el impacto de la información en los participantes de los foros y en sus instituciones, el nivel de organización del Foro y el nivel técnico de los diversos componentes del evento.  Adicionalmente, la evaluación se torna como un instrumento de retroalimentación que permita mejorar los diferentes componentes de futuros evento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2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Ipsos - Napoleón Franco realizó una </a:t>
            </a:r>
            <a:r>
              <a:rPr b="0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evaluación online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a los asistentes del IX Foro de Quito – Ecuador, del cual se obtuvieron los siguientes resultados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76364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cedent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2059920" y="1611360"/>
            <a:ext cx="5105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xperiencias exitosas en la formación de emprendedo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Group 4"/>
          <p:cNvGraphicFramePr/>
          <p:nvPr/>
        </p:nvGraphicFramePr>
        <p:xfrm>
          <a:off x="3348000" y="3956040"/>
          <a:ext cx="5363640" cy="192996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bia Berbesi Flores, FUNDES, 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alia Arango, Actuar Famiempresas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Matos, SEBRAE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dra Piccioli, Fundasol, 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0" name="Text Box 31"/>
          <p:cNvSpPr/>
          <p:nvPr/>
        </p:nvSpPr>
        <p:spPr>
          <a:xfrm>
            <a:off x="5293440" y="33814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2"/>
          <p:cNvSpPr/>
          <p:nvPr/>
        </p:nvSpPr>
        <p:spPr>
          <a:xfrm>
            <a:off x="6302520" y="27320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3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34"/>
          <p:cNvGraphicFramePr/>
          <p:nvPr/>
        </p:nvGraphicFramePr>
        <p:xfrm>
          <a:off x="3059280" y="19400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24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400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5" name="AutoShape 35"/>
          <p:cNvCxnSpPr/>
          <p:nvPr/>
        </p:nvCxnSpPr>
        <p:spPr>
          <a:xfrm flipV="1">
            <a:off x="1476360" y="395604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Line 36"/>
          <p:cNvSpPr/>
          <p:nvPr/>
        </p:nvSpPr>
        <p:spPr>
          <a:xfrm>
            <a:off x="3635280" y="3213000"/>
            <a:ext cx="360" cy="5270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7"/>
          <p:cNvSpPr/>
          <p:nvPr/>
        </p:nvSpPr>
        <p:spPr>
          <a:xfrm>
            <a:off x="1693080" y="50371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38"/>
          <p:cNvGrpSpPr/>
          <p:nvPr/>
        </p:nvGrpSpPr>
        <p:grpSpPr>
          <a:xfrm>
            <a:off x="6877080" y="2703600"/>
            <a:ext cx="930240" cy="457560"/>
            <a:chOff x="6877080" y="2703600"/>
            <a:chExt cx="930240" cy="457560"/>
          </a:xfrm>
        </p:grpSpPr>
        <p:sp>
          <p:nvSpPr>
            <p:cNvPr id="729" name="Rectangle 39"/>
            <p:cNvSpPr/>
            <p:nvPr/>
          </p:nvSpPr>
          <p:spPr>
            <a:xfrm>
              <a:off x="6877080" y="277668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40"/>
            <p:cNvSpPr/>
            <p:nvPr/>
          </p:nvSpPr>
          <p:spPr>
            <a:xfrm>
              <a:off x="6877080" y="299232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41"/>
            <p:cNvSpPr/>
            <p:nvPr/>
          </p:nvSpPr>
          <p:spPr>
            <a:xfrm>
              <a:off x="7021080" y="270360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2"/>
            <p:cNvSpPr/>
            <p:nvPr/>
          </p:nvSpPr>
          <p:spPr>
            <a:xfrm>
              <a:off x="7021080" y="29192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43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Group 44"/>
          <p:cNvGraphicFramePr/>
          <p:nvPr/>
        </p:nvGraphicFramePr>
        <p:xfrm>
          <a:off x="395280" y="399744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Rectangle 55"/>
          <p:cNvSpPr/>
          <p:nvPr/>
        </p:nvSpPr>
        <p:spPr>
          <a:xfrm>
            <a:off x="6303960" y="528012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695520" y="1611360"/>
            <a:ext cx="786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Políticas públicas para el desarrollo de las pequeñas empresas: desafíos y oportunida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Group 4"/>
          <p:cNvGraphicFramePr/>
          <p:nvPr/>
        </p:nvGraphicFramePr>
        <p:xfrm>
          <a:off x="3348000" y="3716280"/>
          <a:ext cx="5363640" cy="2477520"/>
        </p:xfrm>
        <a:graphic>
          <a:graphicData uri="http://schemas.openxmlformats.org/drawingml/2006/table">
            <a:tbl>
              <a:tblPr/>
              <a:tblGrid>
                <a:gridCol w="2376360"/>
                <a:gridCol w="509400"/>
                <a:gridCol w="2009520"/>
                <a:gridCol w="468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ván Mifflin, Consultor, Mesa Coordinación PYME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blo Maas, Diario Clarín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na Nuñez, Consejo Nacional de Micro, Pequeña y Mediana Empresa, Hondu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ésar Rodríguez, Subsecretaría de la Micro y Pequeña Empres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9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56394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4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44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5" name="Line 36"/>
          <p:cNvSpPr/>
          <p:nvPr/>
        </p:nvSpPr>
        <p:spPr>
          <a:xfrm>
            <a:off x="349236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7"/>
          <p:cNvSpPr/>
          <p:nvPr/>
        </p:nvSpPr>
        <p:spPr>
          <a:xfrm>
            <a:off x="182484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48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43"/>
          <p:cNvSpPr/>
          <p:nvPr/>
        </p:nvSpPr>
        <p:spPr>
          <a:xfrm>
            <a:off x="80161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Rectangle 57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2185920" y="1413000"/>
            <a:ext cx="488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ectricidad, agua, gas, vivien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necesidades comunitarias y oportunidades de 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Group 62"/>
          <p:cNvGraphicFramePr/>
          <p:nvPr/>
        </p:nvGraphicFramePr>
        <p:xfrm>
          <a:off x="3203640" y="3284640"/>
          <a:ext cx="5832000" cy="2806920"/>
        </p:xfrm>
        <a:graphic>
          <a:graphicData uri="http://schemas.openxmlformats.org/drawingml/2006/table">
            <a:tbl>
              <a:tblPr/>
              <a:tblGrid>
                <a:gridCol w="2736720"/>
                <a:gridCol w="502920"/>
                <a:gridCol w="2089080"/>
                <a:gridCol w="502920"/>
              </a:tblGrid>
              <a:tr h="214200">
                <a:tc grid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oris Arteaga, Aguas del Este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scar Castillo, Banco Mundial/Experto en Servicios Básicos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nia Gonzáles, Hogar de Cristo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dela del Refugio Sagastume de Rizzo, Génesis Empresarial, 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úl Zavalía, Fundación Pro-Vivienda Social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8" name="Text Box 34"/>
          <p:cNvSpPr/>
          <p:nvPr/>
        </p:nvSpPr>
        <p:spPr>
          <a:xfrm>
            <a:off x="5293440" y="28544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6302520" y="2205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725080" y="61070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37"/>
          <p:cNvGraphicFramePr/>
          <p:nvPr/>
        </p:nvGraphicFramePr>
        <p:xfrm>
          <a:off x="3059280" y="14130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62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130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3" name="AutoShape 38"/>
          <p:cNvCxnSpPr/>
          <p:nvPr/>
        </p:nvCxnSpPr>
        <p:spPr>
          <a:xfrm flipV="1">
            <a:off x="1476360" y="328428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4" name="Line 39"/>
          <p:cNvSpPr/>
          <p:nvPr/>
        </p:nvSpPr>
        <p:spPr>
          <a:xfrm>
            <a:off x="3419280" y="2709720"/>
            <a:ext cx="360" cy="323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40"/>
          <p:cNvGrpSpPr/>
          <p:nvPr/>
        </p:nvGrpSpPr>
        <p:grpSpPr>
          <a:xfrm>
            <a:off x="6877080" y="2176560"/>
            <a:ext cx="930240" cy="457560"/>
            <a:chOff x="6877080" y="2176560"/>
            <a:chExt cx="930240" cy="457560"/>
          </a:xfrm>
        </p:grpSpPr>
        <p:sp>
          <p:nvSpPr>
            <p:cNvPr id="766" name="Rectangle 41"/>
            <p:cNvSpPr/>
            <p:nvPr/>
          </p:nvSpPr>
          <p:spPr>
            <a:xfrm>
              <a:off x="6877080" y="22496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3"/>
            <p:cNvSpPr/>
            <p:nvPr/>
          </p:nvSpPr>
          <p:spPr>
            <a:xfrm>
              <a:off x="7021080" y="21765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4"/>
            <p:cNvSpPr/>
            <p:nvPr/>
          </p:nvSpPr>
          <p:spPr>
            <a:xfrm>
              <a:off x="7021080" y="2392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45"/>
          <p:cNvSpPr/>
          <p:nvPr/>
        </p:nvSpPr>
        <p:spPr>
          <a:xfrm>
            <a:off x="8376480" y="61214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6"/>
          <p:cNvSpPr/>
          <p:nvPr/>
        </p:nvSpPr>
        <p:spPr>
          <a:xfrm>
            <a:off x="1824840" y="451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Group 47"/>
          <p:cNvGraphicFramePr/>
          <p:nvPr/>
        </p:nvGraphicFramePr>
        <p:xfrm>
          <a:off x="395280" y="342900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3" name="Rectangle 63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621520" y="1611360"/>
            <a:ext cx="3969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ortunidades para jóvenes emprend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Group 4"/>
          <p:cNvGraphicFramePr/>
          <p:nvPr/>
        </p:nvGraphicFramePr>
        <p:xfrm>
          <a:off x="3348000" y="3716280"/>
          <a:ext cx="5363640" cy="229500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Brandon, Barbados Youth Business Trust, Barb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aquín Ribadeneira, Morisaenz Group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nold Sabillón, Fundación Banhcafé, 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tricia Vedoya, Kittl Foundation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7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3"/>
          <p:cNvSpPr/>
          <p:nvPr/>
        </p:nvSpPr>
        <p:spPr>
          <a:xfrm>
            <a:off x="55807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81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82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3" name="Line 36"/>
          <p:cNvSpPr/>
          <p:nvPr/>
        </p:nvSpPr>
        <p:spPr>
          <a:xfrm>
            <a:off x="349236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7"/>
          <p:cNvSpPr/>
          <p:nvPr/>
        </p:nvSpPr>
        <p:spPr>
          <a:xfrm>
            <a:off x="1967760" y="4292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86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43"/>
          <p:cNvSpPr/>
          <p:nvPr/>
        </p:nvSpPr>
        <p:spPr>
          <a:xfrm>
            <a:off x="79574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Group 44"/>
          <p:cNvGraphicFramePr/>
          <p:nvPr/>
        </p:nvGraphicFramePr>
        <p:xfrm>
          <a:off x="395280" y="3757680"/>
          <a:ext cx="2114280" cy="45684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2" name="Rectangle 54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xpectativas sobre Futuros For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684360" y="1407960"/>
            <a:ext cx="77036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¿Participaría Usted en el X Foro Interamericano de la Microempresa, a celebrarse en El Salvador, en 2007?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11"/>
          <p:cNvGraphicFramePr/>
          <p:nvPr/>
        </p:nvGraphicFramePr>
        <p:xfrm>
          <a:off x="1309680" y="1828800"/>
          <a:ext cx="6501960" cy="43351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9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828800"/>
                    <a:ext cx="6501960" cy="43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 Box 12"/>
          <p:cNvSpPr/>
          <p:nvPr/>
        </p:nvSpPr>
        <p:spPr>
          <a:xfrm>
            <a:off x="755640" y="5734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X Foro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684360" y="1579680"/>
            <a:ext cx="7703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zones por las cuale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 ó AUN NO SABE </a:t>
            </a: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i participaría en el X F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X Foro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Group 202"/>
          <p:cNvGraphicFramePr/>
          <p:nvPr/>
        </p:nvGraphicFramePr>
        <p:xfrm>
          <a:off x="861840" y="2165400"/>
          <a:ext cx="7741800" cy="3484080"/>
        </p:xfrm>
        <a:graphic>
          <a:graphicData uri="http://schemas.openxmlformats.org/drawingml/2006/table">
            <a:tbl>
              <a:tblPr/>
              <a:tblGrid>
                <a:gridCol w="6734160"/>
                <a:gridCol w="100800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No sabe o NO Particip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rá de otras personas (organización, Comité Directiv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recursos / ausencia de financia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 menos que existan temas modernos y tengan otra metod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 del programa y disponibilidad de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foros deben hacerse cada 2 años, la idea de un foro paralelo es bastante 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r posición geográ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n invitación a una participación activa no es mi prio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138"/>
          <p:cNvSpPr/>
          <p:nvPr/>
        </p:nvSpPr>
        <p:spPr>
          <a:xfrm>
            <a:off x="7525440" y="5661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Group 282"/>
          <p:cNvGraphicFramePr/>
          <p:nvPr/>
        </p:nvGraphicFramePr>
        <p:xfrm>
          <a:off x="1116000" y="1793880"/>
          <a:ext cx="6984720" cy="4004640"/>
        </p:xfrm>
        <a:graphic>
          <a:graphicData uri="http://schemas.openxmlformats.org/drawingml/2006/table">
            <a:tbl>
              <a:tblPr/>
              <a:tblGrid>
                <a:gridCol w="6192720"/>
                <a:gridCol w="79200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ternativas de financi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pectos operativos del microcréd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segu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r el tema de seguimiento y administración de la cartera micro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ción metodológica y 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social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 d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anzas como instrument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 y evaluación de prácticas microcrediti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nanzas y los servicios complementarios en los sectores margin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rización / usos de las transacciones/ facilitar las 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ecimiento y fortalecimiento de las IM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utur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5" name="Text Box 223"/>
          <p:cNvSpPr/>
          <p:nvPr/>
        </p:nvSpPr>
        <p:spPr>
          <a:xfrm>
            <a:off x="7096680" y="60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Group 219"/>
          <p:cNvGraphicFramePr/>
          <p:nvPr/>
        </p:nvGraphicFramePr>
        <p:xfrm>
          <a:off x="971640" y="1628640"/>
          <a:ext cx="7206840" cy="4159440"/>
        </p:xfrm>
        <a:graphic>
          <a:graphicData uri="http://schemas.openxmlformats.org/drawingml/2006/table">
            <a:tbl>
              <a:tblPr/>
              <a:tblGrid>
                <a:gridCol w="6408720"/>
                <a:gridCol w="79848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gramas de capacitación en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anciamiento ru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bre rem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sobre endeudamiento de los clientes ante oferta de instituciones 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rmalización y costos de las ONG microfi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ultura de no pago, administración de cart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ansformación de microfinancieras a Ban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centrales de riesgo/Administración de riesg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ndeo para instituciones micro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éditos para el sector agropecu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édito y crobanza rur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rmas de Basilea II y su impacto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 comu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robación de crédi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Text Box 161"/>
          <p:cNvSpPr/>
          <p:nvPr/>
        </p:nvSpPr>
        <p:spPr>
          <a:xfrm>
            <a:off x="7374240" y="60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Group 202"/>
          <p:cNvGraphicFramePr/>
          <p:nvPr/>
        </p:nvGraphicFramePr>
        <p:xfrm>
          <a:off x="828720" y="1413000"/>
          <a:ext cx="7488000" cy="4430160"/>
        </p:xfrm>
        <a:graphic>
          <a:graphicData uri="http://schemas.openxmlformats.org/drawingml/2006/table">
            <a:tbl>
              <a:tblPr/>
              <a:tblGrid>
                <a:gridCol w="6696000"/>
                <a:gridCol w="792000"/>
              </a:tblGrid>
              <a:tr h="0">
                <a:tc>
                  <a:txBody>
                    <a:bodyPr lIns="90000" rIns="90000" tIns="900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esgo operacional de mercado credit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 estatal y Banca priv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cuperación de cartera en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stos/ Ta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nanzas en relación con el tratado de libre comer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intermediación financiera y su compromiso con el desarrollo loca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transparencia de instituciones de microfinanzas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ductos no microfinancie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canismos fáciles y menos onerosos para el manejo de pequeños fondos regionales, sobre todo en las zonas de conflic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stos de las entidades microfinancier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agencias donantes en la promoción de los servicios microfinancie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incipales pasos para lograr la regul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desarrollo de políticas de Proteccion contra el riesgo de cambio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s dirigidos específicamente a las estrategias de cobranza de la cartera en m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1" name="Text Box 146"/>
          <p:cNvSpPr/>
          <p:nvPr/>
        </p:nvSpPr>
        <p:spPr>
          <a:xfrm>
            <a:off x="7374240" y="613728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principales objetivos de la evaluación fueron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valuar el conocimiento adquirido por los participantes al IX Foro y el nivel de utilización de los instrumentos derivados del mismo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valuar los contenidos de las Mesas Redondas y sus correspondientes panelistas y moderadore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ocer las expectativas que tienen los asistentes del IX Foro sobre futuros foros a nivel de contenido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Group 380"/>
          <p:cNvGraphicFramePr/>
          <p:nvPr/>
        </p:nvGraphicFramePr>
        <p:xfrm>
          <a:off x="179280" y="1419120"/>
          <a:ext cx="8713440" cy="4374720"/>
        </p:xfrm>
        <a:graphic>
          <a:graphicData uri="http://schemas.openxmlformats.org/drawingml/2006/table">
            <a:tbl>
              <a:tblPr/>
              <a:tblGrid>
                <a:gridCol w="3700440"/>
                <a:gridCol w="620640"/>
                <a:gridCol w="3744720"/>
                <a:gridCol w="647640"/>
              </a:tblGrid>
              <a:tr h="180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mas relacionados con la Micro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ahorro y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álisis de compet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todiagnóstico de program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social de las micro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pacitación al microempres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istencia técnica para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pen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portamiento de tasas de interés que pagan las IMF, a los diferentes financi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novación en las microempresas de transformación  y artesa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versión y gestión de calidad para las micro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cadenamiento productivo entre micro y pequeñas 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arantías para la microempresa/garantí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que de demanda de los programas de apoyo a la microempres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minución de costos de financiamiento a microempresarios y/o margen de utilidad de las entidades micro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cadenamiento de las microempresas a sectores altamente productiv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fundizar sobre indicadores de medición de impac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cooperativismo en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social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re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ceso a la formal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denas produc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todologías de incubación empresarial/ nuevas metodologí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l e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Text Box 176"/>
          <p:cNvSpPr/>
          <p:nvPr/>
        </p:nvSpPr>
        <p:spPr>
          <a:xfrm>
            <a:off x="8093520" y="60930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Group 268"/>
          <p:cNvGraphicFramePr/>
          <p:nvPr/>
        </p:nvGraphicFramePr>
        <p:xfrm>
          <a:off x="971640" y="1508040"/>
          <a:ext cx="7160760" cy="4444560"/>
        </p:xfrm>
        <a:graphic>
          <a:graphicData uri="http://schemas.openxmlformats.org/drawingml/2006/table">
            <a:tbl>
              <a:tblPr/>
              <a:tblGrid>
                <a:gridCol w="6399000"/>
                <a:gridCol w="761760"/>
              </a:tblGrid>
              <a:tr h="288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Casos para Amé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exitosas en microfinanzas y microcredi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empresa y microfinanzas una alternativa contra la pobrez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efecto de la globalización en la microempresa y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export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denas de val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l Recurs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partir experiencias sobre fracasos y dificultades para así aprender de ell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todos de comercialización/ atención al cl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mujer en el sector de las microfinanzas y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ianzas estratég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que en innovaciones/ como surgen las innovaciones/ como se promuev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gración producti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s de medio amb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de cooperación público-privada para el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s en América La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ntros de desarrollo produc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de inserción de la microempresa en la "nueva economía"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7" name="Text Box 199"/>
          <p:cNvSpPr/>
          <p:nvPr/>
        </p:nvSpPr>
        <p:spPr>
          <a:xfrm>
            <a:off x="7229880" y="613728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Group 340"/>
          <p:cNvGraphicFramePr/>
          <p:nvPr/>
        </p:nvGraphicFramePr>
        <p:xfrm>
          <a:off x="250920" y="1747800"/>
          <a:ext cx="8713440" cy="2963880"/>
        </p:xfrm>
        <a:graphic>
          <a:graphicData uri="http://schemas.openxmlformats.org/drawingml/2006/table">
            <a:tbl>
              <a:tblPr/>
              <a:tblGrid>
                <a:gridCol w="3700440"/>
                <a:gridCol w="620640"/>
                <a:gridCol w="3744720"/>
                <a:gridCol w="647640"/>
              </a:tblGrid>
              <a:tr h="123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mas  asociados al 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o legal/ políticas de econom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ocia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mentando un enfoque de desarrollo de los mercados de servicios de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esorias en desarrollo de planes de nego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iculación entre servicios financieros y servicios de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operación intern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iculación de gobiernos nacionales, provinciales y municipal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valores como instrumento de formación empresaria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nsibilidad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eación de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ONG/ como apoyan las O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ductos que sean sostenib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entrenamiento por parte del 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fíos y retos en el área rur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Text Box 156"/>
          <p:cNvSpPr/>
          <p:nvPr/>
        </p:nvSpPr>
        <p:spPr>
          <a:xfrm>
            <a:off x="8175960" y="515772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Group 133"/>
          <p:cNvGraphicFramePr/>
          <p:nvPr/>
        </p:nvGraphicFramePr>
        <p:xfrm>
          <a:off x="611280" y="1959120"/>
          <a:ext cx="7954560" cy="1965960"/>
        </p:xfrm>
        <a:graphic>
          <a:graphicData uri="http://schemas.openxmlformats.org/drawingml/2006/table">
            <a:tbl>
              <a:tblPr/>
              <a:tblGrid>
                <a:gridCol w="7513560"/>
                <a:gridCol w="44100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cnología / Infor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cnologías de información/ tecnologías aplicables a microfinanz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laneación estratégica y tecnología de sistemas para hacer el negocio software de avanz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PY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 para las Py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micro depósitos como alternativa para ayuda de la pobr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ibutación y formalización de la Py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Text Box 124"/>
          <p:cNvSpPr/>
          <p:nvPr/>
        </p:nvSpPr>
        <p:spPr>
          <a:xfrm>
            <a:off x="7815600" y="42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3"/>
          <p:cNvSpPr/>
          <p:nvPr/>
        </p:nvSpPr>
        <p:spPr>
          <a:xfrm>
            <a:off x="1116000" y="1335240"/>
            <a:ext cx="69116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uáles de los siguientes componentes deberían incluirse en un Foro de la Microempre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4"/>
          <p:cNvGraphicFramePr/>
          <p:nvPr/>
        </p:nvGraphicFramePr>
        <p:xfrm>
          <a:off x="353880" y="1455840"/>
          <a:ext cx="8465760" cy="46400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8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455840"/>
                    <a:ext cx="846576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Text Box 5"/>
          <p:cNvSpPr/>
          <p:nvPr/>
        </p:nvSpPr>
        <p:spPr>
          <a:xfrm>
            <a:off x="539640" y="5950080"/>
            <a:ext cx="396216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Componentes Próximo Foro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Object 5"/>
          <p:cNvGraphicFramePr/>
          <p:nvPr/>
        </p:nvGraphicFramePr>
        <p:xfrm>
          <a:off x="34920" y="2190600"/>
          <a:ext cx="4686120" cy="36572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8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190600"/>
                    <a:ext cx="4686120" cy="36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49"/>
          <p:cNvGraphicFramePr/>
          <p:nvPr/>
        </p:nvGraphicFramePr>
        <p:xfrm>
          <a:off x="3276720" y="5589720"/>
          <a:ext cx="2531880" cy="441000"/>
        </p:xfrm>
        <a:graphic>
          <a:graphicData uri="http://schemas.openxmlformats.org/presentationml/2006/ole">
            <p:oleObj progId="MSGraph.Chart.8" r:id="rId3" spid="">
              <p:embed/>
              <p:pic>
                <p:nvPicPr>
                  <p:cNvPr id="832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589720"/>
                    <a:ext cx="253188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Text Box 50"/>
          <p:cNvSpPr/>
          <p:nvPr/>
        </p:nvSpPr>
        <p:spPr>
          <a:xfrm>
            <a:off x="684360" y="1220760"/>
            <a:ext cx="7703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Nivel de interés de cada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857240" y="2602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Actividades Próximo Foro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Object 54"/>
          <p:cNvGraphicFramePr/>
          <p:nvPr/>
        </p:nvGraphicFramePr>
        <p:xfrm>
          <a:off x="4500720" y="2300400"/>
          <a:ext cx="4690800" cy="2928600"/>
        </p:xfrm>
        <a:graphic>
          <a:graphicData uri="http://schemas.openxmlformats.org/presentationml/2006/ole">
            <p:oleObj progId="MSGraph.Chart.8" r:id="rId5" spid="">
              <p:embed/>
              <p:pic>
                <p:nvPicPr>
                  <p:cNvPr id="836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300400"/>
                    <a:ext cx="4690800" cy="29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 Box 55"/>
          <p:cNvSpPr/>
          <p:nvPr/>
        </p:nvSpPr>
        <p:spPr>
          <a:xfrm>
            <a:off x="539640" y="6024600"/>
            <a:ext cx="396216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2644920"/>
            <a:ext cx="7772040" cy="170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10000"/>
              </a:lnSpc>
              <a:spcBef>
                <a:spcPts val="961"/>
              </a:spcBef>
              <a:buNone/>
            </a:pPr>
            <a:r>
              <a:rPr b="1" lang="es-MX" sz="4800" spc="-1" strike="noStrike">
                <a:solidFill>
                  <a:schemeClr val="accent2"/>
                </a:solidFill>
                <a:latin typeface="Arial"/>
              </a:rPr>
              <a:t>Gracias por confiar en nosotros</a:t>
            </a:r>
            <a:endParaRPr b="0" lang="es-E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55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écnica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l desarrollo de la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Evaluación Electrónica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studio se llevó a cabo a partir de la realización de encuestas autoaplicadas enviadas vía e-mail.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Grupo Objetivo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ticipantes en el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X Foro Interamericano de la Microempresa, representantes de diversas organizaciones. 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todologí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76200"/>
            <a:ext cx="777204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Ficha técnica: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</a:tabLst>
            </a:pPr>
            <a:endParaRPr b="0" lang="es-ES" sz="5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20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La tasa de respuesta de la evaluación general del IX Foro Interamericano de la Microempresa es del 19% (211 respuestas/ 1103 personas) pero en algunos casos es un poco menos del 15%. En cada pregunta se muestra la base correspondiente.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1042920" y="2484360"/>
          <a:ext cx="7391160" cy="3723840"/>
        </p:xfrm>
        <a:graphic>
          <a:graphicData uri="http://schemas.openxmlformats.org/presentationml/2006/ole">
            <p:oleObj progId="MSGraph.Chart.8" r:id="rId2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84360"/>
                    <a:ext cx="7391160" cy="37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todologí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76872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CO" sz="3400" spc="-1" strike="noStrike">
                <a:solidFill>
                  <a:schemeClr val="accent2"/>
                </a:solidFill>
                <a:latin typeface="Arial"/>
              </a:rPr>
              <a:t>Evaluación Electrónica General del IX Foro Interamericano de la Microempresa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PPT_Template_May2005">
  <a:themeElements>
    <a:clrScheme name="1_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  <Words>5457</Words>
  <Paragraphs>1287</Paragraphs>
  <Company>NAPOLEON FRANC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5:15:37Z</dcterms:created>
  <dc:creator>natcar</dc:creator>
  <dc:description/>
  <dc:language>en-US</dc:language>
  <cp:lastModifiedBy>anarod</cp:lastModifiedBy>
  <dcterms:modified xsi:type="dcterms:W3CDTF">2010-07-12T00:33:35Z</dcterms:modified>
  <cp:revision>27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6</vt:r8>
  </property>
</Properties>
</file>