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2.png" ContentType="image/png"/>
  <Override PartName="/ppt/media/image10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E73D6A-8BA7-4BD1-86B5-98C2463D3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76E12-1211-4D51-9E80-CEAC66869F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3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6640" cy="418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7280" y="2319480"/>
            <a:ext cx="6624360" cy="10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3" hidden="1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 hidden="1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ECED4B6D-39A4-4ABD-90F7-4D294C9A1FD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Logo Ipsos-Napoleon Fracno"/>
          <p:cNvPicPr/>
          <p:nvPr/>
        </p:nvPicPr>
        <p:blipFill>
          <a:blip r:embed="rId3"/>
          <a:stretch/>
        </p:blipFill>
        <p:spPr>
          <a:xfrm>
            <a:off x="285840" y="260280"/>
            <a:ext cx="3061800" cy="810720"/>
          </a:xfrm>
          <a:prstGeom prst="rect">
            <a:avLst/>
          </a:prstGeom>
          <a:ln w="0">
            <a:noFill/>
          </a:ln>
        </p:spPr>
      </p:pic>
      <p:sp>
        <p:nvSpPr>
          <p:cNvPr id="5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4"/>
          <p:cNvSpPr/>
          <p:nvPr/>
        </p:nvSpPr>
        <p:spPr>
          <a:xfrm>
            <a:off x="1160280" y="2234880"/>
            <a:ext cx="66484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"/>
          <p:cNvSpPr/>
          <p:nvPr/>
        </p:nvSpPr>
        <p:spPr>
          <a:xfrm>
            <a:off x="1190520" y="4636800"/>
            <a:ext cx="66484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Haga clic para cambiar el estilo de título</a:t>
            </a: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	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6F2C2B9B-5479-4C0B-9091-4F4AFF73762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89F579A1-9DD3-4A8D-8C3E-051B747EB73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21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14440" y="3813120"/>
            <a:ext cx="8172000" cy="21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3"/>
          <p:cNvSpPr/>
          <p:nvPr/>
        </p:nvSpPr>
        <p:spPr>
          <a:xfrm>
            <a:off x="0" y="6381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726920" y="123156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058160" y="6408720"/>
            <a:ext cx="20505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7F7A211F-DD40-48E7-B032-CAB375518CF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2602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s-E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3"/>
          <p:cNvSpPr/>
          <p:nvPr/>
        </p:nvSpPr>
        <p:spPr>
          <a:xfrm>
            <a:off x="0" y="6408720"/>
            <a:ext cx="9143640" cy="333000"/>
          </a:xfrm>
          <a:prstGeom prst="ellipse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1726920" y="1052280"/>
            <a:ext cx="7417080" cy="360"/>
          </a:xfrm>
          <a:prstGeom prst="line">
            <a:avLst/>
          </a:prstGeom>
          <a:ln w="9525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902720" y="6446880"/>
            <a:ext cx="107604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</a:pPr>
            <a:fld id="{EBD40581-3712-43EF-BE25-6A4C4BA281A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Logo Ipsos-Napoleon Fracno"/>
          <p:cNvPicPr/>
          <p:nvPr/>
        </p:nvPicPr>
        <p:blipFill>
          <a:blip r:embed="rId2"/>
          <a:stretch/>
        </p:blipFill>
        <p:spPr>
          <a:xfrm>
            <a:off x="285840" y="154080"/>
            <a:ext cx="2846160" cy="753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4520" y="33336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ick to edit Master title style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14440" y="1546200"/>
            <a:ext cx="8172000" cy="4381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>
              <a:lnSpc>
                <a:spcPct val="100000"/>
              </a:lnSpc>
              <a:spcBef>
                <a:spcPts val="439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lick to edit Master text styles</a:t>
            </a:r>
            <a:endParaRPr b="0" lang="es-ES" sz="22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>
              <a:lnSpc>
                <a:spcPct val="100000"/>
              </a:lnSpc>
              <a:spcBef>
                <a:spcPts val="799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level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2" marL="1231920" indent="-228600">
              <a:lnSpc>
                <a:spcPct val="100000"/>
              </a:lnSpc>
              <a:spcBef>
                <a:spcPts val="360"/>
              </a:spcBef>
              <a:buClr>
                <a:srgbClr val="7eacde"/>
              </a:buClr>
              <a:buFont typeface="Arial"/>
              <a:buChar char="-"/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rd level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eadde"/>
              </a:buClr>
              <a:buFont typeface="StarSymbol"/>
              <a:buChar char="-"/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level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ond transparent"/>
          <p:cNvPicPr/>
          <p:nvPr/>
        </p:nvPicPr>
        <p:blipFill>
          <a:blip r:embed="rId1"/>
          <a:stretch/>
        </p:blipFill>
        <p:spPr>
          <a:xfrm>
            <a:off x="8166240" y="5676840"/>
            <a:ext cx="786960" cy="720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5931000" y="6076800"/>
            <a:ext cx="2220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Nobody’s Unpredic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0" y="6540480"/>
            <a:ext cx="9144000" cy="360"/>
          </a:xfrm>
          <a:prstGeom prst="line">
            <a:avLst/>
          </a:prstGeom>
          <a:ln w="9525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12600" y="12600"/>
            <a:ext cx="9143640" cy="2997000"/>
            <a:chOff x="12600" y="12600"/>
            <a:chExt cx="9143640" cy="2997000"/>
          </a:xfrm>
        </p:grpSpPr>
        <p:sp>
          <p:nvSpPr>
            <p:cNvPr id="225" name="Rectangle 6"/>
            <p:cNvSpPr/>
            <p:nvPr/>
          </p:nvSpPr>
          <p:spPr>
            <a:xfrm>
              <a:off x="12600" y="12600"/>
              <a:ext cx="9143640" cy="299700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12600" y="12600"/>
              <a:ext cx="1547280" cy="1412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768240" y="201600"/>
              <a:ext cx="8064360" cy="2592000"/>
              <a:chOff x="768240" y="201600"/>
              <a:chExt cx="8064360" cy="2592000"/>
            </a:xfrm>
          </p:grpSpPr>
          <p:pic>
            <p:nvPicPr>
              <p:cNvPr id="228" name="Picture 9" descr="le jardinier"/>
              <p:cNvPicPr/>
              <p:nvPr/>
            </p:nvPicPr>
            <p:blipFill>
              <a:blip r:embed="rId2"/>
              <a:stretch/>
            </p:blipFill>
            <p:spPr>
              <a:xfrm>
                <a:off x="3509280" y="201600"/>
                <a:ext cx="2583720" cy="258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0" descr="sancho panza"/>
              <p:cNvPicPr/>
              <p:nvPr/>
            </p:nvPicPr>
            <p:blipFill>
              <a:blip r:embed="rId3"/>
              <a:stretch/>
            </p:blipFill>
            <p:spPr>
              <a:xfrm>
                <a:off x="768240" y="201600"/>
                <a:ext cx="2583720" cy="25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1" descr="Che Guevara"/>
              <p:cNvPicPr/>
              <p:nvPr/>
            </p:nvPicPr>
            <p:blipFill>
              <a:blip r:embed="rId4"/>
              <a:stretch/>
            </p:blipFill>
            <p:spPr>
              <a:xfrm>
                <a:off x="6248880" y="201600"/>
                <a:ext cx="2583720" cy="258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Text Box 12"/>
            <p:cNvSpPr/>
            <p:nvPr/>
          </p:nvSpPr>
          <p:spPr>
            <a:xfrm rot="16200000">
              <a:off x="-860040" y="1255680"/>
              <a:ext cx="2590560" cy="485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600" spc="-1" strike="noStrike">
                  <a:solidFill>
                    <a:schemeClr val="accent2"/>
                  </a:solidFill>
                  <a:latin typeface="Times New Roman"/>
                </a:rPr>
                <a:t>What do we see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-9360" y="6629400"/>
            <a:ext cx="2925360" cy="13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chemeClr val="accent2"/>
                </a:solidFill>
                <a:latin typeface="Arial"/>
              </a:rPr>
              <a:t>Bogotá, Febrer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8091360" y="6610320"/>
            <a:ext cx="98244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chemeClr val="accent2"/>
                </a:solidFill>
                <a:latin typeface="Arial"/>
              </a:rPr>
              <a:t>Nº 77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149760" y="3500280"/>
            <a:ext cx="7418520" cy="164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Evaluación Electrónica del IX For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400" spc="-1" strike="noStrike">
                <a:solidFill>
                  <a:srgbClr val="333399"/>
                </a:solidFill>
                <a:latin typeface="Arial"/>
              </a:rPr>
              <a:t>QUITO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187200" y="5519160"/>
            <a:ext cx="553680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10000"/>
              </a:lnSpc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parada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NCO INTERAMERICANO DE DESARROLLO -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Group 38"/>
          <p:cNvGraphicFramePr/>
          <p:nvPr/>
        </p:nvGraphicFramePr>
        <p:xfrm>
          <a:off x="1836720" y="1916280"/>
          <a:ext cx="5471640" cy="3718440"/>
        </p:xfrm>
        <a:graphic>
          <a:graphicData uri="http://schemas.openxmlformats.org/drawingml/2006/table">
            <a:tbl>
              <a:tblPr/>
              <a:tblGrid>
                <a:gridCol w="4098600"/>
                <a:gridCol w="1373040"/>
              </a:tblGrid>
              <a:tr h="1504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IPO DE INSTITU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no-gubernamental 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stitución micro financ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internacional/ don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stitución financi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tidad guberna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sultores/ Empresas de Consultorí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des internacionales/reg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rganización académica o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ámaras de comercio/ Aso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Perfil de los Asistentes que respondieron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la encuesta electrónic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3"/>
          <p:cNvSpPr/>
          <p:nvPr/>
        </p:nvSpPr>
        <p:spPr>
          <a:xfrm>
            <a:off x="2409480" y="4941720"/>
            <a:ext cx="2953080" cy="1008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 flipV="1">
            <a:off x="2338200" y="1989000"/>
            <a:ext cx="3024360" cy="71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66560" y="1341360"/>
            <a:ext cx="29523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Usted ha participado en uno o más de los foros anteri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376200" y="2282760"/>
          <a:ext cx="3619080" cy="30906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282760"/>
                    <a:ext cx="36190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4"/>
          <p:cNvSpPr/>
          <p:nvPr/>
        </p:nvSpPr>
        <p:spPr>
          <a:xfrm>
            <a:off x="3938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211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en Foros Anterior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Group 68"/>
          <p:cNvGraphicFramePr/>
          <p:nvPr/>
        </p:nvGraphicFramePr>
        <p:xfrm>
          <a:off x="5362560" y="1969920"/>
          <a:ext cx="3457080" cy="3792960"/>
        </p:xfrm>
        <a:graphic>
          <a:graphicData uri="http://schemas.openxmlformats.org/drawingml/2006/table">
            <a:tbl>
              <a:tblPr/>
              <a:tblGrid>
                <a:gridCol w="2950920"/>
                <a:gridCol w="50616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ta Cruz de la Sierra -Bolivia, Octubre de 2005 -VIII Foro “Ampliar las Fronteras de la Microempresa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tagena de Indias -Colombia, Septiembre de 2004- VII Foro "Clima Cambiante, responsabilidades Compartid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uatemala - Guatemala, Septiembre 2003 - VI Foro "Cómo Enfrentamos Cambios y Gestionamos Riesgo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ío de Janeiro - Brasil, Septiembre 2002 - V Foro “Entorno Favorable para las Micro y Pequeñas Empresa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to Domingo – Republica Dominicana, Noviembre 2001 -IV Foro "Innovación para el Desarrollo de la Microempresa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rcelona - España, Octubre 2000  - III Foro "Creando Alianzas para el Desarrollo de la Microempresas"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enos Aires - Argentina, Junio 1999 - II Foro "La Urgencia de un Enfoque Integral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, Marzo 1998 - I F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es-E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 Box 60"/>
          <p:cNvSpPr/>
          <p:nvPr/>
        </p:nvSpPr>
        <p:spPr>
          <a:xfrm>
            <a:off x="5724360" y="1398600"/>
            <a:ext cx="2879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0" lang="es-ES" sz="1400" spc="-1" strike="noStrike">
                <a:solidFill>
                  <a:schemeClr val="accent2"/>
                </a:solidFill>
                <a:latin typeface="Arial"/>
              </a:rPr>
              <a:t>¿En cuáles de los siguientes ha particip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3"/>
          <p:cNvSpPr/>
          <p:nvPr/>
        </p:nvSpPr>
        <p:spPr>
          <a:xfrm>
            <a:off x="7308720" y="5962680"/>
            <a:ext cx="158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86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878200"/>
            <a:ext cx="7772040" cy="112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Conocimientos adquiridos y utilización de instrument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828720" y="1341360"/>
            <a:ext cx="7488000" cy="67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Transcurridos tres meses después del IX For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ree usted que valió la pena la inversión en tiempo / 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1619280" y="2060640"/>
          <a:ext cx="5859000" cy="3692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60640"/>
                    <a:ext cx="5859000" cy="36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6"/>
          <p:cNvSpPr/>
          <p:nvPr/>
        </p:nvSpPr>
        <p:spPr>
          <a:xfrm>
            <a:off x="7556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211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6"/>
          <p:cNvGrpSpPr/>
          <p:nvPr/>
        </p:nvGrpSpPr>
        <p:grpSpPr>
          <a:xfrm>
            <a:off x="7020000" y="4365720"/>
            <a:ext cx="1296720" cy="934560"/>
            <a:chOff x="7020000" y="4365720"/>
            <a:chExt cx="1296720" cy="934560"/>
          </a:xfrm>
        </p:grpSpPr>
        <p:sp>
          <p:nvSpPr>
            <p:cNvPr id="270" name="Rectangle 7"/>
            <p:cNvSpPr/>
            <p:nvPr/>
          </p:nvSpPr>
          <p:spPr>
            <a:xfrm>
              <a:off x="730872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730872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752472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752472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702000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900000" y="136368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razón opina usted que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SI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valió la pena la inversión en tiempo/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7164360" y="6107040"/>
            <a:ext cx="158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99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Group 219"/>
          <p:cNvGraphicFramePr/>
          <p:nvPr/>
        </p:nvGraphicFramePr>
        <p:xfrm>
          <a:off x="755640" y="1773360"/>
          <a:ext cx="7854480" cy="4131000"/>
        </p:xfrm>
        <a:graphic>
          <a:graphicData uri="http://schemas.openxmlformats.org/drawingml/2006/table">
            <a:tbl>
              <a:tblPr/>
              <a:tblGrid>
                <a:gridCol w="7092720"/>
                <a:gridCol w="761760"/>
              </a:tblGrid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ortunidad de hacer contactos / encontrar personas involucradas en el camp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rcambio y enriquecimiento de ideas y experiencias/información de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tualización de temas sobr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ción de conocimientos /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ortunidad de hacer nego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nto de encuentr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iciativa de apoyo a micro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 y progresos de la tecnología micro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luciones que ayuda a las personas de bajos recursos /personas más necesit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lidad y variedad de conferencias/ buenos exposi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la importancia del BID en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sobre nuevas ideas de nego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la situación de las microfinanzas a nivel re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btener financiamiento /relación con institucion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yuda al desarrollo de los países tercermund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rse a conocer a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00000" y="157968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razón opina usted que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valió la pena la inversión en tiempo/dine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16000" y="3284640"/>
            <a:ext cx="1439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6 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Group 124"/>
          <p:cNvGraphicFramePr/>
          <p:nvPr/>
        </p:nvGraphicFramePr>
        <p:xfrm>
          <a:off x="1116000" y="2125800"/>
          <a:ext cx="6840000" cy="972000"/>
        </p:xfrm>
        <a:graphic>
          <a:graphicData uri="http://schemas.openxmlformats.org/drawingml/2006/table">
            <a:tbl>
              <a:tblPr/>
              <a:tblGrid>
                <a:gridCol w="5976720"/>
                <a:gridCol w="863280"/>
              </a:tblGrid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e logró obtener información nu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3399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e concretaron relaciones comerciales, los contactos no diero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discusión fue más descriptiva, lo que no permitió llegar a conclusiones 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126"/>
          <p:cNvSpPr/>
          <p:nvPr/>
        </p:nvSpPr>
        <p:spPr>
          <a:xfrm>
            <a:off x="5367240" y="3213000"/>
            <a:ext cx="2660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755640" y="13413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sidera usted que adquirió nuevos conocimientos en 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55640" y="5950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83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6"/>
          <p:cNvGraphicFramePr/>
          <p:nvPr/>
        </p:nvGraphicFramePr>
        <p:xfrm>
          <a:off x="108000" y="1844640"/>
          <a:ext cx="5859000" cy="369216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8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44640"/>
                    <a:ext cx="5859000" cy="36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30"/>
          <p:cNvSpPr/>
          <p:nvPr/>
        </p:nvSpPr>
        <p:spPr>
          <a:xfrm>
            <a:off x="6516720" y="220500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crofinanzas      4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1"/>
          <p:cNvSpPr/>
          <p:nvPr/>
        </p:nvSpPr>
        <p:spPr>
          <a:xfrm>
            <a:off x="6516720" y="285264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ocimient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xperiencias        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6516720" y="350028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ustria 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cnología           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6516720" y="414972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lidade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icroempresa   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4"/>
          <p:cNvSpPr/>
          <p:nvPr/>
        </p:nvSpPr>
        <p:spPr>
          <a:xfrm>
            <a:off x="6516720" y="4797360"/>
            <a:ext cx="2231640" cy="502920"/>
          </a:xfrm>
          <a:prstGeom prst="rect">
            <a:avLst/>
          </a:prstGeom>
          <a:noFill/>
          <a:ln w="28575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   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5435640" y="2278080"/>
            <a:ext cx="720360" cy="286920"/>
          </a:xfrm>
          <a:prstGeom prst="rightArrow">
            <a:avLst>
              <a:gd name="adj1" fmla="val 50000"/>
              <a:gd name="adj2" fmla="val 62707"/>
            </a:avLst>
          </a:pr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6300720" y="2060640"/>
            <a:ext cx="2590560" cy="374472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8"/>
          <p:cNvSpPr/>
          <p:nvPr/>
        </p:nvSpPr>
        <p:spPr>
          <a:xfrm>
            <a:off x="7667640" y="544500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9"/>
          <p:cNvGrpSpPr/>
          <p:nvPr/>
        </p:nvGrpSpPr>
        <p:grpSpPr>
          <a:xfrm>
            <a:off x="3851280" y="4581360"/>
            <a:ext cx="1296720" cy="934560"/>
            <a:chOff x="3851280" y="4581360"/>
            <a:chExt cx="1296720" cy="934560"/>
          </a:xfrm>
        </p:grpSpPr>
        <p:sp>
          <p:nvSpPr>
            <p:cNvPr id="299" name="Rectangle 40"/>
            <p:cNvSpPr/>
            <p:nvPr/>
          </p:nvSpPr>
          <p:spPr>
            <a:xfrm>
              <a:off x="4140360" y="472428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1"/>
            <p:cNvSpPr/>
            <p:nvPr/>
          </p:nvSpPr>
          <p:spPr>
            <a:xfrm>
              <a:off x="4140360" y="508464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4356000" y="472428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4356000" y="5084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4"/>
            <p:cNvSpPr/>
            <p:nvPr/>
          </p:nvSpPr>
          <p:spPr>
            <a:xfrm>
              <a:off x="3851280" y="458136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Group 295"/>
          <p:cNvGraphicFramePr/>
          <p:nvPr/>
        </p:nvGraphicFramePr>
        <p:xfrm>
          <a:off x="1187280" y="1819440"/>
          <a:ext cx="6840000" cy="3912120"/>
        </p:xfrm>
        <a:graphic>
          <a:graphicData uri="http://schemas.openxmlformats.org/drawingml/2006/table">
            <a:tbl>
              <a:tblPr/>
              <a:tblGrid>
                <a:gridCol w="6016320"/>
                <a:gridCol w="823680"/>
              </a:tblGrid>
              <a:tr h="3031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 /Regu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 y análisis de instituciones en el campo d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 del B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s rem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y profundización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esgos y fraudes en organizaciones de microcrédito /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relevancia del ahorro en el futuro / disminuir la vulnerabilidad de la población p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bre la Banca Priv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imientos sobre las normas de BASILEA II para entidad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dustria de micro finanzas en la reg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, regulación y supervisión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seguros /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gulación y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291"/>
          <p:cNvSpPr/>
          <p:nvPr/>
        </p:nvSpPr>
        <p:spPr>
          <a:xfrm>
            <a:off x="2627280" y="1341360"/>
            <a:ext cx="4032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Principales conocimientos adqui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93"/>
          <p:cNvSpPr/>
          <p:nvPr/>
        </p:nvSpPr>
        <p:spPr>
          <a:xfrm>
            <a:off x="1255320" y="602136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Group 263"/>
          <p:cNvGraphicFramePr/>
          <p:nvPr/>
        </p:nvGraphicFramePr>
        <p:xfrm>
          <a:off x="1628640" y="1341360"/>
          <a:ext cx="6183000" cy="4925520"/>
        </p:xfrm>
        <a:graphic>
          <a:graphicData uri="http://schemas.openxmlformats.org/drawingml/2006/table">
            <a:tbl>
              <a:tblPr/>
              <a:tblGrid>
                <a:gridCol w="5175000"/>
                <a:gridCol w="1008000"/>
              </a:tblGrid>
              <a:tr h="3031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Conocimiento de Experiencias en Amé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exi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utilizadas en otros paí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novaciones financie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e impac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tivación para emprend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alización de ali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comercial a nivel Latinoameric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mer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tuación de los IFM/Tend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ndos y Bussines Ang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s Cadenas de va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l Es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imiento de experiencias de las 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 internacional y tendencias en el tema de microcréd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gentes públicos y pri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264"/>
          <p:cNvSpPr/>
          <p:nvPr/>
        </p:nvSpPr>
        <p:spPr>
          <a:xfrm>
            <a:off x="7605360" y="616572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Group 359"/>
          <p:cNvGraphicFramePr/>
          <p:nvPr/>
        </p:nvGraphicFramePr>
        <p:xfrm>
          <a:off x="1116000" y="1413000"/>
          <a:ext cx="6957720" cy="4741560"/>
        </p:xfrm>
        <a:graphic>
          <a:graphicData uri="http://schemas.openxmlformats.org/drawingml/2006/table">
            <a:tbl>
              <a:tblPr/>
              <a:tblGrid>
                <a:gridCol w="6195960"/>
                <a:gridCol w="761760"/>
              </a:tblGrid>
              <a:tr h="3031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Industria / Tecnología / Infor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estación de servicios a través del uso de tecnologías de información y comunicación/ Tecnología crediticia / re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y manejo de productos específ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Generalidades sobre las Microempr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yuda a microempresarios /fin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empresa y finanzas ru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ción y actualización de conocimiento empresa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organizacional es de la micro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empresa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ymes en el desarrollo económico local y latinoameric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tactos 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formalización y desarrollo de microempr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 la micro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sobre oportunidades de fon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nculación de las microempresas en el desarrollo económico 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y operación de los microcréd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333399"/>
                      </a:solidFill>
                    </a:lnL>
                    <a:lnR>
                      <a:noFill/>
                    </a:lnR>
                    <a:lnT w="1224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Rectangle 360"/>
          <p:cNvSpPr/>
          <p:nvPr/>
        </p:nvSpPr>
        <p:spPr>
          <a:xfrm>
            <a:off x="7016400" y="6165720"/>
            <a:ext cx="1542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1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1395360"/>
            <a:ext cx="7772040" cy="455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 algn="just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1"/>
              </a:buBlip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Introducción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Antecedente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Objetiv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99ccff"/>
              </a:buClr>
              <a:buFont typeface="Symbol" charset="2"/>
              <a:buChar char=""/>
            </a:pP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Metodología</a:t>
            </a:r>
            <a:r>
              <a:rPr b="0" lang="es-ES_tradnl" sz="1600" spc="-1" strike="noStrike">
                <a:solidFill>
                  <a:schemeClr val="accent2"/>
                </a:solidFill>
                <a:latin typeface="Arial"/>
              </a:rPr>
              <a:t>	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91908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2. Evaluación Electrónica General IX Foro Interamericano de la Microempresa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MX" sz="1600" spc="-1" strike="noStrike">
                <a:solidFill>
                  <a:schemeClr val="accent2"/>
                </a:solidFill>
                <a:latin typeface="Arial"/>
              </a:rPr>
              <a:t>Perfil de los asistentes que respondieron la encuesta electrónica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Conocimiento adquiridos y  utilización de instrument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Evaluación temáticas del IX Foro Interamericano de la Microempresa.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chemeClr val="accent2"/>
                </a:solidFill>
                <a:latin typeface="Arial"/>
              </a:rPr>
              <a:t>Sesión Plenaria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Microfinanza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Mercados Financiero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Acceso a Mercados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2" marL="1346040" indent="-343080" algn="just">
              <a:lnSpc>
                <a:spcPct val="90000"/>
              </a:lnSpc>
              <a:spcBef>
                <a:spcPts val="420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Evaluación sobre las Cuatro Vías Temáticas: Entorno y Capital Humano</a:t>
            </a:r>
            <a:endParaRPr b="0" lang="es-ES" sz="1400" spc="-1" strike="noStrike">
              <a:solidFill>
                <a:srgbClr val="333399"/>
              </a:solidFill>
              <a:latin typeface="Arial"/>
            </a:endParaRPr>
          </a:p>
          <a:p>
            <a:pPr lvl="1" marL="919080" indent="-380880" algn="just">
              <a:lnSpc>
                <a:spcPct val="90000"/>
              </a:lnSpc>
              <a:spcBef>
                <a:spcPts val="479"/>
              </a:spcBef>
              <a:buClr>
                <a:srgbClr val="7eacde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Expectativas sobre futuros foros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  <a:p>
            <a:pPr marL="919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s-E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784520" y="4096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tenid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755640" y="1333440"/>
            <a:ext cx="748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</a:pPr>
            <a:r>
              <a:rPr b="0" lang="es-ES" sz="1800" spc="-1" strike="noStrike">
                <a:solidFill>
                  <a:schemeClr val="accent2"/>
                </a:solidFill>
                <a:latin typeface="Arial"/>
              </a:rPr>
              <a:t>¿Ha aplicado los conocimientos adquiridos en el IX Foro a su trabaj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755640" y="6024600"/>
            <a:ext cx="525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39 personas que respondieron Si haber adquirido cono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481800" y="299880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atégico        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481800" y="3645000"/>
            <a:ext cx="2231640" cy="57600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ón          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481800" y="436572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6265800" y="220500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Proceso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donde se han aplicado los conocimientos adquiri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ocimientos Adquiri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6"/>
          <p:cNvGraphicFramePr/>
          <p:nvPr/>
        </p:nvGraphicFramePr>
        <p:xfrm>
          <a:off x="324000" y="191628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2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7"/>
          <p:cNvSpPr/>
          <p:nvPr/>
        </p:nvSpPr>
        <p:spPr>
          <a:xfrm>
            <a:off x="6302520" y="2060640"/>
            <a:ext cx="2590560" cy="34556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932360" y="2565360"/>
            <a:ext cx="11523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7669080" y="509904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27" name="Rectangle 34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6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539640" y="14367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Ha consultado material de apoyo de las Mesas Redond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372360" y="407844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ágina Web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ID sobre el Foro  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372360" y="278136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resos             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6372360" y="342900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p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gitales               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6156360" y="206064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Medio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a través de los cuales han consult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372360" y="4726080"/>
            <a:ext cx="2231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                   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755640" y="5950080"/>
            <a:ext cx="453672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88 personas que respondieron l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5"/>
          <p:cNvGraphicFramePr/>
          <p:nvPr/>
        </p:nvGraphicFramePr>
        <p:xfrm>
          <a:off x="324000" y="195120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40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5120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Text Box 36"/>
          <p:cNvSpPr/>
          <p:nvPr/>
        </p:nvSpPr>
        <p:spPr>
          <a:xfrm>
            <a:off x="7596360" y="531504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7"/>
          <p:cNvSpPr/>
          <p:nvPr/>
        </p:nvSpPr>
        <p:spPr>
          <a:xfrm>
            <a:off x="5940360" y="1916280"/>
            <a:ext cx="3025440" cy="374472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8"/>
          <p:cNvSpPr/>
          <p:nvPr/>
        </p:nvSpPr>
        <p:spPr>
          <a:xfrm>
            <a:off x="4211280" y="2565360"/>
            <a:ext cx="151308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46" name="Rectangle 53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4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55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6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7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973080" y="1628640"/>
            <a:ext cx="7127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ha consultado el material de apoyo de las Mesas Redond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Group 97"/>
          <p:cNvGraphicFramePr/>
          <p:nvPr/>
        </p:nvGraphicFramePr>
        <p:xfrm>
          <a:off x="1908000" y="2679840"/>
          <a:ext cx="5208120" cy="3130200"/>
        </p:xfrm>
        <a:graphic>
          <a:graphicData uri="http://schemas.openxmlformats.org/drawingml/2006/table">
            <a:tbl>
              <a:tblPr/>
              <a:tblGrid>
                <a:gridCol w="4103640"/>
                <a:gridCol w="1104840"/>
              </a:tblGrid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 u="sng">
                          <a:solidFill>
                            <a:schemeClr val="accent2"/>
                          </a:solidFill>
                          <a:uFillTx/>
                          <a:latin typeface="Arial"/>
                        </a:rPr>
                        <a:t>No</a:t>
                      </a: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 ha consultado el material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r falta de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lo ha considerado neces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 difícil de con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69"/>
          <p:cNvSpPr/>
          <p:nvPr/>
        </p:nvSpPr>
        <p:spPr>
          <a:xfrm>
            <a:off x="6373080" y="5877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289080" y="1579680"/>
            <a:ext cx="8675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 qué objetivo ha consultado el material de apoyo de las mesas redondas d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Group 101"/>
          <p:cNvGraphicFramePr/>
          <p:nvPr/>
        </p:nvGraphicFramePr>
        <p:xfrm>
          <a:off x="1403280" y="2262240"/>
          <a:ext cx="6284520" cy="3414600"/>
        </p:xfrm>
        <a:graphic>
          <a:graphicData uri="http://schemas.openxmlformats.org/drawingml/2006/table">
            <a:tbl>
              <a:tblPr/>
              <a:tblGrid>
                <a:gridCol w="5522760"/>
                <a:gridCol w="76176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cando información /Adquirir conocimiento /consulta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oder difundir la información a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reparar presentaciones/  propuestas / doc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documentar experiencias/ conocer experi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er información reciente sobre tecnologí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tener bibliograf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Aclaración de Du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retroalimentar conceptos/ repasar concep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verificar concep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aclarar du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90"/>
          <p:cNvSpPr/>
          <p:nvPr/>
        </p:nvSpPr>
        <p:spPr>
          <a:xfrm>
            <a:off x="6939360" y="602136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250920" y="1557360"/>
            <a:ext cx="8675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on qué objetivo ha consultado el material de apoyo de las mesas redondas del IX Fo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Group 132"/>
          <p:cNvGraphicFramePr/>
          <p:nvPr/>
        </p:nvGraphicFramePr>
        <p:xfrm>
          <a:off x="1403280" y="2206800"/>
          <a:ext cx="6568560" cy="3689280"/>
        </p:xfrm>
        <a:graphic>
          <a:graphicData uri="http://schemas.openxmlformats.org/drawingml/2006/table">
            <a:tbl>
              <a:tblPr/>
              <a:tblGrid>
                <a:gridCol w="5616360"/>
                <a:gridCol w="95220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Actualización/ Apl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cando ideas innovad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rofundizar en algunos te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estudiar acerca de 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poder aplicar lo aprend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el mejoramiento de programas de microcred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ocer el estado de las demás microempresas en otros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jorar la calidad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conocer otras instit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obtener refer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a actualiza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 Box 124"/>
          <p:cNvSpPr/>
          <p:nvPr/>
        </p:nvSpPr>
        <p:spPr>
          <a:xfrm>
            <a:off x="7085520" y="602136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468360" y="1341360"/>
            <a:ext cx="7488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Usted ha compartido o divulgado el material que ha consul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9640" y="256536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ntr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presa                    6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6119640" y="386064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a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mpresa                   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119640" y="321300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nto dentro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ra de la empresa   4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6048360" y="1932120"/>
            <a:ext cx="2626920" cy="4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</a:pPr>
            <a:r>
              <a:rPr b="1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Lugares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donde ha divulgado el mate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395280" y="5950080"/>
            <a:ext cx="5832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20 personas que responden de las 123 que consultan el material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21"/>
          <p:cNvGraphicFramePr/>
          <p:nvPr/>
        </p:nvGraphicFramePr>
        <p:xfrm>
          <a:off x="324000" y="1951200"/>
          <a:ext cx="4927320" cy="3133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7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51200"/>
                    <a:ext cx="4927320" cy="31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22"/>
          <p:cNvSpPr/>
          <p:nvPr/>
        </p:nvSpPr>
        <p:spPr>
          <a:xfrm>
            <a:off x="7596360" y="5170320"/>
            <a:ext cx="1079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: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6119640" y="4510080"/>
            <a:ext cx="2555640" cy="502920"/>
          </a:xfrm>
          <a:prstGeom prst="rect">
            <a:avLst/>
          </a:prstGeom>
          <a:noFill/>
          <a:ln w="28575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                           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5796000" y="1844640"/>
            <a:ext cx="3173040" cy="3671640"/>
          </a:xfrm>
          <a:prstGeom prst="rect">
            <a:avLst/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>
            <a:off x="5003640" y="2565360"/>
            <a:ext cx="57636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9"/>
          <p:cNvGrpSpPr/>
          <p:nvPr/>
        </p:nvGrpSpPr>
        <p:grpSpPr>
          <a:xfrm>
            <a:off x="3203640" y="4365720"/>
            <a:ext cx="1296720" cy="934560"/>
            <a:chOff x="3203640" y="4365720"/>
            <a:chExt cx="1296720" cy="934560"/>
          </a:xfrm>
        </p:grpSpPr>
        <p:sp>
          <p:nvSpPr>
            <p:cNvPr id="377" name="Rectangle 40"/>
            <p:cNvSpPr/>
            <p:nvPr/>
          </p:nvSpPr>
          <p:spPr>
            <a:xfrm>
              <a:off x="3492360" y="4508640"/>
              <a:ext cx="215640" cy="215640"/>
            </a:xfrm>
            <a:prstGeom prst="rect">
              <a:avLst/>
            </a:prstGeom>
            <a:solidFill>
              <a:srgbClr val="33cccc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1"/>
            <p:cNvSpPr/>
            <p:nvPr/>
          </p:nvSpPr>
          <p:spPr>
            <a:xfrm>
              <a:off x="3492360" y="4869000"/>
              <a:ext cx="215640" cy="215640"/>
            </a:xfrm>
            <a:prstGeom prst="rect">
              <a:avLst/>
            </a:prstGeom>
            <a:solidFill>
              <a:srgbClr val="339966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42"/>
            <p:cNvSpPr/>
            <p:nvPr/>
          </p:nvSpPr>
          <p:spPr>
            <a:xfrm>
              <a:off x="3708360" y="450864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3"/>
            <p:cNvSpPr/>
            <p:nvPr/>
          </p:nvSpPr>
          <p:spPr>
            <a:xfrm>
              <a:off x="3708360" y="4869000"/>
              <a:ext cx="64728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4"/>
            <p:cNvSpPr/>
            <p:nvPr/>
          </p:nvSpPr>
          <p:spPr>
            <a:xfrm>
              <a:off x="3203640" y="4365720"/>
              <a:ext cx="1296720" cy="9345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ción de Instrument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909800" y="1628640"/>
            <a:ext cx="539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Por qué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NO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ha compartido o divulgado el materi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Group 83"/>
          <p:cNvGraphicFramePr/>
          <p:nvPr/>
        </p:nvGraphicFramePr>
        <p:xfrm>
          <a:off x="1955880" y="2349360"/>
          <a:ext cx="5208120" cy="3187080"/>
        </p:xfrm>
        <a:graphic>
          <a:graphicData uri="http://schemas.openxmlformats.org/drawingml/2006/table">
            <a:tbl>
              <a:tblPr/>
              <a:tblGrid>
                <a:gridCol w="4103640"/>
                <a:gridCol w="1104840"/>
              </a:tblGrid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 u="sng">
                          <a:solidFill>
                            <a:schemeClr val="accent2"/>
                          </a:solidFill>
                          <a:uFillTx/>
                          <a:latin typeface="Arial"/>
                        </a:rPr>
                        <a:t>No</a:t>
                      </a: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 comparte el material con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s-ES" sz="16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ha tenido oportun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ha sido necesario/ no ha sido relevante/temas ya conoc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lo ha sido para consulta prop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Text Box 32"/>
          <p:cNvSpPr/>
          <p:nvPr/>
        </p:nvSpPr>
        <p:spPr>
          <a:xfrm>
            <a:off x="1980360" y="5661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5076720" y="5668920"/>
            <a:ext cx="2660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7600" y="2576520"/>
            <a:ext cx="7772040" cy="1644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temáticas del IX Foro Interamericano de la Microempresa.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Sesión Plenaria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sión Plenari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359720" y="1557360"/>
            <a:ext cx="648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1400" spc="-1" strike="noStrike">
                <a:solidFill>
                  <a:schemeClr val="accent2"/>
                </a:solidFill>
                <a:latin typeface="Arial"/>
              </a:rPr>
              <a:t>Oportunidades para la mayoría: el sector privado como aliado estratég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Group 63"/>
          <p:cNvGraphicFramePr/>
          <p:nvPr/>
        </p:nvGraphicFramePr>
        <p:xfrm>
          <a:off x="3348000" y="3502080"/>
          <a:ext cx="5616360" cy="2754000"/>
        </p:xfrm>
        <a:graphic>
          <a:graphicData uri="http://schemas.openxmlformats.org/drawingml/2006/table">
            <a:tbl>
              <a:tblPr/>
              <a:tblGrid>
                <a:gridCol w="2519280"/>
                <a:gridCol w="576000"/>
                <a:gridCol w="208908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uis Alberto Moreno, Presidente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Álvaro R. Ramirez,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uel José Carvajal, Fundación Carvajal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hael Chu, Harvard Business School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erto Salas, Grupo Amanco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34"/>
          <p:cNvSpPr/>
          <p:nvPr/>
        </p:nvSpPr>
        <p:spPr>
          <a:xfrm>
            <a:off x="5293440" y="29275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5"/>
          <p:cNvSpPr/>
          <p:nvPr/>
        </p:nvSpPr>
        <p:spPr>
          <a:xfrm>
            <a:off x="6302520" y="22780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5580720" y="61372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37"/>
          <p:cNvGraphicFramePr/>
          <p:nvPr/>
        </p:nvGraphicFramePr>
        <p:xfrm>
          <a:off x="3059280" y="14860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9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60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7" name="AutoShape 38"/>
          <p:cNvCxnSpPr/>
          <p:nvPr/>
        </p:nvCxnSpPr>
        <p:spPr>
          <a:xfrm flipV="1">
            <a:off x="1476360" y="350172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8" name="Line 39"/>
          <p:cNvSpPr/>
          <p:nvPr/>
        </p:nvSpPr>
        <p:spPr>
          <a:xfrm>
            <a:off x="4211280" y="27828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1693080" y="45100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1"/>
          <p:cNvGrpSpPr/>
          <p:nvPr/>
        </p:nvGrpSpPr>
        <p:grpSpPr>
          <a:xfrm>
            <a:off x="6877080" y="2249640"/>
            <a:ext cx="930240" cy="457560"/>
            <a:chOff x="6877080" y="2249640"/>
            <a:chExt cx="930240" cy="457560"/>
          </a:xfrm>
        </p:grpSpPr>
        <p:sp>
          <p:nvSpPr>
            <p:cNvPr id="401" name="Rectangle 42"/>
            <p:cNvSpPr/>
            <p:nvPr/>
          </p:nvSpPr>
          <p:spPr>
            <a:xfrm>
              <a:off x="6877080" y="2322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43"/>
            <p:cNvSpPr/>
            <p:nvPr/>
          </p:nvSpPr>
          <p:spPr>
            <a:xfrm>
              <a:off x="6877080" y="2538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4"/>
            <p:cNvSpPr/>
            <p:nvPr/>
          </p:nvSpPr>
          <p:spPr>
            <a:xfrm>
              <a:off x="7021080" y="22496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5"/>
            <p:cNvSpPr/>
            <p:nvPr/>
          </p:nvSpPr>
          <p:spPr>
            <a:xfrm>
              <a:off x="7021080" y="2465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46"/>
          <p:cNvSpPr/>
          <p:nvPr/>
        </p:nvSpPr>
        <p:spPr>
          <a:xfrm>
            <a:off x="823356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Group 47"/>
          <p:cNvGraphicFramePr/>
          <p:nvPr/>
        </p:nvGraphicFramePr>
        <p:xfrm>
          <a:off x="395280" y="35434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Introducción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1640" y="278136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Microfinanza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303560" y="1611360"/>
            <a:ext cx="6903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Servicios financieros para la mayoría: el futuro de los bancos en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Group 5"/>
          <p:cNvGraphicFramePr/>
          <p:nvPr/>
        </p:nvGraphicFramePr>
        <p:xfrm>
          <a:off x="3348000" y="3716280"/>
          <a:ext cx="5363640" cy="211248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uido Cordero, Banco del Pichinch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erbert Müller, Bancosol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triz Marulanda, Marulanda Consultores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uricio Múnera, Bancolombi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2" name="Group 32"/>
          <p:cNvGraphicFramePr/>
          <p:nvPr/>
        </p:nvGraphicFramePr>
        <p:xfrm>
          <a:off x="395280" y="376092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ext Box 43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5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46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17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18" name="AutoShape 47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9" name="Line 48"/>
          <p:cNvSpPr/>
          <p:nvPr/>
        </p:nvSpPr>
        <p:spPr>
          <a:xfrm>
            <a:off x="385092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9"/>
          <p:cNvSpPr/>
          <p:nvPr/>
        </p:nvSpPr>
        <p:spPr>
          <a:xfrm>
            <a:off x="1693080" y="479736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50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422" name="Rectangle 51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52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53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4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55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6519960" y="5208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180880" y="1484280"/>
            <a:ext cx="4703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 papel de las ONG en el futuro de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Group 4"/>
          <p:cNvGraphicFramePr/>
          <p:nvPr/>
        </p:nvGraphicFramePr>
        <p:xfrm>
          <a:off x="3348000" y="3662280"/>
          <a:ext cx="5616360" cy="2295000"/>
        </p:xfrm>
        <a:graphic>
          <a:graphicData uri="http://schemas.openxmlformats.org/drawingml/2006/table">
            <a:tbl>
              <a:tblPr/>
              <a:tblGrid>
                <a:gridCol w="2288880"/>
                <a:gridCol w="518760"/>
                <a:gridCol w="2174760"/>
                <a:gridCol w="633240"/>
              </a:tblGrid>
              <a:tr h="14112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ldi Delgado, Pro Mujer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y Ellen Iskenderian, Banco Mundial de la Mujer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lio Flores, Fondo de Desarrollo Local (FDL)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ardo Suxo, Diaconía FRIF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Object 32"/>
          <p:cNvGraphicFramePr/>
          <p:nvPr/>
        </p:nvGraphicFramePr>
        <p:xfrm>
          <a:off x="2987640" y="16160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3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160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Group 33"/>
          <p:cNvGraphicFramePr/>
          <p:nvPr/>
        </p:nvGraphicFramePr>
        <p:xfrm>
          <a:off x="395280" y="363384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Text Box 44"/>
          <p:cNvSpPr/>
          <p:nvPr/>
        </p:nvSpPr>
        <p:spPr>
          <a:xfrm>
            <a:off x="5293440" y="30146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5"/>
          <p:cNvSpPr/>
          <p:nvPr/>
        </p:nvSpPr>
        <p:spPr>
          <a:xfrm>
            <a:off x="6229440" y="2438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AutoShape 46"/>
          <p:cNvCxnSpPr/>
          <p:nvPr/>
        </p:nvCxnSpPr>
        <p:spPr>
          <a:xfrm flipV="1">
            <a:off x="1476360" y="358920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7" name="Line 47"/>
          <p:cNvSpPr/>
          <p:nvPr/>
        </p:nvSpPr>
        <p:spPr>
          <a:xfrm>
            <a:off x="3850920" y="294156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8"/>
          <p:cNvSpPr/>
          <p:nvPr/>
        </p:nvSpPr>
        <p:spPr>
          <a:xfrm>
            <a:off x="1764360" y="4653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9"/>
          <p:cNvSpPr/>
          <p:nvPr/>
        </p:nvSpPr>
        <p:spPr>
          <a:xfrm>
            <a:off x="8235000" y="602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50"/>
          <p:cNvGrpSpPr/>
          <p:nvPr/>
        </p:nvGrpSpPr>
        <p:grpSpPr>
          <a:xfrm>
            <a:off x="6877080" y="2349360"/>
            <a:ext cx="930240" cy="457920"/>
            <a:chOff x="6877080" y="2349360"/>
            <a:chExt cx="930240" cy="457920"/>
          </a:xfrm>
        </p:grpSpPr>
        <p:sp>
          <p:nvSpPr>
            <p:cNvPr id="441" name="Rectangle 51"/>
            <p:cNvSpPr/>
            <p:nvPr/>
          </p:nvSpPr>
          <p:spPr>
            <a:xfrm>
              <a:off x="6877080" y="24224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52"/>
            <p:cNvSpPr/>
            <p:nvPr/>
          </p:nvSpPr>
          <p:spPr>
            <a:xfrm>
              <a:off x="6877080" y="26384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53"/>
            <p:cNvSpPr/>
            <p:nvPr/>
          </p:nvSpPr>
          <p:spPr>
            <a:xfrm>
              <a:off x="7021080" y="23493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4"/>
            <p:cNvSpPr/>
            <p:nvPr/>
          </p:nvSpPr>
          <p:spPr>
            <a:xfrm>
              <a:off x="7021080" y="25653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55"/>
          <p:cNvSpPr/>
          <p:nvPr/>
        </p:nvSpPr>
        <p:spPr>
          <a:xfrm>
            <a:off x="5425200" y="602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919600" y="1611360"/>
            <a:ext cx="3660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Remesas y la democratización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Group 5"/>
          <p:cNvGraphicFramePr/>
          <p:nvPr/>
        </p:nvGraphicFramePr>
        <p:xfrm>
          <a:off x="2987640" y="3408480"/>
          <a:ext cx="5905080" cy="2696760"/>
        </p:xfrm>
        <a:graphic>
          <a:graphicData uri="http://schemas.openxmlformats.org/drawingml/2006/table">
            <a:tbl>
              <a:tblPr/>
              <a:tblGrid>
                <a:gridCol w="2508120"/>
                <a:gridCol w="444240"/>
                <a:gridCol w="2447640"/>
                <a:gridCol w="288720"/>
                <a:gridCol w="215640"/>
              </a:tblGrid>
              <a:tr h="214200"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rgio Bendixen, Consultor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nald Terry, Fondo Multilateral de Inversiones (FOMIN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ónica Brand, Acción Internacional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x Chion Li, Banco del Trabajo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istóteles Esperanza, Banco Mundial de la Mujer, EE.U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Object 41"/>
          <p:cNvGraphicFramePr/>
          <p:nvPr/>
        </p:nvGraphicFramePr>
        <p:xfrm>
          <a:off x="3132000" y="14558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51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4558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Group 42"/>
          <p:cNvGraphicFramePr/>
          <p:nvPr/>
        </p:nvGraphicFramePr>
        <p:xfrm>
          <a:off x="250920" y="344016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56"/>
          <p:cNvSpPr/>
          <p:nvPr/>
        </p:nvSpPr>
        <p:spPr>
          <a:xfrm>
            <a:off x="5436360" y="28242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7"/>
          <p:cNvSpPr/>
          <p:nvPr/>
        </p:nvSpPr>
        <p:spPr>
          <a:xfrm>
            <a:off x="6374160" y="233856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58"/>
          <p:cNvCxnSpPr/>
          <p:nvPr/>
        </p:nvCxnSpPr>
        <p:spPr>
          <a:xfrm flipV="1">
            <a:off x="1476360" y="340020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6" name="Line 59"/>
          <p:cNvSpPr/>
          <p:nvPr/>
        </p:nvSpPr>
        <p:spPr>
          <a:xfrm>
            <a:off x="3850920" y="275256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60"/>
          <p:cNvGrpSpPr/>
          <p:nvPr/>
        </p:nvGrpSpPr>
        <p:grpSpPr>
          <a:xfrm>
            <a:off x="6953400" y="2249640"/>
            <a:ext cx="929880" cy="457560"/>
            <a:chOff x="6953400" y="2249640"/>
            <a:chExt cx="929880" cy="457560"/>
          </a:xfrm>
        </p:grpSpPr>
        <p:sp>
          <p:nvSpPr>
            <p:cNvPr id="458" name="Rectangle 61"/>
            <p:cNvSpPr/>
            <p:nvPr/>
          </p:nvSpPr>
          <p:spPr>
            <a:xfrm>
              <a:off x="6953400" y="2322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2"/>
            <p:cNvSpPr/>
            <p:nvPr/>
          </p:nvSpPr>
          <p:spPr>
            <a:xfrm>
              <a:off x="6953400" y="2538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3"/>
            <p:cNvSpPr/>
            <p:nvPr/>
          </p:nvSpPr>
          <p:spPr>
            <a:xfrm>
              <a:off x="7097040" y="22496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64"/>
            <p:cNvSpPr/>
            <p:nvPr/>
          </p:nvSpPr>
          <p:spPr>
            <a:xfrm>
              <a:off x="7097040" y="2465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65"/>
          <p:cNvSpPr/>
          <p:nvPr/>
        </p:nvSpPr>
        <p:spPr>
          <a:xfrm>
            <a:off x="522036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6"/>
          <p:cNvSpPr/>
          <p:nvPr/>
        </p:nvSpPr>
        <p:spPr>
          <a:xfrm>
            <a:off x="823356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7"/>
          <p:cNvSpPr/>
          <p:nvPr/>
        </p:nvSpPr>
        <p:spPr>
          <a:xfrm>
            <a:off x="1620000" y="469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2260080" y="1611360"/>
            <a:ext cx="4617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Tecnología para reducir costos en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Group 5"/>
          <p:cNvGraphicFramePr/>
          <p:nvPr/>
        </p:nvGraphicFramePr>
        <p:xfrm>
          <a:off x="3348000" y="3624120"/>
          <a:ext cx="5471640" cy="2477520"/>
        </p:xfrm>
        <a:graphic>
          <a:graphicData uri="http://schemas.openxmlformats.org/drawingml/2006/table">
            <a:tbl>
              <a:tblPr/>
              <a:tblGrid>
                <a:gridCol w="2160360"/>
                <a:gridCol w="431640"/>
                <a:gridCol w="230328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nine Firpo, Sevak Solutions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atriz Morant Zacarés, Agencia Española de Cooperación Internacional (AECI)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ime Maestre, Consejo Mundial de Cooperativas de Ahorro y Crédito (WOCCU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Object 33"/>
          <p:cNvGraphicFramePr/>
          <p:nvPr/>
        </p:nvGraphicFramePr>
        <p:xfrm>
          <a:off x="2987640" y="16714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70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714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Group 34"/>
          <p:cNvGraphicFramePr/>
          <p:nvPr/>
        </p:nvGraphicFramePr>
        <p:xfrm>
          <a:off x="395280" y="364500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48"/>
          <p:cNvSpPr/>
          <p:nvPr/>
        </p:nvSpPr>
        <p:spPr>
          <a:xfrm>
            <a:off x="5293440" y="30686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9"/>
          <p:cNvSpPr/>
          <p:nvPr/>
        </p:nvSpPr>
        <p:spPr>
          <a:xfrm>
            <a:off x="6229440" y="25160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0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475" name="Rectangle 51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2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53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4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9" name="AutoShape 55"/>
          <p:cNvCxnSpPr/>
          <p:nvPr/>
        </p:nvCxnSpPr>
        <p:spPr>
          <a:xfrm flipV="1">
            <a:off x="1476360" y="360036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0" name="Line 56"/>
          <p:cNvSpPr/>
          <p:nvPr/>
        </p:nvSpPr>
        <p:spPr>
          <a:xfrm>
            <a:off x="3850920" y="295272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824840" y="4913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53521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823356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icrofinanza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675800" y="1628640"/>
            <a:ext cx="5643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Movilización de pequeños depósitos: diseño y control de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Group 5"/>
          <p:cNvGraphicFramePr/>
          <p:nvPr/>
        </p:nvGraphicFramePr>
        <p:xfrm>
          <a:off x="3276720" y="3807000"/>
          <a:ext cx="5471640" cy="2295000"/>
        </p:xfrm>
        <a:graphic>
          <a:graphicData uri="http://schemas.openxmlformats.org/drawingml/2006/table">
            <a:tbl>
              <a:tblPr/>
              <a:tblGrid>
                <a:gridCol w="2160360"/>
                <a:gridCol w="431640"/>
                <a:gridCol w="230328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ni Deshpande, Grupo Consultivo de Ayuda a la Población Pobre (CGAP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lio Cárdenas, Bancentro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sé Arce Monte de Oca, FFP Prodem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Object 33"/>
          <p:cNvGraphicFramePr/>
          <p:nvPr/>
        </p:nvGraphicFramePr>
        <p:xfrm>
          <a:off x="3305160" y="18162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48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8162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Group 34"/>
          <p:cNvGraphicFramePr/>
          <p:nvPr/>
        </p:nvGraphicFramePr>
        <p:xfrm>
          <a:off x="324000" y="382752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48"/>
          <p:cNvSpPr/>
          <p:nvPr/>
        </p:nvSpPr>
        <p:spPr>
          <a:xfrm>
            <a:off x="5580720" y="32130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9"/>
          <p:cNvSpPr/>
          <p:nvPr/>
        </p:nvSpPr>
        <p:spPr>
          <a:xfrm>
            <a:off x="6377040" y="258912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50"/>
          <p:cNvGrpSpPr/>
          <p:nvPr/>
        </p:nvGrpSpPr>
        <p:grpSpPr>
          <a:xfrm>
            <a:off x="7024680" y="2536920"/>
            <a:ext cx="930240" cy="457560"/>
            <a:chOff x="7024680" y="2536920"/>
            <a:chExt cx="930240" cy="457560"/>
          </a:xfrm>
        </p:grpSpPr>
        <p:sp>
          <p:nvSpPr>
            <p:cNvPr id="494" name="Rectangle 51"/>
            <p:cNvSpPr/>
            <p:nvPr/>
          </p:nvSpPr>
          <p:spPr>
            <a:xfrm>
              <a:off x="7024680" y="261000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2"/>
            <p:cNvSpPr/>
            <p:nvPr/>
          </p:nvSpPr>
          <p:spPr>
            <a:xfrm>
              <a:off x="7024680" y="28256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53"/>
            <p:cNvSpPr/>
            <p:nvPr/>
          </p:nvSpPr>
          <p:spPr>
            <a:xfrm>
              <a:off x="7168680" y="253692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54"/>
            <p:cNvSpPr/>
            <p:nvPr/>
          </p:nvSpPr>
          <p:spPr>
            <a:xfrm>
              <a:off x="7168680" y="27525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rgbClr val="333399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8" name="AutoShape 55"/>
          <p:cNvCxnSpPr/>
          <p:nvPr/>
        </p:nvCxnSpPr>
        <p:spPr>
          <a:xfrm flipV="1">
            <a:off x="1404720" y="37828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9" name="Line 56"/>
          <p:cNvSpPr/>
          <p:nvPr/>
        </p:nvSpPr>
        <p:spPr>
          <a:xfrm>
            <a:off x="3779640" y="3135240"/>
            <a:ext cx="360" cy="431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7"/>
          <p:cNvSpPr/>
          <p:nvPr/>
        </p:nvSpPr>
        <p:spPr>
          <a:xfrm>
            <a:off x="1753200" y="5095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52808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9"/>
          <p:cNvSpPr/>
          <p:nvPr/>
        </p:nvSpPr>
        <p:spPr>
          <a:xfrm>
            <a:off x="81619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852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Mercados Financier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195640" y="1484280"/>
            <a:ext cx="5328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Gestión del riesgo en mercados financieros rurales: nuevos enfoques, nuevas 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Group 5"/>
          <p:cNvGraphicFramePr/>
          <p:nvPr/>
        </p:nvGraphicFramePr>
        <p:xfrm>
          <a:off x="3348000" y="3716280"/>
          <a:ext cx="5363640" cy="238896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del Durán Pitarque, Banco Soldario;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vier Vaca, Red Financiera Rural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dolfo Fernando Peña, Banrural, 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izabeth Ventura, EDPYME Confianza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35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5580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38"/>
          <p:cNvGraphicFramePr/>
          <p:nvPr/>
        </p:nvGraphicFramePr>
        <p:xfrm>
          <a:off x="3059280" y="174312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12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4312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13" name="AutoShape 39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4" name="Line 40"/>
          <p:cNvSpPr/>
          <p:nvPr/>
        </p:nvSpPr>
        <p:spPr>
          <a:xfrm>
            <a:off x="385092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1"/>
          <p:cNvSpPr/>
          <p:nvPr/>
        </p:nvSpPr>
        <p:spPr>
          <a:xfrm>
            <a:off x="1836000" y="5084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2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517" name="Rectangle 43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4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46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Text Box 47"/>
          <p:cNvSpPr/>
          <p:nvPr/>
        </p:nvSpPr>
        <p:spPr>
          <a:xfrm>
            <a:off x="80892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Group 48"/>
          <p:cNvGraphicFramePr/>
          <p:nvPr/>
        </p:nvGraphicFramePr>
        <p:xfrm>
          <a:off x="395280" y="375768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2572920" y="1611360"/>
            <a:ext cx="3945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Reformas de las transacciones garantiz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Group 4"/>
          <p:cNvGraphicFramePr/>
          <p:nvPr/>
        </p:nvGraphicFramePr>
        <p:xfrm>
          <a:off x="2987640" y="3386160"/>
          <a:ext cx="6048000" cy="2660040"/>
        </p:xfrm>
        <a:graphic>
          <a:graphicData uri="http://schemas.openxmlformats.org/drawingml/2006/table">
            <a:tbl>
              <a:tblPr/>
              <a:tblGrid>
                <a:gridCol w="2879640"/>
                <a:gridCol w="504720"/>
                <a:gridCol w="2160360"/>
                <a:gridCol w="50292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Cantuarias, Universidad Peruana de Ciencias Aplicadas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rah Fandell, Corporación Interamericana de Inversiones (CII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ederique Dahan, Banco Europeo para la Reconstrucción y el Desarrollo (EBRD), Reino U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ale Furnish, Centro Nacional Legal para el Libre Intercambio Interamericano (NLCIFT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6" name="Text Box 31"/>
          <p:cNvSpPr/>
          <p:nvPr/>
        </p:nvSpPr>
        <p:spPr>
          <a:xfrm>
            <a:off x="5293440" y="28116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2"/>
          <p:cNvSpPr/>
          <p:nvPr/>
        </p:nvSpPr>
        <p:spPr>
          <a:xfrm>
            <a:off x="6302520" y="216216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7152480" y="6093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34"/>
          <p:cNvGraphicFramePr/>
          <p:nvPr/>
        </p:nvGraphicFramePr>
        <p:xfrm>
          <a:off x="3059280" y="13842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3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3842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1" name="AutoShape 35"/>
          <p:cNvCxnSpPr/>
          <p:nvPr/>
        </p:nvCxnSpPr>
        <p:spPr>
          <a:xfrm flipV="1">
            <a:off x="1476360" y="338580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2" name="Line 36"/>
          <p:cNvSpPr/>
          <p:nvPr/>
        </p:nvSpPr>
        <p:spPr>
          <a:xfrm>
            <a:off x="3348000" y="2707920"/>
            <a:ext cx="360" cy="4622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2112120" y="43941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38"/>
          <p:cNvGrpSpPr/>
          <p:nvPr/>
        </p:nvGrpSpPr>
        <p:grpSpPr>
          <a:xfrm>
            <a:off x="6877080" y="2133720"/>
            <a:ext cx="930240" cy="457560"/>
            <a:chOff x="6877080" y="2133720"/>
            <a:chExt cx="930240" cy="457560"/>
          </a:xfrm>
        </p:grpSpPr>
        <p:sp>
          <p:nvSpPr>
            <p:cNvPr id="535" name="Rectangle 39"/>
            <p:cNvSpPr/>
            <p:nvPr/>
          </p:nvSpPr>
          <p:spPr>
            <a:xfrm>
              <a:off x="6877080" y="220680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0"/>
            <p:cNvSpPr/>
            <p:nvPr/>
          </p:nvSpPr>
          <p:spPr>
            <a:xfrm>
              <a:off x="6877080" y="242244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1"/>
            <p:cNvSpPr/>
            <p:nvPr/>
          </p:nvSpPr>
          <p:spPr>
            <a:xfrm>
              <a:off x="7021080" y="213372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42"/>
            <p:cNvSpPr/>
            <p:nvPr/>
          </p:nvSpPr>
          <p:spPr>
            <a:xfrm>
              <a:off x="7021080" y="234936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Group 43"/>
          <p:cNvGraphicFramePr/>
          <p:nvPr/>
        </p:nvGraphicFramePr>
        <p:xfrm>
          <a:off x="395280" y="342756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55"/>
          <p:cNvSpPr/>
          <p:nvPr/>
        </p:nvSpPr>
        <p:spPr>
          <a:xfrm>
            <a:off x="4415760" y="6064200"/>
            <a:ext cx="1805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* En número de men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7"/>
          <p:cNvSpPr/>
          <p:nvPr/>
        </p:nvSpPr>
        <p:spPr>
          <a:xfrm>
            <a:off x="326880" y="551664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656800" y="1611360"/>
            <a:ext cx="4154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Los gobiernos de la región y las microfinan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Group 4"/>
          <p:cNvGraphicFramePr/>
          <p:nvPr/>
        </p:nvGraphicFramePr>
        <p:xfrm>
          <a:off x="2843280" y="3330720"/>
          <a:ext cx="6121080" cy="2847960"/>
        </p:xfrm>
        <a:graphic>
          <a:graphicData uri="http://schemas.openxmlformats.org/drawingml/2006/table">
            <a:tbl>
              <a:tblPr/>
              <a:tblGrid>
                <a:gridCol w="2952720"/>
                <a:gridCol w="647640"/>
                <a:gridCol w="2016000"/>
                <a:gridCol w="50472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rnesto Aguirre, Grupo Consultivo de Ayuda a la Población Pobre (CGAP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Lucano, Cyrano Management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dro Arriola, Banco ProCredit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sabel Guzmán, Banco Estado Microempresas S.A.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Padilla, Consultor Independiente de Microfinanzas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ilar Ramirez, F.I.E., S.A.;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5" name="Text Box 37"/>
          <p:cNvSpPr/>
          <p:nvPr/>
        </p:nvSpPr>
        <p:spPr>
          <a:xfrm>
            <a:off x="5293440" y="275580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6302520" y="2205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96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40"/>
          <p:cNvGraphicFramePr/>
          <p:nvPr/>
        </p:nvGraphicFramePr>
        <p:xfrm>
          <a:off x="3059280" y="14018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4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018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50" name="AutoShape 41"/>
          <p:cNvCxnSpPr/>
          <p:nvPr/>
        </p:nvCxnSpPr>
        <p:spPr>
          <a:xfrm flipV="1">
            <a:off x="1476360" y="333036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1" name="Line 42"/>
          <p:cNvSpPr/>
          <p:nvPr/>
        </p:nvSpPr>
        <p:spPr>
          <a:xfrm>
            <a:off x="3850920" y="2707920"/>
            <a:ext cx="360" cy="4064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1755000" y="4411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44"/>
          <p:cNvGrpSpPr/>
          <p:nvPr/>
        </p:nvGrpSpPr>
        <p:grpSpPr>
          <a:xfrm>
            <a:off x="6877080" y="2176560"/>
            <a:ext cx="930240" cy="457560"/>
            <a:chOff x="6877080" y="2176560"/>
            <a:chExt cx="930240" cy="457560"/>
          </a:xfrm>
        </p:grpSpPr>
        <p:sp>
          <p:nvSpPr>
            <p:cNvPr id="554" name="Rectangle 45"/>
            <p:cNvSpPr/>
            <p:nvPr/>
          </p:nvSpPr>
          <p:spPr>
            <a:xfrm>
              <a:off x="6877080" y="22496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47"/>
            <p:cNvSpPr/>
            <p:nvPr/>
          </p:nvSpPr>
          <p:spPr>
            <a:xfrm>
              <a:off x="7021080" y="21765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8"/>
            <p:cNvSpPr/>
            <p:nvPr/>
          </p:nvSpPr>
          <p:spPr>
            <a:xfrm>
              <a:off x="7021080" y="2392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49"/>
          <p:cNvSpPr/>
          <p:nvPr/>
        </p:nvSpPr>
        <p:spPr>
          <a:xfrm>
            <a:off x="83178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Group 50"/>
          <p:cNvGraphicFramePr/>
          <p:nvPr/>
        </p:nvGraphicFramePr>
        <p:xfrm>
          <a:off x="395280" y="337176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Rectangle 61"/>
          <p:cNvSpPr/>
          <p:nvPr/>
        </p:nvSpPr>
        <p:spPr>
          <a:xfrm>
            <a:off x="6519960" y="5424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335240"/>
            <a:ext cx="7772040" cy="490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1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Foro Interamericano de la Microempresa es un evento anual organizado por el Banco Interamericano de Desarrollo (BID), que se ha constituido en un importante mecanismo de difusión y divulgación de los avances e innovaciones de los servicios financieros y de desarrollo empresarial para las micro y pequeñas empresas que están ocurriendo en diferentes países e institucione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2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stos foros constituyen un esfuerzo sistemático del BID y de organismos públicos y privados de divulgar entre ONG’s, organismos internacionales y empresarios, informaciones relacionadas con los instrumentos y mecanismos que comúnmente se utilizan para la promoción y desarrollo de las micro y pequeñas empresas. 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cedent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250920" y="609300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3341160" y="1611360"/>
            <a:ext cx="2343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Microfinanzas y Basilea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Group 5"/>
          <p:cNvGraphicFramePr/>
          <p:nvPr/>
        </p:nvGraphicFramePr>
        <p:xfrm>
          <a:off x="3348000" y="3673440"/>
          <a:ext cx="5616360" cy="2477520"/>
        </p:xfrm>
        <a:graphic>
          <a:graphicData uri="http://schemas.openxmlformats.org/drawingml/2006/table">
            <a:tbl>
              <a:tblPr/>
              <a:tblGrid>
                <a:gridCol w="2232000"/>
                <a:gridCol w="576000"/>
                <a:gridCol w="237636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rique Navarrete, SCALAR Consulting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dy Araujo, Asociación de Supervisores Bancarios de las Americas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drew Powell, EE.UU Banco Interamerican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arda Sotomayor, Superintendencia de Banca y Seguros, 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5" name="Text Box 32"/>
          <p:cNvSpPr/>
          <p:nvPr/>
        </p:nvSpPr>
        <p:spPr>
          <a:xfrm>
            <a:off x="5293440" y="30988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6521760" y="25210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550944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35"/>
          <p:cNvGraphicFramePr/>
          <p:nvPr/>
        </p:nvGraphicFramePr>
        <p:xfrm>
          <a:off x="330516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69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70" name="AutoShape 36"/>
          <p:cNvCxnSpPr/>
          <p:nvPr/>
        </p:nvCxnSpPr>
        <p:spPr>
          <a:xfrm flipV="1">
            <a:off x="1476360" y="367344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1" name="Line 37"/>
          <p:cNvSpPr/>
          <p:nvPr/>
        </p:nvSpPr>
        <p:spPr>
          <a:xfrm>
            <a:off x="3850920" y="302544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8"/>
          <p:cNvSpPr/>
          <p:nvPr/>
        </p:nvSpPr>
        <p:spPr>
          <a:xfrm>
            <a:off x="1755000" y="50418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9"/>
          <p:cNvGrpSpPr/>
          <p:nvPr/>
        </p:nvGrpSpPr>
        <p:grpSpPr>
          <a:xfrm>
            <a:off x="7095960" y="2492280"/>
            <a:ext cx="930240" cy="457920"/>
            <a:chOff x="7095960" y="2492280"/>
            <a:chExt cx="930240" cy="457920"/>
          </a:xfrm>
        </p:grpSpPr>
        <p:sp>
          <p:nvSpPr>
            <p:cNvPr id="574" name="Rectangle 40"/>
            <p:cNvSpPr/>
            <p:nvPr/>
          </p:nvSpPr>
          <p:spPr>
            <a:xfrm>
              <a:off x="7095960" y="256536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1"/>
            <p:cNvSpPr/>
            <p:nvPr/>
          </p:nvSpPr>
          <p:spPr>
            <a:xfrm>
              <a:off x="7095960" y="27813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42"/>
            <p:cNvSpPr/>
            <p:nvPr/>
          </p:nvSpPr>
          <p:spPr>
            <a:xfrm>
              <a:off x="7239960" y="249228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43"/>
            <p:cNvSpPr/>
            <p:nvPr/>
          </p:nvSpPr>
          <p:spPr>
            <a:xfrm>
              <a:off x="7239960" y="270828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44"/>
          <p:cNvSpPr/>
          <p:nvPr/>
        </p:nvSpPr>
        <p:spPr>
          <a:xfrm>
            <a:off x="830484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Group 45"/>
          <p:cNvGraphicFramePr/>
          <p:nvPr/>
        </p:nvGraphicFramePr>
        <p:xfrm>
          <a:off x="395280" y="371484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59"/>
          <p:cNvSpPr/>
          <p:nvPr/>
        </p:nvSpPr>
        <p:spPr>
          <a:xfrm>
            <a:off x="6372360" y="549576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rcados Financier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50920" y="6021360"/>
            <a:ext cx="1368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en-US" sz="18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713520" y="1341360"/>
            <a:ext cx="7657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 intercambio de información crediticia y su efecto sobre la expansión de los 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financieros y comerciales a personas de bajos 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Group 5"/>
          <p:cNvGraphicFramePr/>
          <p:nvPr/>
        </p:nvGraphicFramePr>
        <p:xfrm>
          <a:off x="3348000" y="3571920"/>
          <a:ext cx="5616360" cy="2571480"/>
        </p:xfrm>
        <a:graphic>
          <a:graphicData uri="http://schemas.openxmlformats.org/drawingml/2006/table">
            <a:tbl>
              <a:tblPr/>
              <a:tblGrid>
                <a:gridCol w="2592360"/>
                <a:gridCol w="718920"/>
                <a:gridCol w="1873080"/>
                <a:gridCol w="431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Pablo Guerra Galán, Unión de Cooperativas de Ahorro y Crédito del Sur (UCACSUR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rnai Velarde, USAID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uan Manuel Ruiz Palmieri, Círculo de Crédito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in Young, Development Alternatives, Inc. (DAI)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5" name="Text Box 35"/>
          <p:cNvSpPr/>
          <p:nvPr/>
        </p:nvSpPr>
        <p:spPr>
          <a:xfrm>
            <a:off x="5293440" y="299736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6"/>
          <p:cNvSpPr/>
          <p:nvPr/>
        </p:nvSpPr>
        <p:spPr>
          <a:xfrm>
            <a:off x="6302520" y="2421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7"/>
          <p:cNvSpPr/>
          <p:nvPr/>
        </p:nvSpPr>
        <p:spPr>
          <a:xfrm>
            <a:off x="594108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38"/>
          <p:cNvGraphicFramePr/>
          <p:nvPr/>
        </p:nvGraphicFramePr>
        <p:xfrm>
          <a:off x="3059280" y="16286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589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6286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90" name="AutoShape 39"/>
          <p:cNvCxnSpPr/>
          <p:nvPr/>
        </p:nvCxnSpPr>
        <p:spPr>
          <a:xfrm flipV="1">
            <a:off x="1476360" y="357156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1" name="Line 40"/>
          <p:cNvSpPr/>
          <p:nvPr/>
        </p:nvSpPr>
        <p:spPr>
          <a:xfrm>
            <a:off x="3850920" y="292392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1755000" y="4940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2"/>
          <p:cNvGrpSpPr/>
          <p:nvPr/>
        </p:nvGrpSpPr>
        <p:grpSpPr>
          <a:xfrm>
            <a:off x="6877080" y="2392200"/>
            <a:ext cx="930240" cy="457920"/>
            <a:chOff x="6877080" y="2392200"/>
            <a:chExt cx="930240" cy="457920"/>
          </a:xfrm>
        </p:grpSpPr>
        <p:sp>
          <p:nvSpPr>
            <p:cNvPr id="594" name="Rectangle 43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6877080" y="2681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5"/>
            <p:cNvSpPr/>
            <p:nvPr/>
          </p:nvSpPr>
          <p:spPr>
            <a:xfrm>
              <a:off x="7021080" y="239220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46"/>
            <p:cNvSpPr/>
            <p:nvPr/>
          </p:nvSpPr>
          <p:spPr>
            <a:xfrm>
              <a:off x="7021080" y="2608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47"/>
          <p:cNvSpPr/>
          <p:nvPr/>
        </p:nvSpPr>
        <p:spPr>
          <a:xfrm>
            <a:off x="82447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Group 48"/>
          <p:cNvGraphicFramePr/>
          <p:nvPr/>
        </p:nvGraphicFramePr>
        <p:xfrm>
          <a:off x="395280" y="361332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63"/>
          <p:cNvSpPr/>
          <p:nvPr/>
        </p:nvSpPr>
        <p:spPr>
          <a:xfrm>
            <a:off x="673560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71640" y="2852640"/>
            <a:ext cx="720072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Acceso a Mercad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752840" y="1611360"/>
            <a:ext cx="56095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Nuevas tendencias en el financiamiento de las cadenas 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Group 4"/>
          <p:cNvGraphicFramePr/>
          <p:nvPr/>
        </p:nvGraphicFramePr>
        <p:xfrm>
          <a:off x="3348000" y="3716280"/>
          <a:ext cx="5616360" cy="2206440"/>
        </p:xfrm>
        <a:graphic>
          <a:graphicData uri="http://schemas.openxmlformats.org/drawingml/2006/table">
            <a:tbl>
              <a:tblPr/>
              <a:tblGrid>
                <a:gridCol w="2447640"/>
                <a:gridCol w="504720"/>
                <a:gridCol w="2016000"/>
                <a:gridCol w="647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va Ramos, Fundación Ecología y Desarrollo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ardo Estrada, CORPEI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en Shwedel, Rabobank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Vaca, Pronac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rique Zamora, Grupo LAFISE, 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5" name="Text Box 34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5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6"/>
          <p:cNvSpPr/>
          <p:nvPr/>
        </p:nvSpPr>
        <p:spPr>
          <a:xfrm>
            <a:off x="571248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Object 37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0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0" name="AutoShape 38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1" name="Line 39"/>
          <p:cNvSpPr/>
          <p:nvPr/>
        </p:nvSpPr>
        <p:spPr>
          <a:xfrm>
            <a:off x="385092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1755000" y="5084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1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14" name="Rectangle 42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3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4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45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 Box 46"/>
          <p:cNvSpPr/>
          <p:nvPr/>
        </p:nvSpPr>
        <p:spPr>
          <a:xfrm>
            <a:off x="83048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Group 47"/>
          <p:cNvGraphicFramePr/>
          <p:nvPr/>
        </p:nvGraphicFramePr>
        <p:xfrm>
          <a:off x="395280" y="3757680"/>
          <a:ext cx="2114280" cy="118800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Rectangle 61"/>
          <p:cNvSpPr/>
          <p:nvPr/>
        </p:nvSpPr>
        <p:spPr>
          <a:xfrm>
            <a:off x="6448320" y="520848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84520" y="4096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218320" y="1413000"/>
            <a:ext cx="4677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ortunidades para la mayoría  en el entorn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Group 57"/>
          <p:cNvGraphicFramePr/>
          <p:nvPr/>
        </p:nvGraphicFramePr>
        <p:xfrm>
          <a:off x="3348000" y="3716280"/>
          <a:ext cx="5363640" cy="211248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los Calderón, Chile Emprende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ris Becker, GTZ, 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co Moncayo, Alcalde de la Ciudad de Quito;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avillas Rojo, Barcelona Activa, Espa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4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3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2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29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0" name="Line 36"/>
          <p:cNvSpPr/>
          <p:nvPr/>
        </p:nvSpPr>
        <p:spPr>
          <a:xfrm>
            <a:off x="356364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182484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33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 Box 43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Rectangle 58"/>
          <p:cNvSpPr/>
          <p:nvPr/>
        </p:nvSpPr>
        <p:spPr>
          <a:xfrm>
            <a:off x="3348000" y="580536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2730960" y="1611360"/>
            <a:ext cx="3640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strategias para acceder a los mer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Group 4"/>
          <p:cNvGraphicFramePr/>
          <p:nvPr/>
        </p:nvGraphicFramePr>
        <p:xfrm>
          <a:off x="3348000" y="3716280"/>
          <a:ext cx="5616360" cy="2571480"/>
        </p:xfrm>
        <a:graphic>
          <a:graphicData uri="http://schemas.openxmlformats.org/drawingml/2006/table">
            <a:tbl>
              <a:tblPr/>
              <a:tblGrid>
                <a:gridCol w="2447640"/>
                <a:gridCol w="576000"/>
                <a:gridCol w="1944360"/>
                <a:gridCol w="64764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eslie Claros, FUNDES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cilia Duque, Artesanías de Colombi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y Cockram, Aid to Artisans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layson Ferrari Dos Santos, Visión Mundial Internacional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uel Eguiguren, INPART;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34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6"/>
          <p:cNvSpPr/>
          <p:nvPr/>
        </p:nvSpPr>
        <p:spPr>
          <a:xfrm>
            <a:off x="571248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37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47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48" name="AutoShape 38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9" name="Line 39"/>
          <p:cNvSpPr/>
          <p:nvPr/>
        </p:nvSpPr>
        <p:spPr>
          <a:xfrm>
            <a:off x="363528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175500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41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52" name="Rectangle 42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3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44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5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46"/>
          <p:cNvSpPr/>
          <p:nvPr/>
        </p:nvSpPr>
        <p:spPr>
          <a:xfrm>
            <a:off x="83048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Group 47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8" name="Rectangle 58"/>
          <p:cNvSpPr/>
          <p:nvPr/>
        </p:nvSpPr>
        <p:spPr>
          <a:xfrm>
            <a:off x="65199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604440" y="1413000"/>
            <a:ext cx="79351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Creando riqueza e impacto social: el rol de los emprendedores sociales y el sector priv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n el desarrollo de mercados al servicio de las may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Group 4"/>
          <p:cNvGraphicFramePr/>
          <p:nvPr/>
        </p:nvGraphicFramePr>
        <p:xfrm>
          <a:off x="3132000" y="3500280"/>
          <a:ext cx="5832000" cy="2665440"/>
        </p:xfrm>
        <a:graphic>
          <a:graphicData uri="http://schemas.openxmlformats.org/drawingml/2006/table">
            <a:tbl>
              <a:tblPr/>
              <a:tblGrid>
                <a:gridCol w="2766960"/>
                <a:gridCol w="447480"/>
                <a:gridCol w="2170080"/>
                <a:gridCol w="44748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tonio Bunchaft, PANGEA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aleria Budinich, Ashoka, EE.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ancisco de la Torre, Amanco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aidy Duque, Taller de Vida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uro García, Red de Agricultores Sustentables Autogestivos,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berto Gutierrez, Social Enterprise Knowledge Network (SEKN)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2" name="Text Box 37"/>
          <p:cNvSpPr/>
          <p:nvPr/>
        </p:nvSpPr>
        <p:spPr>
          <a:xfrm>
            <a:off x="5293440" y="2925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302520" y="22766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572508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40"/>
          <p:cNvGraphicFramePr/>
          <p:nvPr/>
        </p:nvGraphicFramePr>
        <p:xfrm>
          <a:off x="3059280" y="1484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6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4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67" name="AutoShape 41"/>
          <p:cNvCxnSpPr/>
          <p:nvPr/>
        </p:nvCxnSpPr>
        <p:spPr>
          <a:xfrm flipV="1">
            <a:off x="1476360" y="3500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8" name="Line 42"/>
          <p:cNvSpPr/>
          <p:nvPr/>
        </p:nvSpPr>
        <p:spPr>
          <a:xfrm>
            <a:off x="3635280" y="2781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3"/>
          <p:cNvSpPr/>
          <p:nvPr/>
        </p:nvSpPr>
        <p:spPr>
          <a:xfrm>
            <a:off x="1755000" y="4581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4"/>
          <p:cNvGrpSpPr/>
          <p:nvPr/>
        </p:nvGrpSpPr>
        <p:grpSpPr>
          <a:xfrm>
            <a:off x="6877080" y="2247840"/>
            <a:ext cx="930240" cy="457920"/>
            <a:chOff x="6877080" y="2247840"/>
            <a:chExt cx="930240" cy="457920"/>
          </a:xfrm>
        </p:grpSpPr>
        <p:sp>
          <p:nvSpPr>
            <p:cNvPr id="671" name="Rectangle 45"/>
            <p:cNvSpPr/>
            <p:nvPr/>
          </p:nvSpPr>
          <p:spPr>
            <a:xfrm>
              <a:off x="6877080" y="2320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47"/>
            <p:cNvSpPr/>
            <p:nvPr/>
          </p:nvSpPr>
          <p:spPr>
            <a:xfrm>
              <a:off x="7021080" y="2247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48"/>
            <p:cNvSpPr/>
            <p:nvPr/>
          </p:nvSpPr>
          <p:spPr>
            <a:xfrm>
              <a:off x="7021080" y="2463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 Box 49"/>
          <p:cNvSpPr/>
          <p:nvPr/>
        </p:nvSpPr>
        <p:spPr>
          <a:xfrm>
            <a:off x="83178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Group 50"/>
          <p:cNvGraphicFramePr/>
          <p:nvPr/>
        </p:nvGraphicFramePr>
        <p:xfrm>
          <a:off x="395280" y="3541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Rectangle 62"/>
          <p:cNvSpPr/>
          <p:nvPr/>
        </p:nvSpPr>
        <p:spPr>
          <a:xfrm>
            <a:off x="65199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cceso a Mercad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1026720" y="1611360"/>
            <a:ext cx="7066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ciones no tradicionales para el financiamiento de nuevas empresas diná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Group 59"/>
          <p:cNvGraphicFramePr/>
          <p:nvPr/>
        </p:nvGraphicFramePr>
        <p:xfrm>
          <a:off x="3348000" y="3716280"/>
          <a:ext cx="5363640" cy="2295000"/>
        </p:xfrm>
        <a:graphic>
          <a:graphicData uri="http://schemas.openxmlformats.org/drawingml/2006/table">
            <a:tbl>
              <a:tblPr/>
              <a:tblGrid>
                <a:gridCol w="2138040"/>
                <a:gridCol w="74736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rmán Echocopar, Universidad Adolfo Ibáez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uis Palau, Corporación Andina de Fomento (CAF)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rnando Prieto, Red Angeles Inversionistas,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iano Ruani, Universidad Austral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1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5580720" y="60642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685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86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7" name="Line 36"/>
          <p:cNvSpPr/>
          <p:nvPr/>
        </p:nvSpPr>
        <p:spPr>
          <a:xfrm>
            <a:off x="349236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175500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690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Text Box 43"/>
          <p:cNvSpPr/>
          <p:nvPr/>
        </p:nvSpPr>
        <p:spPr>
          <a:xfrm>
            <a:off x="7957440" y="60642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Rectangle 58"/>
          <p:cNvSpPr/>
          <p:nvPr/>
        </p:nvSpPr>
        <p:spPr>
          <a:xfrm>
            <a:off x="903240" y="5661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565360"/>
            <a:ext cx="7200720" cy="179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valuación sobre las Cuatro Vías Temáticas: Entorno y Capital Humano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2783520" y="1611360"/>
            <a:ext cx="36514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Caminos hacia la formalidad empresa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Group 4"/>
          <p:cNvGraphicFramePr/>
          <p:nvPr/>
        </p:nvGraphicFramePr>
        <p:xfrm>
          <a:off x="3348000" y="3716280"/>
          <a:ext cx="5544720" cy="2201040"/>
        </p:xfrm>
        <a:graphic>
          <a:graphicData uri="http://schemas.openxmlformats.org/drawingml/2006/table">
            <a:tbl>
              <a:tblPr/>
              <a:tblGrid>
                <a:gridCol w="2303280"/>
                <a:gridCol w="582480"/>
                <a:gridCol w="2082600"/>
                <a:gridCol w="576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o Camacho, Intendencia Nacional de Estudios Tributarios y Planeamiento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io Tueros, Organización Internacional del Trabajo (OIT)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rge Madera, Experto en Seguridad Social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eopoldo Tornarolli, Centro de Estudios Distributivos Laborales y Sociales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1" name="Text Box 26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7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8"/>
          <p:cNvSpPr/>
          <p:nvPr/>
        </p:nvSpPr>
        <p:spPr>
          <a:xfrm>
            <a:off x="550944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Object 29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0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06" name="AutoShape 30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07" name="Line 31"/>
          <p:cNvSpPr/>
          <p:nvPr/>
        </p:nvSpPr>
        <p:spPr>
          <a:xfrm>
            <a:off x="341928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2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09" name="Rectangle 33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34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5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6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8160480" y="5992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Group 38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49"/>
          <p:cNvSpPr/>
          <p:nvPr/>
        </p:nvSpPr>
        <p:spPr>
          <a:xfrm>
            <a:off x="2112120" y="47689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2"/>
          <p:cNvSpPr/>
          <p:nvPr/>
        </p:nvSpPr>
        <p:spPr>
          <a:xfrm>
            <a:off x="47160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384200"/>
            <a:ext cx="81338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1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 BID reconoce la importancia de documentar y sistematizar la información de los foros. La evaluación tiene como objetivo fundamental medir el impacto de la información en los participantes de los foros y en sus instituciones, el nivel de organización del Foro y el nivel técnico de los diversos componentes del evento.  Adicionalmente, la evaluación se torna como un instrumento de retroalimentación que permita mejorar los diferentes componentes de futuros evento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360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marL="358920" indent="-358920" algn="just">
              <a:lnSpc>
                <a:spcPct val="130000"/>
              </a:lnSpc>
              <a:spcBef>
                <a:spcPts val="360"/>
              </a:spcBef>
              <a:buSzPct val="100000"/>
              <a:buBlip>
                <a:blip r:embed="rId2"/>
              </a:buBlip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Ipsos - Napoleón Franco realizó una </a:t>
            </a:r>
            <a:r>
              <a:rPr b="0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evaluación online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a los asistentes del IX Foro de Quito – Ecuador, del cual se obtuvieron los siguientes resultados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76364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cedente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2059920" y="1611360"/>
            <a:ext cx="5105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xperiencias exitosas en la formación de emprendedo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Group 4"/>
          <p:cNvGraphicFramePr/>
          <p:nvPr/>
        </p:nvGraphicFramePr>
        <p:xfrm>
          <a:off x="3348000" y="3956040"/>
          <a:ext cx="5363640" cy="192996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bia Berbesi Flores, FUNDES, 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alia Arango, Actuar Famiempresas, 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Matos, SEBRAE,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andra Piccioli, Fundasol, 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0" name="Text Box 31"/>
          <p:cNvSpPr/>
          <p:nvPr/>
        </p:nvSpPr>
        <p:spPr>
          <a:xfrm>
            <a:off x="5293440" y="338148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2"/>
          <p:cNvSpPr/>
          <p:nvPr/>
        </p:nvSpPr>
        <p:spPr>
          <a:xfrm>
            <a:off x="6302520" y="273204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3"/>
          <p:cNvSpPr/>
          <p:nvPr/>
        </p:nvSpPr>
        <p:spPr>
          <a:xfrm>
            <a:off x="558072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34"/>
          <p:cNvGraphicFramePr/>
          <p:nvPr/>
        </p:nvGraphicFramePr>
        <p:xfrm>
          <a:off x="3059280" y="194004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24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4004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5" name="AutoShape 35"/>
          <p:cNvCxnSpPr/>
          <p:nvPr/>
        </p:nvCxnSpPr>
        <p:spPr>
          <a:xfrm flipV="1">
            <a:off x="1476360" y="395604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Line 36"/>
          <p:cNvSpPr/>
          <p:nvPr/>
        </p:nvSpPr>
        <p:spPr>
          <a:xfrm>
            <a:off x="3635280" y="3213000"/>
            <a:ext cx="360" cy="5270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7"/>
          <p:cNvSpPr/>
          <p:nvPr/>
        </p:nvSpPr>
        <p:spPr>
          <a:xfrm>
            <a:off x="1693080" y="50371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38"/>
          <p:cNvGrpSpPr/>
          <p:nvPr/>
        </p:nvGrpSpPr>
        <p:grpSpPr>
          <a:xfrm>
            <a:off x="6877080" y="2703600"/>
            <a:ext cx="930240" cy="457560"/>
            <a:chOff x="6877080" y="2703600"/>
            <a:chExt cx="930240" cy="457560"/>
          </a:xfrm>
        </p:grpSpPr>
        <p:sp>
          <p:nvSpPr>
            <p:cNvPr id="729" name="Rectangle 39"/>
            <p:cNvSpPr/>
            <p:nvPr/>
          </p:nvSpPr>
          <p:spPr>
            <a:xfrm>
              <a:off x="6877080" y="277668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40"/>
            <p:cNvSpPr/>
            <p:nvPr/>
          </p:nvSpPr>
          <p:spPr>
            <a:xfrm>
              <a:off x="6877080" y="299232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41"/>
            <p:cNvSpPr/>
            <p:nvPr/>
          </p:nvSpPr>
          <p:spPr>
            <a:xfrm>
              <a:off x="7021080" y="270360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42"/>
            <p:cNvSpPr/>
            <p:nvPr/>
          </p:nvSpPr>
          <p:spPr>
            <a:xfrm>
              <a:off x="7021080" y="29192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43"/>
          <p:cNvSpPr/>
          <p:nvPr/>
        </p:nvSpPr>
        <p:spPr>
          <a:xfrm>
            <a:off x="7957440" y="595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Group 44"/>
          <p:cNvGraphicFramePr/>
          <p:nvPr/>
        </p:nvGraphicFramePr>
        <p:xfrm>
          <a:off x="395280" y="399744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Rectangle 55"/>
          <p:cNvSpPr/>
          <p:nvPr/>
        </p:nvSpPr>
        <p:spPr>
          <a:xfrm>
            <a:off x="6303960" y="528012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695520" y="1611360"/>
            <a:ext cx="786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Políticas públicas para el desarrollo de las pequeñas empresas: desafíos y oportunida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Group 4"/>
          <p:cNvGraphicFramePr/>
          <p:nvPr/>
        </p:nvGraphicFramePr>
        <p:xfrm>
          <a:off x="3348000" y="3716280"/>
          <a:ext cx="5363640" cy="2477520"/>
        </p:xfrm>
        <a:graphic>
          <a:graphicData uri="http://schemas.openxmlformats.org/drawingml/2006/table">
            <a:tbl>
              <a:tblPr/>
              <a:tblGrid>
                <a:gridCol w="2376360"/>
                <a:gridCol w="509400"/>
                <a:gridCol w="2009520"/>
                <a:gridCol w="4680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ván Mifflin, Consultor, Mesa Coordinación PYME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blo Maas, Diario Clarín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na Nuñez, Consejo Nacional de Micro, Pequeña y Mediana Empresa, Hondu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ésar Rodríguez, Subsecretaría de la Micro y Pequeña Empresa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9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563940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4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44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5" name="Line 36"/>
          <p:cNvSpPr/>
          <p:nvPr/>
        </p:nvSpPr>
        <p:spPr>
          <a:xfrm>
            <a:off x="3492360" y="3068280"/>
            <a:ext cx="360" cy="43200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7"/>
          <p:cNvSpPr/>
          <p:nvPr/>
        </p:nvSpPr>
        <p:spPr>
          <a:xfrm>
            <a:off x="1824840" y="479736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48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43"/>
          <p:cNvSpPr/>
          <p:nvPr/>
        </p:nvSpPr>
        <p:spPr>
          <a:xfrm>
            <a:off x="8016120" y="616572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Group 44"/>
          <p:cNvGraphicFramePr/>
          <p:nvPr/>
        </p:nvGraphicFramePr>
        <p:xfrm>
          <a:off x="395280" y="375768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Rectangle 57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"/>
          <p:cNvSpPr/>
          <p:nvPr/>
        </p:nvSpPr>
        <p:spPr>
          <a:xfrm>
            <a:off x="2185920" y="1413000"/>
            <a:ext cx="488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Electricidad, agua, gas, vivien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necesidades comunitarias y oportunidades de 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Group 62"/>
          <p:cNvGraphicFramePr/>
          <p:nvPr/>
        </p:nvGraphicFramePr>
        <p:xfrm>
          <a:off x="3203640" y="3284640"/>
          <a:ext cx="5832000" cy="2806920"/>
        </p:xfrm>
        <a:graphic>
          <a:graphicData uri="http://schemas.openxmlformats.org/drawingml/2006/table">
            <a:tbl>
              <a:tblPr/>
              <a:tblGrid>
                <a:gridCol w="2736720"/>
                <a:gridCol w="502920"/>
                <a:gridCol w="2089080"/>
                <a:gridCol w="502920"/>
              </a:tblGrid>
              <a:tr h="214200">
                <a:tc grid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oris Arteaga, Aguas del Este, 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scar Castillo, Banco Mundial/Experto en Servicios Básicos, 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nia Gonzáles, Hogar de Cristo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dela del Refugio Sagastume de Rizzo, Génesis Empresarial, 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úl Zavalía, Fundación Pro-Vivienda Social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8" name="Text Box 34"/>
          <p:cNvSpPr/>
          <p:nvPr/>
        </p:nvSpPr>
        <p:spPr>
          <a:xfrm>
            <a:off x="5293440" y="285444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6302520" y="220500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725080" y="61070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Object 37"/>
          <p:cNvGraphicFramePr/>
          <p:nvPr/>
        </p:nvGraphicFramePr>
        <p:xfrm>
          <a:off x="3059280" y="141300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62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1300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3" name="AutoShape 38"/>
          <p:cNvCxnSpPr/>
          <p:nvPr/>
        </p:nvCxnSpPr>
        <p:spPr>
          <a:xfrm flipV="1">
            <a:off x="1476360" y="3284280"/>
            <a:ext cx="5999400" cy="4500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4" name="Line 39"/>
          <p:cNvSpPr/>
          <p:nvPr/>
        </p:nvSpPr>
        <p:spPr>
          <a:xfrm>
            <a:off x="3419280" y="2709720"/>
            <a:ext cx="360" cy="32364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40"/>
          <p:cNvGrpSpPr/>
          <p:nvPr/>
        </p:nvGrpSpPr>
        <p:grpSpPr>
          <a:xfrm>
            <a:off x="6877080" y="2176560"/>
            <a:ext cx="930240" cy="457560"/>
            <a:chOff x="6877080" y="2176560"/>
            <a:chExt cx="930240" cy="457560"/>
          </a:xfrm>
        </p:grpSpPr>
        <p:sp>
          <p:nvSpPr>
            <p:cNvPr id="766" name="Rectangle 41"/>
            <p:cNvSpPr/>
            <p:nvPr/>
          </p:nvSpPr>
          <p:spPr>
            <a:xfrm>
              <a:off x="6877080" y="224964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6877080" y="246528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3"/>
            <p:cNvSpPr/>
            <p:nvPr/>
          </p:nvSpPr>
          <p:spPr>
            <a:xfrm>
              <a:off x="7021080" y="217656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4"/>
            <p:cNvSpPr/>
            <p:nvPr/>
          </p:nvSpPr>
          <p:spPr>
            <a:xfrm>
              <a:off x="7021080" y="239220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45"/>
          <p:cNvSpPr/>
          <p:nvPr/>
        </p:nvSpPr>
        <p:spPr>
          <a:xfrm>
            <a:off x="8376480" y="61214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6"/>
          <p:cNvSpPr/>
          <p:nvPr/>
        </p:nvSpPr>
        <p:spPr>
          <a:xfrm>
            <a:off x="1824840" y="45100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Group 47"/>
          <p:cNvGraphicFramePr/>
          <p:nvPr/>
        </p:nvGraphicFramePr>
        <p:xfrm>
          <a:off x="395280" y="3429000"/>
          <a:ext cx="2114280" cy="91368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3" name="Rectangle 63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Mesas Redondas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orno y Capital Humano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621520" y="1611360"/>
            <a:ext cx="3969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CO" sz="1400" spc="-1" strike="noStrike">
                <a:solidFill>
                  <a:schemeClr val="accent2"/>
                </a:solidFill>
                <a:latin typeface="Arial"/>
              </a:rPr>
              <a:t>Oportunidades para jóvenes emprend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Group 4"/>
          <p:cNvGraphicFramePr/>
          <p:nvPr/>
        </p:nvGraphicFramePr>
        <p:xfrm>
          <a:off x="3348000" y="3716280"/>
          <a:ext cx="5363640" cy="2295000"/>
        </p:xfrm>
        <a:graphic>
          <a:graphicData uri="http://schemas.openxmlformats.org/drawingml/2006/table">
            <a:tbl>
              <a:tblPr/>
              <a:tblGrid>
                <a:gridCol w="2185920"/>
                <a:gridCol w="699840"/>
                <a:gridCol w="1873080"/>
                <a:gridCol w="604800"/>
              </a:tblGrid>
              <a:tr h="214200"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Panelista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oderadores que se deben volver a invi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ia Brandon, Barbados Youth Business Trust, Barb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oaquín Ribadeneira, Morisaenz Group, 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nold Sabillón, Fundación Banhcafé, 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moder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tricia Vedoya, Kittl Foundation,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 paneli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1" lang="en-US" sz="10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7" name="Text Box 31"/>
          <p:cNvSpPr/>
          <p:nvPr/>
        </p:nvSpPr>
        <p:spPr>
          <a:xfrm>
            <a:off x="5293440" y="3141720"/>
            <a:ext cx="7282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chemeClr val="accent2"/>
                </a:solidFill>
                <a:latin typeface="Arial"/>
              </a:rPr>
              <a:t>Base 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2"/>
          <p:cNvSpPr/>
          <p:nvPr/>
        </p:nvSpPr>
        <p:spPr>
          <a:xfrm>
            <a:off x="6302520" y="2492280"/>
            <a:ext cx="3610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600" spc="-1" strike="noStrike">
                <a:solidFill>
                  <a:schemeClr val="accent2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3"/>
          <p:cNvSpPr/>
          <p:nvPr/>
        </p:nvSpPr>
        <p:spPr>
          <a:xfrm>
            <a:off x="558072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Object 34"/>
          <p:cNvGraphicFramePr/>
          <p:nvPr/>
        </p:nvGraphicFramePr>
        <p:xfrm>
          <a:off x="3059280" y="1700280"/>
          <a:ext cx="3642840" cy="1972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81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00280"/>
                    <a:ext cx="3642840" cy="19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82" name="AutoShape 35"/>
          <p:cNvCxnSpPr/>
          <p:nvPr/>
        </p:nvCxnSpPr>
        <p:spPr>
          <a:xfrm flipV="1">
            <a:off x="1476360" y="3716280"/>
            <a:ext cx="5999400" cy="44640"/>
          </a:xfrm>
          <a:prstGeom prst="bentConnector2">
            <a:avLst/>
          </a:prstGeom>
          <a:ln w="1905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3" name="Line 36"/>
          <p:cNvSpPr/>
          <p:nvPr/>
        </p:nvSpPr>
        <p:spPr>
          <a:xfrm>
            <a:off x="3492360" y="2997000"/>
            <a:ext cx="360" cy="503280"/>
          </a:xfrm>
          <a:prstGeom prst="line">
            <a:avLst/>
          </a:prstGeom>
          <a:ln w="1905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7"/>
          <p:cNvSpPr/>
          <p:nvPr/>
        </p:nvSpPr>
        <p:spPr>
          <a:xfrm>
            <a:off x="1967760" y="429264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38"/>
          <p:cNvGrpSpPr/>
          <p:nvPr/>
        </p:nvGrpSpPr>
        <p:grpSpPr>
          <a:xfrm>
            <a:off x="6877080" y="2463840"/>
            <a:ext cx="930240" cy="457920"/>
            <a:chOff x="6877080" y="2463840"/>
            <a:chExt cx="930240" cy="457920"/>
          </a:xfrm>
        </p:grpSpPr>
        <p:sp>
          <p:nvSpPr>
            <p:cNvPr id="786" name="Rectangle 39"/>
            <p:cNvSpPr/>
            <p:nvPr/>
          </p:nvSpPr>
          <p:spPr>
            <a:xfrm>
              <a:off x="6877080" y="2536920"/>
              <a:ext cx="142560" cy="142560"/>
            </a:xfrm>
            <a:prstGeom prst="rect">
              <a:avLst/>
            </a:prstGeom>
            <a:solidFill>
              <a:srgbClr val="008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0"/>
            <p:cNvSpPr/>
            <p:nvPr/>
          </p:nvSpPr>
          <p:spPr>
            <a:xfrm>
              <a:off x="6877080" y="2752560"/>
              <a:ext cx="142560" cy="142560"/>
            </a:xfrm>
            <a:prstGeom prst="rect">
              <a:avLst/>
            </a:prstGeom>
            <a:solidFill>
              <a:srgbClr val="33cc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41"/>
            <p:cNvSpPr/>
            <p:nvPr/>
          </p:nvSpPr>
          <p:spPr>
            <a:xfrm>
              <a:off x="7021080" y="2463840"/>
              <a:ext cx="7358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Si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2"/>
            <p:cNvSpPr/>
            <p:nvPr/>
          </p:nvSpPr>
          <p:spPr>
            <a:xfrm>
              <a:off x="7021080" y="2679840"/>
              <a:ext cx="7862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ES" sz="1000" spc="-1" strike="noStrike">
                  <a:solidFill>
                    <a:schemeClr val="accent2"/>
                  </a:solidFill>
                  <a:latin typeface="Arial"/>
                </a:rPr>
                <a:t>No asist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43"/>
          <p:cNvSpPr/>
          <p:nvPr/>
        </p:nvSpPr>
        <p:spPr>
          <a:xfrm>
            <a:off x="7957440" y="613728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Group 44"/>
          <p:cNvGraphicFramePr/>
          <p:nvPr/>
        </p:nvGraphicFramePr>
        <p:xfrm>
          <a:off x="395280" y="3757680"/>
          <a:ext cx="2114280" cy="456840"/>
        </p:xfrm>
        <a:graphic>
          <a:graphicData uri="http://schemas.openxmlformats.org/drawingml/2006/table">
            <a:tbl>
              <a:tblPr/>
              <a:tblGrid>
                <a:gridCol w="1079280"/>
                <a:gridCol w="103500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 debería repe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s-ES" sz="1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2" name="Rectangle 54"/>
          <p:cNvSpPr/>
          <p:nvPr/>
        </p:nvSpPr>
        <p:spPr>
          <a:xfrm>
            <a:off x="468360" y="5445000"/>
            <a:ext cx="230004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Debido al tamaño de la base, las respuestas están escritas en número de m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62436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ES" sz="3400" spc="-1" strike="noStrike">
                <a:solidFill>
                  <a:schemeClr val="accent2"/>
                </a:solidFill>
                <a:latin typeface="Arial"/>
              </a:rPr>
              <a:t>Expectativas sobre Futuros Foros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684360" y="1407960"/>
            <a:ext cx="77036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¿Participaría Usted en el X Foro Interamericano de la Microempresa, a celebrarse en El Salvador, en 2007?</a:t>
            </a: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Object 11"/>
          <p:cNvGraphicFramePr/>
          <p:nvPr/>
        </p:nvGraphicFramePr>
        <p:xfrm>
          <a:off x="1309680" y="1828800"/>
          <a:ext cx="6501960" cy="43351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79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828800"/>
                    <a:ext cx="6501960" cy="43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 Box 12"/>
          <p:cNvSpPr/>
          <p:nvPr/>
        </p:nvSpPr>
        <p:spPr>
          <a:xfrm>
            <a:off x="755640" y="5734080"/>
            <a:ext cx="381600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X Foro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684360" y="1579680"/>
            <a:ext cx="7703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zones por las cuale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 ó AUN NO SABE </a:t>
            </a: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i participaría en el X F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ticipación X Foro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Group 202"/>
          <p:cNvGraphicFramePr/>
          <p:nvPr/>
        </p:nvGraphicFramePr>
        <p:xfrm>
          <a:off x="861840" y="2165400"/>
          <a:ext cx="7741800" cy="3484080"/>
        </p:xfrm>
        <a:graphic>
          <a:graphicData uri="http://schemas.openxmlformats.org/drawingml/2006/table">
            <a:tbl>
              <a:tblPr/>
              <a:tblGrid>
                <a:gridCol w="6734160"/>
                <a:gridCol w="1008000"/>
              </a:tblGrid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No sabe o NO Particip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rá de otras personas (organización, Comité Directiv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lta de recursos / ausencia de financia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 menos que existan temas modernos y tengan otra metod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 del programa y disponibilidad de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foros deben hacerse cada 2 años, la idea de un foro paralelo es bastante 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r posición geográ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n invitación a una participación activa no es mi prio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sa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9999"/>
                      </a:solidFill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138"/>
          <p:cNvSpPr/>
          <p:nvPr/>
        </p:nvSpPr>
        <p:spPr>
          <a:xfrm>
            <a:off x="7525440" y="5661000"/>
            <a:ext cx="65808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Group 282"/>
          <p:cNvGraphicFramePr/>
          <p:nvPr/>
        </p:nvGraphicFramePr>
        <p:xfrm>
          <a:off x="1116000" y="1793880"/>
          <a:ext cx="6984720" cy="4004640"/>
        </p:xfrm>
        <a:graphic>
          <a:graphicData uri="http://schemas.openxmlformats.org/drawingml/2006/table">
            <a:tbl>
              <a:tblPr/>
              <a:tblGrid>
                <a:gridCol w="6192720"/>
                <a:gridCol w="79200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ternativas de financi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pectos operativos del microcréd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segu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pliar el tema de seguimiento y administración de la cartera micro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ción metodológica y credit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social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 de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anzas como instrumento de desar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ndencias y evaluación de prácticas microcrediti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nanzas y los servicios complementarios en los sectores margin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rización / usos de las transacciones/ facilitar las 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ecimiento y fortalecimiento de las IM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uturo de las micro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5" name="Text Box 223"/>
          <p:cNvSpPr/>
          <p:nvPr/>
        </p:nvSpPr>
        <p:spPr>
          <a:xfrm>
            <a:off x="7096680" y="60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Group 219"/>
          <p:cNvGraphicFramePr/>
          <p:nvPr/>
        </p:nvGraphicFramePr>
        <p:xfrm>
          <a:off x="971640" y="1628640"/>
          <a:ext cx="7206840" cy="4159440"/>
        </p:xfrm>
        <a:graphic>
          <a:graphicData uri="http://schemas.openxmlformats.org/drawingml/2006/table">
            <a:tbl>
              <a:tblPr/>
              <a:tblGrid>
                <a:gridCol w="6408720"/>
                <a:gridCol w="79848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gramas de capacitación en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anciamiento ru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bre rem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sobre endeudamiento de los clientes ante oferta de instituciones 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rmalización y costos de las ONG microfi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ultura de no pago, administración de cart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ansformación de microfinancieras a Ban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centrales de riesgo/Administración de riesg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ndeo para instituciones micro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éditos para el sector agropecu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édito y crobanza rur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rmas de Basilea II y su impacto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 comu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robación de crédi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8" name="Text Box 161"/>
          <p:cNvSpPr/>
          <p:nvPr/>
        </p:nvSpPr>
        <p:spPr>
          <a:xfrm>
            <a:off x="7374240" y="60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Group 202"/>
          <p:cNvGraphicFramePr/>
          <p:nvPr/>
        </p:nvGraphicFramePr>
        <p:xfrm>
          <a:off x="828720" y="1413000"/>
          <a:ext cx="7488000" cy="4430160"/>
        </p:xfrm>
        <a:graphic>
          <a:graphicData uri="http://schemas.openxmlformats.org/drawingml/2006/table">
            <a:tbl>
              <a:tblPr/>
              <a:tblGrid>
                <a:gridCol w="6696000"/>
                <a:gridCol w="792000"/>
              </a:tblGrid>
              <a:tr h="0">
                <a:tc>
                  <a:txBody>
                    <a:bodyPr lIns="90000" rIns="90000" tIns="900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Microfin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esgo operacional de mercado credit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nca estatal y Banca priv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cuperación de cartera en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stos/ Ta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microfinanzas en relación con el tratado de libre comer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intermediación financiera y su compromiso con el desarrollo loca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transparencia de instituciones de microfinanzas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ductos no microfinancie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canismos fáciles y menos onerosos para el manejo de pequeños fondos regionales, sobre todo en las zonas de conflic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stos de las entidades microfinancier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agencias donantes en la promoción de los servicios microfinancie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incipales pasos para lograr la regul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desarrollo de políticas de Proteccion contra el riesgo de cambio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s dirigidos específicamente a las estrategias de cobranza de la cartera en mo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0" lang="es-E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1" name="Text Box 146"/>
          <p:cNvSpPr/>
          <p:nvPr/>
        </p:nvSpPr>
        <p:spPr>
          <a:xfrm>
            <a:off x="7374240" y="613728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46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-358920" algn="just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1"/>
              </a:buBlip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principales objetivos de la evaluación fueron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valuar el conocimiento adquirido por los participantes al IX Foro y el nivel de utilización de los instrumentos derivados del mismo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valuar los contenidos de las Mesas Redondas y sus correspondientes panelistas y moderadore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lvl="1" marL="824040" indent="-285840" algn="just">
              <a:lnSpc>
                <a:spcPct val="100000"/>
              </a:lnSpc>
              <a:spcBef>
                <a:spcPts val="720"/>
              </a:spcBef>
              <a:buClr>
                <a:srgbClr val="7eacde"/>
              </a:buClr>
              <a:buFont typeface="Wingdings" charset="2"/>
              <a:buChar char=""/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ocer las expectativas que tienen los asistentes del IX Foro sobre futuros foros a nivel de contenidos.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Group 380"/>
          <p:cNvGraphicFramePr/>
          <p:nvPr/>
        </p:nvGraphicFramePr>
        <p:xfrm>
          <a:off x="179280" y="1419120"/>
          <a:ext cx="8713440" cy="4374720"/>
        </p:xfrm>
        <a:graphic>
          <a:graphicData uri="http://schemas.openxmlformats.org/drawingml/2006/table">
            <a:tbl>
              <a:tblPr/>
              <a:tblGrid>
                <a:gridCol w="3700440"/>
                <a:gridCol w="620640"/>
                <a:gridCol w="3744720"/>
                <a:gridCol w="647640"/>
              </a:tblGrid>
              <a:tr h="180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mas relacionados con la Microemp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ahorro y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álisis de compet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todiagnóstico de program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rrollo social de las micro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pacitación al microempres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istencia técnica para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pen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portamiento de tasas de interés que pagan las IMF, a los diferentes financi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novación en las microempresas de transformación  y artesa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versión y gestión de calidad para las micro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cadenamiento productivo entre micro y pequeñas empre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arantías para la microempresa/garantí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que de demanda de los programas de apoyo a la microempres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minución de costos de financiamiento a microempresarios y/o margen de utilidad de las entidades microfinancie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cadenamiento de las microempresas a sectores altamente productiv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fundizar sobre indicadores de medición de impac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cooperativismo en la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sponsabilidad social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re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cceso a la formal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denas produc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todologías de incubación empresarial/ nuevas metodologí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l e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Text Box 176"/>
          <p:cNvSpPr/>
          <p:nvPr/>
        </p:nvSpPr>
        <p:spPr>
          <a:xfrm>
            <a:off x="8093520" y="60930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Group 268"/>
          <p:cNvGraphicFramePr/>
          <p:nvPr/>
        </p:nvGraphicFramePr>
        <p:xfrm>
          <a:off x="971640" y="1508040"/>
          <a:ext cx="7160760" cy="4444560"/>
        </p:xfrm>
        <a:graphic>
          <a:graphicData uri="http://schemas.openxmlformats.org/drawingml/2006/table">
            <a:tbl>
              <a:tblPr/>
              <a:tblGrid>
                <a:gridCol w="6399000"/>
                <a:gridCol w="761760"/>
              </a:tblGrid>
              <a:tr h="288720"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Casos para América La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exitosas en microfinanzas y microcredi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empresa y microfinanzas una alternativa contra la pobrez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efecto de la globalización en la microempresa y en las microfinanz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s export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denas de val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mportancia del Recurs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mpartir experiencias sobre fracasos y dificultades para así aprender de ell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todos de comercialización/ atención al cl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a mujer en el sector de las microfinanzas y microempre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ianzas estratégic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que en innovaciones/ como surgen las innovaciones/ como se promuev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egración producti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mas de medio amb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xperiencias de cooperación público-privada para el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crofinanzas en América La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entros de desarrollo produc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18000" bIns="1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strategias de inserción de la microempresa en la "nueva economía"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7" name="Text Box 199"/>
          <p:cNvSpPr/>
          <p:nvPr/>
        </p:nvSpPr>
        <p:spPr>
          <a:xfrm>
            <a:off x="7229880" y="613728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Group 340"/>
          <p:cNvGraphicFramePr/>
          <p:nvPr/>
        </p:nvGraphicFramePr>
        <p:xfrm>
          <a:off x="250920" y="1747800"/>
          <a:ext cx="8713440" cy="2963880"/>
        </p:xfrm>
        <a:graphic>
          <a:graphicData uri="http://schemas.openxmlformats.org/drawingml/2006/table">
            <a:tbl>
              <a:tblPr/>
              <a:tblGrid>
                <a:gridCol w="3700440"/>
                <a:gridCol w="620640"/>
                <a:gridCol w="3744720"/>
                <a:gridCol w="647640"/>
              </a:tblGrid>
              <a:tr h="1234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mas  asociados al B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rco legal/ políticas de econom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ocia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mentando un enfoque de desarrollo de los mercados de servicios de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esorias en desarrollo de planes de nego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iculación entre servicios financieros y servicios de desarrollo empresar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operación interna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ticulación de gobiernos nacionales, provinciales y municipal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valores como instrumento de formación empresaria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nsibilidad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reación de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 papel de las ONG/ como apoyan las O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ductos que sean sostenib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 w="1224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formación entrenamiento por parte del 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009999"/>
                      </a:solidFill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afíos y retos en el área rur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009999"/>
                      </a:solidFill>
                    </a:lnL>
                    <a:lnR w="18720"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Text Box 156"/>
          <p:cNvSpPr/>
          <p:nvPr/>
        </p:nvSpPr>
        <p:spPr>
          <a:xfrm>
            <a:off x="8175960" y="515772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84520" y="620640"/>
            <a:ext cx="72514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mática próximo Foro Interamericano de la Microempres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Group 133"/>
          <p:cNvGraphicFramePr/>
          <p:nvPr/>
        </p:nvGraphicFramePr>
        <p:xfrm>
          <a:off x="611280" y="1959120"/>
          <a:ext cx="7954560" cy="1965960"/>
        </p:xfrm>
        <a:graphic>
          <a:graphicData uri="http://schemas.openxmlformats.org/drawingml/2006/table">
            <a:tbl>
              <a:tblPr/>
              <a:tblGrid>
                <a:gridCol w="7513560"/>
                <a:gridCol w="441000"/>
              </a:tblGrid>
              <a:tr h="18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Tecnología / Infor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cnologías de información/ tecnologías aplicables a microfinanz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laneación estratégica y tecnología de sistemas para hacer el negocio software de avanz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PY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28080">
                      <a:solidFill>
                        <a:srgbClr val="009999"/>
                      </a:solidFill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es-ES" sz="1400" spc="-1" strike="noStrike">
                          <a:solidFill>
                            <a:schemeClr val="accent2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28080">
                      <a:solidFill>
                        <a:srgbClr val="009999"/>
                      </a:solidFill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evos productos para las Py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9999"/>
                      </a:solidFill>
                    </a:lnT>
                    <a:lnB w="28080"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s micro depósitos como alternativa para ayuda de la pobr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ibutación y formalización de la Pym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1"/>
                        </a:spcBef>
                        <a:tabLst>
                          <a:tab algn="l" pos="0"/>
                        </a:tabLst>
                      </a:pPr>
                      <a:r>
                        <a:rPr b="0" lang="es-E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Text Box 124"/>
          <p:cNvSpPr/>
          <p:nvPr/>
        </p:nvSpPr>
        <p:spPr>
          <a:xfrm>
            <a:off x="7815600" y="4264200"/>
            <a:ext cx="7221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Base 2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3"/>
          <p:cNvSpPr/>
          <p:nvPr/>
        </p:nvSpPr>
        <p:spPr>
          <a:xfrm>
            <a:off x="1116000" y="1335240"/>
            <a:ext cx="691164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¿Cuáles de los siguientes componentes deberían incluirse en un Foro de la Microempres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Object 4"/>
          <p:cNvGraphicFramePr/>
          <p:nvPr/>
        </p:nvGraphicFramePr>
        <p:xfrm>
          <a:off x="353880" y="1455840"/>
          <a:ext cx="8465760" cy="46400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8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455840"/>
                    <a:ext cx="846576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Text Box 5"/>
          <p:cNvSpPr/>
          <p:nvPr/>
        </p:nvSpPr>
        <p:spPr>
          <a:xfrm>
            <a:off x="539640" y="5950080"/>
            <a:ext cx="396216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Componentes Próximo Foro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Object 5"/>
          <p:cNvGraphicFramePr/>
          <p:nvPr/>
        </p:nvGraphicFramePr>
        <p:xfrm>
          <a:off x="34920" y="2190600"/>
          <a:ext cx="4686120" cy="36572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8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190600"/>
                    <a:ext cx="4686120" cy="36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49"/>
          <p:cNvGraphicFramePr/>
          <p:nvPr/>
        </p:nvGraphicFramePr>
        <p:xfrm>
          <a:off x="3276720" y="5589720"/>
          <a:ext cx="2531880" cy="441000"/>
        </p:xfrm>
        <a:graphic>
          <a:graphicData uri="http://schemas.openxmlformats.org/presentationml/2006/ole">
            <p:oleObj progId="MSGraph.Chart.8" r:id="rId3" spid="">
              <p:embed/>
              <p:pic>
                <p:nvPicPr>
                  <p:cNvPr id="832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589720"/>
                    <a:ext cx="253188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Text Box 50"/>
          <p:cNvSpPr/>
          <p:nvPr/>
        </p:nvSpPr>
        <p:spPr>
          <a:xfrm>
            <a:off x="684360" y="1220760"/>
            <a:ext cx="7703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s-ES" sz="1600" spc="-1" strike="noStrike">
                <a:solidFill>
                  <a:schemeClr val="accent2"/>
                </a:solidFill>
                <a:latin typeface="Arial"/>
              </a:rPr>
              <a:t>Nivel de interés de cada a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857240" y="26028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Actividades Próximo Foro </a:t>
            </a:r>
            <a:br>
              <a:rPr sz="2200"/>
            </a:b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Interamericano de la Microempresa</a:t>
            </a:r>
            <a:endParaRPr b="0" lang="es-E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Object 54"/>
          <p:cNvGraphicFramePr/>
          <p:nvPr/>
        </p:nvGraphicFramePr>
        <p:xfrm>
          <a:off x="4500720" y="2300400"/>
          <a:ext cx="4690800" cy="2928600"/>
        </p:xfrm>
        <a:graphic>
          <a:graphicData uri="http://schemas.openxmlformats.org/presentationml/2006/ole">
            <p:oleObj progId="MSGraph.Chart.8" r:id="rId5" spid="">
              <p:embed/>
              <p:pic>
                <p:nvPicPr>
                  <p:cNvPr id="836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300400"/>
                    <a:ext cx="4690800" cy="29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Text Box 55"/>
          <p:cNvSpPr/>
          <p:nvPr/>
        </p:nvSpPr>
        <p:spPr>
          <a:xfrm>
            <a:off x="539640" y="6024600"/>
            <a:ext cx="3962160" cy="2721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s-ES" sz="1200" spc="-1" strike="noStrike">
                <a:solidFill>
                  <a:srgbClr val="333399"/>
                </a:solidFill>
                <a:latin typeface="Arial"/>
              </a:rPr>
              <a:t>Base: 166 personas que respondieron esta pregu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2644920"/>
            <a:ext cx="7772040" cy="170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10000"/>
              </a:lnSpc>
              <a:spcBef>
                <a:spcPts val="961"/>
              </a:spcBef>
              <a:buNone/>
            </a:pPr>
            <a:r>
              <a:rPr b="1" lang="es-MX" sz="4800" spc="-1" strike="noStrike">
                <a:solidFill>
                  <a:schemeClr val="accent2"/>
                </a:solidFill>
                <a:latin typeface="Arial"/>
              </a:rPr>
              <a:t>Gracias por confiar en nosotros</a:t>
            </a:r>
            <a:endParaRPr b="0" lang="es-E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55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écnica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l desarrollo de la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Evaluación Electrónica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studio se llevó a cabo a partir de la realización de encuestas autoaplicadas enviadas vía e-mail.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Grupo Objetivo: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marL="358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ticipantes en el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X Foro Interamericano de la Microempresa, representantes de diversas organizaciones. </a:t>
            </a: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todologí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76200"/>
            <a:ext cx="777204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Ficha técnica:</a:t>
            </a:r>
            <a:endParaRPr b="0" lang="es-ES" sz="1800" spc="-1" strike="noStrike">
              <a:solidFill>
                <a:srgbClr val="3333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</a:tabLst>
            </a:pPr>
            <a:endParaRPr b="0" lang="es-ES" sz="5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20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La tasa de respuesta de la evaluación general del IX Foro Interamericano de la Microempresa es del 19% (211 respuestas/ 1103 personas) pero en algunos casos es un poco menos del 15%. En cada pregunta se muestra la base correspondiente.</a:t>
            </a:r>
            <a:endParaRPr b="0" lang="es-E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1042920" y="2484360"/>
          <a:ext cx="7391160" cy="3723840"/>
        </p:xfrm>
        <a:graphic>
          <a:graphicData uri="http://schemas.openxmlformats.org/presentationml/2006/ole">
            <p:oleObj progId="MSGraph.Chart.8" r:id="rId2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84360"/>
                    <a:ext cx="7391160" cy="37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784520" y="404640"/>
            <a:ext cx="725148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todología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2319480"/>
            <a:ext cx="6768720" cy="22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10000"/>
              </a:lnSpc>
              <a:buNone/>
            </a:pPr>
            <a:r>
              <a:rPr b="1" lang="es-CO" sz="3400" spc="-1" strike="noStrike">
                <a:solidFill>
                  <a:schemeClr val="accent2"/>
                </a:solidFill>
                <a:latin typeface="Arial"/>
              </a:rPr>
              <a:t>Evaluación Electrónica General del IX Foro Interamericano de la Microempresa</a:t>
            </a:r>
            <a:endParaRPr b="0" lang="es-E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_Template_May2005">
  <a:themeElements>
    <a:clrScheme name="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PPT_Template_May2005">
  <a:themeElements>
    <a:clrScheme name="1_PPT_Template_May2005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  <Words>5457</Words>
  <Paragraphs>1287</Paragraphs>
  <Company>NAPOLEON FRANC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5:15:37Z</dcterms:created>
  <dc:creator>natcar</dc:creator>
  <dc:description/>
  <dc:language>en-US</dc:language>
  <cp:lastModifiedBy>anarod</cp:lastModifiedBy>
  <dcterms:modified xsi:type="dcterms:W3CDTF">2010-07-12T00:33:35Z</dcterms:modified>
  <cp:revision>27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66</vt:r8>
  </property>
</Properties>
</file>