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embeddings/oleObject1.xls" ContentType="application/vnd.ms-excel"/>
  <Override PartName="/ppt/embeddings/oleObject1.doc" ContentType="application/msword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970-E2E4-4FE5-981B-4322A82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880-A522-49E3-AD1E-CEB8A1E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35B-F9FB-452A-82F1-988D11F8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072-6215-4C11-A7D4-C4F5F68F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EF5F-EE14-4117-915D-295F3FF0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C62-84BF-4F51-82B6-0AB60EE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2CFC-60E3-4AD3-9D57-7111AAA3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F92-A6EA-42A3-B93E-D10C1B5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31FE-64BA-42A2-863F-CE29AA97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165-A690-420F-9C0C-194237BA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9C4-98C4-457A-A82B-F49BF96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54A-1481-43D9-B951-8BF4D17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9618-2AB8-4AB0-8C7F-2540653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6DF8-6075-481F-9C7D-ED99B57F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F55-10B6-4C0C-8E19-2E74562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722-5884-47C4-A20D-AC42B71E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24DF-A4BE-4EA0-9AC6-88700D78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B3A-F894-45F0-811C-D46C376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BFD-96F3-44D3-9884-01C50F3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CF1-AD95-4069-9386-D7D6444C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7B0-6B4F-4D4E-8F4F-4985ABB2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8FD-D8CD-4580-A8BC-1E8C253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CB6-F1D0-4C3E-9C4C-1B9B8B22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1E9-6128-4956-9BBD-2B42A83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DB9C55-6B7F-4114-A28C-599FC20EA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03F601-C38C-4910-A34D-9B9387C8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12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LOMBIA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ACCINATION SURV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D:\DATA.IDB\My Pictures\Vaccination_B&amp;Wphoto.jpg"/>
          <p:cNvPicPr/>
          <p:nvPr/>
        </p:nvPicPr>
        <p:blipFill>
          <a:blip r:embed="rId1"/>
          <a:stretch/>
        </p:blipFill>
        <p:spPr>
          <a:xfrm>
            <a:off x="380880" y="1371600"/>
            <a:ext cx="8305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440" cy="15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0" y="90360"/>
          <a:ext cx="9143640" cy="661464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3640" cy="66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7696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 TARG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9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o 50%; 5-10%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59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increase 5-10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74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increase 4-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increase 2-5%; to 8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0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228600" y="228600"/>
          <a:ext cx="8686440" cy="624816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4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440" cy="759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37800" bIns="37800" anchor="t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304920" y="304920"/>
          <a:ext cx="8838720" cy="61718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838720" cy="61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GISTRO DE VACUN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D:\DATA.IDB\Personal Documents\My Documents\vacunas_Carnet2_ejemplo.jpg"/>
          <p:cNvPicPr/>
          <p:nvPr/>
        </p:nvPicPr>
        <p:blipFill>
          <a:blip r:embed="rId1"/>
          <a:stretch/>
        </p:blipFill>
        <p:spPr>
          <a:xfrm>
            <a:off x="228600" y="152280"/>
            <a:ext cx="8762760" cy="64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ed wide variation in format and information collected on carn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standardized card stating appropriate age for each vaccine d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ed importance of legible handwriting on carnets AND admin.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ed of abundance &amp; importance of vaccine campaigns in some municip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440" cy="15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57200" y="380880"/>
          <a:ext cx="8381520" cy="6248160"/>
        </p:xfrm>
        <a:graphic>
          <a:graphicData uri="http://schemas.openxmlformats.org/presentationml/2006/ole">
            <p:oleObj progId="StaticMetafile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3815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IFICATION:</a:t>
            </a:r>
            <a:br>
              <a:rPr sz="4400"/>
            </a:br>
            <a:br>
              <a:rPr sz="10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ed for represen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or-quality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ive vaccination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sus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993) to calculat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p. at disaggregate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AL OF SURV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0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ect representat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vaccination of kids below ag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accurate star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Assess extent &amp; timeliness of vacc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Establish realistic targets to trigger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sbursements of performance driven lo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=1094 municip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w polio coverage in 2003 (n=494)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met basic needs &gt; 40% (n=255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eographic accessibility &amp; Public Or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pio w/large Afro-Colombian pop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udget = US$150,000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unded by CANTAP-3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FINAL SAMP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34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=71 municip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ersed across 16 of 32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•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,753 child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aged 0-5 yea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MPLE  SIZE  CALC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1024"/>
          <p:cNvGraphicFramePr/>
          <p:nvPr/>
        </p:nvGraphicFramePr>
        <p:xfrm>
          <a:off x="457200" y="838080"/>
          <a:ext cx="8457840" cy="571464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9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457840" cy="57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vered wide variation across m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ge: 32 - 92% for all 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er rates among Afro-Colombians,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genous populations, rur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ble to rank reasons WHY NOT vaccin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st survey results vs. administr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:  large discrepancies, confirmed suspic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P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0"/>
          <p:cNvGraphicFramePr/>
          <p:nvPr/>
        </p:nvGraphicFramePr>
        <p:xfrm>
          <a:off x="380880" y="914400"/>
          <a:ext cx="8381520" cy="56383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381520" cy="56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D I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0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ACCINATION LEVELS FOR ERRADIC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-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tus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-9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-9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-8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-8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ther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  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-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P.Fin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rd Immunity: history, theory, pract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pidemiologic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993, 15:265-3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000000"/>
      </a:dk1>
      <a:lt1>
        <a:srgbClr val="ffffcc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e2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000000"/>
      </a:dk1>
      <a:lt1>
        <a:srgbClr val="ffffcc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e2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  <Words>165</Words>
  <Paragraphs>65</Paragraphs>
  <Company>Inter-American Development Ban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9:38:49Z</dcterms:created>
  <dc:creator>Regional Departments</dc:creator>
  <dc:description/>
  <dc:language>en-US</dc:language>
  <cp:lastModifiedBy>anarod</cp:lastModifiedBy>
  <dcterms:modified xsi:type="dcterms:W3CDTF">2010-07-11T14:37:39Z</dcterms:modified>
  <cp:revision>72</cp:revision>
  <dc:subject/>
  <dc:title>COLOMBIA VACCINATION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