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9BAD4-A1F0-4C4C-A951-76E25C3476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9CCAA-5BFE-473C-8170-460D89A455B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4F2F4-3BD6-41E8-BD7F-FBC3160FBE1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7C519-9B13-438B-968B-774E58FAD7C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EA459-91CD-43E1-8E71-2DA094A6C45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941AC-0BD8-432E-91E2-697673FFCE6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C51AF-C58D-43D4-90F8-9B172E1643A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52BB6-CD7C-49F5-BB25-3F15DEFF634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7A7D3-8583-4F6B-AC07-CD922819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53D8E-0F26-4A33-B808-312350CF7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0F24CB-B45E-4944-8413-470D0F8942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2134F8-75C4-492F-9EB0-62EFE82E7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9F0CC-9D54-41DE-A8C4-34B1D62B63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D1BBB-2138-4288-953C-0D5AA3847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BDEA2-2C55-4D4A-9C16-F5EE28563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CB7D86-5839-42CA-B03C-7E1F6AC5B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D56138-DC1A-4B55-85B2-DD3A104B17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73ADC4-B770-4805-8A75-2AD45A383F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411CC1-BDA8-478F-9174-37BBCA25C5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7B5005-288C-4E22-B9CB-4CB5047D64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89076-91E3-47B1-B24D-A9ED0BF91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2599E7-D749-4E3C-97F6-5C425BF02E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79DF58-5B1D-4489-8B67-D14DEDDA3F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098C23-8F8B-4ECF-9A3E-621E406B63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737E46-012D-439A-9627-6F15CA0157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6065F3-AA2E-42A7-9E8E-E9EF38BFEE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C1BFB5-5698-41E9-8507-B75A73C694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4A8CB2-B67C-49D9-8F6C-D1381829C5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FA64BB-B192-4612-BB28-4708438351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759297-A1D0-408A-AEEF-33B46ED306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3CA316-53AB-48C9-98DA-F4640B9B4A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190B0-91EC-42EA-9728-03743B74D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7B58B2-BB31-4E10-8FEF-8E7CE6E8B8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E6433A-3D8F-48EA-8FCD-E73505D6C6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745F8A-0050-462D-82FA-BD86071A2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676208-EAE5-442B-814A-772A0A55DF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352743-3D69-4997-A9A3-2DD54B5C9C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624E68-FF42-4571-BAC4-1EB8A31393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363560-21D1-49A8-8C03-8E135D84C3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0B5752-D01D-4B96-AD16-305CCD20E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4B8D25-4118-4D7E-94B0-8AFB29814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0DE818-55D9-47CC-80E3-82D0716E2F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4DE0F-489D-456D-9F30-53782328F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596FFC-F29C-4F5A-B49D-63378B48E3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09DAD0-47B2-4A3C-A897-132B168C4F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A73D01-77BF-4292-9317-BEFDBFB6EB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E904DF-9031-4654-B51F-FA9C28ACD9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E0EFEF-4A99-4D23-9F69-F1076005A8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D2AE57-9357-4DA3-84A7-9623011488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92C8C4-F461-4C45-A012-7AC9861B1A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903227-6A11-479D-B78A-4C8EFA2547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F16B6A-DF4E-4933-A3EB-B905C04FB6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A60F4-AA8C-4348-94EE-34FD5213C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7976C-1E53-486E-9721-706B31D51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8EA848-F57A-4C31-ACF6-AB402CCB1E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AAC35-B4F4-44DE-96F4-3BC20CF10F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EEE06E-6AF0-41F0-A266-F0A9E3F271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D049B5-06A1-4D36-82D0-54D55BAA26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21ACB4-DB49-4673-A313-D4917ADAD9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5285F7-9420-4110-B993-4F5FA3723C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83D0C7-D727-411B-AF52-EFB5F6EF89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F97E85-5CE2-43A8-8DE2-ABD93E3A36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85D02F-6758-4A46-B669-C2EDC4B91A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57606A-6101-499D-8CF5-D1B747FEF7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958C-C2A6-496F-B34F-7EACE3E77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DF0E23-AB0D-4284-B59D-77C221B9EF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7CA33F-EFB8-4DB3-84AB-37D584A0DB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07A68F-0FF4-4B59-8A77-4FFB0F6769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1169AE-8B2A-4220-AE68-334033B6EF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EF06FF-6F01-4A65-9EA5-85ACFAF7DC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218D18-1A85-4973-BA1C-0B2F135B19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BDA133-0F66-454D-8CA4-A90B38F531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35E86B-361E-412B-B085-37B5DC46E08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3184E6-329D-4C16-9120-B372DFB138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4633A9-3513-4902-A20A-8E1768EF43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9559D-D47E-483F-935B-B0EFA4972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708C30-C0A1-4A31-AEC7-0720DAF0AF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494D11-716C-4ACD-A11F-E2C47E2438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696C9B-6792-415F-A7D1-59B4D94E71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62D3D4-E8B1-4978-B408-B7D62F8FA9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4E9BA3-7B5A-4113-A15D-407672A66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BC0333-7974-4E88-85C8-166D424FA2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49E3AA-C97A-4C83-97C6-F13101654C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07C643-8348-4230-B7B4-5ED51C68F2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C47F5FF-736B-429A-90F8-5CB2834BED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F5CCBCF-1341-43B0-B175-31A3AC1C01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B408E-7DBF-4400-979A-7B41058CF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082B73-9687-41E8-AB04-6A84E4C595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CC1EE0-83B6-4022-A6D3-F74F5004A5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D53B1D-EB47-468B-97D2-B2B561C90E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553612-B47B-40CF-981E-6E28B90EF8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768FFC2-A589-4EC0-8D52-9D6037D6B6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C6D1ED-31CD-414B-AC36-B5BE80C058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5E1B8D-7AE8-4607-978B-ABC40857A2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BB9A77-6339-48BF-92C5-59400A22DC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D01D0E-C10A-46C5-BEB8-FC864E5986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839006-1242-4F44-B0C2-DD1C92D623F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872A6-826D-4277-96C3-950F8F041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1659494-7D8D-4F27-9421-357A000820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D7FEF65-04B3-4F00-89A3-4ACE8172397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1E7926-5925-4D1C-A5B8-F621F10526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8262FC-FC3C-4207-84A9-658D953F3E4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1CB51F-14C2-4125-8EE5-B7D7D9FB38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6611D3-6944-4FEC-AA8B-39B9767515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096620-EA1F-4222-B008-86BC0D109B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B12EBF-3738-4A46-8298-E19E640E5B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1A32DD-84DC-4E10-B9D4-B351E88679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C2E566-A55E-4B00-A5C2-CA3CF11BD5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37B9-1589-4B5C-B6B3-47C946763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B90920-7E33-49BA-92E9-72CD6CF06A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99C5B2-52D7-4DD2-AE6C-F095048CA1B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C90C85-7E2B-45BA-B3A4-02753FBEF66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7E675F-0310-46C4-BCF2-3DE5AEDF9F3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BA030E-F553-41E3-92B5-35B9457B2E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5BEAAB-4644-4CE4-98E7-077F43669A5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046B91A-81A0-4DC8-9D79-72311980D1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569FCA-F6B1-4D09-AF65-97306C8A3E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7931D7-EF22-4A3B-BAE9-D15A7CE1E1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DEB52D-8E19-4B52-AAFE-46CAC4204B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4BD7-A2B2-4AE3-846A-399D0CB1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FBBCE-E32C-4ACB-B9D7-872D6C0DA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0C71E2-131B-46A6-8156-E4D52716C4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85425A-C035-40BA-9559-A4C9C2B8EE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E3AE57-4975-4119-BFD7-AAF89F808A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C73687-1899-4AEB-966F-098E6A6DD9F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734D36-8294-4661-B11A-813C1F64A88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16F1-86D8-4882-ABC1-06CC1DD03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87F4-CD3D-4DEE-A61F-797118290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4E09E-C7FC-4B94-B0B1-CE2FD9070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D0190-3674-4B8B-A463-08613B091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AFE0B-F053-4AAD-BE61-DCD00E3F87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61F39-363B-436F-964E-458D112A8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499FD-4582-4389-9278-F59BBFF0C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3ED3C-B5FA-4DB2-B44D-1D018884E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25B1A-D2EE-4C9D-94EB-A13900E50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47983-AA67-4903-90D5-BBADAED5D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94142-AFE5-41D9-8D84-B517DC075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AC45D-5689-41C1-94D3-5B6C4995D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61D63-165A-493F-A124-686C95DBF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BFB1F-B773-4329-B904-62E155933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C27E2-01C2-400E-BE47-EEFBD116B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4013D-ADCC-4122-B99C-1401BDE46F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33ABC-3951-4523-B459-A746579F5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796081-5D04-4632-B34B-1F8ABBAFD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F808A-740F-420D-917E-CEA479AF3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454A6-DAE9-4DF4-9E99-7AD39E5D4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48DA-2176-45E4-9178-399B97665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4F4C8-EC25-4E98-B6D1-BEF6BED62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4B4EE-4E06-4F2B-9E52-E2F9F27AC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CF6BB-796D-4C07-8990-A8F1D755FA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1FF13-D3A6-451E-834C-57CD6CF91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432DC-3692-494C-8DEB-D8D0A25FA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0E998-8C49-4A6F-9F59-EC90CD7A4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8F6DB-E75D-4654-9C6A-24BDB442E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321D5-5524-4809-B36E-6838BEE18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FFA2E9-478E-491C-8EAB-C4A6FFB5F1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5A712-9E16-4020-91DF-FE9E77254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ADF3-0726-4578-B380-701DC853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C0158-C70A-41C6-8667-7FE31CA53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F9252-F41F-41A8-B9DF-0AB431B7E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D6468-AFA7-4F36-9870-5A445B39C9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C7E76-0EE8-4C82-9817-D37D9DB90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435AD-D1C8-45E8-AE35-80708B6A1D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64FE1-98A8-4098-817A-808EC5DA3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EF5FD-F0C6-4956-A02A-C370434FD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35840-8134-4F6E-9606-B0D6451E8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90823-C8BC-4618-B653-9ADFD539D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81B398-60DF-4E3D-95C0-E1050FA148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819E3-4F1F-42D1-BDD7-0DF5A4A1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DA7789-12AB-476E-85B6-3A1C910B42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AD675-233F-44A4-945F-1816CA3090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11023-B53C-47DB-8580-0D6D7B2F49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D0678-C27C-4706-B3C9-C1EEE78223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BA22B-2081-4BEA-BF18-EEBAE884A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C1D01-6B2C-4716-8BD0-E5392EBB0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B1B94-CC6D-42C2-AE3C-7ED7C272B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228A9-D1CC-462F-8982-952DBC6AD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3B9D6-9857-45C4-8367-491EB1F4F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56D67-D3FD-4DF4-86DA-92722CCE4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E1ED-01C7-4A6A-86B2-5EBC0DF2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40AAB-1516-40CD-AF38-14990115C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AB3877-EF0F-4FF7-832A-BD6B6F8FCA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444AA3-7562-4F59-978E-DD70FD322D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AABC9F-4006-4AF2-839B-777A4C8CE3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34E6E-2B55-4038-868A-E3B566CAE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0FF02-DC22-47CD-A5A9-83C6708A7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E7964-782A-4836-ABA0-3DE72C9CA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D7309-9E14-4749-A071-A6D2F43F87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C5917-3523-44D7-A7AE-C18104418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4548C-4235-400B-8CB0-AE05B1F94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5F625-D209-4F2C-87A9-24B4DD74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B54B7-9DA1-44F4-B67C-4D3FAA121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529F6-A8D7-4FAD-853D-5C61324C0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651AE-8D91-4E03-A671-D354D3961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079370-08C3-48E1-BF45-251E7F8FBA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AE9D7D-B950-4031-BAF9-1AFCDB4B1B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779D2F-91A2-42F4-AAC0-D8E3271800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E5DFFC-9A27-4D3B-9AB9-FC1783B735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D90F7-5BA9-4FD0-B696-CBE5831721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02980-8904-40DA-8993-D925DA515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6C159-8286-44D9-AB18-734539F9B7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3C28-3B5C-4694-92C9-D85E97C7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B2188-1BF8-4CBA-A876-A5DC8F544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481988-43D6-4BCC-85A0-5A88DACE3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A8FB9-8D79-437A-99BA-D20121DF1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D3AF9-1562-424D-B906-4D0C073B2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857BD-9BB0-412C-9D34-24BC8D372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12E702-3365-4A0C-9DCF-B66E44AA05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5925CD-BDA7-42C5-B99C-308B537FF1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DBA74B-86D8-457D-A15C-C865E07F56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D62EBC-DC13-4C5A-992B-741405F58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905D6-F484-46B2-BA0A-7E3E678E89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61FC2-8DDC-4F9A-B3B0-11196D4D472F}"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3E730-C6C2-40C1-ABBD-429E8EF495F1}"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5246D-7D11-4A5D-B7C6-9D6529D343A0}"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0B314-87DB-425D-98DC-495FDD4529CF}"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8412B-FAC3-41A2-8B27-9B8CF06CD748}"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82ACF-47A7-477F-B1CC-8CD260930A60}"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D66FB-2CDC-4432-BEA3-D809815F0710}"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A2F85-7197-44D1-8A0A-E2F86587209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967CC-10B4-4586-A34A-2073FB3D1DB7}"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4CD5F-20AC-4E99-8DE6-E5C36D1314A5}"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2FB63-A3B2-4E7C-B6F2-472AD98BC492}"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E6BD8-734F-4BFE-A333-75BB38B1307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Group 7"/>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F9522-637F-4FE5-A07F-526ED84C9A5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9BD24-6E78-456D-8C01-7908DC6508F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C7BE7-D597-475F-AC35-9626B811C23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1F2CD-6AA4-461A-A921-CE2CD4181809}"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0E328-85D6-40F0-AE1E-DCA04699B718}"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439560"/>
            <a:ext cx="7772400" cy="147024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Elementos para el diseño del programa de EE y ER en SAI</a:t>
            </a:r>
            <a:endParaRPr b="0" lang="en-US" sz="4200" spc="-1" strike="noStrike">
              <a:solidFill>
                <a:srgbClr val="ffffff"/>
              </a:solidFill>
              <a:latin typeface="Corbel"/>
            </a:endParaRPr>
          </a:p>
        </p:txBody>
      </p:sp>
      <p:sp>
        <p:nvSpPr>
          <p:cNvPr id="787" name="PlaceHolder 2"/>
          <p:cNvSpPr>
            <a:spLocks noGrp="1"/>
          </p:cNvSpPr>
          <p:nvPr>
            <p:ph type="subTitle"/>
          </p:nvPr>
        </p:nvSpPr>
        <p:spPr>
          <a:xfrm>
            <a:off x="1371600" y="3600000"/>
            <a:ext cx="6400800" cy="652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dgar Botero I.M. Ph. D.</a:t>
            </a:r>
            <a:endParaRPr b="0" lang="en-US" sz="1800" spc="-1" strike="noStrike">
              <a:solidFill>
                <a:srgbClr val="262626"/>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sultor BID</a:t>
            </a:r>
            <a:endParaRPr b="0" lang="en-US" sz="1800" spc="-1" strike="noStrike">
              <a:solidFill>
                <a:srgbClr val="262626"/>
              </a:solidFill>
              <a:latin typeface="Calibri"/>
            </a:endParaRPr>
          </a:p>
        </p:txBody>
      </p:sp>
      <p:sp>
        <p:nvSpPr>
          <p:cNvPr id="788" name="Subtítulo 2"/>
          <p:cNvSpPr/>
          <p:nvPr/>
        </p:nvSpPr>
        <p:spPr>
          <a:xfrm>
            <a:off x="1452600" y="5275440"/>
            <a:ext cx="6400800" cy="65052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898989"/>
                </a:solidFill>
                <a:latin typeface="Calibri"/>
              </a:rPr>
              <a:t>Agosto de 2016</a:t>
            </a:r>
            <a:endParaRPr b="0" lang="en-US" sz="2000" spc="-1" strike="noStrike">
              <a:solidFill>
                <a:srgbClr val="000000"/>
              </a:solidFill>
              <a:latin typeface="Calibri"/>
            </a:endParaRPr>
          </a:p>
        </p:txBody>
      </p:sp>
      <p:pic>
        <p:nvPicPr>
          <p:cNvPr id="789" name="Imagen 1" descr=""/>
          <p:cNvPicPr/>
          <p:nvPr/>
        </p:nvPicPr>
        <p:blipFill>
          <a:blip r:embed="rId1"/>
          <a:stretch/>
        </p:blipFill>
        <p:spPr>
          <a:xfrm>
            <a:off x="685800" y="3149640"/>
            <a:ext cx="3083040" cy="153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Condiciones para ser operador </a:t>
            </a:r>
            <a:br>
              <a:rPr sz="2900"/>
            </a:br>
            <a:r>
              <a:rPr b="0" lang="es-ES" sz="2900" spc="-1" strike="noStrike">
                <a:solidFill>
                  <a:srgbClr val="ffffff"/>
                </a:solidFill>
                <a:latin typeface="Corbel"/>
              </a:rPr>
              <a:t>del programa </a:t>
            </a:r>
            <a:endParaRPr b="0" lang="en-US" sz="2900" spc="-1" strike="noStrike">
              <a:solidFill>
                <a:srgbClr val="ffffff"/>
              </a:solidFill>
              <a:latin typeface="Corbel"/>
            </a:endParaRPr>
          </a:p>
        </p:txBody>
      </p:sp>
      <p:pic>
        <p:nvPicPr>
          <p:cNvPr id="822" name="Marcador de contenido 3" descr=""/>
          <p:cNvPicPr/>
          <p:nvPr/>
        </p:nvPicPr>
        <p:blipFill>
          <a:blip r:embed="rId1"/>
          <a:stretch/>
        </p:blipFill>
        <p:spPr>
          <a:xfrm>
            <a:off x="281160" y="1805040"/>
            <a:ext cx="8557920" cy="2638440"/>
          </a:xfrm>
          <a:prstGeom prst="rect">
            <a:avLst/>
          </a:prstGeom>
          <a:ln w="0">
            <a:noFill/>
          </a:ln>
        </p:spPr>
      </p:pic>
      <p:sp>
        <p:nvSpPr>
          <p:cNvPr id="823" name="CuadroTexto 4"/>
          <p:cNvSpPr/>
          <p:nvPr/>
        </p:nvSpPr>
        <p:spPr>
          <a:xfrm>
            <a:off x="284040" y="4505400"/>
            <a:ext cx="38815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Otrosí al contrato de concesión para operar el programa de eficiencia energética.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i se solicita experiencia en operación de programas similares,  tendría que habilitarse mediante alguna figura de UT o asocio con empresa con experiencia. </a:t>
            </a:r>
            <a:endParaRPr b="0" lang="en-US" sz="1600" spc="-1" strike="noStrike">
              <a:solidFill>
                <a:srgbClr val="000000"/>
              </a:solidFill>
              <a:latin typeface="Calibri"/>
            </a:endParaRPr>
          </a:p>
        </p:txBody>
      </p:sp>
      <p:sp>
        <p:nvSpPr>
          <p:cNvPr id="824" name="CuadroTexto 5"/>
          <p:cNvSpPr/>
          <p:nvPr/>
        </p:nvSpPr>
        <p:spPr>
          <a:xfrm>
            <a:off x="4960800" y="4505400"/>
            <a:ext cx="3829320" cy="211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ndiciones para la selección del operador:</a:t>
            </a:r>
            <a:endParaRPr b="0" lang="en-US" sz="1600" spc="-1" strike="noStrike">
              <a:solidFill>
                <a:srgbClr val="000000"/>
              </a:solidFill>
              <a:latin typeface="Calibri"/>
            </a:endParaRPr>
          </a:p>
          <a:p>
            <a:pPr>
              <a:spcBef>
                <a:spcPts val="601"/>
              </a:spcBef>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mpañía que tenga operaciones en Colombia y preferiblemente en el Archipiélago.</a:t>
            </a:r>
            <a:endParaRPr b="0" lang="en-US" sz="1600" spc="-1" strike="noStrike">
              <a:solidFill>
                <a:srgbClr val="000000"/>
              </a:solidFill>
              <a:latin typeface="Calibri"/>
            </a:endParaRPr>
          </a:p>
          <a:p>
            <a:pPr>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Experiencia superior a 5 años en operación de este tipo de programas </a:t>
            </a:r>
            <a:endParaRPr b="0" lang="en-US" sz="1600" spc="-1" strike="noStrike">
              <a:solidFill>
                <a:srgbClr val="000000"/>
              </a:solidFill>
              <a:latin typeface="Calibri"/>
            </a:endParaRPr>
          </a:p>
          <a:p>
            <a:pPr>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pacidad técnica, administrativa y financiera para operar el program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Corbel"/>
              </a:rPr>
              <a:t>Opciones para la selección del operador</a:t>
            </a:r>
            <a:endParaRPr b="0" lang="en-US" sz="3800" spc="-1" strike="noStrike">
              <a:solidFill>
                <a:srgbClr val="ffffff"/>
              </a:solidFill>
              <a:latin typeface="Corbel"/>
            </a:endParaRPr>
          </a:p>
        </p:txBody>
      </p:sp>
      <p:pic>
        <p:nvPicPr>
          <p:cNvPr id="826" name="Diagrama 3" descr=""/>
          <p:cNvPicPr/>
          <p:nvPr/>
        </p:nvPicPr>
        <p:blipFill>
          <a:blip r:embed="rId1"/>
          <a:stretch/>
        </p:blipFill>
        <p:spPr>
          <a:xfrm>
            <a:off x="195120" y="1847880"/>
            <a:ext cx="870444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Presupuesto disponible para </a:t>
            </a:r>
            <a:br>
              <a:rPr sz="2900"/>
            </a:br>
            <a:r>
              <a:rPr b="0" lang="es-ES" sz="2900" spc="-1" strike="noStrike">
                <a:solidFill>
                  <a:srgbClr val="ffffff"/>
                </a:solidFill>
                <a:latin typeface="Corbel"/>
              </a:rPr>
              <a:t>el programa  </a:t>
            </a:r>
            <a:endParaRPr b="0" lang="en-US" sz="2900" spc="-1" strike="noStrike">
              <a:solidFill>
                <a:srgbClr val="ffffff"/>
              </a:solidFill>
              <a:latin typeface="Corbel"/>
            </a:endParaRPr>
          </a:p>
        </p:txBody>
      </p:sp>
      <p:sp>
        <p:nvSpPr>
          <p:cNvPr id="828" name="CuadroTexto 4"/>
          <p:cNvSpPr/>
          <p:nvPr/>
        </p:nvSpPr>
        <p:spPr>
          <a:xfrm>
            <a:off x="6180120" y="1851120"/>
            <a:ext cx="2678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aphicFrame>
        <p:nvGraphicFramePr>
          <p:cNvPr id="829" name=""/>
          <p:cNvGraphicFramePr/>
          <p:nvPr/>
        </p:nvGraphicFramePr>
        <p:xfrm>
          <a:off x="284040" y="1989000"/>
          <a:ext cx="5837400" cy="3676680"/>
        </p:xfrm>
        <a:graphic>
          <a:graphicData uri="http://schemas.openxmlformats.org/drawingml/2006/table">
            <a:tbl>
              <a:tblPr/>
              <a:tblGrid>
                <a:gridCol w="4462560"/>
                <a:gridCol w="1374840"/>
              </a:tblGrid>
              <a:tr h="236520">
                <a:tc gridSpan="2">
                  <a:txBody>
                    <a:bodyPr lIns="12600" rIns="126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resupuesto Global del Programa (US$)</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w="5760">
                      <a:solidFill>
                        <a:srgbClr val="000000"/>
                      </a:solidFill>
                    </a:lnT>
                    <a:lnB>
                      <a:noFill/>
                    </a:lnB>
                    <a:noFill/>
                  </a:tcPr>
                </a:tc>
                <a:tc>
                  <a:txBody>
                    <a:bodyPr lIns="12600" rIns="126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w="5760">
                      <a:solidFill>
                        <a:srgbClr val="000000"/>
                      </a:solid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1. Mecanismo de gestión eficiente de la demand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7.11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nversiones en medidas de eficiencia energétic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11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r>
              <a:tr h="3618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2. Plan de sostenibilidad ambiental, comunicación y gestión social </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822.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Diseño del plan ambiental y de concientización social integral</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mplementación del plan ambiental y de concientización social integral</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412.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Diseño de la estrategia de comunicación y promoción del program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692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mplementación de la estrategia de comunicación y promoción del program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3. Administración</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068.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oordinación MME**</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Gastos de administración operador</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23.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osto Fiducia  FENOGE</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dministración BID</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5.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w="5760">
                      <a:solidFill>
                        <a:srgbClr val="000000"/>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w="5760">
                      <a:solidFill>
                        <a:srgbClr val="000000"/>
                      </a:solidFill>
                    </a:lnB>
                    <a:noFill/>
                  </a:tcPr>
                </a:tc>
              </a:tr>
              <a:tr h="19188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otal </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0.000.000 </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r>
            </a:tbl>
          </a:graphicData>
        </a:graphic>
      </p:graphicFrame>
      <p:sp>
        <p:nvSpPr>
          <p:cNvPr id="830" name="CuadroTexto 7"/>
          <p:cNvSpPr/>
          <p:nvPr/>
        </p:nvSpPr>
        <p:spPr>
          <a:xfrm>
            <a:off x="6438960" y="1989000"/>
            <a:ext cx="2612880" cy="43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e cuenta con presupuesto para ejecutar el programa por el operador de </a:t>
            </a:r>
            <a:r>
              <a:rPr b="1" lang="es-ES" sz="1600" spc="-1" strike="noStrike">
                <a:solidFill>
                  <a:srgbClr val="000000"/>
                </a:solidFill>
                <a:latin typeface="Calibri"/>
              </a:rPr>
              <a:t>US$9.333.000 </a:t>
            </a:r>
            <a:r>
              <a:rPr b="0" lang="es-ES" sz="1600" spc="-1" strike="noStrike">
                <a:solidFill>
                  <a:srgbClr val="000000"/>
                </a:solidFill>
                <a:latin typeface="Calibri"/>
              </a:rPr>
              <a:t>correspondiente a los componentes 1 y 2 del programa y gastos de administración del operador del componente 3. </a:t>
            </a:r>
            <a:endParaRPr b="0" lang="en-US" sz="16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e propone realizar  una licitación para elegir el operador que por este valor, suministrará el número de soluciones de acuerdo con las metas del programa  y sus costos de operación y administración del programa.</a:t>
            </a:r>
            <a:endParaRPr b="0" lang="en-US" sz="1600" spc="-1" strike="noStrike">
              <a:solidFill>
                <a:srgbClr val="000000"/>
              </a:solidFill>
              <a:latin typeface="Calibri"/>
            </a:endParaRPr>
          </a:p>
        </p:txBody>
      </p:sp>
      <p:sp>
        <p:nvSpPr>
          <p:cNvPr id="831" name="CuadroTexto 2"/>
          <p:cNvSpPr/>
          <p:nvPr/>
        </p:nvSpPr>
        <p:spPr>
          <a:xfrm>
            <a:off x="465120" y="5977080"/>
            <a:ext cx="5656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Calibri"/>
              </a:rPr>
              <a:t>** Incluye el costo del Coordinador del programa, actividades de seguimiento, evaluación y auditoria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Gestión de proveedores de tecnología y disposición final (post consumo) </a:t>
            </a:r>
            <a:endParaRPr b="0" lang="en-US" sz="2800" spc="-1" strike="noStrike">
              <a:solidFill>
                <a:srgbClr val="ffffff"/>
              </a:solidFill>
              <a:latin typeface="Corbel"/>
            </a:endParaRPr>
          </a:p>
        </p:txBody>
      </p:sp>
      <p:sp>
        <p:nvSpPr>
          <p:cNvPr id="833" name=""/>
          <p:cNvSpPr txBox="1"/>
          <p:nvPr/>
        </p:nvSpPr>
        <p:spPr>
          <a:xfrm>
            <a:off x="283680" y="2133720"/>
            <a:ext cx="8574120" cy="4427280"/>
          </a:xfrm>
          <a:prstGeom prst="rect">
            <a:avLst/>
          </a:prstGeom>
          <a:noFill/>
          <a:ln w="0">
            <a:noFill/>
          </a:ln>
        </p:spPr>
        <p:txBody>
          <a:bodyPr anchor="t">
            <a:normAutofit/>
          </a:bodyPr>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lección de proveedores de tecnologías y programa de post-consumo que cumplan con las condiciones mínimas establecidas </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osibilidad de realizar acuerdos con  proveedores distintos a los tecnológicos para otorgar beneficios adicionales por la participación en el programa. Por ejemplo, puntos redimibles en establecimientos comerciales</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stalación directamente realizada por el proveedor o un instalador asociado con verificación por parte del programa</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 </a:t>
            </a:r>
            <a:r>
              <a:rPr b="0" lang="es-ES" sz="2200" spc="-1" strike="noStrike">
                <a:solidFill>
                  <a:srgbClr val="262626"/>
                </a:solidFill>
                <a:latin typeface="Calibri"/>
              </a:rPr>
              <a:t>Disposición final (post consumo) verificada, realizada por una empresa especializada, con los permisos requeridos y experiencia demostrada</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Condiciones para ser proveedor de equipos y de mantenimiento</a:t>
            </a:r>
            <a:endParaRPr b="0" lang="en-US" sz="2900" spc="-1" strike="noStrike">
              <a:solidFill>
                <a:srgbClr val="ffffff"/>
              </a:solidFill>
              <a:latin typeface="Corbel"/>
            </a:endParaRPr>
          </a:p>
        </p:txBody>
      </p:sp>
      <p:sp>
        <p:nvSpPr>
          <p:cNvPr id="835" name=""/>
          <p:cNvSpPr txBox="1"/>
          <p:nvPr/>
        </p:nvSpPr>
        <p:spPr>
          <a:xfrm>
            <a:off x="283680" y="2133720"/>
            <a:ext cx="857412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ompañía que opere legalmente en San Andrés</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xperiencia de más de 5 años en el mercado local</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on centro de distribución y servicio de mantenimiento en el Archipiélago </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arta de intención de cumplimiento de los rangos de las especificaciones técnicas requeridas</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Que los equipos que provee cuenten con certificación RETIQ o similar, homologada por UPM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000"/>
            <a:ext cx="8574120" cy="81756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s-ES" sz="3100" spc="-1" strike="noStrike">
                <a:solidFill>
                  <a:srgbClr val="ffffff"/>
                </a:solidFill>
                <a:latin typeface="Corbel"/>
              </a:rPr>
              <a:t>Funciones del Coordinador del programa</a:t>
            </a:r>
            <a:br>
              <a:rPr sz="3100"/>
            </a:br>
            <a:endParaRPr b="0" lang="en-US" sz="3100" spc="-1" strike="noStrike">
              <a:solidFill>
                <a:srgbClr val="ffffff"/>
              </a:solidFill>
              <a:latin typeface="Corbel"/>
            </a:endParaRPr>
          </a:p>
        </p:txBody>
      </p:sp>
      <p:sp>
        <p:nvSpPr>
          <p:cNvPr id="837" name=""/>
          <p:cNvSpPr txBox="1"/>
          <p:nvPr/>
        </p:nvSpPr>
        <p:spPr>
          <a:xfrm>
            <a:off x="284040" y="1722600"/>
            <a:ext cx="8745840" cy="43653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Generación de información/reportes</a:t>
            </a:r>
            <a:endParaRPr b="0" lang="en-US" sz="2400" spc="-1" strike="noStrike">
              <a:solidFill>
                <a:srgbClr val="262626"/>
              </a:solidFill>
              <a:latin typeface="Calibri"/>
            </a:endParaRPr>
          </a:p>
          <a:p>
            <a:pPr marL="453960" indent="-453960">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Seguimiento/monitoreo/evaluación</a:t>
            </a:r>
            <a:endParaRPr b="0" lang="en-US" sz="2400" spc="-1" strike="noStrike">
              <a:solidFill>
                <a:srgbClr val="262626"/>
              </a:solidFill>
              <a:latin typeface="Calibri"/>
            </a:endParaRPr>
          </a:p>
          <a:p>
            <a:pPr marL="453960" indent="-45396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Auditoría Externa</a:t>
            </a:r>
            <a:endParaRPr b="0" lang="en-US" sz="2400" spc="-1" strike="noStrike">
              <a:solidFill>
                <a:srgbClr val="262626"/>
              </a:solidFill>
              <a:latin typeface="Calibri"/>
            </a:endParaRPr>
          </a:p>
          <a:p>
            <a:pPr lvl="1" marL="91764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ontratada por MME con recursos del programa, reporta a MME </a:t>
            </a:r>
            <a:endParaRPr b="0" lang="en-US" sz="2200" spc="-1" strike="noStrike">
              <a:solidFill>
                <a:srgbClr val="262626"/>
              </a:solidFill>
              <a:latin typeface="Calibri"/>
            </a:endParaRPr>
          </a:p>
          <a:p>
            <a:pPr lvl="1" marL="91764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semestral de</a:t>
            </a:r>
            <a:endParaRPr b="0" lang="en-US" sz="22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Cumplimiento de metas del program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Desembolsos y ejecución financiera del program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Atención a usuarios y niveles de satisfacción</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Disposición final adecuada de equipos </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Gestión de cobros y carter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Reducción de consumos de EE y reducción de emisiones de GEI</a:t>
            </a: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orbel"/>
              </a:rPr>
              <a:t>Proceso 2. Promoción del programa</a:t>
            </a:r>
            <a:endParaRPr b="0" lang="en-US" sz="3600" spc="-1" strike="noStrike">
              <a:solidFill>
                <a:srgbClr val="ffffff"/>
              </a:solidFill>
              <a:latin typeface="Corbel"/>
            </a:endParaRPr>
          </a:p>
        </p:txBody>
      </p:sp>
      <p:pic>
        <p:nvPicPr>
          <p:cNvPr id="839" name="Diagrama 3" descr=""/>
          <p:cNvPicPr/>
          <p:nvPr/>
        </p:nvPicPr>
        <p:blipFill>
          <a:blip r:embed="rId1"/>
          <a:stretch/>
        </p:blipFill>
        <p:spPr>
          <a:xfrm>
            <a:off x="579600" y="1968480"/>
            <a:ext cx="799776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Promoción de la eficiencia energética. </a:t>
            </a:r>
            <a:br>
              <a:rPr sz="2800"/>
            </a:br>
            <a:r>
              <a:rPr b="0" lang="es-ES" sz="2800" spc="-1" strike="noStrike">
                <a:solidFill>
                  <a:srgbClr val="ffffff"/>
                </a:solidFill>
                <a:latin typeface="Corbel"/>
              </a:rPr>
              <a:t>Programa de puntos redimibles. </a:t>
            </a:r>
            <a:endParaRPr b="0" lang="en-US" sz="2800" spc="-1" strike="noStrike">
              <a:solidFill>
                <a:srgbClr val="ffffff"/>
              </a:solidFill>
              <a:latin typeface="Corbel"/>
            </a:endParaRPr>
          </a:p>
        </p:txBody>
      </p:sp>
      <p:sp>
        <p:nvSpPr>
          <p:cNvPr id="841" name=""/>
          <p:cNvSpPr txBox="1"/>
          <p:nvPr/>
        </p:nvSpPr>
        <p:spPr>
          <a:xfrm>
            <a:off x="283680" y="2133720"/>
            <a:ext cx="8574120" cy="399240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Tarjeta del programa con y sin financiación. </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Puntos por usar los servicios del programa y por reducir los consumos de energía aunque no se acceda a la financiación. </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Acceso a:</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62626"/>
                </a:solidFill>
                <a:latin typeface="Calibri"/>
              </a:rPr>
              <a:t>Financiación de las tecnologías incluidas en el programa</a:t>
            </a:r>
            <a:endParaRPr b="0" lang="en-US" sz="19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62626"/>
                </a:solidFill>
                <a:latin typeface="Calibri"/>
              </a:rPr>
              <a:t>Otros servicios no financiados como por ejemplo:</a:t>
            </a:r>
            <a:endParaRPr b="0" lang="en-US" sz="19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Seguros</a:t>
            </a:r>
            <a:endParaRPr b="0" lang="en-US" sz="17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ducación </a:t>
            </a:r>
            <a:endParaRPr b="0" lang="en-US" sz="17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Materiales de construcción</a:t>
            </a:r>
            <a:endParaRPr b="0" lang="en-US" sz="17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Acuerdos con empresas y comercios para la redención de puntos del programa de EE</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canismos para interactuar con el programa</a:t>
            </a:r>
            <a:endParaRPr b="0" lang="en-US" sz="3200" spc="-1" strike="noStrike">
              <a:solidFill>
                <a:srgbClr val="ffffff"/>
              </a:solidFill>
              <a:latin typeface="Corbel"/>
            </a:endParaRPr>
          </a:p>
        </p:txBody>
      </p:sp>
      <p:sp>
        <p:nvSpPr>
          <p:cNvPr id="843"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desarrollar los siguientes canales para interactuar con el programa: </a:t>
            </a:r>
            <a:endParaRPr b="0" lang="en-US" sz="2400" spc="-1" strike="noStrike">
              <a:solidFill>
                <a:srgbClr val="262626"/>
              </a:solidFill>
              <a:latin typeface="Calibri"/>
            </a:endParaRPr>
          </a:p>
          <a:p>
            <a:pPr lvl="1" marL="914400" indent="-457200">
              <a:spcBef>
                <a:spcPts val="1199"/>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tención física en sitios de alta afluencia de públic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ágina web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PPS para teléfonos inteligente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Línea de atención al usuario</a:t>
            </a:r>
            <a:endParaRPr b="0" lang="en-US" sz="22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 3. Admisión al programa </a:t>
            </a:r>
            <a:endParaRPr b="0" lang="en-US" sz="3200" spc="-1" strike="noStrike">
              <a:solidFill>
                <a:srgbClr val="ffffff"/>
              </a:solidFill>
              <a:latin typeface="Corbel"/>
            </a:endParaRPr>
          </a:p>
        </p:txBody>
      </p:sp>
      <p:pic>
        <p:nvPicPr>
          <p:cNvPr id="845" name="Diagrama 3" descr=""/>
          <p:cNvPicPr/>
          <p:nvPr/>
        </p:nvPicPr>
        <p:blipFill>
          <a:blip r:embed="rId1"/>
          <a:stretch/>
        </p:blipFill>
        <p:spPr>
          <a:xfrm>
            <a:off x="212760" y="1865160"/>
            <a:ext cx="8510400" cy="4059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Contenido</a:t>
            </a:r>
            <a:endParaRPr b="0" lang="en-US" sz="4200" spc="-1" strike="noStrike">
              <a:solidFill>
                <a:srgbClr val="ffffff"/>
              </a:solidFill>
              <a:latin typeface="Corbel"/>
            </a:endParaRPr>
          </a:p>
        </p:txBody>
      </p:sp>
      <p:sp>
        <p:nvSpPr>
          <p:cNvPr id="791" name=""/>
          <p:cNvSpPr txBox="1"/>
          <p:nvPr/>
        </p:nvSpPr>
        <p:spPr>
          <a:xfrm>
            <a:off x="488880" y="1889280"/>
            <a:ext cx="8369280" cy="3992400"/>
          </a:xfrm>
          <a:prstGeom prst="rect">
            <a:avLst/>
          </a:prstGeom>
          <a:noFill/>
          <a:ln w="0">
            <a:noFill/>
          </a:ln>
        </p:spPr>
        <p:txBody>
          <a:bodyPr anchor="t">
            <a:normAutofit fontScale="85000"/>
          </a:bodyPr>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ntecedente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Control de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s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1. Administración Técnica, Legal y Financiera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2. Promoción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3. Admisión a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4. Suministro el instalación de equipo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5. MRV del programa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Estructura de reporte y control del programa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spectos sociale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spectos ambientales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Usuarios Potenciales del Programa </a:t>
            </a:r>
            <a:endParaRPr b="0" lang="en-US" sz="3200" spc="-1" strike="noStrike">
              <a:solidFill>
                <a:srgbClr val="ffffff"/>
              </a:solidFill>
              <a:latin typeface="Corbel"/>
            </a:endParaRPr>
          </a:p>
        </p:txBody>
      </p:sp>
      <p:sp>
        <p:nvSpPr>
          <p:cNvPr id="847" name=""/>
          <p:cNvSpPr txBox="1"/>
          <p:nvPr/>
        </p:nvSpPr>
        <p:spPr>
          <a:xfrm>
            <a:off x="5803920" y="2607840"/>
            <a:ext cx="2836800" cy="31942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total de usuarios es 19.182, de los cuales: 85 % son residenciales;   13% comerciales;   1 % industriales </a:t>
            </a:r>
            <a:endParaRPr b="0" lang="en-US" sz="2400" spc="-1" strike="noStrike">
              <a:solidFill>
                <a:srgbClr val="262626"/>
              </a:solidFill>
              <a:latin typeface="Calibri"/>
            </a:endParaRPr>
          </a:p>
        </p:txBody>
      </p:sp>
      <p:pic>
        <p:nvPicPr>
          <p:cNvPr id="848" name="Gráfico 4" descr=""/>
          <p:cNvPicPr/>
          <p:nvPr/>
        </p:nvPicPr>
        <p:blipFill>
          <a:blip r:embed="rId1"/>
          <a:stretch/>
        </p:blipFill>
        <p:spPr>
          <a:xfrm>
            <a:off x="158760" y="2133720"/>
            <a:ext cx="5645160" cy="3670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Distribución de los consumo de energía por tipo usuario</a:t>
            </a:r>
            <a:endParaRPr b="0" lang="en-US" sz="2800" spc="-1" strike="noStrike">
              <a:solidFill>
                <a:srgbClr val="ffffff"/>
              </a:solidFill>
              <a:latin typeface="Corbel"/>
            </a:endParaRPr>
          </a:p>
        </p:txBody>
      </p:sp>
      <p:sp>
        <p:nvSpPr>
          <p:cNvPr id="850" name=""/>
          <p:cNvSpPr txBox="1"/>
          <p:nvPr/>
        </p:nvSpPr>
        <p:spPr>
          <a:xfrm>
            <a:off x="5630400" y="2133720"/>
            <a:ext cx="322740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os usuarios residenciales, comerciales e industriales consumen la misma cantidad de energía. El consumo total en 2013 fue de 164 GWh</a:t>
            </a:r>
            <a:endParaRPr b="0" lang="en-US" sz="2400" spc="-1" strike="noStrike">
              <a:solidFill>
                <a:srgbClr val="262626"/>
              </a:solidFill>
              <a:latin typeface="Calibri"/>
            </a:endParaRPr>
          </a:p>
        </p:txBody>
      </p:sp>
      <p:pic>
        <p:nvPicPr>
          <p:cNvPr id="851" name="Gráfico 3" descr=""/>
          <p:cNvPicPr/>
          <p:nvPr/>
        </p:nvPicPr>
        <p:blipFill>
          <a:blip r:embed="rId1"/>
          <a:stretch/>
        </p:blipFill>
        <p:spPr>
          <a:xfrm>
            <a:off x="371520" y="1847880"/>
            <a:ext cx="5621400" cy="4497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Características de los beneficiarios</a:t>
            </a:r>
            <a:endParaRPr b="0" lang="en-US" sz="4200" spc="-1" strike="noStrike">
              <a:solidFill>
                <a:srgbClr val="ffffff"/>
              </a:solidFill>
              <a:latin typeface="Corbel"/>
            </a:endParaRPr>
          </a:p>
        </p:txBody>
      </p:sp>
      <p:sp>
        <p:nvSpPr>
          <p:cNvPr id="853" name=""/>
          <p:cNvSpPr txBox="1"/>
          <p:nvPr/>
        </p:nvSpPr>
        <p:spPr>
          <a:xfrm>
            <a:off x="283680" y="1864800"/>
            <a:ext cx="8574120" cy="10004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Usuarios totales del programa: 7.199 distribuidos como se muestra a continuación:</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54" name="Tabla 2" descr=""/>
          <p:cNvPicPr/>
          <p:nvPr/>
        </p:nvPicPr>
        <p:blipFill>
          <a:blip r:embed="rId1"/>
          <a:stretch/>
        </p:blipFill>
        <p:spPr>
          <a:xfrm>
            <a:off x="281160" y="2975040"/>
            <a:ext cx="8667720" cy="341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Requisitos de admisión</a:t>
            </a:r>
            <a:endParaRPr b="0" lang="en-US" sz="4200" spc="-1" strike="noStrike">
              <a:solidFill>
                <a:srgbClr val="ffffff"/>
              </a:solidFill>
              <a:latin typeface="Corbel"/>
            </a:endParaRPr>
          </a:p>
        </p:txBody>
      </p:sp>
      <p:sp>
        <p:nvSpPr>
          <p:cNvPr id="856" name=""/>
          <p:cNvSpPr txBox="1"/>
          <p:nvPr/>
        </p:nvSpPr>
        <p:spPr>
          <a:xfrm>
            <a:off x="283680" y="1920600"/>
            <a:ext cx="8574120" cy="420516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r mayor de edad y contar con residencia legal en el Archipiélago (OCCRE); o tener NIT y registro ante la Cámara de Comercio, en caso de ser un establecimiento comercial</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No tener cuentas de servicios vencidas sin pago.</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No haber tenido suspensión o corte del servicio por falta de pago en un periodo a establecer. Se sugiere que sea en el último año.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ferencias familiares y comerciales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umplir con las niveles de riesgo financiero del programa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ontar con medidor inteligente instalado o estar dispuesto a solicitarlo a Sopesa</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Priorización de la comunidad raizal</a:t>
            </a:r>
            <a:endParaRPr b="0" lang="en-US" sz="4200" spc="-1" strike="noStrike">
              <a:solidFill>
                <a:srgbClr val="ffffff"/>
              </a:solidFill>
              <a:latin typeface="Corbel"/>
            </a:endParaRPr>
          </a:p>
        </p:txBody>
      </p:sp>
      <p:sp>
        <p:nvSpPr>
          <p:cNvPr id="858" name=""/>
          <p:cNvSpPr txBox="1"/>
          <p:nvPr/>
        </p:nvSpPr>
        <p:spPr>
          <a:xfrm>
            <a:off x="283680" y="1744200"/>
            <a:ext cx="8574120" cy="4435560"/>
          </a:xfrm>
          <a:prstGeom prst="rect">
            <a:avLst/>
          </a:prstGeom>
          <a:noFill/>
          <a:ln w="0">
            <a:noFill/>
          </a:ln>
        </p:spPr>
        <p:txBody>
          <a:bodyPr anchor="t">
            <a:normAutofit/>
          </a:bodyPr>
          <a:p>
            <a:pPr marL="453960" indent="-45396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priorizar la participación de la comunidad raizal en el programa teniendo en cuenta los siguientes aspectos: </a:t>
            </a:r>
            <a:endParaRPr b="0" lang="en-US" sz="24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l MME a través del Coordinador del programa establecerá anualmente metas de priorización de beneficiarios de acuerdo a los criterios en el Reglamento Operativo.</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l operador establecerá un esquema de cupos flexibles distribuidos entre raizales y residentes legales. Inicialmente se propone una distribución de 40% para raizales para el primer año.</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 adición a los requisitos de acceso al programa, el beneficiario debe demostrar pertenencia a la comunidad raizal mediante certificación de la Autoridad Raizal.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canismo de tarjeta para operar el programa</a:t>
            </a:r>
            <a:endParaRPr b="0" lang="en-US" sz="3200" spc="-1" strike="noStrike">
              <a:solidFill>
                <a:srgbClr val="ffffff"/>
              </a:solidFill>
              <a:latin typeface="Corbel"/>
            </a:endParaRPr>
          </a:p>
        </p:txBody>
      </p:sp>
      <p:sp>
        <p:nvSpPr>
          <p:cNvPr id="860"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Tarjeta con un cupo de crédito por tipo de usuario</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cumula puntos por hacer uso del programa y por hacer eficiencia energética demostrada a través de la reducción de consumos que se mantienen en el tiempo</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ermite acceder a los equipos aprobados en el programa con los proveedores seleccionado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ermite redimir los puntos en comercios aliados con el programa </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Beneficios adicionales, como por ejemplo seguros de vida </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Debida diligencia financiera</a:t>
            </a:r>
            <a:endParaRPr b="0" lang="en-US" sz="3200" spc="-1" strike="noStrike">
              <a:solidFill>
                <a:srgbClr val="ffffff"/>
              </a:solidFill>
              <a:latin typeface="Corbel"/>
            </a:endParaRPr>
          </a:p>
        </p:txBody>
      </p:sp>
      <p:sp>
        <p:nvSpPr>
          <p:cNvPr id="862"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de la información del solicitante</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de referencias personales y comerciales</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que el solicitante no sea beneficiario del programa </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alificación del score de riesgos financieros</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probación o negación de la solicitud</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 caso de ser aprobada, programar la visita técnica al solicitante</a:t>
            </a:r>
            <a:endParaRPr b="0" lang="en-US" sz="2200" spc="-1" strike="noStrike">
              <a:solidFill>
                <a:srgbClr val="262626"/>
              </a:solidFill>
              <a:latin typeface="Calibri"/>
            </a:endParaRPr>
          </a:p>
          <a:p>
            <a:pPr marL="453960" indent="-45396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Nota: La debida diligencia financiera puede ser realizada por el operador o puede ser subcontratada con una entidad especializada.</a:t>
            </a: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Debida diligencia técnica</a:t>
            </a:r>
            <a:endParaRPr b="0" lang="en-US" sz="4200" spc="-1" strike="noStrike">
              <a:solidFill>
                <a:srgbClr val="ffffff"/>
              </a:solidFill>
              <a:latin typeface="Corbel"/>
            </a:endParaRPr>
          </a:p>
        </p:txBody>
      </p:sp>
      <p:sp>
        <p:nvSpPr>
          <p:cNvPr id="864"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Visita  al usuario que incluye:</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os datos del usuario</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os equipos actuales que están instalados y en operación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a red eléctrica para comprobar que no requiere adecuaciones para instalar los nuevos equipos</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as condiciones del contador para ser incluido en el monitoreo. Todo usuario beneficiario del programa deberá contar con medidor inteligente que permita establecer la línea base de consumos.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r otras condiciones necesarias para la instalación como por ejemplo áreas disponibles para la instalación de sistemas SFV y adecuaciones eléctricas necesarias para que el proyecto opere de manera correcta y que deban hacerse con cargo al programa</a:t>
            </a:r>
            <a:r>
              <a:rPr b="0" lang="es-ES" sz="1900" spc="-1" strike="noStrike">
                <a:solidFill>
                  <a:srgbClr val="262626"/>
                </a:solidFill>
                <a:latin typeface="Calibri"/>
              </a:rPr>
              <a:t>. </a:t>
            </a:r>
            <a:endParaRPr b="0" lang="en-US" sz="19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Proceso 4. Suministro e instalación de equipos y disposición final de equipos (post consumo)</a:t>
            </a:r>
            <a:endParaRPr b="0" lang="en-US" sz="2600" spc="-1" strike="noStrike">
              <a:solidFill>
                <a:srgbClr val="ffffff"/>
              </a:solidFill>
              <a:latin typeface="Corbel"/>
            </a:endParaRPr>
          </a:p>
        </p:txBody>
      </p:sp>
      <p:pic>
        <p:nvPicPr>
          <p:cNvPr id="866" name="Diagrama 3" descr=""/>
          <p:cNvPicPr/>
          <p:nvPr/>
        </p:nvPicPr>
        <p:blipFill>
          <a:blip r:embed="rId1"/>
          <a:stretch/>
        </p:blipFill>
        <p:spPr>
          <a:xfrm>
            <a:off x="378000" y="1596960"/>
            <a:ext cx="8351640" cy="4060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didas a ofrecer por tipo de usuarios</a:t>
            </a:r>
            <a:endParaRPr b="0" lang="en-US" sz="3200" spc="-1" strike="noStrike">
              <a:solidFill>
                <a:srgbClr val="ffffff"/>
              </a:solidFill>
              <a:latin typeface="Corbel"/>
            </a:endParaRPr>
          </a:p>
        </p:txBody>
      </p:sp>
      <p:pic>
        <p:nvPicPr>
          <p:cNvPr id="868" name="Objeto 5" descr=""/>
          <p:cNvPicPr/>
          <p:nvPr/>
        </p:nvPicPr>
        <p:blipFill>
          <a:blip r:embed="rId1"/>
          <a:stretch/>
        </p:blipFill>
        <p:spPr>
          <a:xfrm>
            <a:off x="609480" y="2243160"/>
            <a:ext cx="8345520" cy="3314520"/>
          </a:xfrm>
          <a:prstGeom prst="rect">
            <a:avLst/>
          </a:prstGeom>
          <a:ln w="0">
            <a:noFill/>
          </a:ln>
        </p:spPr>
      </p:pic>
      <p:sp>
        <p:nvSpPr>
          <p:cNvPr id="869" name="TextBox 1"/>
          <p:cNvSpPr/>
          <p:nvPr/>
        </p:nvSpPr>
        <p:spPr>
          <a:xfrm>
            <a:off x="609480" y="5556240"/>
            <a:ext cx="77184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La selección de las tecnologías se basa en la caracterización de consumo de energía en el Archipiélago, realizada por UPME en 2012-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ntecedentes</a:t>
            </a:r>
            <a:endParaRPr b="0" lang="en-US" sz="4200" spc="-1" strike="noStrike">
              <a:solidFill>
                <a:srgbClr val="ffffff"/>
              </a:solidFill>
              <a:latin typeface="Corbel"/>
            </a:endParaRPr>
          </a:p>
        </p:txBody>
      </p:sp>
      <p:sp>
        <p:nvSpPr>
          <p:cNvPr id="793" name=""/>
          <p:cNvSpPr txBox="1"/>
          <p:nvPr/>
        </p:nvSpPr>
        <p:spPr>
          <a:xfrm>
            <a:off x="283680" y="2133360"/>
            <a:ext cx="8318520" cy="4228920"/>
          </a:xfrm>
          <a:prstGeom prst="rect">
            <a:avLst/>
          </a:prstGeom>
          <a:noFill/>
          <a:ln w="0">
            <a:noFill/>
          </a:ln>
        </p:spPr>
        <p:txBody>
          <a:bodyPr anchor="t">
            <a:normAutofit/>
          </a:bodyPr>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Programa definido por el </a:t>
            </a:r>
            <a:r>
              <a:rPr b="0" lang="es-CO" sz="1300" spc="-1" strike="noStrike">
                <a:solidFill>
                  <a:srgbClr val="000000"/>
                </a:solidFill>
                <a:latin typeface="Calibri"/>
              </a:rPr>
              <a:t>Gobierno de Colombia, con el apoyo del Banco Inter-Americano de Desarrollo a través de la CT ATN/CT-14531-CO, para </a:t>
            </a:r>
            <a:r>
              <a:rPr b="0" lang="es-CO" sz="1300" spc="-1" strike="noStrike">
                <a:solidFill>
                  <a:srgbClr val="262626"/>
                </a:solidFill>
                <a:latin typeface="Calibri"/>
              </a:rPr>
              <a:t>la gestión eficiente de la demanda de energía en zonas no interconectadas. Tendrá como proyecto piloto el Archipiélago de San Andrés, Providencia y Santa Catalina.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Recursos disponibles de 10 MMUS$ que se utilizaran para financiar la eficiencia energética de usuarios finales residenciales, comerciales e industriales en el Archipiélago.</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programa cuenta con un diseño técnico sobre el cual se define la ejecución y el modelo de operación, donde los recursos serán canalizados a través del Fondo de Energías Renovables y Gestión Eficiente de la Energía FENOGE.</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diseño técnico se basa en los estudios previos realizados por el Ministerio de Minas y Energía (MME) a través de la Unidad de Planeación Minero Energética (UPME), considerando la distribución de usuarios, hábitos de consumo y necesidades energéticas correspondientes a cada sector del Archipiélago.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programa con duración de 10 años. De los recursos del programa, se cuenta con 7.5 MMUS$ para ser desembolsados en los 5 primeros años,</a:t>
            </a:r>
            <a:r>
              <a:rPr b="0" lang="es-CO" sz="1300" spc="-1" strike="noStrike">
                <a:solidFill>
                  <a:srgbClr val="000000"/>
                </a:solidFill>
                <a:latin typeface="Calibri"/>
              </a:rPr>
              <a:t> que </a:t>
            </a:r>
            <a:r>
              <a:rPr b="0" lang="es-CO" sz="1300" spc="-1" strike="noStrike">
                <a:solidFill>
                  <a:srgbClr val="262626"/>
                </a:solidFill>
                <a:latin typeface="Calibri"/>
              </a:rPr>
              <a:t>se destinarán a la ejecución de proyectos de eficiencia energética (refrigeración, iluminación y acondicionamiento de aire) e instalación de fuentes no convencionales de energía (solar foto voltaica).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Las lecciones que se adquieran de esta experiencia piloto servirán de insumo en el diseño de programas similares en otras zonas del país.</a:t>
            </a:r>
            <a:endParaRPr b="0" lang="en-US" sz="1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Selección de proveedores</a:t>
            </a:r>
            <a:endParaRPr b="0" lang="en-US" sz="4200" spc="-1" strike="noStrike">
              <a:solidFill>
                <a:srgbClr val="ffffff"/>
              </a:solidFill>
              <a:latin typeface="Corbel"/>
            </a:endParaRPr>
          </a:p>
        </p:txBody>
      </p:sp>
      <p:sp>
        <p:nvSpPr>
          <p:cNvPr id="871"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icitación pública para seleccionar proveedores de:</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romoción del programa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Tecnología, instalación y mantenimient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Disposición final de equipos y refrigerante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Acuerdos con comercios para uso de servicios por parte del programa, por ejemplo: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guro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ateriales de construcción</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rvicios de diversión</a:t>
            </a:r>
            <a:endParaRPr b="0" lang="en-US" sz="22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Características de los equipos incluidos en el programa</a:t>
            </a:r>
            <a:endParaRPr b="0" lang="en-US" sz="2800" spc="-1" strike="noStrike">
              <a:solidFill>
                <a:srgbClr val="ffffff"/>
              </a:solidFill>
              <a:latin typeface="Corbel"/>
            </a:endParaRPr>
          </a:p>
        </p:txBody>
      </p:sp>
      <p:sp>
        <p:nvSpPr>
          <p:cNvPr id="873" name=""/>
          <p:cNvSpPr txBox="1"/>
          <p:nvPr/>
        </p:nvSpPr>
        <p:spPr>
          <a:xfrm>
            <a:off x="283680" y="2133720"/>
            <a:ext cx="7875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Todos los equipos incluidos en el programa deben contar con certificación energética nacional o su equivalente aceptada por UPME.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Neveras de alta eficiencia</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Refrigeradores de alta eficiencia </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Aires acondicionados </a:t>
            </a:r>
            <a:r>
              <a:rPr b="0" i="1" lang="es-ES" sz="1500" spc="-1" strike="noStrike">
                <a:solidFill>
                  <a:srgbClr val="262626"/>
                </a:solidFill>
                <a:latin typeface="Calibri"/>
              </a:rPr>
              <a:t>minisplit inverter</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Iluminación LED</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Energía solar fotovoltaica para el sector hoteles</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Adecuaciones arquitectónicas</a:t>
            </a:r>
            <a:endParaRPr b="0" lang="en-US" sz="1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l proveedor deberá otorgar la garantía y contar con servicio técnico propio o contratado para los procesos de instalación y mantenimiento de los equipos</a:t>
            </a:r>
            <a:endParaRPr b="0" lang="en-US" sz="17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l proveedor deberá retirar los equipos viejos en el momento de la instalación de los equipos nuevos  y entregarlos al encargado del programa de post consumo</a:t>
            </a:r>
            <a:endParaRPr b="0" lang="en-US" sz="17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Programa de post consumo</a:t>
            </a:r>
            <a:endParaRPr b="0" lang="en-US" sz="4200" spc="-1" strike="noStrike">
              <a:solidFill>
                <a:srgbClr val="ffffff"/>
              </a:solidFill>
              <a:latin typeface="Corbel"/>
            </a:endParaRPr>
          </a:p>
        </p:txBody>
      </p:sp>
      <p:sp>
        <p:nvSpPr>
          <p:cNvPr id="875" name=""/>
          <p:cNvSpPr txBox="1"/>
          <p:nvPr/>
        </p:nvSpPr>
        <p:spPr>
          <a:xfrm>
            <a:off x="283680" y="1812960"/>
            <a:ext cx="8574120" cy="3992400"/>
          </a:xfrm>
          <a:prstGeom prst="rect">
            <a:avLst/>
          </a:prstGeom>
          <a:noFill/>
          <a:ln w="0">
            <a:noFill/>
          </a:ln>
        </p:spPr>
        <p:txBody>
          <a:bodyPr anchor="t">
            <a:normAutofit fontScale="98000"/>
          </a:bodyPr>
          <a:p>
            <a:pPr marL="444600" indent="-44460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Desarrollado por una empresa especializada que cuente con la experiencia y los permisos necesarios para desarrollar esta actividad. Responsable de:</a:t>
            </a:r>
            <a:endParaRPr b="0" lang="en-US" sz="24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Recibir y almacenar los equipos fuera de uso</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Desmantelar los equipos y buscar el máximo aprovechamiento de los materiales reciclables y valorizables</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Destruir los materiales peligrosos como refrigerantes y aceites usados garantizando que se hacen de manera adecuada y entregando los certificados de destrucción al operador del programa</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La empresa debe contar con la experiencia y los permisos necesarios para la gestión, transporte y disposición de materiales y residuos especiales</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83680" y="6429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 5. MRV del programa</a:t>
            </a:r>
            <a:br>
              <a:rPr sz="3200"/>
            </a:br>
            <a:r>
              <a:rPr b="0" lang="es-ES" sz="3200" spc="-1" strike="noStrike">
                <a:solidFill>
                  <a:srgbClr val="ffffff"/>
                </a:solidFill>
                <a:latin typeface="Corbel"/>
              </a:rPr>
              <a:t>por parte del Operador</a:t>
            </a:r>
            <a:endParaRPr b="0" lang="en-US" sz="3200" spc="-1" strike="noStrike">
              <a:solidFill>
                <a:srgbClr val="ffffff"/>
              </a:solidFill>
              <a:latin typeface="Corbel"/>
            </a:endParaRPr>
          </a:p>
        </p:txBody>
      </p:sp>
      <p:pic>
        <p:nvPicPr>
          <p:cNvPr id="877" name="Diagrama 3" descr=""/>
          <p:cNvPicPr/>
          <p:nvPr/>
        </p:nvPicPr>
        <p:blipFill>
          <a:blip r:embed="rId1"/>
          <a:stretch/>
        </p:blipFill>
        <p:spPr>
          <a:xfrm>
            <a:off x="500040" y="2084400"/>
            <a:ext cx="8362800" cy="4243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Monitoreo de la operación</a:t>
            </a:r>
            <a:endParaRPr b="0" lang="en-US" sz="4200" spc="-1" strike="noStrike">
              <a:solidFill>
                <a:srgbClr val="ffffff"/>
              </a:solidFill>
              <a:latin typeface="Corbel"/>
            </a:endParaRPr>
          </a:p>
        </p:txBody>
      </p:sp>
      <p:sp>
        <p:nvSpPr>
          <p:cNvPr id="879"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l programa debe monitorear los consumos mensuales de energía tanto de los usuarios que usen el cupo de crédito, como de los que no usan el crédito pero que están inscritos en el programa.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a línea base individual por usuario se establecerá como el consumo promedio de los últimos seis meses de la instalación donde reside u opera el beneficiario.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consumo de cada beneficiario se irá monitoreando con base en los medidores inteligentes, los cuales deben estar instalados como requisito para participar en el programa.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Reporte del programa</a:t>
            </a:r>
            <a:endParaRPr b="0" lang="en-US" sz="4200" spc="-1" strike="noStrike">
              <a:solidFill>
                <a:srgbClr val="ffffff"/>
              </a:solidFill>
              <a:latin typeface="Corbel"/>
            </a:endParaRPr>
          </a:p>
        </p:txBody>
      </p:sp>
      <p:sp>
        <p:nvSpPr>
          <p:cNvPr id="881"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l programa deberá presentar al MME un reporte mensual que incluya como mínimo:</a:t>
            </a:r>
            <a:endParaRPr b="0" lang="en-US" sz="2400" spc="-1" strike="noStrike">
              <a:solidFill>
                <a:srgbClr val="262626"/>
              </a:solidFill>
              <a:latin typeface="Calibri"/>
            </a:endParaRPr>
          </a:p>
          <a:p>
            <a:pPr lvl="1" marL="914400" indent="-457200">
              <a:spcBef>
                <a:spcPts val="1199"/>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vances en el cumplimiento de metas del programa</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greso de usuarios por tip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quipos instalados y puntos entregado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onto de las operaciones financieras realizada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onitoreo de ahorros de energía generados en el period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quipos antiguos dispuestos por el programa post consum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cuesta de satisfacción de los usuarios del programa</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Verificación del programa</a:t>
            </a:r>
            <a:endParaRPr b="0" lang="en-US" sz="4200" spc="-1" strike="noStrike">
              <a:solidFill>
                <a:srgbClr val="ffffff"/>
              </a:solidFill>
              <a:latin typeface="Corbel"/>
            </a:endParaRPr>
          </a:p>
        </p:txBody>
      </p:sp>
      <p:sp>
        <p:nvSpPr>
          <p:cNvPr id="883"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generar un reporte de verificación semestral del programa y presentar al MME midiendo aspectos como:</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versiones realizada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horros de energía generado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 emisiones alcanzada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álculo de indicadores de impacto</a:t>
            </a:r>
            <a:endParaRPr b="0" lang="en-US" sz="22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Inversión por beneficiario</a:t>
            </a:r>
            <a:endParaRPr b="0" lang="en-US" sz="2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US$/kWh reducido</a:t>
            </a:r>
            <a:endParaRPr b="0" lang="en-US" sz="2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US$/Ton CO2 reducida</a:t>
            </a:r>
            <a:endParaRPr b="0" lang="en-US" sz="2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Otros beneficios sociales y ambientales</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Estructura de Reporte y Control del Programa</a:t>
            </a:r>
            <a:endParaRPr b="0" lang="en-US" sz="3200" spc="-1" strike="noStrike">
              <a:solidFill>
                <a:srgbClr val="ffffff"/>
              </a:solidFill>
              <a:latin typeface="Corbel"/>
            </a:endParaRPr>
          </a:p>
        </p:txBody>
      </p:sp>
      <p:pic>
        <p:nvPicPr>
          <p:cNvPr id="885" name="Diagrama 3" descr=""/>
          <p:cNvPicPr/>
          <p:nvPr/>
        </p:nvPicPr>
        <p:blipFill>
          <a:blip r:embed="rId1"/>
          <a:stretch/>
        </p:blipFill>
        <p:spPr>
          <a:xfrm>
            <a:off x="237960" y="1878120"/>
            <a:ext cx="8620200" cy="2749320"/>
          </a:xfrm>
          <a:prstGeom prst="rect">
            <a:avLst/>
          </a:prstGeom>
          <a:ln w="0">
            <a:noFill/>
          </a:ln>
        </p:spPr>
      </p:pic>
      <p:pic>
        <p:nvPicPr>
          <p:cNvPr id="886" name="Diagrama 6" descr=""/>
          <p:cNvPicPr/>
          <p:nvPr/>
        </p:nvPicPr>
        <p:blipFill>
          <a:blip r:embed="rId2"/>
          <a:stretch/>
        </p:blipFill>
        <p:spPr>
          <a:xfrm>
            <a:off x="2852640" y="4718160"/>
            <a:ext cx="3183120" cy="1993680"/>
          </a:xfrm>
          <a:prstGeom prst="rect">
            <a:avLst/>
          </a:prstGeom>
          <a:ln w="0">
            <a:noFill/>
          </a:ln>
        </p:spPr>
      </p:pic>
      <p:sp>
        <p:nvSpPr>
          <p:cNvPr id="887" name="Flecha curva 7"/>
          <p:cNvSpPr/>
          <p:nvPr/>
        </p:nvSpPr>
        <p:spPr>
          <a:xfrm rot="16200000">
            <a:off x="1775520" y="4598280"/>
            <a:ext cx="1200240" cy="1487520"/>
          </a:xfrm>
          <a:custGeom>
            <a:avLst/>
            <a:gdLst/>
            <a:ahLst/>
            <a:rect l="l" t="t" r="r" b="b"/>
            <a:pathLst>
              <a:path w="1200150" h="1487488">
                <a:moveTo>
                  <a:pt x="0" y="1487488"/>
                </a:moveTo>
                <a:lnTo>
                  <a:pt x="0" y="675084"/>
                </a:lnTo>
                <a:cubicBezTo>
                  <a:pt x="0" y="385098"/>
                  <a:pt x="235080" y="150018"/>
                  <a:pt x="525066" y="150018"/>
                </a:cubicBezTo>
                <a:lnTo>
                  <a:pt x="900113" y="150019"/>
                </a:lnTo>
                <a:lnTo>
                  <a:pt x="900113" y="0"/>
                </a:lnTo>
                <a:lnTo>
                  <a:pt x="1200150" y="300038"/>
                </a:lnTo>
                <a:lnTo>
                  <a:pt x="900113" y="600075"/>
                </a:lnTo>
                <a:lnTo>
                  <a:pt x="900113" y="450056"/>
                </a:lnTo>
                <a:lnTo>
                  <a:pt x="525066" y="450056"/>
                </a:lnTo>
                <a:cubicBezTo>
                  <a:pt x="400786" y="450056"/>
                  <a:pt x="300038" y="550804"/>
                  <a:pt x="300038" y="675084"/>
                </a:cubicBezTo>
                <a:lnTo>
                  <a:pt x="300038" y="1487488"/>
                </a:lnTo>
                <a:lnTo>
                  <a:pt x="0" y="1487488"/>
                </a:lnTo>
                <a:close/>
              </a:path>
            </a:pathLst>
          </a:custGeom>
          <a:solidFill>
            <a:srgbClr val="990000"/>
          </a:solidFill>
          <a:ln w="12600">
            <a:solidFill>
              <a:srgbClr val="730000"/>
            </a:solidFill>
            <a:round/>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spectos Sociales</a:t>
            </a:r>
            <a:endParaRPr b="0" lang="en-US" sz="4200" spc="-1" strike="noStrike">
              <a:solidFill>
                <a:srgbClr val="ffffff"/>
              </a:solidFill>
              <a:latin typeface="Corbel"/>
            </a:endParaRPr>
          </a:p>
        </p:txBody>
      </p:sp>
      <p:sp>
        <p:nvSpPr>
          <p:cNvPr id="889" name=""/>
          <p:cNvSpPr txBox="1"/>
          <p:nvPr/>
        </p:nvSpPr>
        <p:spPr>
          <a:xfrm>
            <a:off x="284040" y="2133720"/>
            <a:ext cx="8097840" cy="3992400"/>
          </a:xfrm>
          <a:prstGeom prst="rect">
            <a:avLst/>
          </a:prstGeom>
          <a:noFill/>
          <a:ln w="0">
            <a:noFill/>
          </a:ln>
        </p:spPr>
        <p:txBody>
          <a:bodyPr anchor="t">
            <a:norm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os siguientes son los aspectos sociales más importantes que tendría el programa: </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os beneficiarios del programa contarán con mayor disponibilidad de sus ingresos para destinar a otros consumos o inversiones resultante de ahorros en su factura eléctrica. Esta disponibilidad se materializará en el mediano plazo, al concluir los pagos por amortiguación de los créditos de los electrodomésticos.</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provee mayor inclusión social como producto del reconocimiento de derechos de la población raizal, grupo al que se le concede prioridad de acceso a los beneficios del programa.</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generara nuevas fuentes de empleo tanto directos de quienes trabajaran en el proyecto, como en la cadena de gestión del proyecto que se generará (venta de electrodomésticos, instalación y mantenimiento de equipos, disposición de equipos.</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capacitará laboralmente a las personas que participarán como proveedores (almacenes) o personal de instalación  y mantenimiento en temas de eficiencia energética y gestión de electrodomésticos lo cual mejorara sus competencias y aumentara sus posibilidades de movilidad laboral.</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a reducción esperada en la emisión de GEI mejora la calidad de vida para toda la población.</a:t>
            </a:r>
            <a:endParaRPr b="0" lang="en-US" sz="1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spectos Ambientales</a:t>
            </a:r>
            <a:endParaRPr b="0" lang="en-US" sz="4200" spc="-1" strike="noStrike">
              <a:solidFill>
                <a:srgbClr val="ffffff"/>
              </a:solidFill>
              <a:latin typeface="Corbel"/>
            </a:endParaRPr>
          </a:p>
        </p:txBody>
      </p:sp>
      <p:sp>
        <p:nvSpPr>
          <p:cNvPr id="891" name=""/>
          <p:cNvSpPr txBox="1"/>
          <p:nvPr/>
        </p:nvSpPr>
        <p:spPr>
          <a:xfrm>
            <a:off x="283680" y="2133720"/>
            <a:ext cx="7899480" cy="3992400"/>
          </a:xfrm>
          <a:prstGeom prst="rect">
            <a:avLst/>
          </a:prstGeom>
          <a:noFill/>
          <a:ln w="0">
            <a:noFill/>
          </a:ln>
        </p:spPr>
        <p:txBody>
          <a:bodyPr anchor="t">
            <a:normAutofit/>
          </a:bodyPr>
          <a:p>
            <a:pPr marL="453960" indent="-45396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os siguientes son los beneficios ambientales más importantes que tendría el programa:</a:t>
            </a:r>
            <a:endParaRPr b="0" lang="en-US" sz="24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l consumo de energía no renovable generada con combustible diésel</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 emisiones de GEI mejora calidad del aire</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novación tecnológica</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Disposición de refrigerantes con alto GWP y alto ODP en forma ambientalmente sostenible</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ciclaje y valorización de materiales de equipos retirados en el proyecto</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Estructura de ejecución del programa</a:t>
            </a:r>
            <a:endParaRPr b="0" lang="en-US" sz="4200" spc="-1" strike="noStrike">
              <a:solidFill>
                <a:srgbClr val="ffffff"/>
              </a:solidFill>
              <a:latin typeface="Corbel"/>
            </a:endParaRPr>
          </a:p>
        </p:txBody>
      </p:sp>
      <p:pic>
        <p:nvPicPr>
          <p:cNvPr id="795" name="Diagrama 3" descr=""/>
          <p:cNvPicPr/>
          <p:nvPr/>
        </p:nvPicPr>
        <p:blipFill>
          <a:blip r:embed="rId1"/>
          <a:stretch/>
        </p:blipFill>
        <p:spPr>
          <a:xfrm>
            <a:off x="225360" y="1920960"/>
            <a:ext cx="8785440" cy="458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gramas similares operando en Colombia</a:t>
            </a:r>
            <a:endParaRPr b="0" lang="en-US" sz="3200" spc="-1" strike="noStrike">
              <a:solidFill>
                <a:srgbClr val="ffffff"/>
              </a:solidFill>
              <a:latin typeface="Corbel"/>
            </a:endParaRPr>
          </a:p>
        </p:txBody>
      </p:sp>
      <p:pic>
        <p:nvPicPr>
          <p:cNvPr id="797" name="Marcador de contenido 14" descr=""/>
          <p:cNvPicPr/>
          <p:nvPr/>
        </p:nvPicPr>
        <p:blipFill>
          <a:blip r:embed="rId1"/>
          <a:srcRect l="0" t="21793" r="0" b="21793"/>
          <a:stretch/>
        </p:blipFill>
        <p:spPr>
          <a:xfrm>
            <a:off x="452520" y="1843200"/>
            <a:ext cx="2017800" cy="1137960"/>
          </a:xfrm>
          <a:prstGeom prst="rect">
            <a:avLst/>
          </a:prstGeom>
          <a:ln w="0">
            <a:noFill/>
          </a:ln>
        </p:spPr>
      </p:pic>
      <p:pic>
        <p:nvPicPr>
          <p:cNvPr id="798" name="Imagen 17" descr=""/>
          <p:cNvPicPr/>
          <p:nvPr/>
        </p:nvPicPr>
        <p:blipFill>
          <a:blip r:embed="rId2"/>
          <a:srcRect l="0" t="0" r="0" b="56918"/>
          <a:stretch/>
        </p:blipFill>
        <p:spPr>
          <a:xfrm>
            <a:off x="3611520" y="1994040"/>
            <a:ext cx="2146320" cy="790560"/>
          </a:xfrm>
          <a:prstGeom prst="rect">
            <a:avLst/>
          </a:prstGeom>
          <a:ln w="0">
            <a:noFill/>
          </a:ln>
        </p:spPr>
      </p:pic>
      <p:pic>
        <p:nvPicPr>
          <p:cNvPr id="799" name="Imagen 18" descr=""/>
          <p:cNvPicPr/>
          <p:nvPr/>
        </p:nvPicPr>
        <p:blipFill>
          <a:blip r:embed="rId3"/>
          <a:srcRect l="0" t="0" r="36801" b="0"/>
          <a:stretch/>
        </p:blipFill>
        <p:spPr>
          <a:xfrm>
            <a:off x="6537240" y="1843200"/>
            <a:ext cx="2233800" cy="1106280"/>
          </a:xfrm>
          <a:prstGeom prst="rect">
            <a:avLst/>
          </a:prstGeom>
          <a:ln w="0">
            <a:noFill/>
          </a:ln>
        </p:spPr>
      </p:pic>
      <p:sp>
        <p:nvSpPr>
          <p:cNvPr id="800" name="CuadroTexto 19"/>
          <p:cNvSpPr/>
          <p:nvPr/>
        </p:nvSpPr>
        <p:spPr>
          <a:xfrm>
            <a:off x="452520" y="3425760"/>
            <a:ext cx="2017800" cy="3107160"/>
          </a:xfrm>
          <a:prstGeom prst="rect">
            <a:avLst/>
          </a:prstGeom>
          <a:solidFill>
            <a:srgbClr val="c2fd6d"/>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EPM para la fidelización y buen manejo de los SPD</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mediante TC con tasas máximas de financiación</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Límites en valor y artículos a financiar (No compras recurrent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puntos con y sin TC</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 con otras entidades para promover el ingreso y benefici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500.000 inscritos y 175.000 usuarios del crédito</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Incentivos por puntos al ahorro del agua y la energía</a:t>
            </a:r>
            <a:endParaRPr b="0" lang="en-US" sz="1100" spc="-1" strike="noStrike">
              <a:solidFill>
                <a:srgbClr val="000000"/>
              </a:solidFill>
              <a:latin typeface="Calibri"/>
            </a:endParaRPr>
          </a:p>
        </p:txBody>
      </p:sp>
      <p:sp>
        <p:nvSpPr>
          <p:cNvPr id="801" name="CuadroTexto 20"/>
          <p:cNvSpPr/>
          <p:nvPr/>
        </p:nvSpPr>
        <p:spPr>
          <a:xfrm>
            <a:off x="3611520" y="3425760"/>
            <a:ext cx="2019240" cy="2939760"/>
          </a:xfrm>
          <a:prstGeom prst="rect">
            <a:avLst/>
          </a:prstGeom>
          <a:solidFill>
            <a:srgbClr val="ffb8b8"/>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Promigas para financiación y mejorar la calidad de vida de los usuarios del servicio de GN domiciliario</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a las tasas máximas del mercado y hasta por 60 mes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850.000 usuarios en los estratos 1,2 y 3</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Créditos para educación, hogar, computadores y fortalecimiento de negoci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Beneficios adicionales a través de microseguros </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s con proveedores para recibir la tarjeta</a:t>
            </a:r>
            <a:endParaRPr b="0" lang="en-US" sz="1100" spc="-1" strike="noStrike">
              <a:solidFill>
                <a:srgbClr val="000000"/>
              </a:solidFill>
              <a:latin typeface="Calibri"/>
            </a:endParaRPr>
          </a:p>
        </p:txBody>
      </p:sp>
      <p:sp>
        <p:nvSpPr>
          <p:cNvPr id="802" name="CuadroTexto 21"/>
          <p:cNvSpPr/>
          <p:nvPr/>
        </p:nvSpPr>
        <p:spPr>
          <a:xfrm>
            <a:off x="6537240" y="3425760"/>
            <a:ext cx="2017800" cy="2939760"/>
          </a:xfrm>
          <a:prstGeom prst="rect">
            <a:avLst/>
          </a:prstGeom>
          <a:solidFill>
            <a:srgbClr val="ffba00"/>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financiación amplio a través de la factura de energía</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Codensa actúa solamente como recaudador</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a tasas máximas del mercado operado por Colpatria con plazo hasta 48 mes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Se solicita en más de 60  puntos en Bogotá y municipios aledañ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s con almacenes y comercios que reciben la tarjeta</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ceptan usuarios que vivan en viviendas arrendadas</a:t>
            </a:r>
            <a:endParaRPr b="0" lang="en-US" sz="1100" spc="-1" strike="noStrike">
              <a:solidFill>
                <a:srgbClr val="000000"/>
              </a:solidFill>
              <a:latin typeface="Calibri"/>
            </a:endParaRPr>
          </a:p>
        </p:txBody>
      </p:sp>
      <p:sp>
        <p:nvSpPr>
          <p:cNvPr id="803" name="CuadroTexto 2"/>
          <p:cNvSpPr/>
          <p:nvPr/>
        </p:nvSpPr>
        <p:spPr>
          <a:xfrm>
            <a:off x="452520" y="3041640"/>
            <a:ext cx="2017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3366ff"/>
                </a:solidFill>
                <a:latin typeface="Calibri"/>
              </a:rPr>
              <a:t>www.somosgrupoepm.com</a:t>
            </a:r>
            <a:endParaRPr b="0" lang="en-US" sz="1200" spc="-1" strike="noStrike">
              <a:solidFill>
                <a:srgbClr val="000000"/>
              </a:solidFill>
              <a:latin typeface="Calibri"/>
            </a:endParaRPr>
          </a:p>
        </p:txBody>
      </p:sp>
      <p:sp>
        <p:nvSpPr>
          <p:cNvPr id="804" name="CuadroTexto 9"/>
          <p:cNvSpPr/>
          <p:nvPr/>
        </p:nvSpPr>
        <p:spPr>
          <a:xfrm>
            <a:off x="3611520" y="3076560"/>
            <a:ext cx="201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3366ff"/>
                </a:solidFill>
                <a:latin typeface="Calibri"/>
              </a:rPr>
              <a:t>www.brillagascaribe.com</a:t>
            </a:r>
            <a:endParaRPr b="0" lang="en-US" sz="1200" spc="-1" strike="noStrike">
              <a:solidFill>
                <a:srgbClr val="000000"/>
              </a:solidFill>
              <a:latin typeface="Calibri"/>
            </a:endParaRPr>
          </a:p>
        </p:txBody>
      </p:sp>
      <p:sp>
        <p:nvSpPr>
          <p:cNvPr id="805" name="CuadroTexto 10"/>
          <p:cNvSpPr/>
          <p:nvPr/>
        </p:nvSpPr>
        <p:spPr>
          <a:xfrm>
            <a:off x="6537240" y="3076560"/>
            <a:ext cx="2017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3366ff"/>
                </a:solidFill>
                <a:latin typeface="Calibri"/>
              </a:rPr>
              <a:t>www.creditofacilcodensa.com</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Características generales de  los programas actuales </a:t>
            </a:r>
            <a:endParaRPr b="0" lang="en-US" sz="2800" spc="-1" strike="noStrike">
              <a:solidFill>
                <a:srgbClr val="ffffff"/>
              </a:solidFill>
              <a:latin typeface="Corbel"/>
            </a:endParaRPr>
          </a:p>
        </p:txBody>
      </p:sp>
      <p:sp>
        <p:nvSpPr>
          <p:cNvPr id="807" name=""/>
          <p:cNvSpPr txBox="1"/>
          <p:nvPr/>
        </p:nvSpPr>
        <p:spPr>
          <a:xfrm>
            <a:off x="283680" y="2133720"/>
            <a:ext cx="8574120" cy="399240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Financiación mediante tarjeta de crédito propia a tasas máximas del mercado y con cuota de manejo.</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centivos adicionales por participar en el programa, por ejemplo:</a:t>
            </a:r>
            <a:endParaRPr b="0" lang="en-US" sz="22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Seguros</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Programas de puntos redimibles en productos no financiables </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Incentivos en puntos a mejor uso de los SPD</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cuerdos comerciales con proveedores para una mejor operación.</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Financian a propietarios y arrendatarios sin restricciones.</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Los usuarios no requieren tener historial crediticio, buscan reducir la financiación informal.</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s del Programa de EE SAI</a:t>
            </a:r>
            <a:endParaRPr b="0" lang="en-US" sz="3200" spc="-1" strike="noStrike">
              <a:solidFill>
                <a:srgbClr val="ffffff"/>
              </a:solidFill>
              <a:latin typeface="Corbel"/>
            </a:endParaRPr>
          </a:p>
        </p:txBody>
      </p:sp>
      <p:sp>
        <p:nvSpPr>
          <p:cNvPr id="809" name="CuadroTexto 4"/>
          <p:cNvSpPr/>
          <p:nvPr/>
        </p:nvSpPr>
        <p:spPr>
          <a:xfrm>
            <a:off x="457200" y="2271600"/>
            <a:ext cx="8400960" cy="3111480"/>
          </a:xfrm>
          <a:prstGeom prst="rect">
            <a:avLst/>
          </a:prstGeom>
          <a:solidFill>
            <a:srgbClr val="f0ffc2"/>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dministración Técnica, Legal y Financiera del Programa</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0" name="Marcador de contenido 3" descr=""/>
          <p:cNvPicPr/>
          <p:nvPr/>
        </p:nvPicPr>
        <p:blipFill>
          <a:blip r:embed="rId1"/>
          <a:stretch/>
        </p:blipFill>
        <p:spPr>
          <a:xfrm>
            <a:off x="927000" y="2133720"/>
            <a:ext cx="7174080" cy="3992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Proceso 1. Administración Técnica, Legal, Financiera</a:t>
            </a:r>
            <a:endParaRPr b="0" lang="en-US" sz="2900" spc="-1" strike="noStrike">
              <a:solidFill>
                <a:srgbClr val="ffffff"/>
              </a:solidFill>
              <a:latin typeface="Corbel"/>
            </a:endParaRPr>
          </a:p>
        </p:txBody>
      </p:sp>
      <p:pic>
        <p:nvPicPr>
          <p:cNvPr id="812" name="Diagrama 3" descr=""/>
          <p:cNvPicPr/>
          <p:nvPr/>
        </p:nvPicPr>
        <p:blipFill>
          <a:blip r:embed="rId1"/>
          <a:stretch/>
        </p:blipFill>
        <p:spPr>
          <a:xfrm>
            <a:off x="285840" y="1871640"/>
            <a:ext cx="8620200" cy="4840200"/>
          </a:xfrm>
          <a:prstGeom prst="rect">
            <a:avLst/>
          </a:prstGeom>
          <a:ln w="0">
            <a:noFill/>
          </a:ln>
        </p:spPr>
      </p:pic>
      <p:cxnSp>
        <p:nvCxnSpPr>
          <p:cNvPr id="813" name="Conector angular 7"/>
          <p:cNvCxnSpPr/>
          <p:nvPr/>
        </p:nvCxnSpPr>
        <p:spPr>
          <a:xfrm flipV="1" rot="16200000">
            <a:off x="291600" y="3631320"/>
            <a:ext cx="3010680" cy="1613520"/>
          </a:xfrm>
          <a:prstGeom prst="bentConnector3">
            <a:avLst>
              <a:gd name="adj1" fmla="val -633"/>
            </a:avLst>
          </a:prstGeom>
          <a:ln w="38160">
            <a:solidFill>
              <a:srgbClr val="ff7070"/>
            </a:solidFill>
            <a:miter/>
            <a:tailEnd len="med" type="arrow" w="med"/>
          </a:ln>
        </p:spPr>
      </p:cxnSp>
      <p:sp>
        <p:nvSpPr>
          <p:cNvPr id="814" name="TextBox 1"/>
          <p:cNvSpPr/>
          <p:nvPr/>
        </p:nvSpPr>
        <p:spPr>
          <a:xfrm>
            <a:off x="1897200" y="5681520"/>
            <a:ext cx="449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Estructura mínima que debe garantizar el operador seleccionado</a:t>
            </a:r>
            <a:endParaRPr b="0" lang="en-US" sz="2800" spc="-1" strike="noStrike">
              <a:solidFill>
                <a:srgbClr val="ffffff"/>
              </a:solidFill>
              <a:latin typeface="Corbel"/>
            </a:endParaRPr>
          </a:p>
        </p:txBody>
      </p:sp>
      <p:pic>
        <p:nvPicPr>
          <p:cNvPr id="816" name="Diagrama 3" descr=""/>
          <p:cNvPicPr/>
          <p:nvPr/>
        </p:nvPicPr>
        <p:blipFill>
          <a:blip r:embed="rId1"/>
          <a:stretch/>
        </p:blipFill>
        <p:spPr>
          <a:xfrm>
            <a:off x="738360" y="1841400"/>
            <a:ext cx="8161200" cy="3065400"/>
          </a:xfrm>
          <a:prstGeom prst="rect">
            <a:avLst/>
          </a:prstGeom>
          <a:ln w="0">
            <a:noFill/>
          </a:ln>
        </p:spPr>
      </p:pic>
      <p:sp>
        <p:nvSpPr>
          <p:cNvPr id="817" name="CuadroTexto 4"/>
          <p:cNvSpPr/>
          <p:nvPr/>
        </p:nvSpPr>
        <p:spPr>
          <a:xfrm>
            <a:off x="7010280" y="4978440"/>
            <a:ext cx="213372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guimiento cumplimiento de meta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de report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y gestión de contratos con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Recepción de solicitudes de admisión al programa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CuadroTexto 6"/>
          <p:cNvSpPr/>
          <p:nvPr/>
        </p:nvSpPr>
        <p:spPr>
          <a:xfrm>
            <a:off x="503280" y="4218120"/>
            <a:ext cx="2011320" cy="228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lección y control de proveedores de tecnología</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Instalación y mantenimiento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Monitoreo de reducción de consumos y reporte</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guimiento calidad  técnica  y garantías con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ebida diligencia técnica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9" name="CuadroTexto 8"/>
          <p:cNvSpPr/>
          <p:nvPr/>
        </p:nvSpPr>
        <p:spPr>
          <a:xfrm>
            <a:off x="2924280" y="4282920"/>
            <a:ext cx="205236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iseño del Plan ambiental , comunicación y gestión social</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jecución del Plan ambiental/ disposición final, comunicación y gestión social</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reparación PGAS y cumplimiento IGAS</a:t>
            </a:r>
            <a:endParaRPr b="0" lang="en-US" sz="1200" spc="-1" strike="noStrike">
              <a:solidFill>
                <a:srgbClr val="000000"/>
              </a:solidFill>
              <a:latin typeface="Calibri"/>
            </a:endParaRPr>
          </a:p>
        </p:txBody>
      </p:sp>
      <p:sp>
        <p:nvSpPr>
          <p:cNvPr id="820" name="CuadroTexto 8"/>
          <p:cNvSpPr/>
          <p:nvPr/>
        </p:nvSpPr>
        <p:spPr>
          <a:xfrm>
            <a:off x="5075280" y="4424400"/>
            <a:ext cx="208764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Control ejecución recurso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ebida diligencia operaciones de crédito</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ago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Gestión de cobro/Cobros jurídicos cartera morosa</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y gestión contratos de financiamiento</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13:20:07Z</dcterms:created>
  <dc:creator>Edgar Botero Garcia</dc:creator>
  <dc:description/>
  <dc:language>en-US</dc:language>
  <cp:lastModifiedBy>Inter-American Development Bank</cp:lastModifiedBy>
  <dcterms:modified xsi:type="dcterms:W3CDTF">2016-08-24T22:11:40Z</dcterms:modified>
  <cp:revision>156</cp:revision>
  <dc:subject/>
  <dc:title>CO-L1119 Presentación Elementos Técnicos Diseño del Progra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 to Information Policy">
    <vt:lpwstr>Public</vt:lpwstr>
  </property>
  <property fmtid="{D5CDD505-2E9C-101B-9397-08002B2CF9AE}" pid="3" name="Approval Number">
    <vt:lpwstr/>
  </property>
  <property fmtid="{D5CDD505-2E9C-101B-9397-08002B2CF9AE}" pid="4" name="Business Area">
    <vt:lpwstr/>
  </property>
  <property fmtid="{D5CDD505-2E9C-101B-9397-08002B2CF9AE}" pid="5" name="Disclosure Activity">
    <vt:lpwstr>Loan Proposal</vt:lpwstr>
  </property>
  <property fmtid="{D5CDD505-2E9C-101B-9397-08002B2CF9AE}" pid="6" name="Division or Unit">
    <vt:lpwstr>INE/ENE</vt:lpwstr>
  </property>
  <property fmtid="{D5CDD505-2E9C-101B-9397-08002B2CF9AE}" pid="7" name="Document Author">
    <vt:lpwstr>Gomez, Jose Ramon</vt:lpwstr>
  </property>
  <property fmtid="{D5CDD505-2E9C-101B-9397-08002B2CF9AE}" pid="8" name="Document Language IDB">
    <vt:lpwstr>Spanish</vt:lpwstr>
  </property>
  <property fmtid="{D5CDD505-2E9C-101B-9397-08002B2CF9AE}" pid="9" name="Fiscal Year IDB">
    <vt:lpwstr>2016</vt:lpwstr>
  </property>
  <property fmtid="{D5CDD505-2E9C-101B-9397-08002B2CF9AE}" pid="10" name="From:">
    <vt:lpwstr>Edgar Botero</vt:lpwstr>
  </property>
  <property fmtid="{D5CDD505-2E9C-101B-9397-08002B2CF9AE}" pid="11" name="IDBDocs Number">
    <vt:lpwstr>40357780</vt:lpwstr>
  </property>
  <property fmtid="{D5CDD505-2E9C-101B-9397-08002B2CF9AE}" pid="12" name="Identifier">
    <vt:lpwstr> TECFILE</vt:lpwstr>
  </property>
  <property fmtid="{D5CDD505-2E9C-101B-9397-08002B2CF9AE}" pid="13" name="Migration Info">
    <vt:lpwstr>&lt;Data&gt;&lt;APPLICATION&gt;MS POWERPOINT&lt;/APPLICATION&gt;&lt;USER_STAGE&gt;Loan Proposal&lt;/USER_STAGE&gt;&lt;APPROVAL_CODE&gt;DE&lt;/APPROVAL_CODE&gt;&lt;APPROVAL_DESC&gt;Board of Executive Directors&lt;/APPROVAL_DESC&gt;&lt;PD_OBJ_TYPE&gt;0&lt;/PD_OBJ_TYPE&gt;&lt;MAKERECORD&gt;N&lt;/MAKERECORD&gt;&lt;/Data&gt;</vt:lpwstr>
  </property>
  <property fmtid="{D5CDD505-2E9C-101B-9397-08002B2CF9AE}" pid="14" name="Other Author">
    <vt:lpwstr>Edgar Botero</vt:lpwstr>
  </property>
  <property fmtid="{D5CDD505-2E9C-101B-9397-08002B2CF9AE}" pid="15" name="Project Document Type">
    <vt:lpwstr/>
  </property>
  <property fmtid="{D5CDD505-2E9C-101B-9397-08002B2CF9AE}" pid="16" name="Project Number">
    <vt:lpwstr>CO-L1119</vt:lpwstr>
  </property>
  <property fmtid="{D5CDD505-2E9C-101B-9397-08002B2CF9AE}" pid="17" name="TaxCatchAll">
    <vt:lpwstr/>
  </property>
  <property fmtid="{D5CDD505-2E9C-101B-9397-08002B2CF9AE}" pid="18" name="TaxKeyword">
    <vt:lpwstr/>
  </property>
  <property fmtid="{D5CDD505-2E9C-101B-9397-08002B2CF9AE}" pid="19" name="TaxKeywordTaxHTField">
    <vt:lpwstr/>
  </property>
  <property fmtid="{D5CDD505-2E9C-101B-9397-08002B2CF9AE}" pid="20" name="To:">
    <vt:lpwstr/>
  </property>
  <property fmtid="{D5CDD505-2E9C-101B-9397-08002B2CF9AE}" pid="21" name="Webtopic">
    <vt:lpwstr>EN-ALT</vt:lpwstr>
  </property>
  <property fmtid="{D5CDD505-2E9C-101B-9397-08002B2CF9AE}" pid="22" name="display_urn:schemas-microsoft-com:office:office#Author">
    <vt:lpwstr>Gomez, Jose Ramon</vt:lpwstr>
  </property>
  <property fmtid="{D5CDD505-2E9C-101B-9397-08002B2CF9AE}" pid="23" name="display_urn:schemas-microsoft-com:office:office#Editor">
    <vt:lpwstr>Gomez, Jose Ramon</vt:lpwstr>
  </property>
</Properties>
</file>