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jpeg" ContentType="image/jpeg"/>
  <Override PartName="/ppt/media/image3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6DEB1-742E-454A-8E82-0685C9ED4A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F92CC5-43A4-40D2-811D-7697CD0648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76154C-BC0C-4E76-8095-5B0C7C9387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E91CE7-C9F8-4B61-8E70-1FD0021304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163AED-9629-431A-B0DF-AE9427828C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1671B9-B5D8-4C3E-A076-B78CA4B9FE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396C1-6418-4C1E-9B79-B918DA6831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19731-EE70-4E89-B954-7459F3A45D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1E21F-3E19-4778-8BE7-217D94168F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00DC3B-A0BB-4E23-8BA5-957DF5BAF9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A570A4-90FA-4A16-8724-7D4C96627D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9C0636-936C-4518-8AC6-0741C6FDB8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CA9DCB-CC3A-4CE2-B8C4-6152D89E3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A35B5F-C0C7-44A7-A928-76F6D14890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620073A-1846-4E1B-B18A-31A7E6D06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F9B3AD-58B7-42C7-9A0D-B012D1409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6692BA-4AFC-49AF-8FD9-C3496CFE28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57DF9F-5730-4AF0-B21D-732E28AFA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344063-5695-466F-A48D-1FC1D8477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6057B9-968A-401C-93E4-19A2B5B608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ADA4ACF-0C47-4BA3-B313-ADF57D7738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70A268-7148-4895-AFBC-EBCC375091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363DFA-E24F-4644-9ED0-5AB6054320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FBA0-8F04-47AC-B487-419725F8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3EF9-3394-4C65-A434-C0975AC9D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EA3B-103A-414A-88D8-085BDB7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D42B-506C-4814-BD2B-5806349A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857-28C0-4EDD-A276-EB60BC16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D3A0-AB93-4BB1-8B6F-4953C810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99A-0F85-48C0-8F71-387DDA73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09B4-5B72-44E3-A503-F6089C7C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D7EC-BA9B-4159-B2C1-243E3F7D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2F5D-5215-4DC5-915D-F3CA8EA04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4881-BFF8-49E2-88CB-946041E8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F9B3-57EC-4EE2-A0CA-90A772A9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172348-FC11-4529-A258-A87CEFD2BD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goo.gl/forms/5Jp1GZTIcLFwAGii2" TargetMode="External"/><Relationship Id="rId3" Type="http://schemas.openxmlformats.org/officeDocument/2006/relationships/hyperlink" Target="https://goo.gl/forms/nCBnNEc4TiNNH5x83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25280" y="1206360"/>
            <a:ext cx="732816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PROTÓTIPO DE MONITORAMENTO E SUPERVISÃ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BR-L150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Karisa Ribeir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Especialista em Transpor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75" name="TextBox 4"/>
          <p:cNvSpPr/>
          <p:nvPr/>
        </p:nvSpPr>
        <p:spPr>
          <a:xfrm>
            <a:off x="125280" y="1206360"/>
            <a:ext cx="732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Como promover a Inovação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tângulo 5"/>
          <p:cNvSpPr/>
          <p:nvPr/>
        </p:nvSpPr>
        <p:spPr>
          <a:xfrm>
            <a:off x="0" y="893880"/>
            <a:ext cx="77724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Dentre as propostas para essa operação são considerados a elaboração d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ângulo 5"/>
          <p:cNvSpPr/>
          <p:nvPr/>
        </p:nvSpPr>
        <p:spPr>
          <a:xfrm>
            <a:off x="0" y="893880"/>
            <a:ext cx="7772400" cy="30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Dentre as propostas para essa operação são considerados a elaboração de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ângulo 5"/>
          <p:cNvSpPr/>
          <p:nvPr/>
        </p:nvSpPr>
        <p:spPr>
          <a:xfrm>
            <a:off x="0" y="893880"/>
            <a:ext cx="77724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Protótipo em questão tem por objetivo </a:t>
            </a: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atender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ff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Propostas de financiamentos em formulário digital, com itens de múltipla escolha dependendo o tipo de bem, obra ou serviço a ser financiad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Termos de Referência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ditais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ff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t-BR" sz="1700" spc="-1" strike="noStrike">
                <a:solidFill>
                  <a:srgbClr val="ff0000"/>
                </a:solidFill>
                <a:latin typeface="Calibri"/>
                <a:ea typeface="Times New Roman"/>
              </a:rPr>
              <a:t>Instrumentos para divulgação/acompanhamento do processo licitatório e obras, se for o caso;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1085760" indent="-39996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Calibri"/>
              <a:buAutoNum type="romanLcParenR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tos padrão para atender aos objetivos do programa (aumentar a eficiência do município nas áreas de energia, água e transporte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ângulo 5"/>
          <p:cNvSpPr/>
          <p:nvPr/>
        </p:nvSpPr>
        <p:spPr>
          <a:xfrm>
            <a:off x="0" y="893880"/>
            <a:ext cx="7772400" cy="42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mbora todos os processos de aquisição venham a ser feito por meio de ferramentas digitais, o caso em questão avaliou a contratação e monitoramento de uma obra, pois as informações necessárias são mais complexa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estrutura apresentada foi pensada para reduzir o custo de supervisão dos projetos de transportes a serem financiados pelo BB. Para isso segue-se a lógica dos ciclos de preparação (item “cadastro da obra”) e de execução (“supervisão da obra”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Importante ressaltar que esses dados serão coletados pelo autor da proposta, não podendo, portanto, ter uma alta complexidade para coleta. Os dados apresentados podem ser coletados por celular. No entanto, é importante (i) definir um manual de procedimentos para a coleta de forma correta ou (ii) desenvolver um aplicativo que faça tais coletas (essa opção permite que as permissões de acesso ao GPS, por exemplo, sejam dadas por default)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4095" descr=""/>
          <p:cNvPicPr/>
          <p:nvPr/>
        </p:nvPicPr>
        <p:blipFill>
          <a:blip r:embed="rId2"/>
          <a:stretch/>
        </p:blipFill>
        <p:spPr>
          <a:xfrm>
            <a:off x="1866960" y="353880"/>
            <a:ext cx="5410080" cy="443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tângulo 5"/>
          <p:cNvSpPr/>
          <p:nvPr/>
        </p:nvSpPr>
        <p:spPr>
          <a:xfrm>
            <a:off x="0" y="893880"/>
            <a:ext cx="7772400" cy="34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dados de saída do cadastro de obras (ciclo de preparação) são considerados como parâmetros de entrada para o ciclo de execução e, portanto, para a supervisão da obra. O processo de coleta pode ser (i) manual ou (ii) automatizado. No processo de coleta manual, embora em uma primeira fase possa ser usado formulários, a proposta é que sejam usados formulários eletrônicos (ou mesmo aplicativos)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o processo automatizado são previstos usos de drones e de imagens por satélite. O uso de drones poderia ser considerado um processo semiautomatizado, pois necessita de operador. O uso de imagens por satélite pode ser feito comparando imagens capturadas pelo satélite utilizado pelo BB para supervisão do agronegócio. Essa alternativa precisa ser discutida internamento pelo BB, assim como a viabilidade técnica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Propost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2"/>
          <a:stretch/>
        </p:blipFill>
        <p:spPr>
          <a:xfrm>
            <a:off x="1866960" y="392040"/>
            <a:ext cx="5410080" cy="435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25280" y="1206360"/>
            <a:ext cx="73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Fase 1 – Google Form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ângulo 5"/>
          <p:cNvSpPr/>
          <p:nvPr/>
        </p:nvSpPr>
        <p:spPr>
          <a:xfrm>
            <a:off x="0" y="893880"/>
            <a:ext cx="7772400" cy="37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Como parte de um primeiro teste de implementação de ferramentas digitais para coleta e armazenagem de dados das operações de financiamento do programa, foi feita a conversão dos formulários utilizados pelo BB para o Google Form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o formulários disponível já foram implementados campos específicos para coleta de informações necessárias para o monitoramento, conforme previsto no ciclo de execução apresentad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formulário de “Solicitação de Proposta” está disponível em </a:t>
            </a:r>
            <a:r>
              <a:rPr b="0" lang="pt-BR" sz="17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2"/>
              </a:rPr>
              <a:t>https://goo.gl/forms/5Jp1GZTIcLFwAGii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formulário de “Monitoramento” está disponível em: </a:t>
            </a:r>
            <a:r>
              <a:rPr b="0" lang="pt-BR" sz="17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3"/>
              </a:rPr>
              <a:t>https://goo.gl/forms/nCBnNEc4TiNNH5x8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25280" y="1206360"/>
            <a:ext cx="732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ffffff"/>
                </a:solidFill>
                <a:latin typeface="Calibri"/>
                <a:ea typeface="Times New Roman"/>
              </a:rPr>
              <a:t>Introdução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Imagem 1" descr=""/>
          <p:cNvPicPr/>
          <p:nvPr/>
        </p:nvPicPr>
        <p:blipFill>
          <a:blip r:embed="rId2"/>
          <a:srcRect l="0" t="10459" r="0" b="0"/>
          <a:stretch/>
        </p:blipFill>
        <p:spPr>
          <a:xfrm>
            <a:off x="1461960" y="905040"/>
            <a:ext cx="5257800" cy="382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2" descr=""/>
          <p:cNvPicPr/>
          <p:nvPr/>
        </p:nvPicPr>
        <p:blipFill>
          <a:blip r:embed="rId2"/>
          <a:srcRect l="-3821" t="15928" r="7775" b="-1479"/>
          <a:stretch/>
        </p:blipFill>
        <p:spPr>
          <a:xfrm>
            <a:off x="104760" y="781200"/>
            <a:ext cx="6080040" cy="4400280"/>
          </a:xfrm>
          <a:prstGeom prst="rect">
            <a:avLst/>
          </a:prstGeom>
          <a:ln w="0">
            <a:noFill/>
          </a:ln>
        </p:spPr>
      </p:pic>
      <p:pic>
        <p:nvPicPr>
          <p:cNvPr id="108" name="Imagem 3" descr=""/>
          <p:cNvPicPr/>
          <p:nvPr/>
        </p:nvPicPr>
        <p:blipFill>
          <a:blip r:embed="rId3"/>
          <a:srcRect l="0" t="10459" r="8223" b="29934"/>
          <a:stretch/>
        </p:blipFill>
        <p:spPr>
          <a:xfrm>
            <a:off x="4519440" y="1449360"/>
            <a:ext cx="4400640" cy="2320920"/>
          </a:xfrm>
          <a:prstGeom prst="rect">
            <a:avLst/>
          </a:prstGeom>
          <a:ln w="0">
            <a:noFill/>
          </a:ln>
        </p:spPr>
      </p:pic>
      <p:sp>
        <p:nvSpPr>
          <p:cNvPr id="109" name="Seta: para a Direita Listrada 4"/>
          <p:cNvSpPr/>
          <p:nvPr/>
        </p:nvSpPr>
        <p:spPr>
          <a:xfrm rot="19474800">
            <a:off x="3618000" y="3576240"/>
            <a:ext cx="1058760" cy="528840"/>
          </a:xfrm>
          <a:custGeom>
            <a:avLst/>
            <a:gdLst/>
            <a:ahLst/>
            <a:rect l="l" t="t" r="r" b="b"/>
            <a:pathLst>
              <a:path w="1057835" h="528918">
                <a:moveTo>
                  <a:pt x="0" y="132230"/>
                </a:moveTo>
                <a:lnTo>
                  <a:pt x="16529" y="132230"/>
                </a:lnTo>
                <a:lnTo>
                  <a:pt x="16529" y="396689"/>
                </a:lnTo>
                <a:lnTo>
                  <a:pt x="0" y="396689"/>
                </a:lnTo>
                <a:lnTo>
                  <a:pt x="0" y="132230"/>
                </a:lnTo>
                <a:close/>
                <a:moveTo>
                  <a:pt x="33057" y="132230"/>
                </a:moveTo>
                <a:lnTo>
                  <a:pt x="66115" y="132230"/>
                </a:lnTo>
                <a:lnTo>
                  <a:pt x="66115" y="396689"/>
                </a:lnTo>
                <a:lnTo>
                  <a:pt x="33057" y="396689"/>
                </a:lnTo>
                <a:lnTo>
                  <a:pt x="33057" y="132230"/>
                </a:lnTo>
                <a:close/>
                <a:moveTo>
                  <a:pt x="82643" y="132230"/>
                </a:moveTo>
                <a:lnTo>
                  <a:pt x="793376" y="132230"/>
                </a:lnTo>
                <a:lnTo>
                  <a:pt x="793376" y="0"/>
                </a:lnTo>
                <a:lnTo>
                  <a:pt x="1057835" y="264459"/>
                </a:lnTo>
                <a:lnTo>
                  <a:pt x="793376" y="528918"/>
                </a:lnTo>
                <a:lnTo>
                  <a:pt x="793376" y="396689"/>
                </a:lnTo>
                <a:lnTo>
                  <a:pt x="82643" y="396689"/>
                </a:lnTo>
                <a:lnTo>
                  <a:pt x="82643" y="13223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d996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2"/>
          <a:srcRect l="22104" t="12549" r="22952" b="7973"/>
          <a:stretch/>
        </p:blipFill>
        <p:spPr>
          <a:xfrm>
            <a:off x="135000" y="893880"/>
            <a:ext cx="3478320" cy="4087800"/>
          </a:xfrm>
          <a:prstGeom prst="rect">
            <a:avLst/>
          </a:prstGeom>
          <a:ln w="0">
            <a:noFill/>
          </a:ln>
        </p:spPr>
      </p:pic>
      <p:pic>
        <p:nvPicPr>
          <p:cNvPr id="113" name="Imagem 6" descr=""/>
          <p:cNvPicPr/>
          <p:nvPr/>
        </p:nvPicPr>
        <p:blipFill>
          <a:blip r:embed="rId3"/>
          <a:srcRect l="22526" t="43751" r="23749" b="0"/>
          <a:stretch/>
        </p:blipFill>
        <p:spPr>
          <a:xfrm>
            <a:off x="3684600" y="2211480"/>
            <a:ext cx="3400560" cy="2894040"/>
          </a:xfrm>
          <a:prstGeom prst="rect">
            <a:avLst/>
          </a:prstGeom>
          <a:ln w="0">
            <a:noFill/>
          </a:ln>
        </p:spPr>
      </p:pic>
      <p:pic>
        <p:nvPicPr>
          <p:cNvPr id="114" name="Imagem 7" descr=""/>
          <p:cNvPicPr/>
          <p:nvPr/>
        </p:nvPicPr>
        <p:blipFill>
          <a:blip r:embed="rId4"/>
          <a:srcRect l="23846" t="18999" r="25972" b="0"/>
          <a:stretch/>
        </p:blipFill>
        <p:spPr>
          <a:xfrm>
            <a:off x="6470640" y="139680"/>
            <a:ext cx="2216160" cy="290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5" name="Seta: para a Direita Listrada 10"/>
          <p:cNvSpPr/>
          <p:nvPr/>
        </p:nvSpPr>
        <p:spPr>
          <a:xfrm rot="19474800">
            <a:off x="5689080" y="1947960"/>
            <a:ext cx="1057320" cy="528480"/>
          </a:xfrm>
          <a:custGeom>
            <a:avLst/>
            <a:gdLst/>
            <a:ahLst/>
            <a:rect l="l" t="t" r="r" b="b"/>
            <a:pathLst>
              <a:path w="1057835" h="528918">
                <a:moveTo>
                  <a:pt x="0" y="132230"/>
                </a:moveTo>
                <a:lnTo>
                  <a:pt x="16529" y="132230"/>
                </a:lnTo>
                <a:lnTo>
                  <a:pt x="16529" y="396689"/>
                </a:lnTo>
                <a:lnTo>
                  <a:pt x="0" y="396689"/>
                </a:lnTo>
                <a:lnTo>
                  <a:pt x="0" y="132230"/>
                </a:lnTo>
                <a:close/>
                <a:moveTo>
                  <a:pt x="33057" y="132230"/>
                </a:moveTo>
                <a:lnTo>
                  <a:pt x="66115" y="132230"/>
                </a:lnTo>
                <a:lnTo>
                  <a:pt x="66115" y="396689"/>
                </a:lnTo>
                <a:lnTo>
                  <a:pt x="33057" y="396689"/>
                </a:lnTo>
                <a:lnTo>
                  <a:pt x="33057" y="132230"/>
                </a:lnTo>
                <a:close/>
                <a:moveTo>
                  <a:pt x="82643" y="132230"/>
                </a:moveTo>
                <a:lnTo>
                  <a:pt x="793376" y="132230"/>
                </a:lnTo>
                <a:lnTo>
                  <a:pt x="793376" y="0"/>
                </a:lnTo>
                <a:lnTo>
                  <a:pt x="1057835" y="264459"/>
                </a:lnTo>
                <a:lnTo>
                  <a:pt x="793376" y="528918"/>
                </a:lnTo>
                <a:lnTo>
                  <a:pt x="793376" y="396689"/>
                </a:lnTo>
                <a:lnTo>
                  <a:pt x="82643" y="396689"/>
                </a:lnTo>
                <a:lnTo>
                  <a:pt x="82643" y="132230"/>
                </a:lnTo>
                <a:close/>
              </a:path>
            </a:pathLst>
          </a:custGeom>
          <a:solidFill>
            <a:srgbClr val="c0504d"/>
          </a:solidFill>
          <a:ln w="9360">
            <a:solidFill>
              <a:srgbClr val="d996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ase 1 - GForm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2" descr=""/>
          <p:cNvPicPr/>
          <p:nvPr/>
        </p:nvPicPr>
        <p:blipFill>
          <a:blip r:embed="rId2"/>
          <a:srcRect l="0" t="12374" r="0" b="28193"/>
          <a:stretch/>
        </p:blipFill>
        <p:spPr>
          <a:xfrm>
            <a:off x="1469880" y="958680"/>
            <a:ext cx="6329520" cy="305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SLIDE PPT 16-9-01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145440" y="2341440"/>
            <a:ext cx="227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Arial Black"/>
              </a:rPr>
              <a:t>Obrigada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tângulo 5"/>
          <p:cNvSpPr/>
          <p:nvPr/>
        </p:nvSpPr>
        <p:spPr>
          <a:xfrm>
            <a:off x="0" y="893880"/>
            <a:ext cx="7916760" cy="26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A linha de crédito Programa Eficiência Municipal, disponibilizada pelo Banco do Brasil (BB) aos municípios, tem início a partir de uma demanda observada pelo gestor municip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Para atendimento aos municípios, o BB conta com uma rede de 5.060 agências, atendendo 3.566 municípios, de um total de 5.570 em todo o Brasi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Calibri"/>
              </a:rPr>
              <a:t>Podem ser identificados dois ciclos dentro do programa, o ciclo de preparação e ciclo de execu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0"/>
            <a:ext cx="9140760" cy="51436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tângulo 5"/>
          <p:cNvSpPr/>
          <p:nvPr/>
        </p:nvSpPr>
        <p:spPr>
          <a:xfrm>
            <a:off x="0" y="893880"/>
            <a:ext cx="7916760" cy="34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prepara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O BB disponibiliza uma série de documentos que deverão ser preenchidos pelo mutuário, como por exemplo, a minuta de lei autorizativa, modelo de proposta de financiamento, relação de documentos necessários exigidos no Manual de Instrução de Pleitos da Secretaria do Tesouro Nacional (MIP) e outros documentos necessários à contrataçã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Após elaborar a proposta de financiamento, essa é enviada ao BB, que analisa e aprova, se tudo estiver em conformidade com as normas do BB e da linha de crédito. Caso contrário, esse processo é devolvido até que as pendencias sejam sanada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ângulo 5"/>
          <p:cNvSpPr/>
          <p:nvPr/>
        </p:nvSpPr>
        <p:spPr>
          <a:xfrm>
            <a:off x="0" y="893880"/>
            <a:ext cx="79167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execu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om o contrato formalizado é possível realizar o pedido de liberação (PL) e o envio da documentação necessária para o primeiro desembolso. Há a checagem de documentação e, caso não seja encontrada inconformidades, é feita a liberação dos recurs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A comprovação da aplicação dos recursos pode ser feita de modo integral ou por amostragem, a depender do tipo e complexidade de aquisição financiada. A comprovação pode ser documental e ou pode incluir uma visita técnica da equipe do B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tângulo 5"/>
          <p:cNvSpPr/>
          <p:nvPr/>
        </p:nvSpPr>
        <p:spPr>
          <a:xfrm>
            <a:off x="0" y="893880"/>
            <a:ext cx="7916760" cy="33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Ciclo de execução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Com o contrato formalizado é possível realizar o pedido de liberação (PL) e o envio da documentação necessária para o primeiro desembolso. Há a checagem de documentação e, caso não seja encontrada inconformidades, é feita a liberação dos recurso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  <a:ea typeface="Arial"/>
              </a:rPr>
              <a:t>A comprovação da aplicação dos recursos pode ser feita de modo integral ou por amostragem, a depender do tipo e complexidade de aquisição financiada. A comprovação pode ser documental e ou pode incluir uma visita técnica da equipe do BB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tângulo 5"/>
          <p:cNvSpPr/>
          <p:nvPr/>
        </p:nvSpPr>
        <p:spPr>
          <a:xfrm>
            <a:off x="0" y="893880"/>
            <a:ext cx="7916760" cy="41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s reuniões com a equipe do BB permitem identificar as seguintes situações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1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Falta de padronização na estrutura dos documentos apresentados pelos mutuário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2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Falta de padrão na apresentação das justificativas para obtenção do financiament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formulários utilizados pelos mutuários para solicitar o financiamento e apresentar a justificativa técnica é apresentado em formato pdf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4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Não é possível vincular de modo automático a documentação apresentada durante a solicitação do financiamento e os dados de desembolso ao longo do desenvolvimento do financiamento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85800" algn="just">
              <a:lnSpc>
                <a:spcPct val="106000"/>
              </a:lnSpc>
              <a:spcAft>
                <a:spcPts val="799"/>
              </a:spcAft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5.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supervisão dos projetos demanda que seja realizada uma visita técnica para comprovação do uso de recurs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ângulo 5"/>
          <p:cNvSpPr/>
          <p:nvPr/>
        </p:nvSpPr>
        <p:spPr>
          <a:xfrm>
            <a:off x="0" y="893880"/>
            <a:ext cx="7916760" cy="9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s métodos de entrada de dados, por meio de formulários em Word, e a disponibilização desses no sistema em formato pdf, limita as possibilidades de cruzamento dos dados e de obtenção de informação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2"/>
          <a:srcRect l="6482" t="15916" r="6019" b="8682"/>
          <a:stretch/>
        </p:blipFill>
        <p:spPr>
          <a:xfrm>
            <a:off x="671400" y="1919160"/>
            <a:ext cx="65739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SLIDE PPT 16-9-03.jpg"/>
          <p:cNvPicPr/>
          <p:nvPr/>
        </p:nvPicPr>
        <p:blipFill>
          <a:blip r:embed="rId1"/>
          <a:stretch/>
        </p:blipFill>
        <p:spPr>
          <a:xfrm>
            <a:off x="0" y="38160"/>
            <a:ext cx="9140760" cy="51433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738440" y="38160"/>
            <a:ext cx="4981320" cy="7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Contexto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tângulo 5"/>
          <p:cNvSpPr/>
          <p:nvPr/>
        </p:nvSpPr>
        <p:spPr>
          <a:xfrm>
            <a:off x="0" y="893880"/>
            <a:ext cx="7772400" cy="34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A maior fragilidade identificada se refere à capacidade do município em atender às demandas e cumprir com os requisitos para que a operação se concretize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mbora a experiência do BB seja capaz de minimizar os custos da instituição, o gargalo na interface Agência/Munícipio minimiza a capacidade de gerar novos negóci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O BID, dada sua visão setorial e objetivando alcançar metas de desenvolvimento e eficácia no uso dos recursos disponibilizados para financiamento, tem como procedimento a prestação de suporte técnico aos município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514440" indent="-285840" algn="just">
              <a:lnSpc>
                <a:spcPct val="106000"/>
              </a:lnSpc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Calibri"/>
                <a:ea typeface="Times New Roman"/>
              </a:rPr>
              <a:t>Esse conhecimento gerencial adquirido pode ser considerado um diferencial da operação, e a formatação de documentos e ferramentas para apoio ao município tem potencial de alavancar novos negócios para o B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06T18:54:59Z</dcterms:created>
  <dc:creator>nialvarez</dc:creator>
  <dc:description/>
  <dc:language>en-US</dc:language>
  <cp:lastModifiedBy>arthur oliveira</cp:lastModifiedBy>
  <dcterms:modified xsi:type="dcterms:W3CDTF">2018-04-09T20:44:17Z</dcterms:modified>
  <cp:revision>3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ccess to Information Policy">
    <vt:lpwstr>Public - Simultaneous Disclosure</vt:lpwstr>
  </property>
  <property fmtid="{D5CDD505-2E9C-101B-9397-08002B2CF9AE}" pid="3" name="Approval Number">
    <vt:lpwstr/>
  </property>
  <property fmtid="{D5CDD505-2E9C-101B-9397-08002B2CF9AE}" pid="4" name="ContentTypeId">
    <vt:lpwstr>0x0101001A458A224826124E8B45B1D613300CFC00E6CAAFACF47D6C4191ECA3A7342DC04F</vt:lpwstr>
  </property>
  <property fmtid="{D5CDD505-2E9C-101B-9397-08002B2CF9AE}" pid="5" name="Country">
    <vt:lpwstr>30;#Brazil|7deb27ec-6837-4974-9aa8-6cfbac841ef8</vt:lpwstr>
  </property>
  <property fmtid="{D5CDD505-2E9C-101B-9397-08002B2CF9AE}" pid="6" name="Disclosure Activity">
    <vt:lpwstr>Loan Proposal</vt:lpwstr>
  </property>
  <property fmtid="{D5CDD505-2E9C-101B-9397-08002B2CF9AE}" pid="7" name="Division or Unit">
    <vt:lpwstr>INE/TSP</vt:lpwstr>
  </property>
  <property fmtid="{D5CDD505-2E9C-101B-9397-08002B2CF9AE}" pid="8" name="Document Author">
    <vt:lpwstr>Taveras Marte,Alba</vt:lpwstr>
  </property>
  <property fmtid="{D5CDD505-2E9C-101B-9397-08002B2CF9AE}" pid="9" name="Document Language IDB">
    <vt:lpwstr>Portuguese</vt:lpwstr>
  </property>
  <property fmtid="{D5CDD505-2E9C-101B-9397-08002B2CF9AE}" pid="10" name="Fiscal Year IDB">
    <vt:lpwstr>2018</vt:lpwstr>
  </property>
  <property fmtid="{D5CDD505-2E9C-101B-9397-08002B2CF9AE}" pid="11" name="From:">
    <vt:lpwstr/>
  </property>
  <property fmtid="{D5CDD505-2E9C-101B-9397-08002B2CF9AE}" pid="12" name="Function Operations IDB">
    <vt:lpwstr>1;#Project Preparation, Planning and Design|29ca0c72-1fc4-435f-a09c-28585cb5eac9</vt:lpwstr>
  </property>
  <property fmtid="{D5CDD505-2E9C-101B-9397-08002B2CF9AE}" pid="13" name="Fund IDB">
    <vt:lpwstr>278;#TBD|d62f6e05-3e80-4abd-9bb4-5f10b4906ff6</vt:lpwstr>
  </property>
  <property fmtid="{D5CDD505-2E9C-101B-9397-08002B2CF9AE}" pid="14" name="Identifier">
    <vt:lpwstr/>
  </property>
  <property fmtid="{D5CDD505-2E9C-101B-9397-08002B2CF9AE}" pid="15" name="Operation Type">
    <vt:lpwstr>Loan Operation</vt:lpwstr>
  </property>
  <property fmtid="{D5CDD505-2E9C-101B-9397-08002B2CF9AE}" pid="16" name="Other Author">
    <vt:lpwstr/>
  </property>
  <property fmtid="{D5CDD505-2E9C-101B-9397-08002B2CF9AE}" pid="17" name="Project Number">
    <vt:lpwstr>BR-L1503</vt:lpwstr>
  </property>
  <property fmtid="{D5CDD505-2E9C-101B-9397-08002B2CF9AE}" pid="18" name="PublishingExpirationDate">
    <vt:lpwstr/>
  </property>
  <property fmtid="{D5CDD505-2E9C-101B-9397-08002B2CF9AE}" pid="19" name="PublishingStartDate">
    <vt:lpwstr/>
  </property>
  <property fmtid="{D5CDD505-2E9C-101B-9397-08002B2CF9AE}" pid="20" name="Record Number">
    <vt:lpwstr>R0002219910</vt:lpwstr>
  </property>
  <property fmtid="{D5CDD505-2E9C-101B-9397-08002B2CF9AE}" pid="21" name="Sector IDB">
    <vt:lpwstr>34;#TRANSPORT|5a25d1a8-4baf-41a8-9e3b-e167accda6ea</vt:lpwstr>
  </property>
  <property fmtid="{D5CDD505-2E9C-101B-9397-08002B2CF9AE}" pid="22" name="Series Operations IDB">
    <vt:lpwstr/>
  </property>
  <property fmtid="{D5CDD505-2E9C-101B-9397-08002B2CF9AE}" pid="23" name="Sub-Sector">
    <vt:lpwstr>35;#URBAN TRANSPORT INFRASTRUCTURE|302c5209-7a48-49db-8198-938a46f0cd26</vt:lpwstr>
  </property>
  <property fmtid="{D5CDD505-2E9C-101B-9397-08002B2CF9AE}" pid="24" name="TaxCatchAll">
    <vt:lpwstr>34;#TRANSPORT|5a25d1a8-4baf-41a8-9e3b-e167accda6ea;#278;#TBD|d62f6e05-3e80-4abd-9bb4-5f10b4906ff6;#30;#Brazil|7deb27ec-6837-4974-9aa8-6cfbac841ef8;#1;#Project Preparation, Planning and Design|29ca0c72-1fc4-435f-a09c-28585cb5eac9;#35;#URBAN TRANSPORT INFRA</vt:lpwstr>
  </property>
  <property fmtid="{D5CDD505-2E9C-101B-9397-08002B2CF9AE}" pid="25" name="TaxKeyword">
    <vt:lpwstr/>
  </property>
  <property fmtid="{D5CDD505-2E9C-101B-9397-08002B2CF9AE}" pid="26" name="TaxKeywordTaxHTField">
    <vt:lpwstr/>
  </property>
  <property fmtid="{D5CDD505-2E9C-101B-9397-08002B2CF9AE}" pid="27" name="To:">
    <vt:lpwstr/>
  </property>
  <property fmtid="{D5CDD505-2E9C-101B-9397-08002B2CF9AE}" pid="28" name="Webtopic">
    <vt:lpwstr/>
  </property>
  <property fmtid="{D5CDD505-2E9C-101B-9397-08002B2CF9AE}" pid="29" name="_dlc_DocId">
    <vt:lpwstr>EZSHARE-1133963158-21</vt:lpwstr>
  </property>
  <property fmtid="{D5CDD505-2E9C-101B-9397-08002B2CF9AE}" pid="30" name="_dlc_DocIdItemGuid">
    <vt:lpwstr>92fc4f69-6683-47c7-8355-12cff3c57bf0</vt:lpwstr>
  </property>
  <property fmtid="{D5CDD505-2E9C-101B-9397-08002B2CF9AE}" pid="31" name="_dlc_DocIdUrl">
    <vt:lpwstr>https://idbg.sharepoint.com/teams/EZ-BR-LON/BR-L1503/_layouts/15/DocIdRedir.aspx?ID=EZSHARE-1133963158-21, EZSHARE-1133963158-21</vt:lpwstr>
  </property>
  <property fmtid="{D5CDD505-2E9C-101B-9397-08002B2CF9AE}" pid="32" name="b26cdb1da78c4bb4b1c1bac2f6ac5911">
    <vt:lpwstr/>
  </property>
  <property fmtid="{D5CDD505-2E9C-101B-9397-08002B2CF9AE}" pid="33" name="b2ec7cfb18674cb8803df6b262e8b107">
    <vt:lpwstr>URBAN TRANSPORT INFRASTRUCTURE|302c5209-7a48-49db-8198-938a46f0cd26</vt:lpwstr>
  </property>
  <property fmtid="{D5CDD505-2E9C-101B-9397-08002B2CF9AE}" pid="34" name="display_urn:schemas-microsoft-com:office:office#Editor">
    <vt:lpwstr>Taveras Marte, Alba</vt:lpwstr>
  </property>
  <property fmtid="{D5CDD505-2E9C-101B-9397-08002B2CF9AE}" pid="35" name="e46fe2894295491da65140ffd2369f49">
    <vt:lpwstr>Project Preparation, Planning and Design|29ca0c72-1fc4-435f-a09c-28585cb5eac9</vt:lpwstr>
  </property>
  <property fmtid="{D5CDD505-2E9C-101B-9397-08002B2CF9AE}" pid="36" name="g511464f9e53401d84b16fa9b379a574">
    <vt:lpwstr>TBD|d62f6e05-3e80-4abd-9bb4-5f10b4906ff6</vt:lpwstr>
  </property>
  <property fmtid="{D5CDD505-2E9C-101B-9397-08002B2CF9AE}" pid="37" name="ic46d7e087fd4a108fb86518ca413cc6">
    <vt:lpwstr>Brazil|7deb27ec-6837-4974-9aa8-6cfbac841ef8</vt:lpwstr>
  </property>
  <property fmtid="{D5CDD505-2E9C-101B-9397-08002B2CF9AE}" pid="38" name="nddeef1749674d76abdbe4b239a70bc6">
    <vt:lpwstr>TRANSPORT|5a25d1a8-4baf-41a8-9e3b-e167accda6ea</vt:lpwstr>
  </property>
</Properties>
</file>