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5504E-5FD3-43AB-9560-4CAC300BE6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31065-7E91-466F-A81E-079A20C778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8E3C-C0D2-4B16-A115-14C2E6912B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5DC0-631A-4196-B4FE-0BBF7805C7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EC66-9DA8-42B8-8C93-24270D8B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8730-A875-4980-B66D-60831DBF4F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3D7A-97AD-4772-9A76-8B46D0A4E5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147C-32AB-4C50-93E2-C85A3EDA98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2733-DF0B-4740-B8F8-3B891159FE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4D1C-60A2-491E-AFBB-C6E24C77C9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AA01-32AD-4BC8-BC01-C0851DA8D4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B558-2C36-4EC1-B2E2-6844A4F0BD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5CC8-8DA5-4112-A719-A306FE97D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6922-9693-4B11-9A1E-43085DA14F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4538-AD84-42B4-93F8-C00885601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C3CF-DBF0-4D18-8EA8-A69DFEE4AD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3773-3706-482C-8663-E4B49FE794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A0C5-8BA1-47DF-97D0-38503112A2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E4A9-348C-4732-A81E-4D53CD9DB3E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06A2-C0D7-449B-A1EB-A6473AE900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2B2D-7351-4816-94DC-BEC05769A3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6936-18E4-4197-84CA-DF58F725D5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8851-FC2B-47BC-91D5-FFB8440B76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11C9-4DBF-4A19-BF47-95CB5E578C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2817-F130-477A-8408-D1CF8643F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4BCE-B795-44B3-9EA4-777038B6E6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8A-4D04-4AC4-91C0-114AA87B97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F38-6787-4854-98B0-8350115DEC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5E1-1BAE-42D8-ADA5-9AC5D7B2DD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F13-9583-4A0E-BE96-FA2BB654BF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8EF-A9ED-48FB-A8AD-E1BCA150DD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40A-42F7-4518-A21F-6595C9585D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BB3-6C5E-47E8-9576-FBD4ACEF4A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6DF-632B-4518-A204-B1429A3D56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ABD-6CCC-4EEE-9C9F-783EA86EC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525-9D8E-48BB-82D5-9D49032758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621-F2B5-4202-803C-261A454645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C2C-1C5C-4A6A-9F7B-A5C92FA50D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A67D9-6058-4809-8E5A-7B649DD7B1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7D31E-5F36-4975-B447-6DB3BA097F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A5E3-8F87-46E7-A430-22019662D6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5B683-B84D-4CBE-BA5C-C75E1EF77A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E0945-14B4-42E8-8A69-588360D9B7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56688-BFA8-4822-8DCB-ED61F99ACF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7B8F2-69BA-4D06-840F-48237F34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610AB-ADD0-4D13-B9E7-C3A43CE045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5DF14-2DB1-4928-8F5E-BD0298C1F7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87C14-00F2-4495-BB09-59BA8B7150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82047-F1A7-47F2-80C3-0FE4F27AFC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53879-6AC0-4242-8B74-E27BD1C757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CF80-5C97-48F8-ADFC-5AA882B652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73791-CAF2-4C51-AD3C-D04863A36E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47F09-CDB2-4323-AEC5-83D9FF709B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5E6C5-AB84-4ED3-8ACE-C1C2CFDF7D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3A934-7816-43D1-8E09-210673950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F74C5-EA0A-458A-BB8B-BF501B798D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2AA73-E9D7-40EF-BEFB-52123F4470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693E6-B3C8-4419-83F8-BB0FE38D54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47DD1-F40A-4C88-88D1-25DC6EB5B69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E268-E378-417C-97CF-AE5403C29B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7942-1643-4478-AE80-4BF04F930A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CFB13-A905-4705-BDEB-96AC880DE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PPT_Alagoas_TemPressa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PPT_Alagoas_TemPressa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1"/>
          </p:nvPr>
        </p:nvSpPr>
        <p:spPr>
          <a:xfrm>
            <a:off x="8267760" y="233280"/>
            <a:ext cx="6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C580E-C738-48D4-8A9B-9AEFF8AB1862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ldNum" idx="2"/>
          </p:nvPr>
        </p:nvSpPr>
        <p:spPr>
          <a:xfrm>
            <a:off x="8267760" y="233280"/>
            <a:ext cx="6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387A5-306F-45D6-BCBE-7CA84B3D1F11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ldNum" idx="3"/>
          </p:nvPr>
        </p:nvSpPr>
        <p:spPr>
          <a:xfrm>
            <a:off x="8267760" y="233280"/>
            <a:ext cx="6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2FCB6-A51E-432F-9366-AB263631403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ldNum" idx="4"/>
          </p:nvPr>
        </p:nvSpPr>
        <p:spPr>
          <a:xfrm>
            <a:off x="8267760" y="233280"/>
            <a:ext cx="6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586D8-314F-4C63-81C8-542016837EC7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PPT_Alagoas_TemPressa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ldNum" idx="5"/>
          </p:nvPr>
        </p:nvSpPr>
        <p:spPr>
          <a:xfrm>
            <a:off x="8459280" y="6237360"/>
            <a:ext cx="684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2F208-1BFB-4BCA-A183-B6AB499868A3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mailto:Paulo.soares@seplande.al.gov.br" TargetMode="External"/><Relationship Id="rId3" Type="http://schemas.openxmlformats.org/officeDocument/2006/relationships/hyperlink" Target="mailto:genildo.silva@seplande.al.gov.br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2160" y="564012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evereiro d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9360"/>
            <a:ext cx="5770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31859c"/>
                </a:solidFill>
                <a:latin typeface="Calibri"/>
              </a:rPr>
              <a:t>Definição das Meta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91" name="Espaço Reservado para Conteúdo 2"/>
          <p:cNvSpPr/>
          <p:nvPr/>
        </p:nvSpPr>
        <p:spPr>
          <a:xfrm>
            <a:off x="136440" y="1027080"/>
            <a:ext cx="87076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a a definição das metas foram conside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265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endências da economia mundial, nacional e regional para os próximos dez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265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tas estabelecidas para as políticas públicas no âmbito do país (IDEB, Metas do Milênio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265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valiação de desempenho (1999-2009) do Brasil, Nordeste e Alagoas para os indicadores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265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a cada indicador foram definidas duas metas: uma “tendencial” (baseada na extrapolação da última década) e a meta “alvo”, que orientará os esforços do Estado nos próximos 12 anos (2011-20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Calibri"/>
              </a:rPr>
              <a:t>Indicadores priorizados </a:t>
            </a:r>
            <a:br>
              <a:rPr sz="2000"/>
            </a:br>
            <a:r>
              <a:rPr b="1" lang="pt-BR" sz="2800" spc="-1" strike="noStrike">
                <a:solidFill>
                  <a:srgbClr val="336699"/>
                </a:solidFill>
                <a:latin typeface="Calibri"/>
              </a:rPr>
              <a:t>Síntese das Meta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93" name="Título 1"/>
          <p:cNvSpPr/>
          <p:nvPr/>
        </p:nvSpPr>
        <p:spPr>
          <a:xfrm>
            <a:off x="-1625760" y="1447920"/>
            <a:ext cx="6121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63520" y="1419120"/>
          <a:ext cx="8604360" cy="4913280"/>
        </p:xfrm>
        <a:graphic>
          <a:graphicData uri="http://schemas.openxmlformats.org/drawingml/2006/table">
            <a:tbl>
              <a:tblPr/>
              <a:tblGrid>
                <a:gridCol w="2909880"/>
                <a:gridCol w="1949400"/>
                <a:gridCol w="1873440"/>
                <a:gridCol w="1871640"/>
              </a:tblGrid>
              <a:tr h="5558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388a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PURADO (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388a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388a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 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388a3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r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reza Extr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 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fabetismo entre os Jov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vens Ocio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ção da R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talidade Infantil 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(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6640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Homicíd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a rede de água canaliz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sso adequado à esg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o ensino mé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B (anos iniciais EF) 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820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B (anos finais EF) </a:t>
                      </a:r>
                      <a:r>
                        <a:rPr b="0" lang="pt-BR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B (EM)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58840">
                <a:tc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 Domiciliar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7920">
                <a:tc gridSpan="4">
                  <a:txBody>
                    <a:bodyPr lIns="7812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1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(1) Em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1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(2) Base 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1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(3) Metas para 2015 e 2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812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325440" y="1533600"/>
            <a:ext cx="8334360" cy="4208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5292720" y="6724800"/>
            <a:ext cx="3851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25440" y="750960"/>
            <a:ext cx="8334360" cy="6332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PLANO ESTRATÉGICO DE ALAGOAS 2011-2022 (46 ESTRATÉG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ítulo 1"/>
          <p:cNvSpPr/>
          <p:nvPr/>
        </p:nvSpPr>
        <p:spPr>
          <a:xfrm>
            <a:off x="220680" y="136440"/>
            <a:ext cx="8439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  <a:ea typeface="MS PGothic"/>
              </a:rPr>
              <a:t>Composição do Programa Alagoas Tem Pr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Diagrama 2" descr=""/>
          <p:cNvPicPr/>
          <p:nvPr/>
        </p:nvPicPr>
        <p:blipFill>
          <a:blip r:embed="rId1"/>
          <a:stretch/>
        </p:blipFill>
        <p:spPr>
          <a:xfrm>
            <a:off x="-1133640" y="1785960"/>
            <a:ext cx="7589880" cy="3852720"/>
          </a:xfrm>
          <a:prstGeom prst="rect">
            <a:avLst/>
          </a:prstGeom>
          <a:ln w="0">
            <a:noFill/>
          </a:ln>
        </p:spPr>
      </p:pic>
      <p:sp>
        <p:nvSpPr>
          <p:cNvPr id="400" name="Chave direita 4"/>
          <p:cNvSpPr/>
          <p:nvPr/>
        </p:nvSpPr>
        <p:spPr>
          <a:xfrm>
            <a:off x="4299120" y="3794040"/>
            <a:ext cx="569880" cy="1871640"/>
          </a:xfrm>
          <a:custGeom>
            <a:avLst/>
            <a:gdLst>
              <a:gd name="textAreaLeft" fmla="*/ 0 w 569880"/>
              <a:gd name="textAreaRight" fmla="*/ 205920 w 569880"/>
              <a:gd name="textAreaTop" fmla="*/ 14760 h 1871640"/>
              <a:gd name="textAreaBottom" fmla="*/ 185688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129280" y="4176720"/>
            <a:ext cx="3116160" cy="1036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SALA DE SITU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CONTROLE DE METAS 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ixaDeTexto 8"/>
          <p:cNvSpPr/>
          <p:nvPr/>
        </p:nvSpPr>
        <p:spPr>
          <a:xfrm>
            <a:off x="4230720" y="1677960"/>
            <a:ext cx="4387680" cy="94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PROGRAMA ALAGOAS </a:t>
            </a: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T</a:t>
            </a: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EM </a:t>
            </a: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P</a:t>
            </a: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R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ta para baixo 11"/>
          <p:cNvSpPr/>
          <p:nvPr/>
        </p:nvSpPr>
        <p:spPr>
          <a:xfrm>
            <a:off x="4176720" y="1235160"/>
            <a:ext cx="484200" cy="430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PPT_Alagoas_TemPress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334800" y="4863960"/>
            <a:ext cx="729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ROJETOS ESTRUTU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Carteira de Projetos Estruturante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Definiçã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6828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emblemátic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para a gest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8280" indent="-36828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oduzem grande impacto socioeconômico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e apresentam significativa capacidade de alterar a realidade vig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8280" indent="-36828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lvo de monitoramento intensi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Carteira de Projetos Estruturante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Critérios de seleçã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inhamento: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com a estratégia do estado e com o Programa de Gove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Urgência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sição alagoana comparativamente ao Nordeste e ao Bras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brangência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pulação ating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actibilidade: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capacidade de influência do governo do estado. Disponibilidade de instrumentos, conhecimentos e recur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obilização de recurs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ssibilidades de parcerias, em especial com o Governo Fed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iorização das estratégi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alizada pela equipe de governo na                atualização do Plano Estraté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Carteira de Projetos Estruturante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Principais Etapa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laboração do inventário de projetos e iniciativas do PPA em execu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posição e validação dos critérios para análise dos projetos e iniciativ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pacitação dos gerentes de projetos e da equipe da SEPL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alização de  reuniões com as secretarias envolvid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alização de reuniões com especialistas nacionais e locais para o aprimoramento dos projetos relacionados com Saúde, Segurança Pública, Educação e Pobre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13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alização reuniões de integração entre o Governador e                    Secret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tângulo 1"/>
          <p:cNvSpPr/>
          <p:nvPr/>
        </p:nvSpPr>
        <p:spPr>
          <a:xfrm>
            <a:off x="0" y="1193760"/>
            <a:ext cx="9042480" cy="5713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1160" y="-23760"/>
          <a:ext cx="9118440" cy="6937200"/>
        </p:xfrm>
        <a:graphic>
          <a:graphicData uri="http://schemas.openxmlformats.org/drawingml/2006/table">
            <a:tbl>
              <a:tblPr/>
              <a:tblGrid>
                <a:gridCol w="3154320"/>
                <a:gridCol w="5964120"/>
              </a:tblGrid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s de Result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d9d9d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os Estrutur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22220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horia da qualidade de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ção da mortalidade materno-infant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moramento e ampliação da atenção primária à saú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ção das taxas de homicíd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o acesso adequado ao sane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ação de interesse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22400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do capital hum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9bec7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a cobertura do ensino infant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ção da qualidade do ensino fundamen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a cobertura e dos padrões de desempenho do ensino méd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a gestão integrada da educaç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ficação profissional orientada para o trabalh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540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dicação da pobreza extrema, redução da pobreza e da desigual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4e87d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desconcentração do invest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e proteção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ão produti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ção do analfabetismo entre os jove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67616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, desconcentração e diversificação econôm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604a7b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ent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ento de micro e pequenos negócios e promoção do empreendedorism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o da produtividade e valor agregado na agropecuá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são e melhoria da infraestrutura de transporte 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o Canal do Sertã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1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são do turismo com foco na infraestrutura e serviços de qua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720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ção na gestão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00487e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2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2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zação dos serviços púb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2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ização dos servi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21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as finanças públ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ização da imagem e mudanças cultur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38160">
                      <a:solidFill>
                        <a:srgbClr val="5bb9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55680" indent="-266760">
                        <a:lnSpc>
                          <a:spcPct val="110000"/>
                        </a:lnSpc>
                        <a:buClr>
                          <a:srgbClr val="595959"/>
                        </a:buClr>
                        <a:buSzPct val="80000"/>
                        <a:buFont typeface="Calibri"/>
                        <a:buAutoNum type="arabicPeriod" startAt="25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ção da cidadania e dos direitos human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PPT_Alagoas_TemPress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2"/>
          <p:cNvSpPr/>
          <p:nvPr/>
        </p:nvSpPr>
        <p:spPr>
          <a:xfrm>
            <a:off x="334800" y="4863960"/>
            <a:ext cx="729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ROJETOS SETORIAIS PRIORIT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7"/>
          <p:cNvSpPr/>
          <p:nvPr/>
        </p:nvSpPr>
        <p:spPr>
          <a:xfrm>
            <a:off x="324000" y="1268280"/>
            <a:ext cx="867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324000" tIns="34200" bIns="34200" anchor="t">
            <a:noAutofit/>
          </a:bodyPr>
          <a:p>
            <a:pPr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ão os principais projetos das secretarias, que terão um foco diferenciado de acompanhamento por parte do monitoramento e controle de me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ff99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omam-se aos projetos estruturantes das secretarias para a obtenção dos resultados finalísticos pactu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Projetos Setoriais Prioritário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Definiçã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PPT_Alagoas_TemPress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334800" y="4863960"/>
            <a:ext cx="729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ONSIDERAÇÕES INI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68640"/>
                <a:gridCol w="6075360"/>
              </a:tblGrid>
              <a:tr h="452520">
                <a:tc>
                  <a:txBody>
                    <a:bodyPr lIns="51480" rIns="51480" tIns="51480" bIns="5148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S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51480" rIns="51480" tIns="51480" bIns="5148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OS SETORIAIS PRIORIT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/>
                    </a:solidFill>
                  </a:tcPr>
                </a:tc>
              </a:tr>
              <a:tr h="446040">
                <a:tc rowSpan="11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horia da qualidade de v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Construção e aparelhamento de 100 Regiões Integradas de Segurança Pública, Áreas Integradas de Segurança Pública e Grupamento Policial Milit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Modernização do Sistema de Gerenciamento das Ações e Operações de Defesa Social (4 Centros Integrados de Operações de Defesa Social –CIODS – construídos e aparelhad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Construção de 1 Centro Integrado de Ressocializ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Construção e aparelhamento da Academia de Ensino e Pesquisa Integrada de Segurança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Aparelhamento para os profissionais da SEDS e Órgãos Vinculad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Recuperação de 1.200 nasc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 Fortalecimento das entidades acolhedoras, reabilitação e reinserção de 5.368 dependentes quím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 Mapeamento de pessoas que tem contato com substâncias psicoativas e realização de eventos de prevenção ao uso das drogas (5.000 dependentes químic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 Fortalecimento das ações de Vigilância à Saúde com a ampliação e estruturação de 312 serviç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 Reestruturação da assistência farmacêutica com produção, aquisição, abastecimento e dispensação de medicamentos para 8.480.000 pesso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 Ampliação e estruturação de 141 serviços ambulatoriais, pré-hospitalares, hospitalares e de apoio a diagnóstico e terapêut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41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adicação da pobreza extrema, redução da pobreza e da desigual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 Promoção da articulação inter e intragovernamental, nas comunidades em vulnerabilida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5640">
                <a:tc>
                  <a:txBody>
                    <a:bodyPr lIns="6840" rIns="6840" tIns="684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ização da imagem e mudanças cultu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17784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 Apoio a realização de eventos culturais – (1.000 Produtores Culturais, Grupos Folclóricos e Tradicionais, Entidades Culturais e sociedade em geral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0" y="-27000"/>
          <a:ext cx="9021600" cy="6888240"/>
        </p:xfrm>
        <a:graphic>
          <a:graphicData uri="http://schemas.openxmlformats.org/drawingml/2006/table">
            <a:tbl>
              <a:tblPr/>
              <a:tblGrid>
                <a:gridCol w="2962440"/>
                <a:gridCol w="6059160"/>
              </a:tblGrid>
              <a:tr h="314280">
                <a:tc>
                  <a:txBody>
                    <a:bodyPr lIns="6840" rIns="6840" tIns="0" bIns="25560" anchor="ctr">
                      <a:noAutofit/>
                    </a:bodyPr>
                    <a:p>
                      <a:pPr marL="73080">
                        <a:lnSpc>
                          <a:spcPct val="15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S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40" rIns="6840" tIns="0" bIns="25560" anchor="ctr">
                      <a:noAutofit/>
                    </a:bodyPr>
                    <a:p>
                      <a:pPr marL="73080">
                        <a:lnSpc>
                          <a:spcPct val="15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OS SETORIAIS PRIORIT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90600">
                <a:tc rowSpan="15">
                  <a:txBody>
                    <a:bodyPr lIns="770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ção na gestão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0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 Elaboração, confecção e distribuição de manual de práticas e procedimentos na gestão públ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 Implantação do Observatório de Despesas Públ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  Redução da Dívida Ativa: seleção dos 2.000 maiores devedo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  Promoção do diálogo entre os três poderes e esferas de gover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  Campanhas e mídias (estimativa de 240 campanha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  Expansão e Interiorização dos veículos de Comunicação do IZ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  Modernização e atualização tecnológica dos veículos de comunicação do IZP e do ECL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 Sinalização digital (estimativa de instalação de 40 aparelhos de TV em órgãos públic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 Implementação do Sistema de Gestão Orientado para Resultado: sistema de gestão informatizado em 336 Unidades Escolares da Rede Estadual, 15 Coordenadorias Regionais de Educação e a Administração Cent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 Implantação do sistema padrão de gestão tributária, orçamentária, financeira e patrimoni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 Implantação da política de tecnologia da inform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 Implantação da Rede de Planejamento entre a SEPLANDE e as setori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  Implementação do Programa Nacional de Apoio a Modernização da Gestão (PNAG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  Implantação do portal Alagoas em dados e inform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  Ampliação, estruturação, geoprocessamento e disseminação da base de inform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>
                  <a:txBody>
                    <a:bodyPr lIns="6840" rIns="6840" tIns="684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do capital hum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  Ampliação e melhoria da oferta para Atendimento Especializado a 4.740 estudantes com deficiênc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8800">
                <a:tc rowSpan="4"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, desconcentração e diversificação econô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 Promoção da inclusão Produtiva e Segurança Alimentar para 280.000 famílias em situação de pobrez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 Instalação e revitalização de 160 módulos de aquicultur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  Implantação do Projeto de Dinamização do Turismo e Sustentabilidade Ambiental do São Francisco - aumento para 55% da taxa média de ocupação em 20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  Projeto de sinalização turística do Estado de Alago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bfbfbf"/>
                      </a:solidFill>
                    </a:lnT>
                    <a:lnB w="4320">
                      <a:solidFill>
                        <a:srgbClr val="bfbfb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PPT_Alagoas_TemPress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2"/>
          <p:cNvSpPr/>
          <p:nvPr/>
        </p:nvSpPr>
        <p:spPr>
          <a:xfrm>
            <a:off x="334800" y="4863960"/>
            <a:ext cx="729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O NOVO 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Desaf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stabelecer para a administração pública, de forma organizada, as estratégias, as diretrizes, os objetivos, as ações e metas que orientarão a aplicação dos recurso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Garantir aderência com o Plano Estratégico e a carteira de projetos estruturant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6121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5392"/>
                </a:solidFill>
                <a:latin typeface="Calibri"/>
              </a:rPr>
              <a:t>O Novo PPA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nclusão de carteira de projetos estruturantes (projetos novos ou em andamento) já na elaboração do PP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lara identificação dos resultados esperados (grandes entregas para sociedad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inel de indicadores setorial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onitoramento dos result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municação para socieda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6121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O Novo PPA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Inovaçõe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tângulo 20"/>
          <p:cNvSpPr/>
          <p:nvPr/>
        </p:nvSpPr>
        <p:spPr>
          <a:xfrm>
            <a:off x="217440" y="1644480"/>
            <a:ext cx="8748720" cy="360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tângulo 4"/>
          <p:cNvSpPr/>
          <p:nvPr/>
        </p:nvSpPr>
        <p:spPr>
          <a:xfrm>
            <a:off x="282600" y="1809720"/>
            <a:ext cx="8578800" cy="647640"/>
          </a:xfrm>
          <a:prstGeom prst="rect">
            <a:avLst/>
          </a:prstGeom>
          <a:solidFill>
            <a:srgbClr val="199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ISÃO DE FUTURO 2022: ALAGOAS É UM LUGAR CADA 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ELHOR DE TRABALHAR, INVESTIR E V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riângulo isósceles 5"/>
          <p:cNvSpPr/>
          <p:nvPr/>
        </p:nvSpPr>
        <p:spPr>
          <a:xfrm>
            <a:off x="4419720" y="2533680"/>
            <a:ext cx="428400" cy="16524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tângulo 6"/>
          <p:cNvSpPr/>
          <p:nvPr/>
        </p:nvSpPr>
        <p:spPr>
          <a:xfrm>
            <a:off x="282600" y="2692440"/>
            <a:ext cx="8578800" cy="647640"/>
          </a:xfrm>
          <a:prstGeom prst="rect">
            <a:avLst/>
          </a:prstGeom>
          <a:solidFill>
            <a:srgbClr val="5bb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LANO ESTRATÉGICO DO GOVERNO (11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riângulo isósceles 7"/>
          <p:cNvSpPr/>
          <p:nvPr/>
        </p:nvSpPr>
        <p:spPr>
          <a:xfrm>
            <a:off x="4419720" y="3378240"/>
            <a:ext cx="428400" cy="16524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tângulo 8"/>
          <p:cNvSpPr/>
          <p:nvPr/>
        </p:nvSpPr>
        <p:spPr>
          <a:xfrm>
            <a:off x="282600" y="3538440"/>
            <a:ext cx="8578800" cy="647640"/>
          </a:xfrm>
          <a:prstGeom prst="rect">
            <a:avLst/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PA 2012-2015 (4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riângulo isósceles 9"/>
          <p:cNvSpPr/>
          <p:nvPr/>
        </p:nvSpPr>
        <p:spPr>
          <a:xfrm>
            <a:off x="4419720" y="4221000"/>
            <a:ext cx="428400" cy="16524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tângulo com Único Canto Aparado 10"/>
          <p:cNvSpPr/>
          <p:nvPr/>
        </p:nvSpPr>
        <p:spPr>
          <a:xfrm>
            <a:off x="200160" y="4529160"/>
            <a:ext cx="1038240" cy="576360"/>
          </a:xfrm>
          <a:prstGeom prst="pie">
            <a:avLst/>
          </a:prstGeom>
          <a:solidFill>
            <a:srgbClr val="09be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CRETARIA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tângulo com Único Canto Aparado 11"/>
          <p:cNvSpPr/>
          <p:nvPr/>
        </p:nvSpPr>
        <p:spPr>
          <a:xfrm>
            <a:off x="1424160" y="4529160"/>
            <a:ext cx="1039680" cy="576360"/>
          </a:xfrm>
          <a:prstGeom prst="pie">
            <a:avLst/>
          </a:prstGeom>
          <a:solidFill>
            <a:srgbClr val="09be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CRETARIA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tângulo com Único Canto Aparado 12"/>
          <p:cNvSpPr/>
          <p:nvPr/>
        </p:nvSpPr>
        <p:spPr>
          <a:xfrm>
            <a:off x="2647800" y="4529160"/>
            <a:ext cx="1040040" cy="576360"/>
          </a:xfrm>
          <a:prstGeom prst="pie">
            <a:avLst/>
          </a:prstGeom>
          <a:solidFill>
            <a:srgbClr val="09be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CRETARIA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tângulo com Único Canto Aparado 13"/>
          <p:cNvSpPr/>
          <p:nvPr/>
        </p:nvSpPr>
        <p:spPr>
          <a:xfrm>
            <a:off x="7824960" y="4529160"/>
            <a:ext cx="1037880" cy="576360"/>
          </a:xfrm>
          <a:prstGeom prst="pie">
            <a:avLst/>
          </a:prstGeom>
          <a:solidFill>
            <a:srgbClr val="09be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ECRETARIA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ítulo 1"/>
          <p:cNvSpPr/>
          <p:nvPr/>
        </p:nvSpPr>
        <p:spPr>
          <a:xfrm>
            <a:off x="250920" y="228600"/>
            <a:ext cx="612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  <a:ea typeface="MS PGothic"/>
              </a:rPr>
              <a:t>O novo PPA</a:t>
            </a:r>
            <a:br>
              <a:rPr sz="28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  <a:ea typeface="MS PGothic"/>
              </a:rPr>
              <a:t>Visão de conju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onector reto 3"/>
          <p:cNvSpPr/>
          <p:nvPr/>
        </p:nvSpPr>
        <p:spPr>
          <a:xfrm>
            <a:off x="343080" y="4386240"/>
            <a:ext cx="83660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onector reto 24"/>
          <p:cNvSpPr/>
          <p:nvPr/>
        </p:nvSpPr>
        <p:spPr>
          <a:xfrm>
            <a:off x="3881520" y="4808520"/>
            <a:ext cx="3805200" cy="0"/>
          </a:xfrm>
          <a:prstGeom prst="line">
            <a:avLst/>
          </a:prstGeom>
          <a:ln w="2844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5392"/>
                </a:solidFill>
                <a:latin typeface="Calibri"/>
              </a:rPr>
              <a:t>O Novo PPA 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Processo de elaboração do PPA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41" name="Retângulo 5"/>
          <p:cNvSpPr/>
          <p:nvPr/>
        </p:nvSpPr>
        <p:spPr>
          <a:xfrm>
            <a:off x="527040" y="1736640"/>
            <a:ext cx="8153280" cy="5317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RTEIRA DE PROJETOS ESTRUTU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tângulo 6"/>
          <p:cNvSpPr/>
          <p:nvPr/>
        </p:nvSpPr>
        <p:spPr>
          <a:xfrm>
            <a:off x="527040" y="3044880"/>
            <a:ext cx="8153280" cy="546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SULTADOS SETORI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tângulo 7"/>
          <p:cNvSpPr/>
          <p:nvPr/>
        </p:nvSpPr>
        <p:spPr>
          <a:xfrm>
            <a:off x="527040" y="2390760"/>
            <a:ext cx="8147160" cy="5335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SULTADOS DE GOVERNO (ME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tângulo 8"/>
          <p:cNvSpPr/>
          <p:nvPr/>
        </p:nvSpPr>
        <p:spPr>
          <a:xfrm>
            <a:off x="527040" y="5025960"/>
            <a:ext cx="8153280" cy="542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ISTEMA INFORMATIZADO DE ACOMPANH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tângulo 14"/>
          <p:cNvSpPr/>
          <p:nvPr/>
        </p:nvSpPr>
        <p:spPr>
          <a:xfrm>
            <a:off x="527040" y="3713040"/>
            <a:ext cx="8147160" cy="5349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DICADORES SETO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tângulo 15"/>
          <p:cNvSpPr/>
          <p:nvPr/>
        </p:nvSpPr>
        <p:spPr>
          <a:xfrm>
            <a:off x="527040" y="4368960"/>
            <a:ext cx="8147160" cy="5349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41520" indent="-193680">
              <a:lnSpc>
                <a:spcPct val="120000"/>
              </a:lnSpc>
              <a:buClr>
                <a:srgbClr val="09bec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GRAMAS E AÇÕES SETO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tângulo de cantos arredondados 11"/>
          <p:cNvSpPr/>
          <p:nvPr/>
        </p:nvSpPr>
        <p:spPr>
          <a:xfrm rot="16200000">
            <a:off x="-1418040" y="3420360"/>
            <a:ext cx="4092480" cy="534960"/>
          </a:xfrm>
          <a:prstGeom prst="roundRect">
            <a:avLst>
              <a:gd name="adj" fmla="val 16667"/>
            </a:avLst>
          </a:prstGeom>
          <a:solidFill>
            <a:srgbClr val="00487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Principais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ítulo 1"/>
          <p:cNvSpPr/>
          <p:nvPr/>
        </p:nvSpPr>
        <p:spPr>
          <a:xfrm>
            <a:off x="212760" y="1233360"/>
            <a:ext cx="8739000" cy="324000"/>
          </a:xfrm>
          <a:prstGeom prst="rect">
            <a:avLst/>
          </a:prstGeom>
          <a:solidFill>
            <a:srgbClr val="d1d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595959"/>
                </a:solidFill>
                <a:latin typeface="Calibri"/>
              </a:rPr>
              <a:t>PRINCIPAIS PROD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Como chegamos até aqui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50" name="Retângulo de cantos arredondados 5"/>
          <p:cNvSpPr/>
          <p:nvPr/>
        </p:nvSpPr>
        <p:spPr>
          <a:xfrm>
            <a:off x="2583000" y="1130400"/>
            <a:ext cx="2158920" cy="64764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6 ÁREAS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Conector de seta reta 7"/>
          <p:cNvCxnSpPr>
            <a:stCxn id="450" idx="2"/>
            <a:endCxn id="452" idx="0"/>
          </p:cNvCxnSpPr>
          <p:nvPr/>
        </p:nvCxnSpPr>
        <p:spPr>
          <a:xfrm flipH="1">
            <a:off x="3661560" y="1778040"/>
            <a:ext cx="2520" cy="218160"/>
          </a:xfrm>
          <a:prstGeom prst="straightConnector1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sp>
        <p:nvSpPr>
          <p:cNvPr id="452" name="Retângulo de cantos arredondados 8"/>
          <p:cNvSpPr/>
          <p:nvPr/>
        </p:nvSpPr>
        <p:spPr>
          <a:xfrm>
            <a:off x="2583000" y="1994040"/>
            <a:ext cx="2158920" cy="647640"/>
          </a:xfrm>
          <a:prstGeom prst="roundRect">
            <a:avLst>
              <a:gd name="adj" fmla="val 50000"/>
            </a:avLst>
          </a:prstGeom>
          <a:solidFill>
            <a:srgbClr val="17375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46 ESTRATÉGIAS DE MÉDIO PR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Conector de seta reta 9"/>
          <p:cNvCxnSpPr>
            <a:stCxn id="452" idx="2"/>
            <a:endCxn id="454" idx="0"/>
          </p:cNvCxnSpPr>
          <p:nvPr/>
        </p:nvCxnSpPr>
        <p:spPr>
          <a:xfrm flipH="1">
            <a:off x="3661560" y="2643120"/>
            <a:ext cx="2520" cy="226080"/>
          </a:xfrm>
          <a:prstGeom prst="straightConnector1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sp>
        <p:nvSpPr>
          <p:cNvPr id="454" name="Retângulo de cantos arredondados 10"/>
          <p:cNvSpPr/>
          <p:nvPr/>
        </p:nvSpPr>
        <p:spPr>
          <a:xfrm>
            <a:off x="2583000" y="2867040"/>
            <a:ext cx="2158920" cy="647640"/>
          </a:xfrm>
          <a:prstGeom prst="roundRect">
            <a:avLst>
              <a:gd name="adj" fmla="val 50000"/>
            </a:avLst>
          </a:prstGeom>
          <a:solidFill>
            <a:srgbClr val="17375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21 ESTRATÉGIAS PRIORIZ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tângulo de cantos arredondados 12"/>
          <p:cNvSpPr/>
          <p:nvPr/>
        </p:nvSpPr>
        <p:spPr>
          <a:xfrm>
            <a:off x="892080" y="4807080"/>
            <a:ext cx="2398680" cy="576000"/>
          </a:xfrm>
          <a:prstGeom prst="roundRect">
            <a:avLst>
              <a:gd name="adj" fmla="val 50000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68 ENTREGAS PRIORIZA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tângulo de cantos arredondados 13"/>
          <p:cNvSpPr/>
          <p:nvPr/>
        </p:nvSpPr>
        <p:spPr>
          <a:xfrm>
            <a:off x="892080" y="3887640"/>
            <a:ext cx="2398680" cy="615960"/>
          </a:xfrm>
          <a:prstGeom prst="roundRect">
            <a:avLst>
              <a:gd name="adj" fmla="val 50000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25 PROJETOS ESTRUTUR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ângulo de cantos arredondados 15"/>
          <p:cNvSpPr/>
          <p:nvPr/>
        </p:nvSpPr>
        <p:spPr>
          <a:xfrm>
            <a:off x="4114800" y="3878280"/>
            <a:ext cx="2397240" cy="611280"/>
          </a:xfrm>
          <a:prstGeom prst="roundRect">
            <a:avLst>
              <a:gd name="adj" fmla="val 50000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AGENDA SETOR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tângulo de cantos arredondados 17"/>
          <p:cNvSpPr/>
          <p:nvPr/>
        </p:nvSpPr>
        <p:spPr>
          <a:xfrm>
            <a:off x="2600280" y="5707080"/>
            <a:ext cx="2228760" cy="647640"/>
          </a:xfrm>
          <a:prstGeom prst="roundRect">
            <a:avLst>
              <a:gd name="adj" fmla="val 50000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1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ENTREGAS PRIORITÁRIAS DE GOV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tângulo de cantos arredondados 20"/>
          <p:cNvSpPr/>
          <p:nvPr/>
        </p:nvSpPr>
        <p:spPr>
          <a:xfrm>
            <a:off x="5110200" y="1536840"/>
            <a:ext cx="2158920" cy="649080"/>
          </a:xfrm>
          <a:prstGeom prst="roundRect">
            <a:avLst>
              <a:gd name="adj" fmla="val 50000"/>
            </a:avLst>
          </a:prstGeom>
          <a:solidFill>
            <a:srgbClr val="17375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14 INDICADORES PRIORIT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tângulo de cantos arredondados 30"/>
          <p:cNvSpPr/>
          <p:nvPr/>
        </p:nvSpPr>
        <p:spPr>
          <a:xfrm>
            <a:off x="5110200" y="2455920"/>
            <a:ext cx="2158920" cy="647640"/>
          </a:xfrm>
          <a:prstGeom prst="roundRect">
            <a:avLst>
              <a:gd name="adj" fmla="val 50000"/>
            </a:avLst>
          </a:prstGeom>
          <a:solidFill>
            <a:srgbClr val="17375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METAS DE GOVERNO 2014 E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Conector de seta reta 49"/>
          <p:cNvCxnSpPr>
            <a:stCxn id="456" idx="2"/>
            <a:endCxn id="455" idx="0"/>
          </p:cNvCxnSpPr>
          <p:nvPr/>
        </p:nvCxnSpPr>
        <p:spPr>
          <a:xfrm flipH="1">
            <a:off x="2090520" y="4503240"/>
            <a:ext cx="2160" cy="304200"/>
          </a:xfrm>
          <a:prstGeom prst="straightConnector1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2" name="Conector angulado 53"/>
          <p:cNvCxnSpPr>
            <a:stCxn id="454" idx="2"/>
            <a:endCxn id="457" idx="0"/>
          </p:cNvCxnSpPr>
          <p:nvPr/>
        </p:nvCxnSpPr>
        <p:spPr>
          <a:xfrm flipH="1" rot="16200000">
            <a:off x="4305960" y="2870640"/>
            <a:ext cx="364320" cy="1651680"/>
          </a:xfrm>
          <a:prstGeom prst="bentConnector3">
            <a:avLst>
              <a:gd name="adj1" fmla="val 49950"/>
            </a:avLst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sp>
        <p:nvSpPr>
          <p:cNvPr id="463" name="Retângulo de cantos arredondados 60"/>
          <p:cNvSpPr/>
          <p:nvPr/>
        </p:nvSpPr>
        <p:spPr>
          <a:xfrm>
            <a:off x="4116240" y="4819680"/>
            <a:ext cx="2399040" cy="576360"/>
          </a:xfrm>
          <a:prstGeom prst="roundRect">
            <a:avLst>
              <a:gd name="adj" fmla="val 50000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Calibri"/>
              </a:rPr>
              <a:t>33 PROJETOS SETORIAIS PRIORITÁ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Conector de seta reta 61"/>
          <p:cNvCxnSpPr>
            <a:stCxn id="457" idx="2"/>
            <a:endCxn id="463" idx="0"/>
          </p:cNvCxnSpPr>
          <p:nvPr/>
        </p:nvCxnSpPr>
        <p:spPr>
          <a:xfrm>
            <a:off x="5312160" y="4489200"/>
            <a:ext cx="3960" cy="330840"/>
          </a:xfrm>
          <a:prstGeom prst="straightConnector1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5" name="Conector angulado 64"/>
          <p:cNvCxnSpPr>
            <a:stCxn id="455" idx="2"/>
            <a:endCxn id="458" idx="1"/>
          </p:cNvCxnSpPr>
          <p:nvPr/>
        </p:nvCxnSpPr>
        <p:spPr>
          <a:xfrm flipH="1" rot="16200000">
            <a:off x="2020680" y="5452200"/>
            <a:ext cx="648360" cy="510120"/>
          </a:xfrm>
          <a:prstGeom prst="bentConnector2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6" name="Conector angulado 64"/>
          <p:cNvCxnSpPr/>
          <p:nvPr/>
        </p:nvCxnSpPr>
        <p:spPr>
          <a:xfrm rot="5400000">
            <a:off x="4751280" y="5469840"/>
            <a:ext cx="635760" cy="487800"/>
          </a:xfrm>
          <a:prstGeom prst="bentConnector2">
            <a:avLst/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7" name="Conector angulado 35"/>
          <p:cNvCxnSpPr>
            <a:stCxn id="452" idx="3"/>
            <a:endCxn id="459" idx="1"/>
          </p:cNvCxnSpPr>
          <p:nvPr/>
        </p:nvCxnSpPr>
        <p:spPr>
          <a:xfrm flipV="1">
            <a:off x="4741560" y="1860120"/>
            <a:ext cx="369000" cy="457920"/>
          </a:xfrm>
          <a:prstGeom prst="bentConnector3">
            <a:avLst>
              <a:gd name="adj1" fmla="val 50000"/>
            </a:avLst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8" name="Conector angulado 38"/>
          <p:cNvCxnSpPr>
            <a:stCxn id="452" idx="3"/>
            <a:endCxn id="460" idx="1"/>
          </p:cNvCxnSpPr>
          <p:nvPr/>
        </p:nvCxnSpPr>
        <p:spPr>
          <a:xfrm>
            <a:off x="4741560" y="2317320"/>
            <a:ext cx="369000" cy="462600"/>
          </a:xfrm>
          <a:prstGeom prst="bentConnector3">
            <a:avLst>
              <a:gd name="adj1" fmla="val 50000"/>
            </a:avLst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  <p:cxnSp>
        <p:nvCxnSpPr>
          <p:cNvPr id="469" name="Conector angulado 41"/>
          <p:cNvCxnSpPr>
            <a:stCxn id="454" idx="2"/>
            <a:endCxn id="456" idx="0"/>
          </p:cNvCxnSpPr>
          <p:nvPr/>
        </p:nvCxnSpPr>
        <p:spPr>
          <a:xfrm rot="5400000">
            <a:off x="2689200" y="2915280"/>
            <a:ext cx="373680" cy="1572120"/>
          </a:xfrm>
          <a:prstGeom prst="bentConnector3">
            <a:avLst>
              <a:gd name="adj1" fmla="val 49951"/>
            </a:avLst>
          </a:prstGeom>
          <a:ln w="28440">
            <a:solidFill>
              <a:srgbClr val="003366"/>
            </a:solidFill>
            <a:miter/>
            <a:tailEnd len="sm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61960" y="4362120"/>
            <a:ext cx="517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CONTROLE DE METAS E RESULTADO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Calibri"/>
              </a:rPr>
              <a:t>Controle de Meta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 Objetivo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95360" y="1447920"/>
            <a:ext cx="81914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nitorar sistematicamente o alcance das metas e andamento dos projetos e ações de forma pro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ver informações organizadas e acessíveis em tempo real, com consistência, rastreabilidade, confiabilidade e integri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dentificar eventuais gargalos de processos que possam impactar nos resultados (análise de causa x efeit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car na resolução de problemas críticos do  Est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ubsidiar o Governador e Secretários na tomada de deci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ibuir para a transparência  da gest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Conceit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5360" y="1596960"/>
            <a:ext cx="81914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É uma estratégia de gestão, centrada no  desempenho da Administração Pública, que orienta o Governo para o alcance dos result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Inclui ferramentas    como: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Planejamento Estratégico, Programação e Execução Orçamentária, Monitoramento e Avaliação dos Resultad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Calibri"/>
              </a:rPr>
              <a:t>Controle de Metas </a:t>
            </a:r>
            <a:br>
              <a:rPr sz="1800"/>
            </a:br>
            <a:r>
              <a:rPr b="1" lang="pt-BR" sz="2800" spc="-1" strike="noStrike">
                <a:solidFill>
                  <a:srgbClr val="336699"/>
                </a:solidFill>
                <a:latin typeface="Calibri"/>
              </a:rPr>
              <a:t>O que será monitorad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74" name="Arredondar Retângulo no Mesmo Canto Lateral 4"/>
          <p:cNvSpPr/>
          <p:nvPr/>
        </p:nvSpPr>
        <p:spPr>
          <a:xfrm>
            <a:off x="2832120" y="1671480"/>
            <a:ext cx="5927760" cy="6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7680" rIns="247680" tIns="123840" bIns="12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Monitoramento de indicadores importantes em 9 áreas para determinar o avanço do estado em todas as vert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tângulo de cantos arredondados 73"/>
          <p:cNvSpPr/>
          <p:nvPr/>
        </p:nvSpPr>
        <p:spPr>
          <a:xfrm>
            <a:off x="326880" y="1608120"/>
            <a:ext cx="2695680" cy="725400"/>
          </a:xfrm>
          <a:prstGeom prst="roundRect">
            <a:avLst>
              <a:gd name="adj" fmla="val 16667"/>
            </a:avLst>
          </a:prstGeom>
          <a:solidFill>
            <a:srgbClr val="00539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INDICADORES SOCIOECONÔMICOS DE ALAG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rredondar Retângulo no Mesmo Canto Lateral 8"/>
          <p:cNvSpPr/>
          <p:nvPr/>
        </p:nvSpPr>
        <p:spPr>
          <a:xfrm>
            <a:off x="2832120" y="2390760"/>
            <a:ext cx="5927760" cy="61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7680" rIns="247680" tIns="123840" bIns="12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Monitoramento de 14 indicadores prioritários selecionados pelo Governador ligados as áreas de result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tângulo de cantos arredondados 69"/>
          <p:cNvSpPr/>
          <p:nvPr/>
        </p:nvSpPr>
        <p:spPr>
          <a:xfrm>
            <a:off x="326880" y="2382840"/>
            <a:ext cx="2695680" cy="620640"/>
          </a:xfrm>
          <a:prstGeom prst="roundRect">
            <a:avLst>
              <a:gd name="adj" fmla="val 16667"/>
            </a:avLst>
          </a:prstGeom>
          <a:solidFill>
            <a:srgbClr val="0067b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ESULTADOS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rredondar Retângulo no Mesmo Canto Lateral 12"/>
          <p:cNvSpPr/>
          <p:nvPr/>
        </p:nvSpPr>
        <p:spPr>
          <a:xfrm>
            <a:off x="2832120" y="3111480"/>
            <a:ext cx="5927760" cy="6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7680" rIns="247680" tIns="123840" bIns="12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onitoramento dos resultados, metas físicas, execução física e financeira e restrições dos projetos estrutu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tângulo de cantos arredondados 65"/>
          <p:cNvSpPr/>
          <p:nvPr/>
        </p:nvSpPr>
        <p:spPr>
          <a:xfrm>
            <a:off x="326880" y="3090960"/>
            <a:ext cx="2695680" cy="622080"/>
          </a:xfrm>
          <a:prstGeom prst="roundRect">
            <a:avLst>
              <a:gd name="adj" fmla="val 16667"/>
            </a:avLst>
          </a:prstGeom>
          <a:solidFill>
            <a:srgbClr val="0081e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DESEMPENHO DA CARTEIRA DE PROJETOS ESTRUTU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rredondar Retângulo no Mesmo Canto Lateral 16"/>
          <p:cNvSpPr/>
          <p:nvPr/>
        </p:nvSpPr>
        <p:spPr>
          <a:xfrm>
            <a:off x="2832120" y="3832200"/>
            <a:ext cx="5927760" cy="61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7680" rIns="247680" tIns="123840" bIns="12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onitoramento das grandes entregas setoriais pactuadas nos acordo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tângulo de cantos arredondados 61"/>
          <p:cNvSpPr/>
          <p:nvPr/>
        </p:nvSpPr>
        <p:spPr>
          <a:xfrm>
            <a:off x="326880" y="3800520"/>
            <a:ext cx="2695680" cy="620640"/>
          </a:xfrm>
          <a:prstGeom prst="roundRect">
            <a:avLst>
              <a:gd name="adj" fmla="val 16667"/>
            </a:avLst>
          </a:prstGeom>
          <a:solidFill>
            <a:srgbClr val="199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SULTADOS SETO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rredondar Retângulo no Mesmo Canto Lateral 20"/>
          <p:cNvSpPr/>
          <p:nvPr/>
        </p:nvSpPr>
        <p:spPr>
          <a:xfrm>
            <a:off x="2832120" y="4552920"/>
            <a:ext cx="5927760" cy="6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7680" rIns="247680" tIns="123840" bIns="12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onitoramento de indicadores relevantes para as seto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tângulo de cantos arredondados 57"/>
          <p:cNvSpPr/>
          <p:nvPr/>
        </p:nvSpPr>
        <p:spPr>
          <a:xfrm>
            <a:off x="326880" y="4521240"/>
            <a:ext cx="2695680" cy="622440"/>
          </a:xfrm>
          <a:prstGeom prst="roundRect">
            <a:avLst>
              <a:gd name="adj" fmla="val 16667"/>
            </a:avLst>
          </a:prstGeom>
          <a:solidFill>
            <a:srgbClr val="5bb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NDICADORES SETO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Calibri"/>
              </a:rPr>
              <a:t>Controle de Metas</a:t>
            </a:r>
            <a:br>
              <a:rPr sz="2000"/>
            </a:b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 Como será monitorad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95360" y="1337760"/>
            <a:ext cx="8191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stema informatizado: resultados, metas físicas, execução física e financeira e restrições dos proje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missão de alertas e relatórios para toda a cadeia decisó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ês tipos de reuniões, todas organizadas pela SEPLA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uniões gerenciais: reuniões e/ou visitas de campo com os gerentes dos projetos estrutur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uniões setoriais: com o gerente de projeto estruturante e respectivo Secretá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003e6c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uniões estratégicas: com gerentes de projetos estruturantes, Secretários e Governador, na Sala de Situ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20000"/>
              </a:lnSpc>
              <a:spcBef>
                <a:spcPts val="24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ítulo 1"/>
          <p:cNvSpPr/>
          <p:nvPr/>
        </p:nvSpPr>
        <p:spPr>
          <a:xfrm>
            <a:off x="250920" y="233280"/>
            <a:ext cx="8510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Calibri"/>
              </a:rPr>
              <a:t>Controle de Metas</a:t>
            </a:r>
            <a:br>
              <a:rPr sz="2800"/>
            </a:br>
            <a:r>
              <a:rPr b="0" lang="pt-BR" sz="2800" spc="-1" strike="noStrike">
                <a:solidFill>
                  <a:srgbClr val="336699"/>
                </a:solidFill>
                <a:latin typeface="Calibri"/>
              </a:rPr>
              <a:t>1. </a:t>
            </a:r>
            <a:r>
              <a:rPr b="1" lang="pt-BR" sz="2600" spc="-1" strike="noStrike">
                <a:solidFill>
                  <a:srgbClr val="336699"/>
                </a:solidFill>
                <a:latin typeface="Calibri"/>
              </a:rPr>
              <a:t>Sala de Controle de Metas – Estrutura funcional propo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tângulo de cantos arredondados 4"/>
          <p:cNvSpPr/>
          <p:nvPr/>
        </p:nvSpPr>
        <p:spPr>
          <a:xfrm>
            <a:off x="1117440" y="1501920"/>
            <a:ext cx="1000440" cy="428400"/>
          </a:xfrm>
          <a:prstGeom prst="roundRect">
            <a:avLst>
              <a:gd name="adj" fmla="val 16667"/>
            </a:avLst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Retângulo de cantos arredondados 5"/>
          <p:cNvGrpSpPr/>
          <p:nvPr/>
        </p:nvGrpSpPr>
        <p:grpSpPr>
          <a:xfrm>
            <a:off x="633240" y="2328840"/>
            <a:ext cx="7042320" cy="3681360"/>
            <a:chOff x="633240" y="2328840"/>
            <a:chExt cx="7042320" cy="3681360"/>
          </a:xfrm>
        </p:grpSpPr>
        <p:pic>
          <p:nvPicPr>
            <p:cNvPr id="489" name="Retângulo de cantos arredondados 5" descr=""/>
            <p:cNvPicPr/>
            <p:nvPr/>
          </p:nvPicPr>
          <p:blipFill>
            <a:blip r:embed="rId1"/>
            <a:stretch/>
          </p:blipFill>
          <p:spPr>
            <a:xfrm>
              <a:off x="633240" y="2328840"/>
              <a:ext cx="7042320" cy="36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863640" y="2533680"/>
              <a:ext cx="6580080" cy="32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Retângulo de cantos arredondados 6"/>
          <p:cNvSpPr/>
          <p:nvPr/>
        </p:nvSpPr>
        <p:spPr>
          <a:xfrm>
            <a:off x="1046160" y="2644920"/>
            <a:ext cx="6286680" cy="914400"/>
          </a:xfrm>
          <a:prstGeom prst="roundRect">
            <a:avLst>
              <a:gd name="adj" fmla="val 16667"/>
            </a:avLst>
          </a:prstGeom>
          <a:solidFill>
            <a:srgbClr val="00539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MONITORES DE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tângulo de cantos arredondados 7"/>
          <p:cNvSpPr/>
          <p:nvPr/>
        </p:nvSpPr>
        <p:spPr>
          <a:xfrm>
            <a:off x="1046160" y="387360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0067b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CONTROLE DE 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de cantos arredondados 8"/>
          <p:cNvSpPr/>
          <p:nvPr/>
        </p:nvSpPr>
        <p:spPr>
          <a:xfrm>
            <a:off x="3189240" y="385920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0081e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CONTROLE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de cantos arredondados 9"/>
          <p:cNvSpPr/>
          <p:nvPr/>
        </p:nvSpPr>
        <p:spPr>
          <a:xfrm>
            <a:off x="5332320" y="385920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199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MUN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de cantos arredondados 10"/>
          <p:cNvSpPr/>
          <p:nvPr/>
        </p:nvSpPr>
        <p:spPr>
          <a:xfrm>
            <a:off x="1046160" y="5145120"/>
            <a:ext cx="6286680" cy="500040"/>
          </a:xfrm>
          <a:prstGeom prst="roundRect">
            <a:avLst>
              <a:gd name="adj" fmla="val 16667"/>
            </a:avLst>
          </a:prstGeom>
          <a:solidFill>
            <a:srgbClr val="5bb9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NTROLE DA 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Conector de seta reta 11"/>
          <p:cNvCxnSpPr/>
          <p:nvPr/>
        </p:nvCxnSpPr>
        <p:spPr>
          <a:xfrm>
            <a:off x="1617480" y="1929960"/>
            <a:ext cx="5007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Conector de seta reta 12"/>
          <p:cNvCxnSpPr/>
          <p:nvPr/>
        </p:nvCxnSpPr>
        <p:spPr>
          <a:xfrm flipH="1">
            <a:off x="2903040" y="1929960"/>
            <a:ext cx="2152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Conector de seta reta 13"/>
          <p:cNvCxnSpPr/>
          <p:nvPr/>
        </p:nvCxnSpPr>
        <p:spPr>
          <a:xfrm flipH="1">
            <a:off x="4046040" y="1929960"/>
            <a:ext cx="38664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Conector de seta reta 14"/>
          <p:cNvCxnSpPr/>
          <p:nvPr/>
        </p:nvCxnSpPr>
        <p:spPr>
          <a:xfrm flipH="1">
            <a:off x="6474600" y="1929960"/>
            <a:ext cx="4294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0" name="Conector de seta reta 15"/>
          <p:cNvCxnSpPr/>
          <p:nvPr/>
        </p:nvCxnSpPr>
        <p:spPr>
          <a:xfrm flipH="1">
            <a:off x="1972440" y="3574800"/>
            <a:ext cx="252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1" name="Conector de seta reta 16"/>
          <p:cNvCxnSpPr/>
          <p:nvPr/>
        </p:nvCxnSpPr>
        <p:spPr>
          <a:xfrm flipH="1">
            <a:off x="4187520" y="357336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2" name="Conector de seta reta 17"/>
          <p:cNvCxnSpPr/>
          <p:nvPr/>
        </p:nvCxnSpPr>
        <p:spPr>
          <a:xfrm flipV="1">
            <a:off x="6259680" y="3574440"/>
            <a:ext cx="21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3" name="Conector de seta reta 18"/>
          <p:cNvCxnSpPr/>
          <p:nvPr/>
        </p:nvCxnSpPr>
        <p:spPr>
          <a:xfrm flipV="1">
            <a:off x="2045160" y="47890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Conector de seta reta 19"/>
          <p:cNvCxnSpPr/>
          <p:nvPr/>
        </p:nvCxnSpPr>
        <p:spPr>
          <a:xfrm flipV="1">
            <a:off x="4115160" y="47876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5" name="Conector de seta reta 20"/>
          <p:cNvCxnSpPr/>
          <p:nvPr/>
        </p:nvCxnSpPr>
        <p:spPr>
          <a:xfrm flipV="1">
            <a:off x="6331320" y="47876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Retângulo de cantos arredondados 21"/>
          <p:cNvSpPr/>
          <p:nvPr/>
        </p:nvSpPr>
        <p:spPr>
          <a:xfrm>
            <a:off x="2689200" y="1501920"/>
            <a:ext cx="1000080" cy="428400"/>
          </a:xfrm>
          <a:prstGeom prst="roundRect">
            <a:avLst>
              <a:gd name="adj" fmla="val 16667"/>
            </a:avLst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tângulo de cantos arredondados 22"/>
          <p:cNvSpPr/>
          <p:nvPr/>
        </p:nvSpPr>
        <p:spPr>
          <a:xfrm>
            <a:off x="3932280" y="1501920"/>
            <a:ext cx="1000080" cy="428400"/>
          </a:xfrm>
          <a:prstGeom prst="roundRect">
            <a:avLst>
              <a:gd name="adj" fmla="val 16667"/>
            </a:avLst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C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tângulo de cantos arredondados 23"/>
          <p:cNvSpPr/>
          <p:nvPr/>
        </p:nvSpPr>
        <p:spPr>
          <a:xfrm>
            <a:off x="6556320" y="15048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24"/>
          <p:cNvSpPr/>
          <p:nvPr/>
        </p:nvSpPr>
        <p:spPr>
          <a:xfrm>
            <a:off x="5251320" y="1501920"/>
            <a:ext cx="1000080" cy="428400"/>
          </a:xfrm>
          <a:prstGeom prst="roundRect">
            <a:avLst>
              <a:gd name="adj" fmla="val 16667"/>
            </a:avLst>
          </a:prstGeom>
          <a:solidFill>
            <a:srgbClr val="9bd4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C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Conector de seta reta 25"/>
          <p:cNvCxnSpPr/>
          <p:nvPr/>
        </p:nvCxnSpPr>
        <p:spPr>
          <a:xfrm flipH="1">
            <a:off x="5331960" y="1930320"/>
            <a:ext cx="4197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Fatores críticos de sucess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pic>
        <p:nvPicPr>
          <p:cNvPr id="512" name="Diagrama 6" descr=""/>
          <p:cNvPicPr/>
          <p:nvPr/>
        </p:nvPicPr>
        <p:blipFill>
          <a:blip r:embed="rId1"/>
          <a:stretch/>
        </p:blipFill>
        <p:spPr>
          <a:xfrm>
            <a:off x="371520" y="1444680"/>
            <a:ext cx="8407440" cy="1170000"/>
          </a:xfrm>
          <a:prstGeom prst="rect">
            <a:avLst/>
          </a:prstGeom>
          <a:ln w="0">
            <a:noFill/>
          </a:ln>
        </p:spPr>
      </p:pic>
      <p:pic>
        <p:nvPicPr>
          <p:cNvPr id="513" name="Triângulo isósceles 5" descr=""/>
          <p:cNvPicPr/>
          <p:nvPr/>
        </p:nvPicPr>
        <p:blipFill>
          <a:blip r:embed="rId2"/>
          <a:stretch/>
        </p:blipFill>
        <p:spPr>
          <a:xfrm>
            <a:off x="334800" y="1682640"/>
            <a:ext cx="543240" cy="663840"/>
          </a:xfrm>
          <a:prstGeom prst="rect">
            <a:avLst/>
          </a:prstGeom>
          <a:ln w="0">
            <a:noFill/>
          </a:ln>
        </p:spPr>
      </p:pic>
      <p:pic>
        <p:nvPicPr>
          <p:cNvPr id="514" name="Triângulo isósceles 9" descr=""/>
          <p:cNvPicPr/>
          <p:nvPr/>
        </p:nvPicPr>
        <p:blipFill>
          <a:blip r:embed="rId3"/>
          <a:stretch/>
        </p:blipFill>
        <p:spPr>
          <a:xfrm>
            <a:off x="3181320" y="1682640"/>
            <a:ext cx="542880" cy="663840"/>
          </a:xfrm>
          <a:prstGeom prst="rect">
            <a:avLst/>
          </a:prstGeom>
          <a:ln w="0">
            <a:noFill/>
          </a:ln>
        </p:spPr>
      </p:pic>
      <p:pic>
        <p:nvPicPr>
          <p:cNvPr id="515" name="Triângulo isósceles 10" descr=""/>
          <p:cNvPicPr/>
          <p:nvPr/>
        </p:nvPicPr>
        <p:blipFill>
          <a:blip r:embed="rId4"/>
          <a:stretch/>
        </p:blipFill>
        <p:spPr>
          <a:xfrm>
            <a:off x="6046920" y="1682640"/>
            <a:ext cx="542880" cy="663840"/>
          </a:xfrm>
          <a:prstGeom prst="rect">
            <a:avLst/>
          </a:prstGeom>
          <a:ln w="0">
            <a:noFill/>
          </a:ln>
        </p:spPr>
      </p:pic>
      <p:sp>
        <p:nvSpPr>
          <p:cNvPr id="516" name="Seta para baixo 11"/>
          <p:cNvSpPr/>
          <p:nvPr/>
        </p:nvSpPr>
        <p:spPr>
          <a:xfrm>
            <a:off x="1368360" y="2709720"/>
            <a:ext cx="523800" cy="156240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eta para baixo 12"/>
          <p:cNvSpPr/>
          <p:nvPr/>
        </p:nvSpPr>
        <p:spPr>
          <a:xfrm>
            <a:off x="4213080" y="2709720"/>
            <a:ext cx="524160" cy="1562400"/>
          </a:xfrm>
          <a:prstGeom prst="downArrow">
            <a:avLst>
              <a:gd name="adj1" fmla="val 50000"/>
              <a:gd name="adj2" fmla="val 4998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eta para baixo 13"/>
          <p:cNvSpPr/>
          <p:nvPr/>
        </p:nvSpPr>
        <p:spPr>
          <a:xfrm>
            <a:off x="7047000" y="2709720"/>
            <a:ext cx="523800" cy="156240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Retângulo 15" descr=""/>
          <p:cNvPicPr/>
          <p:nvPr/>
        </p:nvPicPr>
        <p:blipFill>
          <a:blip r:embed="rId5"/>
          <a:stretch/>
        </p:blipFill>
        <p:spPr>
          <a:xfrm>
            <a:off x="609480" y="4419720"/>
            <a:ext cx="2127240" cy="645840"/>
          </a:xfrm>
          <a:prstGeom prst="rect">
            <a:avLst/>
          </a:prstGeom>
          <a:ln w="0">
            <a:noFill/>
          </a:ln>
        </p:spPr>
      </p:pic>
      <p:pic>
        <p:nvPicPr>
          <p:cNvPr id="520" name="Retângulo 16" descr=""/>
          <p:cNvPicPr/>
          <p:nvPr/>
        </p:nvPicPr>
        <p:blipFill>
          <a:blip r:embed="rId6"/>
          <a:stretch/>
        </p:blipFill>
        <p:spPr>
          <a:xfrm>
            <a:off x="3597120" y="4327560"/>
            <a:ext cx="1992600" cy="1378080"/>
          </a:xfrm>
          <a:prstGeom prst="rect">
            <a:avLst/>
          </a:prstGeom>
          <a:ln w="0">
            <a:noFill/>
          </a:ln>
        </p:spPr>
      </p:pic>
      <p:pic>
        <p:nvPicPr>
          <p:cNvPr id="521" name="Retângulo 17" descr=""/>
          <p:cNvPicPr/>
          <p:nvPr/>
        </p:nvPicPr>
        <p:blipFill>
          <a:blip r:embed="rId7"/>
          <a:stretch/>
        </p:blipFill>
        <p:spPr>
          <a:xfrm>
            <a:off x="6608880" y="4406760"/>
            <a:ext cx="165708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320" y="601200"/>
            <a:ext cx="825012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Contatos técnicos na SEPLANDE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523" name="Título 1"/>
          <p:cNvSpPr/>
          <p:nvPr/>
        </p:nvSpPr>
        <p:spPr>
          <a:xfrm>
            <a:off x="-2025720" y="1638360"/>
            <a:ext cx="6121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1852560" y="2849400"/>
            <a:ext cx="1227240" cy="83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25" name="Retângulo 8"/>
          <p:cNvSpPr/>
          <p:nvPr/>
        </p:nvSpPr>
        <p:spPr>
          <a:xfrm>
            <a:off x="1925640" y="2460600"/>
            <a:ext cx="575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600" spc="-1" strike="noStrike">
                <a:solidFill>
                  <a:srgbClr val="473c2f"/>
                </a:solidFill>
                <a:latin typeface="Calibri"/>
              </a:rPr>
              <a:t>poliana@br.inter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aulo.soares@seplande.al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genildo.silva@seplande.al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Diretrizes Gerais do Programa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95360" y="1623600"/>
            <a:ext cx="819144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1.     Coerência com as orientações estratégicas e previsão dos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  recursos disponív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2.     Organização dos programas em áreas de resul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3.     Responsabilização por resul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4.    Monitoramento em re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Desafios a serem enfrentados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pic>
        <p:nvPicPr>
          <p:cNvPr id="318" name="Diagrama 6" descr=""/>
          <p:cNvPicPr/>
          <p:nvPr/>
        </p:nvPicPr>
        <p:blipFill>
          <a:blip r:embed="rId1"/>
          <a:stretch/>
        </p:blipFill>
        <p:spPr>
          <a:xfrm>
            <a:off x="517680" y="1390680"/>
            <a:ext cx="8119800" cy="4376880"/>
          </a:xfrm>
          <a:prstGeom prst="rect">
            <a:avLst/>
          </a:prstGeom>
          <a:ln w="0">
            <a:noFill/>
          </a:ln>
        </p:spPr>
      </p:pic>
      <p:sp>
        <p:nvSpPr>
          <p:cNvPr id="319" name="Triângulo isósceles 5"/>
          <p:cNvSpPr/>
          <p:nvPr/>
        </p:nvSpPr>
        <p:spPr>
          <a:xfrm rot="5400000">
            <a:off x="492120" y="1838520"/>
            <a:ext cx="301680" cy="18072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riângulo isósceles 7"/>
          <p:cNvSpPr/>
          <p:nvPr/>
        </p:nvSpPr>
        <p:spPr>
          <a:xfrm rot="5400000">
            <a:off x="3165480" y="1838520"/>
            <a:ext cx="301680" cy="18072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riângulo isósceles 8"/>
          <p:cNvSpPr/>
          <p:nvPr/>
        </p:nvSpPr>
        <p:spPr>
          <a:xfrm rot="5400000">
            <a:off x="5944680" y="1838160"/>
            <a:ext cx="301680" cy="1810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61960" y="4362120"/>
            <a:ext cx="517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CONTEXTUALIZAÇÃO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5392"/>
                </a:solidFill>
                <a:latin typeface="Calibri"/>
              </a:rPr>
              <a:t>Elaborando a Estratégia</a:t>
            </a:r>
            <a:endParaRPr b="1" lang="en-US" sz="2400" spc="-1" strike="noStrike">
              <a:solidFill>
                <a:srgbClr val="005392"/>
              </a:solidFill>
              <a:latin typeface="Calibri"/>
            </a:endParaRPr>
          </a:p>
        </p:txBody>
      </p:sp>
      <p:cxnSp>
        <p:nvCxnSpPr>
          <p:cNvPr id="324" name="AutoShape 4"/>
          <p:cNvCxnSpPr>
            <a:endCxn id="325" idx="1"/>
          </p:cNvCxnSpPr>
          <p:nvPr/>
        </p:nvCxnSpPr>
        <p:spPr>
          <a:xfrm flipV="1">
            <a:off x="1500120" y="2059920"/>
            <a:ext cx="380160" cy="1440360"/>
          </a:xfrm>
          <a:prstGeom prst="bentConnector3">
            <a:avLst>
              <a:gd name="adj1" fmla="val 49952"/>
            </a:avLst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cxnSp>
        <p:nvCxnSpPr>
          <p:cNvPr id="326" name="AutoShape 5"/>
          <p:cNvCxnSpPr>
            <a:stCxn id="325" idx="2"/>
            <a:endCxn id="327" idx="0"/>
          </p:cNvCxnSpPr>
          <p:nvPr/>
        </p:nvCxnSpPr>
        <p:spPr>
          <a:xfrm flipH="1">
            <a:off x="2959920" y="2384280"/>
            <a:ext cx="1080" cy="216720"/>
          </a:xfrm>
          <a:prstGeom prst="straightConnector1">
            <a:avLst/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cxnSp>
        <p:nvCxnSpPr>
          <p:cNvPr id="328" name="AutoShape 6"/>
          <p:cNvCxnSpPr>
            <a:stCxn id="327" idx="3"/>
            <a:endCxn id="329" idx="1"/>
          </p:cNvCxnSpPr>
          <p:nvPr/>
        </p:nvCxnSpPr>
        <p:spPr>
          <a:xfrm flipV="1">
            <a:off x="4039920" y="2743920"/>
            <a:ext cx="353160" cy="1297800"/>
          </a:xfrm>
          <a:prstGeom prst="bentConnector3">
            <a:avLst>
              <a:gd name="adj1" fmla="val 51428"/>
            </a:avLst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grpSp>
        <p:nvGrpSpPr>
          <p:cNvPr id="330" name="Group 11"/>
          <p:cNvGrpSpPr/>
          <p:nvPr/>
        </p:nvGrpSpPr>
        <p:grpSpPr>
          <a:xfrm>
            <a:off x="52560" y="5580000"/>
            <a:ext cx="1729080" cy="611280"/>
            <a:chOff x="52560" y="5580000"/>
            <a:chExt cx="1729080" cy="611280"/>
          </a:xfrm>
        </p:grpSpPr>
        <p:sp>
          <p:nvSpPr>
            <p:cNvPr id="331" name="Text Box 12"/>
            <p:cNvSpPr/>
            <p:nvPr/>
          </p:nvSpPr>
          <p:spPr>
            <a:xfrm>
              <a:off x="237240" y="5823000"/>
              <a:ext cx="135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BR" sz="1800" spc="-1" strike="noStrike">
                  <a:solidFill>
                    <a:srgbClr val="41636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3"/>
            <p:cNvGrpSpPr/>
            <p:nvPr/>
          </p:nvGrpSpPr>
          <p:grpSpPr>
            <a:xfrm>
              <a:off x="52560" y="5580000"/>
              <a:ext cx="1729080" cy="360360"/>
              <a:chOff x="52560" y="5580000"/>
              <a:chExt cx="1729080" cy="360360"/>
            </a:xfrm>
          </p:grpSpPr>
          <p:sp>
            <p:nvSpPr>
              <p:cNvPr id="333" name="Line 14"/>
              <p:cNvSpPr/>
              <p:nvPr/>
            </p:nvSpPr>
            <p:spPr>
              <a:xfrm>
                <a:off x="52560" y="5580000"/>
                <a:ext cx="0" cy="36036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5"/>
              <p:cNvSpPr/>
              <p:nvPr/>
            </p:nvSpPr>
            <p:spPr>
              <a:xfrm>
                <a:off x="1781280" y="5580000"/>
                <a:ext cx="0" cy="36036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5" name="AutoShape 16"/>
              <p:cNvCxnSpPr/>
              <p:nvPr/>
            </p:nvCxnSpPr>
            <p:spPr>
              <a:xfrm>
                <a:off x="52560" y="5758920"/>
                <a:ext cx="1729440" cy="1080"/>
              </a:xfrm>
              <a:prstGeom prst="straightConnector1">
                <a:avLst/>
              </a:prstGeom>
              <a:ln w="9360">
                <a:solidFill>
                  <a:srgbClr val="bfbfbf"/>
                </a:solidFill>
                <a:miter/>
              </a:ln>
            </p:spPr>
          </p:cxnSp>
        </p:grpSp>
      </p:grpSp>
      <p:sp>
        <p:nvSpPr>
          <p:cNvPr id="327" name="AutoShape 17"/>
          <p:cNvSpPr/>
          <p:nvPr/>
        </p:nvSpPr>
        <p:spPr>
          <a:xfrm>
            <a:off x="1879560" y="2600280"/>
            <a:ext cx="2160720" cy="2881440"/>
          </a:xfrm>
          <a:prstGeom prst="flowChartProcess">
            <a:avLst/>
          </a:prstGeom>
          <a:solidFill>
            <a:srgbClr val="4163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889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Análise de outros docu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lanejamento Estratégico de Macei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lagoas Master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Invest Alago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FICO (AC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Programa PAP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  <a:ea typeface="Arial"/>
              </a:rPr>
              <a:t>Alagoas: estratégias de desenvolvim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8"/>
          <p:cNvSpPr/>
          <p:nvPr/>
        </p:nvSpPr>
        <p:spPr>
          <a:xfrm>
            <a:off x="1879560" y="1736640"/>
            <a:ext cx="2160720" cy="647640"/>
          </a:xfrm>
          <a:prstGeom prst="flowChartProcess">
            <a:avLst/>
          </a:prstGeom>
          <a:solidFill>
            <a:srgbClr val="4163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nálise do Programa de Gov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9"/>
          <p:cNvGrpSpPr/>
          <p:nvPr/>
        </p:nvGrpSpPr>
        <p:grpSpPr>
          <a:xfrm>
            <a:off x="1767960" y="5580000"/>
            <a:ext cx="2289600" cy="609480"/>
            <a:chOff x="1767960" y="5580000"/>
            <a:chExt cx="2289600" cy="609480"/>
          </a:xfrm>
        </p:grpSpPr>
        <p:sp>
          <p:nvSpPr>
            <p:cNvPr id="337" name="Line 20"/>
            <p:cNvSpPr/>
            <p:nvPr/>
          </p:nvSpPr>
          <p:spPr>
            <a:xfrm>
              <a:off x="4057560" y="5580000"/>
              <a:ext cx="0" cy="3603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1"/>
            <p:cNvSpPr/>
            <p:nvPr/>
          </p:nvSpPr>
          <p:spPr>
            <a:xfrm>
              <a:off x="2340720" y="582120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BR" sz="1800" spc="-1" strike="noStrike">
                  <a:solidFill>
                    <a:srgbClr val="41636f"/>
                  </a:solidFill>
                  <a:latin typeface="Arial"/>
                </a:rPr>
                <a:t>A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AutoShape 22"/>
            <p:cNvCxnSpPr/>
            <p:nvPr/>
          </p:nvCxnSpPr>
          <p:spPr>
            <a:xfrm>
              <a:off x="1767960" y="5758920"/>
              <a:ext cx="2289960" cy="1080"/>
            </a:xfrm>
            <a:prstGeom prst="straightConnector1">
              <a:avLst/>
            </a:prstGeom>
            <a:ln w="9360">
              <a:solidFill>
                <a:srgbClr val="bfbfbf"/>
              </a:solidFill>
              <a:miter/>
            </a:ln>
          </p:spPr>
        </p:cxnSp>
      </p:grpSp>
      <p:grpSp>
        <p:nvGrpSpPr>
          <p:cNvPr id="340" name="Group 25"/>
          <p:cNvGrpSpPr/>
          <p:nvPr/>
        </p:nvGrpSpPr>
        <p:grpSpPr>
          <a:xfrm>
            <a:off x="4405320" y="1952640"/>
            <a:ext cx="2739960" cy="1584000"/>
            <a:chOff x="4405320" y="1952640"/>
            <a:chExt cx="2739960" cy="1584000"/>
          </a:xfrm>
        </p:grpSpPr>
        <p:sp>
          <p:nvSpPr>
            <p:cNvPr id="329" name="AutoShape 26"/>
            <p:cNvSpPr/>
            <p:nvPr/>
          </p:nvSpPr>
          <p:spPr>
            <a:xfrm>
              <a:off x="4405320" y="1952640"/>
              <a:ext cx="2739960" cy="1584000"/>
            </a:xfrm>
            <a:prstGeom prst="flowChartProcess">
              <a:avLst/>
            </a:prstGeom>
            <a:solidFill>
              <a:srgbClr val="c8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AutoShape 27"/>
            <p:cNvGrpSpPr/>
            <p:nvPr/>
          </p:nvGrpSpPr>
          <p:grpSpPr>
            <a:xfrm>
              <a:off x="4474080" y="2077920"/>
              <a:ext cx="1224720" cy="1304640"/>
              <a:chOff x="4474080" y="2077920"/>
              <a:chExt cx="1224720" cy="1304640"/>
            </a:xfrm>
          </p:grpSpPr>
          <p:pic>
            <p:nvPicPr>
              <p:cNvPr id="342" name="AutoShap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4475520" y="2077920"/>
                <a:ext cx="1220760" cy="13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4474080" y="2079000"/>
                <a:ext cx="122472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t-BR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revistas com membros do Governo e liderança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AutoShape 28"/>
            <p:cNvGrpSpPr/>
            <p:nvPr/>
          </p:nvGrpSpPr>
          <p:grpSpPr>
            <a:xfrm>
              <a:off x="5833800" y="2077920"/>
              <a:ext cx="1230480" cy="1304640"/>
              <a:chOff x="5833800" y="2077920"/>
              <a:chExt cx="1230480" cy="1304640"/>
            </a:xfrm>
          </p:grpSpPr>
          <p:pic>
            <p:nvPicPr>
              <p:cNvPr id="345" name="AutoShap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5833800" y="2077920"/>
                <a:ext cx="1229760" cy="13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836680" y="2079000"/>
                <a:ext cx="1227600" cy="13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t-BR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ientações estratégicas do Governado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Group 29"/>
          <p:cNvGrpSpPr/>
          <p:nvPr/>
        </p:nvGrpSpPr>
        <p:grpSpPr>
          <a:xfrm>
            <a:off x="4046400" y="5580000"/>
            <a:ext cx="3456360" cy="611280"/>
            <a:chOff x="4046400" y="5580000"/>
            <a:chExt cx="3456360" cy="611280"/>
          </a:xfrm>
        </p:grpSpPr>
        <p:sp>
          <p:nvSpPr>
            <p:cNvPr id="348" name="Line 30"/>
            <p:cNvSpPr/>
            <p:nvPr/>
          </p:nvSpPr>
          <p:spPr>
            <a:xfrm>
              <a:off x="7502400" y="5580000"/>
              <a:ext cx="0" cy="3603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1"/>
            <p:cNvSpPr/>
            <p:nvPr/>
          </p:nvSpPr>
          <p:spPr>
            <a:xfrm>
              <a:off x="5243040" y="5823000"/>
              <a:ext cx="106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BR" sz="1800" spc="-1" strike="noStrike">
                  <a:solidFill>
                    <a:srgbClr val="41636f"/>
                  </a:solidFill>
                  <a:latin typeface="Arial"/>
                </a:rPr>
                <a:t>M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AutoShape 32"/>
            <p:cNvCxnSpPr/>
            <p:nvPr/>
          </p:nvCxnSpPr>
          <p:spPr>
            <a:xfrm>
              <a:off x="4046400" y="5758920"/>
              <a:ext cx="3456720" cy="1080"/>
            </a:xfrm>
            <a:prstGeom prst="straightConnector1">
              <a:avLst/>
            </a:prstGeom>
            <a:ln w="9360">
              <a:solidFill>
                <a:srgbClr val="bfbfbf"/>
              </a:solidFill>
              <a:miter/>
            </a:ln>
          </p:spPr>
        </p:cxnSp>
      </p:grpSp>
      <p:grpSp>
        <p:nvGrpSpPr>
          <p:cNvPr id="351" name="Rectangle 26"/>
          <p:cNvGrpSpPr/>
          <p:nvPr/>
        </p:nvGrpSpPr>
        <p:grpSpPr>
          <a:xfrm>
            <a:off x="212760" y="2571840"/>
            <a:ext cx="1287360" cy="1860480"/>
            <a:chOff x="212760" y="2571840"/>
            <a:chExt cx="1287360" cy="1860480"/>
          </a:xfrm>
        </p:grpSpPr>
        <p:pic>
          <p:nvPicPr>
            <p:cNvPr id="352" name="Rectangle 26" descr=""/>
            <p:cNvPicPr/>
            <p:nvPr/>
          </p:nvPicPr>
          <p:blipFill>
            <a:blip r:embed="rId3"/>
            <a:stretch/>
          </p:blipFill>
          <p:spPr>
            <a:xfrm>
              <a:off x="212760" y="2571840"/>
              <a:ext cx="128736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14200" y="2571840"/>
              <a:ext cx="12859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3"/>
          <p:cNvSpPr/>
          <p:nvPr/>
        </p:nvSpPr>
        <p:spPr>
          <a:xfrm>
            <a:off x="4405320" y="4832280"/>
            <a:ext cx="2739960" cy="693720"/>
          </a:xfrm>
          <a:prstGeom prst="flowChartProcess">
            <a:avLst/>
          </a:prstGeom>
          <a:solidFill>
            <a:srgbClr val="7ca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nálise de base de dados dispon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15"/>
          <p:cNvCxnSpPr>
            <a:endCxn id="354" idx="0"/>
          </p:cNvCxnSpPr>
          <p:nvPr/>
        </p:nvCxnSpPr>
        <p:spPr>
          <a:xfrm flipH="1">
            <a:off x="5774760" y="3549240"/>
            <a:ext cx="1080" cy="1283400"/>
          </a:xfrm>
          <a:prstGeom prst="straightConnector1">
            <a:avLst/>
          </a:prstGeom>
          <a:ln w="3240">
            <a:solidFill>
              <a:srgbClr val="41636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56" name="AutoShape 11"/>
          <p:cNvCxnSpPr/>
          <p:nvPr/>
        </p:nvCxnSpPr>
        <p:spPr>
          <a:xfrm>
            <a:off x="4040280" y="4041720"/>
            <a:ext cx="365760" cy="1139040"/>
          </a:xfrm>
          <a:prstGeom prst="bentConnector3">
            <a:avLst>
              <a:gd name="adj1" fmla="val 49753"/>
            </a:avLst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grpSp>
        <p:nvGrpSpPr>
          <p:cNvPr id="357" name="Rectangle 30"/>
          <p:cNvGrpSpPr/>
          <p:nvPr/>
        </p:nvGrpSpPr>
        <p:grpSpPr>
          <a:xfrm>
            <a:off x="7680240" y="2571840"/>
            <a:ext cx="1287360" cy="1860480"/>
            <a:chOff x="7680240" y="2571840"/>
            <a:chExt cx="1287360" cy="1860480"/>
          </a:xfrm>
        </p:grpSpPr>
        <p:pic>
          <p:nvPicPr>
            <p:cNvPr id="358" name="Rectangle 30" descr=""/>
            <p:cNvPicPr/>
            <p:nvPr/>
          </p:nvPicPr>
          <p:blipFill>
            <a:blip r:embed="rId4"/>
            <a:stretch/>
          </p:blipFill>
          <p:spPr>
            <a:xfrm>
              <a:off x="7681320" y="2571840"/>
              <a:ext cx="128628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680240" y="2571840"/>
              <a:ext cx="128448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0" name="AutoShape 8"/>
          <p:cNvCxnSpPr>
            <a:stCxn id="354" idx="3"/>
          </p:cNvCxnSpPr>
          <p:nvPr/>
        </p:nvCxnSpPr>
        <p:spPr>
          <a:xfrm flipV="1">
            <a:off x="7145280" y="3499920"/>
            <a:ext cx="534240" cy="1680480"/>
          </a:xfrm>
          <a:prstGeom prst="bentConnector3">
            <a:avLst>
              <a:gd name="adj1" fmla="val 49966"/>
            </a:avLst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cxnSp>
        <p:nvCxnSpPr>
          <p:cNvPr id="361" name="AutoShape 9"/>
          <p:cNvCxnSpPr>
            <a:stCxn id="329" idx="3"/>
          </p:cNvCxnSpPr>
          <p:nvPr/>
        </p:nvCxnSpPr>
        <p:spPr>
          <a:xfrm>
            <a:off x="7145280" y="2744280"/>
            <a:ext cx="534240" cy="756360"/>
          </a:xfrm>
          <a:prstGeom prst="bentConnector3">
            <a:avLst>
              <a:gd name="adj1" fmla="val 49966"/>
            </a:avLst>
          </a:prstGeom>
          <a:ln w="9360">
            <a:solidFill>
              <a:srgbClr val="41636f"/>
            </a:solidFill>
            <a:miter/>
            <a:tailEnd len="med" type="triangle" w="med"/>
          </a:ln>
        </p:spPr>
      </p:cxnSp>
      <p:grpSp>
        <p:nvGrpSpPr>
          <p:cNvPr id="362" name="Group 33"/>
          <p:cNvGrpSpPr/>
          <p:nvPr/>
        </p:nvGrpSpPr>
        <p:grpSpPr>
          <a:xfrm>
            <a:off x="7496280" y="5580000"/>
            <a:ext cx="1581480" cy="611280"/>
            <a:chOff x="7496280" y="5580000"/>
            <a:chExt cx="1581480" cy="611280"/>
          </a:xfrm>
        </p:grpSpPr>
        <p:sp>
          <p:nvSpPr>
            <p:cNvPr id="363" name="Line 34"/>
            <p:cNvSpPr/>
            <p:nvPr/>
          </p:nvSpPr>
          <p:spPr>
            <a:xfrm>
              <a:off x="9077400" y="5580000"/>
              <a:ext cx="0" cy="3603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5"/>
            <p:cNvSpPr/>
            <p:nvPr/>
          </p:nvSpPr>
          <p:spPr>
            <a:xfrm>
              <a:off x="7562160" y="582300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t-BR" sz="1800" spc="-1" strike="noStrike">
                  <a:solidFill>
                    <a:srgbClr val="41636f"/>
                  </a:solidFill>
                  <a:latin typeface="Arial"/>
                </a:rPr>
                <a:t>J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5" name="AutoShape 36"/>
            <p:cNvCxnSpPr/>
            <p:nvPr/>
          </p:nvCxnSpPr>
          <p:spPr>
            <a:xfrm>
              <a:off x="7496280" y="5758920"/>
              <a:ext cx="1581840" cy="1080"/>
            </a:xfrm>
            <a:prstGeom prst="straightConnector1">
              <a:avLst/>
            </a:prstGeom>
            <a:ln w="9360">
              <a:solidFill>
                <a:srgbClr val="bfbfbf"/>
              </a:solidFill>
              <a:miter/>
            </a:ln>
          </p:spPr>
        </p:cxn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7680" y="246240"/>
            <a:ext cx="8439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</a:rPr>
              <a:t>Plano Estratégico Alagoas 2022</a:t>
            </a:r>
            <a:endParaRPr b="1" lang="en-US" sz="2800" spc="-1" strike="noStrike">
              <a:solidFill>
                <a:srgbClr val="005392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28640"/>
            <a:ext cx="4619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ntetiza a estratégia do governo de Alago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esenta as principais diretrizes para a ação do governo, com base no horizonte de 2011-20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 os indicadores e estratégias, por área de result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92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388120" y="1027080"/>
            <a:ext cx="3222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8"/>
          <p:cNvSpPr/>
          <p:nvPr/>
        </p:nvSpPr>
        <p:spPr>
          <a:xfrm>
            <a:off x="353880" y="2274840"/>
            <a:ext cx="8508960" cy="1717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Áreas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São “núcleos focais” de concentração dos melhores esforços e recursos visando as </a:t>
            </a:r>
            <a:r>
              <a:rPr b="1" lang="pt-BR" sz="1600" spc="-1" strike="noStrike">
                <a:solidFill>
                  <a:srgbClr val="cc3300"/>
                </a:solidFill>
                <a:latin typeface="Calibri"/>
              </a:rPr>
              <a:t>transformações e melhorias desejadas na realidade.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 Indicadores de Gov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600" spc="-1" strike="noStrike">
                <a:solidFill>
                  <a:srgbClr val="cc3300"/>
                </a:solidFill>
                <a:latin typeface="Calibri"/>
              </a:rPr>
              <a:t>Importante!</a:t>
            </a:r>
            <a:r>
              <a:rPr b="1" i="1" lang="pt-BR" sz="1600" spc="-1" strike="noStrike">
                <a:solidFill>
                  <a:srgbClr val="000000"/>
                </a:solidFill>
                <a:latin typeface="Calibri"/>
              </a:rPr>
              <a:t> As áreas de resultados se referem aos destinatários da atuação do Governo e não às suas dimensões organizacionais intern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53880" y="2281320"/>
            <a:ext cx="8508960" cy="207000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 Áreas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"/>
          <p:cNvSpPr/>
          <p:nvPr/>
        </p:nvSpPr>
        <p:spPr>
          <a:xfrm>
            <a:off x="395280" y="2444760"/>
            <a:ext cx="139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Erradicação da pobreza extrema, redução da pobreza e da desigual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40"/>
          <p:cNvSpPr/>
          <p:nvPr/>
        </p:nvSpPr>
        <p:spPr>
          <a:xfrm>
            <a:off x="1886040" y="2813040"/>
            <a:ext cx="13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Melhoria da qualidade de 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aixaDeTexto 41"/>
          <p:cNvSpPr/>
          <p:nvPr/>
        </p:nvSpPr>
        <p:spPr>
          <a:xfrm>
            <a:off x="3274920" y="2690640"/>
            <a:ext cx="139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Desenvolvi-mento do capital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42"/>
          <p:cNvSpPr/>
          <p:nvPr/>
        </p:nvSpPr>
        <p:spPr>
          <a:xfrm>
            <a:off x="4687920" y="2690640"/>
            <a:ext cx="1393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Crescim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desconcen-tração e diversificação econô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aixaDeTexto 45"/>
          <p:cNvSpPr/>
          <p:nvPr/>
        </p:nvSpPr>
        <p:spPr>
          <a:xfrm>
            <a:off x="6173640" y="2813040"/>
            <a:ext cx="13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Inovação na gestão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aixaDeTexto 46"/>
          <p:cNvSpPr/>
          <p:nvPr/>
        </p:nvSpPr>
        <p:spPr>
          <a:xfrm>
            <a:off x="7527960" y="2690640"/>
            <a:ext cx="13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Valoriz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da Imagem e mudanças cul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nector reto 3"/>
          <p:cNvSpPr/>
          <p:nvPr/>
        </p:nvSpPr>
        <p:spPr>
          <a:xfrm>
            <a:off x="1800360" y="2705040"/>
            <a:ext cx="0" cy="108576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onector reto 48"/>
          <p:cNvSpPr/>
          <p:nvPr/>
        </p:nvSpPr>
        <p:spPr>
          <a:xfrm>
            <a:off x="3243240" y="2705040"/>
            <a:ext cx="0" cy="108576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onector reto 49"/>
          <p:cNvSpPr/>
          <p:nvPr/>
        </p:nvSpPr>
        <p:spPr>
          <a:xfrm>
            <a:off x="4684680" y="2705040"/>
            <a:ext cx="0" cy="108576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nector reto 50"/>
          <p:cNvSpPr/>
          <p:nvPr/>
        </p:nvSpPr>
        <p:spPr>
          <a:xfrm>
            <a:off x="6127920" y="2705040"/>
            <a:ext cx="0" cy="108576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onector reto 51"/>
          <p:cNvSpPr/>
          <p:nvPr/>
        </p:nvSpPr>
        <p:spPr>
          <a:xfrm>
            <a:off x="7569360" y="2705040"/>
            <a:ext cx="0" cy="108576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292720" y="6724800"/>
            <a:ext cx="3851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284040" y="1077840"/>
            <a:ext cx="8508960" cy="647640"/>
          </a:xfrm>
          <a:prstGeom prst="rect">
            <a:avLst/>
          </a:prstGeom>
          <a:solidFill>
            <a:srgbClr val="004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PLANO ESTRATÉGICO DO ESTADO DE ALAGOAS PARA O HORIZONTE DE 2011-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00120" y="4686480"/>
            <a:ext cx="3887640" cy="884160"/>
          </a:xfrm>
          <a:prstGeom prst="rect">
            <a:avLst/>
          </a:prstGeom>
          <a:solidFill>
            <a:srgbClr val="b9cde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ctr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46 Estratégias de médio e 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83240" y="4686480"/>
            <a:ext cx="3889440" cy="887400"/>
          </a:xfrm>
          <a:prstGeom prst="rect">
            <a:avLst/>
          </a:prstGeom>
          <a:solidFill>
            <a:srgbClr val="b9cde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ctr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14 Indicadores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riângulo isósceles 35"/>
          <p:cNvSpPr/>
          <p:nvPr/>
        </p:nvSpPr>
        <p:spPr>
          <a:xfrm rot="10800000">
            <a:off x="5403600" y="4459320"/>
            <a:ext cx="2617560" cy="1936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riângulo isósceles 52"/>
          <p:cNvSpPr/>
          <p:nvPr/>
        </p:nvSpPr>
        <p:spPr>
          <a:xfrm rot="10800000">
            <a:off x="1290600" y="4459320"/>
            <a:ext cx="2617920" cy="1936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ítulo 1"/>
          <p:cNvSpPr/>
          <p:nvPr/>
        </p:nvSpPr>
        <p:spPr>
          <a:xfrm>
            <a:off x="247680" y="219240"/>
            <a:ext cx="8439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5392"/>
                </a:solidFill>
                <a:latin typeface="Calibri"/>
                <a:ea typeface="MS PGothic"/>
              </a:rPr>
              <a:t>Composição do plano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riângulo isósceles 28"/>
          <p:cNvSpPr/>
          <p:nvPr/>
        </p:nvSpPr>
        <p:spPr>
          <a:xfrm rot="10800000">
            <a:off x="1947600" y="1818720"/>
            <a:ext cx="5181480" cy="36036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5:59:42Z</dcterms:created>
  <dc:creator>Paz Comunicação</dc:creator>
  <dc:description/>
  <dc:language>en-US</dc:language>
  <cp:lastModifiedBy>Inter-American Development Bank</cp:lastModifiedBy>
  <dcterms:modified xsi:type="dcterms:W3CDTF">2013-04-24T18:00:14Z</dcterms:modified>
  <cp:revision>1324</cp:revision>
  <dc:subject/>
  <dc:title>-Enlace Electrónico Opcional 14_ Alagoas TEM PRESSA! (Fevereiro 2012) _ P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stract">
    <vt:lpwstr/>
  </property>
  <property fmtid="{D5CDD505-2E9C-101B-9397-08002B2CF9AE}" pid="3" name="Access to Information Policy">
    <vt:lpwstr>Public</vt:lpwstr>
  </property>
  <property fmtid="{D5CDD505-2E9C-101B-9397-08002B2CF9AE}" pid="4" name="Approval Number">
    <vt:lpwstr/>
  </property>
  <property fmtid="{D5CDD505-2E9C-101B-9397-08002B2CF9AE}" pid="5" name="Business Area">
    <vt:lpwstr/>
  </property>
  <property fmtid="{D5CDD505-2E9C-101B-9397-08002B2CF9AE}" pid="6" name="ContentTypeId">
    <vt:lpwstr>0x0101001A458A224826124E8B45B1D613300CFC00E5412FF8501848489F11A01C9FC84F08</vt:lpwstr>
  </property>
  <property fmtid="{D5CDD505-2E9C-101B-9397-08002B2CF9AE}" pid="7" name="Country">
    <vt:lpwstr>30;#Brazil|7deb27ec-6837-4974-9aa8-6cfbac841ef8</vt:lpwstr>
  </property>
  <property fmtid="{D5CDD505-2E9C-101B-9397-08002B2CF9AE}" pid="8" name="Disclosed">
    <vt:lpwstr>1</vt:lpwstr>
  </property>
  <property fmtid="{D5CDD505-2E9C-101B-9397-08002B2CF9AE}" pid="9" name="Disclosure Activity">
    <vt:lpwstr>Loan Proposal</vt:lpwstr>
  </property>
  <property fmtid="{D5CDD505-2E9C-101B-9397-08002B2CF9AE}" pid="10" name="Division or Unit">
    <vt:lpwstr>INE/TSP</vt:lpwstr>
  </property>
  <property fmtid="{D5CDD505-2E9C-101B-9397-08002B2CF9AE}" pid="11" name="Document Author">
    <vt:lpwstr>Lenci Pousada, Vera Lucia</vt:lpwstr>
  </property>
  <property fmtid="{D5CDD505-2E9C-101B-9397-08002B2CF9AE}" pid="12" name="Document Language IDB">
    <vt:lpwstr>Spanish</vt:lpwstr>
  </property>
  <property fmtid="{D5CDD505-2E9C-101B-9397-08002B2CF9AE}" pid="13" name="Editor1">
    <vt:lpwstr/>
  </property>
  <property fmtid="{D5CDD505-2E9C-101B-9397-08002B2CF9AE}" pid="14" name="Fiscal Year IDB">
    <vt:lpwstr>2013</vt:lpwstr>
  </property>
  <property fmtid="{D5CDD505-2E9C-101B-9397-08002B2CF9AE}" pid="15" name="From:">
    <vt:lpwstr/>
  </property>
  <property fmtid="{D5CDD505-2E9C-101B-9397-08002B2CF9AE}" pid="16" name="Function Operations IDB">
    <vt:lpwstr>1;#Project Preparation, Planning and Design|29ca0c72-1fc4-435f-a09c-28585cb5eac9</vt:lpwstr>
  </property>
  <property fmtid="{D5CDD505-2E9C-101B-9397-08002B2CF9AE}" pid="17" name="Fund IDB">
    <vt:lpwstr/>
  </property>
  <property fmtid="{D5CDD505-2E9C-101B-9397-08002B2CF9AE}" pid="18" name="IDBDocs Number">
    <vt:lpwstr>37728056</vt:lpwstr>
  </property>
  <property fmtid="{D5CDD505-2E9C-101B-9397-08002B2CF9AE}" pid="19" name="Identifier">
    <vt:lpwstr>Caterina Vecco x.2460 TECFILE</vt:lpwstr>
  </property>
  <property fmtid="{D5CDD505-2E9C-101B-9397-08002B2CF9AE}" pid="20" name="Issue Date">
    <vt:lpwstr/>
  </property>
  <property fmtid="{D5CDD505-2E9C-101B-9397-08002B2CF9AE}" pid="21" name="KP Topics">
    <vt:lpwstr/>
  </property>
  <property fmtid="{D5CDD505-2E9C-101B-9397-08002B2CF9AE}" pid="22" name="Key Document">
    <vt:lpwstr>0</vt:lpwstr>
  </property>
  <property fmtid="{D5CDD505-2E9C-101B-9397-08002B2CF9AE}" pid="23" name="Migration Info">
    <vt:lpwstr>&lt;div class="ExternalClass09AFFC11188749D99A49F457837E0BEF"&gt;MS POWERPOINTLPLoan ProposalOPOperations Policy Committee0NSouth AmericaPO-BR-L1374-Anl1087602513&lt;/div&gt;</vt:lpwstr>
  </property>
  <property fmtid="{D5CDD505-2E9C-101B-9397-08002B2CF9AE}" pid="24" name="Operation Type">
    <vt:lpwstr/>
  </property>
  <property fmtid="{D5CDD505-2E9C-101B-9397-08002B2CF9AE}" pid="25" name="Order">
    <vt:lpwstr>9600.00000000000</vt:lpwstr>
  </property>
  <property fmtid="{D5CDD505-2E9C-101B-9397-08002B2CF9AE}" pid="26" name="Other Author">
    <vt:lpwstr/>
  </property>
  <property fmtid="{D5CDD505-2E9C-101B-9397-08002B2CF9AE}" pid="27" name="Package Code">
    <vt:lpwstr/>
  </property>
  <property fmtid="{D5CDD505-2E9C-101B-9397-08002B2CF9AE}" pid="28" name="Phase">
    <vt:lpwstr/>
  </property>
  <property fmtid="{D5CDD505-2E9C-101B-9397-08002B2CF9AE}" pid="29" name="Project Document Type">
    <vt:lpwstr/>
  </property>
  <property fmtid="{D5CDD505-2E9C-101B-9397-08002B2CF9AE}" pid="30" name="Project Number">
    <vt:lpwstr>BR-L1374</vt:lpwstr>
  </property>
  <property fmtid="{D5CDD505-2E9C-101B-9397-08002B2CF9AE}" pid="31" name="Publication Type">
    <vt:lpwstr/>
  </property>
  <property fmtid="{D5CDD505-2E9C-101B-9397-08002B2CF9AE}" pid="32" name="Publishing House">
    <vt:lpwstr/>
  </property>
  <property fmtid="{D5CDD505-2E9C-101B-9397-08002B2CF9AE}" pid="33" name="Record Number">
    <vt:lpwstr>R0002799392</vt:lpwstr>
  </property>
  <property fmtid="{D5CDD505-2E9C-101B-9397-08002B2CF9AE}" pid="34" name="Region">
    <vt:lpwstr/>
  </property>
  <property fmtid="{D5CDD505-2E9C-101B-9397-08002B2CF9AE}" pid="35" name="SISCOR Number">
    <vt:lpwstr/>
  </property>
  <property fmtid="{D5CDD505-2E9C-101B-9397-08002B2CF9AE}" pid="36" name="Sector IDB">
    <vt:lpwstr/>
  </property>
  <property fmtid="{D5CDD505-2E9C-101B-9397-08002B2CF9AE}" pid="37" name="Series Operations IDB">
    <vt:lpwstr>13;#Loan Proposal|6ee86b6f-6e46-485b-8bfb-87a1f44622ac</vt:lpwstr>
  </property>
  <property fmtid="{D5CDD505-2E9C-101B-9397-08002B2CF9AE}" pid="38" name="Series_x0020_Operations_x0020_IDB">
    <vt:lpwstr>28;#Loan Proposal|6ee86b6f-6e46-485b-8bfb-87a1f44622ac</vt:lpwstr>
  </property>
  <property fmtid="{D5CDD505-2E9C-101B-9397-08002B2CF9AE}" pid="39" name="Sub-Sector">
    <vt:lpwstr/>
  </property>
  <property fmtid="{D5CDD505-2E9C-101B-9397-08002B2CF9AE}" pid="40" name="Sub_x005F_x002d_Sector">
    <vt:lpwstr/>
  </property>
  <property fmtid="{D5CDD505-2E9C-101B-9397-08002B2CF9AE}" pid="41" name="TaxCatchAll">
    <vt:lpwstr>13;#Loan Proposal|6ee86b6f-6e46-485b-8bfb-87a1f44622ac;#30;#Brazil|7deb27ec-6837-4974-9aa8-6cfbac841ef8;#1;#Project Preparation, Planning and Design|29ca0c72-1fc4-435f-a09c-28585cb5eac9</vt:lpwstr>
  </property>
  <property fmtid="{D5CDD505-2E9C-101B-9397-08002B2CF9AE}" pid="42" name="TaxKeyword">
    <vt:lpwstr/>
  </property>
  <property fmtid="{D5CDD505-2E9C-101B-9397-08002B2CF9AE}" pid="43" name="TaxKeywordTaxHTField">
    <vt:lpwstr/>
  </property>
  <property fmtid="{D5CDD505-2E9C-101B-9397-08002B2CF9AE}" pid="44" name="To:">
    <vt:lpwstr/>
  </property>
  <property fmtid="{D5CDD505-2E9C-101B-9397-08002B2CF9AE}" pid="45" name="Webtopic">
    <vt:lpwstr>Highways and Roads;Transportation</vt:lpwstr>
  </property>
  <property fmtid="{D5CDD505-2E9C-101B-9397-08002B2CF9AE}" pid="46" name="_dlc_DocId">
    <vt:lpwstr>EZSHARE-1185062258-96</vt:lpwstr>
  </property>
  <property fmtid="{D5CDD505-2E9C-101B-9397-08002B2CF9AE}" pid="47" name="_dlc_DocIdItemGuid">
    <vt:lpwstr>68e2f9f6-f08f-49c9-9975-c85c180ba806</vt:lpwstr>
  </property>
  <property fmtid="{D5CDD505-2E9C-101B-9397-08002B2CF9AE}" pid="48" name="_dlc_DocIdUrl">
    <vt:lpwstr>https://idbg.sharepoint.com/teams/EZ-BR-LON/BR-L1374/_layouts/15/DocIdRedir.aspx?ID=EZSHARE-1185062258-96, EZSHARE-1185062258-96</vt:lpwstr>
  </property>
  <property fmtid="{D5CDD505-2E9C-101B-9397-08002B2CF9AE}" pid="49" name="b26cdb1da78c4bb4b1c1bac2f6ac5911">
    <vt:lpwstr>Loan Proposal|6ee86b6f-6e46-485b-8bfb-87a1f44622ac</vt:lpwstr>
  </property>
  <property fmtid="{D5CDD505-2E9C-101B-9397-08002B2CF9AE}" pid="50" name="b2ec7cfb18674cb8803df6b262e8b107">
    <vt:lpwstr/>
  </property>
  <property fmtid="{D5CDD505-2E9C-101B-9397-08002B2CF9AE}" pid="51" name="c456731dbc904a5fb605ec556c33e883">
    <vt:lpwstr/>
  </property>
  <property fmtid="{D5CDD505-2E9C-101B-9397-08002B2CF9AE}" pid="52" name="display_urn:schemas-microsoft-com:office:office#Author">
    <vt:lpwstr>Vecco, Caterina</vt:lpwstr>
  </property>
  <property fmtid="{D5CDD505-2E9C-101B-9397-08002B2CF9AE}" pid="53" name="display_urn:schemas-microsoft-com:office:office#Editor">
    <vt:lpwstr>ATI WF Service</vt:lpwstr>
  </property>
  <property fmtid="{D5CDD505-2E9C-101B-9397-08002B2CF9AE}" pid="54" name="e46fe2894295491da65140ffd2369f49">
    <vt:lpwstr>Project Preparation, Planning and Design|29ca0c72-1fc4-435f-a09c-28585cb5eac9</vt:lpwstr>
  </property>
  <property fmtid="{D5CDD505-2E9C-101B-9397-08002B2CF9AE}" pid="55" name="e559ffcc31d34167856647188be35015">
    <vt:lpwstr/>
  </property>
  <property fmtid="{D5CDD505-2E9C-101B-9397-08002B2CF9AE}" pid="56" name="fd0e48b6a66848a9885f717e5bbf40c4">
    <vt:lpwstr>Project Preparation, Planning and Design|29ca0c72-1fc4-435f-a09c-28585cb5eac9</vt:lpwstr>
  </property>
  <property fmtid="{D5CDD505-2E9C-101B-9397-08002B2CF9AE}" pid="57" name="g511464f9e53401d84b16fa9b379a574">
    <vt:lpwstr/>
  </property>
  <property fmtid="{D5CDD505-2E9C-101B-9397-08002B2CF9AE}" pid="58" name="ic46d7e087fd4a108fb86518ca413cc6">
    <vt:lpwstr>Brazil|7deb27ec-6837-4974-9aa8-6cfbac841ef8</vt:lpwstr>
  </property>
  <property fmtid="{D5CDD505-2E9C-101B-9397-08002B2CF9AE}" pid="59" name="j8b96605ee2f4c4e988849e658583fee">
    <vt:lpwstr>Brazil|7deb27ec-6837-4974-9aa8-6cfbac841ef8</vt:lpwstr>
  </property>
  <property fmtid="{D5CDD505-2E9C-101B-9397-08002B2CF9AE}" pid="60" name="m555d3814edf4817b4410a4e57f94ce9">
    <vt:lpwstr/>
  </property>
  <property fmtid="{D5CDD505-2E9C-101B-9397-08002B2CF9AE}" pid="61" name="nddeef1749674d76abdbe4b239a70bc6">
    <vt:lpwstr/>
  </property>
  <property fmtid="{D5CDD505-2E9C-101B-9397-08002B2CF9AE}" pid="62" name="o5138a91267540169645e33d09c9ddc6">
    <vt:lpwstr>Loan Proposal|6ee86b6f-6e46-485b-8bfb-87a1f44622ac</vt:lpwstr>
  </property>
</Properties>
</file>