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C6A64-9D8B-4641-9630-47A793E38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C5183-AFED-4B51-B49F-11ACEE8136D1}" type="slidenum">
              <a:rPr b="0" lang="en-US" sz="1200" spc="-1" strike="noStrike">
                <a:solidFill>
                  <a:srgbClr val="3c3c3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c3c3c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81EE-092D-41A3-8251-BE1ECA2B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7E9-4CD5-47A3-B5CA-CB79FEA6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4EFCE-B977-41F9-B733-BA924FBF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72D08-013A-4C50-A011-D1A02DE6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9E238-3C01-4CC7-9D7F-F90FCFBC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C2C74-D79A-45A0-87F8-8B997B1B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C665C-E0D6-4225-9634-C1603BE2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D072E-1230-4246-8E0D-E6E3D91C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489CE-8D6C-4DB7-ABD7-70309B7D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76DDC-579F-45FC-AC0E-57045267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EF031-BD8A-4F52-BB3A-EF368AB7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77BFB-C448-457B-AF0F-BD675D1E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3D72-03A9-46C9-9D1E-59B53365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A5ACC-1710-4C34-AAE9-EC95E611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1D20E-2F9B-440B-9147-27FE43D6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F6865-D50E-411F-8F68-8802A8B1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F5570-0186-47D0-82AB-C39F277C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C6397-00AA-4B81-8BE1-173C23C5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6D01C-0B77-45F5-9640-6C3B34FF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767F8-D5A6-43DE-A23A-A480089D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0715B-ECAC-4900-9715-B5F432BE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3C3D6-5083-4F5B-B939-D1306820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530B0-097C-42B2-B58E-703CBA74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0085-C86A-4DC8-A021-A0FED5D7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C4F8B-D4A9-4F16-88A6-856E7010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90DD2-7600-4D37-812C-5211A970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0FF3D-B3F1-4C3D-AE64-FCA9FDCB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E35AE-E6C7-48C5-90A0-10152EC5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ED355-D2F3-4AB4-AEFA-BA021A46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A93B8-0653-45B2-B290-00D6BEF6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1BAB8-5477-490D-ACC8-7EE796FF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38929-054E-4742-B5E6-E1BF4B0B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DD72E-6BA5-424B-9B71-35B864E4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422B7-0DBC-4016-A9C3-DE909BEB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9A101-E1E9-465C-B2FD-2CAA097D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1CA1E-4384-4538-8625-2B54DF6B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67255-FEED-4211-A419-037464DA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03E5C-124A-47E6-B9FE-BEBCF150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9AFD9-1DFB-4FB9-994E-7E78F835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7D3C6-F7EC-4AF3-81D3-A17661FE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EB091-33C5-4223-AD53-FB5C1B12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7CE32-1E49-4F04-846D-07947392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81E7B-255D-48A3-AC8F-6F71858A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246C2-B11C-46E7-83BC-D4E354DA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6DE36-23B9-499E-BD53-705CE9B5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18BB3-EA4C-4A9D-B047-CB2077C2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A5215-53FB-4378-9287-D40698E7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5F9BF-88E1-4602-9687-6095C094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0C226-BA81-40FC-B401-1D8E7B25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81430-90D9-4B9B-B36D-48D0F1C9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6A27F-5D67-4799-A21D-B9FD80E7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C3B69-A2A4-419C-A015-177BF28D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E8745-0F36-4756-83FE-D102FF1E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5991A-2E15-4585-93AC-3D84354A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5BF15-77FE-464D-B96B-5FC56F2C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7CF5C-C47B-4C11-AC61-6CC1B400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FDBAE-DD76-4441-B79B-975321B8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2B99E-3C56-4E5B-ACE7-CC015F3A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E1B59-2EEE-43CB-BC67-2EDFD447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4F799-5DA7-499F-A278-9FA33A82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F6E04-E79E-4149-8169-51834E2F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CD220-F948-4A38-BA27-4B0366EE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E7E5D-8ACE-4860-8206-E9DE1052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F46B6-69E3-4986-8F18-2EFEF8AD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C2C34-9F71-4347-878C-2783CCC2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7B930-F9AA-4E25-96DC-E4000A44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6FB57-FA30-4BA7-AFC0-9C9D57BB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27BB6-FFB0-4866-ABEB-48050677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3C8B2-D29C-4A9D-8049-EF06BE20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DE5D7-C169-4541-B31F-DCEF205B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46CCD-2169-4C2C-9804-BDC5BE1A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E85B0-E42A-4633-956E-E7315E9C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64F5E-FB96-49F8-95C3-9E902851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54C73-DFC5-417D-984A-334B7FE4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15D11-E6E2-41FB-B0D2-1F35923F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21231-5E3C-4986-A68B-248A494E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87002-27A9-4C9E-8D79-934A6A74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10402-B1E7-4F35-AB06-8A4D9BF8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269F5-3A47-413B-8566-E730EBB2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1934A-5C5C-449B-84DD-2F60D1BB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D18B6-8AA5-4ACC-B8BF-2EA87F5B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2CA2E-8A21-48EE-AB3F-041E2129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54D4F-15AD-46B0-BAF6-B0916589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A1D62-AAE3-4C4E-A528-27C8C415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63C26-B29D-4B36-B429-4ED4F305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AB2E7-74C4-4795-A860-7DCCAEF2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1BEF2-9B56-4DB3-89A6-00F57654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4E42A-E9D3-44E8-BF84-7AAE42D6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D891C-4348-434A-ABC7-4C09AED8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81386-BED4-4CDE-8F57-79D461E8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EDACE-8F57-473F-A557-9BB6CDD3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10411-5646-4518-8DE1-CA481C59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BA065-BCBE-48D3-BD4A-47904A24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B5319-9C7F-42A6-A7AD-E523545F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3811D-6C04-4108-A102-363B9D48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1A6B8-6B00-4792-B8BA-849DA474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43ECC-BDB1-4E1A-B3AE-BD408401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CF03B-47C2-4FCC-A98E-BDAD2372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E41AB-5F35-4644-AE66-F9C93A19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E4DBE-C031-4AEF-8B90-7A7231D2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E972F-CC5B-4D35-B4CB-AB9BBDE2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1C9FE-E5CE-40D4-BEC1-9A8F959E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5AD33-21E9-4640-BD31-4D89DC7E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72F51-DEFF-475B-AFC4-D3F5A773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B5E-5B8F-4FDD-9CF2-6E5F7711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974F6-388A-4749-9FFA-31A15397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CF6D2-6CF1-4CC2-9F8F-0D668D9E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1865A-64D1-457F-8A6A-45255D44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7A82A-8CFD-49ED-83E5-1BCFADE3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94F63-06DD-4BDA-86C6-D0EFE4A4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5682E-136D-467F-868B-C0961F18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7109F-8FE1-4975-852D-088C4C20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31CE5-8000-469B-92DD-8B535D41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7EF87-C018-48F9-996C-C5C5F06C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E57E9-9923-443E-A6A6-A30212B5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58AC9-F1F5-48B8-98A8-E0DB180F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3AA3B-7ED9-48E6-98DC-05663759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C60FC-67BF-4059-9A3A-FBBC21CC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41354-3FFB-45D0-A174-C115CBFF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D1F1E-54F0-46BC-9D83-A37AE702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DFDFB-E440-46B8-AAFA-AE41170C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AC7BD-66D5-4C90-AC8D-588B005E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ED0-18FD-4699-9ABB-B9E2407C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C4E-1DAF-4EF2-9296-B50CCC34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96B-0563-4C32-BA06-5B0AE3AC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324F-7B27-4B37-9804-8B662BCD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AFB-431E-45D8-919F-0F875B9C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8CE-B676-4A27-9965-6FECB361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F3CF-668C-4A99-BD65-B4D6845B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7BBA-BA09-405D-B429-DE5D3F0C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FDE6-F68A-4632-B6FE-65CC850E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2694-FB1E-45EC-9BF0-78BF9E87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B657-5CF8-413C-AE35-E34D5F26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5D2-5F47-4BFF-933F-11F95D65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C107-79F7-479F-B620-125BC61E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6BD4-0E18-4393-AC77-3BB7C9EB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5250-3CAE-4DCE-85F8-2C1558FF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1345-229F-4426-94CA-0300F5D5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66AD-0A08-402B-AC94-4852AB7C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2FF9-4C99-424F-9122-5977051C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90C8-E9DB-45AA-A92F-AF1E4301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EDD03-2CB4-4A04-8005-938A404C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486E3-9279-4A2B-B684-52BBE405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AEA97-C43D-436F-8574-C5CCE17A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1.png"/><Relationship Id="rId3" Type="http://schemas.openxmlformats.org/officeDocument/2006/relationships/image" Target="../media/image19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C1D35-2F39-4441-A40B-1FEED7A06308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80CF9-20C4-46DE-BD9B-EB97F99BBB23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3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59D38-58D5-418B-87B1-461FCD26A870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46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78E04-F461-4CD5-A653-2371EED8CF90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AA4E0-D01A-4179-9E0F-B042AC365A63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46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5D648-548C-4350-9C3D-9B8C86CBC393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rcRect l="0" t="0" r="0" b="12327"/>
          <a:stretch/>
        </p:blipFill>
        <p:spPr>
          <a:xfrm>
            <a:off x="0" y="0"/>
            <a:ext cx="9144000" cy="60120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382BC-56AF-48C0-A4DC-07682EDD3E7D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B50E7-F65D-4C98-9374-E49229D5E9A7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0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C982A-C643-4C48-8C9F-0DD5C6F88565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DDF23-1BE1-4501-9B73-3822D6C38A9D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4" name="Pictur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0C627-2D15-4E85-8180-60599C7D6026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ED023-F619-486E-8173-629A60BCBD9A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88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2B888-6B05-4C42-B378-DFAF99D5F5D1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EDD9D-0E6B-416B-A815-0E0B3008F16F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32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FF839-A572-4C9F-B943-1A40E556C6FC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BE4D2-BAEF-4DFC-848D-E6ACD8EFAF65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76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3BBAE-EE3A-4DD9-BF0B-7B9EA77B34AE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06EA1-BB0F-44D9-A9CB-8A5E9EAFE3D5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20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11C9D-0E2A-42AD-8448-E09B730583F0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20530-C6C2-44FC-8AE6-913E023B1511}" type="slidenum">
              <a:rPr b="0" lang="en-US" sz="2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64" name="Pictur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Picture 8" descr=""/>
            <p:cNvPicPr/>
            <p:nvPr/>
          </p:nvPicPr>
          <p:blipFill>
            <a:blip r:embed="rId3"/>
            <a:stretch/>
          </p:blipFill>
          <p:spPr>
            <a:xfrm>
              <a:off x="294120" y="2664360"/>
              <a:ext cx="3780720" cy="140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6" name="Picture 3" descr=""/>
          <p:cNvPicPr/>
          <p:nvPr/>
        </p:nvPicPr>
        <p:blipFill>
          <a:blip r:embed="rId4"/>
          <a:stretch/>
        </p:blipFill>
        <p:spPr>
          <a:xfrm>
            <a:off x="7294680" y="5958000"/>
            <a:ext cx="1671480" cy="6570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2" descr="D:\DATA.IDB\Documents\CARLOS_AG\01-SPD\00-IDB-identity\logos\BID_LOGOS_BLANCO\BID_LOGOS_BLANCO\BID_LOGOS_BLANCO\BID_espanol\bid_slogan_esp\bid_slogan_esp-01.png"/>
          <p:cNvPicPr/>
          <p:nvPr/>
        </p:nvPicPr>
        <p:blipFill>
          <a:blip r:embed="rId5"/>
          <a:stretch/>
        </p:blipFill>
        <p:spPr>
          <a:xfrm>
            <a:off x="210960" y="2136600"/>
            <a:ext cx="3326040" cy="2351160"/>
          </a:xfrm>
          <a:prstGeom prst="rect">
            <a:avLst/>
          </a:prstGeom>
          <a:ln w="0">
            <a:noFill/>
          </a:ln>
        </p:spPr>
      </p:pic>
      <p:sp>
        <p:nvSpPr>
          <p:cNvPr id="768" name="Straight Connector 11"/>
          <p:cNvSpPr/>
          <p:nvPr/>
        </p:nvSpPr>
        <p:spPr>
          <a:xfrm>
            <a:off x="579600" y="3960720"/>
            <a:ext cx="29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pic>
        <p:nvPicPr>
          <p:cNvPr id="769" name="Picture 2" descr="C:\Users\carlosag\Desktop\Twitter_logo_white.png"/>
          <p:cNvPicPr/>
          <p:nvPr/>
        </p:nvPicPr>
        <p:blipFill>
          <a:blip r:embed="rId6"/>
          <a:stretch/>
        </p:blipFill>
        <p:spPr>
          <a:xfrm>
            <a:off x="561960" y="4684680"/>
            <a:ext cx="293760" cy="239760"/>
          </a:xfrm>
          <a:prstGeom prst="rect">
            <a:avLst/>
          </a:prstGeom>
          <a:ln w="0">
            <a:noFill/>
          </a:ln>
        </p:spPr>
      </p:pic>
      <p:pic>
        <p:nvPicPr>
          <p:cNvPr id="770" name="Group 13" descr=""/>
          <p:cNvPicPr/>
          <p:nvPr/>
        </p:nvPicPr>
        <p:blipFill>
          <a:blip r:embed="rId7"/>
          <a:stretch/>
        </p:blipFill>
        <p:spPr>
          <a:xfrm>
            <a:off x="549360" y="4297320"/>
            <a:ext cx="315720" cy="16524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"/>
            <p:cNvPicPr/>
            <p:nvPr/>
          </p:nvPicPr>
          <p:blipFill>
            <a:blip r:embed="rId3"/>
            <a:stretch/>
          </p:blipFill>
          <p:spPr>
            <a:xfrm>
              <a:off x="7331400" y="5891040"/>
              <a:ext cx="1724400" cy="82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Picture 2" descr="D:\DATA.IDB\Documents\CARLOS_AG\01-SPD\00-IDB-identity\logos\BID_LOGOS_BLANCO\BID_LOGOS_BLANCO\BID_LOGOS_BLANCO\BID_espanol\bid_español_solo\BID-01.png"/>
          <p:cNvPicPr/>
          <p:nvPr/>
        </p:nvPicPr>
        <p:blipFill>
          <a:blip r:embed="rId4"/>
          <a:stretch/>
        </p:blipFill>
        <p:spPr>
          <a:xfrm>
            <a:off x="7410600" y="5748480"/>
            <a:ext cx="1566720" cy="1108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55680" y="63482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Oficina de Planificación Estratégica y Efectividad en el Desarrollo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2" descr="C:\Users\michaelaw\Desktop\Picture2.pn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7" descr="http://idbnet.iadb.org/sites/identity/en/Documents/Logo%20IDB/Spanish/Color/Medium%20resolution/BID_eslogan_español_MR-150dpi_color.png"/>
          <p:cNvPicPr/>
          <p:nvPr/>
        </p:nvPicPr>
        <p:blipFill>
          <a:blip r:embed="rId3"/>
          <a:stretch/>
        </p:blipFill>
        <p:spPr>
          <a:xfrm>
            <a:off x="353880" y="2101680"/>
            <a:ext cx="3362400" cy="237816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3" descr="C:\Users\michaelaw\Desktop\Twitter bird.png"/>
          <p:cNvPicPr/>
          <p:nvPr/>
        </p:nvPicPr>
        <p:blipFill>
          <a:blip r:embed="rId4"/>
          <a:stretch/>
        </p:blipFill>
        <p:spPr>
          <a:xfrm>
            <a:off x="638280" y="4640400"/>
            <a:ext cx="291960" cy="244440"/>
          </a:xfrm>
          <a:prstGeom prst="rect">
            <a:avLst/>
          </a:prstGeom>
          <a:ln w="0">
            <a:noFill/>
          </a:ln>
        </p:spPr>
      </p:pic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Picture 2" descr="C:\Users\michaelaw\Desktop\Picture1.png"/>
          <p:cNvPicPr/>
          <p:nvPr/>
        </p:nvPicPr>
        <p:blipFill>
          <a:blip r:embed="rId2"/>
          <a:stretch/>
        </p:blipFill>
        <p:spPr>
          <a:xfrm>
            <a:off x="-11160" y="0"/>
            <a:ext cx="9167760" cy="68580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7" descr="http://idbnet.iadb.org/sites/identity/en/Documents/Logo%20IDB/Spanish/Color/Medium%20resolution/BID_eslogan_español_MR-150dpi_color.png"/>
          <p:cNvPicPr/>
          <p:nvPr/>
        </p:nvPicPr>
        <p:blipFill>
          <a:blip r:embed="rId3"/>
          <a:stretch/>
        </p:blipFill>
        <p:spPr>
          <a:xfrm>
            <a:off x="353880" y="2101680"/>
            <a:ext cx="3362400" cy="23781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C:\Users\michaelaw\Desktop\Twitter bird.png"/>
          <p:cNvPicPr/>
          <p:nvPr/>
        </p:nvPicPr>
        <p:blipFill>
          <a:blip r:embed="rId4"/>
          <a:stretch/>
        </p:blipFill>
        <p:spPr>
          <a:xfrm>
            <a:off x="638280" y="4640400"/>
            <a:ext cx="291960" cy="24444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michaelaw\Documents\MyJabberFiles\carlosag@ipt.iadb.org\Grey background 2.png"/>
          <p:cNvPicPr/>
          <p:nvPr/>
        </p:nvPicPr>
        <p:blipFill>
          <a:blip r:embed="rId2"/>
          <a:stretch/>
        </p:blipFill>
        <p:spPr>
          <a:xfrm>
            <a:off x="-61920" y="-39600"/>
            <a:ext cx="9267840" cy="69339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355680" y="63482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000" spc="-1" strike="noStrike">
                <a:solidFill>
                  <a:srgbClr val="7f7f7f"/>
                </a:solidFill>
                <a:latin typeface="Arial"/>
              </a:rPr>
              <a:t>Oficina de Planificación Estratégica y Efectividad en el Desarrollo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pic>
        <p:nvPicPr>
          <p:cNvPr id="86" name="Picture 2" descr="C:\Users\michaelaw\OneDrive - Inter-American Development Bank Group\BID_sin descriptor_ByN_MR_150dpi.png"/>
          <p:cNvPicPr/>
          <p:nvPr/>
        </p:nvPicPr>
        <p:blipFill>
          <a:blip r:embed="rId3"/>
          <a:stretch/>
        </p:blipFill>
        <p:spPr>
          <a:xfrm>
            <a:off x="7289640" y="5761080"/>
            <a:ext cx="1616400" cy="1143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Users\michaelaw\Documents\MyJabberFiles\carlosag@ipt.iadb.org\Grey background.png"/>
          <p:cNvPicPr/>
          <p:nvPr/>
        </p:nvPicPr>
        <p:blipFill>
          <a:blip r:embed="rId2"/>
          <a:stretch/>
        </p:blipFill>
        <p:spPr>
          <a:xfrm>
            <a:off x="-63360" y="0"/>
            <a:ext cx="9216720" cy="689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michaelaw\OneDrive - Inter-American Development Bank Group\BID_sin descriptor_ByN_MR_150dpi.png"/>
          <p:cNvPicPr/>
          <p:nvPr/>
        </p:nvPicPr>
        <p:blipFill>
          <a:blip r:embed="rId3"/>
          <a:stretch/>
        </p:blipFill>
        <p:spPr>
          <a:xfrm>
            <a:off x="7289640" y="5761080"/>
            <a:ext cx="1616400" cy="1143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355680" y="63482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000" spc="-1" strike="noStrike">
                <a:solidFill>
                  <a:srgbClr val="7f7f7f"/>
                </a:solidFill>
                <a:latin typeface="Arial"/>
              </a:rPr>
              <a:t>Oficina de Planificación Estratégica y Efectividad en el Desarrollo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355680" y="63482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Oficina de Planificación Estratégica y Efectividad en el Desarrollo</a:t>
            </a:r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pic>
        <p:nvPicPr>
          <p:cNvPr id="167" name="Picture 3" descr="C:\Users\michaelaw\OneDrive - Inter-American Development Bank Group\BID_Spanish_Without descriptor_White_PNG.png"/>
          <p:cNvPicPr/>
          <p:nvPr/>
        </p:nvPicPr>
        <p:blipFill>
          <a:blip r:embed="rId2"/>
          <a:stretch/>
        </p:blipFill>
        <p:spPr>
          <a:xfrm>
            <a:off x="7201080" y="5743440"/>
            <a:ext cx="1616040" cy="1143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michaelaw\Desktop\logo_english_white_without%20descriptor.png"/>
          <p:cNvPicPr/>
          <p:nvPr/>
        </p:nvPicPr>
        <p:blipFill>
          <a:blip r:embed="rId2"/>
          <a:stretch/>
        </p:blipFill>
        <p:spPr>
          <a:xfrm>
            <a:off x="7313760" y="5753160"/>
            <a:ext cx="1617480" cy="1143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michaelaw\OneDrive - Inter-American Development Bank Group\BID_sin descriptor_ByN_MR_150dpi.png"/>
          <p:cNvPicPr/>
          <p:nvPr/>
        </p:nvPicPr>
        <p:blipFill>
          <a:blip r:embed="rId3"/>
          <a:stretch/>
        </p:blipFill>
        <p:spPr>
          <a:xfrm>
            <a:off x="7289640" y="5761080"/>
            <a:ext cx="1616400" cy="1143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7351560" y="5756400"/>
            <a:ext cx="1552680" cy="965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4"/>
          <a:stretch/>
        </p:blipFill>
        <p:spPr>
          <a:xfrm>
            <a:off x="7351560" y="5832360"/>
            <a:ext cx="1552680" cy="7714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8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2" descr=""/>
            <p:cNvPicPr/>
            <p:nvPr/>
          </p:nvPicPr>
          <p:blipFill>
            <a:blip r:embed="rId3"/>
            <a:stretch/>
          </p:blipFill>
          <p:spPr>
            <a:xfrm>
              <a:off x="7162920" y="5712120"/>
              <a:ext cx="1857240" cy="10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5D7E9-472D-4CC9-93E4-CCBBC24B2C3D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6"/>
          </p:nvPr>
        </p:nvSpPr>
        <p:spPr>
          <a:xfrm>
            <a:off x="6552720" y="6346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B4496-8DBA-400E-86F0-13D592EF22BB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073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c3c3c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BA52A-5978-448A-9660-1884A4921069}" type="datetime">
              <a:rPr b="0" lang="en-US" sz="1000" spc="-1" strike="noStrike">
                <a:solidFill>
                  <a:srgbClr val="919191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9"/>
          </p:nvPr>
        </p:nvSpPr>
        <p:spPr>
          <a:xfrm>
            <a:off x="6552720" y="6346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1919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BC88C-2D2B-42EA-BDF0-FE8D8BC0F7C4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25000" y="2616120"/>
            <a:ext cx="8496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Número y Título de Proyecto</a:t>
            </a:r>
            <a:endParaRPr b="0" lang="en-US" sz="32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345600" y="4270320"/>
            <a:ext cx="4545000" cy="7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Nombres Equipo de Evaluación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45600" y="5744880"/>
            <a:ext cx="3481560" cy="2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Fecha y lugar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880920" y="4180680"/>
            <a:ext cx="35942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1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80920" y="4684320"/>
            <a:ext cx="35942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1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7010280" y="6346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817AA-3DEE-46A2-B38C-6AF10240956B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5073"/>
                </a:solidFill>
                <a:latin typeface="Arial Black"/>
              </a:rPr>
              <a:t>Problema</a:t>
            </a:r>
            <a:endParaRPr b="0" lang="en-US" sz="32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7200" y="1600200"/>
            <a:ext cx="812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Arial"/>
                <a:ea typeface="Arial"/>
              </a:rPr>
              <a:t>Describe el diagnostico y problema de desarrollo que la intervención busca resolver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5073"/>
                </a:solidFill>
                <a:latin typeface="Arial Black"/>
              </a:rPr>
              <a:t>Intervención</a:t>
            </a:r>
            <a:r>
              <a:rPr b="0" lang="es-ES_tradnl" sz="3200" spc="-1" strike="noStrike">
                <a:solidFill>
                  <a:srgbClr val="005073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457200" y="1600200"/>
            <a:ext cx="812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Arial"/>
                <a:ea typeface="Arial"/>
              </a:rPr>
              <a:t>Breve resumen de la intervención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6553080" y="6346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B2797-E9FA-4AF3-BA90-DB3EC31D8454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5073"/>
                </a:solidFill>
                <a:latin typeface="Arial Black"/>
              </a:rPr>
              <a:t>Teoria del Cambio</a:t>
            </a:r>
            <a:endParaRPr b="0" lang="en-US" sz="3200" spc="-1" strike="noStrike">
              <a:solidFill>
                <a:srgbClr val="005073"/>
              </a:solidFill>
              <a:latin typeface="Arial Black"/>
            </a:endParaRPr>
          </a:p>
        </p:txBody>
      </p:sp>
      <p:pic>
        <p:nvPicPr>
          <p:cNvPr id="907" name="Content Placeholder 4" descr=""/>
          <p:cNvPicPr/>
          <p:nvPr/>
        </p:nvPicPr>
        <p:blipFill>
          <a:blip r:embed="rId1"/>
          <a:stretch/>
        </p:blipFill>
        <p:spPr>
          <a:xfrm>
            <a:off x="457200" y="1182600"/>
            <a:ext cx="8242200" cy="4664160"/>
          </a:xfrm>
          <a:prstGeom prst="rect">
            <a:avLst/>
          </a:prstGeom>
          <a:ln w="0">
            <a:noFill/>
          </a:ln>
        </p:spPr>
      </p:pic>
      <p:sp>
        <p:nvSpPr>
          <p:cNvPr id="90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80799-E67F-46A2-BF0E-66B21213EA7D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457200" y="6072120"/>
          <a:ext cx="8312040" cy="371520"/>
        </p:xfrm>
        <a:graphic>
          <a:graphicData uri="http://schemas.openxmlformats.org/drawingml/2006/table">
            <a:tbl>
              <a:tblPr/>
              <a:tblGrid>
                <a:gridCol w="4973760"/>
                <a:gridCol w="3338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cion (Oferta)</a:t>
                      </a:r>
                      <a:endParaRPr b="0" lang="en-US" sz="1600" spc="-1" strike="noStrike">
                        <a:solidFill>
                          <a:srgbClr val="3c3c3c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b4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dos (Oferta + Demanda)</a:t>
                      </a:r>
                      <a:endParaRPr b="0" lang="en-US" sz="1600" spc="-1" strike="noStrike">
                        <a:solidFill>
                          <a:srgbClr val="3c3c3c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b4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0" name=""/>
          <p:cNvGraphicFramePr/>
          <p:nvPr/>
        </p:nvGraphicFramePr>
        <p:xfrm>
          <a:off x="404640" y="1909800"/>
          <a:ext cx="8371080" cy="4162320"/>
        </p:xfrm>
        <a:graphic>
          <a:graphicData uri="http://schemas.openxmlformats.org/drawingml/2006/table">
            <a:tbl>
              <a:tblPr/>
              <a:tblGrid>
                <a:gridCol w="1675080"/>
                <a:gridCol w="1673280"/>
                <a:gridCol w="1674720"/>
                <a:gridCol w="1673280"/>
                <a:gridCol w="1674720"/>
              </a:tblGrid>
              <a:tr h="11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ursos Humanos, Financieros, otros movilizados para apoyar actividades</a:t>
                      </a:r>
                      <a:endParaRPr b="0" lang="en-US" sz="1100" spc="-1" strike="noStrike">
                        <a:solidFill>
                          <a:srgbClr val="3c3c3c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b4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iones tomadas o trabajo realizado para convertir insumos en productos especificos</a:t>
                      </a:r>
                      <a:endParaRPr b="0" lang="en-US" sz="1100" spc="-1" strike="noStrike">
                        <a:solidFill>
                          <a:srgbClr val="3c3c3c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b4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enes y servicios producidos  y entregados bajo control del implementador</a:t>
                      </a:r>
                      <a:endParaRPr b="0" lang="en-US" sz="1100" spc="-1" strike="noStrike">
                        <a:solidFill>
                          <a:srgbClr val="3c3c3c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b4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o de productos por  parte de poblacion de interes</a:t>
                      </a:r>
                      <a:endParaRPr b="0" lang="en-US" sz="1100" spc="-1" strike="noStrike">
                        <a:solidFill>
                          <a:srgbClr val="3c3c3c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b4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tivos finales del programa o metas de largo plazo</a:t>
                      </a:r>
                      <a:endParaRPr b="0" lang="en-US" sz="1100" spc="-1" strike="noStrike">
                        <a:solidFill>
                          <a:srgbClr val="3c3c3c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b428"/>
                    </a:solidFill>
                  </a:tcPr>
                </a:tc>
              </a:tr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c3c3c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c3c3c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c3c3c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c3c3c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3c3c3c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5073"/>
                </a:solidFill>
                <a:latin typeface="Arial Black"/>
              </a:rPr>
              <a:t>Preguntas de Evaluacion</a:t>
            </a:r>
            <a:endParaRPr b="0" lang="en-US" sz="32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457200" y="1600200"/>
            <a:ext cx="812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Arial"/>
                <a:ea typeface="Arial"/>
              </a:rPr>
              <a:t>Aspectos del proyecto a evaluarse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Arial"/>
                <a:ea typeface="Arial"/>
              </a:rPr>
              <a:t>Indicadores de resultado claves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Arial"/>
                <a:ea typeface="Arial"/>
              </a:rPr>
              <a:t>Formulacion de preguntas: Cual es el impacto de PROGRAMA sobre RESULTADOS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12566-06FA-445B-BC9D-1594CD85EF79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5073"/>
                </a:solidFill>
                <a:latin typeface="Arial Black"/>
              </a:rPr>
              <a:t>Metodología</a:t>
            </a:r>
            <a:endParaRPr b="0" lang="en-US" sz="32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457200" y="11426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Arial"/>
                <a:ea typeface="Arial"/>
              </a:rPr>
              <a:t>Estrategia de Identificación: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Arial"/>
                <a:ea typeface="Arial"/>
              </a:rPr>
              <a:t>Experimental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Arial"/>
                <a:ea typeface="Arial"/>
              </a:rPr>
              <a:t>Quasi-experimental (IV, RDD, Dif-Dif, Matching)</a:t>
            </a:r>
            <a:endParaRPr b="0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B741D-F2BA-44AC-9893-BF2130A8DF24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5073"/>
                </a:solidFill>
                <a:latin typeface="Arial Black"/>
              </a:rPr>
              <a:t>Tamaño y Composición de Muestra</a:t>
            </a:r>
            <a:endParaRPr b="0" lang="en-US" sz="32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8C8D5-D61C-4AE0-AAD5-9EF35AEC1F7B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457200" y="11426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Arial"/>
                <a:ea typeface="Arial"/>
              </a:rPr>
              <a:t>Calculos de Potencia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Arial"/>
                <a:ea typeface="Arial"/>
              </a:rPr>
              <a:t>Procedimiento para selección de la muestra</a:t>
            </a:r>
            <a:endParaRPr b="0" lang="en-US" sz="2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5073"/>
                </a:solidFill>
                <a:latin typeface="Arial Black"/>
              </a:rPr>
              <a:t>Presupuesto de Evaluacion de Impacto</a:t>
            </a:r>
            <a:endParaRPr b="0" lang="en-US" sz="32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57200" y="1600200"/>
            <a:ext cx="812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FE618-626B-4B76-A108-8BD87F3593A4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5073"/>
                </a:solidFill>
                <a:latin typeface="Arial Black"/>
              </a:rPr>
              <a:t>Cronograma de Actividades</a:t>
            </a:r>
            <a:endParaRPr b="0" lang="en-US" sz="3200" spc="-1" strike="noStrike">
              <a:solidFill>
                <a:srgbClr val="005073"/>
              </a:solidFill>
              <a:latin typeface="Arial Black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58533-99A6-4ADD-A482-6EABDE2E5124}" type="slidenum">
              <a:rPr b="0" lang="en-US" sz="10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c3c3c"/>
              </a:solidFill>
              <a:latin typeface="Calibri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457200" y="1600200"/>
            <a:ext cx="812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18:54:59Z</dcterms:created>
  <dc:creator>nialvarez</dc:creator>
  <dc:description/>
  <dc:language>en-US</dc:language>
  <cp:lastModifiedBy>Test</cp:lastModifiedBy>
  <dcterms:modified xsi:type="dcterms:W3CDTF">2016-06-22T19:30:26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