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7225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7C2F3-7772-4CD9-A825-1AF8222D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3"/>
          </p:nvPr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611B06-3673-44B2-BCA8-3DE21EC6C35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B9EF9AB0-00EF-42DD-B842-85C36E0C945D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CA08007E-6930-4ACF-8488-042F7A51C3E1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FCD4E14F-0670-4B07-AD2D-CC30ACA13542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65EE7A83-5EB3-4F48-827B-F31DBF0B2D94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9CCEE045-79C2-4881-BDEE-4B310560D5B4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E2777BBF-97F0-4446-999A-3B8D396CDC35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260AA947-AE52-4E14-A7E7-485E6D44CA57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1C112902-6052-41E3-8DF5-4EEFDEA08612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3DB8C04E-C750-4C32-9112-9AD1A75F9FCF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4A1AD5B6-BE60-4A90-8B57-4FDD51FF61F3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4"/>
          </p:nvPr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3B6A4C-F087-4E74-8F38-EE07641F307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5"/>
          </p:nvPr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6B5653-FFDD-4C1A-85B9-62D71E94C45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0CDB7267-6649-4FB0-8D77-6C8A62436FC0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284B35B2-3690-48C8-A416-4CDD14E94526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2920" cy="3482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0200" y="4411800"/>
            <a:ext cx="560664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968640" y="8821800"/>
            <a:ext cx="3036600" cy="46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5793E45E-F182-4D2F-A97D-C47F6325C347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80C-00E8-4A19-8A4D-229B3632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AB3-ACBE-4823-BDB2-D7764DE6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DDB-C925-4662-B396-AB0E4395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CD2-3F49-4863-A64A-A39B34CD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B32-E6F6-4111-8A2D-B012DE2C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7EA9-4893-4E04-AD81-C63E3B5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5C82-3EBA-45AA-B314-E8D6F08D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4DC-0757-49AC-870D-DD8AFADE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03E-61E8-4A80-8CB4-EDA31680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11B-74E8-4A99-9724-7E99BEB4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5E5A-2A23-49C0-9F0E-5C0BC97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2BA-1737-48F5-BE6C-5A3207A4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ED27-7181-45AB-8378-BBA2F10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B994-E689-4C2D-AEF5-3CD7B9A5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DA9-D371-4D64-B2D0-23496B9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EDE5-D612-46F2-B8F8-435D8852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6844-7233-4746-AB26-DFFF2E05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DAE4-5FD8-4CFF-9BCB-6A975568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F997-D6C4-46A4-B2EE-21C6F43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51D6-A25A-4E43-980F-00C0EBC4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4E42-8907-4B7E-A20B-EBB1003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1D98-26CE-427A-86D2-63FF8CE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EA4-C347-457E-99A8-513FB7E0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35DD-FBA5-434C-AA0D-E8949F4A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A8A9-2ED2-4FFD-975E-0BE19C48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C3CA-7E94-4B60-A69D-43908D48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121C-2A07-4D5B-817C-EA6178A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7C2F-130C-471E-88D8-6ADFAB66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9A9A-E041-40AD-B2DC-9E9E8239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07BC-3CAF-4852-BFE2-A004C91F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98D-DF47-44E1-A39A-B6B045E5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0DB-E068-40F3-A04C-CDFFA39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A22-F781-4362-9A4D-0366FD7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DFE-B9A4-4388-9C9F-3B9CE08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586-2AC7-497F-836F-0D05A62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8D8-0760-438B-B87B-EFA18F76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MX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C5A4D6-CBA7-41C3-98B8-C1740B1EBC7B}" type="slidenum">
              <a:rPr b="0" lang="es-MX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MX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8ACA6D-F34E-43A6-8403-D0E1EB3DB62C}" type="slidenum">
              <a:rPr b="0" lang="es-MX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MX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MX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9DE2E9-E8FB-4F06-BB9F-E30C13DC2E4E}" type="slidenum">
              <a:rPr b="0" lang="es-MX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9591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_tradnl" sz="4400" spc="-1" strike="noStrike">
                <a:solidFill>
                  <a:srgbClr val="99cc00"/>
                </a:solidFill>
                <a:latin typeface="Segoe UI"/>
              </a:rPr>
              <a:t>Proyecto Forestal en el</a:t>
            </a:r>
            <a:br>
              <a:rPr sz="4400"/>
            </a:br>
            <a:r>
              <a:rPr b="1" lang="es-ES_tradnl" sz="4400" spc="-1" strike="noStrike">
                <a:solidFill>
                  <a:srgbClr val="99cc00"/>
                </a:solidFill>
                <a:latin typeface="Segoe UI"/>
              </a:rPr>
              <a:t>Estado de Yucatán</a:t>
            </a: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959120" y="5969160"/>
            <a:ext cx="65736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12840" y="5734080"/>
            <a:ext cx="671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2400" spc="-1" strike="noStrike">
                <a:solidFill>
                  <a:srgbClr val="99cc00"/>
                </a:solidFill>
                <a:latin typeface="Segoe UI"/>
              </a:rPr>
              <a:t>Mérida, Yucatán a 27 de Abril d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733040" cy="6188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6" descr="logo"/>
          <p:cNvPicPr/>
          <p:nvPr/>
        </p:nvPicPr>
        <p:blipFill>
          <a:blip r:embed="rId2"/>
          <a:stretch/>
        </p:blipFill>
        <p:spPr>
          <a:xfrm>
            <a:off x="7451640" y="260280"/>
            <a:ext cx="1223640" cy="798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1 Título"/>
          <p:cNvSpPr/>
          <p:nvPr/>
        </p:nvSpPr>
        <p:spPr>
          <a:xfrm>
            <a:off x="0" y="431640"/>
            <a:ext cx="9143640" cy="98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1: Programa de Desarrollo  Comunitario Sust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95280" y="1571760"/>
            <a:ext cx="8497440" cy="530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Selección del Grupo de Técnico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, expertos en diferentes áreas como: Suelos, Agricultura, Apicultura, Ganadería, Forestal (manejo de selvas bajas), Antropología, Salud, Educación y Soci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Análisis de la situación de las Comunidade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: acercamiento y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Elaboración del Plan Integral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de Desarrollo Comunitario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: que contemple Guías Metodológicas y Planes de Acción por Comunidad incluyendo un </a:t>
            </a:r>
            <a:r>
              <a:rPr b="1" lang="es-MX" sz="1800" spc="-1" strike="noStrike">
                <a:solidFill>
                  <a:srgbClr val="cc3300"/>
                </a:solidFill>
                <a:latin typeface="Segoe UI"/>
              </a:rPr>
              <a:t>PLAN INTEGRAL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Capacitación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: para Gobierno Estatal, Técnicos Facilitadores, Autoridades Municipales, Participantes de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Ejecución del Programa: 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incluyendo el desarrollo de actividades económicas que ofrezcan ingresos adicionales a las comun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Monitoreo y Eval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324000" y="333360"/>
            <a:ext cx="822780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s-E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0" y="547560"/>
            <a:ext cx="9143640" cy="129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2: Conservación y manejo sustentable de las selvas en las comunidades mayas en situación de pob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684360" y="4292640"/>
            <a:ext cx="686088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19120" y="4024440"/>
            <a:ext cx="79401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79480" y="4529160"/>
            <a:ext cx="686088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431640" y="2276640"/>
            <a:ext cx="828000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Su objetivo es articular acciones para superar los niveles de pobreza asociados con la deforestación y degradación forestal  tales como </a:t>
            </a:r>
            <a:r>
              <a:rPr b="0" lang="es-ES_tradnl" sz="1800" spc="-1" strike="noStrike">
                <a:solidFill>
                  <a:srgbClr val="000000"/>
                </a:solidFill>
                <a:latin typeface="Segoe UI"/>
              </a:rPr>
              <a:t>medidas de </a:t>
            </a:r>
            <a:r>
              <a:rPr b="1" lang="es-ES_tradnl" sz="1800" spc="-1" strike="noStrike">
                <a:solidFill>
                  <a:srgbClr val="a50021"/>
                </a:solidFill>
                <a:latin typeface="Segoe UI"/>
              </a:rPr>
              <a:t>i) degradación evitada; ii) conservación de stock de carbono y iii) reforestación</a:t>
            </a:r>
            <a:r>
              <a:rPr b="0" lang="es-ES_tradnl" sz="1800" spc="-1" strike="noStrike">
                <a:solidFill>
                  <a:srgbClr val="000000"/>
                </a:solidFill>
                <a:latin typeface="Segoe UI"/>
              </a:rPr>
              <a:t> a través de 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la transferencia de recursos a las familias en situación de pobreza alimentaria sujeto a objetivos de manejo forestal susten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Se aplicarán medidas relacionadas con la </a:t>
            </a:r>
            <a:r>
              <a:rPr b="0" lang="es-MX" sz="1800" spc="-1" strike="noStrike">
                <a:solidFill>
                  <a:srgbClr val="a50021"/>
                </a:solidFill>
                <a:latin typeface="Segoe UI"/>
              </a:rPr>
              <a:t>reforestación con especies nativa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de las áreas utilizadas para la milpa para acelerar la recuperación forestal de las áreas degradadas así como </a:t>
            </a:r>
            <a:r>
              <a:rPr b="0" lang="es-MX" sz="1800" spc="-1" strike="noStrike">
                <a:solidFill>
                  <a:srgbClr val="a50021"/>
                </a:solidFill>
                <a:latin typeface="Segoe UI"/>
              </a:rPr>
              <a:t>el empleo de mejores técnicas de producción agrícola y pecuaria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para reducir el incremento de la frontera de la agricultura de temporal tradicional; adicionalmente se aplicará la </a:t>
            </a:r>
            <a:r>
              <a:rPr b="0" lang="es-MX" sz="1800" spc="-1" strike="noStrike">
                <a:solidFill>
                  <a:srgbClr val="a50021"/>
                </a:solidFill>
                <a:latin typeface="Segoe UI"/>
              </a:rPr>
              <a:t>reforestación como un capital futuro para las comun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a50021"/>
                </a:solidFill>
                <a:latin typeface="Segoe UI"/>
              </a:rPr>
              <a:t>En este componente se tratará implementar proyectos REDD Plus  para el manejo sustentable de selvas en buen estado de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1 Título"/>
          <p:cNvSpPr/>
          <p:nvPr/>
        </p:nvSpPr>
        <p:spPr>
          <a:xfrm>
            <a:off x="0" y="476280"/>
            <a:ext cx="9143640" cy="13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2: Conservación y manejo sustentable de las selvas en las comunidades mayas en situación de pob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42920" y="2133720"/>
            <a:ext cx="8856360" cy="374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Identificar y seleccionar las familias de bajos ingresos, en pobreza alimen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Identificar y seleccionar los paquetes técnicos para mejorar la productividad agrí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Capacitar a los jefes de las familias en el manejo sustentable de las áreas forestales, reforestación y mane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Capacitar y transferir los paquetes técnicos para la producción de especies nativas en viveros comunit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Capacitar y transferir los paquetes técnicos para mejorar la productividad agrí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Dotar de la infraestructura de apoyo necesaria para la producción de plantas nativas en viv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Dotar de infraestructura de apoyo para mejorar la productividad agrícola en las áreas de mil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Realizar el acompañamiento técnico de apoyo para el manejo forestal sustentable de las selvas tanto para la producción en viveros comunitarios como para la refores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Proporcionar el acompañamiento y asesoría para implementar las practicas agrícolas para mejorar la productividad agríc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395280"/>
            <a:ext cx="9143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3: Proyectos  de Captura de Carbono en Comunidades May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22200" y="1735200"/>
            <a:ext cx="849744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Estructurar y desarrollar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proyectos de captura de carbono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en comunidades ejidales que cumplan con los requisitos específicos y criterios metodológicos de los mercados de carbono ya sea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mediante el Mecanismo de Desarrollo Limpio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(MDL) derivado del Protocolo de Kioto como de los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mercados voluntario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de carbo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Para esto se trabajará en la promoción de las acciones de </a:t>
            </a:r>
            <a:r>
              <a:rPr b="0" lang="es-MX" sz="1800" spc="-1" strike="noStrike">
                <a:solidFill>
                  <a:srgbClr val="a50021"/>
                </a:solidFill>
                <a:latin typeface="Segoe UI"/>
              </a:rPr>
              <a:t>reforestación y aforestación en las áreas degradadas y deforestada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que cumplan con los criterios de adicionalidad y otros requeridos por los mercados de carbono, así como también en </a:t>
            </a:r>
            <a:r>
              <a:rPr b="0" lang="es-MX" sz="1800" spc="-1" strike="noStrike">
                <a:solidFill>
                  <a:srgbClr val="a50021"/>
                </a:solidFill>
                <a:latin typeface="Segoe UI"/>
              </a:rPr>
              <a:t>acciones para evitar la deforestación y degradación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que además  sea en áreas para mejorar la conservación de la biodiversidad y así preparar un proyecto forestal estatal tipo RE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95280" y="1773360"/>
            <a:ext cx="8351640" cy="475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Estudio para cuantificar áreas elegibles para diferentes tipos de actividad (reforestación, reducción de emisiones por deforestación y degradación REDD) 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i) Evaluaciones rurales rápidas y análisis de imágenes de satélite 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ii) Mediciones de stocks de carbono en el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Cuantificar áreas realmente disponibles a partir de los anteriores (elegibilidad, potencial de captura de carbono, potencial de adopción social, seguridad alimentaria de las comunidades en el largo plaz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Estimación de la línea base de las áreas de los proyectos de carbon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Registro del proyecto en los Mercad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Implementación de los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0" y="395280"/>
            <a:ext cx="9143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3: Proyectos  de Captura de Carbono en Comunidades May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0" y="466560"/>
            <a:ext cx="9143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4: Restauración y Conservación de Ecosistemas de Manglar en la Zona Cos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250920" y="1628640"/>
            <a:ext cx="856908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El objetivo de este componente es el de realizar acciones de conservación y restauración de humedales, mediante la reforestación de manglar y restauración hidrológica en estos ecosistemas costeros, para recuperar la biodiversidad, incrementar la producción biológica y los servicios ambientales vitales y reducir la vulnerabilidad al cambio cli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Los sistemas de humedales y principalmente los ecosistemas de manglar del Estado de Yucatán han sufrido un </a:t>
            </a:r>
            <a:r>
              <a:rPr b="1" lang="es-ES" sz="1800" spc="-1" strike="noStrike">
                <a:solidFill>
                  <a:srgbClr val="000000"/>
                </a:solidFill>
                <a:latin typeface="Segoe UI"/>
              </a:rPr>
              <a:t>serio proceso de deforestación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 derivado de las </a:t>
            </a:r>
            <a:r>
              <a:rPr b="1" lang="es-ES" sz="1800" spc="-1" strike="noStrike">
                <a:solidFill>
                  <a:srgbClr val="000000"/>
                </a:solidFill>
                <a:latin typeface="Segoe UI"/>
              </a:rPr>
              <a:t>presiones de crecimiento urbano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egoe UI"/>
              </a:rPr>
              <a:t>desordenado, desarrollo portuario y pesquero así como de infraestructura pública 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que perjudica la conectividad hidrológica del sistema de humedales lo anterior ha propiciado que la </a:t>
            </a:r>
            <a:r>
              <a:rPr b="1" lang="es-ES" sz="1800" spc="-1" strike="noStrike">
                <a:solidFill>
                  <a:srgbClr val="000000"/>
                </a:solidFill>
                <a:latin typeface="Segoe UI"/>
              </a:rPr>
              <a:t>pérdida anual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 de manglar sea de </a:t>
            </a:r>
            <a:r>
              <a:rPr b="1" lang="es-ES" sz="1800" spc="-1" strike="noStrike">
                <a:solidFill>
                  <a:srgbClr val="000000"/>
                </a:solidFill>
                <a:latin typeface="Segoe UI"/>
              </a:rPr>
              <a:t>147 hectáreas, </a:t>
            </a: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representando una pérdida de hábitat vital de especies florales y faunísticos, y de servicios ambientales costeros de difícil recuperación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Además que los recientes fenómenos hidrometeorológicos extremos, huracanes y nortes, han deteriorado los ecosistemas de manglar de la zona cost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0" y="466560"/>
            <a:ext cx="9143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4: Restauración y Conservación de Ecosistemas de Manglar en la Zona Cos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88920" y="1700280"/>
            <a:ext cx="8964360" cy="469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Preparación del Diagnóstico de la situación actual del estado de conservación de los Humedales Costeros de Yucatán para la identificación de las áreas prioritaria de restauración y conservación ambiental y desarrollo  de la estrategia de restauración y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Diseño del diagnóstico base para la cuantificación del volumen de carbono de acuerdo a las metodologías registradas en los mercado regulados y voluntari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Desarrollo del Programa de Educación Ambiental, Capacitación y Desarrollo Comunitario para la implementación de las acciones de restauración y conservación de los humedales cos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Establecimiento de los viveros de manglar para la refores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Restauración y Conservación de humedales costeros mediante el desazolve de manantiales y reforestación de manglares en las áreas de atención prior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Desarrollo de las acciones de monitoreo y evaluación de los indicadores de éxito del Programa de Restauración y Conservación de Humedales Cos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0" y="466560"/>
            <a:ext cx="9143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5: Capacitación y Desarrollo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85840" y="1714680"/>
            <a:ext cx="8640360" cy="344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Segoe UI"/>
              </a:rPr>
              <a:t>Para apoyar con </a:t>
            </a:r>
            <a:r>
              <a:rPr b="1" lang="es-MX" sz="2000" spc="-1" strike="noStrike">
                <a:solidFill>
                  <a:srgbClr val="a50021"/>
                </a:solidFill>
                <a:latin typeface="Segoe UI"/>
              </a:rPr>
              <a:t>información técnica especializada</a:t>
            </a:r>
            <a:r>
              <a:rPr b="0" lang="es-MX" sz="2000" spc="-1" strike="noStrike">
                <a:solidFill>
                  <a:srgbClr val="000000"/>
                </a:solidFill>
                <a:latin typeface="Segoe UI"/>
              </a:rPr>
              <a:t> y con los recursos humanos especializados a los componentes 1, 2 y 3 de este proyecto forestal se buscará con este componente la </a:t>
            </a:r>
            <a:r>
              <a:rPr b="1" lang="es-MX" sz="2000" spc="-1" strike="noStrike">
                <a:solidFill>
                  <a:srgbClr val="a50021"/>
                </a:solidFill>
                <a:latin typeface="Segoe UI"/>
              </a:rPr>
              <a:t>capacitación especializada</a:t>
            </a:r>
            <a:r>
              <a:rPr b="0" lang="es-MX" sz="2000" spc="-1" strike="noStrike">
                <a:solidFill>
                  <a:srgbClr val="000000"/>
                </a:solidFill>
                <a:latin typeface="Segoe UI"/>
              </a:rPr>
              <a:t> en las áreas de desarrollo comunitario (tecnología social), manejo forestal, metodologías aplicables a los proyectos forestales en los mercados regulados y voluntarios de carbono así como </a:t>
            </a:r>
            <a:r>
              <a:rPr b="1" lang="es-MX" sz="2000" spc="-1" strike="noStrike">
                <a:solidFill>
                  <a:srgbClr val="a50021"/>
                </a:solidFill>
                <a:latin typeface="Segoe UI"/>
              </a:rPr>
              <a:t>con infraestructura especializada para apoyar la planeación territorial y el diseño de los proyectos</a:t>
            </a:r>
            <a:r>
              <a:rPr b="0" lang="es-MX" sz="2000" spc="-1" strike="noStrike">
                <a:solidFill>
                  <a:srgbClr val="000000"/>
                </a:solidFill>
                <a:latin typeface="Segoe UI"/>
              </a:rPr>
              <a:t> de conservación y manejo sustentable de selvas y de carbono social en comunidades mayas.  De esta manera se asegura la adecuada capacidad técnica para la gestión e implementación de las acciones de los component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"/>
          <p:cNvSpPr/>
          <p:nvPr/>
        </p:nvSpPr>
        <p:spPr>
          <a:xfrm>
            <a:off x="357120" y="1928880"/>
            <a:ext cx="8496000" cy="344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>
                <a:solidFill>
                  <a:srgbClr val="000000"/>
                </a:solidFill>
                <a:latin typeface="Segoe UI"/>
              </a:rPr>
              <a:t>Actualización de los SIG e imagen de satélites entre año 2,000 y más           reciente en el Estado de Yuca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>
                <a:solidFill>
                  <a:srgbClr val="000000"/>
                </a:solidFill>
                <a:latin typeface="Segoe UI"/>
              </a:rPr>
              <a:t>Mejoramiento de los equipos relacionados con los demás componentes y talleres/cursos de capaci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Segoe UI"/>
              </a:rPr>
              <a:t>Compra de equipo necesario para el manejo de imágenes de satél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>
                <a:solidFill>
                  <a:srgbClr val="000000"/>
                </a:solidFill>
                <a:latin typeface="Segoe UI"/>
              </a:rPr>
              <a:t>Intercambio y participación en cursos, seminarios y conferencias nacionales e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0" y="466560"/>
            <a:ext cx="9143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5: Capacitación y Desarrollo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1 Título"/>
          <p:cNvSpPr/>
          <p:nvPr/>
        </p:nvSpPr>
        <p:spPr>
          <a:xfrm>
            <a:off x="1224000" y="1700280"/>
            <a:ext cx="6695640" cy="172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s-MX" sz="4400" spc="-1" strike="noStrike">
                <a:solidFill>
                  <a:srgbClr val="ff9900"/>
                </a:solidFill>
                <a:latin typeface="Segoe UI"/>
              </a:rPr>
              <a:t>Resultados y benefici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733040" cy="61884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4" descr="logo"/>
          <p:cNvPicPr/>
          <p:nvPr/>
        </p:nvPicPr>
        <p:blipFill>
          <a:blip r:embed="rId2"/>
          <a:stretch/>
        </p:blipFill>
        <p:spPr>
          <a:xfrm>
            <a:off x="7451640" y="260280"/>
            <a:ext cx="1223640" cy="79812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5" descr="Dzilam¿"/>
          <p:cNvPicPr/>
          <p:nvPr/>
        </p:nvPicPr>
        <p:blipFill>
          <a:blip r:embed="rId3"/>
          <a:stretch/>
        </p:blipFill>
        <p:spPr>
          <a:xfrm>
            <a:off x="0" y="5084640"/>
            <a:ext cx="2952360" cy="1773000"/>
          </a:xfrm>
          <a:prstGeom prst="rect">
            <a:avLst/>
          </a:prstGeom>
          <a:ln w="9525">
            <a:noFill/>
          </a:ln>
        </p:spPr>
      </p:pic>
      <p:pic>
        <p:nvPicPr>
          <p:cNvPr id="375" name="Picture 6" descr="Imagen56"/>
          <p:cNvPicPr/>
          <p:nvPr/>
        </p:nvPicPr>
        <p:blipFill>
          <a:blip r:embed="rId4"/>
          <a:stretch/>
        </p:blipFill>
        <p:spPr>
          <a:xfrm>
            <a:off x="2916360" y="5084640"/>
            <a:ext cx="3131640" cy="177300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376" name="Picture 7" descr="Imagen33"/>
          <p:cNvPicPr/>
          <p:nvPr/>
        </p:nvPicPr>
        <p:blipFill>
          <a:blip r:embed="rId5"/>
          <a:stretch/>
        </p:blipFill>
        <p:spPr>
          <a:xfrm>
            <a:off x="5904000" y="5084640"/>
            <a:ext cx="3239640" cy="177300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377" name="Line 8"/>
          <p:cNvSpPr/>
          <p:nvPr/>
        </p:nvSpPr>
        <p:spPr>
          <a:xfrm>
            <a:off x="0" y="5084640"/>
            <a:ext cx="9144000" cy="360"/>
          </a:xfrm>
          <a:prstGeom prst="line">
            <a:avLst/>
          </a:prstGeom>
          <a:ln w="8255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11680" y="189000"/>
            <a:ext cx="5842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99cc00"/>
                </a:solidFill>
                <a:latin typeface="Segoe UI"/>
              </a:rPr>
              <a:t>PROYECTO FORESTAL: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125360"/>
            <a:ext cx="5111280" cy="59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LA DEFOTRESTACIÓN DE LAS SELVAS DE YUCATÁN ESTA RELACIONADO DIRECTAMENTE CON EL CRECIMIENTO DE LA FRONTERA AGRÍCOLA DE TEMPORAL (</a:t>
            </a: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ROZA.TUMBA Y QUE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BAJA PRODUCTIVIDAD DE LOS SISTEMAS DE PRODUCCIÓN SUBSISTENCIA</a:t>
            </a: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 NO PERMITE LA RECUPERACIÓN FORESTAL DE LAS ÁREAS DE MIL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LAS</a:t>
            </a: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CONDICIONES DE ALTA MARGINACIÓN Y POBREZA</a:t>
            </a: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 DE LAS COMUNIDADES MAYAS </a:t>
            </a: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INTENSIFICA EL USO INTENSIVO DE LAS SELVA</a:t>
            </a: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 PARA CUBRIR LOS </a:t>
            </a:r>
            <a:r>
              <a:rPr b="1" lang="es-MX" sz="1600" spc="-1" strike="noStrike">
                <a:solidFill>
                  <a:srgbClr val="000000"/>
                </a:solidFill>
                <a:latin typeface="Segoe UI"/>
              </a:rPr>
              <a:t>REQUERIMIENTOS BÁSICOS DE SUBSISTENCIA </a:t>
            </a:r>
            <a:r>
              <a:rPr b="0" lang="es-MX" sz="1600" spc="-1" strike="noStrike">
                <a:solidFill>
                  <a:srgbClr val="000000"/>
                </a:solidFill>
                <a:latin typeface="Segoe UI"/>
              </a:rPr>
              <a:t>(MAÍZ, LEÑA, MATERIALES DE VIVIENDA, ET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257800" y="888840"/>
            <a:ext cx="3885840" cy="297144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9" descr="IMG_0109"/>
          <p:cNvPicPr/>
          <p:nvPr/>
        </p:nvPicPr>
        <p:blipFill>
          <a:blip r:embed="rId2"/>
          <a:stretch/>
        </p:blipFill>
        <p:spPr>
          <a:xfrm>
            <a:off x="5292720" y="4292640"/>
            <a:ext cx="3887280" cy="259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Group 29"/>
          <p:cNvGraphicFramePr/>
          <p:nvPr/>
        </p:nvGraphicFramePr>
        <p:xfrm>
          <a:off x="755640" y="907920"/>
          <a:ext cx="7632360" cy="5616360"/>
        </p:xfrm>
        <a:graphic>
          <a:graphicData uri="http://schemas.openxmlformats.org/drawingml/2006/table">
            <a:tbl>
              <a:tblPr/>
              <a:tblGrid>
                <a:gridCol w="3016080"/>
                <a:gridCol w="4616280"/>
              </a:tblGrid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on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enefici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3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Desarrollo Comunitario Susten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Comunidades de 16 Municipios con 4,639 Hab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ción y Manejo Sustentable de selvas en Comunidades Mayas en situación de pobr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Comunidades de 5 municipios con 2,801 Hab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 de Carbono Social en Comunidades May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000 Habitantes del municipio Tizimí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Restauración y Rehabilitación del Mang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159 Habitantes de las 15 localidades costeras de Yucat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ación y Desarrollo institucion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l Gobierno del Estado (SEDU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1 Título"/>
          <p:cNvSpPr/>
          <p:nvPr/>
        </p:nvSpPr>
        <p:spPr>
          <a:xfrm>
            <a:off x="0" y="0"/>
            <a:ext cx="6695640" cy="62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s-MX" sz="4400" spc="-1" strike="noStrike">
                <a:solidFill>
                  <a:srgbClr val="ff9900"/>
                </a:solidFill>
                <a:latin typeface="Segoe UI"/>
              </a:rPr>
              <a:t>Benefici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286000" y="2133720"/>
            <a:ext cx="457164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4400" spc="-1" strike="noStrike">
                <a:solidFill>
                  <a:srgbClr val="9933ff"/>
                </a:solidFill>
                <a:latin typeface="Segoe UI"/>
              </a:rPr>
              <a:t>Costos Estima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MX" sz="4400" spc="-1" strike="noStrike">
                <a:solidFill>
                  <a:srgbClr val="9933ff"/>
                </a:solidFill>
                <a:latin typeface="Segoe UI"/>
              </a:rPr>
              <a:t>por Compon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733040" cy="618840"/>
          </a:xfrm>
          <a:prstGeom prst="rect">
            <a:avLst/>
          </a:prstGeom>
          <a:ln w="9525">
            <a:noFill/>
          </a:ln>
        </p:spPr>
      </p:pic>
      <p:pic>
        <p:nvPicPr>
          <p:cNvPr id="382" name="Picture 4" descr="logo"/>
          <p:cNvPicPr/>
          <p:nvPr/>
        </p:nvPicPr>
        <p:blipFill>
          <a:blip r:embed="rId2"/>
          <a:stretch/>
        </p:blipFill>
        <p:spPr>
          <a:xfrm>
            <a:off x="7451640" y="260280"/>
            <a:ext cx="1223640" cy="798120"/>
          </a:xfrm>
          <a:prstGeom prst="rect">
            <a:avLst/>
          </a:prstGeom>
          <a:ln w="9525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7308720" y="5084640"/>
            <a:ext cx="1834920" cy="1773000"/>
          </a:xfrm>
          <a:prstGeom prst="rect">
            <a:avLst/>
          </a:prstGeom>
          <a:ln w="9525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5148360" y="5084640"/>
            <a:ext cx="2188800" cy="1773000"/>
          </a:xfrm>
          <a:prstGeom prst="rect">
            <a:avLst/>
          </a:prstGeom>
          <a:ln w="9525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5"/>
          <a:stretch/>
        </p:blipFill>
        <p:spPr>
          <a:xfrm>
            <a:off x="2556000" y="5084640"/>
            <a:ext cx="2619000" cy="1773000"/>
          </a:xfrm>
          <a:prstGeom prst="rect">
            <a:avLst/>
          </a:prstGeom>
          <a:ln w="9525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6"/>
          <a:stretch/>
        </p:blipFill>
        <p:spPr>
          <a:xfrm>
            <a:off x="0" y="5084640"/>
            <a:ext cx="2626920" cy="1773000"/>
          </a:xfrm>
          <a:prstGeom prst="rect">
            <a:avLst/>
          </a:prstGeom>
          <a:ln w="9525">
            <a:noFill/>
          </a:ln>
        </p:spPr>
      </p:pic>
      <p:sp>
        <p:nvSpPr>
          <p:cNvPr id="387" name="Line 9"/>
          <p:cNvSpPr/>
          <p:nvPr/>
        </p:nvSpPr>
        <p:spPr>
          <a:xfrm>
            <a:off x="0" y="5084640"/>
            <a:ext cx="9144000" cy="360"/>
          </a:xfrm>
          <a:prstGeom prst="line">
            <a:avLst/>
          </a:prstGeom>
          <a:ln w="8255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0" y="0"/>
            <a:ext cx="8685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3200" spc="-1" strike="noStrike">
                <a:solidFill>
                  <a:srgbClr val="9933ff"/>
                </a:solidFill>
                <a:latin typeface="Segoe UI"/>
              </a:rPr>
              <a:t>Costos Estimados por C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Table 3"/>
          <p:cNvGraphicFramePr/>
          <p:nvPr/>
        </p:nvGraphicFramePr>
        <p:xfrm>
          <a:off x="0" y="620640"/>
          <a:ext cx="9143640" cy="6237000"/>
        </p:xfrm>
        <a:graphic>
          <a:graphicData uri="http://schemas.openxmlformats.org/drawingml/2006/table">
            <a:tbl>
              <a:tblPr/>
              <a:tblGrid>
                <a:gridCol w="1442880"/>
                <a:gridCol w="6818040"/>
                <a:gridCol w="882360"/>
              </a:tblGrid>
              <a:tr h="527040"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O Est. 2010-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S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0640">
                <a:tc rowSpan="3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1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DESARROLLO COMUNITARIO SUSTEN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, Plan Integral, Capacitación, Ejecución y Monitor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ción de paquetes comunitarios económicos, complementarios a los forest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rowSpan="6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2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CIÓN Y MANEJO SUSTENTABLE DE SELVAS EN COMUNIDADES MAYAS EN SITUACIÓN DE POBRE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estar 3 Mil Hectáreas Y Mantenerlas En Esquemas De Manejo Sustentable (Incluye pago de jornales, adquisición de plantulas, asesoría técnica e insumos complementar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yar a 608 familias de bajos ingresos de las comunidades mayas (Transferencia monetaria mensual de USD 40/ha para compensar la apertura de milpas de baja productivida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er  14 Viver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er un banco de germoplasma de especies n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yo con el paquete de insumos para mejorar la productividad agrícola de las comunidades elegi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53880">
                <a:tc rowSpan="3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3. PROYECTOS DE CARBONO SOCIAL EN COMUNIDADES MAY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ía para identificación, selección, preparación de los documentos de diseño de proyectos (PDD) de los proyecto de carbono forestal a los mercados regulados y volun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ción del proyecto piloto de carbono social en comunidades mayas de bajos ingresos (USD 560/h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 rowSpan="3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4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REHABILITACIÓN DE MANG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de la situación, incluyendo el dimensionamiento de la región recuperable e identificación de zonas prioritarias de acción y de metodologías para la medición del volumen de captura de carbo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rcamiento a la comunidad para obtener conocimiento de la situación social delos habita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l Plan de Ac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ación para Gobierno Estatal, Técnicos Facilitadores, Autoridades Municipales, Participantes de la Comun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ción del proyecto piloto de carbono manglar en comunidades mayas de bajos ingres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eo y 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 rowSpan="5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5. </a:t>
                      </a: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ACIÓN Y DESARROLLO INSTITUC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ía y asesoría en Planeación de proyectos forestales y en Sistemas de Información Geográfica de apo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2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y modelaje de cambio climático estatal y adquisición de equipo y materiales de apoy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quisición de equipo y materiales de apoyo para el Sistema de Información Geográfica de apoyo al proyecto fore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ación de personal SEDU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176040"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3086280" y="836640"/>
            <a:ext cx="2971440" cy="3960360"/>
          </a:xfrm>
          <a:prstGeom prst="rect">
            <a:avLst/>
          </a:prstGeom>
          <a:ln w="9525">
            <a:noFill/>
          </a:ln>
        </p:spPr>
      </p:pic>
      <p:sp>
        <p:nvSpPr>
          <p:cNvPr id="391" name="Text Box 5"/>
          <p:cNvSpPr/>
          <p:nvPr/>
        </p:nvSpPr>
        <p:spPr>
          <a:xfrm>
            <a:off x="3130200" y="5300640"/>
            <a:ext cx="2883240" cy="8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5000" spc="-1" strike="noStrike">
                <a:solidFill>
                  <a:srgbClr val="000000"/>
                </a:solidFill>
                <a:latin typeface="Segoe UI"/>
              </a:rPr>
              <a:t>Gracias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4 Forma libre"/>
          <p:cNvSpPr/>
          <p:nvPr/>
        </p:nvSpPr>
        <p:spPr>
          <a:xfrm>
            <a:off x="428760" y="2097000"/>
            <a:ext cx="3997080" cy="3403080"/>
          </a:xfrm>
          <a:custGeom>
            <a:avLst/>
            <a:gdLst>
              <a:gd name="textAreaLeft" fmla="*/ 0 w 3997080"/>
              <a:gd name="textAreaRight" fmla="*/ 3997440 w 3997080"/>
              <a:gd name="textAreaTop" fmla="*/ 0 h 3403080"/>
              <a:gd name="textAreaBottom" fmla="*/ 3403440 h 3403080"/>
            </a:gdLst>
            <a:ahLst/>
            <a:rect l="textAreaLeft" t="textAreaTop" r="textAreaRight" b="textAreaBottom"/>
            <a:pathLst>
              <a:path w="3996813" h="3403608">
                <a:moveTo>
                  <a:pt x="501445" y="0"/>
                </a:moveTo>
                <a:lnTo>
                  <a:pt x="2595716" y="0"/>
                </a:lnTo>
                <a:lnTo>
                  <a:pt x="2610464" y="958645"/>
                </a:lnTo>
                <a:lnTo>
                  <a:pt x="3524864" y="1666568"/>
                </a:lnTo>
                <a:lnTo>
                  <a:pt x="3996813" y="1681316"/>
                </a:lnTo>
                <a:lnTo>
                  <a:pt x="3996813" y="2979174"/>
                </a:lnTo>
                <a:cubicBezTo>
                  <a:pt x="3641722" y="3063015"/>
                  <a:pt x="2934929" y="2879790"/>
                  <a:pt x="2934929" y="3244645"/>
                </a:cubicBezTo>
                <a:cubicBezTo>
                  <a:pt x="2574161" y="3319805"/>
                  <a:pt x="2666188" y="3403608"/>
                  <a:pt x="2566219" y="3303639"/>
                </a:cubicBezTo>
                <a:cubicBezTo>
                  <a:pt x="2467896" y="3205316"/>
                  <a:pt x="2365008" y="3111357"/>
                  <a:pt x="2271251" y="3008671"/>
                </a:cubicBezTo>
                <a:cubicBezTo>
                  <a:pt x="2260769" y="2997190"/>
                  <a:pt x="2256503" y="2964426"/>
                  <a:pt x="2256503" y="2964426"/>
                </a:cubicBezTo>
                <a:cubicBezTo>
                  <a:pt x="1942609" y="2898343"/>
                  <a:pt x="2071738" y="2905432"/>
                  <a:pt x="1873045" y="2905432"/>
                </a:cubicBezTo>
                <a:cubicBezTo>
                  <a:pt x="1828800" y="2934929"/>
                  <a:pt x="1786241" y="2967128"/>
                  <a:pt x="1740309" y="2993922"/>
                </a:cubicBezTo>
                <a:cubicBezTo>
                  <a:pt x="1726881" y="3001755"/>
                  <a:pt x="1696064" y="3008671"/>
                  <a:pt x="1696064" y="3008671"/>
                </a:cubicBezTo>
                <a:cubicBezTo>
                  <a:pt x="1671483" y="3023419"/>
                  <a:pt x="1647961" y="3040096"/>
                  <a:pt x="1622322" y="3052916"/>
                </a:cubicBezTo>
                <a:cubicBezTo>
                  <a:pt x="1608417" y="3059868"/>
                  <a:pt x="1592511" y="3061890"/>
                  <a:pt x="1578077" y="3067664"/>
                </a:cubicBezTo>
                <a:cubicBezTo>
                  <a:pt x="1567870" y="3071747"/>
                  <a:pt x="1558412" y="3077497"/>
                  <a:pt x="1548580" y="3082413"/>
                </a:cubicBezTo>
                <a:cubicBezTo>
                  <a:pt x="1499419" y="2998839"/>
                  <a:pt x="1447824" y="2916649"/>
                  <a:pt x="1401097" y="2831690"/>
                </a:cubicBezTo>
                <a:cubicBezTo>
                  <a:pt x="1359673" y="2756373"/>
                  <a:pt x="1408287" y="2809384"/>
                  <a:pt x="1371600" y="2772697"/>
                </a:cubicBezTo>
                <a:cubicBezTo>
                  <a:pt x="947969" y="2577175"/>
                  <a:pt x="1128919" y="2595716"/>
                  <a:pt x="855406" y="2595716"/>
                </a:cubicBezTo>
                <a:lnTo>
                  <a:pt x="737419" y="2772697"/>
                </a:lnTo>
                <a:lnTo>
                  <a:pt x="412955" y="2787445"/>
                </a:lnTo>
                <a:lnTo>
                  <a:pt x="29497" y="2684206"/>
                </a:lnTo>
                <a:lnTo>
                  <a:pt x="0" y="44245"/>
                </a:lnTo>
                <a:lnTo>
                  <a:pt x="501445" y="0"/>
                </a:lnTo>
                <a:close/>
              </a:path>
            </a:pathLst>
          </a:custGeom>
          <a:solidFill>
            <a:srgbClr val="abc674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47 Rectángulo"/>
          <p:cNvSpPr/>
          <p:nvPr/>
        </p:nvSpPr>
        <p:spPr>
          <a:xfrm>
            <a:off x="1943280" y="3929040"/>
            <a:ext cx="2458800" cy="99972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46 Rectángulo"/>
          <p:cNvSpPr/>
          <p:nvPr/>
        </p:nvSpPr>
        <p:spPr>
          <a:xfrm>
            <a:off x="442800" y="2714760"/>
            <a:ext cx="2557080" cy="1571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36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MX" sz="2800" spc="-1" strike="noStrike">
                <a:solidFill>
                  <a:srgbClr val="99cc00"/>
                </a:solidFill>
                <a:latin typeface="Arial"/>
              </a:rPr>
              <a:t>Diagnóstico de la Deforestación en Yucatán</a:t>
            </a:r>
            <a:endParaRPr b="0" lang="es-MX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 Rectángulo"/>
          <p:cNvSpPr/>
          <p:nvPr/>
        </p:nvSpPr>
        <p:spPr>
          <a:xfrm>
            <a:off x="442800" y="2714760"/>
            <a:ext cx="57132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7 Rectángulo"/>
          <p:cNvSpPr/>
          <p:nvPr/>
        </p:nvSpPr>
        <p:spPr>
          <a:xfrm>
            <a:off x="1014480" y="2428920"/>
            <a:ext cx="28548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8 Rectángulo"/>
          <p:cNvSpPr/>
          <p:nvPr/>
        </p:nvSpPr>
        <p:spPr>
          <a:xfrm>
            <a:off x="1514520" y="2684520"/>
            <a:ext cx="356760" cy="3567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9 Rectángulo"/>
          <p:cNvSpPr/>
          <p:nvPr/>
        </p:nvSpPr>
        <p:spPr>
          <a:xfrm>
            <a:off x="428760" y="2143080"/>
            <a:ext cx="64260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10 Rectángulo"/>
          <p:cNvSpPr/>
          <p:nvPr/>
        </p:nvSpPr>
        <p:spPr>
          <a:xfrm>
            <a:off x="871560" y="3000240"/>
            <a:ext cx="428400" cy="4284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11 Rectángulo"/>
          <p:cNvSpPr/>
          <p:nvPr/>
        </p:nvSpPr>
        <p:spPr>
          <a:xfrm>
            <a:off x="1279440" y="2357280"/>
            <a:ext cx="35676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12 Rectángulo"/>
          <p:cNvSpPr/>
          <p:nvPr/>
        </p:nvSpPr>
        <p:spPr>
          <a:xfrm>
            <a:off x="2128680" y="2571840"/>
            <a:ext cx="499680" cy="2854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187720" y="3000240"/>
            <a:ext cx="428400" cy="5713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14 Rectángulo"/>
          <p:cNvSpPr/>
          <p:nvPr/>
        </p:nvSpPr>
        <p:spPr>
          <a:xfrm>
            <a:off x="2085840" y="2273400"/>
            <a:ext cx="35676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15 Rectángulo"/>
          <p:cNvSpPr/>
          <p:nvPr/>
        </p:nvSpPr>
        <p:spPr>
          <a:xfrm>
            <a:off x="2657520" y="2071800"/>
            <a:ext cx="356760" cy="428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1300320" y="3357720"/>
            <a:ext cx="499680" cy="35676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18 Rectángulo"/>
          <p:cNvSpPr/>
          <p:nvPr/>
        </p:nvSpPr>
        <p:spPr>
          <a:xfrm>
            <a:off x="2585880" y="3857760"/>
            <a:ext cx="571320" cy="42840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19 Rectángulo"/>
          <p:cNvSpPr/>
          <p:nvPr/>
        </p:nvSpPr>
        <p:spPr>
          <a:xfrm>
            <a:off x="3014640" y="3429000"/>
            <a:ext cx="428400" cy="64260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20 Rectángulo"/>
          <p:cNvSpPr/>
          <p:nvPr/>
        </p:nvSpPr>
        <p:spPr>
          <a:xfrm>
            <a:off x="1800360" y="3000240"/>
            <a:ext cx="42840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21 Rectángulo"/>
          <p:cNvSpPr/>
          <p:nvPr/>
        </p:nvSpPr>
        <p:spPr>
          <a:xfrm>
            <a:off x="2871720" y="3143160"/>
            <a:ext cx="21384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22 Rectángulo"/>
          <p:cNvSpPr/>
          <p:nvPr/>
        </p:nvSpPr>
        <p:spPr>
          <a:xfrm>
            <a:off x="942840" y="3429000"/>
            <a:ext cx="35676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23 Rectángulo"/>
          <p:cNvSpPr/>
          <p:nvPr/>
        </p:nvSpPr>
        <p:spPr>
          <a:xfrm>
            <a:off x="442800" y="3571920"/>
            <a:ext cx="499680" cy="28548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24 Rectángulo"/>
          <p:cNvSpPr/>
          <p:nvPr/>
        </p:nvSpPr>
        <p:spPr>
          <a:xfrm>
            <a:off x="1800360" y="3571920"/>
            <a:ext cx="42840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2371680" y="3571920"/>
            <a:ext cx="64260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26 Rectángulo"/>
          <p:cNvSpPr/>
          <p:nvPr/>
        </p:nvSpPr>
        <p:spPr>
          <a:xfrm>
            <a:off x="3443400" y="3857760"/>
            <a:ext cx="428400" cy="4996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27 Rectángulo"/>
          <p:cNvSpPr/>
          <p:nvPr/>
        </p:nvSpPr>
        <p:spPr>
          <a:xfrm>
            <a:off x="2014560" y="4000680"/>
            <a:ext cx="356760" cy="428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28 Rectángulo"/>
          <p:cNvSpPr/>
          <p:nvPr/>
        </p:nvSpPr>
        <p:spPr>
          <a:xfrm>
            <a:off x="942840" y="3857760"/>
            <a:ext cx="42840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29 Rectángulo"/>
          <p:cNvSpPr/>
          <p:nvPr/>
        </p:nvSpPr>
        <p:spPr>
          <a:xfrm>
            <a:off x="3857760" y="3787920"/>
            <a:ext cx="571320" cy="1425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30 Rectángulo"/>
          <p:cNvSpPr/>
          <p:nvPr/>
        </p:nvSpPr>
        <p:spPr>
          <a:xfrm>
            <a:off x="3871800" y="4071960"/>
            <a:ext cx="285480" cy="5713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31 Rectángulo"/>
          <p:cNvSpPr/>
          <p:nvPr/>
        </p:nvSpPr>
        <p:spPr>
          <a:xfrm>
            <a:off x="3857760" y="4643280"/>
            <a:ext cx="571320" cy="28548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32 Rectángulo"/>
          <p:cNvSpPr/>
          <p:nvPr/>
        </p:nvSpPr>
        <p:spPr>
          <a:xfrm>
            <a:off x="1371600" y="3714840"/>
            <a:ext cx="285480" cy="7855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33 Rectángulo"/>
          <p:cNvSpPr/>
          <p:nvPr/>
        </p:nvSpPr>
        <p:spPr>
          <a:xfrm>
            <a:off x="2371680" y="4286160"/>
            <a:ext cx="642600" cy="4284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34 Rectángulo"/>
          <p:cNvSpPr/>
          <p:nvPr/>
        </p:nvSpPr>
        <p:spPr>
          <a:xfrm>
            <a:off x="1657440" y="4143240"/>
            <a:ext cx="356760" cy="428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35 Rectángulo"/>
          <p:cNvSpPr/>
          <p:nvPr/>
        </p:nvSpPr>
        <p:spPr>
          <a:xfrm>
            <a:off x="3014640" y="4357800"/>
            <a:ext cx="42840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36 Rectángulo"/>
          <p:cNvSpPr/>
          <p:nvPr/>
        </p:nvSpPr>
        <p:spPr>
          <a:xfrm>
            <a:off x="657360" y="4143240"/>
            <a:ext cx="35676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37 Rectángulo"/>
          <p:cNvSpPr/>
          <p:nvPr/>
        </p:nvSpPr>
        <p:spPr>
          <a:xfrm>
            <a:off x="1014480" y="4327560"/>
            <a:ext cx="356760" cy="35676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38 Rectángulo"/>
          <p:cNvSpPr/>
          <p:nvPr/>
        </p:nvSpPr>
        <p:spPr>
          <a:xfrm>
            <a:off x="1943280" y="4572000"/>
            <a:ext cx="356760" cy="42840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39 Rectángulo"/>
          <p:cNvSpPr/>
          <p:nvPr/>
        </p:nvSpPr>
        <p:spPr>
          <a:xfrm>
            <a:off x="2657520" y="4714920"/>
            <a:ext cx="428400" cy="35676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40 Rectángulo"/>
          <p:cNvSpPr/>
          <p:nvPr/>
        </p:nvSpPr>
        <p:spPr>
          <a:xfrm>
            <a:off x="3228840" y="4643280"/>
            <a:ext cx="356760" cy="35676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41 Rectángulo"/>
          <p:cNvSpPr/>
          <p:nvPr/>
        </p:nvSpPr>
        <p:spPr>
          <a:xfrm>
            <a:off x="3586320" y="4786200"/>
            <a:ext cx="285480" cy="28548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42 Rectángulo"/>
          <p:cNvSpPr/>
          <p:nvPr/>
        </p:nvSpPr>
        <p:spPr>
          <a:xfrm>
            <a:off x="458640" y="4299120"/>
            <a:ext cx="356760" cy="35676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43 Rectángulo"/>
          <p:cNvSpPr/>
          <p:nvPr/>
        </p:nvSpPr>
        <p:spPr>
          <a:xfrm>
            <a:off x="1628640" y="2112840"/>
            <a:ext cx="499680" cy="57132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44 Rectángulo"/>
          <p:cNvSpPr/>
          <p:nvPr/>
        </p:nvSpPr>
        <p:spPr>
          <a:xfrm>
            <a:off x="2616120" y="2643120"/>
            <a:ext cx="418680" cy="50112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53 CuadroTexto"/>
          <p:cNvSpPr/>
          <p:nvPr/>
        </p:nvSpPr>
        <p:spPr>
          <a:xfrm>
            <a:off x="714240" y="6072120"/>
            <a:ext cx="3499920" cy="36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0  . . . . . . . . . . . . . 200+ tCO</a:t>
            </a:r>
            <a:r>
              <a:rPr b="0" lang="es-ES_tradnl" sz="1800" spc="-1" strike="noStrike" baseline="-1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e h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45 Forma libre"/>
          <p:cNvSpPr/>
          <p:nvPr/>
        </p:nvSpPr>
        <p:spPr>
          <a:xfrm>
            <a:off x="428760" y="2085840"/>
            <a:ext cx="4000320" cy="3403080"/>
          </a:xfrm>
          <a:custGeom>
            <a:avLst/>
            <a:gdLst>
              <a:gd name="textAreaLeft" fmla="*/ 0 w 4000320"/>
              <a:gd name="textAreaRight" fmla="*/ 4000680 w 4000320"/>
              <a:gd name="textAreaTop" fmla="*/ 0 h 3403080"/>
              <a:gd name="textAreaBottom" fmla="*/ 3403440 h 3403080"/>
            </a:gdLst>
            <a:ahLst/>
            <a:rect l="textAreaLeft" t="textAreaTop" r="textAreaRight" b="textAreaBottom"/>
            <a:pathLst>
              <a:path w="3996813" h="3403608">
                <a:moveTo>
                  <a:pt x="501445" y="0"/>
                </a:moveTo>
                <a:lnTo>
                  <a:pt x="2595716" y="0"/>
                </a:lnTo>
                <a:lnTo>
                  <a:pt x="2610464" y="958645"/>
                </a:lnTo>
                <a:lnTo>
                  <a:pt x="3524864" y="1666568"/>
                </a:lnTo>
                <a:lnTo>
                  <a:pt x="3996813" y="1681316"/>
                </a:lnTo>
                <a:lnTo>
                  <a:pt x="3996813" y="2979174"/>
                </a:lnTo>
                <a:cubicBezTo>
                  <a:pt x="3641722" y="3063015"/>
                  <a:pt x="2934929" y="2879790"/>
                  <a:pt x="2934929" y="3244645"/>
                </a:cubicBezTo>
                <a:cubicBezTo>
                  <a:pt x="2574161" y="3319805"/>
                  <a:pt x="2666188" y="3403608"/>
                  <a:pt x="2566219" y="3303639"/>
                </a:cubicBezTo>
                <a:cubicBezTo>
                  <a:pt x="2467896" y="3205316"/>
                  <a:pt x="2365008" y="3111357"/>
                  <a:pt x="2271251" y="3008671"/>
                </a:cubicBezTo>
                <a:cubicBezTo>
                  <a:pt x="2260769" y="2997190"/>
                  <a:pt x="2256503" y="2964426"/>
                  <a:pt x="2256503" y="2964426"/>
                </a:cubicBezTo>
                <a:cubicBezTo>
                  <a:pt x="1942609" y="2898343"/>
                  <a:pt x="2071738" y="2905432"/>
                  <a:pt x="1873045" y="2905432"/>
                </a:cubicBezTo>
                <a:cubicBezTo>
                  <a:pt x="1828800" y="2934929"/>
                  <a:pt x="1786241" y="2967128"/>
                  <a:pt x="1740309" y="2993922"/>
                </a:cubicBezTo>
                <a:cubicBezTo>
                  <a:pt x="1726881" y="3001755"/>
                  <a:pt x="1696064" y="3008671"/>
                  <a:pt x="1696064" y="3008671"/>
                </a:cubicBezTo>
                <a:cubicBezTo>
                  <a:pt x="1671483" y="3023419"/>
                  <a:pt x="1647961" y="3040096"/>
                  <a:pt x="1622322" y="3052916"/>
                </a:cubicBezTo>
                <a:cubicBezTo>
                  <a:pt x="1608417" y="3059868"/>
                  <a:pt x="1592511" y="3061890"/>
                  <a:pt x="1578077" y="3067664"/>
                </a:cubicBezTo>
                <a:cubicBezTo>
                  <a:pt x="1567870" y="3071747"/>
                  <a:pt x="1558412" y="3077497"/>
                  <a:pt x="1548580" y="3082413"/>
                </a:cubicBezTo>
                <a:cubicBezTo>
                  <a:pt x="1499419" y="2998839"/>
                  <a:pt x="1447824" y="2916649"/>
                  <a:pt x="1401097" y="2831690"/>
                </a:cubicBezTo>
                <a:cubicBezTo>
                  <a:pt x="1359673" y="2756373"/>
                  <a:pt x="1408287" y="2809384"/>
                  <a:pt x="1371600" y="2772697"/>
                </a:cubicBezTo>
                <a:cubicBezTo>
                  <a:pt x="947969" y="2577175"/>
                  <a:pt x="1128919" y="2595716"/>
                  <a:pt x="855406" y="2595716"/>
                </a:cubicBezTo>
                <a:lnTo>
                  <a:pt x="737419" y="2772697"/>
                </a:lnTo>
                <a:lnTo>
                  <a:pt x="412955" y="2787445"/>
                </a:lnTo>
                <a:lnTo>
                  <a:pt x="29497" y="2684206"/>
                </a:lnTo>
                <a:lnTo>
                  <a:pt x="0" y="44245"/>
                </a:lnTo>
                <a:lnTo>
                  <a:pt x="501445" y="0"/>
                </a:lnTo>
                <a:close/>
              </a:path>
            </a:pathLst>
          </a:custGeom>
          <a:noFill/>
          <a:ln w="571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2" name="157 Conector recto"/>
          <p:cNvCxnSpPr/>
          <p:nvPr/>
        </p:nvCxnSpPr>
        <p:spPr>
          <a:xfrm>
            <a:off x="10501200" y="6143400"/>
            <a:ext cx="914760" cy="9147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3" name="179 CuadroTexto"/>
          <p:cNvSpPr/>
          <p:nvPr/>
        </p:nvSpPr>
        <p:spPr>
          <a:xfrm>
            <a:off x="9858240" y="1500120"/>
            <a:ext cx="18396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00"/>
          <p:cNvSpPr/>
          <p:nvPr/>
        </p:nvSpPr>
        <p:spPr>
          <a:xfrm>
            <a:off x="468360" y="836640"/>
            <a:ext cx="8445240" cy="106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eforestación es uno de los principales problemas que enfrenta Yucat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superficie con cobertura de selva representaba 3,208,600 has. en 1970 mientra que en el 2000 fue de 2,234,800 has. (pérdida anual de aprox. 2%)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"/>
          <p:cNvSpPr/>
          <p:nvPr/>
        </p:nvSpPr>
        <p:spPr>
          <a:xfrm>
            <a:off x="4427640" y="2081160"/>
            <a:ext cx="4465440" cy="481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71520" indent="-37152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principales causa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Wingdings" charset="2"/>
              <a:buAutoNum type="romanLcParenR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es Agropecuarias como la “Temporal Itinerante” (Milpa)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Wingdings" charset="2"/>
              <a:buAutoNum type="romanLcParenR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de Selvas a Pastizales para Actividades Pecu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gunos impactos negativo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3300"/>
              </a:buClr>
              <a:buFont typeface="Wingdings" charset="2"/>
              <a:buAutoNum type="romanLcPeriod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conservación de especies nativas de flora y fa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3300"/>
              </a:buClr>
              <a:buFont typeface="Wingdings" charset="2"/>
              <a:buAutoNum type="romanLcPeriod"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s comunidades rurales mayas para lograr su autosuficiencia alimentaria y mejorar su calidad 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4"/>
          <p:cNvSpPr/>
          <p:nvPr/>
        </p:nvSpPr>
        <p:spPr>
          <a:xfrm>
            <a:off x="324000" y="6381720"/>
            <a:ext cx="7200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 Programa de Ordenamiento Ecológico del Territorio de Yucatán. (SECOL, 200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48 Rectángulo"/>
          <p:cNvSpPr/>
          <p:nvPr/>
        </p:nvSpPr>
        <p:spPr>
          <a:xfrm>
            <a:off x="857160" y="5786280"/>
            <a:ext cx="356760" cy="21384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49 Rectángulo"/>
          <p:cNvSpPr/>
          <p:nvPr/>
        </p:nvSpPr>
        <p:spPr>
          <a:xfrm>
            <a:off x="1214280" y="5786280"/>
            <a:ext cx="356760" cy="213840"/>
          </a:xfrm>
          <a:prstGeom prst="rect">
            <a:avLst/>
          </a:prstGeom>
          <a:solidFill>
            <a:srgbClr val="c0d597"/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50 Rectángulo"/>
          <p:cNvSpPr/>
          <p:nvPr/>
        </p:nvSpPr>
        <p:spPr>
          <a:xfrm>
            <a:off x="1571760" y="5786280"/>
            <a:ext cx="356760" cy="213840"/>
          </a:xfrm>
          <a:prstGeom prst="rect">
            <a:avLst/>
          </a:prstGeom>
          <a:solidFill>
            <a:srgbClr val="a0bf61"/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51 Rectángulo"/>
          <p:cNvSpPr/>
          <p:nvPr/>
        </p:nvSpPr>
        <p:spPr>
          <a:xfrm>
            <a:off x="1928880" y="5786280"/>
            <a:ext cx="356760" cy="21384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52 Rectángulo"/>
          <p:cNvSpPr/>
          <p:nvPr/>
        </p:nvSpPr>
        <p:spPr>
          <a:xfrm>
            <a:off x="2286000" y="5786280"/>
            <a:ext cx="356760" cy="21384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Forma libre"/>
          <p:cNvSpPr/>
          <p:nvPr/>
        </p:nvSpPr>
        <p:spPr>
          <a:xfrm>
            <a:off x="428760" y="2097000"/>
            <a:ext cx="3997080" cy="3403080"/>
          </a:xfrm>
          <a:custGeom>
            <a:avLst/>
            <a:gdLst>
              <a:gd name="textAreaLeft" fmla="*/ 0 w 3997080"/>
              <a:gd name="textAreaRight" fmla="*/ 3997440 w 3997080"/>
              <a:gd name="textAreaTop" fmla="*/ 0 h 3403080"/>
              <a:gd name="textAreaBottom" fmla="*/ 3403440 h 3403080"/>
            </a:gdLst>
            <a:ahLst/>
            <a:rect l="textAreaLeft" t="textAreaTop" r="textAreaRight" b="textAreaBottom"/>
            <a:pathLst>
              <a:path w="3996813" h="3403608">
                <a:moveTo>
                  <a:pt x="501445" y="0"/>
                </a:moveTo>
                <a:lnTo>
                  <a:pt x="2595716" y="0"/>
                </a:lnTo>
                <a:lnTo>
                  <a:pt x="2610464" y="958645"/>
                </a:lnTo>
                <a:lnTo>
                  <a:pt x="3524864" y="1666568"/>
                </a:lnTo>
                <a:lnTo>
                  <a:pt x="3996813" y="1681316"/>
                </a:lnTo>
                <a:lnTo>
                  <a:pt x="3996813" y="2979174"/>
                </a:lnTo>
                <a:cubicBezTo>
                  <a:pt x="3641722" y="3063015"/>
                  <a:pt x="2934929" y="2879790"/>
                  <a:pt x="2934929" y="3244645"/>
                </a:cubicBezTo>
                <a:cubicBezTo>
                  <a:pt x="2574161" y="3319805"/>
                  <a:pt x="2666188" y="3403608"/>
                  <a:pt x="2566219" y="3303639"/>
                </a:cubicBezTo>
                <a:cubicBezTo>
                  <a:pt x="2467896" y="3205316"/>
                  <a:pt x="2365008" y="3111357"/>
                  <a:pt x="2271251" y="3008671"/>
                </a:cubicBezTo>
                <a:cubicBezTo>
                  <a:pt x="2260769" y="2997190"/>
                  <a:pt x="2256503" y="2964426"/>
                  <a:pt x="2256503" y="2964426"/>
                </a:cubicBezTo>
                <a:cubicBezTo>
                  <a:pt x="1942609" y="2898343"/>
                  <a:pt x="2071738" y="2905432"/>
                  <a:pt x="1873045" y="2905432"/>
                </a:cubicBezTo>
                <a:cubicBezTo>
                  <a:pt x="1828800" y="2934929"/>
                  <a:pt x="1786241" y="2967128"/>
                  <a:pt x="1740309" y="2993922"/>
                </a:cubicBezTo>
                <a:cubicBezTo>
                  <a:pt x="1726881" y="3001755"/>
                  <a:pt x="1696064" y="3008671"/>
                  <a:pt x="1696064" y="3008671"/>
                </a:cubicBezTo>
                <a:cubicBezTo>
                  <a:pt x="1671483" y="3023419"/>
                  <a:pt x="1647961" y="3040096"/>
                  <a:pt x="1622322" y="3052916"/>
                </a:cubicBezTo>
                <a:cubicBezTo>
                  <a:pt x="1608417" y="3059868"/>
                  <a:pt x="1592511" y="3061890"/>
                  <a:pt x="1578077" y="3067664"/>
                </a:cubicBezTo>
                <a:cubicBezTo>
                  <a:pt x="1567870" y="3071747"/>
                  <a:pt x="1558412" y="3077497"/>
                  <a:pt x="1548580" y="3082413"/>
                </a:cubicBezTo>
                <a:cubicBezTo>
                  <a:pt x="1499419" y="2998839"/>
                  <a:pt x="1447824" y="2916649"/>
                  <a:pt x="1401097" y="2831690"/>
                </a:cubicBezTo>
                <a:cubicBezTo>
                  <a:pt x="1359673" y="2756373"/>
                  <a:pt x="1408287" y="2809384"/>
                  <a:pt x="1371600" y="2772697"/>
                </a:cubicBezTo>
                <a:cubicBezTo>
                  <a:pt x="947969" y="2577175"/>
                  <a:pt x="1128919" y="2595716"/>
                  <a:pt x="855406" y="2595716"/>
                </a:cubicBezTo>
                <a:lnTo>
                  <a:pt x="737419" y="2772697"/>
                </a:lnTo>
                <a:lnTo>
                  <a:pt x="412955" y="2787445"/>
                </a:lnTo>
                <a:lnTo>
                  <a:pt x="29497" y="2684206"/>
                </a:lnTo>
                <a:lnTo>
                  <a:pt x="0" y="44245"/>
                </a:lnTo>
                <a:lnTo>
                  <a:pt x="501445" y="0"/>
                </a:lnTo>
                <a:close/>
              </a:path>
            </a:pathLst>
          </a:custGeom>
          <a:solidFill>
            <a:srgbClr val="abc674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47 Rectángulo"/>
          <p:cNvSpPr/>
          <p:nvPr/>
        </p:nvSpPr>
        <p:spPr>
          <a:xfrm>
            <a:off x="1943280" y="3929040"/>
            <a:ext cx="2458800" cy="99972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46 Rectángulo"/>
          <p:cNvSpPr/>
          <p:nvPr/>
        </p:nvSpPr>
        <p:spPr>
          <a:xfrm>
            <a:off x="442800" y="2714760"/>
            <a:ext cx="2557080" cy="1571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6 Rectángulo"/>
          <p:cNvSpPr/>
          <p:nvPr/>
        </p:nvSpPr>
        <p:spPr>
          <a:xfrm>
            <a:off x="442800" y="2714760"/>
            <a:ext cx="57132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7 Rectángulo"/>
          <p:cNvSpPr/>
          <p:nvPr/>
        </p:nvSpPr>
        <p:spPr>
          <a:xfrm>
            <a:off x="1014480" y="2428920"/>
            <a:ext cx="28548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8 Rectángulo"/>
          <p:cNvSpPr/>
          <p:nvPr/>
        </p:nvSpPr>
        <p:spPr>
          <a:xfrm>
            <a:off x="1514520" y="2684520"/>
            <a:ext cx="356760" cy="3567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9 Rectángulo"/>
          <p:cNvSpPr/>
          <p:nvPr/>
        </p:nvSpPr>
        <p:spPr>
          <a:xfrm>
            <a:off x="428760" y="2143080"/>
            <a:ext cx="64260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10 Rectángulo"/>
          <p:cNvSpPr/>
          <p:nvPr/>
        </p:nvSpPr>
        <p:spPr>
          <a:xfrm>
            <a:off x="871560" y="3000240"/>
            <a:ext cx="428400" cy="4284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11 Rectángulo"/>
          <p:cNvSpPr/>
          <p:nvPr/>
        </p:nvSpPr>
        <p:spPr>
          <a:xfrm>
            <a:off x="1279440" y="2357280"/>
            <a:ext cx="35676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12 Rectángulo"/>
          <p:cNvSpPr/>
          <p:nvPr/>
        </p:nvSpPr>
        <p:spPr>
          <a:xfrm>
            <a:off x="2128680" y="2571840"/>
            <a:ext cx="499680" cy="2854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13 Rectángulo"/>
          <p:cNvSpPr/>
          <p:nvPr/>
        </p:nvSpPr>
        <p:spPr>
          <a:xfrm>
            <a:off x="2187720" y="3000240"/>
            <a:ext cx="428400" cy="5713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14 Rectángulo"/>
          <p:cNvSpPr/>
          <p:nvPr/>
        </p:nvSpPr>
        <p:spPr>
          <a:xfrm>
            <a:off x="2085840" y="2273400"/>
            <a:ext cx="35676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15 Rectángulo"/>
          <p:cNvSpPr/>
          <p:nvPr/>
        </p:nvSpPr>
        <p:spPr>
          <a:xfrm>
            <a:off x="2657520" y="2071800"/>
            <a:ext cx="356760" cy="428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16 Rectángulo"/>
          <p:cNvSpPr/>
          <p:nvPr/>
        </p:nvSpPr>
        <p:spPr>
          <a:xfrm>
            <a:off x="1300320" y="3357720"/>
            <a:ext cx="499680" cy="35676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18 Rectángulo"/>
          <p:cNvSpPr/>
          <p:nvPr/>
        </p:nvSpPr>
        <p:spPr>
          <a:xfrm>
            <a:off x="2585880" y="3857760"/>
            <a:ext cx="571320" cy="42840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19 Rectángulo"/>
          <p:cNvSpPr/>
          <p:nvPr/>
        </p:nvSpPr>
        <p:spPr>
          <a:xfrm>
            <a:off x="3014640" y="3429000"/>
            <a:ext cx="428400" cy="64260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20 Rectángulo"/>
          <p:cNvSpPr/>
          <p:nvPr/>
        </p:nvSpPr>
        <p:spPr>
          <a:xfrm>
            <a:off x="1800360" y="3000240"/>
            <a:ext cx="42840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21 Rectángulo"/>
          <p:cNvSpPr/>
          <p:nvPr/>
        </p:nvSpPr>
        <p:spPr>
          <a:xfrm>
            <a:off x="2871720" y="3143160"/>
            <a:ext cx="21384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22 Rectángulo"/>
          <p:cNvSpPr/>
          <p:nvPr/>
        </p:nvSpPr>
        <p:spPr>
          <a:xfrm>
            <a:off x="942840" y="3429000"/>
            <a:ext cx="35676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23 Rectángulo"/>
          <p:cNvSpPr/>
          <p:nvPr/>
        </p:nvSpPr>
        <p:spPr>
          <a:xfrm>
            <a:off x="442800" y="3571920"/>
            <a:ext cx="499680" cy="28548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24 Rectángulo"/>
          <p:cNvSpPr/>
          <p:nvPr/>
        </p:nvSpPr>
        <p:spPr>
          <a:xfrm>
            <a:off x="1800360" y="3571920"/>
            <a:ext cx="42840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25 Rectángulo"/>
          <p:cNvSpPr/>
          <p:nvPr/>
        </p:nvSpPr>
        <p:spPr>
          <a:xfrm>
            <a:off x="2371680" y="3571920"/>
            <a:ext cx="642600" cy="42840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26 Rectángulo"/>
          <p:cNvSpPr/>
          <p:nvPr/>
        </p:nvSpPr>
        <p:spPr>
          <a:xfrm>
            <a:off x="3443400" y="3857760"/>
            <a:ext cx="428400" cy="4996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27 Rectángulo"/>
          <p:cNvSpPr/>
          <p:nvPr/>
        </p:nvSpPr>
        <p:spPr>
          <a:xfrm>
            <a:off x="2014560" y="4000680"/>
            <a:ext cx="356760" cy="428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28 Rectángulo"/>
          <p:cNvSpPr/>
          <p:nvPr/>
        </p:nvSpPr>
        <p:spPr>
          <a:xfrm>
            <a:off x="942840" y="3857760"/>
            <a:ext cx="42840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29 Rectángulo"/>
          <p:cNvSpPr/>
          <p:nvPr/>
        </p:nvSpPr>
        <p:spPr>
          <a:xfrm>
            <a:off x="3857760" y="3787920"/>
            <a:ext cx="571320" cy="1425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30 Rectángulo"/>
          <p:cNvSpPr/>
          <p:nvPr/>
        </p:nvSpPr>
        <p:spPr>
          <a:xfrm>
            <a:off x="3871800" y="4071960"/>
            <a:ext cx="285480" cy="5713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31 Rectángulo"/>
          <p:cNvSpPr/>
          <p:nvPr/>
        </p:nvSpPr>
        <p:spPr>
          <a:xfrm>
            <a:off x="3857760" y="4643280"/>
            <a:ext cx="571320" cy="28548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32 Rectángulo"/>
          <p:cNvSpPr/>
          <p:nvPr/>
        </p:nvSpPr>
        <p:spPr>
          <a:xfrm>
            <a:off x="1371600" y="3714840"/>
            <a:ext cx="285480" cy="7855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33 Rectángulo"/>
          <p:cNvSpPr/>
          <p:nvPr/>
        </p:nvSpPr>
        <p:spPr>
          <a:xfrm>
            <a:off x="2371680" y="4286160"/>
            <a:ext cx="642600" cy="4284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34 Rectángulo"/>
          <p:cNvSpPr/>
          <p:nvPr/>
        </p:nvSpPr>
        <p:spPr>
          <a:xfrm>
            <a:off x="1657440" y="4143240"/>
            <a:ext cx="356760" cy="4284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35 Rectángulo"/>
          <p:cNvSpPr/>
          <p:nvPr/>
        </p:nvSpPr>
        <p:spPr>
          <a:xfrm>
            <a:off x="3014640" y="4357800"/>
            <a:ext cx="428400" cy="28548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36 Rectángulo"/>
          <p:cNvSpPr/>
          <p:nvPr/>
        </p:nvSpPr>
        <p:spPr>
          <a:xfrm>
            <a:off x="657360" y="4143240"/>
            <a:ext cx="356760" cy="35676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37 Rectángulo"/>
          <p:cNvSpPr/>
          <p:nvPr/>
        </p:nvSpPr>
        <p:spPr>
          <a:xfrm>
            <a:off x="1014480" y="4327560"/>
            <a:ext cx="356760" cy="35676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38 Rectángulo"/>
          <p:cNvSpPr/>
          <p:nvPr/>
        </p:nvSpPr>
        <p:spPr>
          <a:xfrm>
            <a:off x="1943280" y="4572000"/>
            <a:ext cx="356760" cy="42840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39 Rectángulo"/>
          <p:cNvSpPr/>
          <p:nvPr/>
        </p:nvSpPr>
        <p:spPr>
          <a:xfrm>
            <a:off x="2657520" y="4714920"/>
            <a:ext cx="428400" cy="35676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40 Rectángulo"/>
          <p:cNvSpPr/>
          <p:nvPr/>
        </p:nvSpPr>
        <p:spPr>
          <a:xfrm>
            <a:off x="3228840" y="4643280"/>
            <a:ext cx="356760" cy="35676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41 Rectángulo"/>
          <p:cNvSpPr/>
          <p:nvPr/>
        </p:nvSpPr>
        <p:spPr>
          <a:xfrm>
            <a:off x="3586320" y="4786200"/>
            <a:ext cx="285480" cy="28548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42 Rectángulo"/>
          <p:cNvSpPr/>
          <p:nvPr/>
        </p:nvSpPr>
        <p:spPr>
          <a:xfrm>
            <a:off x="458640" y="4299120"/>
            <a:ext cx="356760" cy="35676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43 Rectángulo"/>
          <p:cNvSpPr/>
          <p:nvPr/>
        </p:nvSpPr>
        <p:spPr>
          <a:xfrm>
            <a:off x="1628640" y="2112840"/>
            <a:ext cx="499680" cy="57132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44 Rectángulo"/>
          <p:cNvSpPr/>
          <p:nvPr/>
        </p:nvSpPr>
        <p:spPr>
          <a:xfrm>
            <a:off x="2616120" y="2643120"/>
            <a:ext cx="418680" cy="501120"/>
          </a:xfrm>
          <a:prstGeom prst="rect">
            <a:avLst/>
          </a:prstGeom>
          <a:solidFill>
            <a:schemeClr val="accent3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48 Rectángulo"/>
          <p:cNvSpPr/>
          <p:nvPr/>
        </p:nvSpPr>
        <p:spPr>
          <a:xfrm>
            <a:off x="857160" y="5786280"/>
            <a:ext cx="356760" cy="21384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49 Rectángulo"/>
          <p:cNvSpPr/>
          <p:nvPr/>
        </p:nvSpPr>
        <p:spPr>
          <a:xfrm>
            <a:off x="1214280" y="5786280"/>
            <a:ext cx="356760" cy="213840"/>
          </a:xfrm>
          <a:prstGeom prst="rect">
            <a:avLst/>
          </a:prstGeom>
          <a:solidFill>
            <a:srgbClr val="c0d597"/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50 Rectángulo"/>
          <p:cNvSpPr/>
          <p:nvPr/>
        </p:nvSpPr>
        <p:spPr>
          <a:xfrm>
            <a:off x="1571760" y="5786280"/>
            <a:ext cx="356760" cy="213840"/>
          </a:xfrm>
          <a:prstGeom prst="rect">
            <a:avLst/>
          </a:prstGeom>
          <a:solidFill>
            <a:srgbClr val="a0bf61"/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51 Rectángulo"/>
          <p:cNvSpPr/>
          <p:nvPr/>
        </p:nvSpPr>
        <p:spPr>
          <a:xfrm>
            <a:off x="1928880" y="5786280"/>
            <a:ext cx="356760" cy="21384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52 Rectángulo"/>
          <p:cNvSpPr/>
          <p:nvPr/>
        </p:nvSpPr>
        <p:spPr>
          <a:xfrm>
            <a:off x="2286000" y="5786280"/>
            <a:ext cx="356760" cy="213840"/>
          </a:xfrm>
          <a:prstGeom prst="rect">
            <a:avLst/>
          </a:prstGeom>
          <a:solidFill>
            <a:schemeClr val="accent3">
              <a:lumMod val="5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53 CuadroTexto"/>
          <p:cNvSpPr/>
          <p:nvPr/>
        </p:nvSpPr>
        <p:spPr>
          <a:xfrm>
            <a:off x="714240" y="6072120"/>
            <a:ext cx="3499920" cy="36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0  . . . . . . . . . . . . . 200+ tCO</a:t>
            </a:r>
            <a:r>
              <a:rPr b="0" lang="es-ES_tradnl" sz="1800" spc="-1" strike="noStrike" baseline="-1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e h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45 Forma libre"/>
          <p:cNvSpPr/>
          <p:nvPr/>
        </p:nvSpPr>
        <p:spPr>
          <a:xfrm>
            <a:off x="428760" y="2085840"/>
            <a:ext cx="4000320" cy="3403080"/>
          </a:xfrm>
          <a:custGeom>
            <a:avLst/>
            <a:gdLst>
              <a:gd name="textAreaLeft" fmla="*/ 0 w 4000320"/>
              <a:gd name="textAreaRight" fmla="*/ 4000680 w 4000320"/>
              <a:gd name="textAreaTop" fmla="*/ 0 h 3403080"/>
              <a:gd name="textAreaBottom" fmla="*/ 3403440 h 3403080"/>
            </a:gdLst>
            <a:ahLst/>
            <a:rect l="textAreaLeft" t="textAreaTop" r="textAreaRight" b="textAreaBottom"/>
            <a:pathLst>
              <a:path w="3996813" h="3403608">
                <a:moveTo>
                  <a:pt x="501445" y="0"/>
                </a:moveTo>
                <a:lnTo>
                  <a:pt x="2595716" y="0"/>
                </a:lnTo>
                <a:lnTo>
                  <a:pt x="2610464" y="958645"/>
                </a:lnTo>
                <a:lnTo>
                  <a:pt x="3524864" y="1666568"/>
                </a:lnTo>
                <a:lnTo>
                  <a:pt x="3996813" y="1681316"/>
                </a:lnTo>
                <a:lnTo>
                  <a:pt x="3996813" y="2979174"/>
                </a:lnTo>
                <a:cubicBezTo>
                  <a:pt x="3641722" y="3063015"/>
                  <a:pt x="2934929" y="2879790"/>
                  <a:pt x="2934929" y="3244645"/>
                </a:cubicBezTo>
                <a:cubicBezTo>
                  <a:pt x="2574161" y="3319805"/>
                  <a:pt x="2666188" y="3403608"/>
                  <a:pt x="2566219" y="3303639"/>
                </a:cubicBezTo>
                <a:cubicBezTo>
                  <a:pt x="2467896" y="3205316"/>
                  <a:pt x="2365008" y="3111357"/>
                  <a:pt x="2271251" y="3008671"/>
                </a:cubicBezTo>
                <a:cubicBezTo>
                  <a:pt x="2260769" y="2997190"/>
                  <a:pt x="2256503" y="2964426"/>
                  <a:pt x="2256503" y="2964426"/>
                </a:cubicBezTo>
                <a:cubicBezTo>
                  <a:pt x="1942609" y="2898343"/>
                  <a:pt x="2071738" y="2905432"/>
                  <a:pt x="1873045" y="2905432"/>
                </a:cubicBezTo>
                <a:cubicBezTo>
                  <a:pt x="1828800" y="2934929"/>
                  <a:pt x="1786241" y="2967128"/>
                  <a:pt x="1740309" y="2993922"/>
                </a:cubicBezTo>
                <a:cubicBezTo>
                  <a:pt x="1726881" y="3001755"/>
                  <a:pt x="1696064" y="3008671"/>
                  <a:pt x="1696064" y="3008671"/>
                </a:cubicBezTo>
                <a:cubicBezTo>
                  <a:pt x="1671483" y="3023419"/>
                  <a:pt x="1647961" y="3040096"/>
                  <a:pt x="1622322" y="3052916"/>
                </a:cubicBezTo>
                <a:cubicBezTo>
                  <a:pt x="1608417" y="3059868"/>
                  <a:pt x="1592511" y="3061890"/>
                  <a:pt x="1578077" y="3067664"/>
                </a:cubicBezTo>
                <a:cubicBezTo>
                  <a:pt x="1567870" y="3071747"/>
                  <a:pt x="1558412" y="3077497"/>
                  <a:pt x="1548580" y="3082413"/>
                </a:cubicBezTo>
                <a:cubicBezTo>
                  <a:pt x="1499419" y="2998839"/>
                  <a:pt x="1447824" y="2916649"/>
                  <a:pt x="1401097" y="2831690"/>
                </a:cubicBezTo>
                <a:cubicBezTo>
                  <a:pt x="1359673" y="2756373"/>
                  <a:pt x="1408287" y="2809384"/>
                  <a:pt x="1371600" y="2772697"/>
                </a:cubicBezTo>
                <a:cubicBezTo>
                  <a:pt x="947969" y="2577175"/>
                  <a:pt x="1128919" y="2595716"/>
                  <a:pt x="855406" y="2595716"/>
                </a:cubicBezTo>
                <a:lnTo>
                  <a:pt x="737419" y="2772697"/>
                </a:lnTo>
                <a:lnTo>
                  <a:pt x="412955" y="2787445"/>
                </a:lnTo>
                <a:lnTo>
                  <a:pt x="29497" y="2684206"/>
                </a:lnTo>
                <a:lnTo>
                  <a:pt x="0" y="44245"/>
                </a:lnTo>
                <a:lnTo>
                  <a:pt x="501445" y="0"/>
                </a:lnTo>
                <a:close/>
              </a:path>
            </a:pathLst>
          </a:custGeom>
          <a:noFill/>
          <a:ln w="571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0" name="157 Conector recto"/>
          <p:cNvCxnSpPr/>
          <p:nvPr/>
        </p:nvCxnSpPr>
        <p:spPr>
          <a:xfrm>
            <a:off x="10501200" y="6143400"/>
            <a:ext cx="914760" cy="9147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grpSp>
        <p:nvGrpSpPr>
          <p:cNvPr id="241" name="175 Grupo"/>
          <p:cNvGrpSpPr/>
          <p:nvPr/>
        </p:nvGrpSpPr>
        <p:grpSpPr>
          <a:xfrm>
            <a:off x="468000" y="2060280"/>
            <a:ext cx="8470800" cy="4557600"/>
            <a:chOff x="468000" y="2060280"/>
            <a:chExt cx="8470800" cy="4557600"/>
          </a:xfrm>
        </p:grpSpPr>
        <p:cxnSp>
          <p:nvCxnSpPr>
            <p:cNvPr id="242" name="162 Conector recto"/>
            <p:cNvCxnSpPr>
              <a:stCxn id="239" idx="1"/>
            </p:cNvCxnSpPr>
            <p:nvPr/>
          </p:nvCxnSpPr>
          <p:spPr>
            <a:xfrm>
              <a:off x="3036600" y="2060280"/>
              <a:ext cx="5545440" cy="1986480"/>
            </a:xfrm>
            <a:prstGeom prst="straightConnector1">
              <a:avLst/>
            </a:prstGeom>
            <a:ln w="38100">
              <a:solidFill>
                <a:srgbClr val="000000"/>
              </a:solidFill>
              <a:prstDash val="sysDash"/>
              <a:round/>
            </a:ln>
          </p:spPr>
        </p:cxnSp>
        <p:cxnSp>
          <p:nvCxnSpPr>
            <p:cNvPr id="243" name="164 Conector recto"/>
            <p:cNvCxnSpPr>
              <a:stCxn id="239" idx="1"/>
            </p:cNvCxnSpPr>
            <p:nvPr/>
          </p:nvCxnSpPr>
          <p:spPr>
            <a:xfrm>
              <a:off x="468000" y="4744800"/>
              <a:ext cx="4327920" cy="1730880"/>
            </a:xfrm>
            <a:prstGeom prst="straightConnector1">
              <a:avLst/>
            </a:prstGeom>
            <a:ln w="38100">
              <a:solidFill>
                <a:srgbClr val="000000"/>
              </a:solidFill>
              <a:prstDash val="sysDash"/>
              <a:round/>
            </a:ln>
          </p:spPr>
        </p:cxnSp>
        <p:sp>
          <p:nvSpPr>
            <p:cNvPr id="244" name="152 Rectángulo"/>
            <p:cNvSpPr/>
            <p:nvPr/>
          </p:nvSpPr>
          <p:spPr>
            <a:xfrm>
              <a:off x="5010120" y="5332320"/>
              <a:ext cx="3642840" cy="7092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148 Rectángulo"/>
            <p:cNvSpPr/>
            <p:nvPr/>
          </p:nvSpPr>
          <p:spPr>
            <a:xfrm>
              <a:off x="5010120" y="5403960"/>
              <a:ext cx="3642840" cy="213840"/>
            </a:xfrm>
            <a:prstGeom prst="rect">
              <a:avLst/>
            </a:prstGeom>
            <a:solidFill>
              <a:srgbClr val="a0bf6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149 Rectángulo"/>
            <p:cNvSpPr/>
            <p:nvPr/>
          </p:nvSpPr>
          <p:spPr>
            <a:xfrm>
              <a:off x="5010120" y="5618160"/>
              <a:ext cx="3642840" cy="213840"/>
            </a:xfrm>
            <a:prstGeom prst="rect">
              <a:avLst/>
            </a:prstGeom>
            <a:solidFill>
              <a:srgbClr val="c0d59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47" name="147 Conector recto"/>
            <p:cNvCxnSpPr/>
            <p:nvPr/>
          </p:nvCxnSpPr>
          <p:spPr>
            <a:xfrm flipV="1">
              <a:off x="5010120" y="5330520"/>
              <a:ext cx="3643560" cy="2160"/>
            </a:xfrm>
            <a:prstGeom prst="straightConnector1">
              <a:avLst/>
            </a:prstGeom>
            <a:ln w="57150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248" name="150 Rectángulo"/>
            <p:cNvSpPr/>
            <p:nvPr/>
          </p:nvSpPr>
          <p:spPr>
            <a:xfrm>
              <a:off x="5010120" y="5832360"/>
              <a:ext cx="3642840" cy="213840"/>
            </a:xfrm>
            <a:prstGeom prst="rect">
              <a:avLst/>
            </a:prstGeom>
            <a:solidFill>
              <a:schemeClr val="accent3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141 Rectángulo redondeado"/>
            <p:cNvSpPr/>
            <p:nvPr/>
          </p:nvSpPr>
          <p:spPr>
            <a:xfrm>
              <a:off x="4653000" y="4046400"/>
              <a:ext cx="4285800" cy="257148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143 Conector recto de flecha"/>
            <p:cNvCxnSpPr/>
            <p:nvPr/>
          </p:nvCxnSpPr>
          <p:spPr>
            <a:xfrm>
              <a:off x="5010120" y="6046560"/>
              <a:ext cx="3714840" cy="21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51" name="144 CuadroTexto"/>
            <p:cNvSpPr/>
            <p:nvPr/>
          </p:nvSpPr>
          <p:spPr>
            <a:xfrm>
              <a:off x="8082000" y="6189840"/>
              <a:ext cx="785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145 CuadroTexto"/>
            <p:cNvSpPr/>
            <p:nvPr/>
          </p:nvSpPr>
          <p:spPr>
            <a:xfrm>
              <a:off x="4795920" y="4176720"/>
              <a:ext cx="1499760" cy="367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tCO</a:t>
              </a:r>
              <a:r>
                <a:rPr b="0" lang="es-ES_tradnl" sz="1800" spc="-1" strike="noStrike" baseline="-1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-e ha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Calibri"/>
                </a:rPr>
                <a:t>-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142 Conector recto de flecha"/>
            <p:cNvCxnSpPr/>
            <p:nvPr/>
          </p:nvCxnSpPr>
          <p:spPr>
            <a:xfrm flipV="1">
              <a:off x="5010120" y="4546440"/>
              <a:ext cx="1800" cy="150048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254" name="174 Grupo"/>
          <p:cNvGrpSpPr/>
          <p:nvPr/>
        </p:nvGrpSpPr>
        <p:grpSpPr>
          <a:xfrm>
            <a:off x="5016600" y="5143680"/>
            <a:ext cx="3752640" cy="645840"/>
            <a:chOff x="5016600" y="5143680"/>
            <a:chExt cx="3752640" cy="645840"/>
          </a:xfrm>
        </p:grpSpPr>
        <p:sp>
          <p:nvSpPr>
            <p:cNvPr id="255" name="155 Forma libre"/>
            <p:cNvSpPr/>
            <p:nvPr/>
          </p:nvSpPr>
          <p:spPr>
            <a:xfrm>
              <a:off x="5016600" y="5143680"/>
              <a:ext cx="3752640" cy="645840"/>
            </a:xfrm>
            <a:custGeom>
              <a:avLst/>
              <a:gdLst>
                <a:gd name="textAreaLeft" fmla="*/ 0 w 3752640"/>
                <a:gd name="textAreaRight" fmla="*/ 3753000 w 375264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752193" h="646386">
                  <a:moveTo>
                    <a:pt x="0" y="204951"/>
                  </a:moveTo>
                  <a:lnTo>
                    <a:pt x="3626069" y="630620"/>
                  </a:lnTo>
                  <a:lnTo>
                    <a:pt x="3752193" y="646386"/>
                  </a:lnTo>
                  <a:lnTo>
                    <a:pt x="3720662" y="0"/>
                  </a:lnTo>
                  <a:lnTo>
                    <a:pt x="0" y="0"/>
                  </a:lnTo>
                  <a:lnTo>
                    <a:pt x="0" y="204951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6" name="159 Conector recto"/>
            <p:cNvCxnSpPr/>
            <p:nvPr/>
          </p:nvCxnSpPr>
          <p:spPr>
            <a:xfrm>
              <a:off x="5019480" y="5360760"/>
              <a:ext cx="3626280" cy="425880"/>
            </a:xfrm>
            <a:prstGeom prst="straightConnector1">
              <a:avLst/>
            </a:prstGeom>
            <a:ln w="57150">
              <a:solidFill>
                <a:srgbClr val="000000"/>
              </a:solidFill>
              <a:round/>
            </a:ln>
          </p:spPr>
        </p:cxnSp>
      </p:grpSp>
      <p:grpSp>
        <p:nvGrpSpPr>
          <p:cNvPr id="257" name="170 Grupo"/>
          <p:cNvGrpSpPr/>
          <p:nvPr/>
        </p:nvGrpSpPr>
        <p:grpSpPr>
          <a:xfrm>
            <a:off x="2612880" y="1214280"/>
            <a:ext cx="6959520" cy="2571480"/>
            <a:chOff x="2612880" y="1214280"/>
            <a:chExt cx="6959520" cy="2571480"/>
          </a:xfrm>
        </p:grpSpPr>
        <p:sp>
          <p:nvSpPr>
            <p:cNvPr id="258" name="132 Rectángulo redondeado"/>
            <p:cNvSpPr/>
            <p:nvPr/>
          </p:nvSpPr>
          <p:spPr>
            <a:xfrm>
              <a:off x="4643280" y="1214280"/>
              <a:ext cx="4285800" cy="25714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105 Rectángulo"/>
            <p:cNvSpPr/>
            <p:nvPr/>
          </p:nvSpPr>
          <p:spPr>
            <a:xfrm>
              <a:off x="4970520" y="2143080"/>
              <a:ext cx="3642840" cy="2138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104 Rectángulo"/>
            <p:cNvSpPr/>
            <p:nvPr/>
          </p:nvSpPr>
          <p:spPr>
            <a:xfrm>
              <a:off x="4970520" y="2357280"/>
              <a:ext cx="3642840" cy="213840"/>
            </a:xfrm>
            <a:prstGeom prst="rect">
              <a:avLst/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103 Rectángulo"/>
            <p:cNvSpPr/>
            <p:nvPr/>
          </p:nvSpPr>
          <p:spPr>
            <a:xfrm>
              <a:off x="4970520" y="2571840"/>
              <a:ext cx="3642840" cy="213840"/>
            </a:xfrm>
            <a:prstGeom prst="rect">
              <a:avLst/>
            </a:prstGeom>
            <a:solidFill>
              <a:srgbClr val="a0bf6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102 Rectángulo"/>
            <p:cNvSpPr/>
            <p:nvPr/>
          </p:nvSpPr>
          <p:spPr>
            <a:xfrm>
              <a:off x="4970520" y="2786040"/>
              <a:ext cx="3642840" cy="213840"/>
            </a:xfrm>
            <a:prstGeom prst="rect">
              <a:avLst/>
            </a:prstGeom>
            <a:solidFill>
              <a:srgbClr val="c0d59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79 Rectángulo"/>
            <p:cNvSpPr/>
            <p:nvPr/>
          </p:nvSpPr>
          <p:spPr>
            <a:xfrm>
              <a:off x="4970520" y="3000240"/>
              <a:ext cx="3642840" cy="213840"/>
            </a:xfrm>
            <a:prstGeom prst="rect">
              <a:avLst/>
            </a:prstGeom>
            <a:solidFill>
              <a:schemeClr val="accent3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106 Forma libre"/>
            <p:cNvSpPr/>
            <p:nvPr/>
          </p:nvSpPr>
          <p:spPr>
            <a:xfrm>
              <a:off x="4967280" y="2136600"/>
              <a:ext cx="318600" cy="2012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8977" h="202019">
                  <a:moveTo>
                    <a:pt x="0" y="202019"/>
                  </a:moveTo>
                  <a:lnTo>
                    <a:pt x="318977" y="0"/>
                  </a:lnTo>
                  <a:lnTo>
                    <a:pt x="0" y="0"/>
                  </a:lnTo>
                  <a:lnTo>
                    <a:pt x="0" y="202019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108 Forma libre"/>
            <p:cNvSpPr/>
            <p:nvPr/>
          </p:nvSpPr>
          <p:spPr>
            <a:xfrm>
              <a:off x="5257800" y="2048040"/>
              <a:ext cx="2187360" cy="103932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039320"/>
                <a:gd name="textAreaBottom" fmla="*/ 1039680 h 1039320"/>
              </a:gdLst>
              <a:ahLst/>
              <a:rect l="textAreaLeft" t="textAreaTop" r="textAreaRight" b="textAreaBottom"/>
              <a:pathLst>
                <a:path w="2187245" h="1038758">
                  <a:moveTo>
                    <a:pt x="0" y="0"/>
                  </a:moveTo>
                  <a:lnTo>
                    <a:pt x="0" y="1038758"/>
                  </a:lnTo>
                  <a:lnTo>
                    <a:pt x="431597" y="1038758"/>
                  </a:lnTo>
                  <a:lnTo>
                    <a:pt x="2187245" y="80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109 Forma libre"/>
            <p:cNvSpPr/>
            <p:nvPr/>
          </p:nvSpPr>
          <p:spPr>
            <a:xfrm>
              <a:off x="7385040" y="2048040"/>
              <a:ext cx="2187360" cy="103788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037880"/>
                <a:gd name="textAreaBottom" fmla="*/ 1038240 h 1037880"/>
              </a:gdLst>
              <a:ahLst/>
              <a:rect l="textAreaLeft" t="textAreaTop" r="textAreaRight" b="textAreaBottom"/>
              <a:pathLst>
                <a:path w="2187245" h="1038758">
                  <a:moveTo>
                    <a:pt x="0" y="0"/>
                  </a:moveTo>
                  <a:lnTo>
                    <a:pt x="0" y="1038758"/>
                  </a:lnTo>
                  <a:lnTo>
                    <a:pt x="431597" y="1038758"/>
                  </a:lnTo>
                  <a:lnTo>
                    <a:pt x="2187245" y="80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67" name="57 Conector recto de flecha"/>
            <p:cNvCxnSpPr/>
            <p:nvPr/>
          </p:nvCxnSpPr>
          <p:spPr>
            <a:xfrm flipV="1">
              <a:off x="4968720" y="1712880"/>
              <a:ext cx="1800" cy="150048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268" name="60 Conector recto de flecha"/>
            <p:cNvCxnSpPr/>
            <p:nvPr/>
          </p:nvCxnSpPr>
          <p:spPr>
            <a:xfrm>
              <a:off x="4970160" y="3214440"/>
              <a:ext cx="3715200" cy="21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69" name="119 Forma libre"/>
            <p:cNvSpPr/>
            <p:nvPr/>
          </p:nvSpPr>
          <p:spPr>
            <a:xfrm>
              <a:off x="4951440" y="2165400"/>
              <a:ext cx="3709800" cy="928440"/>
            </a:xfrm>
            <a:custGeom>
              <a:avLst/>
              <a:gdLst>
                <a:gd name="textAreaLeft" fmla="*/ 0 w 3709800"/>
                <a:gd name="textAreaRight" fmla="*/ 3710160 w 370980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3708807" h="929031">
                  <a:moveTo>
                    <a:pt x="0" y="168250"/>
                  </a:moveTo>
                  <a:lnTo>
                    <a:pt x="299923" y="0"/>
                  </a:lnTo>
                  <a:cubicBezTo>
                    <a:pt x="297485" y="307238"/>
                    <a:pt x="295046" y="614477"/>
                    <a:pt x="292608" y="921715"/>
                  </a:cubicBezTo>
                  <a:lnTo>
                    <a:pt x="731520" y="929031"/>
                  </a:lnTo>
                  <a:lnTo>
                    <a:pt x="2428647" y="0"/>
                  </a:lnTo>
                  <a:cubicBezTo>
                    <a:pt x="2426208" y="307238"/>
                    <a:pt x="2423770" y="614477"/>
                    <a:pt x="2421331" y="921715"/>
                  </a:cubicBezTo>
                  <a:lnTo>
                    <a:pt x="2874874" y="921715"/>
                  </a:lnTo>
                  <a:lnTo>
                    <a:pt x="3708807" y="460858"/>
                  </a:lnTo>
                  <a:lnTo>
                    <a:pt x="3708807" y="460858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rgbClr val="00b0f0"/>
                </a:solidFill>
                <a:latin typeface="Calibri"/>
              </a:endParaRPr>
            </a:p>
          </p:txBody>
        </p:sp>
        <p:sp>
          <p:nvSpPr>
            <p:cNvPr id="270" name="120 CuadroTexto"/>
            <p:cNvSpPr/>
            <p:nvPr/>
          </p:nvSpPr>
          <p:spPr>
            <a:xfrm>
              <a:off x="4714560" y="1285920"/>
              <a:ext cx="1428480" cy="367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tCO</a:t>
              </a:r>
              <a:r>
                <a:rPr b="0" lang="es-ES_tradnl" sz="1800" spc="-1" strike="noStrike" baseline="-1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-e ha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Calibri"/>
                </a:rPr>
                <a:t>-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21 CuadroTexto"/>
            <p:cNvSpPr/>
            <p:nvPr/>
          </p:nvSpPr>
          <p:spPr>
            <a:xfrm>
              <a:off x="8042760" y="3357720"/>
              <a:ext cx="785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123 Conector recto"/>
            <p:cNvCxnSpPr/>
            <p:nvPr/>
          </p:nvCxnSpPr>
          <p:spPr>
            <a:xfrm flipH="1">
              <a:off x="5256000" y="3143160"/>
              <a:ext cx="1800" cy="214560"/>
            </a:xfrm>
            <a:prstGeom prst="straightConnector1">
              <a:avLst/>
            </a:prstGeom>
            <a:ln>
              <a:solidFill>
                <a:srgbClr val="4a7ebb"/>
              </a:solidFill>
              <a:round/>
            </a:ln>
          </p:spPr>
        </p:cxnSp>
        <p:cxnSp>
          <p:nvCxnSpPr>
            <p:cNvPr id="273" name="124 Conector recto"/>
            <p:cNvCxnSpPr/>
            <p:nvPr/>
          </p:nvCxnSpPr>
          <p:spPr>
            <a:xfrm flipH="1">
              <a:off x="5682960" y="3143160"/>
              <a:ext cx="2160" cy="214560"/>
            </a:xfrm>
            <a:prstGeom prst="straightConnector1">
              <a:avLst/>
            </a:prstGeom>
            <a:ln>
              <a:solidFill>
                <a:srgbClr val="4a7ebb"/>
              </a:solidFill>
              <a:round/>
            </a:ln>
          </p:spPr>
        </p:cxnSp>
        <p:cxnSp>
          <p:nvCxnSpPr>
            <p:cNvPr id="274" name="125 Conector recto"/>
            <p:cNvCxnSpPr/>
            <p:nvPr/>
          </p:nvCxnSpPr>
          <p:spPr>
            <a:xfrm flipH="1">
              <a:off x="7397640" y="3143160"/>
              <a:ext cx="1800" cy="214560"/>
            </a:xfrm>
            <a:prstGeom prst="straightConnector1">
              <a:avLst/>
            </a:prstGeom>
            <a:ln>
              <a:solidFill>
                <a:srgbClr val="4a7ebb"/>
              </a:solidFill>
              <a:round/>
            </a:ln>
          </p:spPr>
        </p:cxnSp>
        <p:cxnSp>
          <p:nvCxnSpPr>
            <p:cNvPr id="275" name="127 Conector recto de flecha"/>
            <p:cNvCxnSpPr/>
            <p:nvPr/>
          </p:nvCxnSpPr>
          <p:spPr>
            <a:xfrm>
              <a:off x="5256000" y="3357360"/>
              <a:ext cx="429120" cy="1800"/>
            </a:xfrm>
            <a:prstGeom prst="straightConnector1">
              <a:avLst/>
            </a:prstGeom>
            <a:ln>
              <a:solidFill>
                <a:srgbClr val="4a7ebb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276" name="128 Conector recto de flecha"/>
            <p:cNvCxnSpPr/>
            <p:nvPr/>
          </p:nvCxnSpPr>
          <p:spPr>
            <a:xfrm>
              <a:off x="5684760" y="3357360"/>
              <a:ext cx="1714680" cy="1800"/>
            </a:xfrm>
            <a:prstGeom prst="straightConnector1">
              <a:avLst/>
            </a:prstGeom>
            <a:ln>
              <a:solidFill>
                <a:srgbClr val="4a7ebb"/>
              </a:solidFill>
              <a:round/>
              <a:headEnd len="med" type="arrow" w="med"/>
              <a:tailEnd len="med" type="arrow" w="med"/>
            </a:ln>
          </p:spPr>
        </p:cxnSp>
        <p:sp>
          <p:nvSpPr>
            <p:cNvPr id="277" name="130 CuadroTexto"/>
            <p:cNvSpPr/>
            <p:nvPr/>
          </p:nvSpPr>
          <p:spPr>
            <a:xfrm>
              <a:off x="5256360" y="3354480"/>
              <a:ext cx="499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17375e"/>
                  </a:solidFill>
                  <a:latin typeface="Calibri"/>
                </a:rPr>
                <a:t>2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131 CuadroTexto"/>
            <p:cNvSpPr/>
            <p:nvPr/>
          </p:nvSpPr>
          <p:spPr>
            <a:xfrm>
              <a:off x="5899320" y="3357720"/>
              <a:ext cx="1428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17375e"/>
                  </a:solidFill>
                  <a:latin typeface="Calibri"/>
                </a:rPr>
                <a:t>10-30(4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134 Conector recto"/>
            <p:cNvCxnSpPr/>
            <p:nvPr/>
          </p:nvCxnSpPr>
          <p:spPr>
            <a:xfrm flipV="1">
              <a:off x="2612880" y="1285560"/>
              <a:ext cx="2214720" cy="135792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80" name="138 Conector recto"/>
            <p:cNvCxnSpPr/>
            <p:nvPr/>
          </p:nvCxnSpPr>
          <p:spPr>
            <a:xfrm>
              <a:off x="2612880" y="3143160"/>
              <a:ext cx="2214720" cy="57168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281" name="178 Rectángulo redondeado"/>
          <p:cNvSpPr/>
          <p:nvPr/>
        </p:nvSpPr>
        <p:spPr>
          <a:xfrm>
            <a:off x="4643280" y="1214280"/>
            <a:ext cx="4285800" cy="257148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179 CuadroTexto"/>
          <p:cNvSpPr/>
          <p:nvPr/>
        </p:nvSpPr>
        <p:spPr>
          <a:xfrm>
            <a:off x="9858240" y="1500120"/>
            <a:ext cx="18396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180 CuadroTexto"/>
          <p:cNvSpPr/>
          <p:nvPr/>
        </p:nvSpPr>
        <p:spPr>
          <a:xfrm>
            <a:off x="5220000" y="2571840"/>
            <a:ext cx="70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Mil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185 Grupo"/>
          <p:cNvGrpSpPr/>
          <p:nvPr/>
        </p:nvGrpSpPr>
        <p:grpSpPr>
          <a:xfrm>
            <a:off x="4786200" y="1278000"/>
            <a:ext cx="3428640" cy="1186920"/>
            <a:chOff x="4786200" y="1278000"/>
            <a:chExt cx="3428640" cy="1186920"/>
          </a:xfrm>
        </p:grpSpPr>
        <p:sp>
          <p:nvSpPr>
            <p:cNvPr id="285" name="182 Rectángulo"/>
            <p:cNvSpPr/>
            <p:nvPr/>
          </p:nvSpPr>
          <p:spPr>
            <a:xfrm>
              <a:off x="4786200" y="1357200"/>
              <a:ext cx="1213920" cy="2854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181 CuadroTexto"/>
            <p:cNvSpPr/>
            <p:nvPr/>
          </p:nvSpPr>
          <p:spPr>
            <a:xfrm>
              <a:off x="5429160" y="1278000"/>
              <a:ext cx="2785680" cy="1186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Descanso (con extracciones de leña, madera  y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cientemente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carbó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184 CuadroTexto"/>
          <p:cNvSpPr/>
          <p:nvPr/>
        </p:nvSpPr>
        <p:spPr>
          <a:xfrm>
            <a:off x="7358040" y="2147760"/>
            <a:ext cx="1071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umba y qu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99 Flecha derecha"/>
          <p:cNvSpPr/>
          <p:nvPr/>
        </p:nvSpPr>
        <p:spPr>
          <a:xfrm>
            <a:off x="5940360" y="4005360"/>
            <a:ext cx="2879280" cy="1510920"/>
          </a:xfrm>
          <a:prstGeom prst="rightArrow">
            <a:avLst>
              <a:gd name="adj1" fmla="val 90590"/>
              <a:gd name="adj2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ts val="1800"/>
              </a:lnSpc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Incremento de vulnerabilidad ante Cambio Climático y de riesgo de colapso de la seguridad ali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 Título"/>
          <p:cNvSpPr/>
          <p:nvPr/>
        </p:nvSpPr>
        <p:spPr>
          <a:xfrm>
            <a:off x="250920" y="260280"/>
            <a:ext cx="8280000" cy="57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99cc00"/>
                </a:solidFill>
                <a:latin typeface="Arial"/>
              </a:rPr>
              <a:t>Dinámica de Carbono en los Ejidos de Yuca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21 Rectángulo"/>
          <p:cNvSpPr/>
          <p:nvPr/>
        </p:nvSpPr>
        <p:spPr>
          <a:xfrm>
            <a:off x="1214280" y="3287880"/>
            <a:ext cx="5586120" cy="42660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3 Rectángulo"/>
          <p:cNvSpPr/>
          <p:nvPr/>
        </p:nvSpPr>
        <p:spPr>
          <a:xfrm>
            <a:off x="1214280" y="3286080"/>
            <a:ext cx="5586120" cy="14256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4 Rectángulo"/>
          <p:cNvSpPr/>
          <p:nvPr/>
        </p:nvSpPr>
        <p:spPr>
          <a:xfrm>
            <a:off x="1214280" y="3659040"/>
            <a:ext cx="5586120" cy="426600"/>
          </a:xfrm>
          <a:prstGeom prst="rect">
            <a:avLst/>
          </a:prstGeom>
          <a:solidFill>
            <a:srgbClr val="a0bf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5 Rectángulo"/>
          <p:cNvSpPr/>
          <p:nvPr/>
        </p:nvSpPr>
        <p:spPr>
          <a:xfrm>
            <a:off x="1214280" y="4089240"/>
            <a:ext cx="5586120" cy="426600"/>
          </a:xfrm>
          <a:prstGeom prst="rect">
            <a:avLst/>
          </a:prstGeom>
          <a:solidFill>
            <a:srgbClr val="c0d59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94" name="6 Conector recto"/>
          <p:cNvCxnSpPr/>
          <p:nvPr/>
        </p:nvCxnSpPr>
        <p:spPr>
          <a:xfrm>
            <a:off x="1214280" y="3286080"/>
            <a:ext cx="5586840" cy="360"/>
          </a:xfrm>
          <a:prstGeom prst="straightConnector1">
            <a:avLst/>
          </a:prstGeom>
          <a:ln w="5715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sp>
        <p:nvSpPr>
          <p:cNvPr id="295" name="7 Rectángulo"/>
          <p:cNvSpPr/>
          <p:nvPr/>
        </p:nvSpPr>
        <p:spPr>
          <a:xfrm>
            <a:off x="1214280" y="4502160"/>
            <a:ext cx="5586120" cy="4266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8 Rectángulo redondeado"/>
          <p:cNvSpPr/>
          <p:nvPr/>
        </p:nvSpPr>
        <p:spPr>
          <a:xfrm>
            <a:off x="826920" y="1989000"/>
            <a:ext cx="6571800" cy="357156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10 CuadroTexto"/>
          <p:cNvSpPr/>
          <p:nvPr/>
        </p:nvSpPr>
        <p:spPr>
          <a:xfrm>
            <a:off x="5786280" y="5000760"/>
            <a:ext cx="1204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11 CuadroTexto"/>
          <p:cNvSpPr/>
          <p:nvPr/>
        </p:nvSpPr>
        <p:spPr>
          <a:xfrm>
            <a:off x="1000080" y="2344680"/>
            <a:ext cx="1861920" cy="46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CO</a:t>
            </a:r>
            <a:r>
              <a:rPr b="0" lang="es-ES_tradnl" sz="2400" spc="-1" strike="noStrike" baseline="-1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e h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13 Forma libre"/>
          <p:cNvSpPr/>
          <p:nvPr/>
        </p:nvSpPr>
        <p:spPr>
          <a:xfrm>
            <a:off x="1211400" y="3068640"/>
            <a:ext cx="5752800" cy="1288800"/>
          </a:xfrm>
          <a:custGeom>
            <a:avLst/>
            <a:gdLst>
              <a:gd name="textAreaLeft" fmla="*/ 0 w 5752800"/>
              <a:gd name="textAreaRight" fmla="*/ 5753160 w 5752800"/>
              <a:gd name="textAreaTop" fmla="*/ 0 h 1288800"/>
              <a:gd name="textAreaBottom" fmla="*/ 1289160 h 1288800"/>
            </a:gdLst>
            <a:ahLst/>
            <a:rect l="textAreaLeft" t="textAreaTop" r="textAreaRight" b="textAreaBottom"/>
            <a:pathLst>
              <a:path w="3752193" h="646386">
                <a:moveTo>
                  <a:pt x="0" y="204951"/>
                </a:moveTo>
                <a:lnTo>
                  <a:pt x="3626069" y="630620"/>
                </a:lnTo>
                <a:lnTo>
                  <a:pt x="3752193" y="646386"/>
                </a:lnTo>
                <a:lnTo>
                  <a:pt x="3720662" y="0"/>
                </a:lnTo>
                <a:lnTo>
                  <a:pt x="0" y="0"/>
                </a:lnTo>
                <a:lnTo>
                  <a:pt x="0" y="204951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MX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00" name="9 Conector recto de flecha"/>
          <p:cNvCxnSpPr/>
          <p:nvPr/>
        </p:nvCxnSpPr>
        <p:spPr>
          <a:xfrm>
            <a:off x="1187280" y="4941720"/>
            <a:ext cx="5696280" cy="18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301" name="31 Grupo"/>
          <p:cNvGrpSpPr/>
          <p:nvPr/>
        </p:nvGrpSpPr>
        <p:grpSpPr>
          <a:xfrm>
            <a:off x="1258560" y="2997360"/>
            <a:ext cx="8773920" cy="1362960"/>
            <a:chOff x="1258560" y="2997360"/>
            <a:chExt cx="8773920" cy="1362960"/>
          </a:xfrm>
        </p:grpSpPr>
        <p:grpSp>
          <p:nvGrpSpPr>
            <p:cNvPr id="302" name="30 Grupo"/>
            <p:cNvGrpSpPr/>
            <p:nvPr/>
          </p:nvGrpSpPr>
          <p:grpSpPr>
            <a:xfrm>
              <a:off x="1258560" y="3471840"/>
              <a:ext cx="5607360" cy="888480"/>
              <a:chOff x="1258560" y="3471840"/>
              <a:chExt cx="5607360" cy="888480"/>
            </a:xfrm>
          </p:grpSpPr>
          <p:sp>
            <p:nvSpPr>
              <p:cNvPr id="303" name="27 Forma libre"/>
              <p:cNvSpPr/>
              <p:nvPr/>
            </p:nvSpPr>
            <p:spPr>
              <a:xfrm>
                <a:off x="1293840" y="3503520"/>
                <a:ext cx="5549400" cy="856800"/>
              </a:xfrm>
              <a:custGeom>
                <a:avLst/>
                <a:gdLst>
                  <a:gd name="textAreaLeft" fmla="*/ 0 w 5549400"/>
                  <a:gd name="textAreaRight" fmla="*/ 5549760 w 5549400"/>
                  <a:gd name="textAreaTop" fmla="*/ 0 h 856800"/>
                  <a:gd name="textAreaBottom" fmla="*/ 857160 h 856800"/>
                </a:gdLst>
                <a:ahLst/>
                <a:rect l="textAreaLeft" t="textAreaTop" r="textAreaRight" b="textAreaBottom"/>
                <a:pathLst>
                  <a:path w="5549462" h="914400">
                    <a:moveTo>
                      <a:pt x="0" y="0"/>
                    </a:moveTo>
                    <a:lnTo>
                      <a:pt x="5549462" y="15766"/>
                    </a:lnTo>
                    <a:lnTo>
                      <a:pt x="5549462" y="914400"/>
                    </a:lnTo>
                  </a:path>
                </a:pathLst>
              </a:custGeom>
              <a:solidFill>
                <a:schemeClr val="accent1">
                  <a:lumMod val="40000"/>
                  <a:lumOff val="60000"/>
                </a:schemeClr>
              </a:soli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s-MX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304" name="25 Conector recto"/>
              <p:cNvCxnSpPr/>
              <p:nvPr/>
            </p:nvCxnSpPr>
            <p:spPr>
              <a:xfrm>
                <a:off x="1258560" y="3471840"/>
                <a:ext cx="5607720" cy="8280"/>
              </a:xfrm>
              <a:prstGeom prst="straightConnector1">
                <a:avLst/>
              </a:prstGeom>
              <a:ln w="57150">
                <a:solidFill>
                  <a:srgbClr val="ff0000"/>
                </a:solidFill>
                <a:round/>
              </a:ln>
            </p:spPr>
          </p:cxnSp>
        </p:grpSp>
        <p:sp>
          <p:nvSpPr>
            <p:cNvPr id="305" name="28 CuadroTexto"/>
            <p:cNvSpPr/>
            <p:nvPr/>
          </p:nvSpPr>
          <p:spPr>
            <a:xfrm>
              <a:off x="6840360" y="2997360"/>
              <a:ext cx="3192120" cy="100440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401"/>
                </a:lnSpc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Proyecto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degradaci</a:t>
              </a:r>
              <a:r>
                <a:rPr b="1" lang="es-MX" sz="2400" spc="-1" strike="noStrike">
                  <a:solidFill>
                    <a:srgbClr val="ff0000"/>
                  </a:solidFill>
                  <a:latin typeface="Calibri"/>
                </a:rPr>
                <a:t>ó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evitada 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6" name="15 Conector recto de flecha"/>
          <p:cNvCxnSpPr/>
          <p:nvPr/>
        </p:nvCxnSpPr>
        <p:spPr>
          <a:xfrm flipV="1">
            <a:off x="1214280" y="2857320"/>
            <a:ext cx="360" cy="20721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307" name="33 Grupo"/>
          <p:cNvGrpSpPr/>
          <p:nvPr/>
        </p:nvGrpSpPr>
        <p:grpSpPr>
          <a:xfrm>
            <a:off x="1214280" y="3484440"/>
            <a:ext cx="8038440" cy="1378800"/>
            <a:chOff x="1214280" y="3484440"/>
            <a:chExt cx="8038440" cy="1378800"/>
          </a:xfrm>
        </p:grpSpPr>
        <p:sp>
          <p:nvSpPr>
            <p:cNvPr id="308" name="29 CuadroTexto"/>
            <p:cNvSpPr/>
            <p:nvPr/>
          </p:nvSpPr>
          <p:spPr>
            <a:xfrm rot="484800">
              <a:off x="6870960" y="4183560"/>
              <a:ext cx="2356920" cy="5162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Línea de b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32 Conector recto"/>
            <p:cNvCxnSpPr/>
            <p:nvPr/>
          </p:nvCxnSpPr>
          <p:spPr>
            <a:xfrm>
              <a:off x="1214280" y="3484440"/>
              <a:ext cx="5559840" cy="849600"/>
            </a:xfrm>
            <a:prstGeom prst="straightConnector1">
              <a:avLst/>
            </a:prstGeom>
            <a:ln w="57150">
              <a:solidFill>
                <a:srgbClr val="9bbb59">
                  <a:lumMod val="75000"/>
                </a:srgbClr>
              </a:solidFill>
              <a:prstDash val="dash"/>
              <a:round/>
            </a:ln>
          </p:spPr>
        </p:cxnSp>
      </p:grpSp>
      <p:cxnSp>
        <p:nvCxnSpPr>
          <p:cNvPr id="310" name="14 Conector recto"/>
          <p:cNvCxnSpPr>
            <a:stCxn id="299" idx="0"/>
            <a:endCxn id="299" idx="1"/>
          </p:cNvCxnSpPr>
          <p:nvPr/>
        </p:nvCxnSpPr>
        <p:spPr>
          <a:xfrm>
            <a:off x="1187280" y="3500280"/>
            <a:ext cx="5559840" cy="84960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sp>
        <p:nvSpPr>
          <p:cNvPr id="311" name="34 CuadroTexto"/>
          <p:cNvSpPr/>
          <p:nvPr/>
        </p:nvSpPr>
        <p:spPr>
          <a:xfrm>
            <a:off x="944640" y="5950080"/>
            <a:ext cx="725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enerar la línea de base de degradación podría ser complejo metodológic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51 Grupo"/>
          <p:cNvGrpSpPr/>
          <p:nvPr/>
        </p:nvGrpSpPr>
        <p:grpSpPr>
          <a:xfrm>
            <a:off x="1211040" y="1634040"/>
            <a:ext cx="8022240" cy="1811880"/>
            <a:chOff x="1211040" y="1634040"/>
            <a:chExt cx="8022240" cy="1811880"/>
          </a:xfrm>
        </p:grpSpPr>
        <p:sp>
          <p:nvSpPr>
            <p:cNvPr id="313" name="50 Forma libre"/>
            <p:cNvSpPr/>
            <p:nvPr/>
          </p:nvSpPr>
          <p:spPr>
            <a:xfrm>
              <a:off x="1252440" y="2516040"/>
              <a:ext cx="5533560" cy="929880"/>
            </a:xfrm>
            <a:custGeom>
              <a:avLst/>
              <a:gdLst>
                <a:gd name="textAreaLeft" fmla="*/ 0 w 5533560"/>
                <a:gd name="textAreaRight" fmla="*/ 5533920 w 5533560"/>
                <a:gd name="textAreaTop" fmla="*/ 0 h 929880"/>
                <a:gd name="textAreaBottom" fmla="*/ 930240 h 929880"/>
              </a:gdLst>
              <a:ahLst/>
              <a:rect l="textAreaLeft" t="textAreaTop" r="textAreaRight" b="textAreaBottom"/>
              <a:pathLst>
                <a:path w="5533696" h="930165">
                  <a:moveTo>
                    <a:pt x="0" y="914400"/>
                  </a:moveTo>
                  <a:lnTo>
                    <a:pt x="5533696" y="930165"/>
                  </a:lnTo>
                  <a:lnTo>
                    <a:pt x="5533696" y="0"/>
                  </a:lnTo>
                  <a:lnTo>
                    <a:pt x="78827" y="914400"/>
                  </a:lnTo>
                  <a:lnTo>
                    <a:pt x="78827" y="914400"/>
                  </a:lnTo>
                  <a:lnTo>
                    <a:pt x="0" y="914400"/>
                  </a:lnTo>
                  <a:close/>
                </a:path>
              </a:pathLst>
            </a:custGeom>
            <a:solidFill>
              <a:srgbClr val="4f81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MX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14" name="42 Grupo"/>
            <p:cNvGrpSpPr/>
            <p:nvPr/>
          </p:nvGrpSpPr>
          <p:grpSpPr>
            <a:xfrm>
              <a:off x="1211040" y="1634040"/>
              <a:ext cx="8022240" cy="1794960"/>
              <a:chOff x="1211040" y="1634040"/>
              <a:chExt cx="8022240" cy="1794960"/>
            </a:xfrm>
          </p:grpSpPr>
          <p:cxnSp>
            <p:nvCxnSpPr>
              <p:cNvPr id="315" name="39 Conector recto"/>
              <p:cNvCxnSpPr/>
              <p:nvPr/>
            </p:nvCxnSpPr>
            <p:spPr>
              <a:xfrm flipV="1">
                <a:off x="1211040" y="2523960"/>
                <a:ext cx="5575680" cy="905400"/>
              </a:xfrm>
              <a:prstGeom prst="straightConnector1">
                <a:avLst/>
              </a:prstGeom>
              <a:ln w="57150">
                <a:solidFill>
                  <a:srgbClr val="ff0000"/>
                </a:solidFill>
                <a:round/>
              </a:ln>
            </p:spPr>
          </p:cxnSp>
          <p:sp>
            <p:nvSpPr>
              <p:cNvPr id="316" name="41 CuadroTexto"/>
              <p:cNvSpPr/>
              <p:nvPr/>
            </p:nvSpPr>
            <p:spPr>
              <a:xfrm rot="20950200">
                <a:off x="6797520" y="1849320"/>
                <a:ext cx="2376720" cy="85212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2001"/>
                  </a:lnSpc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Proyecto aumento stocks de carbon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1 Título"/>
          <p:cNvSpPr/>
          <p:nvPr/>
        </p:nvSpPr>
        <p:spPr>
          <a:xfrm>
            <a:off x="179280" y="189000"/>
            <a:ext cx="8713440" cy="57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99cc00"/>
                </a:solidFill>
                <a:latin typeface="Arial"/>
              </a:rPr>
              <a:t>Potencial de Reducción de Emisiones de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250920" y="692280"/>
            <a:ext cx="87134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reducción de emisiones de Carbono se daría al implementar acciones de Aumento de Stock de Carbono, Degradación Evitada y Reforestación. Asimismo estas acciones contribuirán a reducir la pobreza y a la Adaptación a los efectos del Cambio Cli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1 Título"/>
          <p:cNvSpPr/>
          <p:nvPr/>
        </p:nvSpPr>
        <p:spPr>
          <a:xfrm>
            <a:off x="250920" y="260280"/>
            <a:ext cx="8280000" cy="57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99cc00"/>
                </a:solidFill>
                <a:latin typeface="Arial"/>
              </a:rPr>
              <a:t>Objetivo del Proyecto Forestal</a:t>
            </a: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68360" y="1197000"/>
            <a:ext cx="81561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304920" y="836640"/>
            <a:ext cx="8515080" cy="191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ucir la tasa de deforestación observada en el estado de Yucatán  durante los últimos 40 años a través de la implementación de medidas de degradación evitada, conservación de stock de carbono y reforestación, en el marco de un programa de desarrollo comunitario sustentable, a fin de elevar el nivel de vida de las comunidades mayas que observan una alta marginalidad socio-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0920" y="2981160"/>
            <a:ext cx="6428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99cc00"/>
                </a:solidFill>
                <a:latin typeface="Arial"/>
              </a:rPr>
              <a:t>Com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447840" y="4024440"/>
            <a:ext cx="81561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324000" y="3573360"/>
            <a:ext cx="842436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StarSymbol"/>
              <a:buAutoNum type="arabicPeriod"/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Programa de Desarrollo Comunitari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StarSymbol"/>
              <a:buAutoNum type="arabicPeriod"/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Conservación y manejo sustentable de las selvas en las comunidades mayas en situación de pob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StarSymbol"/>
              <a:buAutoNum type="arabicPeriod"/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Proyectos de Captura de Carbono en comunidades may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StarSymbol"/>
              <a:buAutoNum type="arabicPeriod"/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Capacitación y Desarrol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StarSymbol"/>
              <a:buAutoNum type="arabicPeriod"/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Restauración y Conservación de Ecosistemas de Manglar en la Zona Cos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1 Título"/>
          <p:cNvSpPr/>
          <p:nvPr/>
        </p:nvSpPr>
        <p:spPr>
          <a:xfrm>
            <a:off x="1576440" y="1844640"/>
            <a:ext cx="5989320" cy="158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MX" sz="4400" spc="-1" strike="noStrike">
                <a:solidFill>
                  <a:srgbClr val="a50021"/>
                </a:solidFill>
                <a:latin typeface="Segoe UI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733040" cy="618840"/>
          </a:xfrm>
          <a:prstGeom prst="rect">
            <a:avLst/>
          </a:prstGeom>
          <a:ln w="9525">
            <a:noFill/>
          </a:ln>
        </p:spPr>
      </p:pic>
      <p:pic>
        <p:nvPicPr>
          <p:cNvPr id="327" name="Picture 6" descr="logo"/>
          <p:cNvPicPr/>
          <p:nvPr/>
        </p:nvPicPr>
        <p:blipFill>
          <a:blip r:embed="rId2"/>
          <a:stretch/>
        </p:blipFill>
        <p:spPr>
          <a:xfrm>
            <a:off x="7451640" y="260280"/>
            <a:ext cx="1223640" cy="798120"/>
          </a:xfrm>
          <a:prstGeom prst="rect">
            <a:avLst/>
          </a:prstGeom>
          <a:ln w="9525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6126120" y="5075280"/>
            <a:ext cx="3017520" cy="1782360"/>
          </a:xfrm>
          <a:prstGeom prst="rect">
            <a:avLst/>
          </a:prstGeom>
          <a:ln w="9525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0" y="5092560"/>
            <a:ext cx="2916000" cy="1765080"/>
          </a:xfrm>
          <a:prstGeom prst="rect">
            <a:avLst/>
          </a:prstGeom>
          <a:ln w="9525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2865600" y="5084640"/>
            <a:ext cx="3411000" cy="1773000"/>
          </a:xfrm>
          <a:prstGeom prst="rect">
            <a:avLst/>
          </a:prstGeom>
          <a:ln w="9525">
            <a:noFill/>
          </a:ln>
        </p:spPr>
      </p:pic>
      <p:sp>
        <p:nvSpPr>
          <p:cNvPr id="331" name="Line 10"/>
          <p:cNvSpPr/>
          <p:nvPr/>
        </p:nvSpPr>
        <p:spPr>
          <a:xfrm>
            <a:off x="0" y="5084640"/>
            <a:ext cx="9144000" cy="360"/>
          </a:xfrm>
          <a:prstGeom prst="line">
            <a:avLst/>
          </a:prstGeom>
          <a:ln w="8255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231840" y="28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24000" y="260280"/>
            <a:ext cx="84452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 Título"/>
          <p:cNvSpPr/>
          <p:nvPr/>
        </p:nvSpPr>
        <p:spPr>
          <a:xfrm>
            <a:off x="0" y="476280"/>
            <a:ext cx="914364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s-MX" sz="2800" spc="-1" strike="noStrike">
                <a:solidFill>
                  <a:srgbClr val="003300"/>
                </a:solidFill>
                <a:latin typeface="Segoe UI"/>
              </a:rPr>
              <a:t>Componente 1: Programa de Desarrollo Comunitario Sust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422280" y="1700280"/>
            <a:ext cx="8299080" cy="475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El diseño y ejecución de un Programa de Desarrollo Comunitario Sustentable que tiene como objetivo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reducir la tasa de deforestación, combatir la pobreza y promover la autogestión de los recursos ambientale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 a fin de ofrecer modos de vida sustentable a las comunidades mayas en el largo plaz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Este Programa utilizará estrategias técnicas y metodologías que estimulen la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efectiva participación de las comunidade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; asimismo el Programa será elaborado por las comunidades con el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acompañamiento de las instituciones responsables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. Su planificación, ejecución y seguimiento son responsabilidad de las comunidades con la colaboración directa de </a:t>
            </a:r>
            <a:r>
              <a:rPr b="1" lang="es-MX" sz="1800" spc="-1" strike="noStrike">
                <a:solidFill>
                  <a:srgbClr val="a50021"/>
                </a:solidFill>
                <a:latin typeface="Segoe UI"/>
              </a:rPr>
              <a:t>Técnicos Facili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Se requiere contar con </a:t>
            </a: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i) Nivel de Decisión Política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; </a:t>
            </a:r>
            <a:r>
              <a:rPr b="1" lang="es-MX" sz="1800" spc="-1" strike="noStrike">
                <a:solidFill>
                  <a:srgbClr val="000000"/>
                </a:solidFill>
                <a:latin typeface="Segoe UI"/>
              </a:rPr>
              <a:t>ii) Que sea Prioritario en el Ámbito Institucional y iii) Participación Social Garantizada</a:t>
            </a: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0" y="0"/>
            <a:ext cx="630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4355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itios priori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2714760" y="2003400"/>
            <a:ext cx="5960880" cy="4578120"/>
          </a:xfrm>
          <a:prstGeom prst="rect">
            <a:avLst/>
          </a:prstGeom>
          <a:ln w="9525">
            <a:noFill/>
          </a:ln>
        </p:spPr>
      </p:pic>
      <p:sp>
        <p:nvSpPr>
          <p:cNvPr id="339" name="4 CuadroTexto"/>
          <p:cNvSpPr/>
          <p:nvPr/>
        </p:nvSpPr>
        <p:spPr>
          <a:xfrm>
            <a:off x="167760" y="836640"/>
            <a:ext cx="5272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Segoe UI"/>
              </a:rPr>
              <a:t>32 localidades en situación de pobreza ext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Segoe UI"/>
              </a:rPr>
              <a:t>en 16 Municipios con 4,639 Hab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  <Words>2275</Words>
  <Paragraphs>2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13:47Z</dcterms:created>
  <dc:creator>Administrator</dc:creator>
  <dc:description/>
  <dc:language>en-US</dc:language>
  <cp:lastModifiedBy>anarod</cp:lastModifiedBy>
  <dcterms:modified xsi:type="dcterms:W3CDTF">2010-07-13T14:16:34Z</dcterms:modified>
  <cp:revision>187</cp:revision>
  <dc:subject/>
  <dc:title>Resumen de impres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