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5E1A-B7E5-4C0F-B876-1B6DF776D6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2FE-5E92-421E-AFA0-F22D4D616C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DF45DB7-37E8-4A23-8F24-81E12FC000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E253-2609-4A6B-80A2-D6AD42F308F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C371-AD20-4258-9648-C46846AFE1D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FAB0-BB05-43B8-B762-4D74048EA4B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FDFE-3BBE-4529-885F-2F0B4A3059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893E-438A-4F21-A118-AE2D16B83A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076-2A09-407A-8410-4525C47045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FE2-396F-4C21-B564-F3277C68899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3AF-74AD-416C-8043-58EC361FA38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E87-CDFB-4D72-BBE1-7A1E8FC75A5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1BA-639E-43CC-89A8-965E26E0FB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E10F-2E6B-46EE-BB36-F255E8EA27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B4A-37E4-463A-B5EC-3FC31B6D22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76F4-AEA5-494A-8680-96159C1EE0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36B4-DE21-4DA1-8A80-BC1256C0B33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6BD4-0F1F-4AFF-A5FC-4416FF7C6B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DCAC-50B5-4676-B39C-0316CEA143C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131-92A1-4783-9914-7422597FB6A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3C3-F130-4E77-AB14-7F8B95E982A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54F-0D3F-4D02-9661-4819D2A6B2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12B-4A8F-4A2E-8B7E-CA06F0834C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D6547AE-AED8-4A3F-9467-236B401527F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C25D-EC21-4357-80D5-7AAC0004016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9600BB0-5467-42FC-BE13-CA7222918D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2391-5B6D-4FB4-8ED8-D791C1FCF92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DFFC-6D56-4C6D-9120-07853A86E0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8DB5-6BC8-4D99-BC52-773615020C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394A-8DD1-4D8D-93C9-D364762D245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CF87-5871-4401-9BA4-2744524D07A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20A-0090-492C-B91E-5C6C2A129B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A163-5ADC-4F2D-97E4-9900C6B702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6F1-4B91-40C0-B709-83EC510566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37A5-04FE-4365-B0ED-EEE6C5327D5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4A2-2336-4EF9-8C38-6C80D9BB4C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32FC-6181-458A-85C4-D73E70390A2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0FC-2791-4E0D-B6BB-5313DDA40F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803A-F8A6-44B8-A278-DE57336F31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AE3D-433D-4270-A191-44892ECB997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983-C7EA-47F1-BB2E-B46BE7B7B1F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5E81-D30F-450E-A012-7A6FF3F16B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484-DF20-400E-9B51-360011F1E09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CB6-E46E-45DA-BD2A-AD013B4CA0A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E194-048C-4B8D-82A0-5E93F1ECF9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B1E-E6ED-4217-8029-0551419064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972-0AE9-4840-BD25-61F959DECBF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5AD4-6D44-46FA-8F32-B0B28F4B52E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B33-5789-4400-A49E-2EE5E1E43A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040-A84E-40CF-8F74-CFDFE6705B6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ela01_novalogo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mailto:augusto@sefaz.ba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1341360"/>
            <a:ext cx="847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rograma de Consolidação do Equilíbrio Fiscal para o Desenvolvimento do Estado da Ba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ROCONF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presentação Consolidada das Etapas I 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4"/>
          <p:cNvSpPr/>
          <p:nvPr/>
        </p:nvSpPr>
        <p:spPr>
          <a:xfrm>
            <a:off x="2843280" y="4797360"/>
            <a:ext cx="3875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Washington, DC, 11 de feverei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EFAZ-SEPLAN-SA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382920" y="3052800"/>
            <a:ext cx="23781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centração dos dispêndios da dí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) Acúmulo de resíduo da operaçã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negociação da dívida do Estado (Lei Fed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.º 9.496/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i) Programação de pagamentos de ou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de crédito, cujos períod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ência se esgotaram nos últimos 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ndo uma elevação nas amortiz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7164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cc00"/>
                </a:solidFill>
                <a:latin typeface="Arial"/>
              </a:rPr>
              <a:t>Dívid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457200" y="1052640"/>
          <a:ext cx="82296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7164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cc00"/>
                </a:solidFill>
                <a:latin typeface="Arial"/>
              </a:rPr>
              <a:t>Dívid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468360" y="981000"/>
          <a:ext cx="828036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280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cc00"/>
                </a:solidFill>
                <a:latin typeface="Arial"/>
              </a:rPr>
              <a:t>Dispêndios Anuais Projetados</a:t>
            </a:r>
            <a:br>
              <a:rPr sz="2400"/>
            </a:br>
            <a:r>
              <a:rPr b="1" i="1" lang="pt-BR" sz="2400" spc="-1" strike="noStrike">
                <a:solidFill>
                  <a:srgbClr val="99cc00"/>
                </a:solidFill>
                <a:latin typeface="Arial"/>
              </a:rPr>
              <a:t>(antes da oper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ixos Temáticos do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 – Estabilidade Macroeconô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 – Fortalecimento da Gestão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 – Qualidade do Gast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4 – Gestão de Invest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mpacto da Crise Financeira Internacional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Sub-Pr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rda de Receita – R$ 1,11 bilhão (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eita Tributária – R$ 410 milh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PE – R$ 700 milh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evação de Disp. Dívida – R$ 65 milhões (3,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mpacto Total em 2009 – R$ 1,175 bilh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PROCONFIS 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673280"/>
            <a:ext cx="8447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eração Baseada em Polí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Inovador em Estados Subna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strumento de Fomento ao Desenvolvimento Institucional do Estado da Ba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Contexto e 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758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exto e Anteced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ONFIS I no período 2008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em Situação de Equilíbri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 de Investimento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evada Demanda de Investimentos no Período 2011-2014, inclusive em vista da Copa do Mundo FIFA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2. Objetivos do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talecer o Equilíbrio Fiscal d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crementar a Arrecadação do I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talecer a Administração Financeira e o Controle do Gas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ar a Gestão dos Programas e Projetos de 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3. Marcos Cron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9144000" cy="65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Arial"/>
              </a:rPr>
              <a:t>Missão Inicial – jan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Arial"/>
              </a:rPr>
              <a:t>Envio Carta Consulta à SEAIN – jul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Arial"/>
              </a:rPr>
              <a:t>Recomendação COFIEX - set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Arial"/>
              </a:rPr>
              <a:t>Missão de Identificação – nov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Arial"/>
              </a:rPr>
              <a:t>Preparação da Operação – 1º Semestre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Arial"/>
              </a:rPr>
              <a:t>Negociação BID-STN-PGFN – out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ssinatura do Contrato – 21/dez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1ª Lib. US$ 400 M (R$ 816 M) – 27/dez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2ª Lib. US$ 200 M (R$ 447 M) – 25/jul/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Seminário de Encerramento – 19/nov/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4. Ações e Produtos do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– Estabilidade Macro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 – Gestão da Receit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 – Gestão Financeira e Controle do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 – Gestão de Programas e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 – Estabilidade Macroeconô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829080" y="333000"/>
            <a:ext cx="8363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etas do Programa de Ajuste Fiscal  2013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0040" y="1108080"/>
            <a:ext cx="8229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00000" y="2276640"/>
            <a:ext cx="8447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ONFIS I – US$ 407 Milh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ONFIS II – US$ 600 Milh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B – Gestão da Receita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ministração Tributária com  Processos Redesenhad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ribuintes Substitutos Fiscaliz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mentos Econômicos com Planos de Seleção Parametriz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ções Fiscais com Resultado Inseridas no Processo Administrativo Fiscal Eletrônico – PAF-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tos Fiscais com Controle Centralizado de Circulação de Mercador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7840" y="62064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422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C –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Gestão Financeira e Controle do     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Ga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Tahoma"/>
              </a:rPr>
              <a:t>Orçamento Anual incorporando Fonte Exclusi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Tahoma"/>
              </a:rPr>
              <a:t>Informação Relativa à Execução Orçamentária Gerada pelo Novo Sistema Integra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Tahoma"/>
              </a:rPr>
              <a:t>Itens Monitorados para Avaliação do Gasto Públ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Secretarias Utilizando o Sistema de Custos Públicos (ACP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Órgãos Utilizando Contabilidade por Competência para Avaliação do Gas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lano de Contas Adaptado aos Padrões Internacionai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cursos Reembolsados pelo INS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Órgãos com Adesão aos Procedimentos de Eliminação de Pagamentos Previdenciários Indevid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Secretarias Apresentando Plano Anual de Compr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 algn="just"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Órgãos Utilizando Registro de Preços de Referência nos Processos Licitatóri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560" y="620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D – 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Gestão de Programas e Políticas     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2060"/>
                </a:solidFill>
                <a:latin typeface="Arial"/>
              </a:rPr>
              <a:t>Públ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companhamento dos programas do P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lanos de Gestão e Monitoramento Elabor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ormação Cartográfica de apoio ao Planejamento Estraté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Compromissos Firmados pelas Secretarias de Estado, incorporando Metas do P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lanos Setoriais de Gestão de Recursos Humanos Elabor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l de Divulgação dos Investimentos para a COPA/FIF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pliação do Número de Parcerias Público-Privadas – PP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5. Resultados Alcanç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cremento da Arrecadação do IC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 de Base (2011): R$ 12,1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 (2014): R$ 14,3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3, Jan a Ago): R$ 10,2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lor Previsto p/ 2013 : R$ 15,5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.: A meta será superada com folga e já em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3" descr=""/>
          <p:cNvPicPr/>
          <p:nvPr/>
        </p:nvPicPr>
        <p:blipFill>
          <a:blip r:embed="rId1"/>
          <a:stretch/>
        </p:blipFill>
        <p:spPr>
          <a:xfrm>
            <a:off x="1162080" y="1098720"/>
            <a:ext cx="6480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dução de Gastos com Serviços Terceir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 de Base (2011): R$ 601 M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 (2014): R$ 479 M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3): R$ 468 M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ganho obtido nas licitações foi de R$ 132,6 milhões, quando comparado os valores contratados com seus respectivos valores referenciais. Tal volume de recursos representa, percentualmente, uma redução em relação aos valores referenciais de 22% em média, muito acima dos percentuais obtidos anteriormente, que giravam em torno de 16%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cremento no número de Programas do PPA Monito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 de Base (2011): 3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 (2014): 20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3): 20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.: A meta já foi atingida em 2013. Até o final de 2014, estima-se alcançar o monitoramento de todos os 47 programas do 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levação do Montante Monitorado no P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ha de Base (2011): 28% (R$ 15,3 B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a (2014)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alizado (2013, Jan a Ago): 83% (R$ 39,9 B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A meta já foi amplamente superada e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levação da Quantidade de Municípios Alcançados por Planos Territor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 de Base (2011): 100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 (2014): 417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3, Ago): 244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.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é o final de 2014 todos os municípios terão o seu Plano Territorial de Desenvolvimento Sustentável (PTDS) elaborado e aqueles que já tinham plano antes do projeto (há mais de 5 anos) serão requalific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PROCONF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6. Impactos do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cremento dos Investimentos Públicos do Es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 de Base (2011): R$ 1,7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 (2014): R$ 2,5 bilh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2): R$ 1,8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3, Jan a Set): R$ 1,1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çamento de 2014: R$ 3,9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liberações desta operação, no entanto, ocorreram em dezembro de 2012 (US$ 400 milhões), logo após a assinatura do contrato, e a 2ª parcela em julho de 2013 (US$ 200 milhões). Não houve, por conseguinte, ainda tempo hábil para que tais recursos financeiros tenham se convertido em investimentos efetiv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levação do Resultado Primá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 de Base (2011): R$ 361 M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 (2014): R$ 721 Milh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do (2013, Jan a Ago): R$ 2,2 bil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.: Os resultados primários positivos e elevados refletem o ingresso de grande volume de recursos, sem tempo hábil para a sua aplicação. Para 2014, é esperado um resultado primári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35"/>
          <p:cNvSpPr/>
          <p:nvPr/>
        </p:nvSpPr>
        <p:spPr>
          <a:xfrm>
            <a:off x="0" y="2433600"/>
            <a:ext cx="9139320" cy="24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34"/>
          <p:cNvSpPr/>
          <p:nvPr/>
        </p:nvSpPr>
        <p:spPr>
          <a:xfrm>
            <a:off x="0" y="485640"/>
            <a:ext cx="9139320" cy="19479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3"/>
          <p:cNvSpPr/>
          <p:nvPr/>
        </p:nvSpPr>
        <p:spPr>
          <a:xfrm>
            <a:off x="7677000" y="200160"/>
            <a:ext cx="1467000" cy="268200"/>
          </a:xfrm>
          <a:prstGeom prst="rect">
            <a:avLst/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1"/>
          <p:cNvSpPr/>
          <p:nvPr/>
        </p:nvSpPr>
        <p:spPr>
          <a:xfrm>
            <a:off x="0" y="4856040"/>
            <a:ext cx="9144000" cy="2001960"/>
          </a:xfrm>
          <a:prstGeom prst="rect">
            <a:avLst/>
          </a:prstGeom>
          <a:solidFill>
            <a:srgbClr val="f8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5"/>
          <p:cNvSpPr/>
          <p:nvPr/>
        </p:nvSpPr>
        <p:spPr>
          <a:xfrm>
            <a:off x="7829640" y="5516640"/>
            <a:ext cx="1261800" cy="43344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Investimentos públ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9"/>
          <p:cNvSpPr/>
          <p:nvPr/>
        </p:nvSpPr>
        <p:spPr>
          <a:xfrm>
            <a:off x="7829640" y="2212920"/>
            <a:ext cx="1261800" cy="42408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Resultado primá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Conector angulado 2"/>
          <p:cNvCxnSpPr>
            <a:stCxn id="99" idx="2"/>
            <a:endCxn id="98" idx="0"/>
          </p:cNvCxnSpPr>
          <p:nvPr/>
        </p:nvCxnSpPr>
        <p:spPr>
          <a:xfrm rot="5400000">
            <a:off x="7725600" y="4076280"/>
            <a:ext cx="2880360" cy="1332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1" name="Retângulo 4"/>
          <p:cNvSpPr/>
          <p:nvPr/>
        </p:nvSpPr>
        <p:spPr>
          <a:xfrm>
            <a:off x="2112840" y="1413000"/>
            <a:ext cx="1406520" cy="43164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Fs info centralizada circulação mercado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ângulo 6"/>
          <p:cNvSpPr/>
          <p:nvPr/>
        </p:nvSpPr>
        <p:spPr>
          <a:xfrm>
            <a:off x="4040280" y="498600"/>
            <a:ext cx="1433520" cy="423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g economicos seleção parametr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ângulo 7"/>
          <p:cNvSpPr/>
          <p:nvPr/>
        </p:nvSpPr>
        <p:spPr>
          <a:xfrm>
            <a:off x="6208560" y="1060560"/>
            <a:ext cx="1420920" cy="42372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rrecadação IC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8"/>
          <p:cNvSpPr/>
          <p:nvPr/>
        </p:nvSpPr>
        <p:spPr>
          <a:xfrm>
            <a:off x="184320" y="1060560"/>
            <a:ext cx="1420560" cy="423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Áreas AT com processos redesenh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10"/>
          <p:cNvSpPr/>
          <p:nvPr/>
        </p:nvSpPr>
        <p:spPr>
          <a:xfrm>
            <a:off x="3706920" y="1052640"/>
            <a:ext cx="1420560" cy="423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ntribuintes substitutos fiscal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ângulo 11"/>
          <p:cNvSpPr/>
          <p:nvPr/>
        </p:nvSpPr>
        <p:spPr>
          <a:xfrm>
            <a:off x="4083120" y="1925640"/>
            <a:ext cx="1419120" cy="423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ções fiscais  utilizando PAF-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12"/>
          <p:cNvSpPr/>
          <p:nvPr/>
        </p:nvSpPr>
        <p:spPr>
          <a:xfrm>
            <a:off x="6208560" y="3436920"/>
            <a:ext cx="142092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Gastos serviços terceir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3"/>
          <p:cNvSpPr/>
          <p:nvPr/>
        </p:nvSpPr>
        <p:spPr>
          <a:xfrm>
            <a:off x="104760" y="4378320"/>
            <a:ext cx="14079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xecução orçam e financeira no FI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14"/>
          <p:cNvSpPr/>
          <p:nvPr/>
        </p:nvSpPr>
        <p:spPr>
          <a:xfrm>
            <a:off x="4361040" y="3141720"/>
            <a:ext cx="14065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tens monitorados avaliação gas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15"/>
          <p:cNvSpPr/>
          <p:nvPr/>
        </p:nvSpPr>
        <p:spPr>
          <a:xfrm>
            <a:off x="4361040" y="3789360"/>
            <a:ext cx="14065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Utilização sistema A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ângulo 16"/>
          <p:cNvSpPr/>
          <p:nvPr/>
        </p:nvSpPr>
        <p:spPr>
          <a:xfrm>
            <a:off x="4361040" y="4221000"/>
            <a:ext cx="14065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ntabilidade competência  aval ga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7"/>
          <p:cNvSpPr/>
          <p:nvPr/>
        </p:nvSpPr>
        <p:spPr>
          <a:xfrm>
            <a:off x="2400480" y="4076640"/>
            <a:ext cx="14065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lano contas NBCA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18"/>
          <p:cNvSpPr/>
          <p:nvPr/>
        </p:nvSpPr>
        <p:spPr>
          <a:xfrm>
            <a:off x="2500200" y="3025800"/>
            <a:ext cx="14065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cursos reembolsados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ângulo 19"/>
          <p:cNvSpPr/>
          <p:nvPr/>
        </p:nvSpPr>
        <p:spPr>
          <a:xfrm>
            <a:off x="2500200" y="2492280"/>
            <a:ext cx="14065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iminação pgto previdenciário indev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ângulo 20"/>
          <p:cNvSpPr/>
          <p:nvPr/>
        </p:nvSpPr>
        <p:spPr>
          <a:xfrm>
            <a:off x="252360" y="3586320"/>
            <a:ext cx="14065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lano anual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21"/>
          <p:cNvSpPr/>
          <p:nvPr/>
        </p:nvSpPr>
        <p:spPr>
          <a:xfrm>
            <a:off x="1914480" y="3573360"/>
            <a:ext cx="14065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P referência processos licitató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22"/>
          <p:cNvSpPr/>
          <p:nvPr/>
        </p:nvSpPr>
        <p:spPr>
          <a:xfrm>
            <a:off x="6208560" y="5516640"/>
            <a:ext cx="1420920" cy="423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Programas PPA monito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ângulo 23"/>
          <p:cNvSpPr/>
          <p:nvPr/>
        </p:nvSpPr>
        <p:spPr>
          <a:xfrm>
            <a:off x="6208560" y="4950000"/>
            <a:ext cx="1420920" cy="423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Orçamento programas PPA monito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24"/>
          <p:cNvSpPr/>
          <p:nvPr/>
        </p:nvSpPr>
        <p:spPr>
          <a:xfrm>
            <a:off x="6208560" y="6173640"/>
            <a:ext cx="1420920" cy="42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Municípios com planos territori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25"/>
          <p:cNvSpPr/>
          <p:nvPr/>
        </p:nvSpPr>
        <p:spPr>
          <a:xfrm>
            <a:off x="104760" y="5589720"/>
            <a:ext cx="140796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gramas PPA acompanh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26"/>
          <p:cNvSpPr/>
          <p:nvPr/>
        </p:nvSpPr>
        <p:spPr>
          <a:xfrm>
            <a:off x="2073240" y="5445000"/>
            <a:ext cx="1406520" cy="432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lanos gestão e monitoramento PP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ângulo 27"/>
          <p:cNvSpPr/>
          <p:nvPr/>
        </p:nvSpPr>
        <p:spPr>
          <a:xfrm>
            <a:off x="2565360" y="6093000"/>
            <a:ext cx="140832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romisso metas P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ângulo 28"/>
          <p:cNvSpPr/>
          <p:nvPr/>
        </p:nvSpPr>
        <p:spPr>
          <a:xfrm>
            <a:off x="4361040" y="6229440"/>
            <a:ext cx="140652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artas mapeamento territor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ângulo 29"/>
          <p:cNvSpPr/>
          <p:nvPr/>
        </p:nvSpPr>
        <p:spPr>
          <a:xfrm>
            <a:off x="2565360" y="4941720"/>
            <a:ext cx="1408320" cy="432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lanos de RH -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30"/>
          <p:cNvSpPr/>
          <p:nvPr/>
        </p:nvSpPr>
        <p:spPr>
          <a:xfrm>
            <a:off x="4361040" y="4906800"/>
            <a:ext cx="1406520" cy="432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nformação investimentos (COP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31"/>
          <p:cNvSpPr/>
          <p:nvPr/>
        </p:nvSpPr>
        <p:spPr>
          <a:xfrm>
            <a:off x="446040" y="6111720"/>
            <a:ext cx="1408320" cy="4334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arcerias Público-Priv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Conector em curva 37"/>
          <p:cNvCxnSpPr>
            <a:stCxn id="126" idx="2"/>
            <a:endCxn id="98" idx="2"/>
          </p:cNvCxnSpPr>
          <p:nvPr/>
        </p:nvCxnSpPr>
        <p:spPr>
          <a:xfrm flipH="1" flipV="1" rot="5400000">
            <a:off x="4906440" y="2286360"/>
            <a:ext cx="595800" cy="7922160"/>
          </a:xfrm>
          <a:prstGeom prst="curvedConnector5">
            <a:avLst>
              <a:gd name="adj1" fmla="val -33796"/>
              <a:gd name="adj2" fmla="val 49997"/>
              <a:gd name="adj3" fmla="val -33796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Conector em curva 40"/>
          <p:cNvCxnSpPr>
            <a:stCxn id="103" idx="2"/>
            <a:endCxn id="99" idx="1"/>
          </p:cNvCxnSpPr>
          <p:nvPr/>
        </p:nvCxnSpPr>
        <p:spPr>
          <a:xfrm flipH="1" rot="16200000">
            <a:off x="7518240" y="1461600"/>
            <a:ext cx="942120" cy="986400"/>
          </a:xfrm>
          <a:prstGeom prst="curved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Conector em curva 45"/>
          <p:cNvCxnSpPr>
            <a:stCxn id="107" idx="0"/>
            <a:endCxn id="99" idx="1"/>
          </p:cNvCxnSpPr>
          <p:nvPr/>
        </p:nvCxnSpPr>
        <p:spPr>
          <a:xfrm flipH="1" flipV="1" rot="5400000">
            <a:off x="7483320" y="2437920"/>
            <a:ext cx="1011960" cy="986400"/>
          </a:xfrm>
          <a:prstGeom prst="curved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Conector em curva 53"/>
          <p:cNvCxnSpPr>
            <a:stCxn id="105" idx="3"/>
            <a:endCxn id="103" idx="1"/>
          </p:cNvCxnSpPr>
          <p:nvPr/>
        </p:nvCxnSpPr>
        <p:spPr>
          <a:xfrm>
            <a:off x="5554800" y="1265400"/>
            <a:ext cx="1172160" cy="8640"/>
          </a:xfrm>
          <a:prstGeom prst="curvedConnector5">
            <a:avLst>
              <a:gd name="adj1" fmla="val 49984"/>
              <a:gd name="adj2" fmla="val 47826"/>
              <a:gd name="adj3" fmla="val 49984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Conector em curva 61"/>
          <p:cNvCxnSpPr>
            <a:stCxn id="116" idx="3"/>
            <a:endCxn id="107" idx="1"/>
          </p:cNvCxnSpPr>
          <p:nvPr/>
        </p:nvCxnSpPr>
        <p:spPr>
          <a:xfrm flipV="1">
            <a:off x="3597120" y="3649320"/>
            <a:ext cx="3129840" cy="140400"/>
          </a:xfrm>
          <a:prstGeom prst="curvedConnector5">
            <a:avLst>
              <a:gd name="adj1" fmla="val 49994"/>
              <a:gd name="adj2" fmla="val 49871"/>
              <a:gd name="adj3" fmla="val 49994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2" name="Conector em curva 68"/>
          <p:cNvCxnSpPr>
            <a:endCxn id="117" idx="1"/>
          </p:cNvCxnSpPr>
          <p:nvPr/>
        </p:nvCxnSpPr>
        <p:spPr>
          <a:xfrm flipV="1">
            <a:off x="1638000" y="5728680"/>
            <a:ext cx="5088600" cy="221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3" name="Conector em curva 71"/>
          <p:cNvCxnSpPr>
            <a:stCxn id="121" idx="3"/>
            <a:endCxn id="117" idx="1"/>
          </p:cNvCxnSpPr>
          <p:nvPr/>
        </p:nvCxnSpPr>
        <p:spPr>
          <a:xfrm>
            <a:off x="3769920" y="5661000"/>
            <a:ext cx="2956680" cy="69120"/>
          </a:xfrm>
          <a:prstGeom prst="curvedConnector5">
            <a:avLst>
              <a:gd name="adj1" fmla="val 50000"/>
              <a:gd name="adj2" fmla="val 49738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4" name="Conector em curva 80"/>
          <p:cNvCxnSpPr>
            <a:stCxn id="121" idx="3"/>
            <a:endCxn id="118" idx="1"/>
          </p:cNvCxnSpPr>
          <p:nvPr/>
        </p:nvCxnSpPr>
        <p:spPr>
          <a:xfrm flipV="1">
            <a:off x="3769920" y="5160240"/>
            <a:ext cx="2956680" cy="500760"/>
          </a:xfrm>
          <a:prstGeom prst="curvedConnector5">
            <a:avLst>
              <a:gd name="adj1" fmla="val 84620"/>
              <a:gd name="adj2" fmla="val 50000"/>
              <a:gd name="adj3" fmla="val 8462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5" name="Conector em curva 84"/>
          <p:cNvCxnSpPr>
            <a:stCxn id="118" idx="3"/>
            <a:endCxn id="98" idx="0"/>
          </p:cNvCxnSpPr>
          <p:nvPr/>
        </p:nvCxnSpPr>
        <p:spPr>
          <a:xfrm>
            <a:off x="8265600" y="5160960"/>
            <a:ext cx="901080" cy="356400"/>
          </a:xfrm>
          <a:prstGeom prst="curved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6" name="Conector em curva 87"/>
          <p:cNvCxnSpPr>
            <a:stCxn id="104" idx="3"/>
            <a:endCxn id="105" idx="1"/>
          </p:cNvCxnSpPr>
          <p:nvPr/>
        </p:nvCxnSpPr>
        <p:spPr>
          <a:xfrm flipV="1">
            <a:off x="1738440" y="1265040"/>
            <a:ext cx="2278800" cy="8640"/>
          </a:xfrm>
          <a:prstGeom prst="curvedConnector5">
            <a:avLst>
              <a:gd name="adj1" fmla="val 49992"/>
              <a:gd name="adj2" fmla="val 47826"/>
              <a:gd name="adj3" fmla="val 49992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7" name="Conector em curva 93"/>
          <p:cNvCxnSpPr>
            <a:stCxn id="101" idx="3"/>
            <a:endCxn id="105" idx="2"/>
          </p:cNvCxnSpPr>
          <p:nvPr/>
        </p:nvCxnSpPr>
        <p:spPr>
          <a:xfrm flipV="1">
            <a:off x="3812760" y="1475640"/>
            <a:ext cx="973800" cy="153000"/>
          </a:xfrm>
          <a:prstGeom prst="curved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8" name="Conector em curva 99"/>
          <p:cNvCxnSpPr>
            <a:stCxn id="104" idx="2"/>
            <a:endCxn id="106" idx="1"/>
          </p:cNvCxnSpPr>
          <p:nvPr/>
        </p:nvCxnSpPr>
        <p:spPr>
          <a:xfrm flipH="1" rot="16200000">
            <a:off x="2369160" y="83880"/>
            <a:ext cx="653040" cy="3453480"/>
          </a:xfrm>
          <a:prstGeom prst="curved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" name="Conector em curva 111"/>
          <p:cNvCxnSpPr>
            <a:stCxn id="104" idx="3"/>
            <a:endCxn id="101" idx="1"/>
          </p:cNvCxnSpPr>
          <p:nvPr/>
        </p:nvCxnSpPr>
        <p:spPr>
          <a:xfrm>
            <a:off x="1738440" y="1272960"/>
            <a:ext cx="551520" cy="356040"/>
          </a:xfrm>
          <a:prstGeom prst="curvedConnector5">
            <a:avLst>
              <a:gd name="adj1" fmla="val 49967"/>
              <a:gd name="adj2" fmla="val 50000"/>
              <a:gd name="adj3" fmla="val 4996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0" name="Conector em curva 115"/>
          <p:cNvCxnSpPr>
            <a:stCxn id="116" idx="1"/>
            <a:endCxn id="115" idx="3"/>
          </p:cNvCxnSpPr>
          <p:nvPr/>
        </p:nvCxnSpPr>
        <p:spPr>
          <a:xfrm flipV="1" rot="10800000">
            <a:off x="1796400" y="3788280"/>
            <a:ext cx="27684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6dcdf"/>
            </a:solidFill>
            <a:miter/>
            <a:headEnd len="med" type="arrow" w="med"/>
          </a:ln>
        </p:spPr>
      </p:cxnSp>
      <p:sp>
        <p:nvSpPr>
          <p:cNvPr id="141" name="CaixaDeTexto 122"/>
          <p:cNvSpPr/>
          <p:nvPr/>
        </p:nvSpPr>
        <p:spPr>
          <a:xfrm>
            <a:off x="-63720" y="5284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alibri"/>
              </a:rPr>
              <a:t>Receita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123"/>
          <p:cNvSpPr/>
          <p:nvPr/>
        </p:nvSpPr>
        <p:spPr>
          <a:xfrm>
            <a:off x="-44280" y="247320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alibri"/>
              </a:rPr>
              <a:t>Gasto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ângulo 146"/>
          <p:cNvSpPr/>
          <p:nvPr/>
        </p:nvSpPr>
        <p:spPr>
          <a:xfrm>
            <a:off x="6208560" y="200160"/>
            <a:ext cx="1621080" cy="268200"/>
          </a:xfrm>
          <a:prstGeom prst="rect">
            <a:avLst/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ângulo 147"/>
          <p:cNvSpPr/>
          <p:nvPr/>
        </p:nvSpPr>
        <p:spPr>
          <a:xfrm>
            <a:off x="0" y="200160"/>
            <a:ext cx="6208560" cy="268200"/>
          </a:xfrm>
          <a:prstGeom prst="rect">
            <a:avLst/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148"/>
          <p:cNvSpPr/>
          <p:nvPr/>
        </p:nvSpPr>
        <p:spPr>
          <a:xfrm>
            <a:off x="-65520" y="486900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alibri"/>
              </a:rPr>
              <a:t>Investimento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ector em curva 54"/>
          <p:cNvCxnSpPr>
            <a:stCxn id="109" idx="3"/>
            <a:endCxn id="107" idx="1"/>
          </p:cNvCxnSpPr>
          <p:nvPr/>
        </p:nvCxnSpPr>
        <p:spPr>
          <a:xfrm>
            <a:off x="6248160" y="3357360"/>
            <a:ext cx="478440" cy="29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47" name="Conector em curva 58"/>
          <p:cNvCxnSpPr>
            <a:stCxn id="111" idx="3"/>
            <a:endCxn id="107" idx="1"/>
          </p:cNvCxnSpPr>
          <p:nvPr/>
        </p:nvCxnSpPr>
        <p:spPr>
          <a:xfrm flipV="1">
            <a:off x="6248160" y="3648960"/>
            <a:ext cx="478440" cy="788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48" name="Conector em curva 66"/>
          <p:cNvCxnSpPr>
            <a:stCxn id="112" idx="3"/>
            <a:endCxn id="111" idx="1"/>
          </p:cNvCxnSpPr>
          <p:nvPr/>
        </p:nvCxnSpPr>
        <p:spPr>
          <a:xfrm>
            <a:off x="4123800" y="4292280"/>
            <a:ext cx="60084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49" name="Conector em curva 73"/>
          <p:cNvCxnSpPr>
            <a:stCxn id="110" idx="3"/>
            <a:endCxn id="107" idx="1"/>
          </p:cNvCxnSpPr>
          <p:nvPr/>
        </p:nvCxnSpPr>
        <p:spPr>
          <a:xfrm flipV="1">
            <a:off x="6248160" y="3649320"/>
            <a:ext cx="478440" cy="3067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0" name="Conector em curva 85"/>
          <p:cNvCxnSpPr>
            <a:stCxn id="108" idx="3"/>
            <a:endCxn id="118" idx="1"/>
          </p:cNvCxnSpPr>
          <p:nvPr/>
        </p:nvCxnSpPr>
        <p:spPr>
          <a:xfrm>
            <a:off x="1638000" y="4594320"/>
            <a:ext cx="5088600" cy="567360"/>
          </a:xfrm>
          <a:prstGeom prst="curvedConnector5">
            <a:avLst>
              <a:gd name="adj1" fmla="val 91304"/>
              <a:gd name="adj2" fmla="val 49968"/>
              <a:gd name="adj3" fmla="val 91304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1" name="Conector em curva 94"/>
          <p:cNvCxnSpPr>
            <a:stCxn id="114" idx="3"/>
            <a:endCxn id="99" idx="1"/>
          </p:cNvCxnSpPr>
          <p:nvPr/>
        </p:nvCxnSpPr>
        <p:spPr>
          <a:xfrm flipV="1">
            <a:off x="4231800" y="2424960"/>
            <a:ext cx="4250520" cy="283320"/>
          </a:xfrm>
          <a:prstGeom prst="curvedConnector5">
            <a:avLst>
              <a:gd name="adj1" fmla="val 3413"/>
              <a:gd name="adj2" fmla="val 50000"/>
              <a:gd name="adj3" fmla="val 3413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2" name="Conector em curva 103"/>
          <p:cNvCxnSpPr>
            <a:stCxn id="113" idx="3"/>
            <a:endCxn id="99" idx="1"/>
          </p:cNvCxnSpPr>
          <p:nvPr/>
        </p:nvCxnSpPr>
        <p:spPr>
          <a:xfrm flipV="1">
            <a:off x="4231800" y="2424960"/>
            <a:ext cx="4250520" cy="816840"/>
          </a:xfrm>
          <a:prstGeom prst="curvedConnector5">
            <a:avLst>
              <a:gd name="adj1" fmla="val 9842"/>
              <a:gd name="adj2" fmla="val 50000"/>
              <a:gd name="adj3" fmla="val 9842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3" name="Conector em curva 124"/>
          <p:cNvCxnSpPr>
            <a:stCxn id="102" idx="3"/>
            <a:endCxn id="103" idx="1"/>
          </p:cNvCxnSpPr>
          <p:nvPr/>
        </p:nvCxnSpPr>
        <p:spPr>
          <a:xfrm>
            <a:off x="5929200" y="709560"/>
            <a:ext cx="797760" cy="564480"/>
          </a:xfrm>
          <a:prstGeom prst="curvedConnector5">
            <a:avLst>
              <a:gd name="adj1" fmla="val 49977"/>
              <a:gd name="adj2" fmla="val 49968"/>
              <a:gd name="adj3" fmla="val 49977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4" name="Conector em curva 132"/>
          <p:cNvCxnSpPr>
            <a:stCxn id="108" idx="3"/>
            <a:endCxn id="112" idx="1"/>
          </p:cNvCxnSpPr>
          <p:nvPr/>
        </p:nvCxnSpPr>
        <p:spPr>
          <a:xfrm flipV="1">
            <a:off x="1638360" y="4292280"/>
            <a:ext cx="962640" cy="302400"/>
          </a:xfrm>
          <a:prstGeom prst="curvedConnector5">
            <a:avLst>
              <a:gd name="adj1" fmla="val 49981"/>
              <a:gd name="adj2" fmla="val 49940"/>
              <a:gd name="adj3" fmla="val 49981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5" name="Conector em curva 136"/>
          <p:cNvCxnSpPr>
            <a:stCxn id="108" idx="3"/>
            <a:endCxn id="125" idx="1"/>
          </p:cNvCxnSpPr>
          <p:nvPr/>
        </p:nvCxnSpPr>
        <p:spPr>
          <a:xfrm>
            <a:off x="1638360" y="4594320"/>
            <a:ext cx="3086640" cy="529200"/>
          </a:xfrm>
          <a:prstGeom prst="curvedConnector5">
            <a:avLst>
              <a:gd name="adj1" fmla="val 90680"/>
              <a:gd name="adj2" fmla="val 49965"/>
              <a:gd name="adj3" fmla="val 9068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6" name="Conector em curva 141"/>
          <p:cNvCxnSpPr>
            <a:stCxn id="123" idx="3"/>
            <a:endCxn id="119" idx="1"/>
          </p:cNvCxnSpPr>
          <p:nvPr/>
        </p:nvCxnSpPr>
        <p:spPr>
          <a:xfrm flipV="1">
            <a:off x="6248160" y="6384240"/>
            <a:ext cx="478440" cy="6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7" name="Conector em curva 145"/>
          <p:cNvCxnSpPr>
            <a:stCxn id="124" idx="3"/>
            <a:endCxn id="109" idx="1"/>
          </p:cNvCxnSpPr>
          <p:nvPr/>
        </p:nvCxnSpPr>
        <p:spPr>
          <a:xfrm flipV="1">
            <a:off x="4305240" y="3357360"/>
            <a:ext cx="419760" cy="1800720"/>
          </a:xfrm>
          <a:prstGeom prst="curvedConnector5">
            <a:avLst>
              <a:gd name="adj1" fmla="val 49957"/>
              <a:gd name="adj2" fmla="val 49990"/>
              <a:gd name="adj3" fmla="val 49957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8" name="Conector em curva 149"/>
          <p:cNvCxnSpPr>
            <a:stCxn id="125" idx="3"/>
            <a:endCxn id="118" idx="1"/>
          </p:cNvCxnSpPr>
          <p:nvPr/>
        </p:nvCxnSpPr>
        <p:spPr>
          <a:xfrm>
            <a:off x="6248160" y="5122800"/>
            <a:ext cx="47844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59" name="Conector em curva 194"/>
          <p:cNvCxnSpPr>
            <a:stCxn id="122" idx="3"/>
            <a:endCxn id="117" idx="1"/>
          </p:cNvCxnSpPr>
          <p:nvPr/>
        </p:nvCxnSpPr>
        <p:spPr>
          <a:xfrm flipV="1">
            <a:off x="4304880" y="5728680"/>
            <a:ext cx="2421720" cy="579960"/>
          </a:xfrm>
          <a:prstGeom prst="curvedConnector5">
            <a:avLst>
              <a:gd name="adj1" fmla="val 17305"/>
              <a:gd name="adj2" fmla="val 50000"/>
              <a:gd name="adj3" fmla="val 17305"/>
            </a:avLst>
          </a:prstGeom>
          <a:ln w="9360">
            <a:solidFill>
              <a:srgbClr val="b6dcdf"/>
            </a:solidFill>
            <a:prstDash val="dash"/>
            <a:miter/>
            <a:tailEnd len="med" type="arrow" w="med"/>
          </a:ln>
        </p:spPr>
      </p:cxnSp>
      <p:cxnSp>
        <p:nvCxnSpPr>
          <p:cNvPr id="160" name="Conector em curva 201"/>
          <p:cNvCxnSpPr>
            <a:stCxn id="118" idx="2"/>
            <a:endCxn id="117" idx="0"/>
          </p:cNvCxnSpPr>
          <p:nvPr/>
        </p:nvCxnSpPr>
        <p:spPr>
          <a:xfrm rot="5400000">
            <a:off x="7423920" y="5445000"/>
            <a:ext cx="143280" cy="133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61" name="Retângulo 69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DEIA DE CAUSALIDADE DOS RESULTADOS - PROCONFIS BA II (PCR) BR-L1337 (Nov/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5191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7. Análise Ex-post dos Resultados Financei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Ex-post do PROCONFI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-post (1) –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a os mesmos benefícios estimados na avaliaçã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-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-400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scalização de Pequenos e Médios Contrib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-400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gistro de Preços p Contratos de Serviços Terceiri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-post (2) –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a os benefícios da avaliaçã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-ante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im como três outros benefícios, em valores nom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-400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umento da Arrecadação c/ a Fiscalização de Operações Interestadu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-400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lhoria da Recuperação de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0880" indent="-400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Elevação das Compensações Previdenciá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-post (3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– similar à avaliação ex-post (2), porém em valores re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13000"/>
          <a:ext cx="8497800" cy="380664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1515960"/>
                <a:gridCol w="1076400"/>
                <a:gridCol w="1081080"/>
                <a:gridCol w="863640"/>
                <a:gridCol w="1079640"/>
                <a:gridCol w="504720"/>
              </a:tblGrid>
              <a:tr h="576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dro 1. Comparação dos benefícios estimados e realiz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hões de US$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úmero de Resultados conside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xa de cambio US$/Re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 de início dos resultado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 de início do retorno financeir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 do retorno em 20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 Presente Líquido (VPL) acumulado em 20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-a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-post (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-post (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-post 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Síntese da Situação Fiscal e de Endivid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4560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t-BR" sz="2000" spc="-1" strike="noStrike">
                <a:solidFill>
                  <a:srgbClr val="99cc00"/>
                </a:solidFill>
                <a:latin typeface="Arial"/>
              </a:rPr>
              <a:t>Estoque da Dívida Pública por Grupo Cr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14240" y="592920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FONTE: SDP / COPA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929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Evolução Anual do Saldo Dev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00080" y="57150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ONTE: SICOF/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072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Propósito da Ope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Evolução da Receita Corrente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71720" y="571500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ONTE: SICOF/COP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1214280" y="5357880"/>
            <a:ext cx="130500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642960" y="1503360"/>
            <a:ext cx="7929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ajetória </a:t>
            </a:r>
            <a:br>
              <a:rPr sz="28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ívida Consolidada Líquida / Receita Corrente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214280" y="571500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ONTE: SICOF/COPAF/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214280" y="5357880"/>
            <a:ext cx="1305000" cy="26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857160" y="1357200"/>
            <a:ext cx="771552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ajetória </a:t>
            </a:r>
            <a:br>
              <a:rPr sz="28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erviço da Dívida / Receita Corrente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187280" y="5589720"/>
            <a:ext cx="18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ONTE: SICOF/COPAF/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71400" y="1347840"/>
            <a:ext cx="7972560" cy="4152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1214280" y="5357880"/>
            <a:ext cx="13050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447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ajetória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toque da Dívida em relação ao PIB -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87280" y="5877000"/>
            <a:ext cx="18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ONTE: SICOF/SDP/S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572320" cy="4214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1285920" y="557208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* PIB sujeito a retific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Evolução Anual dos Dispê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979640" y="573408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ONTE: SIC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4143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2"/>
          <a:stretch/>
        </p:blipFill>
        <p:spPr>
          <a:xfrm>
            <a:off x="1214280" y="5357880"/>
            <a:ext cx="13050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OBRIG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gusto Mont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ssor do Secretário da Faz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55)(71) 3115-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ugusto@sefaz.ba.gov.b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673280"/>
            <a:ext cx="8447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nutenção da Capacidade de Investimento do Estado em um contexto de concentração de dispêndios com a dívida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ímulo ao Desenvolvimento Social e Econômico do Estado da Ba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rcos Cron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9144000" cy="65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ssão Inicial – 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jan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vio Carta Consulta à SEAIN – fev/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mendação C’’OFIEX - 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mar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ssão de Identificação – abr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egociação BID-STN-PGFN – 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nov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ramitação Gov. Federal – fev a mai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inatura do Contrato – 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22/jun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ª Lib. R$ 391,9 Milhões – 27/jul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ª Lib. R$ 354,8 Milhões – 16/dez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minário de Encerramento – 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22/ju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Situação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9:40:22Z</dcterms:created>
  <dc:creator>SEFAZBA</dc:creator>
  <dc:description/>
  <dc:language>en-US</dc:language>
  <cp:lastModifiedBy>Test</cp:lastModifiedBy>
  <dcterms:modified xsi:type="dcterms:W3CDTF">2014-03-20T14:51:01Z</dcterms:modified>
  <cp:revision>11</cp:revision>
  <dc:subject/>
  <dc:title>Apresentação Consolidada das Etapas PROCONFIS I-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I Disclose Document Workflow v5">
    <vt:lpwstr/>
  </property>
  <property fmtid="{D5CDD505-2E9C-101B-9397-08002B2CF9AE}" pid="3" name="ATI Undisclose Document Workflow">
    <vt:lpwstr/>
  </property>
  <property fmtid="{D5CDD505-2E9C-101B-9397-08002B2CF9AE}" pid="4" name="Abstract">
    <vt:lpwstr/>
  </property>
  <property fmtid="{D5CDD505-2E9C-101B-9397-08002B2CF9AE}" pid="5" name="Access to Information Policy">
    <vt:lpwstr>Confidential</vt:lpwstr>
  </property>
  <property fmtid="{D5CDD505-2E9C-101B-9397-08002B2CF9AE}" pid="6" name="Approval Number">
    <vt:lpwstr/>
  </property>
  <property fmtid="{D5CDD505-2E9C-101B-9397-08002B2CF9AE}" pid="7" name="Business Area">
    <vt:lpwstr/>
  </property>
  <property fmtid="{D5CDD505-2E9C-101B-9397-08002B2CF9AE}" pid="8" name="ContentTypeId">
    <vt:lpwstr>0x0101001A458A224826124E8B45B1D613300CFC000F88B81E3DA7174887E036BBE9375535</vt:lpwstr>
  </property>
  <property fmtid="{D5CDD505-2E9C-101B-9397-08002B2CF9AE}" pid="9" name="Country">
    <vt:lpwstr>27;#Colombia|c7d386d6-75f3-4fc0-bde8-e021ccd68f5c</vt:lpwstr>
  </property>
  <property fmtid="{D5CDD505-2E9C-101B-9397-08002B2CF9AE}" pid="10" name="Disclosed">
    <vt:lpwstr/>
  </property>
  <property fmtid="{D5CDD505-2E9C-101B-9397-08002B2CF9AE}" pid="11" name="Disclosure Activity">
    <vt:lpwstr>Loan Proposal</vt:lpwstr>
  </property>
  <property fmtid="{D5CDD505-2E9C-101B-9397-08002B2CF9AE}" pid="12" name="Division or Unit">
    <vt:lpwstr>IFD/FMM</vt:lpwstr>
  </property>
  <property fmtid="{D5CDD505-2E9C-101B-9397-08002B2CF9AE}" pid="13" name="Document Author">
    <vt:lpwstr>Villela, Luiz A.</vt:lpwstr>
  </property>
  <property fmtid="{D5CDD505-2E9C-101B-9397-08002B2CF9AE}" pid="14" name="Document Language IDB">
    <vt:lpwstr>Portuguese</vt:lpwstr>
  </property>
  <property fmtid="{D5CDD505-2E9C-101B-9397-08002B2CF9AE}" pid="15" name="Editor1">
    <vt:lpwstr/>
  </property>
  <property fmtid="{D5CDD505-2E9C-101B-9397-08002B2CF9AE}" pid="16" name="Fiscal Year IDB">
    <vt:lpwstr>2014</vt:lpwstr>
  </property>
  <property fmtid="{D5CDD505-2E9C-101B-9397-08002B2CF9AE}" pid="17" name="From:">
    <vt:lpwstr/>
  </property>
  <property fmtid="{D5CDD505-2E9C-101B-9397-08002B2CF9AE}" pid="18" name="Function Operations IDB">
    <vt:lpwstr>1;#Project Preparation, Planning and Design|29ca0c72-1fc4-435f-a09c-28585cb5eac9</vt:lpwstr>
  </property>
  <property fmtid="{D5CDD505-2E9C-101B-9397-08002B2CF9AE}" pid="19" name="Fund IDB">
    <vt:lpwstr/>
  </property>
  <property fmtid="{D5CDD505-2E9C-101B-9397-08002B2CF9AE}" pid="20" name="IDBDocs Number">
    <vt:lpwstr>38689966</vt:lpwstr>
  </property>
  <property fmtid="{D5CDD505-2E9C-101B-9397-08002B2CF9AE}" pid="21" name="Identifier">
    <vt:lpwstr> TECFILE</vt:lpwstr>
  </property>
  <property fmtid="{D5CDD505-2E9C-101B-9397-08002B2CF9AE}" pid="22" name="Issue Date">
    <vt:lpwstr/>
  </property>
  <property fmtid="{D5CDD505-2E9C-101B-9397-08002B2CF9AE}" pid="23" name="KP Topics">
    <vt:lpwstr/>
  </property>
  <property fmtid="{D5CDD505-2E9C-101B-9397-08002B2CF9AE}" pid="24" name="Key Document">
    <vt:lpwstr>0</vt:lpwstr>
  </property>
  <property fmtid="{D5CDD505-2E9C-101B-9397-08002B2CF9AE}" pid="25" name="Migration Info">
    <vt:lpwstr>&lt;div class="ExternalClass76D75D6E42F246A282C4405A7EB85F4A"&gt;MS POWERPOINTLPLoan Proposal0N&lt;/div&gt;</vt:lpwstr>
  </property>
  <property fmtid="{D5CDD505-2E9C-101B-9397-08002B2CF9AE}" pid="26" name="Operation Type">
    <vt:lpwstr/>
  </property>
  <property fmtid="{D5CDD505-2E9C-101B-9397-08002B2CF9AE}" pid="27" name="Order">
    <vt:lpwstr>8500.00000000000</vt:lpwstr>
  </property>
  <property fmtid="{D5CDD505-2E9C-101B-9397-08002B2CF9AE}" pid="28" name="Other Author">
    <vt:lpwstr/>
  </property>
  <property fmtid="{D5CDD505-2E9C-101B-9397-08002B2CF9AE}" pid="29" name="Package Code">
    <vt:lpwstr/>
  </property>
  <property fmtid="{D5CDD505-2E9C-101B-9397-08002B2CF9AE}" pid="30" name="Phase">
    <vt:lpwstr/>
  </property>
  <property fmtid="{D5CDD505-2E9C-101B-9397-08002B2CF9AE}" pid="31" name="Project Document Type">
    <vt:lpwstr/>
  </property>
  <property fmtid="{D5CDD505-2E9C-101B-9397-08002B2CF9AE}" pid="32" name="Project Number">
    <vt:lpwstr>CO-L1142</vt:lpwstr>
  </property>
  <property fmtid="{D5CDD505-2E9C-101B-9397-08002B2CF9AE}" pid="33" name="Publication Type">
    <vt:lpwstr/>
  </property>
  <property fmtid="{D5CDD505-2E9C-101B-9397-08002B2CF9AE}" pid="34" name="Publishing House">
    <vt:lpwstr/>
  </property>
  <property fmtid="{D5CDD505-2E9C-101B-9397-08002B2CF9AE}" pid="35" name="Record Number">
    <vt:lpwstr/>
  </property>
  <property fmtid="{D5CDD505-2E9C-101B-9397-08002B2CF9AE}" pid="36" name="Region">
    <vt:lpwstr/>
  </property>
  <property fmtid="{D5CDD505-2E9C-101B-9397-08002B2CF9AE}" pid="37" name="SISCOR Number">
    <vt:lpwstr/>
  </property>
  <property fmtid="{D5CDD505-2E9C-101B-9397-08002B2CF9AE}" pid="38" name="Sector IDB">
    <vt:lpwstr/>
  </property>
  <property fmtid="{D5CDD505-2E9C-101B-9397-08002B2CF9AE}" pid="39" name="Series Operations IDB">
    <vt:lpwstr>11;#Loan Proposal|6ee86b6f-6e46-485b-8bfb-87a1f44622ac</vt:lpwstr>
  </property>
  <property fmtid="{D5CDD505-2E9C-101B-9397-08002B2CF9AE}" pid="40" name="Series_x0020_Operations_x0020_IDB">
    <vt:lpwstr>9;#Loan Proposal|6ee86b6f-6e46-485b-8bfb-87a1f44622ac</vt:lpwstr>
  </property>
  <property fmtid="{D5CDD505-2E9C-101B-9397-08002B2CF9AE}" pid="41" name="Sub-Sector">
    <vt:lpwstr/>
  </property>
  <property fmtid="{D5CDD505-2E9C-101B-9397-08002B2CF9AE}" pid="42" name="Sub_x005F_x002d_Sector">
    <vt:lpwstr/>
  </property>
  <property fmtid="{D5CDD505-2E9C-101B-9397-08002B2CF9AE}" pid="43" name="TaxCatchAll">
    <vt:lpwstr>27;#Colombia|c7d386d6-75f3-4fc0-bde8-e021ccd68f5c;#11;#Loan Proposal|6ee86b6f-6e46-485b-8bfb-87a1f44622ac;#1;#Project Preparation, Planning and Design|29ca0c72-1fc4-435f-a09c-28585cb5eac9</vt:lpwstr>
  </property>
  <property fmtid="{D5CDD505-2E9C-101B-9397-08002B2CF9AE}" pid="44" name="TaxKeyword">
    <vt:lpwstr/>
  </property>
  <property fmtid="{D5CDD505-2E9C-101B-9397-08002B2CF9AE}" pid="45" name="TaxKeywordTaxHTField">
    <vt:lpwstr/>
  </property>
  <property fmtid="{D5CDD505-2E9C-101B-9397-08002B2CF9AE}" pid="46" name="To:">
    <vt:lpwstr/>
  </property>
  <property fmtid="{D5CDD505-2E9C-101B-9397-08002B2CF9AE}" pid="47" name="Webtopic">
    <vt:lpwstr>Fiscal Issues and Public Finance</vt:lpwstr>
  </property>
  <property fmtid="{D5CDD505-2E9C-101B-9397-08002B2CF9AE}" pid="48" name="_dlc_DocId">
    <vt:lpwstr>EZSHARE-1678957924-85</vt:lpwstr>
  </property>
  <property fmtid="{D5CDD505-2E9C-101B-9397-08002B2CF9AE}" pid="49" name="_dlc_DocIdItemGuid">
    <vt:lpwstr>eeb8cef4-138d-4ff8-b00e-d3470b41573c</vt:lpwstr>
  </property>
  <property fmtid="{D5CDD505-2E9C-101B-9397-08002B2CF9AE}" pid="50" name="_dlc_DocIdUrl">
    <vt:lpwstr>https://idbg.sharepoint.com/teams/EZ-CO-LON/CO-L1142/_layouts/15/DocIdRedir.aspx?ID=EZSHARE-1678957924-85, EZSHARE-1678957924-85</vt:lpwstr>
  </property>
  <property fmtid="{D5CDD505-2E9C-101B-9397-08002B2CF9AE}" pid="51" name="b26cdb1da78c4bb4b1c1bac2f6ac5911">
    <vt:lpwstr>Loan Proposal|6ee86b6f-6e46-485b-8bfb-87a1f44622ac</vt:lpwstr>
  </property>
  <property fmtid="{D5CDD505-2E9C-101B-9397-08002B2CF9AE}" pid="52" name="b2ec7cfb18674cb8803df6b262e8b107">
    <vt:lpwstr/>
  </property>
  <property fmtid="{D5CDD505-2E9C-101B-9397-08002B2CF9AE}" pid="53" name="c456731dbc904a5fb605ec556c33e883">
    <vt:lpwstr/>
  </property>
  <property fmtid="{D5CDD505-2E9C-101B-9397-08002B2CF9AE}" pid="54" name="display_urn:schemas-microsoft-com:office:office#Author">
    <vt:lpwstr>Kevish, Maria Lorena</vt:lpwstr>
  </property>
  <property fmtid="{D5CDD505-2E9C-101B-9397-08002B2CF9AE}" pid="55" name="display_urn:schemas-microsoft-com:office:office#Editor">
    <vt:lpwstr>Kevish, Maria Lorena</vt:lpwstr>
  </property>
  <property fmtid="{D5CDD505-2E9C-101B-9397-08002B2CF9AE}" pid="56" name="e46fe2894295491da65140ffd2369f49">
    <vt:lpwstr>Project Preparation, Planning and Design|29ca0c72-1fc4-435f-a09c-28585cb5eac9</vt:lpwstr>
  </property>
  <property fmtid="{D5CDD505-2E9C-101B-9397-08002B2CF9AE}" pid="57" name="e559ffcc31d34167856647188be35015">
    <vt:lpwstr/>
  </property>
  <property fmtid="{D5CDD505-2E9C-101B-9397-08002B2CF9AE}" pid="58" name="fd0e48b6a66848a9885f717e5bbf40c4">
    <vt:lpwstr>Project Preparation, Planning and Design|29ca0c72-1fc4-435f-a09c-28585cb5eac9</vt:lpwstr>
  </property>
  <property fmtid="{D5CDD505-2E9C-101B-9397-08002B2CF9AE}" pid="59" name="g511464f9e53401d84b16fa9b379a574">
    <vt:lpwstr/>
  </property>
  <property fmtid="{D5CDD505-2E9C-101B-9397-08002B2CF9AE}" pid="60" name="ic46d7e087fd4a108fb86518ca413cc6">
    <vt:lpwstr>Colombia|c7d386d6-75f3-4fc0-bde8-e021ccd68f5c</vt:lpwstr>
  </property>
  <property fmtid="{D5CDD505-2E9C-101B-9397-08002B2CF9AE}" pid="61" name="j8b96605ee2f4c4e988849e658583fee">
    <vt:lpwstr>Colombia|c7d386d6-75f3-4fc0-bde8-e021ccd68f5c</vt:lpwstr>
  </property>
  <property fmtid="{D5CDD505-2E9C-101B-9397-08002B2CF9AE}" pid="62" name="m555d3814edf4817b4410a4e57f94ce9">
    <vt:lpwstr/>
  </property>
  <property fmtid="{D5CDD505-2E9C-101B-9397-08002B2CF9AE}" pid="63" name="nddeef1749674d76abdbe4b239a70bc6">
    <vt:lpwstr/>
  </property>
  <property fmtid="{D5CDD505-2E9C-101B-9397-08002B2CF9AE}" pid="64" name="o5138a91267540169645e33d09c9ddc6">
    <vt:lpwstr>Loan Proposal|6ee86b6f-6e46-485b-8bfb-87a1f44622ac</vt:lpwstr>
  </property>
</Properties>
</file>