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7D3-39DD-4A9D-A8BE-7A24AF4E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2819-0692-4727-A8E7-990DB038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37E8-3CDF-4298-AB6C-B07B2B45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B79-C3B8-4063-87AF-F35833DB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CF78-BE24-4633-91BC-3E0571E3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7E7-C897-4849-ACBA-66CC97C4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CDD-5A43-4FCA-A75B-D5985EFE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CAE-601E-4463-A04B-FD982303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4179-927C-491C-96AA-A74E613C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69FF-6DC9-49AA-A8B3-A5083F58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4862-1739-4885-9428-304EACA7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138-D71B-4146-B2F2-DC1C57BD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7A5B5-DA60-4359-BC27-955861CED5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14"/>
          <p:cNvSpPr/>
          <p:nvPr/>
        </p:nvSpPr>
        <p:spPr>
          <a:xfrm>
            <a:off x="1322280" y="2795760"/>
            <a:ext cx="901800" cy="901440"/>
          </a:xfrm>
          <a:prstGeom prst="ellipse">
            <a:avLst/>
          </a:prstGeom>
          <a:solidFill>
            <a:srgbClr val="99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Bogen 82"/>
          <p:cNvSpPr/>
          <p:nvPr/>
        </p:nvSpPr>
        <p:spPr>
          <a:xfrm rot="19491600">
            <a:off x="1055160" y="3347640"/>
            <a:ext cx="1204920" cy="1273320"/>
          </a:xfrm>
          <a:custGeom>
            <a:avLst/>
            <a:gdLst/>
            <a:ahLst/>
            <a:rect l="l" t="t" r="r" b="b"/>
            <a:pathLst>
              <a:path stroke="0" w="1204912" h="1273175">
                <a:moveTo>
                  <a:pt x="130532" y="240884"/>
                </a:moveTo>
                <a:cubicBezTo>
                  <a:pt x="208310" y="137316"/>
                  <a:pt x="314677" y="61907"/>
                  <a:pt x="434863" y="25127"/>
                </a:cubicBezTo>
                <a:lnTo>
                  <a:pt x="602456" y="636588"/>
                </a:lnTo>
                <a:lnTo>
                  <a:pt x="130532" y="240884"/>
                </a:lnTo>
                <a:close/>
              </a:path>
              <a:path fill="none" w="1204912" h="1273175">
                <a:moveTo>
                  <a:pt x="130532" y="240884"/>
                </a:moveTo>
                <a:cubicBezTo>
                  <a:pt x="208310" y="137316"/>
                  <a:pt x="314677" y="61907"/>
                  <a:pt x="434863" y="25127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Oval 3"/>
          <p:cNvSpPr/>
          <p:nvPr/>
        </p:nvSpPr>
        <p:spPr>
          <a:xfrm>
            <a:off x="2590920" y="2795760"/>
            <a:ext cx="901440" cy="901440"/>
          </a:xfrm>
          <a:prstGeom prst="ellipse">
            <a:avLst/>
          </a:prstGeom>
          <a:solidFill>
            <a:srgbClr val="99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feld 6"/>
          <p:cNvSpPr/>
          <p:nvPr/>
        </p:nvSpPr>
        <p:spPr>
          <a:xfrm>
            <a:off x="1444680" y="3035160"/>
            <a:ext cx="6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S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7"/>
          <p:cNvSpPr/>
          <p:nvPr/>
        </p:nvSpPr>
        <p:spPr>
          <a:xfrm>
            <a:off x="2662200" y="2927520"/>
            <a:ext cx="7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lient/S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uppierung 36"/>
          <p:cNvGrpSpPr/>
          <p:nvPr/>
        </p:nvGrpSpPr>
        <p:grpSpPr>
          <a:xfrm>
            <a:off x="1643040" y="1974960"/>
            <a:ext cx="1486440" cy="1288800"/>
            <a:chOff x="1643040" y="1974960"/>
            <a:chExt cx="1486440" cy="1288800"/>
          </a:xfrm>
        </p:grpSpPr>
        <p:sp>
          <p:nvSpPr>
            <p:cNvPr id="47" name="Bogen 8"/>
            <p:cNvSpPr/>
            <p:nvPr/>
          </p:nvSpPr>
          <p:spPr>
            <a:xfrm>
              <a:off x="1717920" y="2365200"/>
              <a:ext cx="1207440" cy="898560"/>
            </a:xfrm>
            <a:custGeom>
              <a:avLst/>
              <a:gdLst/>
              <a:ahLst/>
              <a:rect l="l" t="t" r="r" b="b"/>
              <a:pathLst>
                <a:path stroke="0" w="1204783" h="1069270">
                  <a:moveTo>
                    <a:pt x="49256" y="322898"/>
                  </a:moveTo>
                  <a:cubicBezTo>
                    <a:pt x="147145" y="121467"/>
                    <a:pt x="373742" y="-6453"/>
                    <a:pt x="620797" y="250"/>
                  </a:cubicBezTo>
                  <a:cubicBezTo>
                    <a:pt x="870999" y="7038"/>
                    <a:pt x="1090399" y="150445"/>
                    <a:pt x="1171933" y="360493"/>
                  </a:cubicBezTo>
                  <a:lnTo>
                    <a:pt x="602392" y="534635"/>
                  </a:lnTo>
                  <a:lnTo>
                    <a:pt x="49256" y="322898"/>
                  </a:lnTo>
                  <a:close/>
                </a:path>
                <a:path fill="none" w="1204783" h="1069270">
                  <a:moveTo>
                    <a:pt x="49256" y="322898"/>
                  </a:moveTo>
                  <a:cubicBezTo>
                    <a:pt x="147145" y="121467"/>
                    <a:pt x="373742" y="-6453"/>
                    <a:pt x="620797" y="250"/>
                  </a:cubicBezTo>
                  <a:cubicBezTo>
                    <a:pt x="870999" y="7038"/>
                    <a:pt x="1090399" y="150445"/>
                    <a:pt x="1171933" y="360493"/>
                  </a:cubicBezTo>
                </a:path>
              </a:pathLst>
            </a:custGeom>
            <a:noFill/>
            <a:ln cap="rnd" w="19044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Gleichschenkliges Dreieck 9"/>
            <p:cNvSpPr/>
            <p:nvPr/>
          </p:nvSpPr>
          <p:spPr>
            <a:xfrm rot="9333000">
              <a:off x="2710440" y="2557080"/>
              <a:ext cx="380160" cy="269640"/>
            </a:xfrm>
            <a:prstGeom prst="triangle">
              <a:avLst>
                <a:gd name="adj" fmla="val 50000"/>
              </a:avLst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" name="Rechteck 18" descr=""/>
            <p:cNvPicPr/>
            <p:nvPr/>
          </p:nvPicPr>
          <p:blipFill>
            <a:blip r:embed="rId1"/>
            <a:stretch/>
          </p:blipFill>
          <p:spPr>
            <a:xfrm>
              <a:off x="1643040" y="1974960"/>
              <a:ext cx="1350000" cy="105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Rechteck 20" descr=""/>
          <p:cNvPicPr/>
          <p:nvPr/>
        </p:nvPicPr>
        <p:blipFill>
          <a:blip r:embed="rId2"/>
          <a:stretch/>
        </p:blipFill>
        <p:spPr>
          <a:xfrm>
            <a:off x="1663560" y="3255840"/>
            <a:ext cx="1328760" cy="1505160"/>
          </a:xfrm>
          <a:prstGeom prst="rect">
            <a:avLst/>
          </a:prstGeom>
          <a:ln w="0">
            <a:noFill/>
          </a:ln>
        </p:spPr>
      </p:pic>
      <p:grpSp>
        <p:nvGrpSpPr>
          <p:cNvPr id="51" name="Gruppierung 24"/>
          <p:cNvGrpSpPr/>
          <p:nvPr/>
        </p:nvGrpSpPr>
        <p:grpSpPr>
          <a:xfrm>
            <a:off x="2206800" y="1517760"/>
            <a:ext cx="195120" cy="215640"/>
            <a:chOff x="2206800" y="1517760"/>
            <a:chExt cx="195120" cy="215640"/>
          </a:xfrm>
        </p:grpSpPr>
        <p:sp>
          <p:nvSpPr>
            <p:cNvPr id="52" name="Textfeld 21"/>
            <p:cNvSpPr/>
            <p:nvPr/>
          </p:nvSpPr>
          <p:spPr>
            <a:xfrm>
              <a:off x="2206800" y="151776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Oval 22"/>
            <p:cNvSpPr/>
            <p:nvPr/>
          </p:nvSpPr>
          <p:spPr>
            <a:xfrm>
              <a:off x="2232000" y="1549440"/>
              <a:ext cx="16992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uppierung 25"/>
          <p:cNvGrpSpPr/>
          <p:nvPr/>
        </p:nvGrpSpPr>
        <p:grpSpPr>
          <a:xfrm>
            <a:off x="2263680" y="4765680"/>
            <a:ext cx="195480" cy="215640"/>
            <a:chOff x="2263680" y="4765680"/>
            <a:chExt cx="195480" cy="215640"/>
          </a:xfrm>
        </p:grpSpPr>
        <p:sp>
          <p:nvSpPr>
            <p:cNvPr id="55" name="Textfeld 26"/>
            <p:cNvSpPr/>
            <p:nvPr/>
          </p:nvSpPr>
          <p:spPr>
            <a:xfrm>
              <a:off x="2263680" y="476568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Oval 27"/>
            <p:cNvSpPr/>
            <p:nvPr/>
          </p:nvSpPr>
          <p:spPr>
            <a:xfrm>
              <a:off x="2288880" y="4797360"/>
              <a:ext cx="17028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Oval 28"/>
          <p:cNvSpPr/>
          <p:nvPr/>
        </p:nvSpPr>
        <p:spPr>
          <a:xfrm>
            <a:off x="3859200" y="2790720"/>
            <a:ext cx="901800" cy="900360"/>
          </a:xfrm>
          <a:prstGeom prst="ellipse">
            <a:avLst/>
          </a:prstGeom>
          <a:solidFill>
            <a:srgbClr val="99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feld 29"/>
          <p:cNvSpPr/>
          <p:nvPr/>
        </p:nvSpPr>
        <p:spPr>
          <a:xfrm>
            <a:off x="3989520" y="302724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F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Gleichschenkliges Dreieck 33"/>
          <p:cNvSpPr/>
          <p:nvPr/>
        </p:nvSpPr>
        <p:spPr>
          <a:xfrm rot="20160600">
            <a:off x="1571400" y="3765240"/>
            <a:ext cx="3776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Bogen 38"/>
          <p:cNvSpPr/>
          <p:nvPr/>
        </p:nvSpPr>
        <p:spPr>
          <a:xfrm>
            <a:off x="3301920" y="2189160"/>
            <a:ext cx="1204920" cy="1068480"/>
          </a:xfrm>
          <a:custGeom>
            <a:avLst/>
            <a:gdLst/>
            <a:ahLst/>
            <a:rect l="l" t="t" r="r" b="b"/>
            <a:pathLst>
              <a:path stroke="0" w="1204913" h="1068387">
                <a:moveTo>
                  <a:pt x="49342" y="322465"/>
                </a:moveTo>
                <a:cubicBezTo>
                  <a:pt x="147287" y="121295"/>
                  <a:pt x="373846" y="-6440"/>
                  <a:pt x="620846" y="249"/>
                </a:cubicBezTo>
                <a:cubicBezTo>
                  <a:pt x="871018" y="7023"/>
                  <a:pt x="1090410" y="150244"/>
                  <a:pt x="1172003" y="360050"/>
                </a:cubicBezTo>
                <a:lnTo>
                  <a:pt x="602457" y="534194"/>
                </a:lnTo>
                <a:lnTo>
                  <a:pt x="49342" y="322465"/>
                </a:lnTo>
                <a:close/>
              </a:path>
              <a:path fill="none" w="1204913" h="1068387">
                <a:moveTo>
                  <a:pt x="49342" y="322465"/>
                </a:moveTo>
                <a:cubicBezTo>
                  <a:pt x="147287" y="121295"/>
                  <a:pt x="373846" y="-6440"/>
                  <a:pt x="620846" y="249"/>
                </a:cubicBezTo>
                <a:cubicBezTo>
                  <a:pt x="871018" y="7023"/>
                  <a:pt x="1090410" y="150244"/>
                  <a:pt x="1172003" y="360050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Gleichschenkliges Dreieck 39"/>
          <p:cNvSpPr/>
          <p:nvPr/>
        </p:nvSpPr>
        <p:spPr>
          <a:xfrm rot="12748800">
            <a:off x="3098520" y="2436480"/>
            <a:ext cx="3776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Rechteck 40" descr=""/>
          <p:cNvPicPr/>
          <p:nvPr/>
        </p:nvPicPr>
        <p:blipFill>
          <a:blip r:embed="rId3"/>
          <a:stretch/>
        </p:blipFill>
        <p:spPr>
          <a:xfrm>
            <a:off x="3170160" y="1865160"/>
            <a:ext cx="1444680" cy="1086120"/>
          </a:xfrm>
          <a:prstGeom prst="rect">
            <a:avLst/>
          </a:prstGeom>
          <a:ln w="0">
            <a:noFill/>
          </a:ln>
        </p:spPr>
      </p:pic>
      <p:grpSp>
        <p:nvGrpSpPr>
          <p:cNvPr id="63" name="Gruppierung 43"/>
          <p:cNvGrpSpPr/>
          <p:nvPr/>
        </p:nvGrpSpPr>
        <p:grpSpPr>
          <a:xfrm>
            <a:off x="3835440" y="1549440"/>
            <a:ext cx="195120" cy="215640"/>
            <a:chOff x="3835440" y="1549440"/>
            <a:chExt cx="195120" cy="215640"/>
          </a:xfrm>
        </p:grpSpPr>
        <p:sp>
          <p:nvSpPr>
            <p:cNvPr id="64" name="Textfeld 44"/>
            <p:cNvSpPr/>
            <p:nvPr/>
          </p:nvSpPr>
          <p:spPr>
            <a:xfrm>
              <a:off x="3835440" y="154944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Oval 45"/>
            <p:cNvSpPr/>
            <p:nvPr/>
          </p:nvSpPr>
          <p:spPr>
            <a:xfrm>
              <a:off x="3860640" y="1581120"/>
              <a:ext cx="16992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Gleichschenkliges Dreieck 46"/>
          <p:cNvSpPr/>
          <p:nvPr/>
        </p:nvSpPr>
        <p:spPr>
          <a:xfrm rot="1704000">
            <a:off x="2766600" y="3765600"/>
            <a:ext cx="37800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Bogen 49"/>
          <p:cNvSpPr/>
          <p:nvPr/>
        </p:nvSpPr>
        <p:spPr>
          <a:xfrm rot="10800000">
            <a:off x="3244320" y="3257640"/>
            <a:ext cx="1204920" cy="1069920"/>
          </a:xfrm>
          <a:custGeom>
            <a:avLst/>
            <a:gdLst/>
            <a:ahLst/>
            <a:rect l="l" t="t" r="r" b="b"/>
            <a:pathLst>
              <a:path stroke="0" w="1204913" h="1069975">
                <a:moveTo>
                  <a:pt x="49213" y="323210"/>
                </a:moveTo>
                <a:cubicBezTo>
                  <a:pt x="147086" y="121589"/>
                  <a:pt x="373745" y="-6461"/>
                  <a:pt x="620873" y="250"/>
                </a:cubicBezTo>
                <a:cubicBezTo>
                  <a:pt x="871136" y="7047"/>
                  <a:pt x="1090578" y="150590"/>
                  <a:pt x="1172092" y="360816"/>
                </a:cubicBezTo>
                <a:lnTo>
                  <a:pt x="602457" y="534988"/>
                </a:lnTo>
                <a:lnTo>
                  <a:pt x="49213" y="323210"/>
                </a:lnTo>
                <a:close/>
              </a:path>
              <a:path fill="none" w="1204913" h="1069975">
                <a:moveTo>
                  <a:pt x="49213" y="323210"/>
                </a:moveTo>
                <a:cubicBezTo>
                  <a:pt x="147086" y="121589"/>
                  <a:pt x="373745" y="-6461"/>
                  <a:pt x="620873" y="250"/>
                </a:cubicBezTo>
                <a:cubicBezTo>
                  <a:pt x="871136" y="7047"/>
                  <a:pt x="1090578" y="150590"/>
                  <a:pt x="1172092" y="360816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Rechteck 50" descr=""/>
          <p:cNvPicPr/>
          <p:nvPr/>
        </p:nvPicPr>
        <p:blipFill>
          <a:blip r:embed="rId4"/>
          <a:stretch/>
        </p:blipFill>
        <p:spPr>
          <a:xfrm>
            <a:off x="3090960" y="3297240"/>
            <a:ext cx="1541520" cy="1457280"/>
          </a:xfrm>
          <a:prstGeom prst="rect">
            <a:avLst/>
          </a:prstGeom>
          <a:ln w="0">
            <a:noFill/>
          </a:ln>
        </p:spPr>
      </p:pic>
      <p:sp>
        <p:nvSpPr>
          <p:cNvPr id="69" name="Gleichschenkliges Dreieck 54"/>
          <p:cNvSpPr/>
          <p:nvPr/>
        </p:nvSpPr>
        <p:spPr>
          <a:xfrm rot="2029800">
            <a:off x="4258800" y="3777840"/>
            <a:ext cx="3794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59"/>
          <p:cNvSpPr/>
          <p:nvPr/>
        </p:nvSpPr>
        <p:spPr>
          <a:xfrm>
            <a:off x="2600280" y="5164200"/>
            <a:ext cx="901800" cy="90180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Bogen 76"/>
          <p:cNvSpPr/>
          <p:nvPr/>
        </p:nvSpPr>
        <p:spPr>
          <a:xfrm rot="10800000">
            <a:off x="1740960" y="3276720"/>
            <a:ext cx="1204920" cy="1069920"/>
          </a:xfrm>
          <a:custGeom>
            <a:avLst/>
            <a:gdLst/>
            <a:ahLst/>
            <a:rect l="l" t="t" r="r" b="b"/>
            <a:pathLst>
              <a:path stroke="0" w="1204912" h="1069975">
                <a:moveTo>
                  <a:pt x="49213" y="323210"/>
                </a:moveTo>
                <a:cubicBezTo>
                  <a:pt x="147086" y="121589"/>
                  <a:pt x="373744" y="-6462"/>
                  <a:pt x="620873" y="250"/>
                </a:cubicBezTo>
                <a:cubicBezTo>
                  <a:pt x="871135" y="7047"/>
                  <a:pt x="1090577" y="150590"/>
                  <a:pt x="1172091" y="360817"/>
                </a:cubicBezTo>
                <a:lnTo>
                  <a:pt x="602456" y="534988"/>
                </a:lnTo>
                <a:lnTo>
                  <a:pt x="49213" y="323210"/>
                </a:lnTo>
                <a:close/>
              </a:path>
              <a:path fill="none" w="1204912" h="1069975">
                <a:moveTo>
                  <a:pt x="49213" y="323210"/>
                </a:moveTo>
                <a:cubicBezTo>
                  <a:pt x="147086" y="121589"/>
                  <a:pt x="373744" y="-6462"/>
                  <a:pt x="620873" y="250"/>
                </a:cubicBezTo>
                <a:cubicBezTo>
                  <a:pt x="871135" y="7047"/>
                  <a:pt x="1090577" y="150590"/>
                  <a:pt x="1172091" y="360817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Gruppierung 97"/>
          <p:cNvGrpSpPr/>
          <p:nvPr/>
        </p:nvGrpSpPr>
        <p:grpSpPr>
          <a:xfrm>
            <a:off x="3816360" y="4754520"/>
            <a:ext cx="195120" cy="215640"/>
            <a:chOff x="3816360" y="4754520"/>
            <a:chExt cx="195120" cy="215640"/>
          </a:xfrm>
        </p:grpSpPr>
        <p:sp>
          <p:nvSpPr>
            <p:cNvPr id="73" name="Textfeld 98"/>
            <p:cNvSpPr/>
            <p:nvPr/>
          </p:nvSpPr>
          <p:spPr>
            <a:xfrm>
              <a:off x="3816360" y="475452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Oval 99"/>
            <p:cNvSpPr/>
            <p:nvPr/>
          </p:nvSpPr>
          <p:spPr>
            <a:xfrm>
              <a:off x="3841560" y="4786200"/>
              <a:ext cx="16992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uppierung 102"/>
          <p:cNvGrpSpPr/>
          <p:nvPr/>
        </p:nvGrpSpPr>
        <p:grpSpPr>
          <a:xfrm>
            <a:off x="5057640" y="3379680"/>
            <a:ext cx="195480" cy="215640"/>
            <a:chOff x="5057640" y="3379680"/>
            <a:chExt cx="195480" cy="215640"/>
          </a:xfrm>
        </p:grpSpPr>
        <p:sp>
          <p:nvSpPr>
            <p:cNvPr id="76" name="Textfeld 103"/>
            <p:cNvSpPr/>
            <p:nvPr/>
          </p:nvSpPr>
          <p:spPr>
            <a:xfrm>
              <a:off x="5057640" y="337968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Oval 104"/>
            <p:cNvSpPr/>
            <p:nvPr/>
          </p:nvSpPr>
          <p:spPr>
            <a:xfrm>
              <a:off x="5082840" y="3411360"/>
              <a:ext cx="17028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Rechteck 106"/>
          <p:cNvSpPr/>
          <p:nvPr/>
        </p:nvSpPr>
        <p:spPr>
          <a:xfrm rot="5400000">
            <a:off x="4217400" y="4265280"/>
            <a:ext cx="191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Calibri"/>
              </a:rPr>
              <a:t>If credit approved by LFI, request financing under progr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107"/>
          <p:cNvSpPr/>
          <p:nvPr/>
        </p:nvSpPr>
        <p:spPr>
          <a:xfrm>
            <a:off x="3794040" y="6746760"/>
            <a:ext cx="901800" cy="901800"/>
          </a:xfrm>
          <a:prstGeom prst="ellipse">
            <a:avLst/>
          </a:prstGeom>
          <a:solidFill>
            <a:srgbClr val="66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108"/>
          <p:cNvSpPr/>
          <p:nvPr/>
        </p:nvSpPr>
        <p:spPr>
          <a:xfrm>
            <a:off x="1322280" y="6746760"/>
            <a:ext cx="901800" cy="901800"/>
          </a:xfrm>
          <a:prstGeom prst="ellipse">
            <a:avLst/>
          </a:prstGeom>
          <a:solidFill>
            <a:srgbClr val="66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feld 110"/>
          <p:cNvSpPr/>
          <p:nvPr/>
        </p:nvSpPr>
        <p:spPr>
          <a:xfrm>
            <a:off x="1292400" y="698976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Insur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Bogen 112"/>
          <p:cNvSpPr/>
          <p:nvPr/>
        </p:nvSpPr>
        <p:spPr>
          <a:xfrm rot="8731800">
            <a:off x="4455720" y="4540320"/>
            <a:ext cx="1204920" cy="1272960"/>
          </a:xfrm>
          <a:custGeom>
            <a:avLst/>
            <a:gdLst/>
            <a:ahLst/>
            <a:rect l="l" t="t" r="r" b="b"/>
            <a:pathLst>
              <a:path stroke="0" w="1204912" h="1273175">
                <a:moveTo>
                  <a:pt x="138537" y="230453"/>
                </a:moveTo>
                <a:cubicBezTo>
                  <a:pt x="324713" y="-6991"/>
                  <a:pt x="645171" y="-69306"/>
                  <a:pt x="899148" y="82547"/>
                </a:cubicBezTo>
                <a:lnTo>
                  <a:pt x="602456" y="636588"/>
                </a:lnTo>
                <a:lnTo>
                  <a:pt x="138537" y="230453"/>
                </a:lnTo>
                <a:close/>
              </a:path>
              <a:path fill="none" w="1204912" h="1273175">
                <a:moveTo>
                  <a:pt x="138537" y="230453"/>
                </a:moveTo>
                <a:cubicBezTo>
                  <a:pt x="324713" y="-6991"/>
                  <a:pt x="645171" y="-69306"/>
                  <a:pt x="899148" y="82547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Gerade Verbindung 113"/>
          <p:cNvSpPr/>
          <p:nvPr/>
        </p:nvSpPr>
        <p:spPr>
          <a:xfrm flipH="1">
            <a:off x="5672160" y="3603600"/>
            <a:ext cx="1440" cy="161136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Gerade Verbindung 114"/>
          <p:cNvSpPr/>
          <p:nvPr/>
        </p:nvSpPr>
        <p:spPr>
          <a:xfrm>
            <a:off x="3668760" y="5810400"/>
            <a:ext cx="1406520" cy="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Gleichschenkliges Dreieck 115"/>
          <p:cNvSpPr/>
          <p:nvPr/>
        </p:nvSpPr>
        <p:spPr>
          <a:xfrm rot="16200000">
            <a:off x="4793400" y="2943720"/>
            <a:ext cx="3794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Bogen 125"/>
          <p:cNvSpPr/>
          <p:nvPr/>
        </p:nvSpPr>
        <p:spPr>
          <a:xfrm rot="8731800">
            <a:off x="3674880" y="4212360"/>
            <a:ext cx="1204560" cy="1274760"/>
          </a:xfrm>
          <a:custGeom>
            <a:avLst/>
            <a:gdLst/>
            <a:ahLst/>
            <a:rect l="l" t="t" r="r" b="b"/>
            <a:pathLst>
              <a:path stroke="0" w="1204912" h="1274763">
                <a:moveTo>
                  <a:pt x="138301" y="231041"/>
                </a:moveTo>
                <a:cubicBezTo>
                  <a:pt x="324505" y="-7032"/>
                  <a:pt x="645300" y="-69505"/>
                  <a:pt x="899427" y="82817"/>
                </a:cubicBezTo>
                <a:lnTo>
                  <a:pt x="602456" y="637382"/>
                </a:lnTo>
                <a:lnTo>
                  <a:pt x="138301" y="231041"/>
                </a:lnTo>
                <a:close/>
              </a:path>
              <a:path fill="none" w="1204912" h="1274763">
                <a:moveTo>
                  <a:pt x="138301" y="231041"/>
                </a:moveTo>
                <a:cubicBezTo>
                  <a:pt x="324505" y="-7032"/>
                  <a:pt x="645300" y="-69505"/>
                  <a:pt x="899427" y="82817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Gerade Verbindung 126"/>
          <p:cNvSpPr/>
          <p:nvPr/>
        </p:nvSpPr>
        <p:spPr>
          <a:xfrm flipH="1">
            <a:off x="4889520" y="3603600"/>
            <a:ext cx="1440" cy="131940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Gerade Verbindung 127"/>
          <p:cNvSpPr/>
          <p:nvPr/>
        </p:nvSpPr>
        <p:spPr>
          <a:xfrm>
            <a:off x="3906720" y="5478480"/>
            <a:ext cx="408240" cy="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Gleichschenkliges Dreieck 128"/>
          <p:cNvSpPr/>
          <p:nvPr/>
        </p:nvSpPr>
        <p:spPr>
          <a:xfrm rot="16200000">
            <a:off x="3574800" y="5308560"/>
            <a:ext cx="379440" cy="32220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Gleichschenkliges Dreieck 130"/>
          <p:cNvSpPr/>
          <p:nvPr/>
        </p:nvSpPr>
        <p:spPr>
          <a:xfrm rot="7096200">
            <a:off x="3432960" y="6776280"/>
            <a:ext cx="379440" cy="32040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Bogen 136"/>
          <p:cNvSpPr/>
          <p:nvPr/>
        </p:nvSpPr>
        <p:spPr>
          <a:xfrm rot="2984400">
            <a:off x="4455000" y="3093120"/>
            <a:ext cx="1204920" cy="1273320"/>
          </a:xfrm>
          <a:custGeom>
            <a:avLst/>
            <a:gdLst/>
            <a:ahLst/>
            <a:rect l="l" t="t" r="r" b="b"/>
            <a:pathLst>
              <a:path stroke="0" w="1204913" h="1273175">
                <a:moveTo>
                  <a:pt x="138537" y="230452"/>
                </a:moveTo>
                <a:cubicBezTo>
                  <a:pt x="324713" y="-6991"/>
                  <a:pt x="645171" y="-69307"/>
                  <a:pt x="899148" y="82546"/>
                </a:cubicBezTo>
                <a:lnTo>
                  <a:pt x="602457" y="636588"/>
                </a:lnTo>
                <a:lnTo>
                  <a:pt x="138537" y="230452"/>
                </a:lnTo>
                <a:close/>
              </a:path>
              <a:path fill="none" w="1204913" h="1273175">
                <a:moveTo>
                  <a:pt x="138537" y="230452"/>
                </a:moveTo>
                <a:cubicBezTo>
                  <a:pt x="324713" y="-6991"/>
                  <a:pt x="645171" y="-69307"/>
                  <a:pt x="899148" y="82546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uppierung 137"/>
          <p:cNvGrpSpPr/>
          <p:nvPr/>
        </p:nvGrpSpPr>
        <p:grpSpPr>
          <a:xfrm>
            <a:off x="5894280" y="3405240"/>
            <a:ext cx="195480" cy="215640"/>
            <a:chOff x="5894280" y="3405240"/>
            <a:chExt cx="195480" cy="215640"/>
          </a:xfrm>
        </p:grpSpPr>
        <p:sp>
          <p:nvSpPr>
            <p:cNvPr id="93" name="Textfeld 138"/>
            <p:cNvSpPr/>
            <p:nvPr/>
          </p:nvSpPr>
          <p:spPr>
            <a:xfrm>
              <a:off x="5894280" y="340524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139"/>
            <p:cNvSpPr/>
            <p:nvPr/>
          </p:nvSpPr>
          <p:spPr>
            <a:xfrm>
              <a:off x="5919480" y="3436920"/>
              <a:ext cx="170280" cy="1681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Rechteck 143"/>
          <p:cNvSpPr/>
          <p:nvPr/>
        </p:nvSpPr>
        <p:spPr>
          <a:xfrm rot="5400000">
            <a:off x="5045400" y="4068000"/>
            <a:ext cx="179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Calibri"/>
              </a:rPr>
              <a:t>Notify project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Calibri"/>
              </a:rPr>
              <a:t>Inclusion in progr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Bogen 146"/>
          <p:cNvSpPr/>
          <p:nvPr/>
        </p:nvSpPr>
        <p:spPr>
          <a:xfrm rot="14217600">
            <a:off x="3275640" y="5731200"/>
            <a:ext cx="1204920" cy="1272960"/>
          </a:xfrm>
          <a:custGeom>
            <a:avLst/>
            <a:gdLst/>
            <a:ahLst/>
            <a:rect l="l" t="t" r="r" b="b"/>
            <a:pathLst>
              <a:path stroke="0" w="1204913" h="1273175">
                <a:moveTo>
                  <a:pt x="320912" y="73790"/>
                </a:moveTo>
                <a:cubicBezTo>
                  <a:pt x="502472" y="-27620"/>
                  <a:pt x="720413" y="-24319"/>
                  <a:pt x="899148" y="82546"/>
                </a:cubicBezTo>
                <a:lnTo>
                  <a:pt x="602457" y="636588"/>
                </a:lnTo>
                <a:lnTo>
                  <a:pt x="320912" y="73790"/>
                </a:lnTo>
                <a:close/>
              </a:path>
              <a:path fill="none" w="1204913" h="1273175">
                <a:moveTo>
                  <a:pt x="320912" y="73790"/>
                </a:moveTo>
                <a:cubicBezTo>
                  <a:pt x="502472" y="-27620"/>
                  <a:pt x="720413" y="-24319"/>
                  <a:pt x="899148" y="82546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Gleichschenkliges Dreieck 156"/>
          <p:cNvSpPr/>
          <p:nvPr/>
        </p:nvSpPr>
        <p:spPr>
          <a:xfrm>
            <a:off x="2700360" y="6151680"/>
            <a:ext cx="379440" cy="32040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hteck 168"/>
          <p:cNvSpPr/>
          <p:nvPr/>
        </p:nvSpPr>
        <p:spPr>
          <a:xfrm>
            <a:off x="3208320" y="627048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Request projec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 </a:t>
            </a: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and ESTP valid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uppierung 169"/>
          <p:cNvGrpSpPr/>
          <p:nvPr/>
        </p:nvGrpSpPr>
        <p:grpSpPr>
          <a:xfrm>
            <a:off x="3419640" y="6103800"/>
            <a:ext cx="195120" cy="215640"/>
            <a:chOff x="3419640" y="6103800"/>
            <a:chExt cx="195120" cy="215640"/>
          </a:xfrm>
        </p:grpSpPr>
        <p:sp>
          <p:nvSpPr>
            <p:cNvPr id="100" name="Textfeld 170"/>
            <p:cNvSpPr/>
            <p:nvPr/>
          </p:nvSpPr>
          <p:spPr>
            <a:xfrm>
              <a:off x="3419640" y="610380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Oval 171"/>
            <p:cNvSpPr/>
            <p:nvPr/>
          </p:nvSpPr>
          <p:spPr>
            <a:xfrm>
              <a:off x="3444840" y="6135480"/>
              <a:ext cx="16992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Gruppierung 172"/>
          <p:cNvGrpSpPr/>
          <p:nvPr/>
        </p:nvGrpSpPr>
        <p:grpSpPr>
          <a:xfrm>
            <a:off x="2395440" y="6454800"/>
            <a:ext cx="195480" cy="215640"/>
            <a:chOff x="2395440" y="6454800"/>
            <a:chExt cx="195480" cy="215640"/>
          </a:xfrm>
        </p:grpSpPr>
        <p:sp>
          <p:nvSpPr>
            <p:cNvPr id="103" name="Textfeld 173"/>
            <p:cNvSpPr/>
            <p:nvPr/>
          </p:nvSpPr>
          <p:spPr>
            <a:xfrm>
              <a:off x="2395440" y="645480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Oval 174"/>
            <p:cNvSpPr/>
            <p:nvPr/>
          </p:nvSpPr>
          <p:spPr>
            <a:xfrm>
              <a:off x="2420640" y="6486480"/>
              <a:ext cx="17028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Bogen 175"/>
          <p:cNvSpPr/>
          <p:nvPr/>
        </p:nvSpPr>
        <p:spPr>
          <a:xfrm rot="13437600">
            <a:off x="2771280" y="6325560"/>
            <a:ext cx="1468440" cy="895320"/>
          </a:xfrm>
          <a:custGeom>
            <a:avLst/>
            <a:gdLst/>
            <a:ahLst/>
            <a:rect l="l" t="t" r="r" b="b"/>
            <a:pathLst>
              <a:path stroke="0" w="1468438" h="895350">
                <a:moveTo>
                  <a:pt x="345490" y="67893"/>
                </a:moveTo>
                <a:cubicBezTo>
                  <a:pt x="499135" y="9427"/>
                  <a:pt x="682799" y="-12351"/>
                  <a:pt x="861182" y="6744"/>
                </a:cubicBezTo>
                <a:cubicBezTo>
                  <a:pt x="1121836" y="34647"/>
                  <a:pt x="1337694" y="145918"/>
                  <a:pt x="1426180" y="297990"/>
                </a:cubicBezTo>
                <a:lnTo>
                  <a:pt x="734219" y="447675"/>
                </a:lnTo>
                <a:lnTo>
                  <a:pt x="345490" y="67893"/>
                </a:lnTo>
                <a:close/>
              </a:path>
              <a:path fill="none" w="1468438" h="895350">
                <a:moveTo>
                  <a:pt x="345490" y="67893"/>
                </a:moveTo>
                <a:cubicBezTo>
                  <a:pt x="499135" y="9427"/>
                  <a:pt x="682799" y="-12351"/>
                  <a:pt x="861182" y="6744"/>
                </a:cubicBezTo>
                <a:cubicBezTo>
                  <a:pt x="1121836" y="34647"/>
                  <a:pt x="1337694" y="145918"/>
                  <a:pt x="1426180" y="297990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hteck 179" descr=""/>
          <p:cNvPicPr/>
          <p:nvPr/>
        </p:nvPicPr>
        <p:blipFill>
          <a:blip r:embed="rId5"/>
          <a:stretch/>
        </p:blipFill>
        <p:spPr>
          <a:xfrm>
            <a:off x="2481120" y="6102360"/>
            <a:ext cx="1335240" cy="1487520"/>
          </a:xfrm>
          <a:prstGeom prst="rect">
            <a:avLst/>
          </a:prstGeom>
          <a:ln w="0">
            <a:noFill/>
          </a:ln>
        </p:spPr>
      </p:pic>
      <p:grpSp>
        <p:nvGrpSpPr>
          <p:cNvPr id="107" name="Gruppierung 183"/>
          <p:cNvGrpSpPr/>
          <p:nvPr/>
        </p:nvGrpSpPr>
        <p:grpSpPr>
          <a:xfrm>
            <a:off x="696960" y="4156200"/>
            <a:ext cx="195120" cy="215640"/>
            <a:chOff x="696960" y="4156200"/>
            <a:chExt cx="195120" cy="215640"/>
          </a:xfrm>
        </p:grpSpPr>
        <p:sp>
          <p:nvSpPr>
            <p:cNvPr id="108" name="Textfeld 184"/>
            <p:cNvSpPr/>
            <p:nvPr/>
          </p:nvSpPr>
          <p:spPr>
            <a:xfrm>
              <a:off x="696960" y="415620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Oval 185"/>
            <p:cNvSpPr/>
            <p:nvPr/>
          </p:nvSpPr>
          <p:spPr>
            <a:xfrm>
              <a:off x="722160" y="4187880"/>
              <a:ext cx="16992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Rechteck 186"/>
          <p:cNvSpPr/>
          <p:nvPr/>
        </p:nvSpPr>
        <p:spPr>
          <a:xfrm rot="5400000">
            <a:off x="-160920" y="4851000"/>
            <a:ext cx="1793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48a54"/>
                </a:solidFill>
                <a:latin typeface="Calibri"/>
                <a:ea typeface="Calibri"/>
              </a:rPr>
              <a:t>ESTP takes out Energy savings insurance/surety with Client as beneficiar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feld 187"/>
          <p:cNvSpPr/>
          <p:nvPr/>
        </p:nvSpPr>
        <p:spPr>
          <a:xfrm>
            <a:off x="1231920" y="39852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a452a"/>
                </a:solidFill>
                <a:latin typeface="Calibri"/>
              </a:rPr>
              <a:t>1. ESI Project approval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feld 195"/>
          <p:cNvSpPr/>
          <p:nvPr/>
        </p:nvSpPr>
        <p:spPr>
          <a:xfrm>
            <a:off x="3670200" y="696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Valid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feld 79"/>
          <p:cNvSpPr/>
          <p:nvPr/>
        </p:nvSpPr>
        <p:spPr>
          <a:xfrm>
            <a:off x="3294000" y="8156520"/>
            <a:ext cx="36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LFI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Local Financial Instit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NDB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National Development Ban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ESTP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Energy Efficiency services and technology provid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SME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Small-/Medium-sized Enterpri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Bogen 81"/>
          <p:cNvSpPr/>
          <p:nvPr/>
        </p:nvSpPr>
        <p:spPr>
          <a:xfrm rot="13995000">
            <a:off x="1044360" y="5486040"/>
            <a:ext cx="1204920" cy="1274760"/>
          </a:xfrm>
          <a:custGeom>
            <a:avLst/>
            <a:gdLst/>
            <a:ahLst/>
            <a:rect l="l" t="t" r="r" b="b"/>
            <a:pathLst>
              <a:path stroke="0" w="1204913" h="1274763">
                <a:moveTo>
                  <a:pt x="348830" y="59234"/>
                </a:moveTo>
                <a:cubicBezTo>
                  <a:pt x="525206" y="-27371"/>
                  <a:pt x="730247" y="-18589"/>
                  <a:pt x="899429" y="82817"/>
                </a:cubicBezTo>
                <a:lnTo>
                  <a:pt x="602457" y="637382"/>
                </a:lnTo>
                <a:lnTo>
                  <a:pt x="348830" y="59234"/>
                </a:lnTo>
                <a:close/>
              </a:path>
              <a:path fill="none" w="1204913" h="1274763">
                <a:moveTo>
                  <a:pt x="348830" y="59234"/>
                </a:moveTo>
                <a:cubicBezTo>
                  <a:pt x="525206" y="-27371"/>
                  <a:pt x="730247" y="-18589"/>
                  <a:pt x="899429" y="82817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Gleichschenkliges Dreieck 83"/>
          <p:cNvSpPr/>
          <p:nvPr/>
        </p:nvSpPr>
        <p:spPr>
          <a:xfrm rot="2650200">
            <a:off x="1045800" y="3351240"/>
            <a:ext cx="3794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Gleichschenkliges Dreieck 83"/>
          <p:cNvSpPr/>
          <p:nvPr/>
        </p:nvSpPr>
        <p:spPr>
          <a:xfrm rot="8784600">
            <a:off x="1158840" y="6557760"/>
            <a:ext cx="378000" cy="32040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Gerade Verbindung 80"/>
          <p:cNvSpPr/>
          <p:nvPr/>
        </p:nvSpPr>
        <p:spPr>
          <a:xfrm flipH="1">
            <a:off x="1030320" y="3984480"/>
            <a:ext cx="15840" cy="229716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86"/>
          <p:cNvSpPr/>
          <p:nvPr/>
        </p:nvSpPr>
        <p:spPr>
          <a:xfrm>
            <a:off x="357120" y="7813800"/>
            <a:ext cx="901800" cy="9014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feld 110"/>
          <p:cNvSpPr/>
          <p:nvPr/>
        </p:nvSpPr>
        <p:spPr>
          <a:xfrm>
            <a:off x="333360" y="811224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Re-insur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Bogen 175"/>
          <p:cNvSpPr/>
          <p:nvPr/>
        </p:nvSpPr>
        <p:spPr>
          <a:xfrm rot="7626000">
            <a:off x="1193040" y="7278840"/>
            <a:ext cx="1054080" cy="392400"/>
          </a:xfrm>
          <a:custGeom>
            <a:avLst/>
            <a:gdLst/>
            <a:ahLst/>
            <a:rect l="l" t="t" r="r" b="b"/>
            <a:pathLst>
              <a:path stroke="0" w="1054100" h="392113">
                <a:moveTo>
                  <a:pt x="773119" y="22680"/>
                </a:moveTo>
                <a:cubicBezTo>
                  <a:pt x="860426" y="39827"/>
                  <a:pt x="933031" y="65751"/>
                  <a:pt x="982662" y="97499"/>
                </a:cubicBezTo>
                <a:lnTo>
                  <a:pt x="527050" y="196057"/>
                </a:lnTo>
                <a:lnTo>
                  <a:pt x="773119" y="22680"/>
                </a:lnTo>
                <a:close/>
              </a:path>
              <a:path fill="none" w="1054100" h="392113">
                <a:moveTo>
                  <a:pt x="773119" y="22680"/>
                </a:moveTo>
                <a:cubicBezTo>
                  <a:pt x="860426" y="39827"/>
                  <a:pt x="933031" y="65751"/>
                  <a:pt x="982662" y="97499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Gleichschenkliges Dreieck 83"/>
          <p:cNvSpPr/>
          <p:nvPr/>
        </p:nvSpPr>
        <p:spPr>
          <a:xfrm rot="14067600">
            <a:off x="1204560" y="7845120"/>
            <a:ext cx="37800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168"/>
          <p:cNvSpPr/>
          <p:nvPr/>
        </p:nvSpPr>
        <p:spPr>
          <a:xfrm>
            <a:off x="95400" y="7377120"/>
            <a:ext cx="142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Insurer is re-insur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uppierung 172"/>
          <p:cNvGrpSpPr/>
          <p:nvPr/>
        </p:nvGrpSpPr>
        <p:grpSpPr>
          <a:xfrm>
            <a:off x="243000" y="7159680"/>
            <a:ext cx="193680" cy="215640"/>
            <a:chOff x="243000" y="7159680"/>
            <a:chExt cx="193680" cy="215640"/>
          </a:xfrm>
        </p:grpSpPr>
        <p:sp>
          <p:nvSpPr>
            <p:cNvPr id="124" name="Textfeld 173"/>
            <p:cNvSpPr/>
            <p:nvPr/>
          </p:nvSpPr>
          <p:spPr>
            <a:xfrm>
              <a:off x="243000" y="7159680"/>
              <a:ext cx="16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94"/>
            <p:cNvSpPr/>
            <p:nvPr/>
          </p:nvSpPr>
          <p:spPr>
            <a:xfrm>
              <a:off x="268200" y="7191360"/>
              <a:ext cx="16848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Gleichschenkliges Dreieck 9"/>
          <p:cNvSpPr/>
          <p:nvPr/>
        </p:nvSpPr>
        <p:spPr>
          <a:xfrm rot="13085400">
            <a:off x="1517400" y="2498040"/>
            <a:ext cx="3794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90" descr=""/>
          <p:cNvPicPr/>
          <p:nvPr/>
        </p:nvPicPr>
        <p:blipFill>
          <a:blip r:embed="rId7"/>
          <a:stretch/>
        </p:blipFill>
        <p:spPr>
          <a:xfrm>
            <a:off x="5745240" y="0"/>
            <a:ext cx="1112760" cy="787320"/>
          </a:xfrm>
          <a:prstGeom prst="rect">
            <a:avLst/>
          </a:prstGeom>
          <a:ln w="0">
            <a:noFill/>
          </a:ln>
        </p:spPr>
      </p:pic>
      <p:sp>
        <p:nvSpPr>
          <p:cNvPr id="128" name="Textfeld 60"/>
          <p:cNvSpPr/>
          <p:nvPr/>
        </p:nvSpPr>
        <p:spPr>
          <a:xfrm>
            <a:off x="2530440" y="5448240"/>
            <a:ext cx="10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BANDES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Bogen 72"/>
          <p:cNvSpPr/>
          <p:nvPr/>
        </p:nvSpPr>
        <p:spPr>
          <a:xfrm rot="19491600">
            <a:off x="1055160" y="3347640"/>
            <a:ext cx="1204920" cy="1273320"/>
          </a:xfrm>
          <a:custGeom>
            <a:avLst/>
            <a:gdLst/>
            <a:ahLst/>
            <a:rect l="l" t="t" r="r" b="b"/>
            <a:pathLst>
              <a:path stroke="0" w="1204912" h="1273175">
                <a:moveTo>
                  <a:pt x="130532" y="240884"/>
                </a:moveTo>
                <a:cubicBezTo>
                  <a:pt x="314913" y="-4634"/>
                  <a:pt x="640989" y="-71807"/>
                  <a:pt x="899148" y="82546"/>
                </a:cubicBezTo>
                <a:lnTo>
                  <a:pt x="602456" y="636588"/>
                </a:lnTo>
                <a:lnTo>
                  <a:pt x="130532" y="240884"/>
                </a:lnTo>
                <a:close/>
              </a:path>
              <a:path fill="none" w="1204912" h="1273175">
                <a:moveTo>
                  <a:pt x="130532" y="240884"/>
                </a:moveTo>
                <a:cubicBezTo>
                  <a:pt x="314913" y="-4634"/>
                  <a:pt x="640989" y="-71807"/>
                  <a:pt x="899148" y="82546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Gerade Verbindung 73"/>
          <p:cNvSpPr/>
          <p:nvPr/>
        </p:nvSpPr>
        <p:spPr>
          <a:xfrm>
            <a:off x="1530360" y="3363840"/>
            <a:ext cx="858960" cy="468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Gerade Verbindung 91"/>
          <p:cNvSpPr/>
          <p:nvPr/>
        </p:nvSpPr>
        <p:spPr>
          <a:xfrm>
            <a:off x="3089160" y="4317840"/>
            <a:ext cx="9720" cy="187344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14"/>
          <p:cNvSpPr/>
          <p:nvPr/>
        </p:nvSpPr>
        <p:spPr>
          <a:xfrm>
            <a:off x="1322280" y="2795760"/>
            <a:ext cx="901800" cy="901440"/>
          </a:xfrm>
          <a:prstGeom prst="ellipse">
            <a:avLst/>
          </a:prstGeom>
          <a:solidFill>
            <a:srgbClr val="99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2590920" y="2795760"/>
            <a:ext cx="901440" cy="901440"/>
          </a:xfrm>
          <a:prstGeom prst="ellipse">
            <a:avLst/>
          </a:prstGeom>
          <a:solidFill>
            <a:srgbClr val="99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feld 6"/>
          <p:cNvSpPr/>
          <p:nvPr/>
        </p:nvSpPr>
        <p:spPr>
          <a:xfrm>
            <a:off x="1444680" y="3035160"/>
            <a:ext cx="6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S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Bogen 8"/>
          <p:cNvSpPr/>
          <p:nvPr/>
        </p:nvSpPr>
        <p:spPr>
          <a:xfrm>
            <a:off x="1720800" y="2178000"/>
            <a:ext cx="1204920" cy="1069920"/>
          </a:xfrm>
          <a:custGeom>
            <a:avLst/>
            <a:gdLst/>
            <a:ahLst/>
            <a:rect l="l" t="t" r="r" b="b"/>
            <a:pathLst>
              <a:path stroke="0" w="1204913" h="1069975">
                <a:moveTo>
                  <a:pt x="49213" y="323210"/>
                </a:moveTo>
                <a:cubicBezTo>
                  <a:pt x="147086" y="121589"/>
                  <a:pt x="373745" y="-6461"/>
                  <a:pt x="620873" y="250"/>
                </a:cubicBezTo>
                <a:cubicBezTo>
                  <a:pt x="871136" y="7047"/>
                  <a:pt x="1090578" y="150590"/>
                  <a:pt x="1172092" y="360816"/>
                </a:cubicBezTo>
                <a:lnTo>
                  <a:pt x="602457" y="534988"/>
                </a:lnTo>
                <a:lnTo>
                  <a:pt x="49213" y="323210"/>
                </a:lnTo>
                <a:close/>
              </a:path>
              <a:path fill="none" w="1204913" h="1069975">
                <a:moveTo>
                  <a:pt x="49213" y="323210"/>
                </a:moveTo>
                <a:cubicBezTo>
                  <a:pt x="147086" y="121589"/>
                  <a:pt x="373745" y="-6461"/>
                  <a:pt x="620873" y="250"/>
                </a:cubicBezTo>
                <a:cubicBezTo>
                  <a:pt x="871136" y="7047"/>
                  <a:pt x="1090578" y="150590"/>
                  <a:pt x="1172092" y="360816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Gleichschenkliges Dreieck 9"/>
          <p:cNvSpPr/>
          <p:nvPr/>
        </p:nvSpPr>
        <p:spPr>
          <a:xfrm rot="9333000">
            <a:off x="2711160" y="2406240"/>
            <a:ext cx="3794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Rechteck 18" descr=""/>
          <p:cNvPicPr/>
          <p:nvPr/>
        </p:nvPicPr>
        <p:blipFill>
          <a:blip r:embed="rId1"/>
          <a:stretch/>
        </p:blipFill>
        <p:spPr>
          <a:xfrm>
            <a:off x="1719360" y="1901880"/>
            <a:ext cx="1189080" cy="1073160"/>
          </a:xfrm>
          <a:prstGeom prst="rect">
            <a:avLst/>
          </a:prstGeom>
          <a:ln w="0">
            <a:noFill/>
          </a:ln>
        </p:spPr>
      </p:pic>
      <p:pic>
        <p:nvPicPr>
          <p:cNvPr id="138" name="Rechteck 20" descr=""/>
          <p:cNvPicPr/>
          <p:nvPr/>
        </p:nvPicPr>
        <p:blipFill>
          <a:blip r:embed="rId2"/>
          <a:stretch/>
        </p:blipFill>
        <p:spPr>
          <a:xfrm>
            <a:off x="1951200" y="3236760"/>
            <a:ext cx="815760" cy="1006560"/>
          </a:xfrm>
          <a:prstGeom prst="rect">
            <a:avLst/>
          </a:prstGeom>
          <a:ln w="0">
            <a:noFill/>
          </a:ln>
        </p:spPr>
      </p:pic>
      <p:grpSp>
        <p:nvGrpSpPr>
          <p:cNvPr id="139" name="Gruppierung 24"/>
          <p:cNvGrpSpPr/>
          <p:nvPr/>
        </p:nvGrpSpPr>
        <p:grpSpPr>
          <a:xfrm>
            <a:off x="2224080" y="1644480"/>
            <a:ext cx="195120" cy="215640"/>
            <a:chOff x="2224080" y="1644480"/>
            <a:chExt cx="195120" cy="215640"/>
          </a:xfrm>
        </p:grpSpPr>
        <p:sp>
          <p:nvSpPr>
            <p:cNvPr id="140" name="Textfeld 21"/>
            <p:cNvSpPr/>
            <p:nvPr/>
          </p:nvSpPr>
          <p:spPr>
            <a:xfrm>
              <a:off x="2224080" y="164448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2249280" y="1676160"/>
              <a:ext cx="16992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uppierung 25"/>
          <p:cNvGrpSpPr/>
          <p:nvPr/>
        </p:nvGrpSpPr>
        <p:grpSpPr>
          <a:xfrm>
            <a:off x="2257560" y="4430880"/>
            <a:ext cx="185760" cy="215640"/>
            <a:chOff x="2257560" y="4430880"/>
            <a:chExt cx="185760" cy="215640"/>
          </a:xfrm>
        </p:grpSpPr>
        <p:sp>
          <p:nvSpPr>
            <p:cNvPr id="143" name="Textfeld 26"/>
            <p:cNvSpPr/>
            <p:nvPr/>
          </p:nvSpPr>
          <p:spPr>
            <a:xfrm>
              <a:off x="2257560" y="443088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Oval 27"/>
            <p:cNvSpPr/>
            <p:nvPr/>
          </p:nvSpPr>
          <p:spPr>
            <a:xfrm>
              <a:off x="2274840" y="4462560"/>
              <a:ext cx="16848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Oval 28"/>
          <p:cNvSpPr/>
          <p:nvPr/>
        </p:nvSpPr>
        <p:spPr>
          <a:xfrm>
            <a:off x="3859200" y="2790720"/>
            <a:ext cx="901800" cy="900360"/>
          </a:xfrm>
          <a:prstGeom prst="ellipse">
            <a:avLst/>
          </a:prstGeom>
          <a:solidFill>
            <a:srgbClr val="99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feld 29"/>
          <p:cNvSpPr/>
          <p:nvPr/>
        </p:nvSpPr>
        <p:spPr>
          <a:xfrm>
            <a:off x="3989520" y="302724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F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Gleichschenkliges Dreieck 33"/>
          <p:cNvSpPr/>
          <p:nvPr/>
        </p:nvSpPr>
        <p:spPr>
          <a:xfrm rot="20160600">
            <a:off x="1571400" y="3765240"/>
            <a:ext cx="3776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Bogen 49"/>
          <p:cNvSpPr/>
          <p:nvPr/>
        </p:nvSpPr>
        <p:spPr>
          <a:xfrm rot="10800000">
            <a:off x="3244320" y="3257640"/>
            <a:ext cx="1204920" cy="1069920"/>
          </a:xfrm>
          <a:custGeom>
            <a:avLst/>
            <a:gdLst/>
            <a:ahLst/>
            <a:rect l="l" t="t" r="r" b="b"/>
            <a:pathLst>
              <a:path stroke="0" w="1204913" h="1069975">
                <a:moveTo>
                  <a:pt x="49213" y="323210"/>
                </a:moveTo>
                <a:cubicBezTo>
                  <a:pt x="147086" y="121589"/>
                  <a:pt x="373745" y="-6461"/>
                  <a:pt x="620873" y="250"/>
                </a:cubicBezTo>
                <a:cubicBezTo>
                  <a:pt x="871136" y="7047"/>
                  <a:pt x="1090578" y="150590"/>
                  <a:pt x="1172092" y="360816"/>
                </a:cubicBezTo>
                <a:lnTo>
                  <a:pt x="602457" y="534988"/>
                </a:lnTo>
                <a:lnTo>
                  <a:pt x="49213" y="323210"/>
                </a:lnTo>
                <a:close/>
              </a:path>
              <a:path fill="none" w="1204913" h="1069975">
                <a:moveTo>
                  <a:pt x="49213" y="323210"/>
                </a:moveTo>
                <a:cubicBezTo>
                  <a:pt x="147086" y="121589"/>
                  <a:pt x="373745" y="-6461"/>
                  <a:pt x="620873" y="250"/>
                </a:cubicBezTo>
                <a:cubicBezTo>
                  <a:pt x="871136" y="7047"/>
                  <a:pt x="1090578" y="150590"/>
                  <a:pt x="1172092" y="360816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Gleichschenkliges Dreieck 54"/>
          <p:cNvSpPr/>
          <p:nvPr/>
        </p:nvSpPr>
        <p:spPr>
          <a:xfrm rot="2029800">
            <a:off x="4258800" y="3777840"/>
            <a:ext cx="3794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Oval 59"/>
          <p:cNvSpPr/>
          <p:nvPr/>
        </p:nvSpPr>
        <p:spPr>
          <a:xfrm>
            <a:off x="2600280" y="5164200"/>
            <a:ext cx="901800" cy="90180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Bogen 76"/>
          <p:cNvSpPr/>
          <p:nvPr/>
        </p:nvSpPr>
        <p:spPr>
          <a:xfrm rot="10800000">
            <a:off x="1740960" y="3289320"/>
            <a:ext cx="1204920" cy="1069920"/>
          </a:xfrm>
          <a:custGeom>
            <a:avLst/>
            <a:gdLst/>
            <a:ahLst/>
            <a:rect l="l" t="t" r="r" b="b"/>
            <a:pathLst>
              <a:path stroke="0" w="1204912" h="1069975">
                <a:moveTo>
                  <a:pt x="20713" y="395913"/>
                </a:moveTo>
                <a:cubicBezTo>
                  <a:pt x="89928" y="167605"/>
                  <a:pt x="319701" y="6719"/>
                  <a:pt x="585854" y="203"/>
                </a:cubicBezTo>
                <a:cubicBezTo>
                  <a:pt x="849002" y="-6239"/>
                  <a:pt x="1086388" y="139785"/>
                  <a:pt x="1172091" y="360816"/>
                </a:cubicBezTo>
                <a:lnTo>
                  <a:pt x="602456" y="534988"/>
                </a:lnTo>
                <a:lnTo>
                  <a:pt x="20713" y="395913"/>
                </a:lnTo>
                <a:close/>
              </a:path>
              <a:path fill="none" w="1204912" h="1069975">
                <a:moveTo>
                  <a:pt x="20713" y="395913"/>
                </a:moveTo>
                <a:cubicBezTo>
                  <a:pt x="89928" y="167605"/>
                  <a:pt x="319701" y="6719"/>
                  <a:pt x="585854" y="203"/>
                </a:cubicBezTo>
                <a:cubicBezTo>
                  <a:pt x="849002" y="-6239"/>
                  <a:pt x="1086388" y="139785"/>
                  <a:pt x="1172091" y="360816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Gruppierung 97"/>
          <p:cNvGrpSpPr/>
          <p:nvPr/>
        </p:nvGrpSpPr>
        <p:grpSpPr>
          <a:xfrm>
            <a:off x="3225960" y="6122880"/>
            <a:ext cx="193680" cy="215640"/>
            <a:chOff x="3225960" y="6122880"/>
            <a:chExt cx="193680" cy="215640"/>
          </a:xfrm>
        </p:grpSpPr>
        <p:sp>
          <p:nvSpPr>
            <p:cNvPr id="153" name="Textfeld 98"/>
            <p:cNvSpPr/>
            <p:nvPr/>
          </p:nvSpPr>
          <p:spPr>
            <a:xfrm>
              <a:off x="3225960" y="6122880"/>
              <a:ext cx="16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Oval 99"/>
            <p:cNvSpPr/>
            <p:nvPr/>
          </p:nvSpPr>
          <p:spPr>
            <a:xfrm>
              <a:off x="3251160" y="6154560"/>
              <a:ext cx="16848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Gruppierung 102"/>
          <p:cNvGrpSpPr/>
          <p:nvPr/>
        </p:nvGrpSpPr>
        <p:grpSpPr>
          <a:xfrm>
            <a:off x="5086440" y="3595680"/>
            <a:ext cx="195120" cy="215640"/>
            <a:chOff x="5086440" y="3595680"/>
            <a:chExt cx="195120" cy="215640"/>
          </a:xfrm>
        </p:grpSpPr>
        <p:sp>
          <p:nvSpPr>
            <p:cNvPr id="156" name="Textfeld 103"/>
            <p:cNvSpPr/>
            <p:nvPr/>
          </p:nvSpPr>
          <p:spPr>
            <a:xfrm>
              <a:off x="5086440" y="359568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Oval 104"/>
            <p:cNvSpPr/>
            <p:nvPr/>
          </p:nvSpPr>
          <p:spPr>
            <a:xfrm>
              <a:off x="5111640" y="3627360"/>
              <a:ext cx="16992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Rechteck 106"/>
          <p:cNvSpPr/>
          <p:nvPr/>
        </p:nvSpPr>
        <p:spPr>
          <a:xfrm rot="5400000">
            <a:off x="4421520" y="4197960"/>
            <a:ext cx="143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Calibri"/>
              </a:rPr>
              <a:t>Financing service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107"/>
          <p:cNvSpPr/>
          <p:nvPr/>
        </p:nvSpPr>
        <p:spPr>
          <a:xfrm>
            <a:off x="3794040" y="6746760"/>
            <a:ext cx="901800" cy="901800"/>
          </a:xfrm>
          <a:prstGeom prst="ellipse">
            <a:avLst/>
          </a:prstGeom>
          <a:solidFill>
            <a:srgbClr val="66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108"/>
          <p:cNvSpPr/>
          <p:nvPr/>
        </p:nvSpPr>
        <p:spPr>
          <a:xfrm>
            <a:off x="1322280" y="6746760"/>
            <a:ext cx="901800" cy="901800"/>
          </a:xfrm>
          <a:prstGeom prst="ellipse">
            <a:avLst/>
          </a:prstGeom>
          <a:solidFill>
            <a:srgbClr val="66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feld 109"/>
          <p:cNvSpPr/>
          <p:nvPr/>
        </p:nvSpPr>
        <p:spPr>
          <a:xfrm>
            <a:off x="3670200" y="696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Valid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feld 110"/>
          <p:cNvSpPr/>
          <p:nvPr/>
        </p:nvSpPr>
        <p:spPr>
          <a:xfrm>
            <a:off x="1292400" y="698976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Insur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Bogen 112"/>
          <p:cNvSpPr/>
          <p:nvPr/>
        </p:nvSpPr>
        <p:spPr>
          <a:xfrm rot="13995000">
            <a:off x="3118320" y="5460840"/>
            <a:ext cx="1204920" cy="1273320"/>
          </a:xfrm>
          <a:custGeom>
            <a:avLst/>
            <a:gdLst/>
            <a:ahLst/>
            <a:rect l="l" t="t" r="r" b="b"/>
            <a:pathLst>
              <a:path stroke="0" w="1204913" h="1273175">
                <a:moveTo>
                  <a:pt x="349090" y="59033"/>
                </a:moveTo>
                <a:cubicBezTo>
                  <a:pt x="525310" y="-27280"/>
                  <a:pt x="730103" y="-18526"/>
                  <a:pt x="899149" y="82546"/>
                </a:cubicBezTo>
                <a:lnTo>
                  <a:pt x="602457" y="636588"/>
                </a:lnTo>
                <a:lnTo>
                  <a:pt x="349090" y="59033"/>
                </a:lnTo>
                <a:close/>
              </a:path>
              <a:path fill="none" w="1204913" h="1273175">
                <a:moveTo>
                  <a:pt x="349090" y="59033"/>
                </a:moveTo>
                <a:cubicBezTo>
                  <a:pt x="525310" y="-27280"/>
                  <a:pt x="730103" y="-18526"/>
                  <a:pt x="899149" y="82546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Bogen 125"/>
          <p:cNvSpPr/>
          <p:nvPr/>
        </p:nvSpPr>
        <p:spPr>
          <a:xfrm rot="8731800">
            <a:off x="3674880" y="4212360"/>
            <a:ext cx="1204560" cy="1274760"/>
          </a:xfrm>
          <a:custGeom>
            <a:avLst/>
            <a:gdLst/>
            <a:ahLst/>
            <a:rect l="l" t="t" r="r" b="b"/>
            <a:pathLst>
              <a:path stroke="0" w="1204912" h="1274763">
                <a:moveTo>
                  <a:pt x="138301" y="231041"/>
                </a:moveTo>
                <a:cubicBezTo>
                  <a:pt x="324505" y="-7032"/>
                  <a:pt x="645300" y="-69505"/>
                  <a:pt x="899427" y="82817"/>
                </a:cubicBezTo>
                <a:lnTo>
                  <a:pt x="602456" y="637382"/>
                </a:lnTo>
                <a:lnTo>
                  <a:pt x="138301" y="231041"/>
                </a:lnTo>
                <a:close/>
              </a:path>
              <a:path fill="none" w="1204912" h="1274763">
                <a:moveTo>
                  <a:pt x="138301" y="231041"/>
                </a:moveTo>
                <a:cubicBezTo>
                  <a:pt x="324505" y="-7032"/>
                  <a:pt x="645300" y="-69505"/>
                  <a:pt x="899427" y="82817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Gerade Verbindung 126"/>
          <p:cNvSpPr/>
          <p:nvPr/>
        </p:nvSpPr>
        <p:spPr>
          <a:xfrm flipH="1">
            <a:off x="4889520" y="3603600"/>
            <a:ext cx="1440" cy="131940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Gerade Verbindung 127"/>
          <p:cNvSpPr/>
          <p:nvPr/>
        </p:nvSpPr>
        <p:spPr>
          <a:xfrm>
            <a:off x="3832200" y="5470560"/>
            <a:ext cx="514440" cy="468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Gleichschenkliges Dreieck 128"/>
          <p:cNvSpPr/>
          <p:nvPr/>
        </p:nvSpPr>
        <p:spPr>
          <a:xfrm rot="16200000">
            <a:off x="3481920" y="5309280"/>
            <a:ext cx="3794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hteck 143"/>
          <p:cNvSpPr/>
          <p:nvPr/>
        </p:nvSpPr>
        <p:spPr>
          <a:xfrm>
            <a:off x="3414600" y="6230880"/>
            <a:ext cx="1065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Calibri"/>
              </a:rPr>
              <a:t>Verify project install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Gerade Verbindung 160"/>
          <p:cNvSpPr/>
          <p:nvPr/>
        </p:nvSpPr>
        <p:spPr>
          <a:xfrm flipH="1">
            <a:off x="1030320" y="3984480"/>
            <a:ext cx="15840" cy="229716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Gleichschenkliges Dreieck 164"/>
          <p:cNvSpPr/>
          <p:nvPr/>
        </p:nvSpPr>
        <p:spPr>
          <a:xfrm rot="5400000">
            <a:off x="2264760" y="3203280"/>
            <a:ext cx="37800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Gruppierung 183"/>
          <p:cNvGrpSpPr/>
          <p:nvPr/>
        </p:nvGrpSpPr>
        <p:grpSpPr>
          <a:xfrm>
            <a:off x="701640" y="4119480"/>
            <a:ext cx="441360" cy="215640"/>
            <a:chOff x="701640" y="4119480"/>
            <a:chExt cx="441360" cy="215640"/>
          </a:xfrm>
        </p:grpSpPr>
        <p:sp>
          <p:nvSpPr>
            <p:cNvPr id="172" name="Textfeld 184"/>
            <p:cNvSpPr/>
            <p:nvPr/>
          </p:nvSpPr>
          <p:spPr>
            <a:xfrm>
              <a:off x="701640" y="4119480"/>
              <a:ext cx="441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6*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185"/>
            <p:cNvSpPr/>
            <p:nvPr/>
          </p:nvSpPr>
          <p:spPr>
            <a:xfrm>
              <a:off x="758520" y="4138560"/>
              <a:ext cx="169920" cy="16848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Rechteck 186"/>
          <p:cNvSpPr/>
          <p:nvPr/>
        </p:nvSpPr>
        <p:spPr>
          <a:xfrm rot="5400000">
            <a:off x="-150480" y="4805640"/>
            <a:ext cx="179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48a54"/>
                </a:solidFill>
                <a:latin typeface="Calibri"/>
                <a:ea typeface="Calibri"/>
              </a:rPr>
              <a:t>If energy savings fall short of guaranteed: Compensation payment to Client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feld 187"/>
          <p:cNvSpPr/>
          <p:nvPr/>
        </p:nvSpPr>
        <p:spPr>
          <a:xfrm>
            <a:off x="1231920" y="398520"/>
            <a:ext cx="39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a452a"/>
                </a:solidFill>
                <a:latin typeface="Calibri"/>
              </a:rPr>
              <a:t>2. ESI Project implementa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Gleichschenkliges Dreieck 105"/>
          <p:cNvSpPr/>
          <p:nvPr/>
        </p:nvSpPr>
        <p:spPr>
          <a:xfrm>
            <a:off x="2900520" y="4022640"/>
            <a:ext cx="379080" cy="32220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Rechteck 116" descr=""/>
          <p:cNvPicPr/>
          <p:nvPr/>
        </p:nvPicPr>
        <p:blipFill>
          <a:blip r:embed="rId3"/>
          <a:stretch/>
        </p:blipFill>
        <p:spPr>
          <a:xfrm>
            <a:off x="1663560" y="3822840"/>
            <a:ext cx="1335240" cy="1077840"/>
          </a:xfrm>
          <a:prstGeom prst="rect">
            <a:avLst/>
          </a:prstGeom>
          <a:ln w="0">
            <a:noFill/>
          </a:ln>
        </p:spPr>
      </p:pic>
      <p:pic>
        <p:nvPicPr>
          <p:cNvPr id="178" name="Rechteck 117" descr=""/>
          <p:cNvPicPr/>
          <p:nvPr/>
        </p:nvPicPr>
        <p:blipFill>
          <a:blip r:embed="rId4"/>
          <a:stretch/>
        </p:blipFill>
        <p:spPr>
          <a:xfrm>
            <a:off x="1878120" y="2487600"/>
            <a:ext cx="931680" cy="1535040"/>
          </a:xfrm>
          <a:prstGeom prst="rect">
            <a:avLst/>
          </a:prstGeom>
          <a:ln w="0">
            <a:noFill/>
          </a:ln>
        </p:spPr>
      </p:pic>
      <p:grpSp>
        <p:nvGrpSpPr>
          <p:cNvPr id="179" name="Gruppierung 118"/>
          <p:cNvGrpSpPr/>
          <p:nvPr/>
        </p:nvGrpSpPr>
        <p:grpSpPr>
          <a:xfrm>
            <a:off x="2235240" y="3745080"/>
            <a:ext cx="193680" cy="215640"/>
            <a:chOff x="2235240" y="3745080"/>
            <a:chExt cx="193680" cy="215640"/>
          </a:xfrm>
        </p:grpSpPr>
        <p:sp>
          <p:nvSpPr>
            <p:cNvPr id="180" name="Textfeld 119"/>
            <p:cNvSpPr/>
            <p:nvPr/>
          </p:nvSpPr>
          <p:spPr>
            <a:xfrm>
              <a:off x="2235240" y="3745080"/>
              <a:ext cx="16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Oval 120"/>
            <p:cNvSpPr/>
            <p:nvPr/>
          </p:nvSpPr>
          <p:spPr>
            <a:xfrm>
              <a:off x="2260440" y="3776760"/>
              <a:ext cx="168480" cy="1681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uppierung 121"/>
          <p:cNvGrpSpPr/>
          <p:nvPr/>
        </p:nvGrpSpPr>
        <p:grpSpPr>
          <a:xfrm>
            <a:off x="2222640" y="2260440"/>
            <a:ext cx="195120" cy="215640"/>
            <a:chOff x="2222640" y="2260440"/>
            <a:chExt cx="195120" cy="215640"/>
          </a:xfrm>
        </p:grpSpPr>
        <p:sp>
          <p:nvSpPr>
            <p:cNvPr id="183" name="Textfeld 122"/>
            <p:cNvSpPr/>
            <p:nvPr/>
          </p:nvSpPr>
          <p:spPr>
            <a:xfrm>
              <a:off x="2222640" y="226044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Oval 123"/>
            <p:cNvSpPr/>
            <p:nvPr/>
          </p:nvSpPr>
          <p:spPr>
            <a:xfrm>
              <a:off x="2247840" y="2292120"/>
              <a:ext cx="16992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uppierung 132"/>
          <p:cNvGrpSpPr/>
          <p:nvPr/>
        </p:nvGrpSpPr>
        <p:grpSpPr>
          <a:xfrm>
            <a:off x="3743280" y="3811680"/>
            <a:ext cx="195480" cy="215640"/>
            <a:chOff x="3743280" y="3811680"/>
            <a:chExt cx="195480" cy="215640"/>
          </a:xfrm>
        </p:grpSpPr>
        <p:sp>
          <p:nvSpPr>
            <p:cNvPr id="186" name="Textfeld 133"/>
            <p:cNvSpPr/>
            <p:nvPr/>
          </p:nvSpPr>
          <p:spPr>
            <a:xfrm>
              <a:off x="3743280" y="3811680"/>
              <a:ext cx="16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Oval 134"/>
            <p:cNvSpPr/>
            <p:nvPr/>
          </p:nvSpPr>
          <p:spPr>
            <a:xfrm>
              <a:off x="3768480" y="3843360"/>
              <a:ext cx="17028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8" name="Rechteck 135" descr=""/>
          <p:cNvPicPr/>
          <p:nvPr/>
        </p:nvPicPr>
        <p:blipFill>
          <a:blip r:embed="rId5"/>
          <a:stretch/>
        </p:blipFill>
        <p:spPr>
          <a:xfrm>
            <a:off x="3444840" y="3292560"/>
            <a:ext cx="762120" cy="841320"/>
          </a:xfrm>
          <a:prstGeom prst="rect">
            <a:avLst/>
          </a:prstGeom>
          <a:ln w="0">
            <a:noFill/>
          </a:ln>
        </p:spPr>
      </p:pic>
      <p:grpSp>
        <p:nvGrpSpPr>
          <p:cNvPr id="189" name="Gruppierung 145"/>
          <p:cNvGrpSpPr/>
          <p:nvPr/>
        </p:nvGrpSpPr>
        <p:grpSpPr>
          <a:xfrm>
            <a:off x="2693880" y="6084720"/>
            <a:ext cx="366840" cy="215640"/>
            <a:chOff x="2693880" y="6084720"/>
            <a:chExt cx="366840" cy="215640"/>
          </a:xfrm>
        </p:grpSpPr>
        <p:sp>
          <p:nvSpPr>
            <p:cNvPr id="190" name="Textfeld 147"/>
            <p:cNvSpPr/>
            <p:nvPr/>
          </p:nvSpPr>
          <p:spPr>
            <a:xfrm>
              <a:off x="2693880" y="6084720"/>
              <a:ext cx="366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595959"/>
                  </a:solidFill>
                  <a:latin typeface="Calibri"/>
                </a:rPr>
                <a:t>4*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Oval 148"/>
            <p:cNvSpPr/>
            <p:nvPr/>
          </p:nvSpPr>
          <p:spPr>
            <a:xfrm>
              <a:off x="2752560" y="6103800"/>
              <a:ext cx="16992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Rechteck 149"/>
          <p:cNvSpPr/>
          <p:nvPr/>
        </p:nvSpPr>
        <p:spPr>
          <a:xfrm>
            <a:off x="1998720" y="6246720"/>
            <a:ext cx="1042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Calibri"/>
              </a:rPr>
              <a:t>If disagreement ESTP-Client: Verify energy saving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Gruppierung 150"/>
          <p:cNvGrpSpPr/>
          <p:nvPr/>
        </p:nvGrpSpPr>
        <p:grpSpPr>
          <a:xfrm>
            <a:off x="471600" y="8124840"/>
            <a:ext cx="195120" cy="261360"/>
            <a:chOff x="471600" y="8124840"/>
            <a:chExt cx="195120" cy="261360"/>
          </a:xfrm>
        </p:grpSpPr>
        <p:sp>
          <p:nvSpPr>
            <p:cNvPr id="194" name="Textfeld 151"/>
            <p:cNvSpPr/>
            <p:nvPr/>
          </p:nvSpPr>
          <p:spPr>
            <a:xfrm>
              <a:off x="471600" y="8124840"/>
              <a:ext cx="165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595959"/>
                  </a:solidFill>
                  <a:latin typeface="Calibri"/>
                </a:rPr>
                <a:t>*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Oval 152"/>
            <p:cNvSpPr/>
            <p:nvPr/>
          </p:nvSpPr>
          <p:spPr>
            <a:xfrm>
              <a:off x="496800" y="8156520"/>
              <a:ext cx="169920" cy="169920"/>
            </a:xfrm>
            <a:prstGeom prst="ellipse">
              <a:avLst/>
            </a:prstGeom>
            <a:noFill/>
            <a:ln w="9360">
              <a:solidFill>
                <a:srgbClr val="5959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Rechteck 153"/>
          <p:cNvSpPr/>
          <p:nvPr/>
        </p:nvSpPr>
        <p:spPr>
          <a:xfrm>
            <a:off x="625320" y="8107200"/>
            <a:ext cx="25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Calibri"/>
              </a:rPr>
              <a:t>Action happens only in case of a dispu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Bogen 71"/>
          <p:cNvSpPr/>
          <p:nvPr/>
        </p:nvSpPr>
        <p:spPr>
          <a:xfrm rot="13995000">
            <a:off x="1044360" y="5486040"/>
            <a:ext cx="1204920" cy="1274760"/>
          </a:xfrm>
          <a:custGeom>
            <a:avLst/>
            <a:gdLst/>
            <a:ahLst/>
            <a:rect l="l" t="t" r="r" b="b"/>
            <a:pathLst>
              <a:path stroke="0" w="1204913" h="1274763">
                <a:moveTo>
                  <a:pt x="348830" y="59234"/>
                </a:moveTo>
                <a:cubicBezTo>
                  <a:pt x="525206" y="-27371"/>
                  <a:pt x="730247" y="-18589"/>
                  <a:pt x="899429" y="82817"/>
                </a:cubicBezTo>
                <a:lnTo>
                  <a:pt x="602457" y="637382"/>
                </a:lnTo>
                <a:lnTo>
                  <a:pt x="348830" y="59234"/>
                </a:lnTo>
                <a:close/>
              </a:path>
              <a:path fill="none" w="1204913" h="1274763">
                <a:moveTo>
                  <a:pt x="348830" y="59234"/>
                </a:moveTo>
                <a:cubicBezTo>
                  <a:pt x="525206" y="-27371"/>
                  <a:pt x="730247" y="-18589"/>
                  <a:pt x="899429" y="82817"/>
                </a:cubicBezTo>
              </a:path>
            </a:pathLst>
          </a:custGeom>
          <a:noFill/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feld 7"/>
          <p:cNvSpPr/>
          <p:nvPr/>
        </p:nvSpPr>
        <p:spPr>
          <a:xfrm>
            <a:off x="2662200" y="2946240"/>
            <a:ext cx="7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lient/S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74" descr=""/>
          <p:cNvPicPr/>
          <p:nvPr/>
        </p:nvPicPr>
        <p:blipFill>
          <a:blip r:embed="rId6"/>
          <a:stretch/>
        </p:blipFill>
        <p:spPr>
          <a:xfrm>
            <a:off x="5745240" y="0"/>
            <a:ext cx="1112760" cy="787320"/>
          </a:xfrm>
          <a:prstGeom prst="rect">
            <a:avLst/>
          </a:prstGeom>
          <a:ln w="0">
            <a:noFill/>
          </a:ln>
        </p:spPr>
      </p:pic>
      <p:sp>
        <p:nvSpPr>
          <p:cNvPr id="200" name="Textfeld 79"/>
          <p:cNvSpPr/>
          <p:nvPr/>
        </p:nvSpPr>
        <p:spPr>
          <a:xfrm>
            <a:off x="3294000" y="8156520"/>
            <a:ext cx="36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LFI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Local Financial Instit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NDB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National Development Ban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ESTP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Energy Efficiency services and technology provid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SME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595959"/>
                </a:solidFill>
                <a:latin typeface="Calibri"/>
              </a:rPr>
              <a:t>Small-/Medium-sized Enterpri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feld 60"/>
          <p:cNvSpPr/>
          <p:nvPr/>
        </p:nvSpPr>
        <p:spPr>
          <a:xfrm>
            <a:off x="2522520" y="5438880"/>
            <a:ext cx="10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BANDES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48a54"/>
                </a:solidFill>
                <a:latin typeface="Calibri"/>
                <a:ea typeface="Arial"/>
              </a:rPr>
              <a:t>Step-by-ste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948a54"/>
                </a:solidFill>
                <a:latin typeface="Calibri"/>
                <a:ea typeface="Arial"/>
              </a:rPr>
              <a:t>Project approval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Energy Service and Technology  provider (ESTP) and Client agree on a technical and economic project design based on proposal by EST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Client and ESTP sign a standard Energy Performance Contract, subject to 1. Project approval by the bank; 2. Successful validation; and 3. Provision of insurance/sure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Client requests credit with Local Financial Institution, presenting a project “package” including standard formats and signed contract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If LFI approves the credit, it requests access to the EE financing line (and possibly guarantee) with </a:t>
            </a:r>
            <a:r>
              <a:rPr b="0" i="1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BANDESAL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and submits the technical and economical proposal in standard form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BANDESAL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 requests Validator to validate the ESTP and the EE project (including its M&amp;V plan) using standard protoc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The Validator informs the </a:t>
            </a:r>
            <a:r>
              <a:rPr b="0" i="1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BANDESAL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of the result of the val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The </a:t>
            </a:r>
            <a:r>
              <a:rPr b="0" i="1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BANDESAL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notifies the LFI and Client of a positive validation, and the project is included in the program, giving access to the financing l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The ESTP takes out insurance/surety to back the EE performance guarantee offered to Cli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Insurer may transfer part of the risk to international re-insur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The Client-ESTP contract is activated and loan disbursed</a:t>
            </a:r>
            <a:r>
              <a:rPr b="0" lang="en-US" sz="1400" spc="-1" strike="noStrike">
                <a:solidFill>
                  <a:srgbClr val="948a54"/>
                </a:solidFill>
                <a:latin typeface="Calibri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948a54"/>
                </a:solidFill>
                <a:latin typeface="Calibri"/>
                <a:ea typeface="Arial"/>
              </a:rPr>
              <a:t>Project implementatio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The Client pays ESTP for the project, less a retention to be released over time as guaranteed energy savings material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The ESTP installs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The Validator verifies project installation and proper disposal of obsolete equip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ESTP monitors and reports energy savings, with Validator verifying in case of disagreements between ESTP and Cl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The Client releases retention payment based on reported sav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If energy savings fall short of guaranteed level: ESTP or insurance/surety company cover short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48a54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Client repays loan to LFI with cash flow from energy savings, and LFI repays credit to </a:t>
            </a:r>
            <a:r>
              <a:rPr b="0" i="1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BANDESAL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5745240" y="0"/>
            <a:ext cx="11127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Oval 59"/>
          <p:cNvSpPr/>
          <p:nvPr/>
        </p:nvSpPr>
        <p:spPr>
          <a:xfrm>
            <a:off x="1674720" y="2622600"/>
            <a:ext cx="901800" cy="90180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feld 60"/>
          <p:cNvSpPr/>
          <p:nvPr/>
        </p:nvSpPr>
        <p:spPr>
          <a:xfrm>
            <a:off x="1609560" y="2911320"/>
            <a:ext cx="10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BANDES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Gerade Verbindung 127"/>
          <p:cNvSpPr/>
          <p:nvPr/>
        </p:nvSpPr>
        <p:spPr>
          <a:xfrm>
            <a:off x="2930400" y="3071880"/>
            <a:ext cx="406440" cy="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Gleichschenkliges Dreieck 128"/>
          <p:cNvSpPr/>
          <p:nvPr/>
        </p:nvSpPr>
        <p:spPr>
          <a:xfrm rot="16200000">
            <a:off x="2597760" y="2912040"/>
            <a:ext cx="3794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feld 187"/>
          <p:cNvSpPr/>
          <p:nvPr/>
        </p:nvSpPr>
        <p:spPr>
          <a:xfrm>
            <a:off x="1231920" y="39852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a452a"/>
                </a:solidFill>
                <a:latin typeface="Calibri"/>
              </a:rPr>
              <a:t>3. Program design and pilo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78"/>
          <p:cNvSpPr/>
          <p:nvPr/>
        </p:nvSpPr>
        <p:spPr>
          <a:xfrm>
            <a:off x="3494160" y="2622600"/>
            <a:ext cx="901800" cy="9018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feld 79"/>
          <p:cNvSpPr/>
          <p:nvPr/>
        </p:nvSpPr>
        <p:spPr>
          <a:xfrm>
            <a:off x="3616200" y="2860560"/>
            <a:ext cx="6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I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feld 81"/>
          <p:cNvSpPr/>
          <p:nvPr/>
        </p:nvSpPr>
        <p:spPr>
          <a:xfrm>
            <a:off x="5408640" y="3390840"/>
            <a:ext cx="6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D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Oval 82"/>
          <p:cNvSpPr/>
          <p:nvPr/>
        </p:nvSpPr>
        <p:spPr>
          <a:xfrm>
            <a:off x="5389560" y="2620800"/>
            <a:ext cx="901800" cy="9018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feld 83"/>
          <p:cNvSpPr/>
          <p:nvPr/>
        </p:nvSpPr>
        <p:spPr>
          <a:xfrm>
            <a:off x="5522760" y="2859120"/>
            <a:ext cx="6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N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Oval 122"/>
          <p:cNvSpPr/>
          <p:nvPr/>
        </p:nvSpPr>
        <p:spPr>
          <a:xfrm>
            <a:off x="5072040" y="5551560"/>
            <a:ext cx="901800" cy="901800"/>
          </a:xfrm>
          <a:prstGeom prst="ellipse">
            <a:avLst/>
          </a:prstGeom>
          <a:solidFill>
            <a:srgbClr val="66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Oval 123"/>
          <p:cNvSpPr/>
          <p:nvPr/>
        </p:nvSpPr>
        <p:spPr>
          <a:xfrm>
            <a:off x="465120" y="5551560"/>
            <a:ext cx="901800" cy="901800"/>
          </a:xfrm>
          <a:prstGeom prst="ellipse">
            <a:avLst/>
          </a:prstGeom>
          <a:solidFill>
            <a:srgbClr val="66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feld 124"/>
          <p:cNvSpPr/>
          <p:nvPr/>
        </p:nvSpPr>
        <p:spPr>
          <a:xfrm>
            <a:off x="4970520" y="5734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Valid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feld 129"/>
          <p:cNvSpPr/>
          <p:nvPr/>
        </p:nvSpPr>
        <p:spPr>
          <a:xfrm>
            <a:off x="452520" y="5734080"/>
            <a:ext cx="9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Insurer/ Reinsur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val 131"/>
          <p:cNvSpPr/>
          <p:nvPr/>
        </p:nvSpPr>
        <p:spPr>
          <a:xfrm>
            <a:off x="1641600" y="5551560"/>
            <a:ext cx="901440" cy="901800"/>
          </a:xfrm>
          <a:prstGeom prst="ellipse">
            <a:avLst/>
          </a:prstGeom>
          <a:solidFill>
            <a:srgbClr val="99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Oval 132"/>
          <p:cNvSpPr/>
          <p:nvPr/>
        </p:nvSpPr>
        <p:spPr>
          <a:xfrm>
            <a:off x="2840040" y="5551560"/>
            <a:ext cx="901800" cy="901800"/>
          </a:xfrm>
          <a:prstGeom prst="ellipse">
            <a:avLst/>
          </a:prstGeom>
          <a:solidFill>
            <a:srgbClr val="99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feld 133"/>
          <p:cNvSpPr/>
          <p:nvPr/>
        </p:nvSpPr>
        <p:spPr>
          <a:xfrm>
            <a:off x="1779480" y="573408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F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feld 134"/>
          <p:cNvSpPr/>
          <p:nvPr/>
        </p:nvSpPr>
        <p:spPr>
          <a:xfrm>
            <a:off x="2905200" y="5734080"/>
            <a:ext cx="8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lient/S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Oval 135"/>
          <p:cNvSpPr/>
          <p:nvPr/>
        </p:nvSpPr>
        <p:spPr>
          <a:xfrm>
            <a:off x="3944880" y="5551560"/>
            <a:ext cx="901800" cy="901800"/>
          </a:xfrm>
          <a:prstGeom prst="ellipse">
            <a:avLst/>
          </a:prstGeom>
          <a:solidFill>
            <a:srgbClr val="99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feld 140"/>
          <p:cNvSpPr/>
          <p:nvPr/>
        </p:nvSpPr>
        <p:spPr>
          <a:xfrm>
            <a:off x="4091040" y="57340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S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Abgerundetes Rechteck 11"/>
          <p:cNvSpPr/>
          <p:nvPr/>
        </p:nvSpPr>
        <p:spPr>
          <a:xfrm>
            <a:off x="338040" y="5208480"/>
            <a:ext cx="5737320" cy="1592280"/>
          </a:xfrm>
          <a:prstGeom prst="roundRect">
            <a:avLst>
              <a:gd name="adj" fmla="val 8690"/>
            </a:avLst>
          </a:prstGeom>
          <a:noFill/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Gerade Verbindung 144"/>
          <p:cNvSpPr/>
          <p:nvPr/>
        </p:nvSpPr>
        <p:spPr>
          <a:xfrm>
            <a:off x="2136600" y="3693960"/>
            <a:ext cx="0" cy="111924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Gleichschenkliges Dreieck 145"/>
          <p:cNvSpPr/>
          <p:nvPr/>
        </p:nvSpPr>
        <p:spPr>
          <a:xfrm rot="10800000">
            <a:off x="1946160" y="4722480"/>
            <a:ext cx="379440" cy="32220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hteck 148"/>
          <p:cNvSpPr/>
          <p:nvPr/>
        </p:nvSpPr>
        <p:spPr>
          <a:xfrm>
            <a:off x="307800" y="2994120"/>
            <a:ext cx="174168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948a5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Coordinate progr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948a5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Engage key acto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948a5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Ensure alignment with national EE polic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948a5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Deploy intervention package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36600" indent="-171360">
              <a:buClr>
                <a:srgbClr val="948a54"/>
              </a:buClr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Standardized contrac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36600" indent="-171360">
              <a:buClr>
                <a:srgbClr val="948a54"/>
              </a:buClr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Validation procedu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36600" indent="-171360">
              <a:buClr>
                <a:srgbClr val="948a54"/>
              </a:buClr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Energy savings insuran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36600" indent="-171360">
              <a:buClr>
                <a:srgbClr val="948a54"/>
              </a:buClr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Capacity build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36600" indent="-171360">
              <a:buClr>
                <a:srgbClr val="948a54"/>
              </a:buClr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Promotion strate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36600" indent="-171360">
              <a:buClr>
                <a:srgbClr val="948a54"/>
              </a:buClr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48a54"/>
                </a:solidFill>
                <a:latin typeface="Calibri"/>
                <a:ea typeface="Arial"/>
              </a:rPr>
              <a:t>Structure Credit li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hteck 13"/>
          <p:cNvSpPr/>
          <p:nvPr/>
        </p:nvSpPr>
        <p:spPr>
          <a:xfrm>
            <a:off x="434520" y="5203800"/>
            <a:ext cx="762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Calibri"/>
                <a:ea typeface="Arial"/>
              </a:rPr>
              <a:t>key acto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Gerade Verbindung 127"/>
          <p:cNvSpPr/>
          <p:nvPr/>
        </p:nvSpPr>
        <p:spPr>
          <a:xfrm>
            <a:off x="4797360" y="3071880"/>
            <a:ext cx="406440" cy="0"/>
          </a:xfrm>
          <a:prstGeom prst="line">
            <a:avLst/>
          </a:prstGeom>
          <a:ln cap="rnd" w="19044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Gleichschenkliges Dreieck 128"/>
          <p:cNvSpPr/>
          <p:nvPr/>
        </p:nvSpPr>
        <p:spPr>
          <a:xfrm rot="16200000">
            <a:off x="4464720" y="2912040"/>
            <a:ext cx="379440" cy="320760"/>
          </a:xfrm>
          <a:prstGeom prst="triangle">
            <a:avLst>
              <a:gd name="adj" fmla="val 50000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0" descr=""/>
          <p:cNvPicPr/>
          <p:nvPr/>
        </p:nvPicPr>
        <p:blipFill>
          <a:blip r:embed="rId1"/>
          <a:stretch/>
        </p:blipFill>
        <p:spPr>
          <a:xfrm>
            <a:off x="5745240" y="0"/>
            <a:ext cx="1112760" cy="787320"/>
          </a:xfrm>
          <a:prstGeom prst="rect">
            <a:avLst/>
          </a:prstGeom>
          <a:ln w="0">
            <a:noFill/>
          </a:ln>
        </p:spPr>
      </p:pic>
      <p:sp>
        <p:nvSpPr>
          <p:cNvPr id="233" name="Oval 31"/>
          <p:cNvSpPr/>
          <p:nvPr/>
        </p:nvSpPr>
        <p:spPr>
          <a:xfrm>
            <a:off x="5411880" y="3789360"/>
            <a:ext cx="901440" cy="9018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feld 83"/>
          <p:cNvSpPr/>
          <p:nvPr/>
        </p:nvSpPr>
        <p:spPr>
          <a:xfrm>
            <a:off x="5133960" y="3941640"/>
            <a:ext cx="1486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Internation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Calibri"/>
                <a:ea typeface="Arial"/>
              </a:rPr>
              <a:t>Climate Finan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Group 1"/>
          <p:cNvGrpSpPr/>
          <p:nvPr/>
        </p:nvGrpSpPr>
        <p:grpSpPr>
          <a:xfrm>
            <a:off x="4384800" y="3416400"/>
            <a:ext cx="713880" cy="506880"/>
            <a:chOff x="4384800" y="3416400"/>
            <a:chExt cx="713880" cy="506880"/>
          </a:xfrm>
        </p:grpSpPr>
        <p:sp>
          <p:nvSpPr>
            <p:cNvPr id="236" name="Gerade Verbindung 127"/>
            <p:cNvSpPr/>
            <p:nvPr/>
          </p:nvSpPr>
          <p:spPr>
            <a:xfrm>
              <a:off x="4743360" y="3727800"/>
              <a:ext cx="355320" cy="195480"/>
            </a:xfrm>
            <a:prstGeom prst="line">
              <a:avLst/>
            </a:prstGeom>
            <a:ln cap="rnd" w="190440">
              <a:solidFill>
                <a:srgbClr val="c4bd97"/>
              </a:solidFill>
              <a:custDash>
                <a:ds d="499000" sp="201000"/>
                <a:ds d="1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Gleichschenkliges Dreieck 128"/>
            <p:cNvSpPr/>
            <p:nvPr/>
          </p:nvSpPr>
          <p:spPr>
            <a:xfrm rot="17931600">
              <a:off x="4426560" y="3499560"/>
              <a:ext cx="379440" cy="320040"/>
            </a:xfrm>
            <a:prstGeom prst="triangle">
              <a:avLst>
                <a:gd name="adj" fmla="val 50000"/>
              </a:avLst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Rectangle 2"/>
          <p:cNvSpPr/>
          <p:nvPr/>
        </p:nvSpPr>
        <p:spPr>
          <a:xfrm>
            <a:off x="4483080" y="296532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d0d0d"/>
                </a:solidFill>
                <a:latin typeface="Calibri"/>
              </a:rPr>
              <a:t>Grant: USD 1.7 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37"/>
          <p:cNvSpPr/>
          <p:nvPr/>
        </p:nvSpPr>
        <p:spPr>
          <a:xfrm rot="1862400">
            <a:off x="4441320" y="3673440"/>
            <a:ext cx="83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d0d0d"/>
                </a:solidFill>
                <a:latin typeface="Calibri"/>
              </a:rPr>
              <a:t>Loan: USD 20 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8"/>
          <p:cNvSpPr/>
          <p:nvPr/>
        </p:nvSpPr>
        <p:spPr>
          <a:xfrm>
            <a:off x="2300040" y="4098960"/>
            <a:ext cx="127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d0d0d"/>
                </a:solidFill>
                <a:latin typeface="Calibri"/>
              </a:rPr>
              <a:t>Blended Loan: USD 40 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d0d0d"/>
                </a:solidFill>
                <a:latin typeface="Calibri"/>
              </a:rPr>
              <a:t>USD 20 m from GC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d0d0d"/>
                </a:solidFill>
                <a:latin typeface="Calibri"/>
              </a:rPr>
              <a:t>USD 20 m from BANDESA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2:24:38Z</dcterms:created>
  <dc:creator>Daniel Magallon</dc:creator>
  <dc:description/>
  <dc:language>en-US</dc:language>
  <cp:lastModifiedBy>Lozano Miranda, Ana Lucia</cp:lastModifiedBy>
  <dcterms:modified xsi:type="dcterms:W3CDTF">2020-01-31T21:56:56Z</dcterms:modified>
  <cp:revision>114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ccess to Information Policy">
    <vt:lpwstr>Public</vt:lpwstr>
  </property>
  <property fmtid="{D5CDD505-2E9C-101B-9397-08002B2CF9AE}" pid="3" name="Approval Number">
    <vt:lpwstr>ATN/GN-17930-ES;</vt:lpwstr>
  </property>
  <property fmtid="{D5CDD505-2E9C-101B-9397-08002B2CF9AE}" pid="4" name="Business Area">
    <vt:lpwstr>Life Cycle</vt:lpwstr>
  </property>
  <property fmtid="{D5CDD505-2E9C-101B-9397-08002B2CF9AE}" pid="5" name="ContentTypeId">
    <vt:lpwstr>0x0101001A458A224826124E8B45B1D613300CFC00B9C4062FDEB8D34BBAB14501580617A8</vt:lpwstr>
  </property>
  <property fmtid="{D5CDD505-2E9C-101B-9397-08002B2CF9AE}" pid="6" name="Country">
    <vt:lpwstr>35;#El Salvador|057b77a9-2761-48a1-b9dc-78a115c002df</vt:lpwstr>
  </property>
  <property fmtid="{D5CDD505-2E9C-101B-9397-08002B2CF9AE}" pid="7" name="Disclosure Activity">
    <vt:lpwstr>TC Document</vt:lpwstr>
  </property>
  <property fmtid="{D5CDD505-2E9C-101B-9397-08002B2CF9AE}" pid="8" name="Division or Unit">
    <vt:lpwstr>IFD/CMF</vt:lpwstr>
  </property>
  <property fmtid="{D5CDD505-2E9C-101B-9397-08002B2CF9AE}" pid="9" name="Document Author">
    <vt:lpwstr>Lozano Miranda Ana Lucia</vt:lpwstr>
  </property>
  <property fmtid="{D5CDD505-2E9C-101B-9397-08002B2CF9AE}" pid="10" name="Document Language IDB">
    <vt:lpwstr>Spanish</vt:lpwstr>
  </property>
  <property fmtid="{D5CDD505-2E9C-101B-9397-08002B2CF9AE}" pid="11" name="Fiscal Year IDB">
    <vt:lpwstr>2020</vt:lpwstr>
  </property>
  <property fmtid="{D5CDD505-2E9C-101B-9397-08002B2CF9AE}" pid="12" name="From:">
    <vt:lpwstr/>
  </property>
  <property fmtid="{D5CDD505-2E9C-101B-9397-08002B2CF9AE}" pid="13" name="Function Operations IDB">
    <vt:lpwstr>1;#Project Preparation Planning and Design|29ca0c72-1fc4-435f-a09c-28585cb5eac9</vt:lpwstr>
  </property>
  <property fmtid="{D5CDD505-2E9C-101B-9397-08002B2CF9AE}" pid="14" name="Fund IDB">
    <vt:lpwstr>67;#TBD|d62f6e05-3e80-4abd-9bb4-5f10b4906ff6</vt:lpwstr>
  </property>
  <property fmtid="{D5CDD505-2E9C-101B-9397-08002B2CF9AE}" pid="15" name="IDBDocs Number">
    <vt:lpwstr/>
  </property>
  <property fmtid="{D5CDD505-2E9C-101B-9397-08002B2CF9AE}" pid="16" name="Identifier">
    <vt:lpwstr/>
  </property>
  <property fmtid="{D5CDD505-2E9C-101B-9397-08002B2CF9AE}" pid="17" name="Operation Type">
    <vt:lpwstr>TCP</vt:lpwstr>
  </property>
  <property fmtid="{D5CDD505-2E9C-101B-9397-08002B2CF9AE}" pid="18" name="Other Author">
    <vt:lpwstr/>
  </property>
  <property fmtid="{D5CDD505-2E9C-101B-9397-08002B2CF9AE}" pid="19" name="Phase">
    <vt:lpwstr>ACTIVE</vt:lpwstr>
  </property>
  <property fmtid="{D5CDD505-2E9C-101B-9397-08002B2CF9AE}" pid="20" name="Project Number">
    <vt:lpwstr>ES-T1324</vt:lpwstr>
  </property>
  <property fmtid="{D5CDD505-2E9C-101B-9397-08002B2CF9AE}" pid="21" name="Record Number">
    <vt:lpwstr>R0001260608</vt:lpwstr>
  </property>
  <property fmtid="{D5CDD505-2E9C-101B-9397-08002B2CF9AE}" pid="22" name="RecordPoint_ActiveItemMoved">
    <vt:lpwstr>/teams/EZ-ES-TCP/ES-T1258/05 Basic Data/Draft Area/Anexo 5 - Explicacion ESI.ppt</vt:lpwstr>
  </property>
  <property fmtid="{D5CDD505-2E9C-101B-9397-08002B2CF9AE}" pid="23" name="RecordStorageActiveId">
    <vt:lpwstr>d7d010f1-2bef-4e98-81b6-b4ac8645a81e</vt:lpwstr>
  </property>
  <property fmtid="{D5CDD505-2E9C-101B-9397-08002B2CF9AE}" pid="24" name="Sector IDB">
    <vt:lpwstr>51;#FINANCIAL MARKETS|75500f29-2419-473a-bcd8-84901ddc2aa7</vt:lpwstr>
  </property>
  <property fmtid="{D5CDD505-2E9C-101B-9397-08002B2CF9AE}" pid="25" name="Series Operations IDB">
    <vt:lpwstr>151;#TC Document|63b8a4e6-03e6-4023-98b4-7f8f68683515</vt:lpwstr>
  </property>
  <property fmtid="{D5CDD505-2E9C-101B-9397-08002B2CF9AE}" pid="26" name="Sub-Sector">
    <vt:lpwstr>149;#FINANCING FOR ENVIRONMENTAL SUSTAINABILITY|dcc8718d-dd7c-4b5d-bcc4-86a6a708df42</vt:lpwstr>
  </property>
  <property fmtid="{D5CDD505-2E9C-101B-9397-08002B2CF9AE}" pid="27" name="TaxCatchAll">
    <vt:lpwstr>67;#TBD|d62f6e05-3e80-4abd-9bb4-5f10b4906ff6;#151;#TC Document|63b8a4e6-03e6-4023-98b4-7f8f68683515;#35;#El Salvador|057b77a9-2761-48a1-b9dc-78a115c002df;#149;#FINANCING FOR ENVIRONMENTAL SUSTAINABILITY|dcc8718d-dd7c-4b5d-bcc4-86a6a708df42;#1;#Project Pre</vt:lpwstr>
  </property>
  <property fmtid="{D5CDD505-2E9C-101B-9397-08002B2CF9AE}" pid="28" name="TaxKeyword">
    <vt:lpwstr/>
  </property>
  <property fmtid="{D5CDD505-2E9C-101B-9397-08002B2CF9AE}" pid="29" name="TaxKeywordTaxHTField">
    <vt:lpwstr/>
  </property>
  <property fmtid="{D5CDD505-2E9C-101B-9397-08002B2CF9AE}" pid="30" name="To:">
    <vt:lpwstr/>
  </property>
  <property fmtid="{D5CDD505-2E9C-101B-9397-08002B2CF9AE}" pid="31" name="Webtopic">
    <vt:lpwstr/>
  </property>
  <property fmtid="{D5CDD505-2E9C-101B-9397-08002B2CF9AE}" pid="32" name="_dlc_DocId">
    <vt:lpwstr>EZSHARE-1845578416-6</vt:lpwstr>
  </property>
  <property fmtid="{D5CDD505-2E9C-101B-9397-08002B2CF9AE}" pid="33" name="_dlc_DocIdItemGuid">
    <vt:lpwstr>3d5826d4-b6b5-4d98-9ebe-3e1924735c2b</vt:lpwstr>
  </property>
  <property fmtid="{D5CDD505-2E9C-101B-9397-08002B2CF9AE}" pid="34" name="_dlc_DocIdUrl">
    <vt:lpwstr>https://idbg.sharepoint.com/teams/EZ-ES-TCP/ES-T1324/_layouts/15/DocIdRedir.aspx?ID=EZSHARE-1845578416-6, EZSHARE-1845578416-6</vt:lpwstr>
  </property>
  <property fmtid="{D5CDD505-2E9C-101B-9397-08002B2CF9AE}" pid="35" name="b26cdb1da78c4bb4b1c1bac2f6ac5911">
    <vt:lpwstr>TC Document|63b8a4e6-03e6-4023-98b4-7f8f68683515</vt:lpwstr>
  </property>
  <property fmtid="{D5CDD505-2E9C-101B-9397-08002B2CF9AE}" pid="36" name="b2ec7cfb18674cb8803df6b262e8b107">
    <vt:lpwstr>FINANCING FOR ENVIRONMENTAL SUSTAINABILITY|dcc8718d-dd7c-4b5d-bcc4-86a6a708df42</vt:lpwstr>
  </property>
  <property fmtid="{D5CDD505-2E9C-101B-9397-08002B2CF9AE}" pid="37" name="display_urn:schemas-microsoft-com:office:office#Author">
    <vt:lpwstr>Lozano Miranda, Ana Lucia</vt:lpwstr>
  </property>
  <property fmtid="{D5CDD505-2E9C-101B-9397-08002B2CF9AE}" pid="38" name="display_urn:schemas-microsoft-com:office:office#Editor">
    <vt:lpwstr>Lozano Miranda, Ana Lucia</vt:lpwstr>
  </property>
  <property fmtid="{D5CDD505-2E9C-101B-9397-08002B2CF9AE}" pid="39" name="e46fe2894295491da65140ffd2369f49">
    <vt:lpwstr>Project Preparation Planning and Design|29ca0c72-1fc4-435f-a09c-28585cb5eac9</vt:lpwstr>
  </property>
  <property fmtid="{D5CDD505-2E9C-101B-9397-08002B2CF9AE}" pid="40" name="g511464f9e53401d84b16fa9b379a574">
    <vt:lpwstr>TBD|d62f6e05-3e80-4abd-9bb4-5f10b4906ff6</vt:lpwstr>
  </property>
  <property fmtid="{D5CDD505-2E9C-101B-9397-08002B2CF9AE}" pid="41" name="ic46d7e087fd4a108fb86518ca413cc6">
    <vt:lpwstr>El Salvador|057b77a9-2761-48a1-b9dc-78a115c002df</vt:lpwstr>
  </property>
  <property fmtid="{D5CDD505-2E9C-101B-9397-08002B2CF9AE}" pid="42" name="nddeef1749674d76abdbe4b239a70bc6">
    <vt:lpwstr>FINANCIAL MARKETS|75500f29-2419-473a-bcd8-84901ddc2aa7</vt:lpwstr>
  </property>
</Properties>
</file>