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A55-2EC6-4FD8-8BAE-A3629152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88F-113B-4504-B38A-35F0384C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B32-B5F4-4132-9EA3-A8103945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4AC-BDD4-4F9A-AC97-A077B135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ED9B-C1EA-48C2-A83B-7EEDB8A3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F38A-EAC5-4359-92F2-88943892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1938-319B-4EB4-A1DB-40765E15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4A8B-664A-4922-A2AF-B4935333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EDD-9307-456E-BBEA-1AB412A6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E216-6FF8-4150-88DE-51B58A19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FE50-619F-45CC-B669-88DC4F75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244-AC64-4E1F-AD5E-FDA5150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3560-83E1-4DCC-8A40-9CD1BAD6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A8F0-24A7-4620-AE6C-59CB0E4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8309-FDFC-4EC5-ADE0-D252979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98A9-B7FE-45D4-B4B3-C137E642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ABC2-FD84-4722-B91C-E45FFD9E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403-C2B8-4639-874A-2F57ECD0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2EC-AAB5-480B-8FBA-7112A363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5ED-1F46-4110-A99A-E7EBF987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C08-6FEE-4954-923D-6EFC1C02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8D7-ECFF-4296-934F-D9326AB0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C5E-11D0-439C-BA21-F7AEF3B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3D7-3F78-41EE-96D8-5A7A84B2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076F19-3E74-4BD5-9C07-D470C95F18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781EF9-2ACF-47E5-9D6F-978619BC20A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32920" y="3641760"/>
            <a:ext cx="10069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986120" y="3657600"/>
            <a:ext cx="1197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97360" y="3657600"/>
            <a:ext cx="97200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f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693040" y="3657600"/>
            <a:ext cx="100548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485840" y="3657600"/>
            <a:ext cx="111996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76520" y="3200400"/>
            <a:ext cx="7238520" cy="1371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10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467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99168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410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811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11430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312408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48006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66294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odelo Lógico – Significado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89880" y="1636560"/>
            <a:ext cx="314676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es realizadas s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grupo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478440" y="4911840"/>
            <a:ext cx="327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a prevista para l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372400" y="2519280"/>
            <a:ext cx="38815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de actitud del grupo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4076640" y="4911840"/>
            <a:ext cx="376848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realiz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ificables a través de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5343840" y="1635120"/>
            <a:ext cx="371664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 deseado de primer ni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cual se realizan las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533160" y="2133360"/>
            <a:ext cx="360" cy="160020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7924680" y="2133360"/>
            <a:ext cx="360" cy="160020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4343400" y="2971800"/>
            <a:ext cx="360" cy="7617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 flipV="1">
            <a:off x="2438280" y="3962160"/>
            <a:ext cx="360" cy="99072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172200" y="3962160"/>
            <a:ext cx="360" cy="99072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32920" y="3641760"/>
            <a:ext cx="10069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86120" y="3657600"/>
            <a:ext cx="1197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97360" y="3657600"/>
            <a:ext cx="97200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f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693040" y="3657600"/>
            <a:ext cx="100548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485840" y="3657600"/>
            <a:ext cx="111996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1676520" y="3200400"/>
            <a:ext cx="7238520" cy="1371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610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467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399168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5410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6811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5"/>
          <p:cNvSpPr/>
          <p:nvPr/>
        </p:nvSpPr>
        <p:spPr>
          <a:xfrm>
            <a:off x="11430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312408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48006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8"/>
          <p:cNvSpPr/>
          <p:nvPr/>
        </p:nvSpPr>
        <p:spPr>
          <a:xfrm>
            <a:off x="66294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66520" y="5032440"/>
            <a:ext cx="2052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grado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4260600" y="5032440"/>
            <a:ext cx="205416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maduració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6732000" y="4991040"/>
            <a:ext cx="209664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n  NO  Lograd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1676520" y="4727520"/>
            <a:ext cx="7238520" cy="8197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ferencia de Co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odelo Lógico – Componente I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32920" y="3641760"/>
            <a:ext cx="10069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986120" y="3657600"/>
            <a:ext cx="1197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97360" y="3657600"/>
            <a:ext cx="97200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f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693040" y="3657600"/>
            <a:ext cx="100548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485840" y="3657600"/>
            <a:ext cx="111996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676520" y="3200400"/>
            <a:ext cx="7238520" cy="1371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10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467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99168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410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811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11430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12408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48006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66294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1993680" y="5081760"/>
            <a:ext cx="1596960" cy="27216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grado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490640" y="5081760"/>
            <a:ext cx="1593720" cy="27216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maduración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964920" y="5040360"/>
            <a:ext cx="1629000" cy="27216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un  NO  Lograd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1676520" y="4727520"/>
            <a:ext cx="7238520" cy="8197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ferencia de Co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odelo Lógico – Componente II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32920" y="3641760"/>
            <a:ext cx="10069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986120" y="3657600"/>
            <a:ext cx="1197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897360" y="3657600"/>
            <a:ext cx="97200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f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93040" y="3657600"/>
            <a:ext cx="100548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485840" y="3657600"/>
            <a:ext cx="111996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76520" y="3200400"/>
            <a:ext cx="7238520" cy="1371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10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467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99168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10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811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11430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4"/>
          <p:cNvSpPr/>
          <p:nvPr/>
        </p:nvSpPr>
        <p:spPr>
          <a:xfrm>
            <a:off x="312408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48006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6"/>
          <p:cNvSpPr/>
          <p:nvPr/>
        </p:nvSpPr>
        <p:spPr>
          <a:xfrm>
            <a:off x="66294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766520" y="5032440"/>
            <a:ext cx="2052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grado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4260600" y="5032440"/>
            <a:ext cx="205416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maduració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732000" y="4991040"/>
            <a:ext cx="209664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n  NO  Lograd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1676520" y="4727520"/>
            <a:ext cx="7238520" cy="8197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ferencia de Co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odelo Lógico – Componente III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comendaciones a la comisión directiva</a:t>
            </a:r>
            <a:endParaRPr b="0" lang="es-E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00200" y="1600200"/>
            <a:ext cx="76989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er el enfoque actual  y avanzar en la integración PUBLICO-PRIV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 el pilar de reaseguro de SOSTENIBIIDA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98400" y="2558880"/>
            <a:ext cx="7245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bajar el concepto de dotar de mayor flexibilidad en la asignación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ción de los recursos al Equipo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40160" y="3581280"/>
            <a:ext cx="832068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bajar el  enfoque integrador de la Política MyPE en donde actú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mentos de acción directa como política a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tivas como herramienta que promueva el Desarrollo Económ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través de aumentar la base de cantidad de P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plificación de procesos administrativos de registración de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parte de un estado mas eficiente y menos costoso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orm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nanciamiento como instrumento que apalanque inicia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ción estadística como insumo básico para el diseño de 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mentos ap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  <Words>287</Words>
  <Paragraphs>101</Paragraphs>
  <Company>.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1:34:03Z</dcterms:created>
  <dc:creator>jbertero</dc:creator>
  <dc:description/>
  <dc:language>en-US</dc:language>
  <cp:lastModifiedBy>anarod</cp:lastModifiedBy>
  <dcterms:modified xsi:type="dcterms:W3CDTF">2010-07-12T04:11:20Z</dcterms:modified>
  <cp:revision>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