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07A8-C9E2-4DE3-BD34-3A263442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A06A-ABDC-450B-9086-2CAB04F8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C381-EE56-4533-96BD-3F29D7D0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F699-CD4A-4D10-85C4-B41141A3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ED5B-358B-48E8-995C-9260B2AB7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920D-D1DF-4425-8C07-237F06A7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6724-FA4F-423A-AE48-F02ADCF8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6E43-6DCC-4A1F-B4A1-CAE918ED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3319-D8F7-4F08-94BD-2C1301EB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0970-E772-4AE1-8D7D-358B77F5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2347-C0FC-46EE-8ACE-02BFBFE2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CFE3-A0CC-4BBE-8A5B-95C55108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D0C4-9953-48A8-A7F6-4925A518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E66D-C67A-4933-9A42-7DED43E4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43DB-9507-4499-B7CE-AC71AC6F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9B43-6A6C-4231-9F0A-0682DAC8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BD65-9F8D-4CFC-86C3-00F7024B7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1F1B-5E7B-4C7A-85CE-FD6CA679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78BB-2185-4BA0-B7A9-BD21973C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A27A-C632-4170-8038-0EA5D450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E989-747B-4069-9519-A2F2E4CC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DF5F-83C8-4827-91CD-DDF0A4CA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C7DE-D751-4A01-B569-AEC5F09C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89E1-37FA-4EF3-B666-48995D0E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500DC6-822A-4753-8268-A7ECE85F554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Master title style</a:t>
            </a:r>
            <a:endParaRPr b="0" lang="es-E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56C963-2B95-4FA0-A5D5-19D421E435E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32920" y="3641760"/>
            <a:ext cx="1006920" cy="333000"/>
          </a:xfrm>
          <a:prstGeom prst="rect">
            <a:avLst/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986120" y="3657600"/>
            <a:ext cx="1197720" cy="333000"/>
          </a:xfrm>
          <a:prstGeom prst="rect">
            <a:avLst/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897360" y="3657600"/>
            <a:ext cx="972000" cy="333000"/>
          </a:xfrm>
          <a:prstGeom prst="rect">
            <a:avLst/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fect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693040" y="3657600"/>
            <a:ext cx="1005480" cy="333000"/>
          </a:xfrm>
          <a:prstGeom prst="rect">
            <a:avLst/>
          </a:prstGeom>
          <a:solidFill>
            <a:srgbClr val="ff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mpa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7485840" y="3657600"/>
            <a:ext cx="1119960" cy="333000"/>
          </a:xfrm>
          <a:prstGeom prst="rect">
            <a:avLst/>
          </a:prstGeom>
          <a:solidFill>
            <a:srgbClr val="ff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enef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676520" y="3200400"/>
            <a:ext cx="7238520" cy="137124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610200" y="3200400"/>
            <a:ext cx="350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2467800" y="3200400"/>
            <a:ext cx="350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3991680" y="3200400"/>
            <a:ext cx="350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5410800" y="3200400"/>
            <a:ext cx="350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6811200" y="3200400"/>
            <a:ext cx="350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1143000" y="3581280"/>
            <a:ext cx="914040" cy="456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to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3124080" y="3581280"/>
            <a:ext cx="914040" cy="456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to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4800600" y="3581280"/>
            <a:ext cx="914040" cy="456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to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6629400" y="3581280"/>
            <a:ext cx="914040" cy="456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to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Modelo Lógico – Significado</a:t>
            </a: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389880" y="1636560"/>
            <a:ext cx="314676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tividades realizadas sob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grupo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478440" y="4911840"/>
            <a:ext cx="32749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ta prevista para la 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2372400" y="2519280"/>
            <a:ext cx="388152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mbio de actitud del grupo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4076640" y="4911840"/>
            <a:ext cx="376848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mbios realiz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erificables a través de indic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6"/>
          <p:cNvSpPr/>
          <p:nvPr/>
        </p:nvSpPr>
        <p:spPr>
          <a:xfrm>
            <a:off x="5343840" y="1635120"/>
            <a:ext cx="3716640" cy="63828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bjetivo deseado de primer ni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el cual se realizan las a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7"/>
          <p:cNvSpPr/>
          <p:nvPr/>
        </p:nvSpPr>
        <p:spPr>
          <a:xfrm>
            <a:off x="533160" y="2133360"/>
            <a:ext cx="360" cy="1600200"/>
          </a:xfrm>
          <a:prstGeom prst="line">
            <a:avLst/>
          </a:prstGeom>
          <a:ln w="381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28"/>
          <p:cNvSpPr/>
          <p:nvPr/>
        </p:nvSpPr>
        <p:spPr>
          <a:xfrm>
            <a:off x="7924680" y="2133360"/>
            <a:ext cx="360" cy="1600200"/>
          </a:xfrm>
          <a:prstGeom prst="line">
            <a:avLst/>
          </a:prstGeom>
          <a:ln w="381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29"/>
          <p:cNvSpPr/>
          <p:nvPr/>
        </p:nvSpPr>
        <p:spPr>
          <a:xfrm>
            <a:off x="4343400" y="2971800"/>
            <a:ext cx="360" cy="761760"/>
          </a:xfrm>
          <a:prstGeom prst="line">
            <a:avLst/>
          </a:prstGeom>
          <a:ln w="381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30"/>
          <p:cNvSpPr/>
          <p:nvPr/>
        </p:nvSpPr>
        <p:spPr>
          <a:xfrm flipV="1">
            <a:off x="2438280" y="3962160"/>
            <a:ext cx="360" cy="990720"/>
          </a:xfrm>
          <a:prstGeom prst="line">
            <a:avLst/>
          </a:prstGeom>
          <a:ln w="381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31"/>
          <p:cNvSpPr/>
          <p:nvPr/>
        </p:nvSpPr>
        <p:spPr>
          <a:xfrm flipV="1">
            <a:off x="6172200" y="3962160"/>
            <a:ext cx="360" cy="990720"/>
          </a:xfrm>
          <a:prstGeom prst="line">
            <a:avLst/>
          </a:prstGeom>
          <a:ln w="381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232920" y="3641760"/>
            <a:ext cx="1006920" cy="333000"/>
          </a:xfrm>
          <a:prstGeom prst="rect">
            <a:avLst/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986120" y="3657600"/>
            <a:ext cx="1197720" cy="333000"/>
          </a:xfrm>
          <a:prstGeom prst="rect">
            <a:avLst/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897360" y="3657600"/>
            <a:ext cx="972000" cy="333000"/>
          </a:xfrm>
          <a:prstGeom prst="rect">
            <a:avLst/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fect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5693040" y="3657600"/>
            <a:ext cx="1005480" cy="333000"/>
          </a:xfrm>
          <a:prstGeom prst="rect">
            <a:avLst/>
          </a:prstGeom>
          <a:solidFill>
            <a:srgbClr val="ff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mpa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7485840" y="3657600"/>
            <a:ext cx="1119960" cy="333000"/>
          </a:xfrm>
          <a:prstGeom prst="rect">
            <a:avLst/>
          </a:prstGeom>
          <a:solidFill>
            <a:srgbClr val="ff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enef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1676520" y="3200400"/>
            <a:ext cx="7238520" cy="137124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610200" y="3200400"/>
            <a:ext cx="350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2467800" y="3200400"/>
            <a:ext cx="350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3991680" y="3200400"/>
            <a:ext cx="350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5410800" y="3200400"/>
            <a:ext cx="350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6811200" y="3200400"/>
            <a:ext cx="350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5"/>
          <p:cNvSpPr/>
          <p:nvPr/>
        </p:nvSpPr>
        <p:spPr>
          <a:xfrm>
            <a:off x="1143000" y="3581280"/>
            <a:ext cx="914040" cy="456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to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6"/>
          <p:cNvSpPr/>
          <p:nvPr/>
        </p:nvSpPr>
        <p:spPr>
          <a:xfrm>
            <a:off x="3124080" y="3581280"/>
            <a:ext cx="914040" cy="456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to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7"/>
          <p:cNvSpPr/>
          <p:nvPr/>
        </p:nvSpPr>
        <p:spPr>
          <a:xfrm>
            <a:off x="4800600" y="3581280"/>
            <a:ext cx="914040" cy="456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to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8"/>
          <p:cNvSpPr/>
          <p:nvPr/>
        </p:nvSpPr>
        <p:spPr>
          <a:xfrm>
            <a:off x="6629400" y="3581280"/>
            <a:ext cx="914040" cy="456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to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1766520" y="5032440"/>
            <a:ext cx="2052720" cy="333000"/>
          </a:xfrm>
          <a:prstGeom prst="rect">
            <a:avLst/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grado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1"/>
          <p:cNvSpPr/>
          <p:nvPr/>
        </p:nvSpPr>
        <p:spPr>
          <a:xfrm>
            <a:off x="4260600" y="5032440"/>
            <a:ext cx="2054160" cy="333000"/>
          </a:xfrm>
          <a:prstGeom prst="rect">
            <a:avLst/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maduración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2"/>
          <p:cNvSpPr/>
          <p:nvPr/>
        </p:nvSpPr>
        <p:spPr>
          <a:xfrm>
            <a:off x="6732000" y="4991040"/>
            <a:ext cx="2096640" cy="333000"/>
          </a:xfrm>
          <a:prstGeom prst="rect">
            <a:avLst/>
          </a:prstGeom>
          <a:solidFill>
            <a:srgbClr val="ff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un  NO  Lograd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5"/>
          <p:cNvSpPr/>
          <p:nvPr/>
        </p:nvSpPr>
        <p:spPr>
          <a:xfrm>
            <a:off x="1676520" y="4727520"/>
            <a:ext cx="7238520" cy="81972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Referencia de Col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Modelo Lógico – Componente I</a:t>
            </a: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32920" y="3641760"/>
            <a:ext cx="1006920" cy="333000"/>
          </a:xfrm>
          <a:prstGeom prst="rect">
            <a:avLst/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986120" y="3657600"/>
            <a:ext cx="1197720" cy="333000"/>
          </a:xfrm>
          <a:prstGeom prst="rect">
            <a:avLst/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897360" y="3657600"/>
            <a:ext cx="972000" cy="333000"/>
          </a:xfrm>
          <a:prstGeom prst="rect">
            <a:avLst/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fect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5693040" y="3657600"/>
            <a:ext cx="1005480" cy="333000"/>
          </a:xfrm>
          <a:prstGeom prst="rect">
            <a:avLst/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mpa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485840" y="3657600"/>
            <a:ext cx="1119960" cy="333000"/>
          </a:xfrm>
          <a:prstGeom prst="rect">
            <a:avLst/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enef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1676520" y="3200400"/>
            <a:ext cx="7238520" cy="137124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610200" y="3200400"/>
            <a:ext cx="350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2467800" y="3200400"/>
            <a:ext cx="350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991680" y="3200400"/>
            <a:ext cx="350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5410800" y="3200400"/>
            <a:ext cx="350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6811200" y="3200400"/>
            <a:ext cx="350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3"/>
          <p:cNvSpPr/>
          <p:nvPr/>
        </p:nvSpPr>
        <p:spPr>
          <a:xfrm>
            <a:off x="1143000" y="3581280"/>
            <a:ext cx="914040" cy="456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to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3124080" y="3581280"/>
            <a:ext cx="914040" cy="456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to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4800600" y="3581280"/>
            <a:ext cx="914040" cy="456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to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6629400" y="3581280"/>
            <a:ext cx="914040" cy="456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to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1993680" y="5081760"/>
            <a:ext cx="1596960" cy="272160"/>
          </a:xfrm>
          <a:prstGeom prst="rect">
            <a:avLst/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grado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4490640" y="5081760"/>
            <a:ext cx="1593720" cy="272160"/>
          </a:xfrm>
          <a:prstGeom prst="rect">
            <a:avLst/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 maduración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6964920" y="5040360"/>
            <a:ext cx="1629000" cy="272160"/>
          </a:xfrm>
          <a:prstGeom prst="rect">
            <a:avLst/>
          </a:prstGeom>
          <a:solidFill>
            <a:srgbClr val="ff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un  NO  Logrado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1676520" y="4727520"/>
            <a:ext cx="7238520" cy="81972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Referencia de Col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Modelo Lógico – Componente II</a:t>
            </a: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32920" y="3641760"/>
            <a:ext cx="1006920" cy="333000"/>
          </a:xfrm>
          <a:prstGeom prst="rect">
            <a:avLst/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986120" y="3657600"/>
            <a:ext cx="1197720" cy="333000"/>
          </a:xfrm>
          <a:prstGeom prst="rect">
            <a:avLst/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3897360" y="3657600"/>
            <a:ext cx="972000" cy="333000"/>
          </a:xfrm>
          <a:prstGeom prst="rect">
            <a:avLst/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fect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5693040" y="3657600"/>
            <a:ext cx="1005480" cy="333000"/>
          </a:xfrm>
          <a:prstGeom prst="rect">
            <a:avLst/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mpa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7485840" y="3657600"/>
            <a:ext cx="1119960" cy="333000"/>
          </a:xfrm>
          <a:prstGeom prst="rect">
            <a:avLst/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enef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676520" y="3200400"/>
            <a:ext cx="7238520" cy="137124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610200" y="3200400"/>
            <a:ext cx="350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2467800" y="3200400"/>
            <a:ext cx="350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3991680" y="3200400"/>
            <a:ext cx="350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5410800" y="3200400"/>
            <a:ext cx="350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6811200" y="3200400"/>
            <a:ext cx="350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3"/>
          <p:cNvSpPr/>
          <p:nvPr/>
        </p:nvSpPr>
        <p:spPr>
          <a:xfrm>
            <a:off x="1143000" y="3581280"/>
            <a:ext cx="914040" cy="456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to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14"/>
          <p:cNvSpPr/>
          <p:nvPr/>
        </p:nvSpPr>
        <p:spPr>
          <a:xfrm>
            <a:off x="3124080" y="3581280"/>
            <a:ext cx="914040" cy="456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to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15"/>
          <p:cNvSpPr/>
          <p:nvPr/>
        </p:nvSpPr>
        <p:spPr>
          <a:xfrm>
            <a:off x="4800600" y="3581280"/>
            <a:ext cx="914040" cy="456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to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16"/>
          <p:cNvSpPr/>
          <p:nvPr/>
        </p:nvSpPr>
        <p:spPr>
          <a:xfrm>
            <a:off x="6629400" y="3581280"/>
            <a:ext cx="914040" cy="456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to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1766520" y="5032440"/>
            <a:ext cx="2052720" cy="333000"/>
          </a:xfrm>
          <a:prstGeom prst="rect">
            <a:avLst/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grado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4260600" y="5032440"/>
            <a:ext cx="2054160" cy="333000"/>
          </a:xfrm>
          <a:prstGeom prst="rect">
            <a:avLst/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maduración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6732000" y="4991040"/>
            <a:ext cx="2096640" cy="333000"/>
          </a:xfrm>
          <a:prstGeom prst="rect">
            <a:avLst/>
          </a:prstGeom>
          <a:solidFill>
            <a:srgbClr val="ff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un  NO  Lograd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0"/>
          <p:cNvSpPr/>
          <p:nvPr/>
        </p:nvSpPr>
        <p:spPr>
          <a:xfrm>
            <a:off x="1676520" y="4727520"/>
            <a:ext cx="7238520" cy="81972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Referencia de Col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Modelo Lógico – Componente III</a:t>
            </a: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Recomendaciones a la comisión directiva</a:t>
            </a:r>
            <a:endParaRPr b="0" lang="es-E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700200" y="1600200"/>
            <a:ext cx="76989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ver el enfoque actual  y avanzar en la integración PUBLICO-PRIV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es el pilar de reaseguro de SOSTENIBIIDA INSTITU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698400" y="2558880"/>
            <a:ext cx="72450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bajar el concepto de dotar de mayor flexibilidad en la asignación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licación de los recursos al Equipo Técn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740160" y="3581280"/>
            <a:ext cx="8320680" cy="3107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bajar el  enfoque integrador de la Política MyPE en donde actú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strumentos de acción directa como política ac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rmativas como herramienta que promueva el Desarrollo Económ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través de aumentar la base de cantidad de P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mplificación de procesos administrativos de registración de empre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o parte de un estado mas eficiente y menos costoso p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formal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inanciamiento como instrumento que apalanque iniciati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formación estadística como insumo básico para el diseño de polí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strumentos ap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iseño predeterminado">
  <a:themeElements>
    <a:clrScheme name="Diseño predeterminado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iseño predeterminado">
  <a:themeElements>
    <a:clrScheme name="Diseño predeterminado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  <Words>287</Words>
  <Paragraphs>101</Paragraphs>
  <Company>.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6T11:34:03Z</dcterms:created>
  <dc:creator>jbertero</dc:creator>
  <dc:description/>
  <dc:language>en-US</dc:language>
  <cp:lastModifiedBy>anarod</cp:lastModifiedBy>
  <dcterms:modified xsi:type="dcterms:W3CDTF">2010-07-12T04:11:20Z</dcterms:modified>
  <cp:revision>7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5</vt:r8>
  </property>
</Properties>
</file>