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0CBA5-8F1A-4AF2-A1EA-47ED9B966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5EEB-67AE-470D-965C-BD921A366132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F2252-D538-4E8C-AAEA-EC51F44D1893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573E2-2702-44DA-96CC-2C24853D3CBE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06400" y="210960"/>
            <a:ext cx="5195880" cy="3897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97960" y="4344480"/>
            <a:ext cx="5612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86560" y="8967960"/>
            <a:ext cx="2286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C10A1-6A71-4414-9DF2-753BC4F96DD3}" type="slidenum">
              <a:rPr b="0" lang="en-US" sz="8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13081-BD32-4E2B-BC9C-29F79C9B3C6C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40657-463B-4BCF-8EFC-4E149809849D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548-BA85-4BC2-A7EE-23BB5C6E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32A-6D14-4838-AE16-F1AE102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24C-2DEF-4AF0-8F47-FEBBFC0A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405-578D-4692-8AC6-1FA42BFB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7F3-D6DB-4F12-BA4F-B106BF34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417D-C1D4-47D3-8163-0AD457A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2DF4-B00D-49D0-95C3-D32C2A73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5420-D1FB-4B23-B834-E460450E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7E48-1848-448A-A2BD-2CBB324E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419-F4DC-492B-ACB9-E409610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4613-5D71-4A47-AF46-D494FBF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2B9-A15D-44F9-A5A6-96599AF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0F3-424F-48D9-98AF-64BCB75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293F-B5F6-4E39-99D4-93D15D8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401B-630C-4566-B086-7E89CD9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BC0-3A4E-4A73-8D13-045FBF1E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2F2-367B-4448-AF11-E32F6D57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E471-E6F9-4117-B0EB-3E026D92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293A-795F-43C3-A6E0-327657B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C61D-140B-4795-99C6-D11539C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04F3-5E39-4C2D-85C4-A9BC76B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358B-F0B0-4A47-8795-B674662B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A73-4360-4071-9C87-924496C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8D15-8A41-4017-B01C-A414FB9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1A37-FC5F-428A-959A-4DAC77FE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4449-2B23-4566-B082-A1CA7D9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EF65-7F50-4D36-86E7-69598DF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EC98-248C-460D-B676-F76EA7D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E94A-1CA2-4AE5-BA8E-A2FC0B9D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08A7-F9BE-4805-B69E-FA42C93B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A711-4535-4758-8EB8-DCDAE24D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7914-5CFE-4779-8345-D1259C9E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9BCC-5AAE-47BC-91A1-485DFE0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B83-6933-4478-B25D-69480BB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DC9E-C065-4601-AF01-5E3AC2E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3C58-5E91-407E-A52B-E71837A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571E-0B19-489A-B3D0-EE44427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A857-D9C0-4CDE-AF7F-B7D1FFE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DAA2-DF09-4BBA-8A78-816F066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C21A-6B12-420D-94CF-2495485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F316-9BCF-4DFA-90B5-CA9C558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A222-5FD8-4B66-976F-28EA9C15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D4B7-801C-4217-9EC9-7782491C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BD3C-8938-424F-BE33-98A1B393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5A6-ED42-4EDE-A1E0-8D8437A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9934-DAA9-4BB8-A6D3-36888D8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2C95-DA57-483B-A76A-E48C3DC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7E591-ADF7-47A9-82EA-2C8964F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72D4-5B07-4E45-B9C7-E1D182F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FFB8-4789-4891-94CE-160570C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BF8C-CF05-43C3-BC67-A72475C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92E6-1BEB-4E3B-827F-EBD2F134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85176-3F06-44BA-BB3A-CD79C1E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4A59-BF0E-4E7C-9FCF-60E38CA5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FCD23-4B57-4B20-8DA9-16E3EBFE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944-58AC-45B3-B3DF-BA7A47B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904E-3560-4243-BAC7-287A8521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9C9-7060-406B-8AD4-3428E93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9BD-FCCF-4E84-AC80-DD411F5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7A9-7B75-4CD7-B34D-A2F4B3B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FDAAE-4B1D-4204-95EF-30DE23F511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EBFF9-9999-452F-9BB7-2B2734089B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EA37E-1BB9-47F4-BB94-AA1FB79B19A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17D48-AAD2-4C26-9726-6D798B5D322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B8CE5-D6EA-4574-9926-D80D694E59A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000" spc="-1" strike="noStrike">
                <a:solidFill>
                  <a:srgbClr val="0399cd"/>
                </a:solidFill>
                <a:latin typeface="Arial"/>
              </a:rPr>
              <a:t>Objetivo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Análisis riesgos de construcción de obras de transporte en Haití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Revisión de Proyectos en Ejecució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34"/>
                </a:solidFill>
                <a:latin typeface="Arial"/>
                <a:ea typeface="Times New Roman"/>
              </a:rPr>
              <a:t>Riesgos materializado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34"/>
                </a:solidFill>
                <a:latin typeface="Arial"/>
                <a:ea typeface="Times New Roman"/>
              </a:rPr>
              <a:t>Medidas de mitigació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34"/>
                </a:solidFill>
                <a:latin typeface="Arial"/>
                <a:ea typeface="Times New Roman"/>
              </a:rPr>
              <a:t>Riesgos residual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La operación HA-L1058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600" spc="-1" strike="noStrike">
                <a:solidFill>
                  <a:srgbClr val="0399cd"/>
                </a:solidFill>
                <a:latin typeface="Arial"/>
              </a:rPr>
              <a:t>Los factores de riesgos principales en los proyectos de Transporte en Haití</a:t>
            </a:r>
            <a:endParaRPr b="0" lang="en-US" sz="2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44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Inestabilidad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institucional</a:t>
            </a: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polític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Debilidades contraparte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diseños de Ingeniería </a:t>
            </a: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no disponibles o incomple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debilidad en la fiscalización y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control sobrecos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carencia de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recursos de contrapart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dificultades de implementar políticas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ambientales/sociales </a:t>
            </a: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(e.g. expropiaciones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Mercado de Construcció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Oligopolio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grande variación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costos insumos y construcció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retrasos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 importación de equip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Desastres </a:t>
            </a: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Naturales (lluvias, huracanes, sismos)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Necesidades de </a:t>
            </a:r>
            <a:r>
              <a:rPr b="1" lang="es-ES" sz="1800" spc="-1" strike="noStrike">
                <a:solidFill>
                  <a:srgbClr val="292934"/>
                </a:solidFill>
                <a:latin typeface="Arial"/>
              </a:rPr>
              <a:t>reasignación de recursos </a:t>
            </a:r>
            <a:r>
              <a:rPr b="0" lang="es-ES" sz="1800" spc="-1" strike="noStrike">
                <a:solidFill>
                  <a:srgbClr val="292934"/>
                </a:solidFill>
                <a:latin typeface="Arial"/>
              </a:rPr>
              <a:t>a otras obra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7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Rectangle 89"/>
          <p:cNvSpPr/>
          <p:nvPr/>
        </p:nvSpPr>
        <p:spPr>
          <a:xfrm>
            <a:off x="7491240" y="5780160"/>
            <a:ext cx="164340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7480" y="896760"/>
          <a:ext cx="1911240" cy="5838840"/>
        </p:xfrm>
        <a:graphic>
          <a:graphicData uri="http://schemas.openxmlformats.org/drawingml/2006/table">
            <a:tbl>
              <a:tblPr/>
              <a:tblGrid>
                <a:gridCol w="1911240"/>
              </a:tblGrid>
              <a:tr h="71280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eració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c697c"/>
                    </a:solidFill>
                  </a:tcPr>
                </a:tc>
              </a:tr>
              <a:tr h="966960">
                <a:tc>
                  <a:txBody>
                    <a:bodyPr lIns="63360" rIns="6336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Goave-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d-Negres (2005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$ 51M/US$57M/57KM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336680">
                <a:tc>
                  <a:txBody>
                    <a:bodyPr lIns="63360" rIns="6336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n Repos-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int Marc (2008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$71M/US$ 98M / 71KM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  <a:tr h="1488960">
                <a:tc>
                  <a:txBody>
                    <a:bodyPr lIns="63360" rIns="6336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s Cayes-Jeremie (2009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$ 100M/ US$ 132 / 69KM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  <a:tr h="1333440">
                <a:tc>
                  <a:txBody>
                    <a:bodyPr lIns="63360" rIns="6336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ix-de Bouquet-Fond Parisien (2011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$30M/ 32KM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139840" y="938160"/>
          <a:ext cx="6735960" cy="5904000"/>
        </p:xfrm>
        <a:graphic>
          <a:graphicData uri="http://schemas.openxmlformats.org/drawingml/2006/table">
            <a:tbl>
              <a:tblPr/>
              <a:tblGrid>
                <a:gridCol w="2428920"/>
                <a:gridCol w="2432160"/>
                <a:gridCol w="1874880"/>
              </a:tblGrid>
              <a:tr h="73980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ncipales Riesgos Materializado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c697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dida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c697c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iesgos Residual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c697c"/>
                    </a:solidFill>
                  </a:tcPr>
                </a:tc>
              </a:tr>
              <a:tr h="8748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Sism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Incremento costos insumo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éstamo Suplementari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Ejecución Concluid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068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Aumento especificaciones técnica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opuestas en cima del presupuest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Incremento costo de insumo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Lluvias/sism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éstamo Suplementari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Transferencia recursos otro préstamo 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Fortalecimiento Supervisión y Fiscalización UCE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Actualmente ejecución satisfactoria, riesgos bajo control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  <a:tr h="150948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complejidades de obras no prevista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opuestas en cima del presupuest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lluvias / sismo (reasignación recursos a PAP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incremento costo de insumo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retraso expropiacione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otesto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Préstamo Suplementari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seguimiento contraparte en la implementación de políticas salvaguardia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fortalecimiento UCE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Auditorias técnica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Auditoria ambientale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a53926"/>
                          </a:solidFill>
                          <a:latin typeface="Calibri"/>
                          <a:ea typeface="Calibri"/>
                        </a:rPr>
                        <a:t>Retraso expropiacione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a53926"/>
                          </a:solidFill>
                          <a:latin typeface="Calibri"/>
                          <a:ea typeface="Calibri"/>
                        </a:rPr>
                        <a:t>Riesgo de rompimiento contrato constructor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  <a:tr h="1389240"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 u="sng">
                          <a:solidFill>
                            <a:srgbClr val="292934"/>
                          </a:solidFill>
                          <a:uFillTx/>
                          <a:latin typeface="Calibri"/>
                          <a:ea typeface="Calibri"/>
                        </a:rPr>
                        <a:t>Riesgos / factores potenciales</a:t>
                      </a:r>
                      <a:r>
                        <a:rPr b="0" lang="es-CO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: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lluvias /inundacione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diseños de ingeniería insuficiente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transferencia de recursos a otra obra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 u="sng">
                          <a:solidFill>
                            <a:srgbClr val="292934"/>
                          </a:solidFill>
                          <a:uFillTx/>
                          <a:latin typeface="Calibri"/>
                          <a:ea typeface="Calibri"/>
                        </a:rPr>
                        <a:t>Mitigación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Licitación condicionada a diseños finales o design/build con precio fijo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Fortalecimiento supervisión TSP (2 especialistas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a53926"/>
                          </a:solidFill>
                          <a:latin typeface="Calibri"/>
                          <a:ea typeface="Calibri"/>
                        </a:rPr>
                        <a:t>Reducción especificaciones técnicas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a53926"/>
                          </a:solidFill>
                          <a:latin typeface="Calibri"/>
                          <a:ea typeface="Calibri"/>
                        </a:rPr>
                        <a:t>Reducción del alcance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ee4"/>
                    </a:solidFill>
                  </a:tcPr>
                </a:tc>
              </a:tr>
            </a:tbl>
          </a:graphicData>
        </a:graphic>
      </p:graphicFrame>
      <p:pic>
        <p:nvPicPr>
          <p:cNvPr id="234" name="Pentagon 7" descr=""/>
          <p:cNvPicPr/>
          <p:nvPr/>
        </p:nvPicPr>
        <p:blipFill>
          <a:blip r:embed="rId1"/>
          <a:stretch/>
        </p:blipFill>
        <p:spPr>
          <a:xfrm>
            <a:off x="7047000" y="2011320"/>
            <a:ext cx="1895400" cy="560520"/>
          </a:xfrm>
          <a:prstGeom prst="rect">
            <a:avLst/>
          </a:prstGeom>
          <a:ln w="0">
            <a:noFill/>
          </a:ln>
        </p:spPr>
      </p:pic>
      <p:sp>
        <p:nvSpPr>
          <p:cNvPr id="235" name="Title 1"/>
          <p:cNvSpPr/>
          <p:nvPr/>
        </p:nvSpPr>
        <p:spPr>
          <a:xfrm>
            <a:off x="487440" y="42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99cd"/>
                </a:solidFill>
                <a:latin typeface="Arial"/>
              </a:rPr>
              <a:t>Principales Proyectos en Ejecución/ Preparació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entagon 10" descr=""/>
          <p:cNvPicPr/>
          <p:nvPr/>
        </p:nvPicPr>
        <p:blipFill>
          <a:blip r:embed="rId2"/>
          <a:stretch/>
        </p:blipFill>
        <p:spPr>
          <a:xfrm>
            <a:off x="7047000" y="6278400"/>
            <a:ext cx="1895400" cy="560520"/>
          </a:xfrm>
          <a:prstGeom prst="rect">
            <a:avLst/>
          </a:prstGeom>
          <a:ln w="0">
            <a:noFill/>
          </a:ln>
        </p:spPr>
      </p:pic>
      <p:pic>
        <p:nvPicPr>
          <p:cNvPr id="237" name="Pentagon 9" descr=""/>
          <p:cNvPicPr/>
          <p:nvPr/>
        </p:nvPicPr>
        <p:blipFill>
          <a:blip r:embed="rId3"/>
          <a:stretch/>
        </p:blipFill>
        <p:spPr>
          <a:xfrm>
            <a:off x="7047000" y="4956120"/>
            <a:ext cx="1895400" cy="560520"/>
          </a:xfrm>
          <a:prstGeom prst="rect">
            <a:avLst/>
          </a:prstGeom>
          <a:ln w="0">
            <a:noFill/>
          </a:ln>
        </p:spPr>
      </p:pic>
      <p:pic>
        <p:nvPicPr>
          <p:cNvPr id="238" name="Pentagon 14" descr=""/>
          <p:cNvPicPr/>
          <p:nvPr/>
        </p:nvPicPr>
        <p:blipFill>
          <a:blip r:embed="rId4"/>
          <a:stretch/>
        </p:blipFill>
        <p:spPr>
          <a:xfrm>
            <a:off x="7047000" y="3297240"/>
            <a:ext cx="1895400" cy="55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4913280" y="1081080"/>
            <a:ext cx="3876840" cy="2779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399cd"/>
                </a:solidFill>
                <a:latin typeface="Arial"/>
              </a:rPr>
              <a:t>Características de los Proyectos</a:t>
            </a:r>
            <a:br>
              <a:rPr sz="3000"/>
            </a:br>
            <a:r>
              <a:rPr b="1" lang="es-ES" sz="3000" spc="-1" strike="noStrike">
                <a:solidFill>
                  <a:srgbClr val="0399cd"/>
                </a:solidFill>
                <a:latin typeface="Arial"/>
              </a:rPr>
              <a:t>y Componentes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7711920" y="3646440"/>
            <a:ext cx="97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800" spc="-1" strike="noStrike">
                <a:solidFill>
                  <a:srgbClr val="292934"/>
                </a:solidFill>
                <a:latin typeface="Arial"/>
              </a:rPr>
              <a:t>* No incluye UCE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98440" y="1944720"/>
            <a:ext cx="4221000" cy="3095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1417680" y="311796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800" spc="-1" strike="noStrike">
                <a:solidFill>
                  <a:srgbClr val="5a4830"/>
                </a:solidFill>
                <a:latin typeface="Arial"/>
              </a:rPr>
              <a:t>Alta especificaciones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800" spc="-1" strike="noStrike">
                <a:solidFill>
                  <a:srgbClr val="5a4830"/>
                </a:solidFill>
                <a:latin typeface="Arial"/>
              </a:rPr>
              <a:t>técnicas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2326320" y="2435400"/>
            <a:ext cx="92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800" spc="-1" strike="noStrike">
                <a:solidFill>
                  <a:srgbClr val="5a4830"/>
                </a:solidFill>
                <a:latin typeface="Arial"/>
              </a:rPr>
              <a:t>Área montañosa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3395520" y="277956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800" spc="-1" strike="noStrike">
                <a:solidFill>
                  <a:srgbClr val="5a4830"/>
                </a:solidFill>
                <a:latin typeface="Arial"/>
              </a:rPr>
              <a:t>Área erosión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800" spc="-1" strike="noStrike">
                <a:solidFill>
                  <a:srgbClr val="5a4830"/>
                </a:solidFill>
                <a:latin typeface="Arial"/>
              </a:rPr>
              <a:t>inundaciones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4913280" y="3860640"/>
            <a:ext cx="4037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La operacion HA-L1058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3280" y="1297080"/>
            <a:ext cx="8772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92934"/>
                </a:solidFill>
                <a:latin typeface="Arial"/>
              </a:rPr>
              <a:t>Acciones en la preparación incorporan experiencias anteriores y reducen los riesgo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Diseños de Ejecutivos de Ingeniería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completos previo a licitación de las obra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Plan de Reasentamiento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(PRA) aprobado por el Banco, previo al Directorio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Fortalecimiento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 de la fiscalización de las obras por la UC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292934"/>
                </a:solidFill>
                <a:latin typeface="Arial"/>
              </a:rPr>
              <a:t>1 especialista </a:t>
            </a:r>
            <a:r>
              <a:rPr b="1" lang="es-ES" sz="1500" spc="-1" strike="noStrike">
                <a:solidFill>
                  <a:srgbClr val="292934"/>
                </a:solidFill>
                <a:latin typeface="Arial"/>
              </a:rPr>
              <a:t>obras de arte e hidráulica</a:t>
            </a:r>
            <a:endParaRPr b="0" lang="en-US" sz="1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Fortalecimiento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 salvaguardias ambientales por medio de especialistas en la UC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292934"/>
                </a:solidFill>
                <a:latin typeface="Arial"/>
              </a:rPr>
              <a:t>1 especialista </a:t>
            </a:r>
            <a:r>
              <a:rPr b="1" lang="es-ES" sz="1500" spc="-1" strike="noStrike">
                <a:solidFill>
                  <a:srgbClr val="292934"/>
                </a:solidFill>
                <a:latin typeface="Arial"/>
              </a:rPr>
              <a:t>ambiental / </a:t>
            </a:r>
            <a:r>
              <a:rPr b="0" lang="es-ES" sz="1500" spc="-1" strike="noStrike">
                <a:solidFill>
                  <a:srgbClr val="292934"/>
                </a:solidFill>
                <a:latin typeface="Arial"/>
              </a:rPr>
              <a:t>1 especialista </a:t>
            </a:r>
            <a:r>
              <a:rPr b="1" lang="es-ES" sz="1500" spc="-1" strike="noStrike">
                <a:solidFill>
                  <a:srgbClr val="292934"/>
                </a:solidFill>
                <a:latin typeface="Arial"/>
              </a:rPr>
              <a:t>social</a:t>
            </a:r>
            <a:endParaRPr b="0" lang="en-US" sz="1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Fortalecimiento capacidad </a:t>
            </a: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Mantenimiento Vial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en el Ministerio (MTPTEC)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Recursos adicionales para </a:t>
            </a: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reasentamiento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a ser determinado por el PRA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ts val="25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Costo por KM considera </a:t>
            </a: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características técnicas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del proyecto y las </a:t>
            </a:r>
            <a:r>
              <a:rPr b="1" lang="es-ES" sz="1700" spc="-1" strike="noStrike">
                <a:solidFill>
                  <a:srgbClr val="292934"/>
                </a:solidFill>
                <a:latin typeface="Arial"/>
              </a:rPr>
              <a:t>características especificas </a:t>
            </a:r>
            <a:r>
              <a:rPr b="0" lang="es-ES" sz="1700" spc="-1" strike="noStrike">
                <a:solidFill>
                  <a:srgbClr val="292934"/>
                </a:solidFill>
                <a:latin typeface="Arial"/>
              </a:rPr>
              <a:t>del terreno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ts val="25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6e2619"/>
                </a:solidFill>
                <a:latin typeface="Arial"/>
              </a:rPr>
              <a:t>Siguen riesgos residuales relacionados a la debilidad de la contraparte, al mercado de construcción y desastres naturale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ts val="2500"/>
              </a:lnSpc>
              <a:spcBef>
                <a:spcPts val="425"/>
              </a:spcBef>
              <a:spcAft>
                <a:spcPts val="601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59984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92934"/>
                </a:solidFill>
                <a:latin typeface="Arial"/>
              </a:rPr>
              <a:t>BACKUP</a:t>
            </a: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2533c"/>
                </a:solidFill>
                <a:latin typeface="Arial"/>
              </a:rPr>
              <a:t>Anex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81080" y="1735200"/>
            <a:ext cx="87138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4:35:32Z</dcterms:created>
  <dc:creator>Giulliane Fioravanti</dc:creator>
  <dc:description/>
  <dc:language>en-US</dc:language>
  <cp:lastModifiedBy>Inter-American Development Bank</cp:lastModifiedBy>
  <dcterms:modified xsi:type="dcterms:W3CDTF">2013-08-27T13:14:55Z</dcterms:modified>
  <cp:revision>286</cp:revision>
  <dc:subject/>
  <dc:title>Analysis of Construction Costs in Hai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46CF21643EE8D14686A648AA6DAD089200C067467F3A030C4C8E6A93A2CA0775AF</vt:lpwstr>
  </property>
  <property fmtid="{D5CDD505-2E9C-101B-9397-08002B2CF9AE}" pid="6" name="Country">
    <vt:lpwstr/>
  </property>
  <property fmtid="{D5CDD505-2E9C-101B-9397-08002B2CF9AE}" pid="7" name="Disclosure Activity">
    <vt:lpwstr>Loan Proposal</vt:lpwstr>
  </property>
  <property fmtid="{D5CDD505-2E9C-101B-9397-08002B2CF9AE}" pid="8" name="Division or Unit">
    <vt:lpwstr>INE/TSP</vt:lpwstr>
  </property>
  <property fmtid="{D5CDD505-2E9C-101B-9397-08002B2CF9AE}" pid="9" name="Document Author">
    <vt:lpwstr>Fioravanti, Reinaldo Daniel</vt:lpwstr>
  </property>
  <property fmtid="{D5CDD505-2E9C-101B-9397-08002B2CF9AE}" pid="10" name="Document Language IDB">
    <vt:lpwstr>English</vt:lpwstr>
  </property>
  <property fmtid="{D5CDD505-2E9C-101B-9397-08002B2CF9AE}" pid="11" name="Fiscal Year IDB">
    <vt:lpwstr>2013</vt:lpwstr>
  </property>
  <property fmtid="{D5CDD505-2E9C-101B-9397-08002B2CF9AE}" pid="12" name="From:">
    <vt:lpwstr/>
  </property>
  <property fmtid="{D5CDD505-2E9C-101B-9397-08002B2CF9AE}" pid="13" name="Function Operations IDB">
    <vt:lpwstr>9;#Project Preparation, Planning and Design|29ca0c72-1fc4-435f-a09c-28585cb5eac9</vt:lpwstr>
  </property>
  <property fmtid="{D5CDD505-2E9C-101B-9397-08002B2CF9AE}" pid="14" name="Fund IDB">
    <vt:lpwstr/>
  </property>
  <property fmtid="{D5CDD505-2E9C-101B-9397-08002B2CF9AE}" pid="15" name="IDBDocs Number">
    <vt:lpwstr>38020282</vt:lpwstr>
  </property>
  <property fmtid="{D5CDD505-2E9C-101B-9397-08002B2CF9AE}" pid="16" name="Identifier">
    <vt:lpwstr> ANNEX</vt:lpwstr>
  </property>
  <property fmtid="{D5CDD505-2E9C-101B-9397-08002B2CF9AE}" pid="17" name="Migration Info">
    <vt:lpwstr>&lt;Data&gt;&lt;APPLICATION&gt;MS POWERPOINT&lt;/APPLICATION&gt;&lt;USER_STAGE&gt;Loan Proposal&lt;/USER_STAGE&gt;&lt;APPROVAL_CODE&gt;DE&lt;/APPROVAL_CODE&gt;&lt;APPROVAL_DESC&gt;Board of Executive Directors&lt;/APPROVAL_DESC&gt;&lt;PD_OBJ_TYPE&gt;0&lt;/PD_OBJ_TYPE&gt;&lt;MAKERECORD&gt;N&lt;/MAKERECORD&gt;&lt;PD_FILEPT_NO&gt;PO-HA-L1079</vt:lpwstr>
  </property>
  <property fmtid="{D5CDD505-2E9C-101B-9397-08002B2CF9AE}" pid="18" name="Other Author">
    <vt:lpwstr/>
  </property>
  <property fmtid="{D5CDD505-2E9C-101B-9397-08002B2CF9AE}" pid="19" name="Project Document Type">
    <vt:lpwstr/>
  </property>
  <property fmtid="{D5CDD505-2E9C-101B-9397-08002B2CF9AE}" pid="20" name="Project Number">
    <vt:lpwstr>HA-L1079</vt:lpwstr>
  </property>
  <property fmtid="{D5CDD505-2E9C-101B-9397-08002B2CF9AE}" pid="21" name="Sector IDB">
    <vt:lpwstr/>
  </property>
  <property fmtid="{D5CDD505-2E9C-101B-9397-08002B2CF9AE}" pid="22" name="Series Operations IDB">
    <vt:lpwstr>16</vt:lpwstr>
  </property>
  <property fmtid="{D5CDD505-2E9C-101B-9397-08002B2CF9AE}" pid="23" name="Series_x0020_Operations_x0020_IDB">
    <vt:lpwstr>16;#Project Profile (PP)|ac5f0c28-f2f6-431c-8d05-62f851b6a822</vt:lpwstr>
  </property>
  <property fmtid="{D5CDD505-2E9C-101B-9397-08002B2CF9AE}" pid="24" name="Sub_x005F_x002d_Sector">
    <vt:lpwstr/>
  </property>
  <property fmtid="{D5CDD505-2E9C-101B-9397-08002B2CF9AE}" pid="25" name="TaxCatchAll">
    <vt:lpwstr>16;#Project Profile (PP)|ac5f0c28-f2f6-431c-8d05-62f851b6a822;#9;#Project Preparation, Planning and Design|29ca0c72-1fc4-435f-a09c-28585cb5eac9</vt:lpwstr>
  </property>
  <property fmtid="{D5CDD505-2E9C-101B-9397-08002B2CF9AE}" pid="26" name="TaxKeyword">
    <vt:lpwstr/>
  </property>
  <property fmtid="{D5CDD505-2E9C-101B-9397-08002B2CF9AE}" pid="27" name="TaxKeywordTaxHTField">
    <vt:lpwstr/>
  </property>
  <property fmtid="{D5CDD505-2E9C-101B-9397-08002B2CF9AE}" pid="28" name="To:">
    <vt:lpwstr/>
  </property>
  <property fmtid="{D5CDD505-2E9C-101B-9397-08002B2CF9AE}" pid="29" name="Webtopic">
    <vt:lpwstr>TR-TRP</vt:lpwstr>
  </property>
  <property fmtid="{D5CDD505-2E9C-101B-9397-08002B2CF9AE}" pid="30" name="c456731dbc904a5fb605ec556c33e883">
    <vt:lpwstr/>
  </property>
  <property fmtid="{D5CDD505-2E9C-101B-9397-08002B2CF9AE}" pid="31" name="display_urn:schemas-microsoft-com:office:office#Author">
    <vt:lpwstr>Fioravanti, Reinaldo Daniel</vt:lpwstr>
  </property>
  <property fmtid="{D5CDD505-2E9C-101B-9397-08002B2CF9AE}" pid="32" name="display_urn:schemas-microsoft-com:office:office#Editor">
    <vt:lpwstr>Guerrero, Pablo</vt:lpwstr>
  </property>
  <property fmtid="{D5CDD505-2E9C-101B-9397-08002B2CF9AE}" pid="33" name="e559ffcc31d34167856647188be35015">
    <vt:lpwstr/>
  </property>
  <property fmtid="{D5CDD505-2E9C-101B-9397-08002B2CF9AE}" pid="34" name="fd0e48b6a66848a9885f717e5bbf40c4">
    <vt:lpwstr>Project Preparation, Planning and Design|29ca0c72-1fc4-435f-a09c-28585cb5eac9</vt:lpwstr>
  </property>
  <property fmtid="{D5CDD505-2E9C-101B-9397-08002B2CF9AE}" pid="35" name="j8b96605ee2f4c4e988849e658583fee">
    <vt:lpwstr/>
  </property>
  <property fmtid="{D5CDD505-2E9C-101B-9397-08002B2CF9AE}" pid="36" name="m555d3814edf4817b4410a4e57f94ce9">
    <vt:lpwstr/>
  </property>
  <property fmtid="{D5CDD505-2E9C-101B-9397-08002B2CF9AE}" pid="37" name="o5138a91267540169645e33d09c9ddc6">
    <vt:lpwstr>Project Profile (PP)|ac5f0c28-f2f6-431c-8d05-62f851b6a822</vt:lpwstr>
  </property>
</Properties>
</file>