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BAA0-BA5A-4037-9453-6BB05714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9ED7-38E5-4D09-8642-375532CF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1B59-BC48-437B-9387-299987561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0229-1EFC-4649-8DA1-2B2FD653C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1565-D1B5-4E50-8AC6-815310AA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1009-6823-4836-9DC5-2BF1CF62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3B29-1158-433C-A58E-04B5E1EB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116B-B62D-4F4E-A9FE-F36D79DF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5B63-02F9-490D-B7EE-5A6AD1AD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21ED-6D52-4425-B77B-3CF58CE8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375A-B21E-4535-98C1-CC71AF02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4166-0227-4900-B036-DA834C58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475737-85A1-406B-BB80-EA441EF355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87782B-3A02-48D6-9E59-68747ADFE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Templat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914400" y="2889360"/>
            <a:ext cx="6997680" cy="28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World Bank / IF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obal Insurance Conference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veloping Insurance in the Face of New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une 1 – 2,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ashington, D.C.</a:t>
            </a:r>
            <a:r>
              <a:rPr b="1" lang="de-CH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  <a:ea typeface="Arial"/>
              </a:rPr>
              <a:t>Rolf Hüp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7981c"/>
                </a:solidFill>
                <a:latin typeface="Arial"/>
              </a:rPr>
              <a:t>Some important Developments are supportive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D49174-168E-4423-9F45-CCA12D9659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457200" y="1306440"/>
            <a:ext cx="8321760" cy="43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ing banking services to the lower income and poor sectors wi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 an important 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orrespondent / agency ba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(phone) ba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Private Partnerships offer opportun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inking insurance with government subsidies to the poor (examp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ortunidades program in Mex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urance regulation is responding (in part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ing the simplification of products and insurance 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ing the concept of group sales versus individual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ng the rules on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ing insurance companies to serve rural areas (example In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7981c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7981c"/>
                </a:solidFill>
                <a:latin typeface="Arial"/>
              </a:rPr>
              <a:t>Sustainable Market Expansion</a:t>
            </a:r>
            <a:r>
              <a:rPr b="1" lang="de-CH" sz="2500" spc="-1" strike="noStrike">
                <a:solidFill>
                  <a:srgbClr val="f7981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1417320"/>
            <a:ext cx="87631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surance Industry can expand market penetration and insurance density in emerging economies through better focus and more innov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2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measures to drive financial inclusion are relevant: Banking, Credit, Sav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2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Private Partnerships involving Government and Development Agencies are necessary to reach the very bottom of the pyram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2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ing regulatory systems to the microinsurance market for ease of doing business - whilst protecting consumers – is most helpfu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2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ing capital to new and sustainable provider models will support the market expan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CB78F2-DE6F-4E95-9A4A-2B26BDE054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7981c"/>
                </a:solidFill>
                <a:latin typeface="Arial"/>
              </a:rPr>
              <a:t>An important Role for</a:t>
            </a:r>
            <a:r>
              <a:rPr b="1" lang="de-CH" sz="2500" spc="-1" strike="noStrike">
                <a:solidFill>
                  <a:srgbClr val="f7981c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7981c"/>
                </a:solidFill>
                <a:latin typeface="Arial"/>
              </a:rPr>
              <a:t>Multilatera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1417320"/>
            <a:ext cx="87631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1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38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laterals, at the juncture of the public and private sectors, can contribute by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3280" indent="10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38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uraging governments to include private sector insurance schem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ir social subsidy pro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3280" indent="10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38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ing regulatory changes towards adaption of insuran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tions on products and distribution of microinsur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3280" indent="10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38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ing educational programs on financial inclu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3280" indent="10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38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ing the inclusion of financial protection solutions 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 systems when investing in organizations that reach peop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Majo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3280" indent="10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38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ing microinsurance programs to Banking, Credit and Saving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3280" indent="10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38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izing or funding organizations that are focused on micro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urance and encourage successful models to increase their re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19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538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21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538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33280" indent="10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38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3280" indent="10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38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3280" indent="10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38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3280" indent="10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38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1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538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33280" indent="10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38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3280" indent="10440">
              <a:spcBef>
                <a:spcPts val="499"/>
              </a:spcBef>
              <a:tabLst>
                <a:tab algn="l" pos="0"/>
                <a:tab algn="l" pos="538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3280" indent="10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38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3280" indent="10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38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0387AB-F2E5-42A5-A083-252B893757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F4DE25-2857-4305-9184-B10C5AFADF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155520" y="277920"/>
            <a:ext cx="5905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7981c"/>
                </a:solidFill>
                <a:latin typeface="Arial"/>
              </a:rPr>
              <a:t>The ParaLife Case Study</a:t>
            </a:r>
            <a:r>
              <a:rPr b="1" lang="de-CH" sz="2500" spc="-1" strike="noStrike">
                <a:solidFill>
                  <a:srgbClr val="f7981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155520" y="1476360"/>
            <a:ext cx="8988480" cy="51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if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formed in 2007 (with IFC as one of the investo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s Operating Centers in Mexico (since 2007) and Colombia (since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expanding to 12 additional countries of Latin America, starting in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so f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over 1’300’000 of low income and poor customers with financial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ed over US$ 250’000’000 of life insurance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s reaching in excess of 2’000’000 customers by year-end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s to financially protect over 5’000’000 customer by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FC34B3-BEEA-44E4-BCF3-1ABA0C7220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57200" y="3429000"/>
            <a:ext cx="8229600" cy="28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Lif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rtenstrasse 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2 Zurich / Switzer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41 43 344 49 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x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41 43 344 49 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paralife.c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20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1944720" y="226836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 for your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533520" y="431640"/>
            <a:ext cx="7696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7981c"/>
                </a:solidFill>
                <a:latin typeface="Arial"/>
                <a:ea typeface="Arial"/>
              </a:rPr>
              <a:t>Increasing sustainable (Re-) Insurance Markets in Emerging Econom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6705720" y="534960"/>
            <a:ext cx="183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C93F9F-63E5-422A-95F6-2BF7286CFF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822240" y="1332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533520" y="1285920"/>
            <a:ext cx="8610480" cy="58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and international insurers are extensively present in emerg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es bu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6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dustry needs to adapt new business models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69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ectively serve these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499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income and poor people - the Majority - need financi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ion, howeve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6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rriers for them to access providers must be over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6992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measures towards facilitating financial inclusion contribu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expa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499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7981c"/>
                </a:solidFill>
                <a:latin typeface="Arial"/>
              </a:rPr>
              <a:t>The Insurance Industry in Emerging Markets</a:t>
            </a:r>
            <a:r>
              <a:rPr b="1" lang="de-CH" sz="2500" spc="-1" strike="noStrike">
                <a:solidFill>
                  <a:srgbClr val="f7981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ocal and international insurance companies are well implanted. They address the conventional marke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2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cording to a a study published by Swiss R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market penetration (insurance premium as %-age of GDP) is low; from less than 1% to 3% of GDP (versus 5% to 10% for industrial countri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market density for life insurance (premium per capita) is – in emerging economies - on average less than US$ 50 compared to some US$ 2’000 in industrial count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ditional insurers ser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ormal econom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 who are wealthy, in upper middle-income sectors and educ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 who are bank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less than 40% of people and 10% of busin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BF8B7E-CEC8-43E2-B023-DED5D978F0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D493EC-5EFB-41A1-A90A-E246907B20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"/>
          <p:cNvSpPr/>
          <p:nvPr/>
        </p:nvSpPr>
        <p:spPr>
          <a:xfrm>
            <a:off x="5796000" y="2205000"/>
            <a:ext cx="1152360" cy="936720"/>
          </a:xfrm>
          <a:prstGeom prst="flowChartExtra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"/>
          <p:cNvSpPr/>
          <p:nvPr/>
        </p:nvSpPr>
        <p:spPr>
          <a:xfrm rot="10800000">
            <a:off x="4355640" y="4005000"/>
            <a:ext cx="4032360" cy="1584360"/>
          </a:xfrm>
          <a:custGeom>
            <a:avLst/>
            <a:gdLst>
              <a:gd name="textAreaLeft" fmla="*/ 839880 w 4032360"/>
              <a:gd name="textAreaRight" fmla="*/ 3192480 w 4032360"/>
              <a:gd name="textAreaTop" fmla="*/ 330120 h 1584360"/>
              <a:gd name="textAreaBottom" fmla="*/ 125424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 rot="10800000">
            <a:off x="4788000" y="3573000"/>
            <a:ext cx="3168720" cy="1368360"/>
          </a:xfrm>
          <a:custGeom>
            <a:avLst/>
            <a:gdLst>
              <a:gd name="textAreaLeft" fmla="*/ 659880 w 3168720"/>
              <a:gd name="textAreaRight" fmla="*/ 2508840 w 3168720"/>
              <a:gd name="textAreaTop" fmla="*/ 285120 h 1368360"/>
              <a:gd name="textAreaBottom" fmla="*/ 108324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"/>
          <p:cNvSpPr/>
          <p:nvPr/>
        </p:nvSpPr>
        <p:spPr>
          <a:xfrm rot="10800000">
            <a:off x="5292360" y="3141360"/>
            <a:ext cx="2158920" cy="934920"/>
          </a:xfrm>
          <a:custGeom>
            <a:avLst/>
            <a:gdLst>
              <a:gd name="textAreaLeft" fmla="*/ 449640 w 2158920"/>
              <a:gd name="textAreaRight" fmla="*/ 1709280 w 2158920"/>
              <a:gd name="textAreaTop" fmla="*/ 194760 h 934920"/>
              <a:gd name="textAreaBottom" fmla="*/ 74016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575680" y="5013360"/>
            <a:ext cx="1788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insurance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d/government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5506920" y="3789360"/>
            <a:ext cx="1724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insurance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ommercially viab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5867280" y="2781360"/>
            <a:ext cx="10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dium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gh inc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>
            <a:off x="3708360" y="3141720"/>
            <a:ext cx="54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3708360" y="3213000"/>
            <a:ext cx="1803600" cy="20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de-CH" sz="11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de-CH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100" spc="-1" strike="noStrike">
                <a:solidFill>
                  <a:srgbClr val="000000"/>
                </a:solidFill>
                <a:latin typeface="Arial"/>
              </a:rPr>
              <a:t>$4/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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CH" sz="11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de-CH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100" spc="-1" strike="noStrike">
                <a:solidFill>
                  <a:srgbClr val="000000"/>
                </a:solidFill>
                <a:latin typeface="Arial"/>
              </a:rPr>
              <a:t>$2/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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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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Arial"/>
              </a:rPr>
              <a:t>$1.25/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7884000" y="2662200"/>
            <a:ext cx="1159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vention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urance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7815240" y="3789360"/>
            <a:ext cx="1123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6 billion peo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$ 33 bill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8016840" y="4941720"/>
            <a:ext cx="112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4 billion peo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$ 7 bill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7885080" y="4941720"/>
            <a:ext cx="12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8101080" y="5589720"/>
            <a:ext cx="10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6"/>
          <p:cNvSpPr/>
          <p:nvPr/>
        </p:nvSpPr>
        <p:spPr>
          <a:xfrm>
            <a:off x="5003640" y="49417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7"/>
          <p:cNvSpPr/>
          <p:nvPr/>
        </p:nvSpPr>
        <p:spPr>
          <a:xfrm>
            <a:off x="5364000" y="4076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5941440" y="5830920"/>
            <a:ext cx="248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Swiss Re Sigma No. 6/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roinsurance – risk protection for 4 billion peop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9"/>
          <p:cNvSpPr/>
          <p:nvPr/>
        </p:nvSpPr>
        <p:spPr>
          <a:xfrm rot="16200000">
            <a:off x="3411000" y="3656880"/>
            <a:ext cx="84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verty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0"/>
          <p:cNvSpPr/>
          <p:nvPr/>
        </p:nvSpPr>
        <p:spPr>
          <a:xfrm flipV="1">
            <a:off x="3708360" y="2133720"/>
            <a:ext cx="0" cy="35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426960" y="-228600"/>
            <a:ext cx="86169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7981c"/>
                </a:solidFill>
                <a:latin typeface="Arial"/>
              </a:rPr>
              <a:t>Potential Market Size of Global Microinsura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4"/>
          <p:cNvSpPr/>
          <p:nvPr/>
        </p:nvSpPr>
        <p:spPr>
          <a:xfrm>
            <a:off x="334800" y="1758960"/>
            <a:ext cx="337356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ording to World Bank statistic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e 4 billion people are in low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ome and poor se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urance solutions for them represent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potential market of US$ 30 – US$ 5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l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e 2.6 billion people represent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gment that is commercially viable f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nsurance indu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tive schemes for the po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ough Public Private Partnerships are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potential is easy to see bu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icult to real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7981c"/>
                </a:solidFill>
                <a:latin typeface="Arial"/>
              </a:rPr>
              <a:t>Vast underserved Marke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tional insurance products and services are not available or are not suitable fo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70% of people (who are in the middle or lower income sectors, poor or very poor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90% of all businesses (formal and informal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„Majority“ is underserved or not served at a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people of the Majority need insuranc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o, what barriers do they fac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key challenges for the insurance provide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can market penetration and density be increased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89652A-A1AA-466D-B82C-5476BE27B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7981c"/>
                </a:solidFill>
                <a:latin typeface="Arial"/>
              </a:rPr>
              <a:t>The Majority needs and wants Financial Prote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41768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of the Majority need financial protection as much as you and I do – or mor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need to shield themselves from economic shoc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urance may be their only asset in case of ne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protection is an important element of financial inclu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urance protection is the cheapest form of capi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efine their financial protection needs, in order of priority, a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related insur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fe and funeral expense insur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ings insur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ty and agricultural insur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EAE699-C094-49A0-BF08-68397DF02D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7981c"/>
                </a:solidFill>
                <a:latin typeface="Arial"/>
              </a:rPr>
              <a:t>The Majority faces Barriers in accessing suitable Risk Transfer Solutions </a:t>
            </a:r>
            <a:r>
              <a:rPr b="1" lang="de-CH" sz="2500" spc="-1" strike="noStrike">
                <a:solidFill>
                  <a:srgbClr val="f7981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income and poor peop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 the necessary financial litera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access insurance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no financial transaction cap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trust an unknown “formal” instit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urance „is not bought“; it must be sol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s that may be available are not affordable and not responsive to the Majority’s nee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059955-5406-4C09-B7EB-60230E5E97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7981c"/>
                </a:solidFill>
                <a:latin typeface="Arial"/>
              </a:rPr>
              <a:t>The Insurance Industry must overcome Key Challeng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193CD9-E613-4E75-AA29-04A8868C2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78"/>
          <p:cNvSpPr/>
          <p:nvPr/>
        </p:nvSpPr>
        <p:spPr>
          <a:xfrm>
            <a:off x="495360" y="1600200"/>
            <a:ext cx="864864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ing the underserved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mmunicate at the levels of customers and distribution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ing trust in unfamiliar institutions and in intangible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ing simple, affordable and reliable produ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ng mechanisms for the collection of premiums and the pay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cla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st of handling small cla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hieving the necessary efficiency to administer small trans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urance regu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7981c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7981c"/>
                </a:solidFill>
                <a:latin typeface="Arial"/>
              </a:rPr>
              <a:t>(Re-) Inventing the Insurance Business Model</a:t>
            </a:r>
            <a:r>
              <a:rPr b="1" lang="de-CH" sz="2500" spc="-1" strike="noStrike">
                <a:solidFill>
                  <a:srgbClr val="f7981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cess depends on the ability of providers to create non-traditional, sustainable ways of doing bui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2160" indent="-2084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insurance is not „small insurance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2160" indent="-2084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eds of the customers must be reflected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2160" indent="-2084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ford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2160" indent="-2084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produ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2160" indent="-2084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 coverage (claim) trigge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2160" indent="-2084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able communication (language and illustration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2160" indent="-2084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t access and deliv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2160" indent="-2084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nient collection and payment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2160" indent="-2084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 claim payments (settlements instead of investigation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2160" indent="-2084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s can be reached through mass-distribution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lnSpc>
                <a:spcPct val="2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nt-end to back-end integration on efficient IT and processes platforms are prerequisites for necessary low cost oper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2160" indent="-208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1B66FD-77FF-4979-8A7C-E24282197F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7:45:37Z</dcterms:created>
  <dc:creator>NOM G5</dc:creator>
  <dc:description/>
  <dc:language>en-US</dc:language>
  <cp:lastModifiedBy>Maria Victoria Saenz</cp:lastModifiedBy>
  <dcterms:modified xsi:type="dcterms:W3CDTF">2015-02-27T17:34:27Z</dcterms:modified>
  <cp:revision>104</cp:revision>
  <dc:subject/>
  <dc:title>Presentación Paralif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bstract">
    <vt:lpwstr/>
  </property>
  <property fmtid="{D5CDD505-2E9C-101B-9397-08002B2CF9AE}" pid="3" name="Access to Information Policy">
    <vt:lpwstr>Public</vt:lpwstr>
  </property>
  <property fmtid="{D5CDD505-2E9C-101B-9397-08002B2CF9AE}" pid="4" name="Approval Number">
    <vt:lpwstr/>
  </property>
  <property fmtid="{D5CDD505-2E9C-101B-9397-08002B2CF9AE}" pid="5" name="Business Area">
    <vt:lpwstr/>
  </property>
  <property fmtid="{D5CDD505-2E9C-101B-9397-08002B2CF9AE}" pid="6" name="ContentTypeId">
    <vt:lpwstr>0x0101001A458A224826124E8B45B1D613300CFC00BC815DCE3F565944BBB7E1F822DFB741</vt:lpwstr>
  </property>
  <property fmtid="{D5CDD505-2E9C-101B-9397-08002B2CF9AE}" pid="7" name="Country">
    <vt:lpwstr/>
  </property>
  <property fmtid="{D5CDD505-2E9C-101B-9397-08002B2CF9AE}" pid="8" name="Disclosed">
    <vt:lpwstr>1</vt:lpwstr>
  </property>
  <property fmtid="{D5CDD505-2E9C-101B-9397-08002B2CF9AE}" pid="9" name="Disclosure Activity">
    <vt:lpwstr>MIF Project Product</vt:lpwstr>
  </property>
  <property fmtid="{D5CDD505-2E9C-101B-9397-08002B2CF9AE}" pid="10" name="Division or Unit">
    <vt:lpwstr>MIF/ATF</vt:lpwstr>
  </property>
  <property fmtid="{D5CDD505-2E9C-101B-9397-08002B2CF9AE}" pid="11" name="Document Author">
    <vt:lpwstr>Saenz-Samper, Maria Victoria</vt:lpwstr>
  </property>
  <property fmtid="{D5CDD505-2E9C-101B-9397-08002B2CF9AE}" pid="12" name="Document Language IDB">
    <vt:lpwstr>English</vt:lpwstr>
  </property>
  <property fmtid="{D5CDD505-2E9C-101B-9397-08002B2CF9AE}" pid="13" name="Editor1">
    <vt:lpwstr/>
  </property>
  <property fmtid="{D5CDD505-2E9C-101B-9397-08002B2CF9AE}" pid="14" name="Fiscal Year IDB">
    <vt:lpwstr>2015</vt:lpwstr>
  </property>
  <property fmtid="{D5CDD505-2E9C-101B-9397-08002B2CF9AE}" pid="15" name="From:">
    <vt:lpwstr>3002</vt:lpwstr>
  </property>
  <property fmtid="{D5CDD505-2E9C-101B-9397-08002B2CF9AE}" pid="16" name="Function Operations IDB">
    <vt:lpwstr>8;#IDBDocs|cca77002-e150-4b2d-ab1f-1d7a7cdcae16</vt:lpwstr>
  </property>
  <property fmtid="{D5CDD505-2E9C-101B-9397-08002B2CF9AE}" pid="17" name="Fund IDB">
    <vt:lpwstr/>
  </property>
  <property fmtid="{D5CDD505-2E9C-101B-9397-08002B2CF9AE}" pid="18" name="IDBDocs Number">
    <vt:lpwstr>39427727</vt:lpwstr>
  </property>
  <property fmtid="{D5CDD505-2E9C-101B-9397-08002B2CF9AE}" pid="19" name="Identifier">
    <vt:lpwstr> PUB</vt:lpwstr>
  </property>
  <property fmtid="{D5CDD505-2E9C-101B-9397-08002B2CF9AE}" pid="20" name="Issue Date">
    <vt:lpwstr/>
  </property>
  <property fmtid="{D5CDD505-2E9C-101B-9397-08002B2CF9AE}" pid="21" name="KP Topics">
    <vt:lpwstr/>
  </property>
  <property fmtid="{D5CDD505-2E9C-101B-9397-08002B2CF9AE}" pid="22" name="Key Document">
    <vt:lpwstr>0</vt:lpwstr>
  </property>
  <property fmtid="{D5CDD505-2E9C-101B-9397-08002B2CF9AE}" pid="23" name="Migration Info">
    <vt:lpwstr>&lt;div class="ExternalClassEF2259F06AE34610A1E5603A90E5337B"&gt;MS POWERPOINTMIFPRDMIF Project Product0N&lt;/div&gt;</vt:lpwstr>
  </property>
  <property fmtid="{D5CDD505-2E9C-101B-9397-08002B2CF9AE}" pid="24" name="Operation Type">
    <vt:lpwstr/>
  </property>
  <property fmtid="{D5CDD505-2E9C-101B-9397-08002B2CF9AE}" pid="25" name="Order">
    <vt:lpwstr>863100.000000000</vt:lpwstr>
  </property>
  <property fmtid="{D5CDD505-2E9C-101B-9397-08002B2CF9AE}" pid="26" name="Other Author">
    <vt:lpwstr>3002</vt:lpwstr>
  </property>
  <property fmtid="{D5CDD505-2E9C-101B-9397-08002B2CF9AE}" pid="27" name="Package Code">
    <vt:lpwstr/>
  </property>
  <property fmtid="{D5CDD505-2E9C-101B-9397-08002B2CF9AE}" pid="28" name="Phase">
    <vt:lpwstr/>
  </property>
  <property fmtid="{D5CDD505-2E9C-101B-9397-08002B2CF9AE}" pid="29" name="Project Document Type">
    <vt:lpwstr/>
  </property>
  <property fmtid="{D5CDD505-2E9C-101B-9397-08002B2CF9AE}" pid="30" name="Project Number">
    <vt:lpwstr>RG-M1084</vt:lpwstr>
  </property>
  <property fmtid="{D5CDD505-2E9C-101B-9397-08002B2CF9AE}" pid="31" name="Publication Type">
    <vt:lpwstr/>
  </property>
  <property fmtid="{D5CDD505-2E9C-101B-9397-08002B2CF9AE}" pid="32" name="Publishing House">
    <vt:lpwstr/>
  </property>
  <property fmtid="{D5CDD505-2E9C-101B-9397-08002B2CF9AE}" pid="33" name="Record Number">
    <vt:lpwstr/>
  </property>
  <property fmtid="{D5CDD505-2E9C-101B-9397-08002B2CF9AE}" pid="34" name="Region">
    <vt:lpwstr/>
  </property>
  <property fmtid="{D5CDD505-2E9C-101B-9397-08002B2CF9AE}" pid="35" name="SISCOR Number">
    <vt:lpwstr/>
  </property>
  <property fmtid="{D5CDD505-2E9C-101B-9397-08002B2CF9AE}" pid="36" name="Sector IDB">
    <vt:lpwstr/>
  </property>
  <property fmtid="{D5CDD505-2E9C-101B-9397-08002B2CF9AE}" pid="37" name="Series Operations IDB">
    <vt:lpwstr>9;#Unclassified|a6dff32e-d477-44cd-a56b-85efe9e0a56c</vt:lpwstr>
  </property>
  <property fmtid="{D5CDD505-2E9C-101B-9397-08002B2CF9AE}" pid="38" name="Sub-Sector">
    <vt:lpwstr/>
  </property>
  <property fmtid="{D5CDD505-2E9C-101B-9397-08002B2CF9AE}" pid="39" name="Sub_x005F_x002d_Sector">
    <vt:lpwstr/>
  </property>
  <property fmtid="{D5CDD505-2E9C-101B-9397-08002B2CF9AE}" pid="40" name="TaxCatchAll">
    <vt:lpwstr>8;#IDBDocs|cca77002-e150-4b2d-ab1f-1d7a7cdcae16;#9;#Unclassified|a6dff32e-d477-44cd-a56b-85efe9e0a56c</vt:lpwstr>
  </property>
  <property fmtid="{D5CDD505-2E9C-101B-9397-08002B2CF9AE}" pid="41" name="TaxKeyword">
    <vt:lpwstr/>
  </property>
  <property fmtid="{D5CDD505-2E9C-101B-9397-08002B2CF9AE}" pid="42" name="TaxKeywordTaxHTField">
    <vt:lpwstr/>
  </property>
  <property fmtid="{D5CDD505-2E9C-101B-9397-08002B2CF9AE}" pid="43" name="To:">
    <vt:lpwstr/>
  </property>
  <property fmtid="{D5CDD505-2E9C-101B-9397-08002B2CF9AE}" pid="44" name="URL">
    <vt:lpwstr/>
  </property>
  <property fmtid="{D5CDD505-2E9C-101B-9397-08002B2CF9AE}" pid="45" name="Webtopic">
    <vt:lpwstr>Banking and Financial Services;Microenterprise and Microfinance;Private Sector Development and Competitiveness</vt:lpwstr>
  </property>
  <property fmtid="{D5CDD505-2E9C-101B-9397-08002B2CF9AE}" pid="46" name="_dlc_DocId">
    <vt:lpwstr>EZSHARE-2082084022-8631</vt:lpwstr>
  </property>
  <property fmtid="{D5CDD505-2E9C-101B-9397-08002B2CF9AE}" pid="47" name="_dlc_DocIdItemGuid">
    <vt:lpwstr>966ac561-e0c1-4fe7-aa94-da7f2c047c20</vt:lpwstr>
  </property>
  <property fmtid="{D5CDD505-2E9C-101B-9397-08002B2CF9AE}" pid="48" name="_dlc_DocIdUrl">
    <vt:lpwstr>https://idbg.sharepoint.com/teams/EZ-RG-EQU/RG-M1084/_layouts/15/DocIdRedir.aspx?ID=EZSHARE-2082084022-8631, EZSHARE-2082084022-8631</vt:lpwstr>
  </property>
  <property fmtid="{D5CDD505-2E9C-101B-9397-08002B2CF9AE}" pid="49" name="b26cdb1da78c4bb4b1c1bac2f6ac5911">
    <vt:lpwstr>Unclassified|a6dff32e-d477-44cd-a56b-85efe9e0a56c</vt:lpwstr>
  </property>
  <property fmtid="{D5CDD505-2E9C-101B-9397-08002B2CF9AE}" pid="50" name="b2ec7cfb18674cb8803df6b262e8b107">
    <vt:lpwstr/>
  </property>
  <property fmtid="{D5CDD505-2E9C-101B-9397-08002B2CF9AE}" pid="51" name="c456731dbc904a5fb605ec556c33e883">
    <vt:lpwstr/>
  </property>
  <property fmtid="{D5CDD505-2E9C-101B-9397-08002B2CF9AE}" pid="52" name="display_urn:schemas-microsoft-com:office:office#Author">
    <vt:lpwstr>migration</vt:lpwstr>
  </property>
  <property fmtid="{D5CDD505-2E9C-101B-9397-08002B2CF9AE}" pid="53" name="display_urn:schemas-microsoft-com:office:office#Editor">
    <vt:lpwstr>migration</vt:lpwstr>
  </property>
  <property fmtid="{D5CDD505-2E9C-101B-9397-08002B2CF9AE}" pid="54" name="e46fe2894295491da65140ffd2369f49">
    <vt:lpwstr>IDBDocs|cca77002-e150-4b2d-ab1f-1d7a7cdcae16</vt:lpwstr>
  </property>
  <property fmtid="{D5CDD505-2E9C-101B-9397-08002B2CF9AE}" pid="55" name="e559ffcc31d34167856647188be35015">
    <vt:lpwstr/>
  </property>
  <property fmtid="{D5CDD505-2E9C-101B-9397-08002B2CF9AE}" pid="56" name="fd0e48b6a66848a9885f717e5bbf40c4">
    <vt:lpwstr>IDBDocs|cca77002-e150-4b2d-ab1f-1d7a7cdcae16</vt:lpwstr>
  </property>
  <property fmtid="{D5CDD505-2E9C-101B-9397-08002B2CF9AE}" pid="57" name="g511464f9e53401d84b16fa9b379a574">
    <vt:lpwstr/>
  </property>
  <property fmtid="{D5CDD505-2E9C-101B-9397-08002B2CF9AE}" pid="58" name="ic46d7e087fd4a108fb86518ca413cc6">
    <vt:lpwstr/>
  </property>
  <property fmtid="{D5CDD505-2E9C-101B-9397-08002B2CF9AE}" pid="59" name="j8b96605ee2f4c4e988849e658583fee">
    <vt:lpwstr/>
  </property>
  <property fmtid="{D5CDD505-2E9C-101B-9397-08002B2CF9AE}" pid="60" name="m555d3814edf4817b4410a4e57f94ce9">
    <vt:lpwstr/>
  </property>
  <property fmtid="{D5CDD505-2E9C-101B-9397-08002B2CF9AE}" pid="61" name="nddeef1749674d76abdbe4b239a70bc6">
    <vt:lpwstr/>
  </property>
  <property fmtid="{D5CDD505-2E9C-101B-9397-08002B2CF9AE}" pid="62" name="o5138a91267540169645e33d09c9ddc6">
    <vt:lpwstr>Unclassified|a6dff32e-d477-44cd-a56b-85efe9e0a56c</vt:lpwstr>
  </property>
</Properties>
</file>