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38.wmf" ContentType="image/x-wmf"/>
  <Override PartName="/ppt/media/image3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37.wmf" ContentType="image/x-wmf"/>
  <Override PartName="/ppt/media/image49.wmf" ContentType="image/x-wmf"/>
  <Override PartName="/ppt/media/image42.wmf" ContentType="image/x-wmf"/>
  <Override PartName="/ppt/media/image9.png" ContentType="image/png"/>
  <Override PartName="/ppt/media/image41.wmf" ContentType="image/x-wmf"/>
  <Override PartName="/ppt/media/image8.png" ContentType="image/png"/>
  <Override PartName="/ppt/media/image53.wmf" ContentType="image/x-wmf"/>
  <Override PartName="/ppt/media/image13.png" ContentType="image/png"/>
  <Override PartName="/ppt/media/image12.png" ContentType="image/png"/>
  <Override PartName="/ppt/media/image52.wmf" ContentType="image/x-wmf"/>
  <Override PartName="/ppt/media/image40.wmf" ContentType="image/x-wmf"/>
  <Override PartName="/ppt/media/image7.png" ContentType="image/png"/>
  <Override PartName="/ppt/media/image36.wmf" ContentType="image/x-wmf"/>
  <Override PartName="/ppt/media/image6.wmf" ContentType="image/x-wmf"/>
  <Override PartName="/ppt/media/image51.wmf" ContentType="image/x-wmf"/>
  <Override PartName="/ppt/media/image11.png" ContentType="image/png"/>
  <Override PartName="/ppt/media/image29.wmf" ContentType="image/x-wmf"/>
  <Override PartName="/ppt/media/image5.wmf" ContentType="image/x-wmf"/>
  <Override PartName="/ppt/media/image35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8959850" cy="67214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47800" y="599760"/>
            <a:ext cx="5634000" cy="4226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r>
              <a:rPr b="1" lang="en-US" sz="1900" spc="-1" strike="noStrike">
                <a:solidFill>
                  <a:srgbClr val="00296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2"/>
          </p:nvPr>
        </p:nvSpPr>
        <p:spPr>
          <a:xfrm>
            <a:off x="6524640" y="9215280"/>
            <a:ext cx="582480" cy="1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BECA8-2556-4AC5-9171-22EA04B8A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3"/>
          </p:nvPr>
        </p:nvSpPr>
        <p:spPr>
          <a:xfrm>
            <a:off x="6408720" y="89640"/>
            <a:ext cx="69840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81A14-2A18-4F79-97EF-36D8A7674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cs-CZ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3 Marcador de número de diapositiva"/>
          <p:cNvSpPr/>
          <p:nvPr/>
        </p:nvSpPr>
        <p:spPr>
          <a:xfrm>
            <a:off x="6524640" y="921240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421E7C4-48B8-4533-A99B-40DA15D37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3 Marcador de número de diapositiva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61876-5611-4F84-A48C-168E5BAFE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3 Marcador de número de diapositiva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1BB90-6E09-4150-95D2-107428F04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3 Marcador de número de diapositiva"/>
          <p:cNvSpPr/>
          <p:nvPr/>
        </p:nvSpPr>
        <p:spPr>
          <a:xfrm>
            <a:off x="6524640" y="921240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8222B1A-C22D-4394-8218-E835ED40B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3 Marcador de número de diapositiva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F9CC0-8C31-4768-AA8B-E7DFB1BA5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3 Marcador de número de diapositiva"/>
          <p:cNvSpPr/>
          <p:nvPr/>
        </p:nvSpPr>
        <p:spPr>
          <a:xfrm>
            <a:off x="6524640" y="921240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8ADD0C4-8F44-4510-9F71-4EDBC823E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6526080" y="9215640"/>
            <a:ext cx="58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1F88504-027E-4AD2-B9BE-763A5FDB6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593280" y="5160600"/>
            <a:ext cx="6232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3 Marcador de número de diapositiva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A384C-4D28-48A4-A283-CF760C047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42955-9151-4EC1-9817-D18FE78EB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593280" y="5160600"/>
            <a:ext cx="6232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cs-CZ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348E7-9A0E-4561-A4FC-3E69B67B0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cs-CZ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0BE7F-FD2F-4E9C-8983-9FA7642C4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844560" y="601560"/>
            <a:ext cx="5632560" cy="42246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cs-CZ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4B5EA-4B93-436B-B1D8-6AB266342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844560" y="601560"/>
            <a:ext cx="5632560" cy="42246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cs-CZ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30B13-546C-4520-89C8-8F3FFF042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593280" y="5160600"/>
            <a:ext cx="6232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6526080" y="9215640"/>
            <a:ext cx="58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2509ACE-DDFA-407E-B909-EE10D58BF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593280" y="5160600"/>
            <a:ext cx="6232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6526080" y="9215640"/>
            <a:ext cx="58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AA4FB3A-12FC-4FB7-AC00-0FFD48EB639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593280" y="5160600"/>
            <a:ext cx="6232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cs-CZ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6526080" y="9215640"/>
            <a:ext cx="58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6F8541B-E89B-4E4D-8CCB-7C7FFF5D228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593280" y="5160600"/>
            <a:ext cx="6232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cs-CZ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3 Marcador de número de diapositiva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A0059-40BF-47BE-8796-A4F4F2F3A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6526080" y="9215640"/>
            <a:ext cx="58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D6E57A4-12FA-440D-809D-6CF4B896A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cs-CZ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7EA15-E61A-46E1-8C1A-265E1E60D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cs-CZ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3 Marcador de número de diapositiva"/>
          <p:cNvSpPr/>
          <p:nvPr/>
        </p:nvSpPr>
        <p:spPr>
          <a:xfrm>
            <a:off x="6524640" y="921564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439E0-4CC3-44D1-9FFF-B69D97D2A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847800" y="600120"/>
            <a:ext cx="5634000" cy="422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593640" y="5160600"/>
            <a:ext cx="62308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3 Marcador de número de diapositiva"/>
          <p:cNvSpPr/>
          <p:nvPr/>
        </p:nvSpPr>
        <p:spPr>
          <a:xfrm>
            <a:off x="6524640" y="9212400"/>
            <a:ext cx="58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D2EC0F6B-43D8-4FDD-8869-0164FFCED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F0DB-5D48-4C1E-B362-E0EEB5977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6683-F85D-4045-9197-585190E46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26FA-D9B3-4521-9EF4-782D0CF0E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ED96-A712-4B39-87C6-0F655B05C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8618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07A6-3483-407B-8F3A-0CF223733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9F83-3971-4568-8D48-9741B69CE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E6C0-E706-431D-856A-A8F75C3D0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B178-5748-4EC4-BA69-1A4B9FC06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8618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02D5-8AD0-4553-9FC7-BA5CE6715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353E-C3B2-4388-9428-5289E1123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0649-8336-489F-81AB-CF8AB65C4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C645-77FA-410E-986D-205A2FF3C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lideBottomBar"/>
          <p:cNvSpPr/>
          <p:nvPr/>
        </p:nvSpPr>
        <p:spPr>
          <a:xfrm>
            <a:off x="0" y="6300720"/>
            <a:ext cx="8961480" cy="422280"/>
          </a:xfrm>
          <a:prstGeom prst="rect">
            <a:avLst/>
          </a:prstGeom>
          <a:solidFill>
            <a:srgbClr val="c7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296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2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5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8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8545680" y="643068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0287-CBA3-4DAD-9701-1AC4ACCEF5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Working Draft" hidden="1"/>
          <p:cNvSpPr/>
          <p:nvPr/>
        </p:nvSpPr>
        <p:spPr>
          <a:xfrm rot="5400000">
            <a:off x="7986240" y="2749680"/>
            <a:ext cx="181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11/13/2009 5:13:28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rinted" hidden="1"/>
          <p:cNvSpPr/>
          <p:nvPr/>
        </p:nvSpPr>
        <p:spPr>
          <a:xfrm rot="5400000">
            <a:off x="8361000" y="4261680"/>
            <a:ext cx="1061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10/15/2009 3:40:48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24336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buClr>
                <a:srgbClr val="002960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buClr>
                <a:srgbClr val="002960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buClr>
                <a:srgbClr val="002960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buClr>
                <a:srgbClr val="00296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8"/>
          <p:cNvSpPr/>
          <p:nvPr/>
        </p:nvSpPr>
        <p:spPr>
          <a:xfrm>
            <a:off x="8432640" y="6431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226"/>
          <p:cNvSpPr/>
          <p:nvPr/>
        </p:nvSpPr>
        <p:spPr>
          <a:xfrm>
            <a:off x="0" y="6029280"/>
            <a:ext cx="8961480" cy="692280"/>
          </a:xfrm>
          <a:prstGeom prst="rect">
            <a:avLst/>
          </a:prstGeom>
          <a:solidFill>
            <a:srgbClr val="00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BottomPlaceholder"/>
          <p:cNvSpPr/>
          <p:nvPr/>
        </p:nvSpPr>
        <p:spPr>
          <a:xfrm>
            <a:off x="0" y="2238480"/>
            <a:ext cx="1241280" cy="4484520"/>
          </a:xfrm>
          <a:prstGeom prst="rect">
            <a:avLst/>
          </a:prstGeom>
          <a:solidFill>
            <a:srgbClr val="006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TopPlaceholder"/>
          <p:cNvSpPr/>
          <p:nvPr/>
        </p:nvSpPr>
        <p:spPr>
          <a:xfrm>
            <a:off x="0" y="0"/>
            <a:ext cx="1241280" cy="2238480"/>
          </a:xfrm>
          <a:prstGeom prst="rect">
            <a:avLst/>
          </a:prstGeom>
          <a:solidFill>
            <a:srgbClr val="91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27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king Draft" hidden="1"/>
          <p:cNvSpPr/>
          <p:nvPr/>
        </p:nvSpPr>
        <p:spPr>
          <a:xfrm>
            <a:off x="2534400" y="498600"/>
            <a:ext cx="325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11/13/2009 5:13:28 PM SA Pacific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inted" hidden="1"/>
          <p:cNvSpPr/>
          <p:nvPr/>
        </p:nvSpPr>
        <p:spPr>
          <a:xfrm>
            <a:off x="2630520" y="655560"/>
            <a:ext cx="325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10/15/2009 3:40:48 PM Central Standard Time (Mexic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61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McK Disclaimer" hidden="1"/>
            <p:cNvSpPr/>
            <p:nvPr/>
          </p:nvSpPr>
          <p:spPr>
            <a:xfrm>
              <a:off x="2639880" y="5896800"/>
              <a:ext cx="440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y use of this material without specific permission of McKinsey &amp; Company is strictly prohibi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89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296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24336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buClr>
                <a:srgbClr val="002960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buClr>
                <a:srgbClr val="002960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buClr>
                <a:srgbClr val="002960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buClr>
                <a:srgbClr val="00296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9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0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2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2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3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4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5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"/>
          <p:cNvPicPr/>
          <p:nvPr/>
        </p:nvPicPr>
        <p:blipFill>
          <a:blip r:embed="rId1"/>
          <a:stretch/>
        </p:blipFill>
        <p:spPr>
          <a:xfrm>
            <a:off x="2612880" y="3139920"/>
            <a:ext cx="2310120" cy="1800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14560" y="163476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4000" spc="-1" strike="noStrike">
                <a:solidFill>
                  <a:srgbClr val="002960"/>
                </a:solidFill>
                <a:latin typeface="Arial"/>
              </a:rPr>
              <a:t>Reforma Fiscal 2010</a:t>
            </a:r>
            <a:endParaRPr b="1" lang="en-US" sz="40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8958240" cy="6721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McK Date"/>
          <p:cNvSpPr/>
          <p:nvPr/>
        </p:nvSpPr>
        <p:spPr>
          <a:xfrm>
            <a:off x="3892680" y="6297480"/>
            <a:ext cx="493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ayo |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-154080" y="6615000"/>
            <a:ext cx="55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92240" indent="-192240"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600" spc="-1" strike="noStrike">
                <a:solidFill>
                  <a:srgbClr val="ffffff"/>
                </a:solidFill>
                <a:latin typeface="Arial"/>
              </a:rPr>
              <a:t>v30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5"/>
          <p:cNvGrpSpPr/>
          <p:nvPr/>
        </p:nvGrpSpPr>
        <p:grpSpPr>
          <a:xfrm>
            <a:off x="5064120" y="3141720"/>
            <a:ext cx="1838160" cy="1798560"/>
            <a:chOff x="5064120" y="3141720"/>
            <a:chExt cx="1838160" cy="1798560"/>
          </a:xfrm>
        </p:grpSpPr>
        <p:sp>
          <p:nvSpPr>
            <p:cNvPr id="119" name="Oval 16"/>
            <p:cNvSpPr/>
            <p:nvPr/>
          </p:nvSpPr>
          <p:spPr>
            <a:xfrm>
              <a:off x="5064120" y="3141720"/>
              <a:ext cx="1838160" cy="179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7" descr="logo MEF grande"/>
            <p:cNvPicPr/>
            <p:nvPr/>
          </p:nvPicPr>
          <p:blipFill>
            <a:blip r:embed="rId2"/>
            <a:stretch/>
          </p:blipFill>
          <p:spPr>
            <a:xfrm>
              <a:off x="5087160" y="3163680"/>
              <a:ext cx="1789920" cy="17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Rectangle 1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B4C7-E656-4348-AD2A-0E1E3ADDBB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19"/>
          <p:cNvGrpSpPr/>
          <p:nvPr/>
        </p:nvGrpSpPr>
        <p:grpSpPr>
          <a:xfrm>
            <a:off x="217440" y="792000"/>
            <a:ext cx="1617480" cy="2549160"/>
            <a:chOff x="217440" y="792000"/>
            <a:chExt cx="1617480" cy="2549160"/>
          </a:xfrm>
        </p:grpSpPr>
        <p:sp>
          <p:nvSpPr>
            <p:cNvPr id="412" name="Rectangle 120"/>
            <p:cNvSpPr/>
            <p:nvPr/>
          </p:nvSpPr>
          <p:spPr>
            <a:xfrm>
              <a:off x="217440" y="792000"/>
              <a:ext cx="1617480" cy="2549160"/>
            </a:xfrm>
            <a:prstGeom prst="rect">
              <a:avLst/>
            </a:prstGeom>
            <a:solidFill>
              <a:srgbClr val="c7e0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21"/>
            <p:cNvSpPr/>
            <p:nvPr/>
          </p:nvSpPr>
          <p:spPr>
            <a:xfrm>
              <a:off x="217440" y="792000"/>
              <a:ext cx="1617480" cy="2549160"/>
            </a:xfrm>
            <a:prstGeom prst="rect">
              <a:avLst/>
            </a:prstGeom>
            <a:solidFill>
              <a:srgbClr val="c7e0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22"/>
          <p:cNvGrpSpPr/>
          <p:nvPr/>
        </p:nvGrpSpPr>
        <p:grpSpPr>
          <a:xfrm>
            <a:off x="217440" y="3341520"/>
            <a:ext cx="1617480" cy="2803320"/>
            <a:chOff x="217440" y="3341520"/>
            <a:chExt cx="1617480" cy="2803320"/>
          </a:xfrm>
        </p:grpSpPr>
        <p:sp>
          <p:nvSpPr>
            <p:cNvPr id="415" name="Rectangle 123"/>
            <p:cNvSpPr/>
            <p:nvPr/>
          </p:nvSpPr>
          <p:spPr>
            <a:xfrm>
              <a:off x="217440" y="3341520"/>
              <a:ext cx="1617480" cy="2803320"/>
            </a:xfrm>
            <a:prstGeom prst="rect">
              <a:avLst/>
            </a:prstGeom>
            <a:solidFill>
              <a:srgbClr val="c7e0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24"/>
            <p:cNvSpPr/>
            <p:nvPr/>
          </p:nvSpPr>
          <p:spPr>
            <a:xfrm>
              <a:off x="217440" y="3341520"/>
              <a:ext cx="1617480" cy="2803320"/>
            </a:xfrm>
            <a:prstGeom prst="rect">
              <a:avLst/>
            </a:prstGeom>
            <a:solidFill>
              <a:srgbClr val="c7e0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15"/>
          <p:cNvGrpSpPr/>
          <p:nvPr/>
        </p:nvGrpSpPr>
        <p:grpSpPr>
          <a:xfrm>
            <a:off x="1835280" y="792000"/>
            <a:ext cx="6927840" cy="2549160"/>
            <a:chOff x="1835280" y="792000"/>
            <a:chExt cx="6927840" cy="2549160"/>
          </a:xfrm>
        </p:grpSpPr>
        <p:sp>
          <p:nvSpPr>
            <p:cNvPr id="418" name="Rectangle 112"/>
            <p:cNvSpPr/>
            <p:nvPr/>
          </p:nvSpPr>
          <p:spPr>
            <a:xfrm>
              <a:off x="1835280" y="792000"/>
              <a:ext cx="6927840" cy="254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4"/>
            <p:cNvSpPr/>
            <p:nvPr/>
          </p:nvSpPr>
          <p:spPr>
            <a:xfrm>
              <a:off x="1835280" y="792000"/>
              <a:ext cx="6927840" cy="25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16"/>
          <p:cNvGrpSpPr/>
          <p:nvPr/>
        </p:nvGrpSpPr>
        <p:grpSpPr>
          <a:xfrm>
            <a:off x="1835280" y="3341520"/>
            <a:ext cx="6927840" cy="2803320"/>
            <a:chOff x="1835280" y="3341520"/>
            <a:chExt cx="6927840" cy="2803320"/>
          </a:xfrm>
        </p:grpSpPr>
        <p:sp>
          <p:nvSpPr>
            <p:cNvPr id="421" name="Rectangle 117"/>
            <p:cNvSpPr/>
            <p:nvPr/>
          </p:nvSpPr>
          <p:spPr>
            <a:xfrm>
              <a:off x="1835280" y="3341520"/>
              <a:ext cx="692784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8"/>
            <p:cNvSpPr/>
            <p:nvPr/>
          </p:nvSpPr>
          <p:spPr>
            <a:xfrm>
              <a:off x="1835280" y="3341520"/>
              <a:ext cx="6927840" cy="28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Comparación de Impuestos sobre la Renta de Empresa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graphicFrame>
        <p:nvGraphicFramePr>
          <p:cNvPr id="424" name="Object 3"/>
          <p:cNvGraphicFramePr/>
          <p:nvPr/>
        </p:nvGraphicFramePr>
        <p:xfrm>
          <a:off x="1919160" y="1195560"/>
          <a:ext cx="1381320" cy="18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9160" y="1195560"/>
                    <a:ext cx="138132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Rectangle 5"/>
          <p:cNvSpPr/>
          <p:nvPr/>
        </p:nvSpPr>
        <p:spPr>
          <a:xfrm>
            <a:off x="2006640" y="2986200"/>
            <a:ext cx="673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am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2147760" y="1341360"/>
            <a:ext cx="389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1919160" y="825480"/>
            <a:ext cx="2751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Impuesto sobre la renta corpor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Porcentaje </a:t>
            </a:r>
            <a:r>
              <a:rPr b="1" lang="es-PA" sz="1200" spc="-1" strike="noStrike" u="sng">
                <a:solidFill>
                  <a:srgbClr val="000000"/>
                </a:solidFill>
                <a:uFillTx/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4"/>
          <p:cNvGraphicFramePr/>
          <p:nvPr/>
        </p:nvGraphicFramePr>
        <p:xfrm>
          <a:off x="2673360" y="1274760"/>
          <a:ext cx="233352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73360" y="1274760"/>
                    <a:ext cx="23335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22"/>
          <p:cNvSpPr/>
          <p:nvPr/>
        </p:nvSpPr>
        <p:spPr>
          <a:xfrm>
            <a:off x="4410000" y="2986200"/>
            <a:ext cx="260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3567240" y="2986200"/>
            <a:ext cx="527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C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2"/>
          <p:cNvSpPr/>
          <p:nvPr/>
        </p:nvSpPr>
        <p:spPr>
          <a:xfrm>
            <a:off x="2811600" y="2986200"/>
            <a:ext cx="68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Object 5"/>
          <p:cNvGraphicFramePr/>
          <p:nvPr/>
        </p:nvGraphicFramePr>
        <p:xfrm>
          <a:off x="4927680" y="1023840"/>
          <a:ext cx="383688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27680" y="1023840"/>
                    <a:ext cx="38368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Rectangle 44"/>
          <p:cNvSpPr/>
          <p:nvPr/>
        </p:nvSpPr>
        <p:spPr>
          <a:xfrm>
            <a:off x="6608880" y="29923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0"/>
          <p:cNvSpPr/>
          <p:nvPr/>
        </p:nvSpPr>
        <p:spPr>
          <a:xfrm>
            <a:off x="5821200" y="2992320"/>
            <a:ext cx="57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x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5"/>
          <p:cNvSpPr/>
          <p:nvPr/>
        </p:nvSpPr>
        <p:spPr>
          <a:xfrm>
            <a:off x="5132520" y="2992320"/>
            <a:ext cx="504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t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6"/>
          <p:cNvSpPr/>
          <p:nvPr/>
        </p:nvSpPr>
        <p:spPr>
          <a:xfrm>
            <a:off x="7184880" y="2992320"/>
            <a:ext cx="762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8"/>
          <p:cNvSpPr/>
          <p:nvPr/>
        </p:nvSpPr>
        <p:spPr>
          <a:xfrm>
            <a:off x="8016840" y="2992320"/>
            <a:ext cx="546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6"/>
          <p:cNvGraphicFramePr/>
          <p:nvPr/>
        </p:nvGraphicFramePr>
        <p:xfrm>
          <a:off x="3147840" y="3718080"/>
          <a:ext cx="5608800" cy="200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7840" y="3718080"/>
                    <a:ext cx="5608800" cy="20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70"/>
          <p:cNvSpPr/>
          <p:nvPr/>
        </p:nvSpPr>
        <p:spPr>
          <a:xfrm>
            <a:off x="7300800" y="5724360"/>
            <a:ext cx="1352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tinoamé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8"/>
          <p:cNvSpPr/>
          <p:nvPr/>
        </p:nvSpPr>
        <p:spPr>
          <a:xfrm>
            <a:off x="5948280" y="5724360"/>
            <a:ext cx="1352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4"/>
          <p:cNvSpPr/>
          <p:nvPr/>
        </p:nvSpPr>
        <p:spPr>
          <a:xfrm>
            <a:off x="3243240" y="5724360"/>
            <a:ext cx="1352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6"/>
          <p:cNvSpPr/>
          <p:nvPr/>
        </p:nvSpPr>
        <p:spPr>
          <a:xfrm>
            <a:off x="4595760" y="5724360"/>
            <a:ext cx="1352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C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Object 7"/>
          <p:cNvGraphicFramePr/>
          <p:nvPr/>
        </p:nvGraphicFramePr>
        <p:xfrm>
          <a:off x="1862280" y="3927600"/>
          <a:ext cx="1380960" cy="180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62280" y="3927600"/>
                    <a:ext cx="138096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81"/>
          <p:cNvSpPr/>
          <p:nvPr/>
        </p:nvSpPr>
        <p:spPr>
          <a:xfrm>
            <a:off x="2197080" y="5718240"/>
            <a:ext cx="673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6"/>
          <p:cNvSpPr/>
          <p:nvPr/>
        </p:nvSpPr>
        <p:spPr>
          <a:xfrm>
            <a:off x="2100240" y="4073400"/>
            <a:ext cx="38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8"/>
          <p:cNvSpPr/>
          <p:nvPr/>
        </p:nvSpPr>
        <p:spPr>
          <a:xfrm>
            <a:off x="2581200" y="4073400"/>
            <a:ext cx="389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3"/>
          <p:cNvSpPr/>
          <p:nvPr/>
        </p:nvSpPr>
        <p:spPr>
          <a:xfrm>
            <a:off x="8058240" y="3452760"/>
            <a:ext cx="164880" cy="1652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4"/>
          <p:cNvSpPr/>
          <p:nvPr/>
        </p:nvSpPr>
        <p:spPr>
          <a:xfrm>
            <a:off x="8058240" y="3724200"/>
            <a:ext cx="164880" cy="165240"/>
          </a:xfrm>
          <a:prstGeom prst="rect">
            <a:avLst/>
          </a:prstGeom>
          <a:solidFill>
            <a:srgbClr val="002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90"/>
          <p:cNvSpPr/>
          <p:nvPr/>
        </p:nvSpPr>
        <p:spPr>
          <a:xfrm>
            <a:off x="8325000" y="3449520"/>
            <a:ext cx="336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2"/>
          <p:cNvSpPr/>
          <p:nvPr/>
        </p:nvSpPr>
        <p:spPr>
          <a:xfrm>
            <a:off x="8325000" y="3720960"/>
            <a:ext cx="33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98"/>
          <p:cNvSpPr/>
          <p:nvPr/>
        </p:nvSpPr>
        <p:spPr>
          <a:xfrm>
            <a:off x="1919160" y="3422520"/>
            <a:ext cx="390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Reducciones en impuestos sobre la renta corpor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Porcent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39"/>
          <p:cNvSpPr/>
          <p:nvPr/>
        </p:nvSpPr>
        <p:spPr>
          <a:xfrm>
            <a:off x="274680" y="915840"/>
            <a:ext cx="1531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spcAft>
                <a:spcPts val="751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América Latina tiene un alto impuesto sobre la renta de empresas comparando con el resto del mundo, la UE y los países de la OC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Aft>
                <a:spcPts val="624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Panamá está por encima del promedio de América Latina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40"/>
          <p:cNvSpPr/>
          <p:nvPr/>
        </p:nvSpPr>
        <p:spPr>
          <a:xfrm>
            <a:off x="274680" y="3562200"/>
            <a:ext cx="153180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spcAft>
                <a:spcPts val="751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En los últimos diez años, el ISR de empresas ha disminuido a nivel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Aft>
                <a:spcPts val="751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Latinoamérica es la región que menos ha disminuido en este peri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Aft>
                <a:spcPts val="751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Panamá no ha tocado el ISR en este peri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1"/>
          <p:cNvSpPr/>
          <p:nvPr/>
        </p:nvSpPr>
        <p:spPr>
          <a:xfrm>
            <a:off x="7848720" y="3452760"/>
            <a:ext cx="169920" cy="16992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45"/>
          <p:cNvSpPr/>
          <p:nvPr/>
        </p:nvSpPr>
        <p:spPr>
          <a:xfrm>
            <a:off x="7848720" y="3724200"/>
            <a:ext cx="169920" cy="169920"/>
          </a:xfrm>
          <a:prstGeom prst="rect">
            <a:avLst/>
          </a:prstGeom>
          <a:solidFill>
            <a:srgbClr val="9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McK 5. Source"/>
          <p:cNvSpPr/>
          <p:nvPr/>
        </p:nvSpPr>
        <p:spPr>
          <a:xfrm>
            <a:off x="108000" y="6450120"/>
            <a:ext cx="6862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Fuente: PWC y KP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1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-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B825-4ED3-4EB9-BDE4-6C3C68B1A3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–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741240" y="1241280"/>
            <a:ext cx="7483680" cy="424188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836640" y="1531800"/>
            <a:ext cx="72072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disminuye la tasa de ISR a 25% (gradual en 2 años), y para servicios públicos, telecomunicaciones, seguros, fábricas de cemento y bancos que requieren licencia para operar, el cambio será gradual en 4 añ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500" spc="-1" strike="noStrike">
                <a:solidFill>
                  <a:srgbClr val="000000"/>
                </a:solidFill>
                <a:latin typeface="Arial"/>
              </a:rPr>
              <a:t>Se reemplaza el adelanto estimado de ISR por un adelanto mensual con base en las ventas del mes anterio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os costos serán directamente proporcionales a la fuente de la renta gravable o exen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modifica el reconocimiento del ingreso para que las llamadas de larga distancia y el transporte internacional no se consideren ingreso extranje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modifica el costo de la licencia para Banc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elimina el CAIR y se crea el IME para empresas con ventas mayores de $1.5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Impuesto sobre la Renta de Empresa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9"/>
          <p:cNvSpPr/>
          <p:nvPr/>
        </p:nvSpPr>
        <p:spPr>
          <a:xfrm rot="5400000">
            <a:off x="5108400" y="2039760"/>
            <a:ext cx="2583000" cy="208080"/>
          </a:xfrm>
          <a:prstGeom prst="triangle">
            <a:avLst>
              <a:gd name="adj" fmla="val 50000"/>
            </a:avLst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0"/>
          <p:cNvSpPr/>
          <p:nvPr/>
        </p:nvSpPr>
        <p:spPr>
          <a:xfrm rot="5400000">
            <a:off x="5111640" y="4781160"/>
            <a:ext cx="2576520" cy="208080"/>
          </a:xfrm>
          <a:prstGeom prst="triangle">
            <a:avLst>
              <a:gd name="adj" fmla="val 50000"/>
            </a:avLst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21D5-AC26-4F3E-999B-9BE09E8C4F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9160" y="14400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Cambios en el Cálculo de ISR para Empresa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1676520" y="554040"/>
            <a:ext cx="158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2960"/>
                </a:solidFill>
                <a:latin typeface="Arial"/>
              </a:rPr>
              <a:t>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4114800" y="554040"/>
            <a:ext cx="179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2960"/>
                </a:solidFill>
                <a:latin typeface="Arial"/>
              </a:rPr>
              <a:t>Con la Refo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7023240" y="554040"/>
            <a:ext cx="102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2960"/>
                </a:solidFill>
                <a:latin typeface="Arial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173240" y="779400"/>
            <a:ext cx="5138640" cy="549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3751200" y="779400"/>
            <a:ext cx="0" cy="5491080"/>
          </a:xfrm>
          <a:prstGeom prst="line">
            <a:avLst/>
          </a:prstGeom>
          <a:ln w="2556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1189080" y="3535200"/>
            <a:ext cx="5111640" cy="0"/>
          </a:xfrm>
          <a:prstGeom prst="line">
            <a:avLst/>
          </a:prstGeom>
          <a:ln w="25560">
            <a:solidFill>
              <a:srgbClr val="0029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9"/>
          <p:cNvGrpSpPr/>
          <p:nvPr/>
        </p:nvGrpSpPr>
        <p:grpSpPr>
          <a:xfrm>
            <a:off x="128520" y="1308240"/>
            <a:ext cx="1219320" cy="1668240"/>
            <a:chOff x="128520" y="1308240"/>
            <a:chExt cx="1219320" cy="1668240"/>
          </a:xfrm>
        </p:grpSpPr>
        <p:sp>
          <p:nvSpPr>
            <p:cNvPr id="485" name="Freeform 14"/>
            <p:cNvSpPr/>
            <p:nvPr/>
          </p:nvSpPr>
          <p:spPr>
            <a:xfrm>
              <a:off x="128520" y="1308240"/>
              <a:ext cx="1219320" cy="16682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668240"/>
                <a:gd name="textAreaBottom" fmla="*/ 1668600 h 1668240"/>
              </a:gdLst>
              <a:ahLst/>
              <a:rect l="textAreaLeft" t="textAreaTop" r="textAreaRight" b="textAreaBottom"/>
              <a:pathLst>
                <a:path w="1152" h="576">
                  <a:moveTo>
                    <a:pt x="0" y="0"/>
                  </a:moveTo>
                  <a:lnTo>
                    <a:pt x="1048" y="0"/>
                  </a:lnTo>
                  <a:lnTo>
                    <a:pt x="1152" y="288"/>
                  </a:lnTo>
                  <a:lnTo>
                    <a:pt x="1048" y="576"/>
                  </a:lnTo>
                  <a:lnTo>
                    <a:pt x="0" y="576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e0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7"/>
            <p:cNvSpPr/>
            <p:nvPr/>
          </p:nvSpPr>
          <p:spPr>
            <a:xfrm>
              <a:off x="204840" y="1930320"/>
              <a:ext cx="977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2960"/>
                  </a:solidFill>
                  <a:latin typeface="Arial"/>
                </a:rPr>
                <a:t>Obligación tributar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Freeform 15"/>
          <p:cNvSpPr/>
          <p:nvPr/>
        </p:nvSpPr>
        <p:spPr>
          <a:xfrm>
            <a:off x="130320" y="4049640"/>
            <a:ext cx="1218960" cy="166860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1152" h="576">
                <a:moveTo>
                  <a:pt x="0" y="0"/>
                </a:moveTo>
                <a:lnTo>
                  <a:pt x="1048" y="0"/>
                </a:lnTo>
                <a:lnTo>
                  <a:pt x="1152" y="288"/>
                </a:lnTo>
                <a:lnTo>
                  <a:pt x="1048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c7e0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166680" y="4457880"/>
            <a:ext cx="11462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2960"/>
                </a:solidFill>
                <a:latin typeface="Arial"/>
              </a:rPr>
              <a:t>Pago anticipado de impuestos ‘estimad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9"/>
          <p:cNvSpPr/>
          <p:nvPr/>
        </p:nvSpPr>
        <p:spPr>
          <a:xfrm>
            <a:off x="1365120" y="927000"/>
            <a:ext cx="23227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obligación es l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áxim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ntre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% de la 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4% de las ventas (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I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 el 1,4% de las ventas es mayor al 30% de la renta, la empresa puede solicitar una exención del CAIR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0"/>
          <p:cNvSpPr/>
          <p:nvPr/>
        </p:nvSpPr>
        <p:spPr>
          <a:xfrm>
            <a:off x="3851280" y="1276200"/>
            <a:ext cx="240012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iminar C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PA" sz="1200" spc="-1" strike="noStrike">
                <a:solidFill>
                  <a:srgbClr val="000000"/>
                </a:solidFill>
                <a:latin typeface="Arial"/>
              </a:rPr>
              <a:t>todas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 las personas naturales y juríd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empresas con ventas mayores de $1.5M pagarán un Impuesto Mínimo Estimado (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1"/>
          <p:cNvSpPr/>
          <p:nvPr/>
        </p:nvSpPr>
        <p:spPr>
          <a:xfrm>
            <a:off x="6621480" y="1503360"/>
            <a:ext cx="222732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cumple con un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promesa de campañ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duce la evasión de las empresas grande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reciendo un incentivo para declarar la renta verdad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1336680" y="3743280"/>
            <a:ext cx="2333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mpresas pagan la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‘estimada’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Tres pag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estimados suman a los impue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l año pas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resas que pagan más a través de este pago anticipado, obtienen un crédito al finalizar el año fis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3"/>
          <p:cNvSpPr/>
          <p:nvPr/>
        </p:nvSpPr>
        <p:spPr>
          <a:xfrm>
            <a:off x="3851280" y="3835440"/>
            <a:ext cx="24098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emplaza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‘estimada’ c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% de adelanto sobre las ventas mens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resas que pagan más a través de este pago anticipado, obtienen un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rédit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al finalizar el año fis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4"/>
          <p:cNvSpPr/>
          <p:nvPr/>
        </p:nvSpPr>
        <p:spPr>
          <a:xfrm>
            <a:off x="6637320" y="3586320"/>
            <a:ext cx="222732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95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acilita la auditoría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pecialmente para empresas que no pagan ITBMS y contribuyentes pequeños (66% del to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95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95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ás just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empresas con caídas en las ventas (los adelantos de ISR se ajustan automáticamente de acuerdo a las vent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95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95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ás sencill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bido al pago común para ITBMS y los adelantos de I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8"/>
          <p:cNvSpPr/>
          <p:nvPr/>
        </p:nvSpPr>
        <p:spPr>
          <a:xfrm>
            <a:off x="6461280" y="792000"/>
            <a:ext cx="2146320" cy="0"/>
          </a:xfrm>
          <a:prstGeom prst="line">
            <a:avLst/>
          </a:prstGeom>
          <a:ln w="2556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McK 4. Footnote"/>
          <p:cNvSpPr/>
          <p:nvPr/>
        </p:nvSpPr>
        <p:spPr>
          <a:xfrm>
            <a:off x="77760" y="6400080"/>
            <a:ext cx="706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* CAIR: Cálculo Alternativo del Impuesto sobre la Renta. Usa como base los Ingresos Brutos Gravables y no las Utilidades Gravables de la empresa como el Método Tradicion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2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-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5"/>
          <p:cNvSpPr/>
          <p:nvPr/>
        </p:nvSpPr>
        <p:spPr>
          <a:xfrm>
            <a:off x="3403440" y="4299120"/>
            <a:ext cx="4518360" cy="1803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3C01-7DDF-4845-AB89-D7C8AFBE57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8800" y="128160"/>
            <a:ext cx="866916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Tasas efectivas de ISR más bajas, excepto para bancos y transporte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503" name="McK 4. Footnote"/>
          <p:cNvSpPr/>
          <p:nvPr/>
        </p:nvSpPr>
        <p:spPr>
          <a:xfrm>
            <a:off x="90360" y="6330600"/>
            <a:ext cx="8548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Basado en las declaraciones de impuesto de sociedades; incluye las empresas que obtuvieron rentas pero declararon pérdid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Incluye licencias bancar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Ya incluye el efecto de eliminar el C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Object 51"/>
          <p:cNvGraphicFramePr/>
          <p:nvPr/>
        </p:nvGraphicFramePr>
        <p:xfrm>
          <a:off x="142920" y="1362240"/>
          <a:ext cx="2457360" cy="42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362240"/>
                    <a:ext cx="245736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Rectangle 43"/>
          <p:cNvSpPr/>
          <p:nvPr/>
        </p:nvSpPr>
        <p:spPr>
          <a:xfrm>
            <a:off x="219240" y="947880"/>
            <a:ext cx="245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2960"/>
                </a:solidFill>
                <a:latin typeface="Arial"/>
              </a:rPr>
              <a:t>ISR Pagado por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</a:rPr>
              <a:t>US$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6"/>
          <p:cNvSpPr/>
          <p:nvPr/>
        </p:nvSpPr>
        <p:spPr>
          <a:xfrm>
            <a:off x="219240" y="1317600"/>
            <a:ext cx="2251080" cy="0"/>
          </a:xfrm>
          <a:prstGeom prst="line">
            <a:avLst/>
          </a:prstGeom>
          <a:ln w="2556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3"/>
          <p:cNvSpPr/>
          <p:nvPr/>
        </p:nvSpPr>
        <p:spPr>
          <a:xfrm>
            <a:off x="515880" y="5583240"/>
            <a:ext cx="67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91"/>
          <p:cNvSpPr/>
          <p:nvPr/>
        </p:nvSpPr>
        <p:spPr>
          <a:xfrm>
            <a:off x="1465200" y="5583240"/>
            <a:ext cx="9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on refo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6"/>
          <p:cNvSpPr/>
          <p:nvPr/>
        </p:nvSpPr>
        <p:spPr>
          <a:xfrm>
            <a:off x="3753000" y="4829040"/>
            <a:ext cx="3922560" cy="1800"/>
          </a:xfrm>
          <a:prstGeom prst="line">
            <a:avLst/>
          </a:prstGeom>
          <a:ln w="2556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3"/>
          <p:cNvSpPr/>
          <p:nvPr/>
        </p:nvSpPr>
        <p:spPr>
          <a:xfrm>
            <a:off x="3753000" y="4430880"/>
            <a:ext cx="3879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2960"/>
                </a:solidFill>
                <a:latin typeface="Arial"/>
              </a:rPr>
              <a:t>Tasa de ISR más baja </a:t>
            </a:r>
            <a:r>
              <a:rPr b="1" lang="es-ES" sz="1200" spc="-1" strike="noStrike" u="sng">
                <a:solidFill>
                  <a:srgbClr val="002960"/>
                </a:solidFill>
                <a:uFillTx/>
                <a:latin typeface="Arial"/>
              </a:rPr>
              <a:t>beneficia a 54,950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</a:rPr>
              <a:t>Miles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392"/>
          <p:cNvGraphicFramePr/>
          <p:nvPr/>
        </p:nvGraphicFramePr>
        <p:xfrm>
          <a:off x="3727440" y="4822920"/>
          <a:ext cx="2865600" cy="12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3" name="Object 39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7440" y="4822920"/>
                    <a:ext cx="286560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Rectangle 444"/>
          <p:cNvSpPr/>
          <p:nvPr/>
        </p:nvSpPr>
        <p:spPr>
          <a:xfrm>
            <a:off x="6618240" y="5349960"/>
            <a:ext cx="250920" cy="187200"/>
          </a:xfrm>
          <a:prstGeom prst="rect">
            <a:avLst/>
          </a:prstGeom>
          <a:solidFill>
            <a:srgbClr val="9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43"/>
          <p:cNvSpPr/>
          <p:nvPr/>
        </p:nvSpPr>
        <p:spPr>
          <a:xfrm>
            <a:off x="6618240" y="5086440"/>
            <a:ext cx="250920" cy="18720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45"/>
          <p:cNvSpPr/>
          <p:nvPr/>
        </p:nvSpPr>
        <p:spPr>
          <a:xfrm>
            <a:off x="6618240" y="5613480"/>
            <a:ext cx="250920" cy="1872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31"/>
          <p:cNvSpPr/>
          <p:nvPr/>
        </p:nvSpPr>
        <p:spPr>
          <a:xfrm flipV="1">
            <a:off x="6346800" y="5690880"/>
            <a:ext cx="0" cy="96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36"/>
          <p:cNvSpPr/>
          <p:nvPr/>
        </p:nvSpPr>
        <p:spPr>
          <a:xfrm>
            <a:off x="6222960" y="5153040"/>
            <a:ext cx="0" cy="95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93"/>
          <p:cNvSpPr/>
          <p:nvPr/>
        </p:nvSpPr>
        <p:spPr>
          <a:xfrm>
            <a:off x="4718160" y="5378400"/>
            <a:ext cx="504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49,5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38"/>
          <p:cNvSpPr/>
          <p:nvPr/>
        </p:nvSpPr>
        <p:spPr>
          <a:xfrm>
            <a:off x="6919920" y="5081760"/>
            <a:ext cx="6793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35"/>
          <p:cNvSpPr/>
          <p:nvPr/>
        </p:nvSpPr>
        <p:spPr>
          <a:xfrm>
            <a:off x="6919920" y="5345280"/>
            <a:ext cx="76824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di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34"/>
          <p:cNvSpPr/>
          <p:nvPr/>
        </p:nvSpPr>
        <p:spPr>
          <a:xfrm>
            <a:off x="6919920" y="5608800"/>
            <a:ext cx="7984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queñ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2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18" hidden="1"/>
          <p:cNvSpPr/>
          <p:nvPr/>
        </p:nvSpPr>
        <p:spPr>
          <a:xfrm>
            <a:off x="-42840" y="-19080"/>
            <a:ext cx="244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2960"/>
                </a:solidFill>
                <a:latin typeface="Arial"/>
                <a:ea typeface="Arial"/>
              </a:rPr>
              <a:t>4,4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2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-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7" descr=""/>
          <p:cNvPicPr/>
          <p:nvPr/>
        </p:nvPicPr>
        <p:blipFill>
          <a:blip r:embed="rId5"/>
          <a:stretch/>
        </p:blipFill>
        <p:spPr>
          <a:xfrm>
            <a:off x="2817720" y="685800"/>
            <a:ext cx="5807160" cy="31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9160" y="2460600"/>
            <a:ext cx="8618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3300" spc="-1" strike="noStrike">
                <a:solidFill>
                  <a:srgbClr val="002960"/>
                </a:solidFill>
                <a:latin typeface="Arial"/>
              </a:rPr>
              <a:t>Impuestos al Consumo</a:t>
            </a:r>
            <a:endParaRPr b="1" lang="en-US" sz="33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8335800" y="6381720"/>
            <a:ext cx="209880" cy="23184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50CE-F1E5-43D3-8F3D-1D472D0A0C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0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Comparación de Impuestos sobre el Valor Agregado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graphicFrame>
        <p:nvGraphicFramePr>
          <p:cNvPr id="533" name="Object 13"/>
          <p:cNvGraphicFramePr/>
          <p:nvPr/>
        </p:nvGraphicFramePr>
        <p:xfrm>
          <a:off x="2225520" y="1482840"/>
          <a:ext cx="313236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482840"/>
                    <a:ext cx="31323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Rectangle 20"/>
          <p:cNvSpPr/>
          <p:nvPr/>
        </p:nvSpPr>
        <p:spPr>
          <a:xfrm>
            <a:off x="1657440" y="4443480"/>
            <a:ext cx="561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éx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1469880" y="4129200"/>
            <a:ext cx="749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2"/>
          <p:cNvSpPr/>
          <p:nvPr/>
        </p:nvSpPr>
        <p:spPr>
          <a:xfrm>
            <a:off x="1104840" y="3814920"/>
            <a:ext cx="11145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 Domini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6"/>
          <p:cNvSpPr/>
          <p:nvPr/>
        </p:nvSpPr>
        <p:spPr>
          <a:xfrm>
            <a:off x="1352520" y="2567160"/>
            <a:ext cx="8668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uate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7"/>
          <p:cNvSpPr/>
          <p:nvPr/>
        </p:nvSpPr>
        <p:spPr>
          <a:xfrm>
            <a:off x="1311120" y="2252520"/>
            <a:ext cx="908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 Salv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1351080" y="1938240"/>
            <a:ext cx="868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sta 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849240" y="1623960"/>
            <a:ext cx="1370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namá (ITB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4"/>
          <p:cNvSpPr/>
          <p:nvPr/>
        </p:nvSpPr>
        <p:spPr>
          <a:xfrm>
            <a:off x="1774800" y="3191040"/>
            <a:ext cx="4446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5"/>
          <p:cNvSpPr/>
          <p:nvPr/>
        </p:nvSpPr>
        <p:spPr>
          <a:xfrm>
            <a:off x="1460520" y="2881440"/>
            <a:ext cx="758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gen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3"/>
          <p:cNvSpPr/>
          <p:nvPr/>
        </p:nvSpPr>
        <p:spPr>
          <a:xfrm>
            <a:off x="1814400" y="3500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Object 57"/>
          <p:cNvGraphicFramePr/>
          <p:nvPr/>
        </p:nvGraphicFramePr>
        <p:xfrm>
          <a:off x="2225520" y="4799160"/>
          <a:ext cx="313236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Object 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5520" y="4799160"/>
                    <a:ext cx="31323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Rectangle 61"/>
          <p:cNvSpPr/>
          <p:nvPr/>
        </p:nvSpPr>
        <p:spPr>
          <a:xfrm>
            <a:off x="1793880" y="5573880"/>
            <a:ext cx="425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62"/>
          <p:cNvSpPr/>
          <p:nvPr/>
        </p:nvSpPr>
        <p:spPr>
          <a:xfrm>
            <a:off x="1704960" y="5264280"/>
            <a:ext cx="514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C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5"/>
          <p:cNvSpPr/>
          <p:nvPr/>
        </p:nvSpPr>
        <p:spPr>
          <a:xfrm>
            <a:off x="1727280" y="4954680"/>
            <a:ext cx="492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t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77"/>
          <p:cNvGraphicFramePr/>
          <p:nvPr/>
        </p:nvGraphicFramePr>
        <p:xfrm>
          <a:off x="4746600" y="1482840"/>
          <a:ext cx="2894040" cy="333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Object 7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46600" y="1482840"/>
                    <a:ext cx="289404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88"/>
          <p:cNvGraphicFramePr/>
          <p:nvPr/>
        </p:nvGraphicFramePr>
        <p:xfrm>
          <a:off x="4746600" y="4799160"/>
          <a:ext cx="2894040" cy="112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3" name="Object 8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46600" y="4799160"/>
                    <a:ext cx="28940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Rectangle 52"/>
          <p:cNvSpPr/>
          <p:nvPr/>
        </p:nvSpPr>
        <p:spPr>
          <a:xfrm>
            <a:off x="2354400" y="1027080"/>
            <a:ext cx="2278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002960"/>
                </a:solidFill>
                <a:latin typeface="Arial"/>
              </a:rPr>
              <a:t>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</a:rPr>
              <a:t>Porcent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56"/>
          <p:cNvSpPr/>
          <p:nvPr/>
        </p:nvSpPr>
        <p:spPr>
          <a:xfrm>
            <a:off x="2354400" y="1501920"/>
            <a:ext cx="3431880" cy="0"/>
          </a:xfrm>
          <a:prstGeom prst="line">
            <a:avLst/>
          </a:prstGeom>
          <a:ln w="2556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6"/>
          <p:cNvSpPr/>
          <p:nvPr/>
        </p:nvSpPr>
        <p:spPr>
          <a:xfrm>
            <a:off x="4552920" y="814320"/>
            <a:ext cx="1471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002960"/>
                </a:solidFill>
                <a:latin typeface="Arial"/>
              </a:rPr>
              <a:t>Cambio en los últimos 10 años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</a:rPr>
              <a:t>Porcent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08"/>
          <p:cNvSpPr/>
          <p:nvPr/>
        </p:nvSpPr>
        <p:spPr>
          <a:xfrm rot="5400000">
            <a:off x="4234320" y="3462840"/>
            <a:ext cx="4280040" cy="347760"/>
          </a:xfrm>
          <a:prstGeom prst="triangle">
            <a:avLst>
              <a:gd name="adj" fmla="val 50000"/>
            </a:avLst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9"/>
          <p:cNvSpPr/>
          <p:nvPr/>
        </p:nvSpPr>
        <p:spPr>
          <a:xfrm>
            <a:off x="6700680" y="2255760"/>
            <a:ext cx="1468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</a:rPr>
              <a:t>Panamá tiene el IVA más bajo que el resto de América Latina, y más bajo que el promedio de OCDE y 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</a:rPr>
              <a:t>Varios países han aumentado el IVA en los últimos diez años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McK 5. Source"/>
          <p:cNvSpPr/>
          <p:nvPr/>
        </p:nvSpPr>
        <p:spPr>
          <a:xfrm>
            <a:off x="108000" y="6450120"/>
            <a:ext cx="6862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Fuente: PWC y KPMG | Diciembre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mpuestos al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A039-4B20-4275-B678-746949ED2C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mpuestos al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741240" y="1419120"/>
            <a:ext cx="7483680" cy="342900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4"/>
          <p:cNvSpPr/>
          <p:nvPr/>
        </p:nvSpPr>
        <p:spPr>
          <a:xfrm>
            <a:off x="922320" y="1762200"/>
            <a:ext cx="719784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aumentar  la tasa de ITBMS en 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eliminan las exenciones de ITBMS a lubricantes y telefonía residenc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l ISC de los celulares prepago se iguala con el ISC de los celulares de contra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elimina el arancel de importación de vehículos, se aumenta el ISC actual y se establece un mínimo para este impuesto. Se incentiva la importación de autos ecológicos (exentos por 3 años y luego pagarán un ISC de 5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reemplaza el impuesto turístico de hospedaje y el impuesto de boletos aéreos por ITBMS, y se gravan los concentrados y siropes para sodas con ISC de 1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Impuestos al Consumo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36"/>
          <p:cNvSpPr/>
          <p:nvPr/>
        </p:nvSpPr>
        <p:spPr>
          <a:xfrm>
            <a:off x="5396040" y="1217520"/>
            <a:ext cx="2806560" cy="471600"/>
          </a:xfrm>
          <a:prstGeom prst="roundRect">
            <a:avLst>
              <a:gd name="adj" fmla="val 10458"/>
            </a:avLst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5"/>
          <p:cNvSpPr/>
          <p:nvPr/>
        </p:nvSpPr>
        <p:spPr>
          <a:xfrm>
            <a:off x="2587680" y="1446120"/>
            <a:ext cx="5611680" cy="835200"/>
          </a:xfrm>
          <a:prstGeom prst="roundRect">
            <a:avLst>
              <a:gd name="adj" fmla="val 10458"/>
            </a:avLst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249"/>
          <p:cNvGrpSpPr/>
          <p:nvPr/>
        </p:nvGrpSpPr>
        <p:grpSpPr>
          <a:xfrm>
            <a:off x="649440" y="588960"/>
            <a:ext cx="7664040" cy="5743800"/>
            <a:chOff x="649440" y="588960"/>
            <a:chExt cx="7664040" cy="5743800"/>
          </a:xfrm>
        </p:grpSpPr>
        <p:grpSp>
          <p:nvGrpSpPr>
            <p:cNvPr id="573" name="Group 247"/>
            <p:cNvGrpSpPr/>
            <p:nvPr/>
          </p:nvGrpSpPr>
          <p:grpSpPr>
            <a:xfrm>
              <a:off x="649440" y="588960"/>
              <a:ext cx="7664040" cy="2320560"/>
              <a:chOff x="649440" y="588960"/>
              <a:chExt cx="7664040" cy="2320560"/>
            </a:xfrm>
          </p:grpSpPr>
          <p:grpSp>
            <p:nvGrpSpPr>
              <p:cNvPr id="574" name="Group 38"/>
              <p:cNvGrpSpPr/>
              <p:nvPr/>
            </p:nvGrpSpPr>
            <p:grpSpPr>
              <a:xfrm>
                <a:off x="649440" y="625320"/>
                <a:ext cx="1498320" cy="1577880"/>
                <a:chOff x="649440" y="625320"/>
                <a:chExt cx="1498320" cy="1577880"/>
              </a:xfrm>
            </p:grpSpPr>
            <p:sp>
              <p:nvSpPr>
                <p:cNvPr id="575" name="AutoShape 9"/>
                <p:cNvSpPr/>
                <p:nvPr/>
              </p:nvSpPr>
              <p:spPr>
                <a:xfrm>
                  <a:off x="649440" y="625320"/>
                  <a:ext cx="1498320" cy="1577880"/>
                </a:xfrm>
                <a:custGeom>
                  <a:avLst/>
                  <a:gdLst>
                    <a:gd name="textAreaLeft" fmla="*/ 53280 w 1498320"/>
                    <a:gd name="textAreaRight" fmla="*/ 1445040 w 1498320"/>
                    <a:gd name="textAreaTop" fmla="*/ 53280 h 1577880"/>
                    <a:gd name="textAreaBottom" fmla="*/ 1524600 h 1577880"/>
                  </a:gdLst>
                  <a:ahLst/>
                  <a:rect l="textAreaLeft" t="textAreaTop" r="textAreaRight" b="textAreaBottom"/>
                  <a:pathLst>
                    <a:path w="21600" h="22747">
                      <a:moveTo>
                        <a:pt x="2622" y="0"/>
                      </a:moveTo>
                      <a:arcTo wR="2622" hR="2622" stAng="16200000" swAng="-5400000"/>
                      <a:lnTo>
                        <a:pt x="0" y="20125"/>
                      </a:lnTo>
                      <a:arcTo wR="2622" hR="2622" stAng="10800000" swAng="-5400000"/>
                      <a:lnTo>
                        <a:pt x="18978" y="22747"/>
                      </a:lnTo>
                      <a:arcTo wR="2622" hR="2622" stAng="5400000" swAng="-5400000"/>
                      <a:lnTo>
                        <a:pt x="21600" y="2622"/>
                      </a:lnTo>
                      <a:arcTo wR="2622" hR="2622" stAng="0" swAng="-5400000"/>
                      <a:close/>
                    </a:path>
                  </a:pathLst>
                </a:custGeom>
                <a:solidFill>
                  <a:srgbClr val="c7e0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Rectangle 27"/>
                <p:cNvSpPr/>
                <p:nvPr/>
              </p:nvSpPr>
              <p:spPr>
                <a:xfrm>
                  <a:off x="720720" y="987840"/>
                  <a:ext cx="1356840" cy="85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s-ES" sz="1400" spc="-1" strike="noStrike">
                      <a:solidFill>
                        <a:srgbClr val="002960"/>
                      </a:solidFill>
                      <a:latin typeface="Arial"/>
                    </a:rPr>
                    <a:t>Permite cumplir con las Promesas del Gobiern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Rectangle 29"/>
              <p:cNvSpPr/>
              <p:nvPr/>
            </p:nvSpPr>
            <p:spPr>
              <a:xfrm>
                <a:off x="2225520" y="588960"/>
                <a:ext cx="6087960" cy="23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lvl="1" marL="193680" indent="-192240">
                  <a:lnSpc>
                    <a:spcPct val="100000"/>
                  </a:lnSpc>
                  <a:spcAft>
                    <a:spcPts val="300"/>
                  </a:spcAft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ctr" pos="3772080"/>
                    <a:tab algn="ctr" pos="511488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Para financiar su ambicioso programa de inversión social y en infraestructura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457200" indent="-262080">
                  <a:lnSpc>
                    <a:spcPct val="100000"/>
                  </a:lnSpc>
                  <a:spcAft>
                    <a:spcPts val="300"/>
                  </a:spcAft>
                  <a:buClr>
                    <a:srgbClr val="002960"/>
                  </a:buClr>
                  <a:buSzPct val="125000"/>
                  <a:buFont typeface="Arial"/>
                  <a:buChar char="•"/>
                  <a:tabLst>
                    <a:tab algn="ctr" pos="3772080"/>
                    <a:tab algn="ctr" pos="511488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ES" sz="1200" spc="-1" strike="noStrike">
                    <a:solidFill>
                      <a:srgbClr val="002960"/>
                    </a:solidFill>
                    <a:latin typeface="Arial"/>
                  </a:rPr>
                  <a:t>Financiamiento del Metro y mejoras al Transporte Públ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457200" indent="-262080">
                  <a:lnSpc>
                    <a:spcPct val="100000"/>
                  </a:lnSpc>
                  <a:spcAft>
                    <a:spcPts val="300"/>
                  </a:spcAft>
                  <a:buClr>
                    <a:srgbClr val="002960"/>
                  </a:buClr>
                  <a:buSzPct val="125000"/>
                  <a:buFont typeface="Arial"/>
                  <a:buChar char="•"/>
                  <a:tabLst>
                    <a:tab algn="ctr" pos="3772080"/>
                    <a:tab algn="ctr" pos="511488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2960"/>
                    </a:solidFill>
                    <a:latin typeface="Arial"/>
                  </a:rPr>
                  <a:t>Mejoras en las seguridad pública y aumento a los policí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457200" indent="-262080">
                  <a:lnSpc>
                    <a:spcPct val="100000"/>
                  </a:lnSpc>
                  <a:spcAft>
                    <a:spcPts val="249"/>
                  </a:spcAft>
                  <a:buClr>
                    <a:srgbClr val="002960"/>
                  </a:buClr>
                  <a:buSzPct val="125000"/>
                  <a:buFont typeface="Arial"/>
                  <a:buChar char="•"/>
                  <a:tabLst>
                    <a:tab algn="ctr" pos="3772080"/>
                    <a:tab algn="ctr" pos="511488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ES" sz="1200" spc="-1" strike="noStrike">
                    <a:solidFill>
                      <a:srgbClr val="002960"/>
                    </a:solidFill>
                    <a:latin typeface="Arial"/>
                  </a:rPr>
                  <a:t>Subsidios y Programas Sociales:</a:t>
                </a:r>
                <a:r>
                  <a:rPr b="0" lang="es-ES" sz="12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1" lang="es-ES" sz="1000" spc="-1" strike="noStrike">
                    <a:solidFill>
                      <a:srgbClr val="002960"/>
                    </a:solidFill>
                    <a:latin typeface="Arial"/>
                  </a:rPr>
                  <a:t>Costo</a:t>
                </a:r>
                <a:r>
                  <a:rPr b="1" lang="es-ES" sz="10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1" lang="es-ES" sz="1000" spc="-1" strike="noStrike">
                    <a:solidFill>
                      <a:srgbClr val="002960"/>
                    </a:solidFill>
                    <a:latin typeface="Arial"/>
                  </a:rPr>
                  <a:t>Benefici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457200" indent="-262080">
                  <a:lnSpc>
                    <a:spcPct val="100000"/>
                  </a:lnSpc>
                  <a:spcAft>
                    <a:spcPts val="275"/>
                  </a:spcAft>
                  <a:tabLst>
                    <a:tab algn="l" pos="0"/>
                    <a:tab algn="ctr" pos="3772080"/>
                    <a:tab algn="ctr" pos="511488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- Energía Eléctrica y Tanques de Gas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$154 MM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Más de 650 mil famili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457200" indent="-262080">
                  <a:lnSpc>
                    <a:spcPct val="100000"/>
                  </a:lnSpc>
                  <a:spcAft>
                    <a:spcPts val="275"/>
                  </a:spcAft>
                  <a:tabLst>
                    <a:tab algn="l" pos="0"/>
                    <a:tab algn="ctr" pos="3772080"/>
                    <a:tab algn="ctr" pos="511488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- Programa ‘100 a los 70’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$84 MM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70 mil adultos mayor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457200" indent="-262080">
                  <a:lnSpc>
                    <a:spcPct val="100000"/>
                  </a:lnSpc>
                  <a:spcAft>
                    <a:spcPts val="275"/>
                  </a:spcAft>
                  <a:tabLst>
                    <a:tab algn="l" pos="0"/>
                    <a:tab algn="ctr" pos="3772080"/>
                    <a:tab algn="ctr" pos="511488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- Beca Universal, uniformes, libros y útiles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$150 MM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Aprox. 800 mil estudiant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457200" indent="-262080">
                  <a:lnSpc>
                    <a:spcPct val="100000"/>
                  </a:lnSpc>
                  <a:spcAft>
                    <a:spcPts val="275"/>
                  </a:spcAft>
                  <a:tabLst>
                    <a:tab algn="l" pos="0"/>
                    <a:tab algn="ctr" pos="3772080"/>
                    <a:tab algn="ctr" pos="511488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- Intereses Preferenciales hasta por 15 años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$73 MM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Más de 70 mil famili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2271600" y="2370240"/>
              <a:ext cx="5938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248"/>
            <p:cNvGrpSpPr/>
            <p:nvPr/>
          </p:nvGrpSpPr>
          <p:grpSpPr>
            <a:xfrm>
              <a:off x="649440" y="2502000"/>
              <a:ext cx="7664040" cy="2044440"/>
              <a:chOff x="649440" y="2502000"/>
              <a:chExt cx="7664040" cy="2044440"/>
            </a:xfrm>
          </p:grpSpPr>
          <p:grpSp>
            <p:nvGrpSpPr>
              <p:cNvPr id="580" name="Group 37"/>
              <p:cNvGrpSpPr/>
              <p:nvPr/>
            </p:nvGrpSpPr>
            <p:grpSpPr>
              <a:xfrm>
                <a:off x="649440" y="2502000"/>
                <a:ext cx="1498320" cy="1663200"/>
                <a:chOff x="649440" y="2502000"/>
                <a:chExt cx="1498320" cy="1663200"/>
              </a:xfrm>
            </p:grpSpPr>
            <p:sp>
              <p:nvSpPr>
                <p:cNvPr id="581" name="AutoShape 9"/>
                <p:cNvSpPr/>
                <p:nvPr/>
              </p:nvSpPr>
              <p:spPr>
                <a:xfrm>
                  <a:off x="649440" y="2502000"/>
                  <a:ext cx="1498320" cy="1663200"/>
                </a:xfrm>
                <a:custGeom>
                  <a:avLst/>
                  <a:gdLst>
                    <a:gd name="textAreaLeft" fmla="*/ 53280 w 1498320"/>
                    <a:gd name="textAreaRight" fmla="*/ 1445040 w 1498320"/>
                    <a:gd name="textAreaTop" fmla="*/ 53280 h 1663200"/>
                    <a:gd name="textAreaBottom" fmla="*/ 1609920 h 1663200"/>
                  </a:gdLst>
                  <a:ahLst/>
                  <a:rect l="textAreaLeft" t="textAreaTop" r="textAreaRight" b="textAreaBottom"/>
                  <a:pathLst>
                    <a:path w="21600" h="23976">
                      <a:moveTo>
                        <a:pt x="2622" y="0"/>
                      </a:moveTo>
                      <a:arcTo wR="2622" hR="2622" stAng="16200000" swAng="-5400000"/>
                      <a:lnTo>
                        <a:pt x="0" y="21354"/>
                      </a:lnTo>
                      <a:arcTo wR="2622" hR="2622" stAng="10800000" swAng="-5400000"/>
                      <a:lnTo>
                        <a:pt x="18978" y="23976"/>
                      </a:lnTo>
                      <a:arcTo wR="2622" hR="2622" stAng="5400000" swAng="-5400000"/>
                      <a:lnTo>
                        <a:pt x="21600" y="2622"/>
                      </a:lnTo>
                      <a:arcTo wR="2622" hR="2622" stAng="0" swAng="-5400000"/>
                      <a:close/>
                    </a:path>
                  </a:pathLst>
                </a:custGeom>
                <a:solidFill>
                  <a:srgbClr val="c7e0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27"/>
                <p:cNvSpPr/>
                <p:nvPr/>
              </p:nvSpPr>
              <p:spPr>
                <a:xfrm>
                  <a:off x="720720" y="3117600"/>
                  <a:ext cx="135684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s-ES" sz="1400" spc="-1" strike="noStrike">
                      <a:solidFill>
                        <a:srgbClr val="002960"/>
                      </a:solidFill>
                      <a:latin typeface="Arial"/>
                    </a:rPr>
                    <a:t>Fomenta la Equ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Rectangle 29"/>
              <p:cNvSpPr/>
              <p:nvPr/>
            </p:nvSpPr>
            <p:spPr>
              <a:xfrm>
                <a:off x="2225520" y="2527200"/>
                <a:ext cx="6087960" cy="20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lvl="1" marL="193680" indent="-192240">
                  <a:lnSpc>
                    <a:spcPct val="100000"/>
                  </a:lnSpc>
                  <a:spcAft>
                    <a:spcPts val="300"/>
                  </a:spcAft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361800"/>
                    <a:tab algn="l" pos="260028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Se grava el consumo y no el trabajo (el que consume más, entonces pagará más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spcAft>
                    <a:spcPts val="300"/>
                  </a:spcAft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361800"/>
                    <a:tab algn="l" pos="260028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Se mantienen las exenciones de bienes básicos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spcAft>
                    <a:spcPts val="275"/>
                  </a:spcAft>
                  <a:tabLst>
                    <a:tab algn="l" pos="0"/>
                    <a:tab algn="l" pos="361800"/>
                    <a:tab algn="l" pos="260028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- Alimentos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- Educación, Libros y Útiles escolar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spcAft>
                    <a:spcPts val="275"/>
                  </a:spcAft>
                  <a:tabLst>
                    <a:tab algn="l" pos="0"/>
                    <a:tab algn="l" pos="361800"/>
                    <a:tab algn="l" pos="260028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- Servicios Públicos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- Servicios de Salud y Medicament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spcAft>
                    <a:spcPts val="275"/>
                  </a:spcAft>
                  <a:tabLst>
                    <a:tab algn="l" pos="0"/>
                    <a:tab algn="l" pos="361800"/>
                    <a:tab algn="l" pos="260028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- Alquileres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- Transporte y combustib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spcAft>
                    <a:spcPts val="275"/>
                  </a:spcAft>
                  <a:tabLst>
                    <a:tab algn="l" pos="0"/>
                    <a:tab algn="l" pos="361800"/>
                    <a:tab algn="l" pos="260028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	</a:t>
                </a:r>
                <a:r>
                  <a:rPr b="0" lang="es-PA" sz="1100" spc="-1" strike="noStrike">
                    <a:solidFill>
                      <a:srgbClr val="002960"/>
                    </a:solidFill>
                    <a:latin typeface="Arial"/>
                  </a:rPr>
                  <a:t>- Productos e insumos agropecuari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spcAft>
                    <a:spcPts val="300"/>
                  </a:spcAft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361800"/>
                    <a:tab algn="l" pos="260028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El 72% del aumento es pagado por el 23% de las personas con mayor poder adquisitivo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361800"/>
                    <a:tab algn="l" pos="260028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Line 33"/>
            <p:cNvSpPr/>
            <p:nvPr/>
          </p:nvSpPr>
          <p:spPr>
            <a:xfrm>
              <a:off x="2271600" y="4297320"/>
              <a:ext cx="5938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33"/>
            <p:cNvSpPr/>
            <p:nvPr/>
          </p:nvSpPr>
          <p:spPr>
            <a:xfrm>
              <a:off x="2271600" y="5253120"/>
              <a:ext cx="5938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246"/>
            <p:cNvGrpSpPr/>
            <p:nvPr/>
          </p:nvGrpSpPr>
          <p:grpSpPr>
            <a:xfrm>
              <a:off x="649440" y="4429080"/>
              <a:ext cx="7664040" cy="692280"/>
              <a:chOff x="649440" y="4429080"/>
              <a:chExt cx="7664040" cy="692280"/>
            </a:xfrm>
          </p:grpSpPr>
          <p:sp>
            <p:nvSpPr>
              <p:cNvPr id="587" name="Rectangle 29"/>
              <p:cNvSpPr/>
              <p:nvPr/>
            </p:nvSpPr>
            <p:spPr>
              <a:xfrm>
                <a:off x="2225520" y="4483080"/>
                <a:ext cx="608796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lvl="1" marL="193680" indent="-192240">
                  <a:lnSpc>
                    <a:spcPct val="100000"/>
                  </a:lnSpc>
                  <a:spcAft>
                    <a:spcPts val="300"/>
                  </a:spcAft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Este incremento fortalecerá las finanzas públicas y ayudará a obtener el Grado de Inversión para el paí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spcAft>
                    <a:spcPts val="300"/>
                  </a:spcAft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Es necesario disminuir el déficit del Gobierno Cent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8" name="Group 36"/>
              <p:cNvGrpSpPr/>
              <p:nvPr/>
            </p:nvGrpSpPr>
            <p:grpSpPr>
              <a:xfrm>
                <a:off x="649440" y="4429080"/>
                <a:ext cx="1498320" cy="692280"/>
                <a:chOff x="649440" y="4429080"/>
                <a:chExt cx="1498320" cy="692280"/>
              </a:xfrm>
            </p:grpSpPr>
            <p:sp>
              <p:nvSpPr>
                <p:cNvPr id="589" name="AutoShape 9"/>
                <p:cNvSpPr/>
                <p:nvPr/>
              </p:nvSpPr>
              <p:spPr>
                <a:xfrm>
                  <a:off x="649440" y="4429080"/>
                  <a:ext cx="1498320" cy="692280"/>
                </a:xfrm>
                <a:prstGeom prst="roundRect">
                  <a:avLst>
                    <a:gd name="adj" fmla="val 12139"/>
                  </a:avLst>
                </a:prstGeom>
                <a:solidFill>
                  <a:srgbClr val="c7e0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Rectangle 27"/>
                <p:cNvSpPr/>
                <p:nvPr/>
              </p:nvSpPr>
              <p:spPr>
                <a:xfrm>
                  <a:off x="719280" y="4455360"/>
                  <a:ext cx="1356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s-ES" sz="1400" spc="-1" strike="noStrike">
                      <a:solidFill>
                        <a:srgbClr val="002960"/>
                      </a:solidFill>
                      <a:latin typeface="Arial"/>
                    </a:rPr>
                    <a:t>Fortalece las Finanzas Públ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1" name="Group 245"/>
            <p:cNvGrpSpPr/>
            <p:nvPr/>
          </p:nvGrpSpPr>
          <p:grpSpPr>
            <a:xfrm>
              <a:off x="649440" y="5384880"/>
              <a:ext cx="7664040" cy="947880"/>
              <a:chOff x="649440" y="5384880"/>
              <a:chExt cx="7664040" cy="947880"/>
            </a:xfrm>
          </p:grpSpPr>
          <p:sp>
            <p:nvSpPr>
              <p:cNvPr id="592" name="Rectangle 29"/>
              <p:cNvSpPr/>
              <p:nvPr/>
            </p:nvSpPr>
            <p:spPr>
              <a:xfrm>
                <a:off x="2225520" y="5384880"/>
                <a:ext cx="6087960" cy="94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lvl="1" marL="193680" indent="-192240">
                  <a:lnSpc>
                    <a:spcPct val="100000"/>
                  </a:lnSpc>
                  <a:spcAft>
                    <a:spcPts val="275"/>
                  </a:spcAft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El ITBMS de Panamá es de los más bajos del mundo: en la región le sigue Guatemala con 12</a:t>
                </a:r>
                <a:r>
                  <a:rPr b="1" lang="es-PA" sz="1100" spc="-1" strike="noStrike">
                    <a:solidFill>
                      <a:srgbClr val="002960"/>
                    </a:solidFill>
                    <a:latin typeface="Arial"/>
                  </a:rPr>
                  <a:t>%</a:t>
                </a: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, el promedio en América Latina es 16</a:t>
                </a:r>
                <a:r>
                  <a:rPr b="1" lang="es-PA" sz="1100" spc="-1" strike="noStrike">
                    <a:solidFill>
                      <a:srgbClr val="002960"/>
                    </a:solidFill>
                    <a:latin typeface="Arial"/>
                  </a:rPr>
                  <a:t>%</a:t>
                </a: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 y en la OCDE* es 19</a:t>
                </a:r>
                <a:r>
                  <a:rPr b="1" lang="es-PA" sz="1100" spc="-1" strike="noStrike">
                    <a:solidFill>
                      <a:srgbClr val="002960"/>
                    </a:solidFill>
                    <a:latin typeface="Arial"/>
                  </a:rPr>
                  <a:t>%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spcAft>
                    <a:spcPts val="300"/>
                  </a:spcAft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El ingreso tributario como porcentaje del PIB (10.7</a:t>
                </a:r>
                <a:r>
                  <a:rPr b="1" lang="es-PA" sz="1100" spc="-1" strike="noStrike">
                    <a:solidFill>
                      <a:srgbClr val="002960"/>
                    </a:solidFill>
                    <a:latin typeface="Arial"/>
                  </a:rPr>
                  <a:t>%</a:t>
                </a: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) es el segundo más bajo de América Latina (promedio 15</a:t>
                </a:r>
                <a:r>
                  <a:rPr b="1" lang="es-PA" sz="1100" spc="-1" strike="noStrike">
                    <a:solidFill>
                      <a:srgbClr val="002960"/>
                    </a:solidFill>
                    <a:latin typeface="Arial"/>
                  </a:rPr>
                  <a:t>%</a:t>
                </a: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) y de los más bajos del mundo (OCDE: 36</a:t>
                </a:r>
                <a:r>
                  <a:rPr b="1" lang="es-PA" sz="1100" spc="-1" strike="noStrike">
                    <a:solidFill>
                      <a:srgbClr val="002960"/>
                    </a:solidFill>
                    <a:latin typeface="Arial"/>
                  </a:rPr>
                  <a:t>%</a:t>
                </a: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3" name="Group 35"/>
              <p:cNvGrpSpPr/>
              <p:nvPr/>
            </p:nvGrpSpPr>
            <p:grpSpPr>
              <a:xfrm>
                <a:off x="649440" y="5394240"/>
                <a:ext cx="1498320" cy="749520"/>
                <a:chOff x="649440" y="5394240"/>
                <a:chExt cx="1498320" cy="749520"/>
              </a:xfrm>
            </p:grpSpPr>
            <p:sp>
              <p:nvSpPr>
                <p:cNvPr id="594" name="AutoShape 9"/>
                <p:cNvSpPr/>
                <p:nvPr/>
              </p:nvSpPr>
              <p:spPr>
                <a:xfrm>
                  <a:off x="649440" y="5394240"/>
                  <a:ext cx="1498320" cy="749520"/>
                </a:xfrm>
                <a:prstGeom prst="roundRect">
                  <a:avLst>
                    <a:gd name="adj" fmla="val 12139"/>
                  </a:avLst>
                </a:prstGeom>
                <a:solidFill>
                  <a:srgbClr val="c7e0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27"/>
                <p:cNvSpPr/>
                <p:nvPr/>
              </p:nvSpPr>
              <p:spPr>
                <a:xfrm>
                  <a:off x="719280" y="5555520"/>
                  <a:ext cx="135684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s-ES" sz="1400" spc="-1" strike="noStrike">
                      <a:solidFill>
                        <a:srgbClr val="002960"/>
                      </a:solidFill>
                      <a:latin typeface="Arial"/>
                    </a:rPr>
                    <a:t>Comparativo Regiona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6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A793-05C3-410C-A16B-67D93343EB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cK 4. Footnote"/>
          <p:cNvSpPr/>
          <p:nvPr/>
        </p:nvSpPr>
        <p:spPr>
          <a:xfrm>
            <a:off x="106200" y="6440400"/>
            <a:ext cx="882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* OCDE: Organización para la Cooperación y el Desarrollo Económi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mpuestos al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9160" y="12816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¿Por qué es necesario aumentar el ITBMS?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6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Efecto en los hogares de bajos ingreso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cxnSp>
        <p:nvCxnSpPr>
          <p:cNvPr id="603" name="AutoShape 11"/>
          <p:cNvCxnSpPr>
            <a:stCxn id="604" idx="0"/>
            <a:endCxn id="604" idx="1"/>
          </p:cNvCxnSpPr>
          <p:nvPr/>
        </p:nvCxnSpPr>
        <p:spPr>
          <a:xfrm>
            <a:off x="555120" y="1234800"/>
            <a:ext cx="427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5" name="Rectangle 4"/>
          <p:cNvSpPr/>
          <p:nvPr/>
        </p:nvSpPr>
        <p:spPr>
          <a:xfrm>
            <a:off x="439560" y="3868560"/>
            <a:ext cx="4505400" cy="231156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555480" y="1301760"/>
            <a:ext cx="422136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Ingreso Mensual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400.00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800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Contribución a la CSS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8.0%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32.00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64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Seguro Educativo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.25%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Disponible para gastos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363.00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726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Artículos que no pagan impue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Comida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58%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10.54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421.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Vivienda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36.30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72.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Transporte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4%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4.52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9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Serv. Públicos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3.63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7.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Total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73%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264.99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529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Artículos que sí pagan ITB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estid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9.9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9.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ogar y cuidado persona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5.4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0.8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erveza*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%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.5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9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elula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.2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.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joras en el hoga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.2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.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da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.6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.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Total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7%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98.01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196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49"/>
              </a:spcAft>
              <a:tabLst>
                <a:tab algn="l" pos="0"/>
                <a:tab algn="l" pos="181080"/>
                <a:tab algn="r" pos="2333520"/>
                <a:tab algn="r" pos="3314880"/>
                <a:tab algn="r" pos="42195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002960"/>
                </a:solidFill>
                <a:latin typeface="Arial"/>
              </a:rPr>
              <a:t>Incremento de ITBMS en 2%*</a:t>
            </a:r>
            <a:r>
              <a:rPr b="1" lang="es-PA" sz="14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PA" sz="1400" spc="-1" strike="noStrike">
                <a:solidFill>
                  <a:srgbClr val="002960"/>
                </a:solidFill>
                <a:latin typeface="Arial"/>
              </a:rPr>
              <a:t>1.67</a:t>
            </a:r>
            <a:r>
              <a:rPr b="1" lang="es-PA" sz="14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PA" sz="1400" spc="-1" strike="noStrike">
                <a:solidFill>
                  <a:srgbClr val="002960"/>
                </a:solidFill>
                <a:latin typeface="Arial"/>
              </a:rPr>
              <a:t>3.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2"/>
          <p:cNvSpPr/>
          <p:nvPr/>
        </p:nvSpPr>
        <p:spPr>
          <a:xfrm>
            <a:off x="555480" y="668880"/>
            <a:ext cx="4273560" cy="566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200" spc="-1" strike="noStrike">
                <a:solidFill>
                  <a:srgbClr val="000000"/>
                </a:solidFill>
                <a:latin typeface="Arial"/>
              </a:rPr>
              <a:t>Efecto del Incremento de ITBMS en individuos con menor poder adquisi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200" spc="-1" strike="noStrike">
                <a:solidFill>
                  <a:srgbClr val="808080"/>
                </a:solidFill>
                <a:latin typeface="Arial"/>
              </a:rPr>
              <a:t>Cifras en Balb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4"/>
          <p:cNvSpPr/>
          <p:nvPr/>
        </p:nvSpPr>
        <p:spPr>
          <a:xfrm>
            <a:off x="5635800" y="1206360"/>
            <a:ext cx="2889000" cy="4226040"/>
          </a:xfrm>
          <a:prstGeom prst="wedgeRectCallout">
            <a:avLst>
              <a:gd name="adj1" fmla="val -62694"/>
              <a:gd name="adj2" fmla="val 29490"/>
            </a:avLst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"/>
          <p:cNvSpPr/>
          <p:nvPr/>
        </p:nvSpPr>
        <p:spPr>
          <a:xfrm>
            <a:off x="5751360" y="1328760"/>
            <a:ext cx="2657520" cy="39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spcBef>
                <a:spcPts val="1125"/>
              </a:spcBef>
              <a:buClr>
                <a:srgbClr val="002960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Sólo el </a:t>
            </a:r>
            <a:r>
              <a:rPr b="0" lang="es-PA" sz="1800" spc="-1" strike="noStrike" u="sng">
                <a:solidFill>
                  <a:srgbClr val="000000"/>
                </a:solidFill>
                <a:uFillTx/>
                <a:latin typeface="Arial"/>
              </a:rPr>
              <a:t>27% de los gastos</a:t>
            </a: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, en los hogares con menor poder adquisitivo, están </a:t>
            </a:r>
            <a:r>
              <a:rPr b="0" lang="es-PA" sz="1800" spc="-1" strike="noStrike" u="sng">
                <a:solidFill>
                  <a:srgbClr val="000000"/>
                </a:solidFill>
                <a:uFillTx/>
                <a:latin typeface="Arial"/>
              </a:rPr>
              <a:t>gravados con ITBMS</a:t>
            </a: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, el resto está ex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2960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El 23% de los contribuyentes con mayor poder adquisitivo cubrirán el 72% de los aumentos en impuestos al consumo, ya que son estos los que más con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McK 5. Source"/>
          <p:cNvSpPr/>
          <p:nvPr/>
        </p:nvSpPr>
        <p:spPr>
          <a:xfrm>
            <a:off x="119160" y="6401160"/>
            <a:ext cx="686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*  El ITBMS para licores y cervezas se mantendrá en 1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uente: Encuesta realizada por el M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E43C-1EAD-483B-9C25-08CCB42958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mpuestos al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3"/>
          <p:cNvSpPr/>
          <p:nvPr/>
        </p:nvSpPr>
        <p:spPr>
          <a:xfrm>
            <a:off x="3129120" y="4343400"/>
            <a:ext cx="582480" cy="150984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"/>
          <p:cNvSpPr/>
          <p:nvPr/>
        </p:nvSpPr>
        <p:spPr>
          <a:xfrm flipV="1">
            <a:off x="3129120" y="3147480"/>
            <a:ext cx="582480" cy="7765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0"/>
          <p:cNvSpPr/>
          <p:nvPr/>
        </p:nvSpPr>
        <p:spPr>
          <a:xfrm>
            <a:off x="2128680" y="2076480"/>
            <a:ext cx="0" cy="333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91"/>
          <p:cNvSpPr/>
          <p:nvPr/>
        </p:nvSpPr>
        <p:spPr>
          <a:xfrm>
            <a:off x="2557440" y="2828880"/>
            <a:ext cx="0" cy="333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92"/>
          <p:cNvSpPr/>
          <p:nvPr/>
        </p:nvSpPr>
        <p:spPr>
          <a:xfrm>
            <a:off x="2909880" y="3591000"/>
            <a:ext cx="0" cy="333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04"/>
          <p:cNvSpPr/>
          <p:nvPr/>
        </p:nvSpPr>
        <p:spPr>
          <a:xfrm>
            <a:off x="3157560" y="5095800"/>
            <a:ext cx="0" cy="333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01"/>
          <p:cNvSpPr/>
          <p:nvPr/>
        </p:nvSpPr>
        <p:spPr>
          <a:xfrm>
            <a:off x="3129120" y="4343400"/>
            <a:ext cx="0" cy="333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Object 5"/>
          <p:cNvGraphicFramePr/>
          <p:nvPr/>
        </p:nvGraphicFramePr>
        <p:xfrm>
          <a:off x="1042920" y="1400040"/>
          <a:ext cx="221796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00040"/>
                    <a:ext cx="221796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Rectangle 12"/>
          <p:cNvSpPr/>
          <p:nvPr/>
        </p:nvSpPr>
        <p:spPr>
          <a:xfrm>
            <a:off x="2154240" y="1790640"/>
            <a:ext cx="419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131.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13"/>
          <p:cNvSpPr/>
          <p:nvPr/>
        </p:nvSpPr>
        <p:spPr>
          <a:xfrm>
            <a:off x="2844720" y="4057560"/>
            <a:ext cx="349200" cy="15264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29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02"/>
          <p:cNvSpPr/>
          <p:nvPr/>
        </p:nvSpPr>
        <p:spPr>
          <a:xfrm>
            <a:off x="3003480" y="4809960"/>
            <a:ext cx="279360" cy="15264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4.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1851120" y="5532480"/>
            <a:ext cx="59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268.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7"/>
          <p:cNvSpPr/>
          <p:nvPr/>
        </p:nvSpPr>
        <p:spPr>
          <a:xfrm>
            <a:off x="193680" y="1727280"/>
            <a:ext cx="94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rnes, Grasas y Lácte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8"/>
          <p:cNvSpPr/>
          <p:nvPr/>
        </p:nvSpPr>
        <p:spPr>
          <a:xfrm>
            <a:off x="193680" y="3154320"/>
            <a:ext cx="94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Vegetales, Legumbres y Fru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09"/>
          <p:cNvSpPr/>
          <p:nvPr/>
        </p:nvSpPr>
        <p:spPr>
          <a:xfrm>
            <a:off x="193680" y="3979800"/>
            <a:ext cx="94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tros Ali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11"/>
          <p:cNvSpPr/>
          <p:nvPr/>
        </p:nvSpPr>
        <p:spPr>
          <a:xfrm>
            <a:off x="193680" y="4719600"/>
            <a:ext cx="94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mbustible (G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2"/>
          <p:cNvSpPr/>
          <p:nvPr/>
        </p:nvSpPr>
        <p:spPr>
          <a:xfrm>
            <a:off x="193680" y="5384880"/>
            <a:ext cx="9460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Costo Total de la Canasta Bás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4"/>
          <p:cNvSpPr/>
          <p:nvPr/>
        </p:nvSpPr>
        <p:spPr>
          <a:xfrm>
            <a:off x="193680" y="2467080"/>
            <a:ext cx="94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ereales y Azú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3"/>
          <p:cNvSpPr/>
          <p:nvPr/>
        </p:nvSpPr>
        <p:spPr>
          <a:xfrm>
            <a:off x="200160" y="944640"/>
            <a:ext cx="3489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Costo de la Canasta Básica Fam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808080"/>
                </a:solidFill>
                <a:latin typeface="Arial"/>
              </a:rPr>
              <a:t>Promedio 2009 (en dóla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4"/>
          <p:cNvSpPr/>
          <p:nvPr/>
        </p:nvSpPr>
        <p:spPr>
          <a:xfrm>
            <a:off x="200160" y="1343160"/>
            <a:ext cx="4322520" cy="0"/>
          </a:xfrm>
          <a:prstGeom prst="line">
            <a:avLst/>
          </a:prstGeom>
          <a:ln w="2556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A61D-8DA4-459A-8C21-6E12FD6195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Object 174"/>
          <p:cNvGraphicFramePr/>
          <p:nvPr/>
        </p:nvGraphicFramePr>
        <p:xfrm>
          <a:off x="3425760" y="3052800"/>
          <a:ext cx="1381320" cy="29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Object 1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5760" y="3052800"/>
                    <a:ext cx="13813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Line 25"/>
          <p:cNvSpPr/>
          <p:nvPr/>
        </p:nvSpPr>
        <p:spPr>
          <a:xfrm>
            <a:off x="3954600" y="3122640"/>
            <a:ext cx="0" cy="44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6"/>
          <p:cNvSpPr/>
          <p:nvPr/>
        </p:nvSpPr>
        <p:spPr>
          <a:xfrm flipH="1">
            <a:off x="4227480" y="3133800"/>
            <a:ext cx="85680" cy="33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8"/>
          <p:cNvSpPr/>
          <p:nvPr/>
        </p:nvSpPr>
        <p:spPr>
          <a:xfrm>
            <a:off x="3814920" y="2970360"/>
            <a:ext cx="279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0.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88"/>
          <p:cNvSpPr/>
          <p:nvPr/>
        </p:nvSpPr>
        <p:spPr>
          <a:xfrm>
            <a:off x="3814920" y="3195720"/>
            <a:ext cx="279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1.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1"/>
          <p:cNvSpPr/>
          <p:nvPr/>
        </p:nvSpPr>
        <p:spPr>
          <a:xfrm>
            <a:off x="3814920" y="3529080"/>
            <a:ext cx="279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5.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7"/>
          <p:cNvSpPr/>
          <p:nvPr/>
        </p:nvSpPr>
        <p:spPr>
          <a:xfrm>
            <a:off x="3814920" y="3929040"/>
            <a:ext cx="279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3.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3814920" y="4371840"/>
            <a:ext cx="27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6.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9"/>
          <p:cNvSpPr/>
          <p:nvPr/>
        </p:nvSpPr>
        <p:spPr>
          <a:xfrm>
            <a:off x="3814920" y="5019840"/>
            <a:ext cx="279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7.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8"/>
          <p:cNvSpPr/>
          <p:nvPr/>
        </p:nvSpPr>
        <p:spPr>
          <a:xfrm>
            <a:off x="3814920" y="5576760"/>
            <a:ext cx="27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4.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76"/>
          <p:cNvSpPr/>
          <p:nvPr/>
        </p:nvSpPr>
        <p:spPr>
          <a:xfrm>
            <a:off x="3521160" y="5954760"/>
            <a:ext cx="86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Otros Ali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4"/>
          <p:cNvSpPr/>
          <p:nvPr/>
        </p:nvSpPr>
        <p:spPr>
          <a:xfrm>
            <a:off x="4338720" y="3071880"/>
            <a:ext cx="147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S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92"/>
          <p:cNvSpPr/>
          <p:nvPr/>
        </p:nvSpPr>
        <p:spPr>
          <a:xfrm>
            <a:off x="4338720" y="3243240"/>
            <a:ext cx="47124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Mayone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31"/>
          <p:cNvSpPr/>
          <p:nvPr/>
        </p:nvSpPr>
        <p:spPr>
          <a:xfrm>
            <a:off x="4338720" y="3543480"/>
            <a:ext cx="44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Café y 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2"/>
          <p:cNvSpPr/>
          <p:nvPr/>
        </p:nvSpPr>
        <p:spPr>
          <a:xfrm>
            <a:off x="4338720" y="3943440"/>
            <a:ext cx="97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Sopas Deshidratad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7"/>
          <p:cNvSpPr/>
          <p:nvPr/>
        </p:nvSpPr>
        <p:spPr>
          <a:xfrm>
            <a:off x="4338720" y="4386240"/>
            <a:ext cx="82368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Salsas de Tom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6"/>
          <p:cNvSpPr/>
          <p:nvPr/>
        </p:nvSpPr>
        <p:spPr>
          <a:xfrm>
            <a:off x="4338720" y="5033880"/>
            <a:ext cx="7509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Jugos y Bebid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9"/>
          <p:cNvSpPr/>
          <p:nvPr/>
        </p:nvSpPr>
        <p:spPr>
          <a:xfrm>
            <a:off x="4338720" y="5591160"/>
            <a:ext cx="11556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Soda en envase de vid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4"/>
          <p:cNvSpPr/>
          <p:nvPr/>
        </p:nvSpPr>
        <p:spPr>
          <a:xfrm>
            <a:off x="6086520" y="4214880"/>
            <a:ext cx="2549520" cy="1819080"/>
          </a:xfrm>
          <a:prstGeom prst="wedgeRectCallout">
            <a:avLst>
              <a:gd name="adj1" fmla="val -64444"/>
              <a:gd name="adj2" fmla="val -27398"/>
            </a:avLst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5"/>
          <p:cNvSpPr/>
          <p:nvPr/>
        </p:nvSpPr>
        <p:spPr>
          <a:xfrm>
            <a:off x="6195960" y="4268880"/>
            <a:ext cx="23306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600" spc="-1" strike="noStrike">
                <a:solidFill>
                  <a:srgbClr val="000000"/>
                </a:solidFill>
                <a:latin typeface="Arial"/>
              </a:rPr>
              <a:t>Ningún producto de la Canasta Básica de Alimentos paga ITBMS, por lo que el aumento de 2% en ITBMS no afectará el costo de la mis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5753160" y="3024360"/>
            <a:ext cx="2911320" cy="885600"/>
          </a:xfrm>
          <a:prstGeom prst="wedgeRectCallout">
            <a:avLst>
              <a:gd name="adj1" fmla="val 14231"/>
              <a:gd name="adj2" fmla="val -74550"/>
            </a:avLst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7"/>
          <p:cNvSpPr/>
          <p:nvPr/>
        </p:nvSpPr>
        <p:spPr>
          <a:xfrm>
            <a:off x="5853240" y="3116160"/>
            <a:ext cx="27111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0000"/>
                </a:solidFill>
                <a:latin typeface="Arial"/>
              </a:rPr>
              <a:t>El costo total de la Canasta Básica se ha mantenido estable e incluso ha disminuido en los últimos 6 meses del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mpuestos al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Object 47"/>
          <p:cNvGraphicFramePr/>
          <p:nvPr/>
        </p:nvGraphicFramePr>
        <p:xfrm>
          <a:off x="4629240" y="549360"/>
          <a:ext cx="4160880" cy="20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9" name="Object 4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29240" y="549360"/>
                    <a:ext cx="41608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Rectangle 48"/>
          <p:cNvSpPr/>
          <p:nvPr/>
        </p:nvSpPr>
        <p:spPr>
          <a:xfrm>
            <a:off x="4729320" y="906480"/>
            <a:ext cx="342720" cy="1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273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49"/>
          <p:cNvSpPr/>
          <p:nvPr/>
        </p:nvSpPr>
        <p:spPr>
          <a:xfrm>
            <a:off x="4667400" y="2565360"/>
            <a:ext cx="3045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Dic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0"/>
          <p:cNvSpPr/>
          <p:nvPr/>
        </p:nvSpPr>
        <p:spPr>
          <a:xfrm>
            <a:off x="5286240" y="2565360"/>
            <a:ext cx="3049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Feb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1"/>
          <p:cNvSpPr/>
          <p:nvPr/>
        </p:nvSpPr>
        <p:spPr>
          <a:xfrm>
            <a:off x="5905440" y="2565360"/>
            <a:ext cx="3049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Abr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52"/>
          <p:cNvSpPr/>
          <p:nvPr/>
        </p:nvSpPr>
        <p:spPr>
          <a:xfrm>
            <a:off x="6524640" y="2565360"/>
            <a:ext cx="3049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Jun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3"/>
          <p:cNvSpPr/>
          <p:nvPr/>
        </p:nvSpPr>
        <p:spPr>
          <a:xfrm>
            <a:off x="7129440" y="2565360"/>
            <a:ext cx="31428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Ago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54"/>
          <p:cNvSpPr/>
          <p:nvPr/>
        </p:nvSpPr>
        <p:spPr>
          <a:xfrm>
            <a:off x="7748640" y="2565360"/>
            <a:ext cx="31428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Oct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5"/>
          <p:cNvSpPr/>
          <p:nvPr/>
        </p:nvSpPr>
        <p:spPr>
          <a:xfrm>
            <a:off x="8372520" y="2565360"/>
            <a:ext cx="3049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Dic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6"/>
          <p:cNvSpPr/>
          <p:nvPr/>
        </p:nvSpPr>
        <p:spPr>
          <a:xfrm>
            <a:off x="4568760" y="2239920"/>
            <a:ext cx="171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7"/>
          <p:cNvSpPr/>
          <p:nvPr/>
        </p:nvSpPr>
        <p:spPr>
          <a:xfrm>
            <a:off x="4568760" y="1411200"/>
            <a:ext cx="171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2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58"/>
          <p:cNvSpPr/>
          <p:nvPr/>
        </p:nvSpPr>
        <p:spPr>
          <a:xfrm>
            <a:off x="4568760" y="582480"/>
            <a:ext cx="171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2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59"/>
          <p:cNvSpPr/>
          <p:nvPr/>
        </p:nvSpPr>
        <p:spPr>
          <a:xfrm>
            <a:off x="4819680" y="835200"/>
            <a:ext cx="38955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60"/>
          <p:cNvSpPr/>
          <p:nvPr/>
        </p:nvSpPr>
        <p:spPr>
          <a:xfrm>
            <a:off x="8524800" y="1987560"/>
            <a:ext cx="1904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61"/>
          <p:cNvSpPr/>
          <p:nvPr/>
        </p:nvSpPr>
        <p:spPr>
          <a:xfrm>
            <a:off x="8677440" y="831960"/>
            <a:ext cx="0" cy="1158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62"/>
          <p:cNvSpPr/>
          <p:nvPr/>
        </p:nvSpPr>
        <p:spPr>
          <a:xfrm>
            <a:off x="8400960" y="1243080"/>
            <a:ext cx="550800" cy="23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- 6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7" hidden="1"/>
          <p:cNvSpPr/>
          <p:nvPr/>
        </p:nvSpPr>
        <p:spPr>
          <a:xfrm>
            <a:off x="65160" y="-11160"/>
            <a:ext cx="27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Impacto de la Reforma en la Canasta Básica de Alimento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634C-B064-461D-AD63-986B1F34AF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4519440" y="3375000"/>
            <a:ext cx="5526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567160" y="917640"/>
            <a:ext cx="5522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2"/>
          <p:cNvGraphicFramePr/>
          <p:nvPr/>
        </p:nvGraphicFramePr>
        <p:xfrm>
          <a:off x="795240" y="812880"/>
          <a:ext cx="798840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812880"/>
                    <a:ext cx="79884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12"/>
          <p:cNvSpPr/>
          <p:nvPr/>
        </p:nvSpPr>
        <p:spPr>
          <a:xfrm>
            <a:off x="5076720" y="3767040"/>
            <a:ext cx="1381320" cy="54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7313760" y="4216320"/>
            <a:ext cx="792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(7.7) – (10.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3137040" y="3827520"/>
            <a:ext cx="1365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300" spc="-1" strike="noStrike">
                <a:solidFill>
                  <a:srgbClr val="002960"/>
                </a:solidFill>
                <a:latin typeface="Arial"/>
                <a:ea typeface="Arial"/>
              </a:rPr>
              <a:t>Gastos de Operación, Subsidios y Programas Sociales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5033880" y="4894200"/>
            <a:ext cx="1401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300" spc="-1" strike="noStrike">
                <a:solidFill>
                  <a:srgbClr val="002960"/>
                </a:solidFill>
                <a:latin typeface="Arial"/>
                <a:ea typeface="Arial"/>
              </a:rPr>
              <a:t>Inversión en infraestructu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5468760" y="4006800"/>
            <a:ext cx="595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12 -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3624120" y="2039760"/>
            <a:ext cx="389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2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1366920" y="3827520"/>
            <a:ext cx="1030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300" spc="-1" strike="noStrike">
                <a:solidFill>
                  <a:srgbClr val="002960"/>
                </a:solidFill>
                <a:latin typeface="Arial"/>
                <a:ea typeface="Arial"/>
              </a:rPr>
              <a:t>Ingresos del Gobierno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1676520" y="679320"/>
            <a:ext cx="38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2960"/>
                </a:solidFill>
                <a:latin typeface="Arial"/>
                <a:ea typeface="Arial"/>
              </a:rPr>
              <a:t>29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1676520" y="2882880"/>
            <a:ext cx="38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1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1725480" y="2021040"/>
            <a:ext cx="290520" cy="212400"/>
          </a:xfrm>
          <a:prstGeom prst="rect">
            <a:avLst/>
          </a:prstGeom>
          <a:solidFill>
            <a:srgbClr val="9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2960"/>
                </a:solidFill>
                <a:latin typeface="Arial"/>
                <a:ea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471600" y="2882880"/>
            <a:ext cx="639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 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tribut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155520" y="1387440"/>
            <a:ext cx="955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Ingre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no tribut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371520" y="1914480"/>
            <a:ext cx="739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1</a:t>
            </a:r>
            <a:r>
              <a:rPr b="1" lang="es-PA" sz="1200" spc="-1" strike="noStrike" baseline="30000">
                <a:solidFill>
                  <a:srgbClr val="002960"/>
                </a:solidFill>
                <a:latin typeface="Arial"/>
                <a:ea typeface="Arial"/>
              </a:rPr>
              <a:t>a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 o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de refor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900" spc="-1" strike="noStrike">
                <a:solidFill>
                  <a:srgbClr val="002960"/>
                </a:solidFill>
                <a:latin typeface="Arial"/>
                <a:ea typeface="Arial"/>
              </a:rPr>
              <a:t>(Ley 49 del 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6967440" y="4894200"/>
            <a:ext cx="1457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300" spc="-1" strike="noStrike">
                <a:solidFill>
                  <a:srgbClr val="002960"/>
                </a:solidFill>
                <a:latin typeface="Arial"/>
                <a:ea typeface="Arial"/>
              </a:rPr>
              <a:t>Déficit acumulado de 5 añ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 flipH="1" rot="11455200">
            <a:off x="6117840" y="2823480"/>
            <a:ext cx="249120" cy="64764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670280" y="525600"/>
            <a:ext cx="2260800" cy="2523960"/>
          </a:xfrm>
          <a:custGeom>
            <a:avLst/>
            <a:gdLst>
              <a:gd name="textAreaLeft" fmla="*/ 110160 w 2260800"/>
              <a:gd name="textAreaRight" fmla="*/ 2150640 w 2260800"/>
              <a:gd name="textAreaTop" fmla="*/ 110160 h 2523960"/>
              <a:gd name="textAreaBottom" fmla="*/ 2413800 h 2523960"/>
            </a:gdLst>
            <a:ahLst/>
            <a:rect l="textAreaLeft" t="textAreaTop" r="textAreaRight" b="textAreaBottom"/>
            <a:pathLst>
              <a:path w="21600" h="24114">
                <a:moveTo>
                  <a:pt x="3600" y="0"/>
                </a:moveTo>
                <a:arcTo wR="3600" hR="3600" stAng="16200000" swAng="-5400000"/>
                <a:lnTo>
                  <a:pt x="0" y="20514"/>
                </a:lnTo>
                <a:arcTo wR="3600" hR="3600" stAng="10800000" swAng="-5400000"/>
                <a:lnTo>
                  <a:pt x="18000" y="241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874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Estimación del presupuesto acumulado 2010-2014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44" name="Rectangle 39"/>
          <p:cNvSpPr/>
          <p:nvPr/>
        </p:nvSpPr>
        <p:spPr>
          <a:xfrm>
            <a:off x="4761000" y="692280"/>
            <a:ext cx="20811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Mantenimiento de los niveles actuales de inversión (dependencias de gobierno): 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~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Nuevos proyectos (no presupuestados todaví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Metro: 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~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Agricultura: 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~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Turismo: 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~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Logística: 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  <a:ea typeface="Arial"/>
              </a:rPr>
              <a:t>~</a:t>
            </a: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Otros: A defin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flipH="1" rot="11455200">
            <a:off x="7837920" y="3595680"/>
            <a:ext cx="89280" cy="33480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9"/>
          <p:cNvSpPr/>
          <p:nvPr/>
        </p:nvSpPr>
        <p:spPr>
          <a:xfrm>
            <a:off x="6873840" y="3108240"/>
            <a:ext cx="1978200" cy="519120"/>
          </a:xfrm>
          <a:prstGeom prst="roundRect">
            <a:avLst>
              <a:gd name="adj" fmla="val 16667"/>
            </a:avLst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6934320" y="316404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5-7% del PIB, por encima del límite legal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cK 3. Unit of measure"/>
          <p:cNvSpPr/>
          <p:nvPr/>
        </p:nvSpPr>
        <p:spPr>
          <a:xfrm>
            <a:off x="119160" y="38880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808080"/>
                </a:solidFill>
                <a:latin typeface="Arial"/>
              </a:rPr>
              <a:t>$ Miles de Mill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McK 5. Source"/>
          <p:cNvSpPr/>
          <p:nvPr/>
        </p:nvSpPr>
        <p:spPr>
          <a:xfrm>
            <a:off x="119160" y="6382080"/>
            <a:ext cx="686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47680" indent="-247680">
              <a:tabLst>
                <a:tab algn="l" pos="0"/>
                <a:tab algn="l" pos="1810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2960"/>
                </a:solidFill>
                <a:latin typeface="Arial"/>
              </a:rPr>
              <a:t>*</a:t>
            </a:r>
            <a:r>
              <a:rPr b="0" lang="es-PA" sz="8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0" lang="es-PA" sz="800" spc="-1" strike="noStrike">
                <a:solidFill>
                  <a:srgbClr val="002960"/>
                </a:solidFill>
                <a:latin typeface="Arial"/>
              </a:rPr>
              <a:t>Proyección para el Periodo 2010-2014, usando el año 2010 como ba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tabLst>
                <a:tab algn="l" pos="0"/>
                <a:tab algn="l" pos="1810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2960"/>
                </a:solidFill>
                <a:latin typeface="Arial"/>
              </a:rPr>
              <a:t>**</a:t>
            </a:r>
            <a:r>
              <a:rPr b="0" lang="es-PA" sz="8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0" lang="es-PA" sz="800" spc="-1" strike="noStrike">
                <a:solidFill>
                  <a:srgbClr val="002960"/>
                </a:solidFill>
                <a:latin typeface="Arial"/>
              </a:rPr>
              <a:t>Máximo 3% de déficit permitido en un año. La Ley menciona una meta de déficit máximo de 1%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6566040" y="5349960"/>
            <a:ext cx="2260440" cy="101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6665760" y="5430960"/>
            <a:ext cx="20606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002960"/>
                </a:solidFill>
                <a:latin typeface="Arial"/>
              </a:rPr>
              <a:t>Es necesario aumentar los ingresos del Gobierno para disminuir este défic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2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2"/>
          <p:cNvSpPr/>
          <p:nvPr/>
        </p:nvSpPr>
        <p:spPr>
          <a:xfrm>
            <a:off x="119160" y="230040"/>
            <a:ext cx="861840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808080"/>
                </a:solidFill>
                <a:latin typeface="Arial"/>
              </a:rPr>
              <a:t>Cifras en Balb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3"/>
          <p:cNvSpPr/>
          <p:nvPr/>
        </p:nvSpPr>
        <p:spPr>
          <a:xfrm>
            <a:off x="581040" y="2770200"/>
            <a:ext cx="543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1739880" y="847080"/>
            <a:ext cx="6550200" cy="20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938"/>
              </a:spcBef>
              <a:tabLst>
                <a:tab algn="l" pos="0"/>
                <a:tab algn="ctr" pos="3591000"/>
                <a:tab algn="r" pos="5200560"/>
                <a:tab algn="ctr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1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Beneficiarios</a:t>
            </a:r>
            <a:r>
              <a:rPr b="1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1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Costo Anual</a:t>
            </a:r>
            <a:r>
              <a:rPr b="1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ctr" pos="3591000"/>
                <a:tab algn="r" pos="5200560"/>
                <a:tab algn="ctr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Red de Oportunidades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76,000 hogares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50,000,000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657.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ctr" pos="3591000"/>
                <a:tab algn="r" pos="5200560"/>
                <a:tab algn="ctr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100 a los 70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70,000 adultos mayores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84,000,000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1,20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ctr" pos="3591000"/>
                <a:tab algn="r" pos="5200560"/>
                <a:tab algn="ctr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Intereses Preferenciales Hipotecarios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70,000 familias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73,000,000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1,042.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ctr" pos="3591000"/>
                <a:tab algn="r" pos="5200560"/>
                <a:tab algn="ctr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Subsidio eléctrico (consumo menor de 500kW-h)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672,000 familias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96,000,000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142.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ctr" pos="3591000"/>
                <a:tab algn="r" pos="5200560"/>
                <a:tab algn="ctr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Tanques de gas de 25lbs.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640,000 familias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58,000,000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90.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ctr" pos="3591000"/>
                <a:tab algn="r" pos="5200560"/>
                <a:tab algn="ctr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Entrega de libros, uniformes y útiles escolares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800,000 estudiantes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40,000,000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5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ctr" pos="3591000"/>
                <a:tab algn="r" pos="5200560"/>
                <a:tab algn="ctr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Beca Universal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555,000 estudiantes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111,000,000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	</a:t>
            </a:r>
            <a:r>
              <a:rPr b="0" lang="es-PA" sz="1000" spc="-1" strike="noStrike">
                <a:solidFill>
                  <a:srgbClr val="002960"/>
                </a:solidFill>
                <a:latin typeface="Arial"/>
                <a:ea typeface="Arial"/>
              </a:rPr>
              <a:t>20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533520" y="1171440"/>
            <a:ext cx="104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624"/>
              </a:spcAft>
              <a:tabLst>
                <a:tab algn="l" pos="0"/>
                <a:tab algn="l" pos="85680"/>
                <a:tab algn="ctr" pos="447840"/>
                <a:tab algn="ctr" pos="895320"/>
                <a:tab algn="ctr" pos="1343160"/>
                <a:tab algn="r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</a:rPr>
              <a:t>Ayuda a los más necesit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6"/>
          <p:cNvSpPr/>
          <p:nvPr/>
        </p:nvSpPr>
        <p:spPr>
          <a:xfrm>
            <a:off x="533520" y="1657440"/>
            <a:ext cx="104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624"/>
              </a:spcAft>
              <a:tabLst>
                <a:tab algn="l" pos="0"/>
                <a:tab algn="l" pos="85680"/>
                <a:tab algn="ctr" pos="447840"/>
                <a:tab algn="ctr" pos="895320"/>
                <a:tab algn="ctr" pos="1343160"/>
                <a:tab algn="r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</a:rPr>
              <a:t>Vivi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7"/>
          <p:cNvSpPr/>
          <p:nvPr/>
        </p:nvSpPr>
        <p:spPr>
          <a:xfrm>
            <a:off x="533520" y="2048040"/>
            <a:ext cx="104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624"/>
              </a:spcAft>
              <a:tabLst>
                <a:tab algn="l" pos="0"/>
                <a:tab algn="l" pos="85680"/>
                <a:tab algn="ctr" pos="447840"/>
                <a:tab algn="ctr" pos="895320"/>
                <a:tab algn="ctr" pos="1343160"/>
                <a:tab algn="r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</a:rPr>
              <a:t>Ener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8"/>
          <p:cNvSpPr/>
          <p:nvPr/>
        </p:nvSpPr>
        <p:spPr>
          <a:xfrm>
            <a:off x="533520" y="2590920"/>
            <a:ext cx="104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624"/>
              </a:spcAft>
              <a:tabLst>
                <a:tab algn="l" pos="0"/>
                <a:tab algn="l" pos="85680"/>
                <a:tab algn="ctr" pos="447840"/>
                <a:tab algn="ctr" pos="895320"/>
                <a:tab algn="ctr" pos="1343160"/>
                <a:tab algn="r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</a:rPr>
              <a:t>Edu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9"/>
          <p:cNvSpPr/>
          <p:nvPr/>
        </p:nvSpPr>
        <p:spPr>
          <a:xfrm>
            <a:off x="549360" y="1028880"/>
            <a:ext cx="7740720" cy="0"/>
          </a:xfrm>
          <a:prstGeom prst="line">
            <a:avLst/>
          </a:prstGeom>
          <a:ln cap="rnd" w="1260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40"/>
          <p:cNvSpPr/>
          <p:nvPr/>
        </p:nvSpPr>
        <p:spPr>
          <a:xfrm>
            <a:off x="549360" y="1590840"/>
            <a:ext cx="7740720" cy="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41"/>
          <p:cNvSpPr/>
          <p:nvPr/>
        </p:nvSpPr>
        <p:spPr>
          <a:xfrm>
            <a:off x="549360" y="1866960"/>
            <a:ext cx="7740720" cy="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42"/>
          <p:cNvSpPr/>
          <p:nvPr/>
        </p:nvSpPr>
        <p:spPr>
          <a:xfrm>
            <a:off x="549360" y="2400480"/>
            <a:ext cx="7740720" cy="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43"/>
          <p:cNvSpPr/>
          <p:nvPr/>
        </p:nvSpPr>
        <p:spPr>
          <a:xfrm>
            <a:off x="1739880" y="857160"/>
            <a:ext cx="104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24"/>
              </a:spcAft>
              <a:tabLst>
                <a:tab algn="l" pos="0"/>
                <a:tab algn="l" pos="85680"/>
                <a:tab algn="ctr" pos="447840"/>
                <a:tab algn="ctr" pos="895320"/>
                <a:tab algn="ctr" pos="1343160"/>
                <a:tab algn="r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A56-135A-4EAA-85DF-ABCF6D8619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82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8"/>
          <p:cNvSpPr/>
          <p:nvPr/>
        </p:nvSpPr>
        <p:spPr>
          <a:xfrm>
            <a:off x="7140600" y="714240"/>
            <a:ext cx="10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624"/>
              </a:spcAft>
              <a:tabLst>
                <a:tab algn="l" pos="0"/>
                <a:tab algn="l" pos="85680"/>
                <a:tab algn="ctr" pos="447840"/>
                <a:tab algn="ctr" pos="895320"/>
                <a:tab algn="ctr" pos="1343160"/>
                <a:tab algn="r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</a:rPr>
              <a:t>Apoyo por Benefici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77"/>
          <p:cNvGrpSpPr/>
          <p:nvPr/>
        </p:nvGrpSpPr>
        <p:grpSpPr>
          <a:xfrm>
            <a:off x="214200" y="3009960"/>
            <a:ext cx="8534520" cy="3162240"/>
            <a:chOff x="214200" y="3009960"/>
            <a:chExt cx="8534520" cy="3162240"/>
          </a:xfrm>
        </p:grpSpPr>
        <p:grpSp>
          <p:nvGrpSpPr>
            <p:cNvPr id="694" name="Group 76"/>
            <p:cNvGrpSpPr/>
            <p:nvPr/>
          </p:nvGrpSpPr>
          <p:grpSpPr>
            <a:xfrm>
              <a:off x="4538520" y="3009960"/>
              <a:ext cx="4210200" cy="3162240"/>
              <a:chOff x="4538520" y="3009960"/>
              <a:chExt cx="4210200" cy="3162240"/>
            </a:xfrm>
          </p:grpSpPr>
          <p:sp>
            <p:nvSpPr>
              <p:cNvPr id="695" name="AutoShape 74"/>
              <p:cNvSpPr/>
              <p:nvPr/>
            </p:nvSpPr>
            <p:spPr>
              <a:xfrm>
                <a:off x="4538520" y="3009960"/>
                <a:ext cx="4210200" cy="3162240"/>
              </a:xfrm>
              <a:prstGeom prst="roundRect">
                <a:avLst>
                  <a:gd name="adj" fmla="val 5634"/>
                </a:avLst>
              </a:prstGeom>
              <a:solidFill>
                <a:srgbClr val="c7e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193680" indent="-192240" algn="ctr"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6" name="Group 73"/>
              <p:cNvGrpSpPr/>
              <p:nvPr/>
            </p:nvGrpSpPr>
            <p:grpSpPr>
              <a:xfrm>
                <a:off x="4614840" y="3057480"/>
                <a:ext cx="4092480" cy="3019680"/>
                <a:chOff x="4614840" y="3057480"/>
                <a:chExt cx="4092480" cy="3019680"/>
              </a:xfrm>
            </p:grpSpPr>
            <p:sp>
              <p:nvSpPr>
                <p:cNvPr id="697" name="Rectangle 10"/>
                <p:cNvSpPr/>
                <p:nvPr/>
              </p:nvSpPr>
              <p:spPr>
                <a:xfrm>
                  <a:off x="4614840" y="3181320"/>
                  <a:ext cx="38257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Ejemplo 2: Padres + 2 hijos estudiantes + Abuelita mayor de 7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1"/>
                <p:cNvSpPr/>
                <p:nvPr/>
              </p:nvSpPr>
              <p:spPr>
                <a:xfrm>
                  <a:off x="4614840" y="3057480"/>
                  <a:ext cx="0" cy="251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2"/>
                <p:cNvSpPr/>
                <p:nvPr/>
              </p:nvSpPr>
              <p:spPr>
                <a:xfrm>
                  <a:off x="4614840" y="3409920"/>
                  <a:ext cx="3882960" cy="0"/>
                </a:xfrm>
                <a:prstGeom prst="line">
                  <a:avLst/>
                </a:prstGeom>
                <a:ln cap="rnd" w="12600">
                  <a:solidFill>
                    <a:srgbClr val="0029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3"/>
                <p:cNvSpPr/>
                <p:nvPr/>
              </p:nvSpPr>
              <p:spPr>
                <a:xfrm>
                  <a:off x="4614840" y="4337280"/>
                  <a:ext cx="2816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Tanques de gas de 25lbs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Rectangle 14"/>
                <p:cNvSpPr/>
                <p:nvPr/>
              </p:nvSpPr>
              <p:spPr>
                <a:xfrm>
                  <a:off x="4614840" y="4025880"/>
                  <a:ext cx="2816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Subsidio eléctrico (consumo &lt; 500kW-h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Rectangle 15"/>
                <p:cNvSpPr/>
                <p:nvPr/>
              </p:nvSpPr>
              <p:spPr>
                <a:xfrm>
                  <a:off x="4614840" y="3714840"/>
                  <a:ext cx="2816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Entrega de libros, uniformes y útiles escolare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Rectangle 16"/>
                <p:cNvSpPr/>
                <p:nvPr/>
              </p:nvSpPr>
              <p:spPr>
                <a:xfrm>
                  <a:off x="4614840" y="4648320"/>
                  <a:ext cx="2816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Intereses Preferenciales Hipotecari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7"/>
                <p:cNvSpPr/>
                <p:nvPr/>
              </p:nvSpPr>
              <p:spPr>
                <a:xfrm>
                  <a:off x="4614840" y="5619960"/>
                  <a:ext cx="2816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Beca Univers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Rectangle 18"/>
                <p:cNvSpPr/>
                <p:nvPr/>
              </p:nvSpPr>
              <p:spPr>
                <a:xfrm>
                  <a:off x="7221600" y="4337280"/>
                  <a:ext cx="571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90.63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Rectangle 19"/>
                <p:cNvSpPr/>
                <p:nvPr/>
              </p:nvSpPr>
              <p:spPr>
                <a:xfrm>
                  <a:off x="7221600" y="4025880"/>
                  <a:ext cx="571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142.86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Rectangle 20"/>
                <p:cNvSpPr/>
                <p:nvPr/>
              </p:nvSpPr>
              <p:spPr>
                <a:xfrm>
                  <a:off x="7031160" y="4876920"/>
                  <a:ext cx="76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1,376.34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Rectangle 21"/>
                <p:cNvSpPr/>
                <p:nvPr/>
              </p:nvSpPr>
              <p:spPr>
                <a:xfrm>
                  <a:off x="7221600" y="4648320"/>
                  <a:ext cx="571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1,042.86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22"/>
                <p:cNvSpPr/>
                <p:nvPr/>
              </p:nvSpPr>
              <p:spPr>
                <a:xfrm>
                  <a:off x="7221600" y="4876920"/>
                  <a:ext cx="571320" cy="0"/>
                </a:xfrm>
                <a:prstGeom prst="line">
                  <a:avLst/>
                </a:prstGeom>
                <a:ln cap="rnd" w="12600">
                  <a:solidFill>
                    <a:srgbClr val="0029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Rectangle 24"/>
                <p:cNvSpPr/>
                <p:nvPr/>
              </p:nvSpPr>
              <p:spPr>
                <a:xfrm>
                  <a:off x="4614840" y="5139000"/>
                  <a:ext cx="2816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100 a los 7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Rectangle 25"/>
                <p:cNvSpPr/>
                <p:nvPr/>
              </p:nvSpPr>
              <p:spPr>
                <a:xfrm>
                  <a:off x="7031160" y="5367600"/>
                  <a:ext cx="76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2,576.3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Rectangle 26"/>
                <p:cNvSpPr/>
                <p:nvPr/>
              </p:nvSpPr>
              <p:spPr>
                <a:xfrm>
                  <a:off x="7221600" y="5139000"/>
                  <a:ext cx="571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1,200.00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Line 27"/>
                <p:cNvSpPr/>
                <p:nvPr/>
              </p:nvSpPr>
              <p:spPr>
                <a:xfrm>
                  <a:off x="7221600" y="5367600"/>
                  <a:ext cx="571320" cy="0"/>
                </a:xfrm>
                <a:prstGeom prst="line">
                  <a:avLst/>
                </a:prstGeom>
                <a:ln cap="rnd" w="12600">
                  <a:solidFill>
                    <a:srgbClr val="0029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Rectangle 28"/>
                <p:cNvSpPr/>
                <p:nvPr/>
              </p:nvSpPr>
              <p:spPr>
                <a:xfrm>
                  <a:off x="7031160" y="5848560"/>
                  <a:ext cx="76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2,976.34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Rectangle 29"/>
                <p:cNvSpPr/>
                <p:nvPr/>
              </p:nvSpPr>
              <p:spPr>
                <a:xfrm>
                  <a:off x="7221600" y="5619960"/>
                  <a:ext cx="571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400.00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0"/>
                <p:cNvSpPr/>
                <p:nvPr/>
              </p:nvSpPr>
              <p:spPr>
                <a:xfrm>
                  <a:off x="7221600" y="5848560"/>
                  <a:ext cx="571320" cy="0"/>
                </a:xfrm>
                <a:prstGeom prst="line">
                  <a:avLst/>
                </a:prstGeom>
                <a:ln cap="rnd" w="12600">
                  <a:solidFill>
                    <a:srgbClr val="0029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Rectangle 31"/>
                <p:cNvSpPr/>
                <p:nvPr/>
              </p:nvSpPr>
              <p:spPr>
                <a:xfrm>
                  <a:off x="6964200" y="3476880"/>
                  <a:ext cx="1162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Apoyo Recibid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Rectangle 33"/>
                <p:cNvSpPr/>
                <p:nvPr/>
              </p:nvSpPr>
              <p:spPr>
                <a:xfrm>
                  <a:off x="7221600" y="3714840"/>
                  <a:ext cx="571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100.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Rectangle 34"/>
                <p:cNvSpPr/>
                <p:nvPr/>
              </p:nvSpPr>
              <p:spPr>
                <a:xfrm>
                  <a:off x="7807320" y="3722760"/>
                  <a:ext cx="1440" cy="1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Aft>
                      <a:spcPts val="751"/>
                    </a:spcAft>
                    <a:tabLst>
                      <a:tab algn="l" pos="0"/>
                      <a:tab algn="l" pos="85680"/>
                      <a:tab algn="ctr" pos="447840"/>
                      <a:tab algn="ctr" pos="895320"/>
                      <a:tab algn="ctr" pos="1343160"/>
                      <a:tab algn="r" pos="251460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Rectangle 71"/>
                <p:cNvSpPr/>
                <p:nvPr/>
              </p:nvSpPr>
              <p:spPr>
                <a:xfrm>
                  <a:off x="7888320" y="4876920"/>
                  <a:ext cx="81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8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(114.69 mensual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Rectangle 73"/>
                <p:cNvSpPr/>
                <p:nvPr/>
              </p:nvSpPr>
              <p:spPr>
                <a:xfrm>
                  <a:off x="7888320" y="5343480"/>
                  <a:ext cx="81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8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(214.69 mensual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Rectangle 74"/>
                <p:cNvSpPr/>
                <p:nvPr/>
              </p:nvSpPr>
              <p:spPr>
                <a:xfrm>
                  <a:off x="7888320" y="5810400"/>
                  <a:ext cx="81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8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(248.03 mensual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3" name="Group 75"/>
            <p:cNvGrpSpPr/>
            <p:nvPr/>
          </p:nvGrpSpPr>
          <p:grpSpPr>
            <a:xfrm>
              <a:off x="214200" y="3009960"/>
              <a:ext cx="4210200" cy="2676600"/>
              <a:chOff x="214200" y="3009960"/>
              <a:chExt cx="4210200" cy="2676600"/>
            </a:xfrm>
          </p:grpSpPr>
          <p:sp>
            <p:nvSpPr>
              <p:cNvPr id="724" name="AutoShape 71"/>
              <p:cNvSpPr/>
              <p:nvPr/>
            </p:nvSpPr>
            <p:spPr>
              <a:xfrm>
                <a:off x="214200" y="3009960"/>
                <a:ext cx="4210200" cy="2676600"/>
              </a:xfrm>
              <a:prstGeom prst="roundRect">
                <a:avLst>
                  <a:gd name="adj" fmla="val 5634"/>
                </a:avLst>
              </a:prstGeom>
              <a:solidFill>
                <a:srgbClr val="c7e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193680" indent="-192240" algn="ctr"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5" name="Group 70"/>
              <p:cNvGrpSpPr/>
              <p:nvPr/>
            </p:nvGrpSpPr>
            <p:grpSpPr>
              <a:xfrm>
                <a:off x="297000" y="3057480"/>
                <a:ext cx="4044960" cy="2538720"/>
                <a:chOff x="297000" y="3057480"/>
                <a:chExt cx="4044960" cy="2538720"/>
              </a:xfrm>
            </p:grpSpPr>
            <p:sp>
              <p:nvSpPr>
                <p:cNvPr id="726" name="Rectangle 45"/>
                <p:cNvSpPr/>
                <p:nvPr/>
              </p:nvSpPr>
              <p:spPr>
                <a:xfrm>
                  <a:off x="297000" y="3181320"/>
                  <a:ext cx="3826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Ejemplo 1: Padres + 2 hijos estudiante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46"/>
                <p:cNvSpPr/>
                <p:nvPr/>
              </p:nvSpPr>
              <p:spPr>
                <a:xfrm>
                  <a:off x="297000" y="3057480"/>
                  <a:ext cx="0" cy="251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Line 47"/>
                <p:cNvSpPr/>
                <p:nvPr/>
              </p:nvSpPr>
              <p:spPr>
                <a:xfrm>
                  <a:off x="297000" y="3409920"/>
                  <a:ext cx="3883320" cy="0"/>
                </a:xfrm>
                <a:prstGeom prst="line">
                  <a:avLst/>
                </a:prstGeom>
                <a:ln cap="rnd" w="12600">
                  <a:solidFill>
                    <a:srgbClr val="0029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Rectangle 48"/>
                <p:cNvSpPr/>
                <p:nvPr/>
              </p:nvSpPr>
              <p:spPr>
                <a:xfrm>
                  <a:off x="297000" y="4337280"/>
                  <a:ext cx="2816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Tanques de gas de 25lbs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Rectangle 49"/>
                <p:cNvSpPr/>
                <p:nvPr/>
              </p:nvSpPr>
              <p:spPr>
                <a:xfrm>
                  <a:off x="297000" y="4025880"/>
                  <a:ext cx="2816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Subsidio eléctrico (consumo &lt; 500kW-h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Rectangle 50"/>
                <p:cNvSpPr/>
                <p:nvPr/>
              </p:nvSpPr>
              <p:spPr>
                <a:xfrm>
                  <a:off x="297000" y="3714840"/>
                  <a:ext cx="2816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Entrega de libros, uniformes y útiles escolare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Rectangle 51"/>
                <p:cNvSpPr/>
                <p:nvPr/>
              </p:nvSpPr>
              <p:spPr>
                <a:xfrm>
                  <a:off x="297000" y="4648320"/>
                  <a:ext cx="2816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Intereses Preferenciales Hipotecari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Rectangle 52"/>
                <p:cNvSpPr/>
                <p:nvPr/>
              </p:nvSpPr>
              <p:spPr>
                <a:xfrm>
                  <a:off x="2903760" y="4337280"/>
                  <a:ext cx="5716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90.63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Rectangle 53"/>
                <p:cNvSpPr/>
                <p:nvPr/>
              </p:nvSpPr>
              <p:spPr>
                <a:xfrm>
                  <a:off x="2903760" y="4025880"/>
                  <a:ext cx="5716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142.86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Rectangle 54"/>
                <p:cNvSpPr/>
                <p:nvPr/>
              </p:nvSpPr>
              <p:spPr>
                <a:xfrm>
                  <a:off x="2713320" y="4876920"/>
                  <a:ext cx="7621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1,376.34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Rectangle 55"/>
                <p:cNvSpPr/>
                <p:nvPr/>
              </p:nvSpPr>
              <p:spPr>
                <a:xfrm>
                  <a:off x="2903760" y="4648320"/>
                  <a:ext cx="5716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1,042.86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"/>
                <p:cNvSpPr/>
                <p:nvPr/>
              </p:nvSpPr>
              <p:spPr>
                <a:xfrm>
                  <a:off x="2903760" y="4876920"/>
                  <a:ext cx="571680" cy="0"/>
                </a:xfrm>
                <a:prstGeom prst="line">
                  <a:avLst/>
                </a:prstGeom>
                <a:ln cap="rnd" w="12600">
                  <a:solidFill>
                    <a:srgbClr val="0029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Rectangle 58"/>
                <p:cNvSpPr/>
                <p:nvPr/>
              </p:nvSpPr>
              <p:spPr>
                <a:xfrm>
                  <a:off x="297000" y="5139000"/>
                  <a:ext cx="2816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Beca Univers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Rectangle 59"/>
                <p:cNvSpPr/>
                <p:nvPr/>
              </p:nvSpPr>
              <p:spPr>
                <a:xfrm>
                  <a:off x="2713320" y="5367600"/>
                  <a:ext cx="7621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1,776.3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Rectangle 60"/>
                <p:cNvSpPr/>
                <p:nvPr/>
              </p:nvSpPr>
              <p:spPr>
                <a:xfrm>
                  <a:off x="2903760" y="5139000"/>
                  <a:ext cx="5716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400.00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61"/>
                <p:cNvSpPr/>
                <p:nvPr/>
              </p:nvSpPr>
              <p:spPr>
                <a:xfrm>
                  <a:off x="2903760" y="5367600"/>
                  <a:ext cx="571680" cy="0"/>
                </a:xfrm>
                <a:prstGeom prst="line">
                  <a:avLst/>
                </a:prstGeom>
                <a:ln cap="rnd" w="12600">
                  <a:solidFill>
                    <a:srgbClr val="0029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Rectangle 62"/>
                <p:cNvSpPr/>
                <p:nvPr/>
              </p:nvSpPr>
              <p:spPr>
                <a:xfrm>
                  <a:off x="2694240" y="3476880"/>
                  <a:ext cx="1162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A" sz="10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Apoyo Recibid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" name="Group 63"/>
                <p:cNvGrpSpPr/>
                <p:nvPr/>
              </p:nvGrpSpPr>
              <p:grpSpPr>
                <a:xfrm>
                  <a:off x="2903760" y="3714840"/>
                  <a:ext cx="587160" cy="228600"/>
                  <a:chOff x="2903760" y="3714840"/>
                  <a:chExt cx="587160" cy="228600"/>
                </a:xfrm>
              </p:grpSpPr>
              <p:sp>
                <p:nvSpPr>
                  <p:cNvPr id="744" name="Rectangle 64"/>
                  <p:cNvSpPr/>
                  <p:nvPr/>
                </p:nvSpPr>
                <p:spPr>
                  <a:xfrm>
                    <a:off x="2903760" y="3714840"/>
                    <a:ext cx="5713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A" sz="1000" spc="-1" strike="noStrike">
                        <a:solidFill>
                          <a:srgbClr val="002960"/>
                        </a:solidFill>
                        <a:latin typeface="Arial"/>
                        <a:ea typeface="Arial"/>
                      </a:rPr>
                      <a:t>100.0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Rectangle 65"/>
                  <p:cNvSpPr/>
                  <p:nvPr/>
                </p:nvSpPr>
                <p:spPr>
                  <a:xfrm>
                    <a:off x="3489480" y="3722760"/>
                    <a:ext cx="14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spcAft>
                        <a:spcPts val="751"/>
                      </a:spcAft>
                      <a:tabLst>
                        <a:tab algn="l" pos="0"/>
                        <a:tab algn="l" pos="85680"/>
                        <a:tab algn="ctr" pos="447840"/>
                        <a:tab algn="ctr" pos="895320"/>
                        <a:tab algn="ctr" pos="1343160"/>
                        <a:tab algn="r" pos="2514600"/>
                        <a:tab algn="l" pos="2685960"/>
                        <a:tab algn="l" pos="3581280"/>
                        <a:tab algn="l" pos="4476600"/>
                        <a:tab algn="l" pos="5372280"/>
                        <a:tab algn="l" pos="6267600"/>
                        <a:tab algn="l" pos="7162920"/>
                        <a:tab algn="l" pos="8058240"/>
                        <a:tab algn="l" pos="8953560"/>
                        <a:tab algn="l" pos="9848880"/>
                        <a:tab algn="l" pos="107442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6" name="Rectangle 72"/>
                <p:cNvSpPr/>
                <p:nvPr/>
              </p:nvSpPr>
              <p:spPr>
                <a:xfrm>
                  <a:off x="3522960" y="4876920"/>
                  <a:ext cx="81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8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(114.69 mensual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Rectangle 75"/>
                <p:cNvSpPr/>
                <p:nvPr/>
              </p:nvSpPr>
              <p:spPr>
                <a:xfrm>
                  <a:off x="3522960" y="5343480"/>
                  <a:ext cx="81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A" sz="800" spc="-1" strike="noStrike">
                      <a:solidFill>
                        <a:srgbClr val="002960"/>
                      </a:solidFill>
                      <a:latin typeface="Arial"/>
                      <a:ea typeface="Arial"/>
                    </a:rPr>
                    <a:t>(148.03 mensual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8" name="Rectangle 1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 hidden="1"/>
          <p:cNvSpPr/>
          <p:nvPr/>
        </p:nvSpPr>
        <p:spPr>
          <a:xfrm>
            <a:off x="65160" y="-11160"/>
            <a:ext cx="27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688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Programas Sociales y Subsidios que benefician al Pueblo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9160" y="2460600"/>
            <a:ext cx="8618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3300" spc="-1" strike="noStrike">
                <a:solidFill>
                  <a:srgbClr val="002960"/>
                </a:solidFill>
                <a:latin typeface="Arial"/>
              </a:rPr>
              <a:t>Otras Medidas Fiscales</a:t>
            </a:r>
            <a:endParaRPr b="1" lang="en-US" sz="33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8335800" y="6381720"/>
            <a:ext cx="209880" cy="23184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A112-4A28-44EA-AEDB-6858BF0F04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41240" y="1905120"/>
            <a:ext cx="7483680" cy="306864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4"/>
          <p:cNvSpPr/>
          <p:nvPr/>
        </p:nvSpPr>
        <p:spPr>
          <a:xfrm>
            <a:off x="865080" y="2068560"/>
            <a:ext cx="723600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eliminar la mayoría de Timbres Fiscales, con excepción de cheques, giros y contra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s tarifas existentes se aumentan para tener un efecto neutral en cuanto a pérdidas en timbres (por ejemplo, pasaporte, apostilla, papel notari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l beneficio de Intereses Preferenciales Hipotecarios se extiende de 10 años a 15 añ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500" spc="-1" strike="noStrike">
                <a:solidFill>
                  <a:srgbClr val="000000"/>
                </a:solidFill>
                <a:latin typeface="Arial"/>
              </a:rPr>
              <a:t>Se crea el Tribunal Administrativo Tributar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500" spc="-1" strike="noStrike">
                <a:solidFill>
                  <a:srgbClr val="000000"/>
                </a:solidFill>
                <a:latin typeface="Arial"/>
              </a:rPr>
              <a:t>Devolución de ITBMS a jubilados y Lotería Fisc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Otras Medidas Fiscale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5722-52EF-4B64-9C5D-E18C8D44ED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63"/>
          <p:cNvGrpSpPr/>
          <p:nvPr/>
        </p:nvGrpSpPr>
        <p:grpSpPr>
          <a:xfrm>
            <a:off x="299880" y="1293840"/>
            <a:ext cx="8172360" cy="4577400"/>
            <a:chOff x="299880" y="1293840"/>
            <a:chExt cx="8172360" cy="4577400"/>
          </a:xfrm>
        </p:grpSpPr>
        <p:sp>
          <p:nvSpPr>
            <p:cNvPr id="764" name="Rectangle 60"/>
            <p:cNvSpPr/>
            <p:nvPr/>
          </p:nvSpPr>
          <p:spPr>
            <a:xfrm>
              <a:off x="299880" y="1293840"/>
              <a:ext cx="8172360" cy="45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62"/>
            <p:cNvSpPr/>
            <p:nvPr/>
          </p:nvSpPr>
          <p:spPr>
            <a:xfrm>
              <a:off x="299880" y="1293840"/>
              <a:ext cx="8172360" cy="45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86184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Sea Crea el Tribunal Administrativo Tributario</a:t>
            </a:r>
            <a:br>
              <a:rPr sz="1900"/>
            </a:br>
            <a:r>
              <a:rPr b="1" lang="es-PA" sz="1600" spc="-1" strike="noStrike">
                <a:solidFill>
                  <a:srgbClr val="c0c0c0"/>
                </a:solidFill>
                <a:latin typeface="Arial"/>
              </a:rPr>
              <a:t>Promesa de Campaña</a:t>
            </a: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67" name="Rectangle 40"/>
          <p:cNvSpPr/>
          <p:nvPr/>
        </p:nvSpPr>
        <p:spPr>
          <a:xfrm>
            <a:off x="480960" y="1658880"/>
            <a:ext cx="78105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896760" indent="-228600">
              <a:lnSpc>
                <a:spcPct val="100000"/>
              </a:lnSpc>
              <a:spcAft>
                <a:spcPts val="1125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Reemplaza a la Comisión de Ape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6760" indent="-228600">
              <a:lnSpc>
                <a:spcPct val="100000"/>
              </a:lnSpc>
              <a:spcAft>
                <a:spcPts val="1125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Tendrá competencia para conocer de los Recursos de Apelación que se presenten dentro de los trámites o procesos que se originen en la D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6760" indent="-228600">
              <a:lnSpc>
                <a:spcPct val="100000"/>
              </a:lnSpc>
              <a:spcAft>
                <a:spcPts val="1125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Estará integrado por dos abogados y un contador con sus respectivos suplentes, nombrados por el Presidente de la Re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6760" indent="-228600">
              <a:lnSpc>
                <a:spcPct val="100000"/>
              </a:lnSpc>
              <a:spcAft>
                <a:spcPts val="1125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Todos los procesos que estén en grado de apelación dentro de la DGI deberán ser remitidos al Tribunal, dentro de los tres meses que dicho Tribunal esté debidamente constituido y haya iniciado funciones, a fin de que sean tramitados y resueltos por el Tribunal Administrativo Tribu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1"/>
          <p:cNvSpPr/>
          <p:nvPr/>
        </p:nvSpPr>
        <p:spPr>
          <a:xfrm>
            <a:off x="4014720" y="1314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EB3A-D541-41A4-9083-1CDCA1C816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1"/>
          <p:cNvSpPr/>
          <p:nvPr/>
        </p:nvSpPr>
        <p:spPr>
          <a:xfrm>
            <a:off x="228600" y="423720"/>
            <a:ext cx="7270920" cy="5769000"/>
          </a:xfrm>
          <a:prstGeom prst="rect">
            <a:avLst/>
          </a:prstGeom>
          <a:solidFill>
            <a:srgbClr val="00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1495440" y="439560"/>
            <a:ext cx="6010200" cy="575964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6"/>
          <p:cNvSpPr/>
          <p:nvPr/>
        </p:nvSpPr>
        <p:spPr>
          <a:xfrm>
            <a:off x="209520" y="1874880"/>
            <a:ext cx="7315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37"/>
          <p:cNvSpPr/>
          <p:nvPr/>
        </p:nvSpPr>
        <p:spPr>
          <a:xfrm>
            <a:off x="209520" y="3475080"/>
            <a:ext cx="7315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38"/>
          <p:cNvSpPr/>
          <p:nvPr/>
        </p:nvSpPr>
        <p:spPr>
          <a:xfrm flipV="1">
            <a:off x="1495440" y="463320"/>
            <a:ext cx="0" cy="5732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39"/>
          <p:cNvSpPr/>
          <p:nvPr/>
        </p:nvSpPr>
        <p:spPr>
          <a:xfrm>
            <a:off x="209520" y="4943520"/>
            <a:ext cx="7315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4"/>
          <p:cNvSpPr/>
          <p:nvPr/>
        </p:nvSpPr>
        <p:spPr>
          <a:xfrm>
            <a:off x="7716960" y="3213000"/>
            <a:ext cx="103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spcAft>
                <a:spcPts val="62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2960"/>
                </a:solidFill>
                <a:latin typeface="Arial"/>
              </a:rPr>
              <a:t>$ 20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39"/>
          <p:cNvSpPr/>
          <p:nvPr/>
        </p:nvSpPr>
        <p:spPr>
          <a:xfrm>
            <a:off x="219240" y="6203880"/>
            <a:ext cx="7315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53"/>
          <p:cNvGrpSpPr/>
          <p:nvPr/>
        </p:nvGrpSpPr>
        <p:grpSpPr>
          <a:xfrm>
            <a:off x="314280" y="479520"/>
            <a:ext cx="7132680" cy="1346040"/>
            <a:chOff x="314280" y="479520"/>
            <a:chExt cx="7132680" cy="1346040"/>
          </a:xfrm>
        </p:grpSpPr>
        <p:sp>
          <p:nvSpPr>
            <p:cNvPr id="782" name="Rectangle 20"/>
            <p:cNvSpPr/>
            <p:nvPr/>
          </p:nvSpPr>
          <p:spPr>
            <a:xfrm>
              <a:off x="314280" y="479520"/>
              <a:ext cx="115092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mpuesto sobre la Renta de Personas Naturales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- 15-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- Eliminar la mayoría de las exenc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4"/>
            <p:cNvSpPr/>
            <p:nvPr/>
          </p:nvSpPr>
          <p:spPr>
            <a:xfrm>
              <a:off x="1627200" y="504720"/>
              <a:ext cx="5819760" cy="12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36036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Los primeros $11k de ingresos estarán exen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36036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asa de 15% para ingresos entre $11k y $50k  y tasa de 25% para ingresos mayores que $50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36036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Gravar los Gastos de Representación con tasas de 10% para GR menores de $25k y 15% para GR mayores que $50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36036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liminar la mayoría de las exenciones (Deducción Básica, PyMEs, Ingresos Exentos, Seguro Educativo, Dependientes, Ingresos Extranjeros), excepto: Gastos Médicos, Hipotecas (hasta $15k), Fondos de Pensiones y Deducción Básica en el caso de declaraciones conjuntas (sólo $8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AutoShape 24"/>
          <p:cNvSpPr/>
          <p:nvPr/>
        </p:nvSpPr>
        <p:spPr>
          <a:xfrm>
            <a:off x="7497720" y="482760"/>
            <a:ext cx="179280" cy="5678280"/>
          </a:xfrm>
          <a:custGeom>
            <a:avLst/>
            <a:gdLst>
              <a:gd name="textAreaLeft" fmla="*/ 0 w 179280"/>
              <a:gd name="textAreaRight" fmla="*/ 64800 w 179280"/>
              <a:gd name="textAreaTop" fmla="*/ 147960 h 5678280"/>
              <a:gd name="textAreaBottom" fmla="*/ 5530320 h 567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2960"/>
          </a:solidFill>
          <a:ln w="1908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54"/>
          <p:cNvGrpSpPr/>
          <p:nvPr/>
        </p:nvGrpSpPr>
        <p:grpSpPr>
          <a:xfrm>
            <a:off x="328680" y="3524400"/>
            <a:ext cx="7130880" cy="1370160"/>
            <a:chOff x="328680" y="3524400"/>
            <a:chExt cx="7130880" cy="1370160"/>
          </a:xfrm>
        </p:grpSpPr>
        <p:sp>
          <p:nvSpPr>
            <p:cNvPr id="786" name="Rectangle 21"/>
            <p:cNvSpPr/>
            <p:nvPr/>
          </p:nvSpPr>
          <p:spPr>
            <a:xfrm>
              <a:off x="328680" y="3619440"/>
              <a:ext cx="115092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mpuestos al Consumo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- ITBMS 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- Aument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mpuesto en artículos seleccion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3"/>
            <p:cNvSpPr/>
            <p:nvPr/>
          </p:nvSpPr>
          <p:spPr>
            <a:xfrm>
              <a:off x="1639800" y="3524400"/>
              <a:ext cx="581976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La tasa de ITBMS se aumenta en 2%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Las exenciones de ITBMS a lubricantes y telefonía residencial son eliminada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 iguala el ISC de los celulares prepago con el ISC de los celulares de contr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 elimina el arancel de importación de vehículos, aumentar el ISC actual y estable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un mínimo para este impuesto. Incentivar la importación de autos ecológicos (ISC de 5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 reemplaza el impuesto turístico de hospedaje y el impuesto de boletos aéreos por ITBMS, gravar los concentrados y siropes para sodas con ISC de 1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Group 55"/>
          <p:cNvGrpSpPr/>
          <p:nvPr/>
        </p:nvGrpSpPr>
        <p:grpSpPr>
          <a:xfrm>
            <a:off x="314280" y="1925640"/>
            <a:ext cx="7132680" cy="1497960"/>
            <a:chOff x="314280" y="1925640"/>
            <a:chExt cx="7132680" cy="1497960"/>
          </a:xfrm>
        </p:grpSpPr>
        <p:sp>
          <p:nvSpPr>
            <p:cNvPr id="789" name="Rectangle 22"/>
            <p:cNvSpPr/>
            <p:nvPr/>
          </p:nvSpPr>
          <p:spPr>
            <a:xfrm>
              <a:off x="314280" y="2085840"/>
              <a:ext cx="115092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mpuesto sobre la Renta de Corporaciones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- Tasa de 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- Aumentar impuesto a Ban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2"/>
            <p:cNvSpPr/>
            <p:nvPr/>
          </p:nvSpPr>
          <p:spPr>
            <a:xfrm>
              <a:off x="1627200" y="1925640"/>
              <a:ext cx="5819760" cy="14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 disminuye la tasa de ISR a 25% (gradual en 2 años), y para servicios públicos, telecomunicaciones, seguros, fábricas de cemento y bancos que requieren licencia para operar, el cambio será gradual en 4 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Los costos serán directamente proporcionales a la fuente de la renta gravable o exen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 modifica el reconocimiento del ingreso para que las llamadas de larga distancia y el transporte internacional no se consideren ingreso extranje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000" spc="-1" strike="noStrike">
                  <a:solidFill>
                    <a:srgbClr val="000000"/>
                  </a:solidFill>
                  <a:latin typeface="Arial"/>
                </a:rPr>
                <a:t>Se modifica el costo de la licencia para Ban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 elimina el CAIR y se crea el IME para empresas con ventas mayores de $1.5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56"/>
          <p:cNvGrpSpPr/>
          <p:nvPr/>
        </p:nvGrpSpPr>
        <p:grpSpPr>
          <a:xfrm>
            <a:off x="314280" y="4994280"/>
            <a:ext cx="7132680" cy="1163160"/>
            <a:chOff x="314280" y="4994280"/>
            <a:chExt cx="7132680" cy="1163160"/>
          </a:xfrm>
        </p:grpSpPr>
        <p:sp>
          <p:nvSpPr>
            <p:cNvPr id="792" name="Rectangle 32"/>
            <p:cNvSpPr/>
            <p:nvPr/>
          </p:nvSpPr>
          <p:spPr>
            <a:xfrm>
              <a:off x="314280" y="5491080"/>
              <a:ext cx="11509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Otr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33"/>
            <p:cNvSpPr/>
            <p:nvPr/>
          </p:nvSpPr>
          <p:spPr>
            <a:xfrm>
              <a:off x="1627200" y="4994280"/>
              <a:ext cx="581976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 eliminan todos los timbres, con excepción de cheques, giros y contra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 aumentan las tarifas existentes para tener un efecto neutral en cuanto a pérdidas en timbres (por ejemplo, pasaporte, apostilla, papel notarial, débitos bancario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000" spc="-1" strike="noStrike">
                  <a:solidFill>
                    <a:srgbClr val="000000"/>
                  </a:solidFill>
                  <a:latin typeface="Arial"/>
                </a:rPr>
                <a:t>El beneficio de Intereses Preferenciales Hipotecarios se extiende de 10 años a 15 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000" spc="-1" strike="noStrike">
                  <a:solidFill>
                    <a:srgbClr val="000000"/>
                  </a:solidFill>
                  <a:latin typeface="Arial"/>
                </a:rPr>
                <a:t>Se crea el Tribunal Administrativo Tributa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10000"/>
                </a:lnSpc>
                <a:spcBef>
                  <a:spcPts val="312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000" spc="-1" strike="noStrike">
                  <a:solidFill>
                    <a:srgbClr val="000000"/>
                  </a:solidFill>
                  <a:latin typeface="Arial"/>
                </a:rPr>
                <a:t>Devolución de ITBMS a jubilados (hasta $50/año) y Lotería Fis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 Box 82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39"/>
          <p:cNvSpPr/>
          <p:nvPr/>
        </p:nvSpPr>
        <p:spPr>
          <a:xfrm>
            <a:off x="219240" y="444600"/>
            <a:ext cx="7315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119160" y="111240"/>
            <a:ext cx="8618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 </a:t>
            </a: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       </a:t>
            </a:r>
            <a:r>
              <a:rPr b="0" lang="es-PA" sz="1400" spc="-1" strike="noStrike">
                <a:solidFill>
                  <a:srgbClr val="808080"/>
                </a:solidFill>
                <a:latin typeface="Arial"/>
              </a:rPr>
              <a:t>($ Mill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9160" y="12816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Resumen de la Propuesta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0992-EEE9-4D6B-A5B4-2F006F055E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9160" y="3160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La reforma fiscal propuesta brinda grandes beneficios a Panamá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grpSp>
        <p:nvGrpSpPr>
          <p:cNvPr id="801" name="Group 34"/>
          <p:cNvGrpSpPr/>
          <p:nvPr/>
        </p:nvGrpSpPr>
        <p:grpSpPr>
          <a:xfrm>
            <a:off x="247680" y="864720"/>
            <a:ext cx="8467200" cy="502560"/>
            <a:chOff x="247680" y="864720"/>
            <a:chExt cx="8467200" cy="502560"/>
          </a:xfrm>
        </p:grpSpPr>
        <p:sp>
          <p:nvSpPr>
            <p:cNvPr id="802" name="Oval 10"/>
            <p:cNvSpPr/>
            <p:nvPr/>
          </p:nvSpPr>
          <p:spPr>
            <a:xfrm>
              <a:off x="247680" y="1006560"/>
              <a:ext cx="177480" cy="218880"/>
            </a:xfrm>
            <a:prstGeom prst="ellipse">
              <a:avLst/>
            </a:prstGeom>
            <a:solidFill>
              <a:srgbClr val="002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A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"/>
            <p:cNvSpPr/>
            <p:nvPr/>
          </p:nvSpPr>
          <p:spPr>
            <a:xfrm>
              <a:off x="504720" y="864720"/>
              <a:ext cx="13219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44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100" spc="-1" strike="noStrike">
                  <a:solidFill>
                    <a:srgbClr val="002960"/>
                  </a:solidFill>
                  <a:latin typeface="Arial"/>
                </a:rPr>
                <a:t>Cumple las promesas de Gobier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41"/>
            <p:cNvSpPr/>
            <p:nvPr/>
          </p:nvSpPr>
          <p:spPr>
            <a:xfrm>
              <a:off x="1717560" y="1030320"/>
              <a:ext cx="69973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Todos los compromisos del gobierno se cumpl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Line 42"/>
          <p:cNvSpPr/>
          <p:nvPr/>
        </p:nvSpPr>
        <p:spPr>
          <a:xfrm>
            <a:off x="244440" y="147780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43"/>
          <p:cNvSpPr/>
          <p:nvPr/>
        </p:nvSpPr>
        <p:spPr>
          <a:xfrm>
            <a:off x="244440" y="301608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44"/>
          <p:cNvSpPr/>
          <p:nvPr/>
        </p:nvSpPr>
        <p:spPr>
          <a:xfrm>
            <a:off x="244440" y="415440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4"/>
          <p:cNvSpPr/>
          <p:nvPr/>
        </p:nvSpPr>
        <p:spPr>
          <a:xfrm>
            <a:off x="243000" y="551988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35"/>
          <p:cNvGrpSpPr/>
          <p:nvPr/>
        </p:nvGrpSpPr>
        <p:grpSpPr>
          <a:xfrm>
            <a:off x="247680" y="1587600"/>
            <a:ext cx="8467200" cy="1326240"/>
            <a:chOff x="247680" y="1587600"/>
            <a:chExt cx="8467200" cy="1326240"/>
          </a:xfrm>
        </p:grpSpPr>
        <p:sp>
          <p:nvSpPr>
            <p:cNvPr id="810" name="Oval 12"/>
            <p:cNvSpPr/>
            <p:nvPr/>
          </p:nvSpPr>
          <p:spPr>
            <a:xfrm>
              <a:off x="247680" y="2136960"/>
              <a:ext cx="177480" cy="218880"/>
            </a:xfrm>
            <a:prstGeom prst="ellipse">
              <a:avLst/>
            </a:prstGeom>
            <a:solidFill>
              <a:srgbClr val="002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A" sz="1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46"/>
            <p:cNvSpPr/>
            <p:nvPr/>
          </p:nvSpPr>
          <p:spPr>
            <a:xfrm>
              <a:off x="504720" y="2063880"/>
              <a:ext cx="813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44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200" spc="-1" strike="noStrike">
                  <a:solidFill>
                    <a:srgbClr val="002960"/>
                  </a:solidFill>
                  <a:latin typeface="Arial"/>
                </a:rPr>
                <a:t>Promueve la equ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41"/>
            <p:cNvSpPr/>
            <p:nvPr/>
          </p:nvSpPr>
          <p:spPr>
            <a:xfrm>
              <a:off x="1717560" y="1587600"/>
              <a:ext cx="699732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Los bancos y aerolíneas pagan su parte justa de impuest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Todos los individuos que ganan menos de $100k/anual (el 99.7% de los contribuyentes de este impuesto) pagan menos impuestos sobre la rent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El 23% con mayor poder adquisitivo paga el 72% de los aumentos en impuestos al consum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Reduce la evasión injusta a través de la simplificación, menores tasas, y el 1% de adelanto estimado de impuesto sobre las ven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Se crea el Tribunal Administrativo Tributari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36"/>
          <p:cNvGrpSpPr/>
          <p:nvPr/>
        </p:nvGrpSpPr>
        <p:grpSpPr>
          <a:xfrm>
            <a:off x="247680" y="3125880"/>
            <a:ext cx="8467200" cy="923040"/>
            <a:chOff x="247680" y="3125880"/>
            <a:chExt cx="8467200" cy="923040"/>
          </a:xfrm>
        </p:grpSpPr>
        <p:sp>
          <p:nvSpPr>
            <p:cNvPr id="814" name="Oval 14"/>
            <p:cNvSpPr/>
            <p:nvPr/>
          </p:nvSpPr>
          <p:spPr>
            <a:xfrm>
              <a:off x="247680" y="3476520"/>
              <a:ext cx="177480" cy="219240"/>
            </a:xfrm>
            <a:prstGeom prst="ellipse">
              <a:avLst/>
            </a:prstGeom>
            <a:solidFill>
              <a:srgbClr val="002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A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3"/>
            <p:cNvSpPr/>
            <p:nvPr/>
          </p:nvSpPr>
          <p:spPr>
            <a:xfrm>
              <a:off x="504720" y="3311640"/>
              <a:ext cx="11109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200" spc="-1" strike="noStrike">
                  <a:solidFill>
                    <a:srgbClr val="002960"/>
                  </a:solidFill>
                  <a:latin typeface="Arial"/>
                </a:rPr>
                <a:t>Mantiene la competitiv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200" spc="-1" strike="noStrike">
                  <a:solidFill>
                    <a:srgbClr val="002960"/>
                  </a:solidFill>
                  <a:latin typeface="Arial"/>
                </a:rPr>
                <a:t>de 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41"/>
            <p:cNvSpPr/>
            <p:nvPr/>
          </p:nvSpPr>
          <p:spPr>
            <a:xfrm>
              <a:off x="1717560" y="3125880"/>
              <a:ext cx="69973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A pesar de que los bancos y las aerolíneas tendrán que pagar más impuestos, estos no se irán de Panamá ya que los impuestos seguirán siendo menores que en países competidor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Tasas de impuestos para personas naturales y jurídicas bajas.  Competitivas con referencias internacion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7% de ITBMS, todavía será el más bajo en LatAm (Guatemala es el siguiente más bajo, 12%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2"/>
          <p:cNvGrpSpPr/>
          <p:nvPr/>
        </p:nvGrpSpPr>
        <p:grpSpPr>
          <a:xfrm>
            <a:off x="247680" y="4264200"/>
            <a:ext cx="8467560" cy="1124640"/>
            <a:chOff x="247680" y="4264200"/>
            <a:chExt cx="8467560" cy="1124640"/>
          </a:xfrm>
        </p:grpSpPr>
        <p:sp>
          <p:nvSpPr>
            <p:cNvPr id="818" name="Oval 18"/>
            <p:cNvSpPr/>
            <p:nvPr/>
          </p:nvSpPr>
          <p:spPr>
            <a:xfrm>
              <a:off x="247680" y="4727520"/>
              <a:ext cx="177840" cy="218520"/>
            </a:xfrm>
            <a:prstGeom prst="ellipse">
              <a:avLst/>
            </a:prstGeom>
            <a:solidFill>
              <a:srgbClr val="002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A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7"/>
            <p:cNvSpPr/>
            <p:nvPr/>
          </p:nvSpPr>
          <p:spPr>
            <a:xfrm>
              <a:off x="504720" y="4654080"/>
              <a:ext cx="1041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200" spc="-1" strike="noStrike">
                  <a:solidFill>
                    <a:srgbClr val="002960"/>
                  </a:solidFill>
                  <a:latin typeface="Arial"/>
                </a:rPr>
                <a:t>Simplifica los impues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41"/>
            <p:cNvSpPr/>
            <p:nvPr/>
          </p:nvSpPr>
          <p:spPr>
            <a:xfrm>
              <a:off x="1717560" y="4264200"/>
              <a:ext cx="6997680" cy="11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Se elimina una gran cantidad de obligaciones fiscales diferentes (incluyendo timbres, boletos aéreos internacionales, etc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Al eliminar los timbres de facturas se simplifican los procesos mensuales para casi el 20% de las empres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Se elimina el CAIR para más del 99% de los contribuyent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000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El Impuesto sobre la Renta personal es mucho más sencillo de calcular y audita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38"/>
          <p:cNvGrpSpPr/>
          <p:nvPr/>
        </p:nvGrpSpPr>
        <p:grpSpPr>
          <a:xfrm>
            <a:off x="247680" y="5630760"/>
            <a:ext cx="8467200" cy="547920"/>
            <a:chOff x="247680" y="5630760"/>
            <a:chExt cx="8467200" cy="547920"/>
          </a:xfrm>
        </p:grpSpPr>
        <p:sp>
          <p:nvSpPr>
            <p:cNvPr id="822" name="Oval 18"/>
            <p:cNvSpPr/>
            <p:nvPr/>
          </p:nvSpPr>
          <p:spPr>
            <a:xfrm>
              <a:off x="247680" y="5794200"/>
              <a:ext cx="177480" cy="219240"/>
            </a:xfrm>
            <a:prstGeom prst="ellipse">
              <a:avLst/>
            </a:prstGeom>
            <a:solidFill>
              <a:srgbClr val="002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A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7"/>
            <p:cNvSpPr/>
            <p:nvPr/>
          </p:nvSpPr>
          <p:spPr>
            <a:xfrm>
              <a:off x="504720" y="5630760"/>
              <a:ext cx="1041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200" spc="-1" strike="noStrike">
                  <a:solidFill>
                    <a:srgbClr val="002960"/>
                  </a:solidFill>
                  <a:latin typeface="Arial"/>
                </a:rPr>
                <a:t>Aumento de los ingresos del gobi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1717560" y="5818320"/>
              <a:ext cx="69973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95000"/>
                </a:lnSpc>
                <a:spcAft>
                  <a:spcPts val="224"/>
                </a:spcAft>
                <a:buClr>
                  <a:srgbClr val="00000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La reforma fiscal generará un aumento de $200 millones anuales en ingres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84160" y="3983040"/>
            <a:ext cx="53910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3200" spc="-1" strike="noStrike">
                <a:solidFill>
                  <a:srgbClr val="002960"/>
                </a:solidFill>
                <a:latin typeface="Arial"/>
              </a:rPr>
              <a:t>Anexos</a:t>
            </a:r>
            <a:endParaRPr b="1" lang="en-US" sz="32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28" name="Rectangle 6"/>
          <p:cNvSpPr/>
          <p:nvPr/>
        </p:nvSpPr>
        <p:spPr>
          <a:xfrm>
            <a:off x="0" y="0"/>
            <a:ext cx="8958240" cy="6721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8" descr="logo MEF grande"/>
          <p:cNvPicPr/>
          <p:nvPr/>
        </p:nvPicPr>
        <p:blipFill>
          <a:blip r:embed="rId1"/>
          <a:stretch/>
        </p:blipFill>
        <p:spPr>
          <a:xfrm>
            <a:off x="3392640" y="1452600"/>
            <a:ext cx="2172960" cy="21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9C7A-41F4-4D85-B33E-CA4BFED433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9160" y="22824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Situación actual* (1/2) 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33" name="Line 9"/>
          <p:cNvSpPr/>
          <p:nvPr/>
        </p:nvSpPr>
        <p:spPr>
          <a:xfrm>
            <a:off x="1712880" y="4610160"/>
            <a:ext cx="6961320" cy="0"/>
          </a:xfrm>
          <a:prstGeom prst="line">
            <a:avLst/>
          </a:prstGeom>
          <a:ln w="19080">
            <a:solidFill>
              <a:srgbClr val="0029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0"/>
          <p:cNvSpPr/>
          <p:nvPr/>
        </p:nvSpPr>
        <p:spPr>
          <a:xfrm>
            <a:off x="1712880" y="2001960"/>
            <a:ext cx="6961320" cy="0"/>
          </a:xfrm>
          <a:prstGeom prst="line">
            <a:avLst/>
          </a:prstGeom>
          <a:ln w="19080">
            <a:solidFill>
              <a:srgbClr val="0029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1754280" y="773280"/>
            <a:ext cx="701676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xisten compromisos para reformar el sistema tributari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ducción de impuestos sobre la renta para personas y 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iminar el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IR para personas naturales y para empresas con ventas menores de $1.5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</a:rPr>
              <a:t>Crear el Tribunal Administrativo Tribu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24"/>
          <p:cNvGrpSpPr/>
          <p:nvPr/>
        </p:nvGrpSpPr>
        <p:grpSpPr>
          <a:xfrm>
            <a:off x="85680" y="725400"/>
            <a:ext cx="1508040" cy="1158840"/>
            <a:chOff x="85680" y="725400"/>
            <a:chExt cx="1508040" cy="1158840"/>
          </a:xfrm>
        </p:grpSpPr>
        <p:grpSp>
          <p:nvGrpSpPr>
            <p:cNvPr id="837" name="Group 25"/>
            <p:cNvGrpSpPr/>
            <p:nvPr/>
          </p:nvGrpSpPr>
          <p:grpSpPr>
            <a:xfrm>
              <a:off x="85680" y="725400"/>
              <a:ext cx="1508040" cy="1158840"/>
              <a:chOff x="85680" y="725400"/>
              <a:chExt cx="1508040" cy="1158840"/>
            </a:xfrm>
          </p:grpSpPr>
          <p:sp>
            <p:nvSpPr>
              <p:cNvPr id="838" name="Rectangle 27"/>
              <p:cNvSpPr/>
              <p:nvPr/>
            </p:nvSpPr>
            <p:spPr>
              <a:xfrm>
                <a:off x="196560" y="834840"/>
                <a:ext cx="1397160" cy="1049400"/>
              </a:xfrm>
              <a:prstGeom prst="rect">
                <a:avLst/>
              </a:prstGeom>
              <a:solidFill>
                <a:srgbClr val="c7e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Oval 29"/>
              <p:cNvSpPr/>
              <p:nvPr/>
            </p:nvSpPr>
            <p:spPr>
              <a:xfrm>
                <a:off x="85680" y="725400"/>
                <a:ext cx="218880" cy="218880"/>
              </a:xfrm>
              <a:prstGeom prst="ellipse">
                <a:avLst/>
              </a:prstGeom>
              <a:solidFill>
                <a:srgbClr val="0029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Rectangle 28"/>
            <p:cNvSpPr/>
            <p:nvPr/>
          </p:nvSpPr>
          <p:spPr>
            <a:xfrm>
              <a:off x="271080" y="1040400"/>
              <a:ext cx="12765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2960"/>
                  </a:solidFill>
                  <a:latin typeface="Arial"/>
                </a:rPr>
                <a:t>Cumplir con las promesas de Gobi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Rectangle 5"/>
          <p:cNvSpPr/>
          <p:nvPr/>
        </p:nvSpPr>
        <p:spPr>
          <a:xfrm>
            <a:off x="1754280" y="2120760"/>
            <a:ext cx="70167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sigualdad en las tasas efectivas de ISR para empres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 ejemplo, la tasa promedio es 15%, pero los bancos pagan 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mpuestos pagados por las personas y los hoga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70% del ITBMS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es pagado por el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20% con mayor poder adquisitivo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de los hoga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Sólo el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15% de las personas con mayor poder adquisitivo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paga IS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2% de los contribuyentes con mayor poder adquisitivo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, recibe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más del 50% de los beneficios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de las exenciones de impuest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tos niveles de informalidad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160 mil personas informaron trabajar en un negocio propio, per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ás de 134 mil (84%) de ellas no están registrad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n el M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29"/>
          <p:cNvGrpSpPr/>
          <p:nvPr/>
        </p:nvGrpSpPr>
        <p:grpSpPr>
          <a:xfrm>
            <a:off x="85680" y="2725560"/>
            <a:ext cx="1508040" cy="1158840"/>
            <a:chOff x="85680" y="2725560"/>
            <a:chExt cx="1508040" cy="1158840"/>
          </a:xfrm>
        </p:grpSpPr>
        <p:grpSp>
          <p:nvGrpSpPr>
            <p:cNvPr id="843" name="Group 30"/>
            <p:cNvGrpSpPr/>
            <p:nvPr/>
          </p:nvGrpSpPr>
          <p:grpSpPr>
            <a:xfrm>
              <a:off x="85680" y="2725560"/>
              <a:ext cx="1508040" cy="1158840"/>
              <a:chOff x="85680" y="2725560"/>
              <a:chExt cx="1508040" cy="1158840"/>
            </a:xfrm>
          </p:grpSpPr>
          <p:sp>
            <p:nvSpPr>
              <p:cNvPr id="844" name="Rectangle 27"/>
              <p:cNvSpPr/>
              <p:nvPr/>
            </p:nvSpPr>
            <p:spPr>
              <a:xfrm>
                <a:off x="196560" y="2835000"/>
                <a:ext cx="1397160" cy="1049400"/>
              </a:xfrm>
              <a:prstGeom prst="rect">
                <a:avLst/>
              </a:prstGeom>
              <a:solidFill>
                <a:srgbClr val="c7e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Oval 29"/>
              <p:cNvSpPr/>
              <p:nvPr/>
            </p:nvSpPr>
            <p:spPr>
              <a:xfrm>
                <a:off x="85680" y="2725560"/>
                <a:ext cx="218880" cy="218880"/>
              </a:xfrm>
              <a:prstGeom prst="ellipse">
                <a:avLst/>
              </a:prstGeom>
              <a:solidFill>
                <a:srgbClr val="0029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Rectangle 28"/>
            <p:cNvSpPr/>
            <p:nvPr/>
          </p:nvSpPr>
          <p:spPr>
            <a:xfrm>
              <a:off x="271080" y="3147120"/>
              <a:ext cx="1276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2960"/>
                  </a:solidFill>
                  <a:latin typeface="Arial"/>
                </a:rPr>
                <a:t>Promover la equ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Rectangle 6"/>
          <p:cNvSpPr/>
          <p:nvPr/>
        </p:nvSpPr>
        <p:spPr>
          <a:xfrm>
            <a:off x="1754280" y="4729320"/>
            <a:ext cx="701676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impuesto sobre la renta a corporaciones es alt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30% y no ha disminuido recientemente:  El promedio global es 26% y las tasas globales han disminuido alrededor de 5% en los últimos 10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impuesto sobre la renta a personas es competitiv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n comparación con las tasas mundiales, pero la tendencia global es a reducirlos (promedio mundial de reducció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2% en los últimos 5 añ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34"/>
          <p:cNvGrpSpPr/>
          <p:nvPr/>
        </p:nvGrpSpPr>
        <p:grpSpPr>
          <a:xfrm>
            <a:off x="85680" y="4894200"/>
            <a:ext cx="1508040" cy="1158840"/>
            <a:chOff x="85680" y="4894200"/>
            <a:chExt cx="1508040" cy="1158840"/>
          </a:xfrm>
        </p:grpSpPr>
        <p:grpSp>
          <p:nvGrpSpPr>
            <p:cNvPr id="849" name="Group 35"/>
            <p:cNvGrpSpPr/>
            <p:nvPr/>
          </p:nvGrpSpPr>
          <p:grpSpPr>
            <a:xfrm>
              <a:off x="85680" y="4894200"/>
              <a:ext cx="1508040" cy="1158840"/>
              <a:chOff x="85680" y="4894200"/>
              <a:chExt cx="1508040" cy="1158840"/>
            </a:xfrm>
          </p:grpSpPr>
          <p:sp>
            <p:nvSpPr>
              <p:cNvPr id="850" name="Rectangle 27"/>
              <p:cNvSpPr/>
              <p:nvPr/>
            </p:nvSpPr>
            <p:spPr>
              <a:xfrm>
                <a:off x="196560" y="5003640"/>
                <a:ext cx="1397160" cy="1049400"/>
              </a:xfrm>
              <a:prstGeom prst="rect">
                <a:avLst/>
              </a:prstGeom>
              <a:solidFill>
                <a:srgbClr val="c7e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Oval 29"/>
              <p:cNvSpPr/>
              <p:nvPr/>
            </p:nvSpPr>
            <p:spPr>
              <a:xfrm>
                <a:off x="85680" y="4894200"/>
                <a:ext cx="218880" cy="218880"/>
              </a:xfrm>
              <a:prstGeom prst="ellipse">
                <a:avLst/>
              </a:prstGeom>
              <a:solidFill>
                <a:srgbClr val="0029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Rectangle 28"/>
            <p:cNvSpPr/>
            <p:nvPr/>
          </p:nvSpPr>
          <p:spPr>
            <a:xfrm>
              <a:off x="271080" y="5209200"/>
              <a:ext cx="12765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2960"/>
                  </a:solidFill>
                  <a:latin typeface="Arial"/>
                </a:rPr>
                <a:t>Mantener la competitividad de Panam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Text Box 82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McK 4. Footnote"/>
          <p:cNvSpPr/>
          <p:nvPr/>
        </p:nvSpPr>
        <p:spPr>
          <a:xfrm>
            <a:off x="106200" y="6440400"/>
            <a:ext cx="882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* Septiembr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F74B-B7CC-48AF-97D6-4ABFAF8E99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9"/>
          <p:cNvSpPr/>
          <p:nvPr/>
        </p:nvSpPr>
        <p:spPr>
          <a:xfrm>
            <a:off x="1611360" y="4356000"/>
            <a:ext cx="7086600" cy="0"/>
          </a:xfrm>
          <a:prstGeom prst="line">
            <a:avLst/>
          </a:prstGeom>
          <a:ln w="19080">
            <a:solidFill>
              <a:srgbClr val="0029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27"/>
          <p:cNvGrpSpPr/>
          <p:nvPr/>
        </p:nvGrpSpPr>
        <p:grpSpPr>
          <a:xfrm>
            <a:off x="85680" y="760320"/>
            <a:ext cx="8577360" cy="1158840"/>
            <a:chOff x="85680" y="760320"/>
            <a:chExt cx="8577360" cy="1158840"/>
          </a:xfrm>
        </p:grpSpPr>
        <p:sp>
          <p:nvSpPr>
            <p:cNvPr id="859" name="Rectangle 25"/>
            <p:cNvSpPr/>
            <p:nvPr/>
          </p:nvSpPr>
          <p:spPr>
            <a:xfrm>
              <a:off x="1730520" y="1020600"/>
              <a:ext cx="6932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Tasa de ITBMS (5%) es baja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y nunca se ha aumentado desde su creación en 1976. Todos los países de Latinoamérica tienen tasas más altas de IVA** (promedio de 16%), y el 70% de los países la han aumentado recientem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Group 25"/>
            <p:cNvGrpSpPr/>
            <p:nvPr/>
          </p:nvGrpSpPr>
          <p:grpSpPr>
            <a:xfrm>
              <a:off x="85680" y="760320"/>
              <a:ext cx="1508040" cy="1158840"/>
              <a:chOff x="85680" y="760320"/>
              <a:chExt cx="1508040" cy="1158840"/>
            </a:xfrm>
          </p:grpSpPr>
          <p:grpSp>
            <p:nvGrpSpPr>
              <p:cNvPr id="861" name="Group 24"/>
              <p:cNvGrpSpPr/>
              <p:nvPr/>
            </p:nvGrpSpPr>
            <p:grpSpPr>
              <a:xfrm>
                <a:off x="85680" y="760320"/>
                <a:ext cx="1508040" cy="1158840"/>
                <a:chOff x="85680" y="760320"/>
                <a:chExt cx="1508040" cy="1158840"/>
              </a:xfrm>
            </p:grpSpPr>
            <p:sp>
              <p:nvSpPr>
                <p:cNvPr id="862" name="Rectangle 27"/>
                <p:cNvSpPr/>
                <p:nvPr/>
              </p:nvSpPr>
              <p:spPr>
                <a:xfrm>
                  <a:off x="196560" y="869760"/>
                  <a:ext cx="1397160" cy="1049400"/>
                </a:xfrm>
                <a:prstGeom prst="rect">
                  <a:avLst/>
                </a:prstGeom>
                <a:solidFill>
                  <a:srgbClr val="c7e0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Oval 29"/>
                <p:cNvSpPr/>
                <p:nvPr/>
              </p:nvSpPr>
              <p:spPr>
                <a:xfrm>
                  <a:off x="85680" y="760320"/>
                  <a:ext cx="218880" cy="218880"/>
                </a:xfrm>
                <a:prstGeom prst="ellipse">
                  <a:avLst/>
                </a:prstGeom>
                <a:solidFill>
                  <a:srgbClr val="0029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4" name="Rectangle 28"/>
              <p:cNvSpPr/>
              <p:nvPr/>
            </p:nvSpPr>
            <p:spPr>
              <a:xfrm>
                <a:off x="271080" y="1075320"/>
                <a:ext cx="12765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ES" sz="1400" spc="-1" strike="noStrike">
                    <a:solidFill>
                      <a:srgbClr val="002960"/>
                    </a:solidFill>
                    <a:latin typeface="Arial"/>
                  </a:rPr>
                  <a:t>Mantener la competitivida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ES" sz="1400" spc="-1" strike="noStrike">
                    <a:solidFill>
                      <a:srgbClr val="002960"/>
                    </a:solidFill>
                    <a:latin typeface="Arial"/>
                  </a:rPr>
                  <a:t>de Panam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Situación actual* (2/2) 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grpSp>
        <p:nvGrpSpPr>
          <p:cNvPr id="866" name="Group 28"/>
          <p:cNvGrpSpPr/>
          <p:nvPr/>
        </p:nvGrpSpPr>
        <p:grpSpPr>
          <a:xfrm>
            <a:off x="85680" y="2125800"/>
            <a:ext cx="8577360" cy="2202120"/>
            <a:chOff x="85680" y="2125800"/>
            <a:chExt cx="8577360" cy="2202120"/>
          </a:xfrm>
        </p:grpSpPr>
        <p:sp>
          <p:nvSpPr>
            <p:cNvPr id="867" name="Rectangle 6"/>
            <p:cNvSpPr/>
            <p:nvPr/>
          </p:nvSpPr>
          <p:spPr>
            <a:xfrm>
              <a:off x="1730520" y="2125800"/>
              <a:ext cx="6932520" cy="22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Los tres impuestos principales (ISR, ITBMS y Aranceles) representan más del 60% de los ingresos tribut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lgunos impuestos tienen costos altos de cumplimiento.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Por ejemplo, los timbres de facturas generan menos de $10M, pero requieren que el 20% de los contribuyentes entreguen un reporte mens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s compañías de bajo margen pueden legalmente optar por no utilizar el CAIR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, pero es difícil para 3,000 empresas pequeñas (15% del total) optar por utilizar otro sistema de cálculos, incluso cuando tienen derecho a hacerlo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26"/>
            <p:cNvGrpSpPr/>
            <p:nvPr/>
          </p:nvGrpSpPr>
          <p:grpSpPr>
            <a:xfrm>
              <a:off x="85680" y="2610000"/>
              <a:ext cx="1508040" cy="1158840"/>
              <a:chOff x="85680" y="2610000"/>
              <a:chExt cx="1508040" cy="1158840"/>
            </a:xfrm>
          </p:grpSpPr>
          <p:grpSp>
            <p:nvGrpSpPr>
              <p:cNvPr id="869" name="Group 27"/>
              <p:cNvGrpSpPr/>
              <p:nvPr/>
            </p:nvGrpSpPr>
            <p:grpSpPr>
              <a:xfrm>
                <a:off x="85680" y="2610000"/>
                <a:ext cx="1508040" cy="1158840"/>
                <a:chOff x="85680" y="2610000"/>
                <a:chExt cx="1508040" cy="1158840"/>
              </a:xfrm>
            </p:grpSpPr>
            <p:sp>
              <p:nvSpPr>
                <p:cNvPr id="870" name="Rectangle 27"/>
                <p:cNvSpPr/>
                <p:nvPr/>
              </p:nvSpPr>
              <p:spPr>
                <a:xfrm>
                  <a:off x="196560" y="2719440"/>
                  <a:ext cx="1397160" cy="1049400"/>
                </a:xfrm>
                <a:prstGeom prst="rect">
                  <a:avLst/>
                </a:prstGeom>
                <a:solidFill>
                  <a:srgbClr val="c7e0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Oval 29"/>
                <p:cNvSpPr/>
                <p:nvPr/>
              </p:nvSpPr>
              <p:spPr>
                <a:xfrm>
                  <a:off x="85680" y="2610000"/>
                  <a:ext cx="218880" cy="218880"/>
                </a:xfrm>
                <a:prstGeom prst="ellipse">
                  <a:avLst/>
                </a:prstGeom>
                <a:solidFill>
                  <a:srgbClr val="0029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2" name="Rectangle 28"/>
              <p:cNvSpPr/>
              <p:nvPr/>
            </p:nvSpPr>
            <p:spPr>
              <a:xfrm>
                <a:off x="271080" y="3031560"/>
                <a:ext cx="12765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ES" sz="1400" spc="-1" strike="noStrike">
                    <a:solidFill>
                      <a:srgbClr val="002960"/>
                    </a:solidFill>
                    <a:latin typeface="Arial"/>
                  </a:rPr>
                  <a:t>Simplificar los Impues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3" name="Group 29"/>
          <p:cNvGrpSpPr/>
          <p:nvPr/>
        </p:nvGrpSpPr>
        <p:grpSpPr>
          <a:xfrm>
            <a:off x="85680" y="4460760"/>
            <a:ext cx="8577360" cy="1740600"/>
            <a:chOff x="85680" y="4460760"/>
            <a:chExt cx="8577360" cy="1740600"/>
          </a:xfrm>
        </p:grpSpPr>
        <p:sp>
          <p:nvSpPr>
            <p:cNvPr id="874" name="Rectangle 4"/>
            <p:cNvSpPr/>
            <p:nvPr/>
          </p:nvSpPr>
          <p:spPr>
            <a:xfrm>
              <a:off x="1730520" y="4460760"/>
              <a:ext cx="6932520" cy="17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l ingreso tributario como porcentaje del PIB (10.7%) es el segundo más bajo en América Latina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y entre los más bajos del mundo (posición 138 de 192)</a:t>
              </a:r>
              <a:br>
                <a:rPr sz="1400"/>
              </a:b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primera ola de reformas fiscales logrará aumentos de ingresos de $250 millones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(alrededor de 1% del PIB)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rece haber aumentado el cumplimiento del CAIR: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Desde que se instituyó el CAIR las empresas reportan casi el doble de r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Group 31"/>
            <p:cNvGrpSpPr/>
            <p:nvPr/>
          </p:nvGrpSpPr>
          <p:grpSpPr>
            <a:xfrm>
              <a:off x="85680" y="4732200"/>
              <a:ext cx="1508040" cy="1158840"/>
              <a:chOff x="85680" y="4732200"/>
              <a:chExt cx="1508040" cy="1158840"/>
            </a:xfrm>
          </p:grpSpPr>
          <p:grpSp>
            <p:nvGrpSpPr>
              <p:cNvPr id="876" name="Group 32"/>
              <p:cNvGrpSpPr/>
              <p:nvPr/>
            </p:nvGrpSpPr>
            <p:grpSpPr>
              <a:xfrm>
                <a:off x="85680" y="4732200"/>
                <a:ext cx="1508040" cy="1158840"/>
                <a:chOff x="85680" y="4732200"/>
                <a:chExt cx="1508040" cy="1158840"/>
              </a:xfrm>
            </p:grpSpPr>
            <p:sp>
              <p:nvSpPr>
                <p:cNvPr id="877" name="Rectangle 27"/>
                <p:cNvSpPr/>
                <p:nvPr/>
              </p:nvSpPr>
              <p:spPr>
                <a:xfrm>
                  <a:off x="196560" y="4841640"/>
                  <a:ext cx="1397160" cy="1049400"/>
                </a:xfrm>
                <a:prstGeom prst="rect">
                  <a:avLst/>
                </a:prstGeom>
                <a:solidFill>
                  <a:srgbClr val="c7e0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Oval 29"/>
                <p:cNvSpPr/>
                <p:nvPr/>
              </p:nvSpPr>
              <p:spPr>
                <a:xfrm>
                  <a:off x="85680" y="4732200"/>
                  <a:ext cx="218880" cy="218880"/>
                </a:xfrm>
                <a:prstGeom prst="ellipse">
                  <a:avLst/>
                </a:prstGeom>
                <a:solidFill>
                  <a:srgbClr val="0029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" name="Rectangle 28"/>
              <p:cNvSpPr/>
              <p:nvPr/>
            </p:nvSpPr>
            <p:spPr>
              <a:xfrm>
                <a:off x="271080" y="5047200"/>
                <a:ext cx="12765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ES" sz="1400" spc="-1" strike="noStrike">
                    <a:solidFill>
                      <a:srgbClr val="002960"/>
                    </a:solidFill>
                    <a:latin typeface="Arial"/>
                  </a:rPr>
                  <a:t>Aumento de los ingresos del Gobie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0" name="Line 10"/>
          <p:cNvSpPr/>
          <p:nvPr/>
        </p:nvSpPr>
        <p:spPr>
          <a:xfrm>
            <a:off x="1712880" y="2022480"/>
            <a:ext cx="6961320" cy="0"/>
          </a:xfrm>
          <a:prstGeom prst="line">
            <a:avLst/>
          </a:prstGeom>
          <a:ln w="19080">
            <a:solidFill>
              <a:srgbClr val="0029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McK 4. Footnote"/>
          <p:cNvSpPr/>
          <p:nvPr/>
        </p:nvSpPr>
        <p:spPr>
          <a:xfrm>
            <a:off x="106200" y="6345000"/>
            <a:ext cx="8829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* Septiembr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** ITBMS es el nombre con que comúnmente se conoce al Impuesto de Valor Agregado (IVA) en Panam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82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8381-DD8F-4790-9FE1-5BFF2A717D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53"/>
          <p:cNvSpPr/>
          <p:nvPr/>
        </p:nvSpPr>
        <p:spPr>
          <a:xfrm>
            <a:off x="3286080" y="1190520"/>
            <a:ext cx="5558040" cy="171936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19160" y="115560"/>
            <a:ext cx="86184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Panamá puede financiar adecuadamente sus planes de inversión con el uso de herramientas para aumentar los ingresos del gobierno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87" name="McK 3. Unit of measure"/>
          <p:cNvSpPr/>
          <p:nvPr/>
        </p:nvSpPr>
        <p:spPr>
          <a:xfrm>
            <a:off x="119160" y="71280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808080"/>
                </a:solidFill>
                <a:latin typeface="Arial"/>
              </a:rPr>
              <a:t>$ Miles de Mill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66"/>
          <p:cNvGrpSpPr/>
          <p:nvPr/>
        </p:nvGrpSpPr>
        <p:grpSpPr>
          <a:xfrm>
            <a:off x="1503360" y="2095560"/>
            <a:ext cx="7734240" cy="826920"/>
            <a:chOff x="1503360" y="2095560"/>
            <a:chExt cx="7734240" cy="826920"/>
          </a:xfrm>
        </p:grpSpPr>
        <p:grpSp>
          <p:nvGrpSpPr>
            <p:cNvPr id="889" name="Group 61"/>
            <p:cNvGrpSpPr/>
            <p:nvPr/>
          </p:nvGrpSpPr>
          <p:grpSpPr>
            <a:xfrm>
              <a:off x="3338640" y="2235240"/>
              <a:ext cx="5898960" cy="547920"/>
              <a:chOff x="3338640" y="2235240"/>
              <a:chExt cx="5898960" cy="547920"/>
            </a:xfrm>
          </p:grpSpPr>
          <p:sp>
            <p:nvSpPr>
              <p:cNvPr id="890" name="Rectangle 25"/>
              <p:cNvSpPr/>
              <p:nvPr/>
            </p:nvSpPr>
            <p:spPr>
              <a:xfrm>
                <a:off x="3338640" y="2403360"/>
                <a:ext cx="961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lvl="1" marL="193680" indent="-192240" algn="ctr"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400" spc="-1" strike="noStrike">
                    <a:solidFill>
                      <a:srgbClr val="002960"/>
                    </a:solidFill>
                    <a:latin typeface="Arial"/>
                  </a:rPr>
                  <a:t>1.0 - 1.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33"/>
              <p:cNvSpPr/>
              <p:nvPr/>
            </p:nvSpPr>
            <p:spPr>
              <a:xfrm>
                <a:off x="4305240" y="2235240"/>
                <a:ext cx="493236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lvl="1" marL="193680" indent="-192240">
                  <a:lnSpc>
                    <a:spcPct val="100000"/>
                  </a:lnSpc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2960"/>
                    </a:solidFill>
                    <a:latin typeface="Arial"/>
                  </a:rPr>
                  <a:t>Total potencial de $525-875 millones cada añ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2960"/>
                    </a:solidFill>
                    <a:latin typeface="Arial"/>
                  </a:rPr>
                  <a:t>10% del potencial  capturada en el primer añ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2960"/>
                    </a:solidFill>
                    <a:latin typeface="Arial"/>
                  </a:rPr>
                  <a:t>50% del potencial capturada en el quinto añ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55"/>
            <p:cNvGrpSpPr/>
            <p:nvPr/>
          </p:nvGrpSpPr>
          <p:grpSpPr>
            <a:xfrm>
              <a:off x="1503360" y="2095560"/>
              <a:ext cx="1673280" cy="826920"/>
              <a:chOff x="1503360" y="2095560"/>
              <a:chExt cx="1673280" cy="826920"/>
            </a:xfrm>
          </p:grpSpPr>
          <p:sp>
            <p:nvSpPr>
              <p:cNvPr id="893" name="Rectangle 4"/>
              <p:cNvSpPr/>
              <p:nvPr/>
            </p:nvSpPr>
            <p:spPr>
              <a:xfrm>
                <a:off x="1589040" y="2136600"/>
                <a:ext cx="1587600" cy="785880"/>
              </a:xfrm>
              <a:prstGeom prst="rect">
                <a:avLst/>
              </a:prstGeom>
              <a:solidFill>
                <a:srgbClr val="c7e0f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Rectangle 11"/>
              <p:cNvSpPr/>
              <p:nvPr/>
            </p:nvSpPr>
            <p:spPr>
              <a:xfrm>
                <a:off x="1792440" y="2255760"/>
                <a:ext cx="130968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Aplicación efectiva de la legislación fisc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48"/>
              <p:cNvSpPr/>
              <p:nvPr/>
            </p:nvSpPr>
            <p:spPr>
              <a:xfrm>
                <a:off x="1503360" y="2095560"/>
                <a:ext cx="333360" cy="271440"/>
              </a:xfrm>
              <a:prstGeom prst="ellipse">
                <a:avLst/>
              </a:prstGeom>
              <a:solidFill>
                <a:srgbClr val="0029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A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6" name="Group 69"/>
          <p:cNvGrpSpPr/>
          <p:nvPr/>
        </p:nvGrpSpPr>
        <p:grpSpPr>
          <a:xfrm>
            <a:off x="1503360" y="4984920"/>
            <a:ext cx="7659720" cy="882000"/>
            <a:chOff x="1503360" y="4984920"/>
            <a:chExt cx="7659720" cy="882000"/>
          </a:xfrm>
        </p:grpSpPr>
        <p:grpSp>
          <p:nvGrpSpPr>
            <p:cNvPr id="897" name="Group 64"/>
            <p:cNvGrpSpPr/>
            <p:nvPr/>
          </p:nvGrpSpPr>
          <p:grpSpPr>
            <a:xfrm>
              <a:off x="3338640" y="5060880"/>
              <a:ext cx="5824440" cy="730440"/>
              <a:chOff x="3338640" y="5060880"/>
              <a:chExt cx="5824440" cy="730440"/>
            </a:xfrm>
          </p:grpSpPr>
          <p:sp>
            <p:nvSpPr>
              <p:cNvPr id="898" name="Rectangle 29"/>
              <p:cNvSpPr/>
              <p:nvPr/>
            </p:nvSpPr>
            <p:spPr>
              <a:xfrm>
                <a:off x="3338640" y="5341320"/>
                <a:ext cx="977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lvl="1" marL="193680" indent="-192240" algn="ctr"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400" spc="-1" strike="noStrike">
                    <a:solidFill>
                      <a:srgbClr val="002960"/>
                    </a:solidFill>
                    <a:latin typeface="Arial"/>
                  </a:rPr>
                  <a:t>2.3 - 5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Rectangle 36"/>
              <p:cNvSpPr/>
              <p:nvPr/>
            </p:nvSpPr>
            <p:spPr>
              <a:xfrm>
                <a:off x="4305240" y="5060880"/>
                <a:ext cx="485784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lvl="1" marL="193680" indent="-192240">
                  <a:lnSpc>
                    <a:spcPct val="100000"/>
                  </a:lnSpc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2960"/>
                    </a:solidFill>
                    <a:latin typeface="Arial"/>
                  </a:rPr>
                  <a:t>Se requiere atraer entre 1.5% y 4% del PIB. La tendencia  para inversiones privadas han cambiado significativamente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457200" indent="-262080">
                  <a:lnSpc>
                    <a:spcPct val="100000"/>
                  </a:lnSpc>
                  <a:buClr>
                    <a:srgbClr val="002960"/>
                  </a:buClr>
                  <a:buSzPct val="125000"/>
                  <a:buFont typeface="Arial"/>
                  <a:buChar char="–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2960"/>
                    </a:solidFill>
                    <a:latin typeface="Arial"/>
                  </a:rPr>
                  <a:t>1.1% del PIB en los últimos años (2004-2007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457200" indent="-262080">
                  <a:lnSpc>
                    <a:spcPct val="100000"/>
                  </a:lnSpc>
                  <a:buClr>
                    <a:srgbClr val="002960"/>
                  </a:buClr>
                  <a:buSzPct val="125000"/>
                  <a:buFont typeface="Arial"/>
                  <a:buChar char="–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2960"/>
                    </a:solidFill>
                    <a:latin typeface="Arial"/>
                  </a:rPr>
                  <a:t>Por encima del 6% entre 1994 y 199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58"/>
            <p:cNvGrpSpPr/>
            <p:nvPr/>
          </p:nvGrpSpPr>
          <p:grpSpPr>
            <a:xfrm>
              <a:off x="1503360" y="4984920"/>
              <a:ext cx="1717920" cy="882000"/>
              <a:chOff x="1503360" y="4984920"/>
              <a:chExt cx="1717920" cy="882000"/>
            </a:xfrm>
          </p:grpSpPr>
          <p:sp>
            <p:nvSpPr>
              <p:cNvPr id="901" name="Rectangle 7"/>
              <p:cNvSpPr/>
              <p:nvPr/>
            </p:nvSpPr>
            <p:spPr>
              <a:xfrm>
                <a:off x="1589040" y="5081400"/>
                <a:ext cx="1587600" cy="785520"/>
              </a:xfrm>
              <a:prstGeom prst="rect">
                <a:avLst/>
              </a:prstGeom>
              <a:solidFill>
                <a:srgbClr val="c7e0f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Rectangle 13"/>
              <p:cNvSpPr/>
              <p:nvPr/>
            </p:nvSpPr>
            <p:spPr>
              <a:xfrm>
                <a:off x="1792440" y="5200560"/>
                <a:ext cx="142884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Atraer capital privado y ayuda multilate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Oval 51"/>
              <p:cNvSpPr/>
              <p:nvPr/>
            </p:nvSpPr>
            <p:spPr>
              <a:xfrm>
                <a:off x="1503360" y="4984920"/>
                <a:ext cx="333360" cy="271080"/>
              </a:xfrm>
              <a:prstGeom prst="ellipse">
                <a:avLst/>
              </a:prstGeom>
              <a:solidFill>
                <a:srgbClr val="0029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A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4" name="Rectangle 143"/>
          <p:cNvSpPr/>
          <p:nvPr/>
        </p:nvSpPr>
        <p:spPr>
          <a:xfrm>
            <a:off x="2467080" y="5958000"/>
            <a:ext cx="1866960" cy="24444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3"/>
          <p:cNvSpPr/>
          <p:nvPr/>
        </p:nvSpPr>
        <p:spPr>
          <a:xfrm>
            <a:off x="2874960" y="792000"/>
            <a:ext cx="1790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Ingresos estimados 2010-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7"/>
          <p:cNvSpPr/>
          <p:nvPr/>
        </p:nvSpPr>
        <p:spPr>
          <a:xfrm>
            <a:off x="3195720" y="1154160"/>
            <a:ext cx="570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0"/>
          <p:cNvSpPr/>
          <p:nvPr/>
        </p:nvSpPr>
        <p:spPr>
          <a:xfrm>
            <a:off x="4305240" y="957240"/>
            <a:ext cx="22273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Asu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37"/>
          <p:cNvSpPr/>
          <p:nvPr/>
        </p:nvSpPr>
        <p:spPr>
          <a:xfrm>
            <a:off x="3398760" y="2127240"/>
            <a:ext cx="530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8"/>
          <p:cNvSpPr/>
          <p:nvPr/>
        </p:nvSpPr>
        <p:spPr>
          <a:xfrm>
            <a:off x="3408480" y="2976480"/>
            <a:ext cx="530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9"/>
          <p:cNvSpPr/>
          <p:nvPr/>
        </p:nvSpPr>
        <p:spPr>
          <a:xfrm>
            <a:off x="3398760" y="4051440"/>
            <a:ext cx="530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40"/>
          <p:cNvSpPr/>
          <p:nvPr/>
        </p:nvSpPr>
        <p:spPr>
          <a:xfrm>
            <a:off x="3398760" y="4911840"/>
            <a:ext cx="530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41"/>
          <p:cNvSpPr/>
          <p:nvPr/>
        </p:nvSpPr>
        <p:spPr>
          <a:xfrm>
            <a:off x="3398760" y="5889600"/>
            <a:ext cx="530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Group 70"/>
          <p:cNvGrpSpPr/>
          <p:nvPr/>
        </p:nvGrpSpPr>
        <p:grpSpPr>
          <a:xfrm>
            <a:off x="2359080" y="5978520"/>
            <a:ext cx="2238480" cy="213480"/>
            <a:chOff x="2359080" y="5978520"/>
            <a:chExt cx="2238480" cy="213480"/>
          </a:xfrm>
        </p:grpSpPr>
        <p:sp>
          <p:nvSpPr>
            <p:cNvPr id="914" name="Rectangle 42"/>
            <p:cNvSpPr/>
            <p:nvPr/>
          </p:nvSpPr>
          <p:spPr>
            <a:xfrm>
              <a:off x="2359080" y="5978520"/>
              <a:ext cx="81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400" spc="-1" strike="noStrike">
                  <a:solidFill>
                    <a:srgbClr val="002960"/>
                  </a:solidFill>
                  <a:latin typeface="Arial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43"/>
            <p:cNvSpPr/>
            <p:nvPr/>
          </p:nvSpPr>
          <p:spPr>
            <a:xfrm>
              <a:off x="3429000" y="5978520"/>
              <a:ext cx="116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400" spc="-1" strike="noStrike">
                  <a:solidFill>
                    <a:srgbClr val="002960"/>
                  </a:solidFill>
                  <a:latin typeface="Arial"/>
                </a:rPr>
                <a:t>6.4 – 10.9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Group 60"/>
          <p:cNvGrpSpPr/>
          <p:nvPr/>
        </p:nvGrpSpPr>
        <p:grpSpPr>
          <a:xfrm>
            <a:off x="3338640" y="1257480"/>
            <a:ext cx="5576760" cy="730440"/>
            <a:chOff x="3338640" y="1257480"/>
            <a:chExt cx="5576760" cy="730440"/>
          </a:xfrm>
        </p:grpSpPr>
        <p:sp>
          <p:nvSpPr>
            <p:cNvPr id="917" name="Rectangle 24"/>
            <p:cNvSpPr/>
            <p:nvPr/>
          </p:nvSpPr>
          <p:spPr>
            <a:xfrm>
              <a:off x="3338640" y="1533240"/>
              <a:ext cx="96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400" spc="-1" strike="noStrike">
                  <a:solidFill>
                    <a:srgbClr val="00296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32"/>
            <p:cNvSpPr/>
            <p:nvPr/>
          </p:nvSpPr>
          <p:spPr>
            <a:xfrm>
              <a:off x="4305240" y="1257480"/>
              <a:ext cx="46101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2960"/>
                  </a:solidFill>
                  <a:latin typeface="Arial"/>
                </a:rPr>
                <a:t>200</a:t>
              </a:r>
              <a:r>
                <a:rPr b="0" lang="es-PA" sz="12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r>
                <a:rPr b="0" lang="es-PA" sz="1200" spc="-1" strike="noStrike">
                  <a:solidFill>
                    <a:srgbClr val="002960"/>
                  </a:solidFill>
                  <a:latin typeface="Arial"/>
                </a:rPr>
                <a:t>millones en el 2011 (una vez que la tasa de ISR para empresas haya disminuido a 25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2960"/>
                  </a:solidFill>
                  <a:latin typeface="Arial"/>
                </a:rPr>
                <a:t> </a:t>
              </a:r>
              <a:r>
                <a:rPr b="0" lang="es-PA" sz="1200" spc="-1" strike="noStrike">
                  <a:solidFill>
                    <a:srgbClr val="002960"/>
                  </a:solidFill>
                  <a:latin typeface="Arial"/>
                </a:rPr>
                <a:t>Disminución gradual de ISR a empresas en 2.5% anual durante los próximas dos añ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Group 54"/>
          <p:cNvGrpSpPr/>
          <p:nvPr/>
        </p:nvGrpSpPr>
        <p:grpSpPr>
          <a:xfrm>
            <a:off x="1503360" y="1133640"/>
            <a:ext cx="1673280" cy="882000"/>
            <a:chOff x="1503360" y="1133640"/>
            <a:chExt cx="1673280" cy="882000"/>
          </a:xfrm>
        </p:grpSpPr>
        <p:sp>
          <p:nvSpPr>
            <p:cNvPr id="920" name="Rectangle 5"/>
            <p:cNvSpPr/>
            <p:nvPr/>
          </p:nvSpPr>
          <p:spPr>
            <a:xfrm>
              <a:off x="1589040" y="1230120"/>
              <a:ext cx="1587600" cy="785520"/>
            </a:xfrm>
            <a:prstGeom prst="rect">
              <a:avLst/>
            </a:prstGeom>
            <a:solidFill>
              <a:srgbClr val="c7e0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0"/>
            <p:cNvSpPr/>
            <p:nvPr/>
          </p:nvSpPr>
          <p:spPr>
            <a:xfrm>
              <a:off x="1792440" y="1531800"/>
              <a:ext cx="130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200" spc="-1" strike="noStrike">
                  <a:solidFill>
                    <a:srgbClr val="002960"/>
                  </a:solidFill>
                  <a:latin typeface="Arial"/>
                </a:rPr>
                <a:t>Reforma fis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47"/>
            <p:cNvSpPr/>
            <p:nvPr/>
          </p:nvSpPr>
          <p:spPr>
            <a:xfrm>
              <a:off x="1503360" y="1133640"/>
              <a:ext cx="333360" cy="271080"/>
            </a:xfrm>
            <a:prstGeom prst="ellipse">
              <a:avLst/>
            </a:prstGeom>
            <a:solidFill>
              <a:srgbClr val="0029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A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26"/>
          <p:cNvSpPr/>
          <p:nvPr/>
        </p:nvSpPr>
        <p:spPr>
          <a:xfrm>
            <a:off x="3338640" y="3390840"/>
            <a:ext cx="977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2960"/>
                </a:solidFill>
                <a:latin typeface="Arial"/>
              </a:rPr>
              <a:t>0.8- 0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34"/>
          <p:cNvSpPr/>
          <p:nvPr/>
        </p:nvSpPr>
        <p:spPr>
          <a:xfrm>
            <a:off x="4305240" y="3040200"/>
            <a:ext cx="4537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2960"/>
                </a:solidFill>
                <a:latin typeface="Arial"/>
              </a:rPr>
              <a:t>3 mil millones en tierras no asignadas, arrendando al 5% del valor, con un 20% de oportunidad de captura cada año durante los próximos cinco añ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2960"/>
                </a:solidFill>
                <a:latin typeface="Arial"/>
              </a:rPr>
              <a:t>Incrementar los ingresos no tributarios actuales en 3% (excepto las tarifas del canal) a través de mejoramiento de la gest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6"/>
          <p:cNvGrpSpPr/>
          <p:nvPr/>
        </p:nvGrpSpPr>
        <p:grpSpPr>
          <a:xfrm>
            <a:off x="1503360" y="3067200"/>
            <a:ext cx="1744200" cy="860400"/>
            <a:chOff x="1503360" y="3067200"/>
            <a:chExt cx="1744200" cy="860400"/>
          </a:xfrm>
        </p:grpSpPr>
        <p:sp>
          <p:nvSpPr>
            <p:cNvPr id="926" name="Rectangle 3"/>
            <p:cNvSpPr/>
            <p:nvPr/>
          </p:nvSpPr>
          <p:spPr>
            <a:xfrm>
              <a:off x="1588680" y="3141720"/>
              <a:ext cx="1587240" cy="785880"/>
            </a:xfrm>
            <a:prstGeom prst="rect">
              <a:avLst/>
            </a:prstGeom>
            <a:solidFill>
              <a:srgbClr val="c7e0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2"/>
            <p:cNvSpPr/>
            <p:nvPr/>
          </p:nvSpPr>
          <p:spPr>
            <a:xfrm>
              <a:off x="1792080" y="3260880"/>
              <a:ext cx="145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200" spc="-1" strike="noStrike">
                  <a:solidFill>
                    <a:srgbClr val="002960"/>
                  </a:solidFill>
                  <a:latin typeface="Arial"/>
                </a:rPr>
                <a:t>Mejorar la gestión de los activos del Gobi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49"/>
            <p:cNvSpPr/>
            <p:nvPr/>
          </p:nvSpPr>
          <p:spPr>
            <a:xfrm>
              <a:off x="1503360" y="3067200"/>
              <a:ext cx="333000" cy="271440"/>
            </a:xfrm>
            <a:prstGeom prst="ellipse">
              <a:avLst/>
            </a:prstGeom>
            <a:solidFill>
              <a:srgbClr val="0029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A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72"/>
          <p:cNvGrpSpPr/>
          <p:nvPr/>
        </p:nvGrpSpPr>
        <p:grpSpPr>
          <a:xfrm>
            <a:off x="1503360" y="4052880"/>
            <a:ext cx="7345440" cy="852480"/>
            <a:chOff x="1503360" y="4052880"/>
            <a:chExt cx="7345440" cy="852480"/>
          </a:xfrm>
        </p:grpSpPr>
        <p:grpSp>
          <p:nvGrpSpPr>
            <p:cNvPr id="930" name="Group 63"/>
            <p:cNvGrpSpPr/>
            <p:nvPr/>
          </p:nvGrpSpPr>
          <p:grpSpPr>
            <a:xfrm>
              <a:off x="3338640" y="4205160"/>
              <a:ext cx="5510160" cy="547920"/>
              <a:chOff x="3338640" y="4205160"/>
              <a:chExt cx="5510160" cy="547920"/>
            </a:xfrm>
          </p:grpSpPr>
          <p:sp>
            <p:nvSpPr>
              <p:cNvPr id="931" name="Rectangle 28"/>
              <p:cNvSpPr/>
              <p:nvPr/>
            </p:nvSpPr>
            <p:spPr>
              <a:xfrm>
                <a:off x="3338640" y="4390920"/>
                <a:ext cx="91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lvl="1" marL="193680" indent="-192240" algn="ctr"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400" spc="-1" strike="noStrike">
                    <a:solidFill>
                      <a:srgbClr val="002960"/>
                    </a:solidFill>
                    <a:latin typeface="Arial"/>
                  </a:rPr>
                  <a:t>1.3 – 1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Rectangle 35"/>
              <p:cNvSpPr/>
              <p:nvPr/>
            </p:nvSpPr>
            <p:spPr>
              <a:xfrm>
                <a:off x="4241520" y="4205160"/>
                <a:ext cx="460728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lvl="1" marL="193680" indent="-192240">
                  <a:lnSpc>
                    <a:spcPct val="100000"/>
                  </a:lnSpc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2960"/>
                    </a:solidFill>
                    <a:latin typeface="Arial"/>
                  </a:rPr>
                  <a:t>Reducir los gastos en 5-6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93680" indent="-192240">
                  <a:lnSpc>
                    <a:spcPct val="100000"/>
                  </a:lnSpc>
                  <a:buClr>
                    <a:srgbClr val="002960"/>
                  </a:buClr>
                  <a:buSzPct val="125000"/>
                  <a:buFont typeface="Arial"/>
                  <a:buChar char="▪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2960"/>
                    </a:solidFill>
                    <a:latin typeface="Arial"/>
                  </a:rPr>
                  <a:t>En los últimos 10 años, los costos de administración del gobierno se han incrementado en 7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Group 57"/>
            <p:cNvGrpSpPr/>
            <p:nvPr/>
          </p:nvGrpSpPr>
          <p:grpSpPr>
            <a:xfrm>
              <a:off x="1503360" y="4052880"/>
              <a:ext cx="1673280" cy="852480"/>
              <a:chOff x="1503360" y="4052880"/>
              <a:chExt cx="1673280" cy="852480"/>
            </a:xfrm>
          </p:grpSpPr>
          <p:sp>
            <p:nvSpPr>
              <p:cNvPr id="934" name="Rectangle 6"/>
              <p:cNvSpPr/>
              <p:nvPr/>
            </p:nvSpPr>
            <p:spPr>
              <a:xfrm>
                <a:off x="1589040" y="4119840"/>
                <a:ext cx="1587600" cy="785520"/>
              </a:xfrm>
              <a:prstGeom prst="rect">
                <a:avLst/>
              </a:prstGeom>
              <a:solidFill>
                <a:srgbClr val="c7e0f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14"/>
              <p:cNvSpPr/>
              <p:nvPr/>
            </p:nvSpPr>
            <p:spPr>
              <a:xfrm>
                <a:off x="1792440" y="4329360"/>
                <a:ext cx="13096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200" spc="-1" strike="noStrike">
                    <a:solidFill>
                      <a:srgbClr val="002960"/>
                    </a:solidFill>
                    <a:latin typeface="Arial"/>
                  </a:rPr>
                  <a:t>Reducir el gasto públ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50"/>
              <p:cNvSpPr/>
              <p:nvPr/>
            </p:nvSpPr>
            <p:spPr>
              <a:xfrm>
                <a:off x="1503360" y="4052880"/>
                <a:ext cx="333360" cy="271800"/>
              </a:xfrm>
              <a:prstGeom prst="ellipse">
                <a:avLst/>
              </a:prstGeom>
              <a:solidFill>
                <a:srgbClr val="0029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A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Group 75"/>
          <p:cNvGrpSpPr/>
          <p:nvPr/>
        </p:nvGrpSpPr>
        <p:grpSpPr>
          <a:xfrm>
            <a:off x="88920" y="2674800"/>
            <a:ext cx="1189080" cy="1344600"/>
            <a:chOff x="88920" y="2674800"/>
            <a:chExt cx="1189080" cy="1344600"/>
          </a:xfrm>
        </p:grpSpPr>
        <p:sp>
          <p:nvSpPr>
            <p:cNvPr id="938" name="Rectangle 5"/>
            <p:cNvSpPr/>
            <p:nvPr/>
          </p:nvSpPr>
          <p:spPr>
            <a:xfrm>
              <a:off x="88920" y="2674800"/>
              <a:ext cx="1177920" cy="1344600"/>
            </a:xfrm>
            <a:prstGeom prst="rect">
              <a:avLst/>
            </a:prstGeom>
            <a:solidFill>
              <a:srgbClr val="c7e0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17"/>
            <p:cNvSpPr/>
            <p:nvPr/>
          </p:nvSpPr>
          <p:spPr>
            <a:xfrm>
              <a:off x="115920" y="2773440"/>
              <a:ext cx="11620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300" spc="-1" strike="noStrike">
                  <a:solidFill>
                    <a:srgbClr val="002960"/>
                  </a:solidFill>
                  <a:latin typeface="Arial"/>
                </a:rPr>
                <a:t>Herramientas para aumentar los ingresos del gobierno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40" name="AutoShape 71"/>
          <p:cNvCxnSpPr>
            <a:stCxn id="939" idx="3"/>
            <a:endCxn id="920" idx="1"/>
          </p:cNvCxnSpPr>
          <p:nvPr/>
        </p:nvCxnSpPr>
        <p:spPr>
          <a:xfrm flipV="1">
            <a:off x="1278000" y="1623600"/>
            <a:ext cx="311760" cy="172944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1" name="AutoShape 76"/>
          <p:cNvCxnSpPr>
            <a:stCxn id="901" idx="1"/>
            <a:endCxn id="939" idx="3"/>
          </p:cNvCxnSpPr>
          <p:nvPr/>
        </p:nvCxnSpPr>
        <p:spPr>
          <a:xfrm rot="10800000">
            <a:off x="1277280" y="3351960"/>
            <a:ext cx="311760" cy="21232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2" name="AutoShape 77"/>
          <p:cNvCxnSpPr>
            <a:stCxn id="934" idx="1"/>
            <a:endCxn id="939" idx="3"/>
          </p:cNvCxnSpPr>
          <p:nvPr/>
        </p:nvCxnSpPr>
        <p:spPr>
          <a:xfrm rot="10800000">
            <a:off x="1277280" y="3351960"/>
            <a:ext cx="311760" cy="116136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3" name="AutoShape 78"/>
          <p:cNvCxnSpPr>
            <a:stCxn id="893" idx="1"/>
            <a:endCxn id="939" idx="3"/>
          </p:cNvCxnSpPr>
          <p:nvPr/>
        </p:nvCxnSpPr>
        <p:spPr>
          <a:xfrm flipV="1" rot="10800000">
            <a:off x="1277280" y="2530080"/>
            <a:ext cx="311760" cy="82296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4" name="AutoShape 79"/>
          <p:cNvCxnSpPr>
            <a:stCxn id="926" idx="1"/>
            <a:endCxn id="939" idx="3"/>
          </p:cNvCxnSpPr>
          <p:nvPr/>
        </p:nvCxnSpPr>
        <p:spPr>
          <a:xfrm rot="10800000">
            <a:off x="1277280" y="3351960"/>
            <a:ext cx="311760" cy="18324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5" name="Rectangle 145"/>
          <p:cNvSpPr/>
          <p:nvPr/>
        </p:nvSpPr>
        <p:spPr>
          <a:xfrm>
            <a:off x="76320" y="6405480"/>
            <a:ext cx="633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* Otra alternativa para financiar la inversión es la deuda, pero no se considera en este análisis.  El máximo déficit permitido por la ley durante el periodo es de $1.2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82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Aumento en Recaud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9FA0-D33A-441F-AC4A-7CDF92BDEC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Ingresos tributarios como porcentaje del PIB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58" name="McK 5. Source"/>
          <p:cNvSpPr/>
          <p:nvPr/>
        </p:nvSpPr>
        <p:spPr>
          <a:xfrm>
            <a:off x="119160" y="6450120"/>
            <a:ext cx="6862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Fuente:  </a:t>
            </a: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Fundación Heritage</a:t>
            </a: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, CEP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 rot="16200000">
            <a:off x="-108360" y="4310640"/>
            <a:ext cx="164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600" spc="-1" strike="noStrike">
                <a:solidFill>
                  <a:srgbClr val="002960"/>
                </a:solidFill>
                <a:latin typeface="Arial"/>
              </a:rPr>
              <a:t>Resto d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 rot="16200000">
            <a:off x="-95760" y="1625760"/>
            <a:ext cx="156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600" spc="-1" strike="noStrike">
                <a:solidFill>
                  <a:srgbClr val="002960"/>
                </a:solidFill>
                <a:latin typeface="Arial"/>
              </a:rPr>
              <a:t> </a:t>
            </a:r>
            <a:r>
              <a:rPr b="1" lang="es-PA" sz="1600" spc="-1" strike="noStrike">
                <a:solidFill>
                  <a:srgbClr val="002960"/>
                </a:solidFill>
                <a:latin typeface="Arial"/>
              </a:rPr>
              <a:t>América Latina</a:t>
            </a:r>
            <a:r>
              <a:rPr b="0" lang="es-P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863640" y="66996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863640" y="3168720"/>
            <a:ext cx="0" cy="25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050480" y="2289240"/>
            <a:ext cx="602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0000"/>
                </a:solidFill>
                <a:latin typeface="Arial"/>
              </a:rPr>
              <a:t>Ranking</a:t>
            </a:r>
            <a:br>
              <a:rPr sz="1200"/>
            </a:b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(de 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1050840" y="5479920"/>
            <a:ext cx="785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0000"/>
                </a:solidFill>
                <a:latin typeface="Arial"/>
              </a:rPr>
              <a:t>Ranking mundial</a:t>
            </a:r>
            <a:br>
              <a:rPr sz="1200"/>
            </a:b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(de 1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2"/>
          <p:cNvGraphicFramePr/>
          <p:nvPr/>
        </p:nvGraphicFramePr>
        <p:xfrm>
          <a:off x="1579680" y="33480"/>
          <a:ext cx="622764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3480"/>
                    <a:ext cx="62276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13"/>
          <p:cNvSpPr/>
          <p:nvPr/>
        </p:nvSpPr>
        <p:spPr>
          <a:xfrm>
            <a:off x="2212920" y="190980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759040" y="190980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Perú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306600" y="1909800"/>
            <a:ext cx="57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Co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3852720" y="190980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4398840" y="190980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4946760" y="1909800"/>
            <a:ext cx="576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900" spc="-1" strike="noStrike">
                <a:solidFill>
                  <a:srgbClr val="000000"/>
                </a:solidFill>
                <a:latin typeface="Arial"/>
              </a:rPr>
              <a:t>Panamá</a:t>
            </a:r>
            <a:r>
              <a:rPr b="0" lang="es-PA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A" sz="700" spc="-1" strike="noStrike">
                <a:solidFill>
                  <a:srgbClr val="000000"/>
                </a:solidFill>
                <a:latin typeface="Arial"/>
              </a:rPr>
              <a:t>(después de 1ra ol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5492880" y="1909800"/>
            <a:ext cx="576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0"/>
          <p:cNvSpPr/>
          <p:nvPr/>
        </p:nvSpPr>
        <p:spPr>
          <a:xfrm>
            <a:off x="6040440" y="190980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1"/>
          <p:cNvSpPr/>
          <p:nvPr/>
        </p:nvSpPr>
        <p:spPr>
          <a:xfrm>
            <a:off x="6586560" y="1909800"/>
            <a:ext cx="57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900" spc="-1" strike="noStrike">
                <a:solidFill>
                  <a:srgbClr val="000000"/>
                </a:solidFill>
                <a:latin typeface="Arial"/>
              </a:rPr>
              <a:t>Panamá</a:t>
            </a:r>
            <a:r>
              <a:rPr b="0" lang="es-PA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A" sz="700" spc="-1" strike="noStrike">
                <a:solidFill>
                  <a:srgbClr val="000000"/>
                </a:solidFill>
                <a:latin typeface="Arial"/>
              </a:rPr>
              <a:t>(Septiembre 200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2"/>
          <p:cNvSpPr/>
          <p:nvPr/>
        </p:nvSpPr>
        <p:spPr>
          <a:xfrm>
            <a:off x="7132680" y="190980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Méx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1665360" y="190980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1762200" y="241128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2306520" y="241128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2852640" y="241128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3398760" y="241128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3944880" y="241128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9"/>
          <p:cNvSpPr/>
          <p:nvPr/>
        </p:nvSpPr>
        <p:spPr>
          <a:xfrm>
            <a:off x="4491000" y="241128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0"/>
          <p:cNvSpPr/>
          <p:nvPr/>
        </p:nvSpPr>
        <p:spPr>
          <a:xfrm>
            <a:off x="5037120" y="2419200"/>
            <a:ext cx="39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(Es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5583240" y="241128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2"/>
          <p:cNvSpPr/>
          <p:nvPr/>
        </p:nvSpPr>
        <p:spPr>
          <a:xfrm>
            <a:off x="6129360" y="241128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6675480" y="241128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7221600" y="241128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5"/>
          <p:cNvGraphicFramePr/>
          <p:nvPr/>
        </p:nvGraphicFramePr>
        <p:xfrm>
          <a:off x="1579680" y="3040200"/>
          <a:ext cx="6227640" cy="18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9680" y="3040200"/>
                    <a:ext cx="62276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36"/>
          <p:cNvSpPr/>
          <p:nvPr/>
        </p:nvSpPr>
        <p:spPr>
          <a:xfrm>
            <a:off x="2205000" y="508644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2754360" y="508644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Españ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3301920" y="508644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Canad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3851280" y="508644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EE.U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0"/>
          <p:cNvSpPr/>
          <p:nvPr/>
        </p:nvSpPr>
        <p:spPr>
          <a:xfrm>
            <a:off x="4398840" y="508644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1"/>
          <p:cNvSpPr/>
          <p:nvPr/>
        </p:nvSpPr>
        <p:spPr>
          <a:xfrm>
            <a:off x="4948200" y="508644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2"/>
          <p:cNvSpPr/>
          <p:nvPr/>
        </p:nvSpPr>
        <p:spPr>
          <a:xfrm>
            <a:off x="5497560" y="508644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Singap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3"/>
          <p:cNvSpPr/>
          <p:nvPr/>
        </p:nvSpPr>
        <p:spPr>
          <a:xfrm>
            <a:off x="6045120" y="5086440"/>
            <a:ext cx="57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900" spc="-1" strike="noStrike">
                <a:solidFill>
                  <a:srgbClr val="000000"/>
                </a:solidFill>
                <a:latin typeface="Arial"/>
              </a:rPr>
              <a:t>Panamá</a:t>
            </a:r>
            <a:r>
              <a:rPr b="0" lang="es-PA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A" sz="700" spc="-1" strike="noStrike">
                <a:solidFill>
                  <a:srgbClr val="000000"/>
                </a:solidFill>
                <a:latin typeface="Arial"/>
              </a:rPr>
              <a:t>(después de 1ra ol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4"/>
          <p:cNvSpPr/>
          <p:nvPr/>
        </p:nvSpPr>
        <p:spPr>
          <a:xfrm>
            <a:off x="6594480" y="508644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7142040" y="5086440"/>
            <a:ext cx="57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900" spc="-1" strike="noStrike">
                <a:solidFill>
                  <a:srgbClr val="000000"/>
                </a:solidFill>
                <a:latin typeface="Arial"/>
              </a:rPr>
              <a:t>Panamá </a:t>
            </a:r>
            <a:r>
              <a:rPr b="0" lang="es-PA" sz="700" spc="-1" strike="noStrike">
                <a:solidFill>
                  <a:srgbClr val="000000"/>
                </a:solidFill>
                <a:latin typeface="Arial"/>
              </a:rPr>
              <a:t>(Septiembre 200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1655640" y="5086440"/>
            <a:ext cx="576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Dinamar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7"/>
          <p:cNvGraphicFramePr/>
          <p:nvPr/>
        </p:nvGraphicFramePr>
        <p:xfrm>
          <a:off x="4562640" y="1679400"/>
          <a:ext cx="257040" cy="16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4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62640" y="1679400"/>
                    <a:ext cx="25704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48"/>
          <p:cNvSpPr/>
          <p:nvPr/>
        </p:nvSpPr>
        <p:spPr>
          <a:xfrm>
            <a:off x="1762200" y="567864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9"/>
          <p:cNvSpPr/>
          <p:nvPr/>
        </p:nvSpPr>
        <p:spPr>
          <a:xfrm>
            <a:off x="2306520" y="567864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0"/>
          <p:cNvSpPr/>
          <p:nvPr/>
        </p:nvSpPr>
        <p:spPr>
          <a:xfrm>
            <a:off x="2852640" y="567864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3398760" y="567864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2"/>
          <p:cNvSpPr/>
          <p:nvPr/>
        </p:nvSpPr>
        <p:spPr>
          <a:xfrm>
            <a:off x="3944880" y="567864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3"/>
          <p:cNvSpPr/>
          <p:nvPr/>
        </p:nvSpPr>
        <p:spPr>
          <a:xfrm>
            <a:off x="4491000" y="567864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4"/>
          <p:cNvSpPr/>
          <p:nvPr/>
        </p:nvSpPr>
        <p:spPr>
          <a:xfrm>
            <a:off x="5037120" y="567864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583240" y="567864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6"/>
          <p:cNvSpPr/>
          <p:nvPr/>
        </p:nvSpPr>
        <p:spPr>
          <a:xfrm>
            <a:off x="6129360" y="5678640"/>
            <a:ext cx="39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(Es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7"/>
          <p:cNvSpPr/>
          <p:nvPr/>
        </p:nvSpPr>
        <p:spPr>
          <a:xfrm>
            <a:off x="6675480" y="567864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8"/>
          <p:cNvSpPr/>
          <p:nvPr/>
        </p:nvSpPr>
        <p:spPr>
          <a:xfrm>
            <a:off x="7221600" y="5678640"/>
            <a:ext cx="39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59"/>
          <p:cNvGraphicFramePr/>
          <p:nvPr/>
        </p:nvGraphicFramePr>
        <p:xfrm>
          <a:off x="2351160" y="1679400"/>
          <a:ext cx="257040" cy="16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Object 5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51160" y="1679400"/>
                    <a:ext cx="25704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0"/>
          <p:cNvGraphicFramePr/>
          <p:nvPr/>
        </p:nvGraphicFramePr>
        <p:xfrm>
          <a:off x="1820880" y="1679400"/>
          <a:ext cx="257040" cy="1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Object 6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0880" y="1679400"/>
                    <a:ext cx="25704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1"/>
          <p:cNvGraphicFramePr/>
          <p:nvPr/>
        </p:nvGraphicFramePr>
        <p:xfrm>
          <a:off x="4005360" y="1679400"/>
          <a:ext cx="257040" cy="165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0" name="Object 6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05360" y="1679400"/>
                    <a:ext cx="25704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2"/>
          <p:cNvGraphicFramePr/>
          <p:nvPr/>
        </p:nvGraphicFramePr>
        <p:xfrm>
          <a:off x="1820880" y="4869000"/>
          <a:ext cx="257040" cy="16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2" name="Object 6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0880" y="4869000"/>
                    <a:ext cx="2570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63"/>
          <p:cNvGraphicFramePr/>
          <p:nvPr/>
        </p:nvGraphicFramePr>
        <p:xfrm>
          <a:off x="4554360" y="4869000"/>
          <a:ext cx="257400" cy="164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4" name="Object 6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54360" y="4869000"/>
                    <a:ext cx="25740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4"/>
          <p:cNvGraphicFramePr/>
          <p:nvPr/>
        </p:nvGraphicFramePr>
        <p:xfrm>
          <a:off x="7305840" y="1679400"/>
          <a:ext cx="257040" cy="165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6" name="Object 6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05840" y="1679400"/>
                    <a:ext cx="25704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65"/>
          <p:cNvGraphicFramePr/>
          <p:nvPr/>
        </p:nvGraphicFramePr>
        <p:xfrm>
          <a:off x="2925720" y="1679400"/>
          <a:ext cx="257040" cy="165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8" name="Object 6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25720" y="1679400"/>
                    <a:ext cx="25704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6"/>
          <p:cNvGraphicFramePr/>
          <p:nvPr/>
        </p:nvGraphicFramePr>
        <p:xfrm>
          <a:off x="5651640" y="4869000"/>
          <a:ext cx="257040" cy="16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0" name="Object 6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51640" y="4869000"/>
                    <a:ext cx="2570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7"/>
          <p:cNvGraphicFramePr/>
          <p:nvPr/>
        </p:nvGraphicFramePr>
        <p:xfrm>
          <a:off x="2925720" y="4869000"/>
          <a:ext cx="257040" cy="164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2" name="Object 6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25720" y="4869000"/>
                    <a:ext cx="2570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8"/>
          <p:cNvGraphicFramePr/>
          <p:nvPr/>
        </p:nvGraphicFramePr>
        <p:xfrm>
          <a:off x="5102280" y="4869000"/>
          <a:ext cx="257040" cy="164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4" name="Object 6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102280" y="4869000"/>
                    <a:ext cx="2570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9"/>
          <p:cNvGraphicFramePr/>
          <p:nvPr/>
        </p:nvGraphicFramePr>
        <p:xfrm>
          <a:off x="2368440" y="4869000"/>
          <a:ext cx="257400" cy="164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6" name="Object 6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68440" y="4869000"/>
                    <a:ext cx="25740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70"/>
          <p:cNvGraphicFramePr/>
          <p:nvPr/>
        </p:nvGraphicFramePr>
        <p:xfrm>
          <a:off x="4013280" y="4869000"/>
          <a:ext cx="257040" cy="1648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8" name="Object 7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13280" y="4869000"/>
                    <a:ext cx="2570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71"/>
          <p:cNvGraphicFramePr/>
          <p:nvPr/>
        </p:nvGraphicFramePr>
        <p:xfrm>
          <a:off x="3467160" y="4869000"/>
          <a:ext cx="257040" cy="1648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40" name="Object 7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67160" y="4869000"/>
                    <a:ext cx="2570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72"/>
          <p:cNvGraphicFramePr/>
          <p:nvPr/>
        </p:nvGraphicFramePr>
        <p:xfrm>
          <a:off x="3475080" y="1679400"/>
          <a:ext cx="257040" cy="165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2" name="Object 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475080" y="1679400"/>
                    <a:ext cx="25704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73"/>
          <p:cNvGraphicFramePr/>
          <p:nvPr/>
        </p:nvGraphicFramePr>
        <p:xfrm>
          <a:off x="5130720" y="1679400"/>
          <a:ext cx="257400" cy="1652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44" name="Object 73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130720" y="1679400"/>
                    <a:ext cx="25740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74"/>
          <p:cNvGraphicFramePr/>
          <p:nvPr/>
        </p:nvGraphicFramePr>
        <p:xfrm>
          <a:off x="6748560" y="1679400"/>
          <a:ext cx="257040" cy="1652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6" name="Object 74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748560" y="1679400"/>
                    <a:ext cx="25704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75"/>
          <p:cNvGraphicFramePr/>
          <p:nvPr/>
        </p:nvGraphicFramePr>
        <p:xfrm>
          <a:off x="7305840" y="4869000"/>
          <a:ext cx="257040" cy="164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8" name="Object 75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05840" y="4869000"/>
                    <a:ext cx="2570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76"/>
          <p:cNvGraphicFramePr/>
          <p:nvPr/>
        </p:nvGraphicFramePr>
        <p:xfrm>
          <a:off x="6218280" y="4869000"/>
          <a:ext cx="257040" cy="164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50" name="Object 7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218280" y="4869000"/>
                    <a:ext cx="2570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77"/>
          <p:cNvGraphicFramePr/>
          <p:nvPr/>
        </p:nvGraphicFramePr>
        <p:xfrm>
          <a:off x="6738840" y="4869000"/>
          <a:ext cx="257400" cy="1648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52" name="Object 77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738840" y="4869000"/>
                    <a:ext cx="25740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78"/>
          <p:cNvGraphicFramePr/>
          <p:nvPr/>
        </p:nvGraphicFramePr>
        <p:xfrm>
          <a:off x="6226200" y="1679400"/>
          <a:ext cx="257040" cy="1652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54" name="Object 78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226200" y="1679400"/>
                    <a:ext cx="25704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9"/>
          <p:cNvGraphicFramePr/>
          <p:nvPr/>
        </p:nvGraphicFramePr>
        <p:xfrm>
          <a:off x="5641920" y="1679400"/>
          <a:ext cx="257400" cy="1652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56" name="Object 79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5641920" y="1679400"/>
                    <a:ext cx="25740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Line 80"/>
          <p:cNvSpPr/>
          <p:nvPr/>
        </p:nvSpPr>
        <p:spPr>
          <a:xfrm>
            <a:off x="1165320" y="3048120"/>
            <a:ext cx="6486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2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Aumento en Recaud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3"/>
          <p:cNvSpPr/>
          <p:nvPr/>
        </p:nvSpPr>
        <p:spPr>
          <a:xfrm>
            <a:off x="5776920" y="409680"/>
            <a:ext cx="2390760" cy="5857920"/>
          </a:xfrm>
          <a:custGeom>
            <a:avLst/>
            <a:gdLst>
              <a:gd name="textAreaLeft" fmla="*/ 39240 w 2390760"/>
              <a:gd name="textAreaRight" fmla="*/ 2351520 w 2390760"/>
              <a:gd name="textAreaTop" fmla="*/ 39240 h 5857920"/>
              <a:gd name="textAreaBottom" fmla="*/ 5818680 h 5857920"/>
            </a:gdLst>
            <a:ahLst/>
            <a:rect l="textAreaLeft" t="textAreaTop" r="textAreaRight" b="textAreaBottom"/>
            <a:pathLst>
              <a:path w="21600" h="52920">
                <a:moveTo>
                  <a:pt x="1217" y="0"/>
                </a:moveTo>
                <a:arcTo wR="1217" hR="1217" stAng="16200000" swAng="-5400000"/>
                <a:lnTo>
                  <a:pt x="0" y="51703"/>
                </a:lnTo>
                <a:arcTo wR="1217" hR="1217" stAng="10800000" swAng="-5400000"/>
                <a:lnTo>
                  <a:pt x="20383" y="52920"/>
                </a:lnTo>
                <a:arcTo wR="1217" hR="1217" stAng="5400000" swAng="-5400000"/>
                <a:lnTo>
                  <a:pt x="21600" y="1217"/>
                </a:lnTo>
                <a:arcTo wR="1217" hR="1217" stAng="0" swAng="-5400000"/>
                <a:close/>
              </a:path>
            </a:pathLst>
          </a:cu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3680" indent="-192240" algn="ctr"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7BAA-A3E4-4D19-A881-5E280ADAB7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- Perso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2"/>
          <p:cNvSpPr/>
          <p:nvPr/>
        </p:nvSpPr>
        <p:spPr>
          <a:xfrm>
            <a:off x="124920" y="517680"/>
            <a:ext cx="220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85680"/>
                <a:tab algn="ctr" pos="447840"/>
                <a:tab algn="ctr" pos="895320"/>
                <a:tab algn="ctr" pos="1343160"/>
                <a:tab algn="r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Sin Gastos de Represen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2"/>
          <p:cNvSpPr/>
          <p:nvPr/>
        </p:nvSpPr>
        <p:spPr>
          <a:xfrm>
            <a:off x="5894280" y="550800"/>
            <a:ext cx="227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Ahorro Pro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56"/>
          <p:cNvSpPr/>
          <p:nvPr/>
        </p:nvSpPr>
        <p:spPr>
          <a:xfrm>
            <a:off x="5894280" y="739800"/>
            <a:ext cx="2089080" cy="0"/>
          </a:xfrm>
          <a:prstGeom prst="line">
            <a:avLst/>
          </a:prstGeom>
          <a:ln w="2556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13" descr=""/>
          <p:cNvPicPr/>
          <p:nvPr/>
        </p:nvPicPr>
        <p:blipFill>
          <a:blip r:embed="rId1"/>
          <a:stretch/>
        </p:blipFill>
        <p:spPr>
          <a:xfrm>
            <a:off x="566640" y="801720"/>
            <a:ext cx="4757760" cy="5398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4" descr=""/>
          <p:cNvPicPr/>
          <p:nvPr/>
        </p:nvPicPr>
        <p:blipFill>
          <a:blip r:embed="rId2"/>
          <a:stretch/>
        </p:blipFill>
        <p:spPr>
          <a:xfrm>
            <a:off x="5965920" y="801720"/>
            <a:ext cx="2062080" cy="5403960"/>
          </a:xfrm>
          <a:prstGeom prst="rect">
            <a:avLst/>
          </a:prstGeom>
          <a:ln w="0">
            <a:noFill/>
          </a:ln>
        </p:spPr>
      </p:pic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Ahorro en ISR de Personas Naturale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AutoShape 2"/>
          <p:cNvSpPr/>
          <p:nvPr/>
        </p:nvSpPr>
        <p:spPr>
          <a:xfrm>
            <a:off x="5776920" y="409680"/>
            <a:ext cx="2390760" cy="5857920"/>
          </a:xfrm>
          <a:custGeom>
            <a:avLst/>
            <a:gdLst>
              <a:gd name="textAreaLeft" fmla="*/ 39240 w 2390760"/>
              <a:gd name="textAreaRight" fmla="*/ 2351520 w 2390760"/>
              <a:gd name="textAreaTop" fmla="*/ 39240 h 5857920"/>
              <a:gd name="textAreaBottom" fmla="*/ 5818680 h 5857920"/>
            </a:gdLst>
            <a:ahLst/>
            <a:rect l="textAreaLeft" t="textAreaTop" r="textAreaRight" b="textAreaBottom"/>
            <a:pathLst>
              <a:path w="21600" h="52920">
                <a:moveTo>
                  <a:pt x="1217" y="0"/>
                </a:moveTo>
                <a:arcTo wR="1217" hR="1217" stAng="16200000" swAng="-5400000"/>
                <a:lnTo>
                  <a:pt x="0" y="51703"/>
                </a:lnTo>
                <a:arcTo wR="1217" hR="1217" stAng="10800000" swAng="-5400000"/>
                <a:lnTo>
                  <a:pt x="20383" y="52920"/>
                </a:lnTo>
                <a:arcTo wR="1217" hR="1217" stAng="5400000" swAng="-5400000"/>
                <a:lnTo>
                  <a:pt x="21600" y="1217"/>
                </a:lnTo>
                <a:arcTo wR="1217" hR="1217" stAng="0" swAng="-5400000"/>
                <a:close/>
              </a:path>
            </a:pathLst>
          </a:cu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3680" indent="-192240" algn="ctr"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0650-DB85-4201-9CC7-4A936DD0D2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- Perso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2"/>
          <p:cNvSpPr/>
          <p:nvPr/>
        </p:nvSpPr>
        <p:spPr>
          <a:xfrm>
            <a:off x="5894280" y="550800"/>
            <a:ext cx="227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2960"/>
                </a:solidFill>
                <a:latin typeface="Arial"/>
              </a:rPr>
              <a:t>Ahorro Pro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56"/>
          <p:cNvSpPr/>
          <p:nvPr/>
        </p:nvSpPr>
        <p:spPr>
          <a:xfrm>
            <a:off x="5894280" y="739800"/>
            <a:ext cx="2089080" cy="0"/>
          </a:xfrm>
          <a:prstGeom prst="line">
            <a:avLst/>
          </a:prstGeom>
          <a:ln w="2556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3"/>
          <p:cNvSpPr/>
          <p:nvPr/>
        </p:nvSpPr>
        <p:spPr>
          <a:xfrm>
            <a:off x="114120" y="507960"/>
            <a:ext cx="354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85680"/>
                <a:tab algn="ctr" pos="447840"/>
                <a:tab algn="ctr" pos="895320"/>
                <a:tab algn="ctr" pos="1343160"/>
                <a:tab algn="r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Gastos de Representación 50% del Ingreso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Picture 13" descr=""/>
          <p:cNvPicPr/>
          <p:nvPr/>
        </p:nvPicPr>
        <p:blipFill>
          <a:blip r:embed="rId1"/>
          <a:stretch/>
        </p:blipFill>
        <p:spPr>
          <a:xfrm>
            <a:off x="566640" y="801720"/>
            <a:ext cx="4757760" cy="5398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4" descr=""/>
          <p:cNvPicPr/>
          <p:nvPr/>
        </p:nvPicPr>
        <p:blipFill>
          <a:blip r:embed="rId2"/>
          <a:stretch/>
        </p:blipFill>
        <p:spPr>
          <a:xfrm>
            <a:off x="5962680" y="801720"/>
            <a:ext cx="2062080" cy="540396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Ahorro en ISR de Personas Naturale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5C7F-314A-4AA1-9319-7A59EC410A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3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Proporcionalidad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970" name="McK 5. Source"/>
          <p:cNvSpPr/>
          <p:nvPr/>
        </p:nvSpPr>
        <p:spPr>
          <a:xfrm>
            <a:off x="131760" y="6450120"/>
            <a:ext cx="6862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79600" indent="-579600">
              <a:tabLst>
                <a:tab algn="l" pos="0"/>
                <a:tab algn="l" pos="5763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uente: MEF Código Fiscal Artículo 697, Parágrafo 4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6"/>
          <p:cNvGrpSpPr/>
          <p:nvPr/>
        </p:nvGrpSpPr>
        <p:grpSpPr>
          <a:xfrm>
            <a:off x="930240" y="1028880"/>
            <a:ext cx="7097760" cy="2920680"/>
            <a:chOff x="930240" y="1028880"/>
            <a:chExt cx="7097760" cy="2920680"/>
          </a:xfrm>
        </p:grpSpPr>
        <p:sp>
          <p:nvSpPr>
            <p:cNvPr id="972" name="Rectangle 3"/>
            <p:cNvSpPr/>
            <p:nvPr/>
          </p:nvSpPr>
          <p:spPr>
            <a:xfrm>
              <a:off x="930240" y="1028880"/>
              <a:ext cx="187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200" spc="-1" strike="noStrike">
                  <a:solidFill>
                    <a:srgbClr val="002960"/>
                  </a:solidFill>
                  <a:latin typeface="Arial"/>
                </a:rPr>
                <a:t>Situación Act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6"/>
            <p:cNvSpPr/>
            <p:nvPr/>
          </p:nvSpPr>
          <p:spPr>
            <a:xfrm>
              <a:off x="3398760" y="1028880"/>
              <a:ext cx="187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200" spc="-1" strike="noStrike">
                  <a:solidFill>
                    <a:srgbClr val="002960"/>
                  </a:solidFill>
                  <a:latin typeface="Arial"/>
                </a:rPr>
                <a:t>Problemá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7"/>
            <p:cNvSpPr/>
            <p:nvPr/>
          </p:nvSpPr>
          <p:spPr>
            <a:xfrm>
              <a:off x="5869080" y="1028880"/>
              <a:ext cx="187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200" spc="-1" strike="noStrike">
                  <a:solidFill>
                    <a:srgbClr val="002960"/>
                  </a:solidFill>
                  <a:latin typeface="Arial"/>
                </a:rPr>
                <a:t>Propue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4"/>
            <p:cNvSpPr/>
            <p:nvPr/>
          </p:nvSpPr>
          <p:spPr>
            <a:xfrm>
              <a:off x="930240" y="1363680"/>
              <a:ext cx="2159280" cy="25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193680" indent="-192240">
                <a:lnSpc>
                  <a:spcPct val="100000"/>
                </a:lnSpc>
                <a:spcAft>
                  <a:spcPts val="751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os costos y gastos deberán atribuirse a la renta gravada, a la renta exenta o a la renta de fuente extranjera. Cuando el costo y/o el gasto se realice para obtener indistintamente renta gravada y/o renta exenta y/o renta de fuente extranjera, sólo serán deducibles de la renta gravada en la proporción que ésta guarde con relación a la renta tot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5"/>
            <p:cNvSpPr/>
            <p:nvPr/>
          </p:nvSpPr>
          <p:spPr>
            <a:xfrm>
              <a:off x="3398760" y="1363680"/>
              <a:ext cx="215928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193680" indent="-192240">
                <a:lnSpc>
                  <a:spcPct val="100000"/>
                </a:lnSpc>
                <a:spcAft>
                  <a:spcPts val="751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tienen incentivos para declarar como costo doméstico cotos que en realidad son extranje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6"/>
            <p:cNvSpPr/>
            <p:nvPr/>
          </p:nvSpPr>
          <p:spPr>
            <a:xfrm>
              <a:off x="5869080" y="1363680"/>
              <a:ext cx="2158920" cy="14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193680" indent="-192240">
                <a:lnSpc>
                  <a:spcPct val="100000"/>
                </a:lnSpc>
                <a:spcAft>
                  <a:spcPts val="751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propone que los costos y gastos deducibles  sean proporcionales a la renta de fuente paname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spcAft>
                  <a:spcPts val="751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 fracción es equivalente a la fracción que representa la renta doméstica de la renta to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20"/>
            <p:cNvSpPr/>
            <p:nvPr/>
          </p:nvSpPr>
          <p:spPr>
            <a:xfrm>
              <a:off x="930240" y="1246320"/>
              <a:ext cx="197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21"/>
            <p:cNvSpPr/>
            <p:nvPr/>
          </p:nvSpPr>
          <p:spPr>
            <a:xfrm>
              <a:off x="3398760" y="1246320"/>
              <a:ext cx="18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Line 22"/>
            <p:cNvSpPr/>
            <p:nvPr/>
          </p:nvSpPr>
          <p:spPr>
            <a:xfrm>
              <a:off x="5869080" y="1246320"/>
              <a:ext cx="21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Rectangle 31"/>
          <p:cNvSpPr/>
          <p:nvPr/>
        </p:nvSpPr>
        <p:spPr>
          <a:xfrm>
            <a:off x="1000080" y="4441680"/>
            <a:ext cx="6958080" cy="132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24"/>
          <p:cNvSpPr/>
          <p:nvPr/>
        </p:nvSpPr>
        <p:spPr>
          <a:xfrm>
            <a:off x="1238760" y="501480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stos y Gastos  Deducibles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29"/>
          <p:cNvSpPr/>
          <p:nvPr/>
        </p:nvSpPr>
        <p:spPr>
          <a:xfrm>
            <a:off x="5531760" y="5014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5835240" y="5014800"/>
            <a:ext cx="188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(Costos y Gastos Tot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25"/>
          <p:cNvSpPr/>
          <p:nvPr/>
        </p:nvSpPr>
        <p:spPr>
          <a:xfrm>
            <a:off x="3847320" y="4844880"/>
            <a:ext cx="1420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0000"/>
                </a:solidFill>
                <a:latin typeface="Arial"/>
              </a:rPr>
              <a:t>Ingresos Grav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26"/>
          <p:cNvSpPr/>
          <p:nvPr/>
        </p:nvSpPr>
        <p:spPr>
          <a:xfrm>
            <a:off x="3951000" y="518652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gresos To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25"/>
          <p:cNvSpPr/>
          <p:nvPr/>
        </p:nvSpPr>
        <p:spPr>
          <a:xfrm>
            <a:off x="3773520" y="5106960"/>
            <a:ext cx="156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6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Proporcion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3CA5-3543-4BFC-829C-DC912BA7B2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Territorialidad (ejemplo: líneas aéreas y telecomunicaciones)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991" name="Rectangle 27"/>
          <p:cNvSpPr/>
          <p:nvPr/>
        </p:nvSpPr>
        <p:spPr>
          <a:xfrm>
            <a:off x="1996920" y="851040"/>
            <a:ext cx="187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2960"/>
                </a:solidFill>
                <a:latin typeface="Arial"/>
              </a:rPr>
              <a:t>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0"/>
          <p:cNvSpPr/>
          <p:nvPr/>
        </p:nvSpPr>
        <p:spPr>
          <a:xfrm>
            <a:off x="4443480" y="851040"/>
            <a:ext cx="187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2960"/>
                </a:solidFill>
                <a:latin typeface="Arial"/>
              </a:rPr>
              <a:t>Proble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1"/>
          <p:cNvSpPr/>
          <p:nvPr/>
        </p:nvSpPr>
        <p:spPr>
          <a:xfrm>
            <a:off x="6620040" y="851040"/>
            <a:ext cx="187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2960"/>
                </a:solidFill>
                <a:latin typeface="Arial"/>
              </a:rPr>
              <a:t>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35"/>
          <p:cNvGrpSpPr/>
          <p:nvPr/>
        </p:nvGrpSpPr>
        <p:grpSpPr>
          <a:xfrm>
            <a:off x="181080" y="1452600"/>
            <a:ext cx="1828800" cy="628560"/>
            <a:chOff x="181080" y="1452600"/>
            <a:chExt cx="1828800" cy="628560"/>
          </a:xfrm>
        </p:grpSpPr>
        <p:sp>
          <p:nvSpPr>
            <p:cNvPr id="995" name="Freeform 32"/>
            <p:cNvSpPr/>
            <p:nvPr/>
          </p:nvSpPr>
          <p:spPr>
            <a:xfrm>
              <a:off x="181080" y="1452600"/>
              <a:ext cx="1828800" cy="62856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1152" h="576">
                  <a:moveTo>
                    <a:pt x="0" y="0"/>
                  </a:moveTo>
                  <a:lnTo>
                    <a:pt x="1048" y="0"/>
                  </a:lnTo>
                  <a:lnTo>
                    <a:pt x="1152" y="288"/>
                  </a:lnTo>
                  <a:lnTo>
                    <a:pt x="1048" y="576"/>
                  </a:lnTo>
                  <a:lnTo>
                    <a:pt x="0" y="576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e0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34"/>
            <p:cNvSpPr/>
            <p:nvPr/>
          </p:nvSpPr>
          <p:spPr>
            <a:xfrm>
              <a:off x="244800" y="1487160"/>
              <a:ext cx="152388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Líneas Aére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36"/>
          <p:cNvGrpSpPr/>
          <p:nvPr/>
        </p:nvGrpSpPr>
        <p:grpSpPr>
          <a:xfrm>
            <a:off x="181080" y="4448160"/>
            <a:ext cx="1828800" cy="628560"/>
            <a:chOff x="181080" y="4448160"/>
            <a:chExt cx="1828800" cy="628560"/>
          </a:xfrm>
        </p:grpSpPr>
        <p:sp>
          <p:nvSpPr>
            <p:cNvPr id="998" name="Freeform 37"/>
            <p:cNvSpPr/>
            <p:nvPr/>
          </p:nvSpPr>
          <p:spPr>
            <a:xfrm>
              <a:off x="181080" y="4448160"/>
              <a:ext cx="1828800" cy="62856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1152" h="576">
                  <a:moveTo>
                    <a:pt x="0" y="0"/>
                  </a:moveTo>
                  <a:lnTo>
                    <a:pt x="1048" y="0"/>
                  </a:lnTo>
                  <a:lnTo>
                    <a:pt x="1152" y="288"/>
                  </a:lnTo>
                  <a:lnTo>
                    <a:pt x="1048" y="576"/>
                  </a:lnTo>
                  <a:lnTo>
                    <a:pt x="0" y="576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e0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38"/>
            <p:cNvSpPr/>
            <p:nvPr/>
          </p:nvSpPr>
          <p:spPr>
            <a:xfrm>
              <a:off x="244800" y="4482720"/>
              <a:ext cx="152388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Telecomunic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Rectangle 42"/>
          <p:cNvSpPr/>
          <p:nvPr/>
        </p:nvSpPr>
        <p:spPr>
          <a:xfrm>
            <a:off x="1996920" y="1452600"/>
            <a:ext cx="215928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ibutan bajo un régimen especial en el que únicamente una fracción del ingreso por vuelo internacional es gravado (determinado como el porcentaje del vuelo sobre territorio Paname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601"/>
              </a:spcBef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acuerdo a tratados sobre la reciprocidad internacional aérea, sólo a las aerolíneas nacionales se aplican los impuestos en las ruta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43"/>
          <p:cNvSpPr/>
          <p:nvPr/>
        </p:nvSpPr>
        <p:spPr>
          <a:xfrm>
            <a:off x="4313160" y="1452600"/>
            <a:ext cx="2158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Aft>
                <a:spcPts val="751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ctualmente las líneas aéreas internacionales pagan una tasa efectiva promedio de 2.7% de sus 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Aft>
                <a:spcPts val="751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régimen especial no se encuentra vigente en ningún otro paí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44"/>
          <p:cNvSpPr/>
          <p:nvPr/>
        </p:nvSpPr>
        <p:spPr>
          <a:xfrm>
            <a:off x="6629400" y="1452600"/>
            <a:ext cx="21589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Aft>
                <a:spcPts val="751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propone gravar ISR sobre los ingresos de los vuelos internacionales que tengan destino o origen Panam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Aft>
                <a:spcPts val="751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considerará renta gravable los ingresos obtenidos por las empresas de transporte internacional en la parte que corresponde a los fletes, pasajes, cargas y otros servicios entre Panamá y el exterior y viceve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Aft>
                <a:spcPts val="751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Aft>
                <a:spcPts val="751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48"/>
          <p:cNvSpPr/>
          <p:nvPr/>
        </p:nvSpPr>
        <p:spPr>
          <a:xfrm>
            <a:off x="1996920" y="4448160"/>
            <a:ext cx="2159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Únicamente el 50% del ingreso derivado de llamadas internacionales  es gravado (la ‘mitad de la llamada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49"/>
          <p:cNvSpPr/>
          <p:nvPr/>
        </p:nvSpPr>
        <p:spPr>
          <a:xfrm>
            <a:off x="4313160" y="4448160"/>
            <a:ext cx="21589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régimen especial no se encuentra vigente en ningún otro paí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50"/>
          <p:cNvSpPr/>
          <p:nvPr/>
        </p:nvSpPr>
        <p:spPr>
          <a:xfrm>
            <a:off x="6629400" y="4448160"/>
            <a:ext cx="21589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propone gravar la totalidad de los ingresos netos recibidos por la prestación del servicio de telecomunicaciones internacionales, por empresas de telecomunicación establecidas en el paí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52"/>
          <p:cNvSpPr/>
          <p:nvPr/>
        </p:nvSpPr>
        <p:spPr>
          <a:xfrm>
            <a:off x="1996920" y="1157400"/>
            <a:ext cx="19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53"/>
          <p:cNvSpPr/>
          <p:nvPr/>
        </p:nvSpPr>
        <p:spPr>
          <a:xfrm>
            <a:off x="4479840" y="1157400"/>
            <a:ext cx="189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54"/>
          <p:cNvSpPr/>
          <p:nvPr/>
        </p:nvSpPr>
        <p:spPr>
          <a:xfrm>
            <a:off x="6600960" y="1157400"/>
            <a:ext cx="21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2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Territori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9084-A047-46DA-8FB5-F05B0D943E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7"/>
          <p:cNvSpPr/>
          <p:nvPr/>
        </p:nvSpPr>
        <p:spPr>
          <a:xfrm>
            <a:off x="284040" y="2792520"/>
            <a:ext cx="4043520" cy="16653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8"/>
          <p:cNvSpPr/>
          <p:nvPr/>
        </p:nvSpPr>
        <p:spPr>
          <a:xfrm>
            <a:off x="284040" y="3122640"/>
            <a:ext cx="4043520" cy="308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9"/>
          <p:cNvSpPr/>
          <p:nvPr/>
        </p:nvSpPr>
        <p:spPr>
          <a:xfrm>
            <a:off x="395280" y="2878200"/>
            <a:ext cx="364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2960"/>
                </a:solidFill>
                <a:latin typeface="Arial"/>
              </a:rPr>
              <a:t>Tasa efectiva de impuesto para bancos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334800" y="5951520"/>
            <a:ext cx="36831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2960"/>
                </a:solidFill>
                <a:latin typeface="Arial"/>
              </a:rPr>
              <a:t>*Bermuda, Caimán, B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2960"/>
                </a:solidFill>
                <a:latin typeface="Arial"/>
              </a:rPr>
              <a:t>Fuente: Estados financieros de los principales bancos comerci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2"/>
          <p:cNvSpPr/>
          <p:nvPr/>
        </p:nvSpPr>
        <p:spPr>
          <a:xfrm>
            <a:off x="4653000" y="2792520"/>
            <a:ext cx="3986280" cy="16653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3"/>
          <p:cNvSpPr/>
          <p:nvPr/>
        </p:nvSpPr>
        <p:spPr>
          <a:xfrm>
            <a:off x="4653000" y="3122640"/>
            <a:ext cx="3986280" cy="308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4"/>
          <p:cNvSpPr/>
          <p:nvPr/>
        </p:nvSpPr>
        <p:spPr>
          <a:xfrm>
            <a:off x="4764240" y="2878200"/>
            <a:ext cx="374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200" spc="-1" strike="noStrike">
                <a:solidFill>
                  <a:srgbClr val="002960"/>
                </a:solidFill>
                <a:latin typeface="Arial"/>
              </a:rPr>
              <a:t>Tasa efectiva de impuesto para líneas aéreas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16"/>
          <p:cNvSpPr/>
          <p:nvPr/>
        </p:nvSpPr>
        <p:spPr>
          <a:xfrm>
            <a:off x="284040" y="652320"/>
            <a:ext cx="430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os bancos seguirán gan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7"/>
          <p:cNvSpPr/>
          <p:nvPr/>
        </p:nvSpPr>
        <p:spPr>
          <a:xfrm>
            <a:off x="284040" y="903240"/>
            <a:ext cx="39466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4920" indent="-304920">
              <a:lnSpc>
                <a:spcPct val="90000"/>
              </a:lnSpc>
              <a:spcAft>
                <a:spcPts val="524"/>
              </a:spcAft>
              <a:buClr>
                <a:srgbClr val="002960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tasa efectiva de impuesto en Panamá para bancos todavía será menor que otros países de Latinoamérica (ver abaj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Aft>
                <a:spcPts val="524"/>
              </a:spcAft>
              <a:buClr>
                <a:srgbClr val="002960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países ‘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offshor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’ con menores impuestos, no tienen la capacidad física para expandir sus operaciones banc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Aft>
                <a:spcPts val="524"/>
              </a:spcAft>
              <a:buClr>
                <a:srgbClr val="002960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namá ya implementa retención de impuestos para desalentar el registro de operaciones en el extranj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8"/>
          <p:cNvSpPr/>
          <p:nvPr/>
        </p:nvSpPr>
        <p:spPr>
          <a:xfrm>
            <a:off x="4487760" y="652320"/>
            <a:ext cx="430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s líneas aéreas seguirán gan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9"/>
          <p:cNvSpPr/>
          <p:nvPr/>
        </p:nvSpPr>
        <p:spPr>
          <a:xfrm>
            <a:off x="4487760" y="878040"/>
            <a:ext cx="44737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4920" indent="-304920">
              <a:lnSpc>
                <a:spcPct val="90000"/>
              </a:lnSpc>
              <a:spcAft>
                <a:spcPts val="524"/>
              </a:spcAft>
              <a:buClr>
                <a:srgbClr val="002960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tasa efectiva de impuesto en Panamá para líneas aéreas estará en línea con otros países de Latinoamérica (ver abaj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Aft>
                <a:spcPts val="524"/>
              </a:spcAft>
              <a:buClr>
                <a:srgbClr val="002960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ropuesta de gravar todas las ventas registradas localmente está en línea con las prácticas de otras jurisdicciones territoriales (por ejemplo, Singapu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Aft>
                <a:spcPts val="524"/>
              </a:spcAft>
              <a:buClr>
                <a:srgbClr val="002960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mbiar las rutas fuera de Panamá sería muy costoso, ya que las rutas son propiedad de los gobiernos y Panamá tiene una ventaja ge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9160" y="293760"/>
            <a:ext cx="86184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400" spc="-1" strike="noStrike">
                <a:solidFill>
                  <a:srgbClr val="002960"/>
                </a:solidFill>
                <a:latin typeface="Arial"/>
              </a:rPr>
              <a:t>Los bancos y las compañías aéreas seguirán prosperando incluso después de estas reformas</a:t>
            </a:r>
            <a:endParaRPr b="1" lang="en-US" sz="14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025" name="Rectangle 21"/>
          <p:cNvSpPr/>
          <p:nvPr/>
        </p:nvSpPr>
        <p:spPr>
          <a:xfrm>
            <a:off x="482760" y="3322800"/>
            <a:ext cx="153648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Aft>
                <a:spcPts val="1749"/>
              </a:spcAft>
              <a:tabLst>
                <a:tab algn="l" pos="0"/>
                <a:tab algn="r" pos="15238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r" pos="15238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r" pos="15238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éx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r" pos="15238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ntros offshore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r" pos="15238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namá (hoy)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r" pos="15238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namá (después de la refor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22"/>
          <p:cNvSpPr/>
          <p:nvPr/>
        </p:nvSpPr>
        <p:spPr>
          <a:xfrm>
            <a:off x="4749840" y="3322800"/>
            <a:ext cx="1676520" cy="30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1162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162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l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162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162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ngap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162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162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namá (ho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namá (después de la refor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23"/>
          <p:cNvSpPr/>
          <p:nvPr/>
        </p:nvSpPr>
        <p:spPr>
          <a:xfrm>
            <a:off x="4702320" y="6075360"/>
            <a:ext cx="39402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2960"/>
                </a:solidFill>
                <a:latin typeface="Arial"/>
              </a:rPr>
              <a:t>Fuente:  Estados financieros de TAM, LAN, Avianca, KLM, Singapore Airlines, y Co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Object 20"/>
          <p:cNvGraphicFramePr/>
          <p:nvPr/>
        </p:nvGraphicFramePr>
        <p:xfrm>
          <a:off x="2130480" y="3073320"/>
          <a:ext cx="1886040" cy="28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3073320"/>
                    <a:ext cx="188604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Line 21"/>
          <p:cNvSpPr/>
          <p:nvPr/>
        </p:nvSpPr>
        <p:spPr>
          <a:xfrm>
            <a:off x="3556080" y="5164200"/>
            <a:ext cx="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2"/>
          <p:cNvSpPr/>
          <p:nvPr/>
        </p:nvSpPr>
        <p:spPr>
          <a:xfrm flipH="1">
            <a:off x="3238560" y="56070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3"/>
          <p:cNvSpPr/>
          <p:nvPr/>
        </p:nvSpPr>
        <p:spPr>
          <a:xfrm>
            <a:off x="2959200" y="51642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386160" y="3728880"/>
            <a:ext cx="395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25"/>
          <p:cNvSpPr/>
          <p:nvPr/>
        </p:nvSpPr>
        <p:spPr>
          <a:xfrm>
            <a:off x="3938760" y="3286080"/>
            <a:ext cx="395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26"/>
          <p:cNvSpPr/>
          <p:nvPr/>
        </p:nvSpPr>
        <p:spPr>
          <a:xfrm>
            <a:off x="3309840" y="4172040"/>
            <a:ext cx="395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27"/>
          <p:cNvSpPr/>
          <p:nvPr/>
        </p:nvSpPr>
        <p:spPr>
          <a:xfrm>
            <a:off x="2766960" y="5500800"/>
            <a:ext cx="395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28"/>
          <p:cNvSpPr/>
          <p:nvPr/>
        </p:nvSpPr>
        <p:spPr>
          <a:xfrm>
            <a:off x="3308400" y="5248440"/>
            <a:ext cx="495360" cy="272880"/>
          </a:xfrm>
          <a:prstGeom prst="ellipse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8" name="Object 29"/>
          <p:cNvGraphicFramePr/>
          <p:nvPr/>
        </p:nvGraphicFramePr>
        <p:xfrm>
          <a:off x="6435720" y="3192480"/>
          <a:ext cx="188604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3192480"/>
                    <a:ext cx="1886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0" name="Line 30"/>
          <p:cNvSpPr/>
          <p:nvPr/>
        </p:nvSpPr>
        <p:spPr>
          <a:xfrm>
            <a:off x="7064280" y="528336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31"/>
          <p:cNvSpPr/>
          <p:nvPr/>
        </p:nvSpPr>
        <p:spPr>
          <a:xfrm flipH="1">
            <a:off x="8048520" y="56451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32"/>
          <p:cNvSpPr/>
          <p:nvPr/>
        </p:nvSpPr>
        <p:spPr>
          <a:xfrm>
            <a:off x="8366040" y="5283360"/>
            <a:ext cx="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3"/>
          <p:cNvSpPr/>
          <p:nvPr/>
        </p:nvSpPr>
        <p:spPr>
          <a:xfrm>
            <a:off x="7577280" y="5538960"/>
            <a:ext cx="395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34"/>
          <p:cNvSpPr/>
          <p:nvPr/>
        </p:nvSpPr>
        <p:spPr>
          <a:xfrm>
            <a:off x="7281720" y="4081320"/>
            <a:ext cx="395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35"/>
          <p:cNvSpPr/>
          <p:nvPr/>
        </p:nvSpPr>
        <p:spPr>
          <a:xfrm>
            <a:off x="8048520" y="5327640"/>
            <a:ext cx="633600" cy="273240"/>
          </a:xfrm>
          <a:prstGeom prst="ellipse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36"/>
          <p:cNvSpPr/>
          <p:nvPr/>
        </p:nvSpPr>
        <p:spPr>
          <a:xfrm>
            <a:off x="7281720" y="4448160"/>
            <a:ext cx="395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37"/>
          <p:cNvSpPr/>
          <p:nvPr/>
        </p:nvSpPr>
        <p:spPr>
          <a:xfrm>
            <a:off x="8101080" y="3719520"/>
            <a:ext cx="395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38"/>
          <p:cNvSpPr/>
          <p:nvPr/>
        </p:nvSpPr>
        <p:spPr>
          <a:xfrm>
            <a:off x="8244000" y="3357720"/>
            <a:ext cx="395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40" hidden="1"/>
          <p:cNvSpPr/>
          <p:nvPr/>
        </p:nvSpPr>
        <p:spPr>
          <a:xfrm>
            <a:off x="65160" y="-11160"/>
            <a:ext cx="27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8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1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-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McK 3. Unit of measure"/>
          <p:cNvSpPr/>
          <p:nvPr/>
        </p:nvSpPr>
        <p:spPr>
          <a:xfrm>
            <a:off x="139680" y="515880"/>
            <a:ext cx="365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808080"/>
                </a:solidFill>
                <a:latin typeface="Arial"/>
              </a:rPr>
              <a:t>$ Mill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14"/>
          <p:cNvSpPr/>
          <p:nvPr/>
        </p:nvSpPr>
        <p:spPr>
          <a:xfrm>
            <a:off x="6126120" y="2021040"/>
            <a:ext cx="2389320" cy="1164960"/>
          </a:xfrm>
          <a:prstGeom prst="wedgeRectCallout">
            <a:avLst>
              <a:gd name="adj1" fmla="val -58837"/>
              <a:gd name="adj2" fmla="val 24250"/>
            </a:avLst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5"/>
          <p:cNvSpPr/>
          <p:nvPr/>
        </p:nvSpPr>
        <p:spPr>
          <a:xfrm>
            <a:off x="6197760" y="2101680"/>
            <a:ext cx="22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40" indent="-1440">
              <a:spcBef>
                <a:spcPts val="75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0000"/>
                </a:solidFill>
                <a:latin typeface="Arial"/>
              </a:rPr>
              <a:t>Regla de Propor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5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Los costos y gastos deducibles deben tener la misma proporción que los ingresos gravables sobre los ingresos to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6"/>
          <p:cNvGrpSpPr/>
          <p:nvPr/>
        </p:nvGrpSpPr>
        <p:grpSpPr>
          <a:xfrm>
            <a:off x="6126120" y="3341520"/>
            <a:ext cx="2389320" cy="974520"/>
            <a:chOff x="6126120" y="3341520"/>
            <a:chExt cx="2389320" cy="974520"/>
          </a:xfrm>
        </p:grpSpPr>
        <p:sp>
          <p:nvSpPr>
            <p:cNvPr id="1056" name="AutoShape 14"/>
            <p:cNvSpPr/>
            <p:nvPr/>
          </p:nvSpPr>
          <p:spPr>
            <a:xfrm>
              <a:off x="6126120" y="3341520"/>
              <a:ext cx="2389320" cy="974520"/>
            </a:xfrm>
            <a:prstGeom prst="wedgeRectCallout">
              <a:avLst>
                <a:gd name="adj1" fmla="val -57310"/>
                <a:gd name="adj2" fmla="val -19217"/>
              </a:avLst>
            </a:prstGeom>
            <a:solidFill>
              <a:srgbClr val="c7e0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15"/>
            <p:cNvSpPr/>
            <p:nvPr/>
          </p:nvSpPr>
          <p:spPr>
            <a:xfrm>
              <a:off x="6197760" y="3463560"/>
              <a:ext cx="22446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440" indent="-1440">
                <a:spcBef>
                  <a:spcPts val="751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000000"/>
                  </a:solidFill>
                  <a:latin typeface="Arial"/>
                </a:rPr>
                <a:t>El nuevo Impuesto sobre la Renta será el mayor entre el cálculo actual y el cálculo con el método de proporcionalida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Rectangle 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10" descr=""/>
          <p:cNvPicPr/>
          <p:nvPr/>
        </p:nvPicPr>
        <p:blipFill>
          <a:blip r:embed="rId1"/>
          <a:stretch/>
        </p:blipFill>
        <p:spPr>
          <a:xfrm>
            <a:off x="547560" y="1125360"/>
            <a:ext cx="5391360" cy="4472280"/>
          </a:xfrm>
          <a:prstGeom prst="rect">
            <a:avLst/>
          </a:prstGeom>
          <a:ln w="0">
            <a:noFill/>
          </a:ln>
        </p:spPr>
      </p:pic>
      <p:sp>
        <p:nvSpPr>
          <p:cNvPr id="1060" name="McK 5. Source"/>
          <p:cNvSpPr/>
          <p:nvPr/>
        </p:nvSpPr>
        <p:spPr>
          <a:xfrm>
            <a:off x="119160" y="6390000"/>
            <a:ext cx="686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Fuente:  </a:t>
            </a: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Declaraciones Juradas de Renta del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* El ISR de la industria bancaria disminuirá a 25% en cuatro añ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FC21-93BA-4D65-9D6D-1223F13827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51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-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Efecto de la Reforma en el ISR de la Industria Bancaria (ISR 30%*)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3A80-4D3A-49D3-81A2-EA7F57857B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"/>
          <p:cNvSpPr/>
          <p:nvPr/>
        </p:nvSpPr>
        <p:spPr>
          <a:xfrm>
            <a:off x="-1800" y="6373800"/>
            <a:ext cx="5405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66"/>
                </a:solidFill>
                <a:latin typeface="Arial"/>
              </a:rPr>
              <a:t>* Vehículos comerciales de carga incluye, entre otros, vehículos pesados y de uso especial (Arancel 87.04 y 87.0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66"/>
                </a:solidFill>
                <a:latin typeface="Arial"/>
              </a:rPr>
              <a:t>** Los autos híbridos y eléctricos estarán exentos de ISC hasta el 1 de Enero de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20"/>
          <p:cNvGrpSpPr/>
          <p:nvPr/>
        </p:nvGrpSpPr>
        <p:grpSpPr>
          <a:xfrm>
            <a:off x="733320" y="1382760"/>
            <a:ext cx="7661520" cy="3217680"/>
            <a:chOff x="733320" y="1382760"/>
            <a:chExt cx="7661520" cy="3217680"/>
          </a:xfrm>
        </p:grpSpPr>
        <p:grpSp>
          <p:nvGrpSpPr>
            <p:cNvPr id="1067" name="Group 19"/>
            <p:cNvGrpSpPr/>
            <p:nvPr/>
          </p:nvGrpSpPr>
          <p:grpSpPr>
            <a:xfrm>
              <a:off x="733320" y="1384200"/>
              <a:ext cx="2273400" cy="3216240"/>
              <a:chOff x="733320" y="1384200"/>
              <a:chExt cx="2273400" cy="3216240"/>
            </a:xfrm>
          </p:grpSpPr>
          <p:graphicFrame>
            <p:nvGraphicFramePr>
              <p:cNvPr id="1068" name="Object 25"/>
              <p:cNvGraphicFramePr/>
              <p:nvPr/>
            </p:nvGraphicFramePr>
            <p:xfrm>
              <a:off x="733320" y="1654200"/>
              <a:ext cx="2273400" cy="294624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069" name="Object 2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33320" y="1654200"/>
                        <a:ext cx="2273400" cy="294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70" name="Text Box 30"/>
              <p:cNvSpPr/>
              <p:nvPr/>
            </p:nvSpPr>
            <p:spPr>
              <a:xfrm>
                <a:off x="884880" y="1384200"/>
                <a:ext cx="197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192240" indent="-192240"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600" spc="-1" strike="noStrike">
                    <a:solidFill>
                      <a:srgbClr val="002960"/>
                    </a:solidFill>
                    <a:latin typeface="Arial"/>
                  </a:rPr>
                  <a:t>Situación Actu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Group 18"/>
            <p:cNvGrpSpPr/>
            <p:nvPr/>
          </p:nvGrpSpPr>
          <p:grpSpPr>
            <a:xfrm>
              <a:off x="4040280" y="1382760"/>
              <a:ext cx="4354560" cy="2565360"/>
              <a:chOff x="4040280" y="1382760"/>
              <a:chExt cx="4354560" cy="2565360"/>
            </a:xfrm>
          </p:grpSpPr>
          <p:graphicFrame>
            <p:nvGraphicFramePr>
              <p:cNvPr id="1072" name="Object 5"/>
              <p:cNvGraphicFramePr/>
              <p:nvPr/>
            </p:nvGraphicFramePr>
            <p:xfrm>
              <a:off x="4040280" y="1652760"/>
              <a:ext cx="4354560" cy="229536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073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040280" y="1652760"/>
                        <a:ext cx="4354560" cy="229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74" name="Text Box 31"/>
              <p:cNvSpPr/>
              <p:nvPr/>
            </p:nvSpPr>
            <p:spPr>
              <a:xfrm>
                <a:off x="5529600" y="1382760"/>
                <a:ext cx="1375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192240" indent="-192240"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PA" sz="1600" spc="-1" strike="noStrike">
                    <a:solidFill>
                      <a:srgbClr val="002960"/>
                    </a:solidFill>
                    <a:latin typeface="Arial"/>
                  </a:rPr>
                  <a:t>Propues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5" name="Text Box 5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C - Automóv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2"/>
          <p:cNvSpPr/>
          <p:nvPr/>
        </p:nvSpPr>
        <p:spPr>
          <a:xfrm>
            <a:off x="260280" y="689040"/>
            <a:ext cx="844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800" spc="-1" strike="noStrike">
                <a:solidFill>
                  <a:srgbClr val="002960"/>
                </a:solidFill>
                <a:latin typeface="Arial"/>
              </a:rPr>
              <a:t>Se elimina el arancel de importación para automóviles y se modifica el Impuesto Selectivo al Consumo (ISC) actual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Nuevo Esquema Tributario para la Importación de Vehículo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078" name="Text Box 16"/>
          <p:cNvSpPr/>
          <p:nvPr/>
        </p:nvSpPr>
        <p:spPr>
          <a:xfrm>
            <a:off x="1762200" y="4818240"/>
            <a:ext cx="54388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92240" indent="-192240">
              <a:spcBef>
                <a:spcPts val="462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500" spc="-1" strike="noStrike">
                <a:solidFill>
                  <a:srgbClr val="002960"/>
                </a:solidFill>
                <a:latin typeface="Arial"/>
              </a:rPr>
              <a:t>Este ISC tendrá un mínimo d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62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5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0" lang="es-PA" sz="1500" spc="-1" strike="noStrike">
                <a:solidFill>
                  <a:srgbClr val="002960"/>
                </a:solidFill>
                <a:latin typeface="Arial"/>
              </a:rPr>
              <a:t>- $500 para autos nuev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62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5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0" lang="es-PA" sz="1500" spc="-1" strike="noStrike">
                <a:solidFill>
                  <a:srgbClr val="002960"/>
                </a:solidFill>
                <a:latin typeface="Arial"/>
              </a:rPr>
              <a:t>- $750 para autos con más de 12 meses de antigüe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62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5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0" lang="es-PA" sz="1500" spc="-1" strike="noStrike">
                <a:solidFill>
                  <a:srgbClr val="002960"/>
                </a:solidFill>
                <a:latin typeface="Arial"/>
              </a:rPr>
              <a:t>- $1,000 para autos con más de 24 meses de antigüe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62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500" spc="-1" strike="noStrike">
                <a:solidFill>
                  <a:srgbClr val="002960"/>
                </a:solidFill>
                <a:latin typeface="Arial"/>
              </a:rPr>
              <a:t>	</a:t>
            </a:r>
            <a:r>
              <a:rPr b="0" lang="es-PA" sz="1500" spc="-1" strike="noStrike">
                <a:solidFill>
                  <a:srgbClr val="002960"/>
                </a:solidFill>
                <a:latin typeface="Arial"/>
              </a:rPr>
              <a:t>- $1,500 para autos con más de 36 meses de antigüe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21"/>
          <p:cNvSpPr/>
          <p:nvPr/>
        </p:nvSpPr>
        <p:spPr>
          <a:xfrm>
            <a:off x="7007400" y="3695760"/>
            <a:ext cx="495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92240" indent="-19224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1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DD28-D1DD-40E1-9B71-F70CBCF5D6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3"/>
          <p:cNvSpPr/>
          <p:nvPr/>
        </p:nvSpPr>
        <p:spPr>
          <a:xfrm>
            <a:off x="112680" y="1468440"/>
            <a:ext cx="8512200" cy="4748040"/>
          </a:xfrm>
          <a:custGeom>
            <a:avLst/>
            <a:gdLst>
              <a:gd name="textAreaLeft" fmla="*/ 0 w 8512200"/>
              <a:gd name="textAreaRight" fmla="*/ 8512560 w 8512200"/>
              <a:gd name="textAreaTop" fmla="*/ 0 h 4748040"/>
              <a:gd name="textAreaBottom" fmla="*/ 4748400 h 4748040"/>
            </a:gdLst>
            <a:ahLst/>
            <a:rect l="textAreaLeft" t="textAreaTop" r="textAreaRight" b="textAreaBottom"/>
            <a:pathLst>
              <a:path w="5362" h="2956">
                <a:moveTo>
                  <a:pt x="5362" y="8"/>
                </a:moveTo>
                <a:lnTo>
                  <a:pt x="5362" y="2956"/>
                </a:lnTo>
                <a:lnTo>
                  <a:pt x="1711" y="2939"/>
                </a:lnTo>
                <a:lnTo>
                  <a:pt x="1347" y="2041"/>
                </a:lnTo>
                <a:lnTo>
                  <a:pt x="0" y="2041"/>
                </a:lnTo>
                <a:lnTo>
                  <a:pt x="0" y="1838"/>
                </a:lnTo>
                <a:lnTo>
                  <a:pt x="1338" y="1838"/>
                </a:lnTo>
                <a:lnTo>
                  <a:pt x="1711" y="0"/>
                </a:lnTo>
                <a:lnTo>
                  <a:pt x="5362" y="8"/>
                </a:lnTo>
                <a:close/>
              </a:path>
            </a:pathLst>
          </a:custGeom>
          <a:solidFill>
            <a:srgbClr val="c7e0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32840" y="229680"/>
            <a:ext cx="884268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Simplificación de impuestos: eliminar timbres y aumentar tasa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084" name="Rectangle 6"/>
          <p:cNvSpPr/>
          <p:nvPr/>
        </p:nvSpPr>
        <p:spPr>
          <a:xfrm>
            <a:off x="4497480" y="158256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</a:rPr>
              <a:t>Valor 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3075120" y="158760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</a:rPr>
              <a:t>Ti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175360" y="158256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</a:rPr>
              <a:t># Contribuy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9"/>
          <p:cNvSpPr/>
          <p:nvPr/>
        </p:nvSpPr>
        <p:spPr>
          <a:xfrm>
            <a:off x="6966000" y="158256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Razón</a:t>
            </a: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0"/>
          <p:cNvSpPr/>
          <p:nvPr/>
        </p:nvSpPr>
        <p:spPr>
          <a:xfrm>
            <a:off x="4114800" y="187632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,7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1"/>
          <p:cNvSpPr/>
          <p:nvPr/>
        </p:nvSpPr>
        <p:spPr>
          <a:xfrm>
            <a:off x="3075120" y="18763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Chequ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2"/>
          <p:cNvSpPr/>
          <p:nvPr/>
        </p:nvSpPr>
        <p:spPr>
          <a:xfrm>
            <a:off x="5356080" y="1876320"/>
            <a:ext cx="45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3"/>
          <p:cNvSpPr/>
          <p:nvPr/>
        </p:nvSpPr>
        <p:spPr>
          <a:xfrm>
            <a:off x="5942160" y="1876320"/>
            <a:ext cx="270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El impuesto es fácil de recoger: es un proceso rutinario para los ban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4"/>
          <p:cNvSpPr/>
          <p:nvPr/>
        </p:nvSpPr>
        <p:spPr>
          <a:xfrm>
            <a:off x="4114800" y="252576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7,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15"/>
          <p:cNvSpPr/>
          <p:nvPr/>
        </p:nvSpPr>
        <p:spPr>
          <a:xfrm>
            <a:off x="3075120" y="252576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Contra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16"/>
          <p:cNvSpPr/>
          <p:nvPr/>
        </p:nvSpPr>
        <p:spPr>
          <a:xfrm>
            <a:off x="5356080" y="2525760"/>
            <a:ext cx="45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,8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17"/>
          <p:cNvSpPr/>
          <p:nvPr/>
        </p:nvSpPr>
        <p:spPr>
          <a:xfrm>
            <a:off x="5942160" y="2525760"/>
            <a:ext cx="250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La carga tributaria es baja; no se recoge con regular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8"/>
          <p:cNvSpPr/>
          <p:nvPr/>
        </p:nvSpPr>
        <p:spPr>
          <a:xfrm>
            <a:off x="4114800" y="313200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0,3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19"/>
          <p:cNvSpPr/>
          <p:nvPr/>
        </p:nvSpPr>
        <p:spPr>
          <a:xfrm>
            <a:off x="3075120" y="31320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Facturas y recib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0"/>
          <p:cNvSpPr/>
          <p:nvPr/>
        </p:nvSpPr>
        <p:spPr>
          <a:xfrm>
            <a:off x="5346720" y="3132000"/>
            <a:ext cx="45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2,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1"/>
          <p:cNvSpPr/>
          <p:nvPr/>
        </p:nvSpPr>
        <p:spPr>
          <a:xfrm>
            <a:off x="5942160" y="3132000"/>
            <a:ext cx="250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Los ingresos tributarios son bajos; es difícil y costosa para recaudar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22"/>
          <p:cNvSpPr/>
          <p:nvPr/>
        </p:nvSpPr>
        <p:spPr>
          <a:xfrm>
            <a:off x="4114800" y="368928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6,1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23"/>
          <p:cNvSpPr/>
          <p:nvPr/>
        </p:nvSpPr>
        <p:spPr>
          <a:xfrm>
            <a:off x="3075120" y="36892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Arrendamien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4"/>
          <p:cNvSpPr/>
          <p:nvPr/>
        </p:nvSpPr>
        <p:spPr>
          <a:xfrm>
            <a:off x="5356080" y="3689280"/>
            <a:ext cx="45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8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5"/>
          <p:cNvSpPr/>
          <p:nvPr/>
        </p:nvSpPr>
        <p:spPr>
          <a:xfrm>
            <a:off x="5942160" y="3689280"/>
            <a:ext cx="250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La primera ola ya aumentó ITBMS para este impue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26"/>
          <p:cNvSpPr/>
          <p:nvPr/>
        </p:nvSpPr>
        <p:spPr>
          <a:xfrm>
            <a:off x="4114800" y="424512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3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27"/>
          <p:cNvSpPr/>
          <p:nvPr/>
        </p:nvSpPr>
        <p:spPr>
          <a:xfrm>
            <a:off x="3075120" y="42451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Empeñ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28"/>
          <p:cNvSpPr/>
          <p:nvPr/>
        </p:nvSpPr>
        <p:spPr>
          <a:xfrm>
            <a:off x="5356080" y="4245120"/>
            <a:ext cx="45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29"/>
          <p:cNvSpPr/>
          <p:nvPr/>
        </p:nvSpPr>
        <p:spPr>
          <a:xfrm>
            <a:off x="4114800" y="479268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30"/>
          <p:cNvSpPr/>
          <p:nvPr/>
        </p:nvSpPr>
        <p:spPr>
          <a:xfrm>
            <a:off x="3075120" y="47926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Servicios profesi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31"/>
          <p:cNvSpPr/>
          <p:nvPr/>
        </p:nvSpPr>
        <p:spPr>
          <a:xfrm>
            <a:off x="5356080" y="4792680"/>
            <a:ext cx="45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,4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32"/>
          <p:cNvSpPr/>
          <p:nvPr/>
        </p:nvSpPr>
        <p:spPr>
          <a:xfrm>
            <a:off x="4114800" y="554832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7,4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33"/>
          <p:cNvSpPr/>
          <p:nvPr/>
        </p:nvSpPr>
        <p:spPr>
          <a:xfrm>
            <a:off x="3075120" y="55483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Boletos y     timb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34"/>
          <p:cNvSpPr/>
          <p:nvPr/>
        </p:nvSpPr>
        <p:spPr>
          <a:xfrm>
            <a:off x="5356080" y="5548320"/>
            <a:ext cx="45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35"/>
          <p:cNvSpPr/>
          <p:nvPr/>
        </p:nvSpPr>
        <p:spPr>
          <a:xfrm>
            <a:off x="5942160" y="4245120"/>
            <a:ext cx="250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El potencial de ingresos es bajo y difícil de audi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6"/>
          <p:cNvSpPr/>
          <p:nvPr/>
        </p:nvSpPr>
        <p:spPr>
          <a:xfrm>
            <a:off x="5942160" y="4792680"/>
            <a:ext cx="250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Los ingresos tributarios son bajos; es costoso y difícil de recaud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37"/>
          <p:cNvSpPr/>
          <p:nvPr/>
        </p:nvSpPr>
        <p:spPr>
          <a:xfrm>
            <a:off x="5942160" y="5261040"/>
            <a:ext cx="268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Estos impuestos aumentan considerablemente la complejidad fiscal; su potencial de ingresos es bajo, y la pérdida fiscal puede ser compensada con un aumento de las tas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38"/>
          <p:cNvSpPr/>
          <p:nvPr/>
        </p:nvSpPr>
        <p:spPr>
          <a:xfrm>
            <a:off x="3075120" y="179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39"/>
          <p:cNvSpPr/>
          <p:nvPr/>
        </p:nvSpPr>
        <p:spPr>
          <a:xfrm>
            <a:off x="4116240" y="179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40"/>
          <p:cNvSpPr/>
          <p:nvPr/>
        </p:nvSpPr>
        <p:spPr>
          <a:xfrm>
            <a:off x="5208480" y="179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41"/>
          <p:cNvSpPr/>
          <p:nvPr/>
        </p:nvSpPr>
        <p:spPr>
          <a:xfrm>
            <a:off x="6351480" y="1793880"/>
            <a:ext cx="211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3"/>
          <p:cNvSpPr/>
          <p:nvPr/>
        </p:nvSpPr>
        <p:spPr>
          <a:xfrm>
            <a:off x="255600" y="323064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4"/>
          <p:cNvSpPr/>
          <p:nvPr/>
        </p:nvSpPr>
        <p:spPr>
          <a:xfrm>
            <a:off x="255600" y="34750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m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45"/>
          <p:cNvSpPr/>
          <p:nvPr/>
        </p:nvSpPr>
        <p:spPr>
          <a:xfrm>
            <a:off x="255600" y="37180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46"/>
          <p:cNvSpPr/>
          <p:nvPr/>
        </p:nvSpPr>
        <p:spPr>
          <a:xfrm>
            <a:off x="255600" y="249876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Juríd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47"/>
          <p:cNvSpPr/>
          <p:nvPr/>
        </p:nvSpPr>
        <p:spPr>
          <a:xfrm>
            <a:off x="255600" y="274176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Perso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48"/>
          <p:cNvSpPr/>
          <p:nvPr/>
        </p:nvSpPr>
        <p:spPr>
          <a:xfrm>
            <a:off x="255600" y="39625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TB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49"/>
          <p:cNvSpPr/>
          <p:nvPr/>
        </p:nvSpPr>
        <p:spPr>
          <a:xfrm>
            <a:off x="255600" y="298620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Ot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50"/>
          <p:cNvSpPr/>
          <p:nvPr/>
        </p:nvSpPr>
        <p:spPr>
          <a:xfrm>
            <a:off x="255600" y="420696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Bie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51"/>
          <p:cNvSpPr/>
          <p:nvPr/>
        </p:nvSpPr>
        <p:spPr>
          <a:xfrm>
            <a:off x="255600" y="450216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Timb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52"/>
          <p:cNvSpPr/>
          <p:nvPr/>
        </p:nvSpPr>
        <p:spPr>
          <a:xfrm>
            <a:off x="255600" y="479736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3"/>
          <p:cNvSpPr/>
          <p:nvPr/>
        </p:nvSpPr>
        <p:spPr>
          <a:xfrm>
            <a:off x="1271520" y="3227400"/>
            <a:ext cx="41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54"/>
          <p:cNvSpPr/>
          <p:nvPr/>
        </p:nvSpPr>
        <p:spPr>
          <a:xfrm>
            <a:off x="1271520" y="3471840"/>
            <a:ext cx="41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55"/>
          <p:cNvSpPr/>
          <p:nvPr/>
        </p:nvSpPr>
        <p:spPr>
          <a:xfrm>
            <a:off x="1271520" y="3714840"/>
            <a:ext cx="41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56"/>
          <p:cNvSpPr/>
          <p:nvPr/>
        </p:nvSpPr>
        <p:spPr>
          <a:xfrm>
            <a:off x="1271520" y="2495520"/>
            <a:ext cx="41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57"/>
          <p:cNvSpPr/>
          <p:nvPr/>
        </p:nvSpPr>
        <p:spPr>
          <a:xfrm>
            <a:off x="1271520" y="2738520"/>
            <a:ext cx="41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58"/>
          <p:cNvSpPr/>
          <p:nvPr/>
        </p:nvSpPr>
        <p:spPr>
          <a:xfrm>
            <a:off x="1271520" y="3959280"/>
            <a:ext cx="41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59"/>
          <p:cNvSpPr/>
          <p:nvPr/>
        </p:nvSpPr>
        <p:spPr>
          <a:xfrm>
            <a:off x="1271520" y="2982960"/>
            <a:ext cx="41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60"/>
          <p:cNvSpPr/>
          <p:nvPr/>
        </p:nvSpPr>
        <p:spPr>
          <a:xfrm>
            <a:off x="1271520" y="4203720"/>
            <a:ext cx="41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61"/>
          <p:cNvSpPr/>
          <p:nvPr/>
        </p:nvSpPr>
        <p:spPr>
          <a:xfrm>
            <a:off x="1271520" y="4498920"/>
            <a:ext cx="41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62"/>
          <p:cNvSpPr/>
          <p:nvPr/>
        </p:nvSpPr>
        <p:spPr>
          <a:xfrm>
            <a:off x="1271520" y="4794120"/>
            <a:ext cx="41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63"/>
          <p:cNvSpPr/>
          <p:nvPr/>
        </p:nvSpPr>
        <p:spPr>
          <a:xfrm>
            <a:off x="1665360" y="3230640"/>
            <a:ext cx="4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4"/>
          <p:cNvSpPr/>
          <p:nvPr/>
        </p:nvSpPr>
        <p:spPr>
          <a:xfrm>
            <a:off x="1665360" y="3475080"/>
            <a:ext cx="4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4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5"/>
          <p:cNvSpPr/>
          <p:nvPr/>
        </p:nvSpPr>
        <p:spPr>
          <a:xfrm>
            <a:off x="1665360" y="3718080"/>
            <a:ext cx="4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66"/>
          <p:cNvSpPr/>
          <p:nvPr/>
        </p:nvSpPr>
        <p:spPr>
          <a:xfrm>
            <a:off x="1665360" y="2498760"/>
            <a:ext cx="4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67"/>
          <p:cNvSpPr/>
          <p:nvPr/>
        </p:nvSpPr>
        <p:spPr>
          <a:xfrm>
            <a:off x="1665360" y="2741760"/>
            <a:ext cx="4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68"/>
          <p:cNvSpPr/>
          <p:nvPr/>
        </p:nvSpPr>
        <p:spPr>
          <a:xfrm>
            <a:off x="1665360" y="3962520"/>
            <a:ext cx="4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5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9"/>
          <p:cNvSpPr/>
          <p:nvPr/>
        </p:nvSpPr>
        <p:spPr>
          <a:xfrm>
            <a:off x="1665360" y="2986200"/>
            <a:ext cx="4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70"/>
          <p:cNvSpPr/>
          <p:nvPr/>
        </p:nvSpPr>
        <p:spPr>
          <a:xfrm>
            <a:off x="1665360" y="4206960"/>
            <a:ext cx="4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71"/>
          <p:cNvSpPr/>
          <p:nvPr/>
        </p:nvSpPr>
        <p:spPr>
          <a:xfrm>
            <a:off x="1665360" y="4502160"/>
            <a:ext cx="4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2"/>
          <p:cNvSpPr/>
          <p:nvPr/>
        </p:nvSpPr>
        <p:spPr>
          <a:xfrm>
            <a:off x="1665360" y="4797360"/>
            <a:ext cx="4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73"/>
          <p:cNvSpPr/>
          <p:nvPr/>
        </p:nvSpPr>
        <p:spPr>
          <a:xfrm>
            <a:off x="255600" y="21178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Tipo de Impue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74"/>
          <p:cNvSpPr/>
          <p:nvPr/>
        </p:nvSpPr>
        <p:spPr>
          <a:xfrm>
            <a:off x="1309680" y="2117880"/>
            <a:ext cx="41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Can-t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75"/>
          <p:cNvSpPr/>
          <p:nvPr/>
        </p:nvSpPr>
        <p:spPr>
          <a:xfrm>
            <a:off x="1766880" y="2117880"/>
            <a:ext cx="45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US$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76"/>
          <p:cNvSpPr/>
          <p:nvPr/>
        </p:nvSpPr>
        <p:spPr>
          <a:xfrm>
            <a:off x="230040" y="244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77"/>
          <p:cNvSpPr/>
          <p:nvPr/>
        </p:nvSpPr>
        <p:spPr>
          <a:xfrm>
            <a:off x="1271520" y="244008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78"/>
          <p:cNvSpPr/>
          <p:nvPr/>
        </p:nvSpPr>
        <p:spPr>
          <a:xfrm>
            <a:off x="1728720" y="2440080"/>
            <a:ext cx="45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79"/>
          <p:cNvSpPr/>
          <p:nvPr/>
        </p:nvSpPr>
        <p:spPr>
          <a:xfrm>
            <a:off x="255600" y="5089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80"/>
          <p:cNvSpPr/>
          <p:nvPr/>
        </p:nvSpPr>
        <p:spPr>
          <a:xfrm>
            <a:off x="1271520" y="5086440"/>
            <a:ext cx="41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81"/>
          <p:cNvSpPr/>
          <p:nvPr/>
        </p:nvSpPr>
        <p:spPr>
          <a:xfrm>
            <a:off x="1665360" y="5089680"/>
            <a:ext cx="4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2,4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82"/>
          <p:cNvSpPr/>
          <p:nvPr/>
        </p:nvSpPr>
        <p:spPr>
          <a:xfrm>
            <a:off x="2960640" y="186372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83"/>
          <p:cNvSpPr/>
          <p:nvPr/>
        </p:nvSpPr>
        <p:spPr>
          <a:xfrm>
            <a:off x="2960640" y="3197160"/>
            <a:ext cx="0" cy="265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84"/>
          <p:cNvSpPr/>
          <p:nvPr/>
        </p:nvSpPr>
        <p:spPr>
          <a:xfrm>
            <a:off x="2960640" y="2979720"/>
            <a:ext cx="550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85"/>
          <p:cNvSpPr/>
          <p:nvPr/>
        </p:nvSpPr>
        <p:spPr>
          <a:xfrm rot="16200000">
            <a:off x="2435400" y="234468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</a:rPr>
              <a:t>Mantener (4)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86"/>
          <p:cNvSpPr/>
          <p:nvPr/>
        </p:nvSpPr>
        <p:spPr>
          <a:xfrm rot="16200000">
            <a:off x="2347200" y="4223520"/>
            <a:ext cx="99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2960"/>
                </a:solidFill>
                <a:latin typeface="Arial"/>
              </a:rPr>
              <a:t>Eliminar (32)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87"/>
          <p:cNvSpPr/>
          <p:nvPr/>
        </p:nvSpPr>
        <p:spPr>
          <a:xfrm>
            <a:off x="230040" y="5043600"/>
            <a:ext cx="195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6"/>
          <p:cNvSpPr/>
          <p:nvPr/>
        </p:nvSpPr>
        <p:spPr>
          <a:xfrm>
            <a:off x="169920" y="588960"/>
            <a:ext cx="8505720" cy="70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A" sz="1200" spc="-1" strike="noStrike">
                <a:solidFill>
                  <a:srgbClr val="000000"/>
                </a:solidFill>
                <a:latin typeface="Arial"/>
              </a:rPr>
              <a:t>Aumentar las tarifas existentes para tener un efecto neutr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50880" indent="-192240">
              <a:lnSpc>
                <a:spcPct val="100000"/>
              </a:lnSpc>
              <a:spcAft>
                <a:spcPts val="1001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</a:rPr>
              <a:t>Por ejemplo, aumenta Papel Notarial de $4 a $8, Certificados y Copias Auténticas de $10 a $50, Débitos bancarios van a cobrar $0.10, cartas de naturalización de $25 hasta 50, etc.</a:t>
            </a:r>
            <a:r>
              <a:rPr b="0" lang="es-PA" sz="16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92"/>
          <p:cNvSpPr/>
          <p:nvPr/>
        </p:nvSpPr>
        <p:spPr>
          <a:xfrm>
            <a:off x="-3240" y="6369120"/>
            <a:ext cx="27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  <a:ea typeface="Arial"/>
              </a:rPr>
              <a:t>¹ </a:t>
            </a: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Número de timbres eliminado en paréntesi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800" spc="-1" strike="noStrike">
                <a:solidFill>
                  <a:srgbClr val="000000"/>
                </a:solidFill>
                <a:latin typeface="Arial"/>
              </a:rPr>
              <a:t>² Articulo 9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ight Arrow 93"/>
          <p:cNvSpPr/>
          <p:nvPr/>
        </p:nvSpPr>
        <p:spPr>
          <a:xfrm>
            <a:off x="230040" y="1582560"/>
            <a:ext cx="2330640" cy="574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7e0fb"/>
          </a:solidFill>
          <a:ln w="25560">
            <a:solidFill>
              <a:srgbClr val="92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400" spc="-1" strike="noStrike">
                <a:solidFill>
                  <a:srgbClr val="000000"/>
                </a:solidFill>
                <a:latin typeface="Arial"/>
              </a:rPr>
              <a:t>Eliminar Ti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2"/>
          <p:cNvSpPr/>
          <p:nvPr/>
        </p:nvSpPr>
        <p:spPr>
          <a:xfrm>
            <a:off x="6772320" y="619200"/>
            <a:ext cx="676080" cy="539100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3"/>
          <p:cNvSpPr/>
          <p:nvPr/>
        </p:nvSpPr>
        <p:spPr>
          <a:xfrm>
            <a:off x="714240" y="619200"/>
            <a:ext cx="676440" cy="539100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Object 4"/>
          <p:cNvGraphicFramePr/>
          <p:nvPr/>
        </p:nvGraphicFramePr>
        <p:xfrm>
          <a:off x="336600" y="549360"/>
          <a:ext cx="865512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549360"/>
                    <a:ext cx="8655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Line 5"/>
          <p:cNvSpPr/>
          <p:nvPr/>
        </p:nvSpPr>
        <p:spPr>
          <a:xfrm>
            <a:off x="569880" y="601668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6"/>
          <p:cNvSpPr/>
          <p:nvPr/>
        </p:nvSpPr>
        <p:spPr>
          <a:xfrm>
            <a:off x="569880" y="24354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7"/>
          <p:cNvSpPr/>
          <p:nvPr/>
        </p:nvSpPr>
        <p:spPr>
          <a:xfrm>
            <a:off x="569880" y="6444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8"/>
          <p:cNvSpPr/>
          <p:nvPr/>
        </p:nvSpPr>
        <p:spPr>
          <a:xfrm>
            <a:off x="569880" y="42260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9"/>
          <p:cNvSpPr/>
          <p:nvPr/>
        </p:nvSpPr>
        <p:spPr>
          <a:xfrm>
            <a:off x="7699320" y="2649600"/>
            <a:ext cx="11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Crisis económica glo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10"/>
          <p:cNvSpPr/>
          <p:nvPr/>
        </p:nvSpPr>
        <p:spPr>
          <a:xfrm>
            <a:off x="1866960" y="941400"/>
            <a:ext cx="86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Crisis financie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de inicio de los ‘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11"/>
          <p:cNvSpPr/>
          <p:nvPr/>
        </p:nvSpPr>
        <p:spPr>
          <a:xfrm>
            <a:off x="441360" y="5940360"/>
            <a:ext cx="69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12"/>
          <p:cNvSpPr/>
          <p:nvPr/>
        </p:nvSpPr>
        <p:spPr>
          <a:xfrm>
            <a:off x="371520" y="235908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13"/>
          <p:cNvSpPr/>
          <p:nvPr/>
        </p:nvSpPr>
        <p:spPr>
          <a:xfrm>
            <a:off x="371520" y="56844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4"/>
          <p:cNvSpPr/>
          <p:nvPr/>
        </p:nvSpPr>
        <p:spPr>
          <a:xfrm>
            <a:off x="441360" y="4149720"/>
            <a:ext cx="69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7"/>
          <p:cNvSpPr/>
          <p:nvPr/>
        </p:nvSpPr>
        <p:spPr>
          <a:xfrm rot="16200000">
            <a:off x="-1182240" y="3072960"/>
            <a:ext cx="27637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300" spc="-1" strike="noStrike">
                <a:solidFill>
                  <a:srgbClr val="002960"/>
                </a:solidFill>
                <a:latin typeface="Arial"/>
              </a:rPr>
              <a:t>Tasa de Inflación (%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7A65-965C-4E1C-B169-5DB834A984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51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TB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9"/>
          <p:cNvSpPr/>
          <p:nvPr/>
        </p:nvSpPr>
        <p:spPr>
          <a:xfrm>
            <a:off x="6410160" y="4924440"/>
            <a:ext cx="447840" cy="73332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Group 20"/>
          <p:cNvGrpSpPr/>
          <p:nvPr/>
        </p:nvGrpSpPr>
        <p:grpSpPr>
          <a:xfrm>
            <a:off x="4743360" y="4257720"/>
            <a:ext cx="1990800" cy="780840"/>
            <a:chOff x="4743360" y="4257720"/>
            <a:chExt cx="1990800" cy="780840"/>
          </a:xfrm>
        </p:grpSpPr>
        <p:sp>
          <p:nvSpPr>
            <p:cNvPr id="1188" name="Rectangle 21"/>
            <p:cNvSpPr/>
            <p:nvPr/>
          </p:nvSpPr>
          <p:spPr>
            <a:xfrm>
              <a:off x="4743360" y="4257720"/>
              <a:ext cx="1990800" cy="78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 Box 22"/>
            <p:cNvSpPr/>
            <p:nvPr/>
          </p:nvSpPr>
          <p:spPr>
            <a:xfrm>
              <a:off x="4797360" y="4343400"/>
              <a:ext cx="1882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240" indent="-324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Ley 61 de 2002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000" spc="-1" strike="noStrike">
                  <a:solidFill>
                    <a:srgbClr val="000000"/>
                  </a:solidFill>
                  <a:latin typeface="Arial"/>
                </a:rPr>
                <a:t>Se amplía la base del ITBM para incluir a los servicios (ITBMS).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000" spc="-1" strike="noStrike">
                  <a:solidFill>
                    <a:srgbClr val="000000"/>
                  </a:solidFill>
                  <a:latin typeface="Arial"/>
                </a:rPr>
                <a:t>Entra a regir en abril de 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Line 23"/>
          <p:cNvSpPr/>
          <p:nvPr/>
        </p:nvSpPr>
        <p:spPr>
          <a:xfrm>
            <a:off x="838080" y="4581360"/>
            <a:ext cx="181080" cy="66708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4"/>
          <p:cNvSpPr/>
          <p:nvPr/>
        </p:nvSpPr>
        <p:spPr>
          <a:xfrm>
            <a:off x="895320" y="5172120"/>
            <a:ext cx="147960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25"/>
          <p:cNvSpPr/>
          <p:nvPr/>
        </p:nvSpPr>
        <p:spPr>
          <a:xfrm>
            <a:off x="965160" y="5224320"/>
            <a:ext cx="133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40" indent="-324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ey 75 de 1976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Se crea el ITBM y este entra a regir en abril de 19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2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27" hidden="1"/>
          <p:cNvSpPr/>
          <p:nvPr/>
        </p:nvSpPr>
        <p:spPr>
          <a:xfrm>
            <a:off x="-17640" y="-4680"/>
            <a:ext cx="1936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9"/>
          <p:cNvSpPr/>
          <p:nvPr/>
        </p:nvSpPr>
        <p:spPr>
          <a:xfrm>
            <a:off x="119160" y="166680"/>
            <a:ext cx="8618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Efecto Histórico de Reformas Fiscales en la infl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6"/>
          <p:cNvSpPr/>
          <p:nvPr/>
        </p:nvSpPr>
        <p:spPr>
          <a:xfrm>
            <a:off x="0" y="0"/>
            <a:ext cx="8958240" cy="6721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Picture 10" descr="logo MEF grande"/>
          <p:cNvPicPr/>
          <p:nvPr/>
        </p:nvPicPr>
        <p:blipFill>
          <a:blip r:embed="rId1"/>
          <a:stretch/>
        </p:blipFill>
        <p:spPr>
          <a:xfrm>
            <a:off x="3392640" y="2293920"/>
            <a:ext cx="2172960" cy="2136960"/>
          </a:xfrm>
          <a:prstGeom prst="rect">
            <a:avLst/>
          </a:prstGeom>
          <a:ln w="0">
            <a:noFill/>
          </a:ln>
        </p:spPr>
      </p:pic>
      <p:sp>
        <p:nvSpPr>
          <p:cNvPr id="1199" name="Rectangle 10"/>
          <p:cNvSpPr/>
          <p:nvPr/>
        </p:nvSpPr>
        <p:spPr>
          <a:xfrm>
            <a:off x="-154080" y="6615000"/>
            <a:ext cx="55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92240" indent="-192240"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600" spc="-1" strike="noStrike">
                <a:solidFill>
                  <a:srgbClr val="ffffff"/>
                </a:solidFill>
                <a:latin typeface="Arial"/>
              </a:rPr>
              <a:t>v30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BFD4-7534-4FED-BEBE-D685A2B6CB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900" spc="-1" strike="noStrike">
                <a:solidFill>
                  <a:srgbClr val="002960"/>
                </a:solidFill>
                <a:latin typeface="Arial"/>
              </a:rPr>
              <a:t>Objetivos para una 2da ola de reformas fiscale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grpSp>
        <p:nvGrpSpPr>
          <p:cNvPr id="262" name="Group 50"/>
          <p:cNvGrpSpPr/>
          <p:nvPr/>
        </p:nvGrpSpPr>
        <p:grpSpPr>
          <a:xfrm>
            <a:off x="1535040" y="5362560"/>
            <a:ext cx="7307280" cy="774720"/>
            <a:chOff x="1535040" y="5362560"/>
            <a:chExt cx="7307280" cy="774720"/>
          </a:xfrm>
        </p:grpSpPr>
        <p:grpSp>
          <p:nvGrpSpPr>
            <p:cNvPr id="263" name="Group 44"/>
            <p:cNvGrpSpPr/>
            <p:nvPr/>
          </p:nvGrpSpPr>
          <p:grpSpPr>
            <a:xfrm>
              <a:off x="1535040" y="5362560"/>
              <a:ext cx="1765440" cy="774720"/>
              <a:chOff x="1535040" y="5362560"/>
              <a:chExt cx="1765440" cy="774720"/>
            </a:xfrm>
          </p:grpSpPr>
          <p:sp>
            <p:nvSpPr>
              <p:cNvPr id="264" name="Rectangle 7"/>
              <p:cNvSpPr/>
              <p:nvPr/>
            </p:nvSpPr>
            <p:spPr>
              <a:xfrm>
                <a:off x="1535040" y="5362560"/>
                <a:ext cx="1765440" cy="774720"/>
              </a:xfrm>
              <a:prstGeom prst="rect">
                <a:avLst/>
              </a:prstGeom>
              <a:solidFill>
                <a:srgbClr val="c7e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39"/>
              <p:cNvGrpSpPr/>
              <p:nvPr/>
            </p:nvGrpSpPr>
            <p:grpSpPr>
              <a:xfrm>
                <a:off x="1581120" y="5407200"/>
                <a:ext cx="1550520" cy="685080"/>
                <a:chOff x="1581120" y="5407200"/>
                <a:chExt cx="1550520" cy="685080"/>
              </a:xfrm>
            </p:grpSpPr>
            <p:sp>
              <p:nvSpPr>
                <p:cNvPr id="266" name="Rectangle 11"/>
                <p:cNvSpPr/>
                <p:nvPr/>
              </p:nvSpPr>
              <p:spPr>
                <a:xfrm>
                  <a:off x="1895040" y="5407200"/>
                  <a:ext cx="1236600" cy="6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s-ES" sz="1500" spc="-1" strike="noStrike">
                      <a:solidFill>
                        <a:srgbClr val="002960"/>
                      </a:solidFill>
                      <a:latin typeface="Arial"/>
                    </a:rPr>
                    <a:t>Aumentar de los ingresos del gobierno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2"/>
                <p:cNvSpPr/>
                <p:nvPr/>
              </p:nvSpPr>
              <p:spPr>
                <a:xfrm>
                  <a:off x="1581120" y="5640120"/>
                  <a:ext cx="218880" cy="218880"/>
                </a:xfrm>
                <a:prstGeom prst="ellipse">
                  <a:avLst/>
                </a:prstGeom>
                <a:solidFill>
                  <a:srgbClr val="0029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5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Rectangle 13"/>
            <p:cNvSpPr/>
            <p:nvPr/>
          </p:nvSpPr>
          <p:spPr>
            <a:xfrm>
              <a:off x="3544920" y="5649840"/>
              <a:ext cx="529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Aumentar los ingresos tributarios para financiar nuevas inversion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59"/>
          <p:cNvGrpSpPr/>
          <p:nvPr/>
        </p:nvGrpSpPr>
        <p:grpSpPr>
          <a:xfrm>
            <a:off x="1535040" y="3268800"/>
            <a:ext cx="7307280" cy="765000"/>
            <a:chOff x="1535040" y="3268800"/>
            <a:chExt cx="7307280" cy="765000"/>
          </a:xfrm>
        </p:grpSpPr>
        <p:grpSp>
          <p:nvGrpSpPr>
            <p:cNvPr id="270" name="Group 58"/>
            <p:cNvGrpSpPr/>
            <p:nvPr/>
          </p:nvGrpSpPr>
          <p:grpSpPr>
            <a:xfrm>
              <a:off x="1535040" y="3268800"/>
              <a:ext cx="1765440" cy="765000"/>
              <a:chOff x="1535040" y="3268800"/>
              <a:chExt cx="1765440" cy="765000"/>
            </a:xfrm>
          </p:grpSpPr>
          <p:sp>
            <p:nvSpPr>
              <p:cNvPr id="271" name="Rectangle 5"/>
              <p:cNvSpPr/>
              <p:nvPr/>
            </p:nvSpPr>
            <p:spPr>
              <a:xfrm>
                <a:off x="1535040" y="3268800"/>
                <a:ext cx="1765440" cy="765000"/>
              </a:xfrm>
              <a:prstGeom prst="rect">
                <a:avLst/>
              </a:prstGeom>
              <a:solidFill>
                <a:srgbClr val="c7e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Group 41"/>
              <p:cNvGrpSpPr/>
              <p:nvPr/>
            </p:nvGrpSpPr>
            <p:grpSpPr>
              <a:xfrm>
                <a:off x="1581120" y="3308040"/>
                <a:ext cx="1693800" cy="685080"/>
                <a:chOff x="1581120" y="3308040"/>
                <a:chExt cx="1693800" cy="685080"/>
              </a:xfrm>
            </p:grpSpPr>
            <p:sp>
              <p:nvSpPr>
                <p:cNvPr id="273" name="Rectangle 15"/>
                <p:cNvSpPr/>
                <p:nvPr/>
              </p:nvSpPr>
              <p:spPr>
                <a:xfrm>
                  <a:off x="1895400" y="3308040"/>
                  <a:ext cx="1379520" cy="6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s-ES" sz="1500" spc="-1" strike="noStrike">
                      <a:solidFill>
                        <a:srgbClr val="002960"/>
                      </a:solidFill>
                      <a:latin typeface="Arial"/>
                    </a:rPr>
                    <a:t>Mantener la competitividad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s-ES" sz="1500" spc="-1" strike="noStrike">
                      <a:solidFill>
                        <a:srgbClr val="002960"/>
                      </a:solidFill>
                      <a:latin typeface="Arial"/>
                    </a:rPr>
                    <a:t>de Panamá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6"/>
                <p:cNvSpPr/>
                <p:nvPr/>
              </p:nvSpPr>
              <p:spPr>
                <a:xfrm>
                  <a:off x="1581120" y="3541320"/>
                  <a:ext cx="219240" cy="218520"/>
                </a:xfrm>
                <a:prstGeom prst="ellipse">
                  <a:avLst/>
                </a:prstGeom>
                <a:solidFill>
                  <a:srgbClr val="0029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Rectangle 17"/>
            <p:cNvSpPr/>
            <p:nvPr/>
          </p:nvSpPr>
          <p:spPr>
            <a:xfrm>
              <a:off x="3544920" y="3452760"/>
              <a:ext cx="5297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Asegurar que los impuestos sean iguales o inferiores a los países competido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3"/>
          <p:cNvGrpSpPr/>
          <p:nvPr/>
        </p:nvGrpSpPr>
        <p:grpSpPr>
          <a:xfrm>
            <a:off x="1535040" y="2049480"/>
            <a:ext cx="7307280" cy="961920"/>
            <a:chOff x="1535040" y="2049480"/>
            <a:chExt cx="7307280" cy="961920"/>
          </a:xfrm>
        </p:grpSpPr>
        <p:grpSp>
          <p:nvGrpSpPr>
            <p:cNvPr id="277" name="Group 41"/>
            <p:cNvGrpSpPr/>
            <p:nvPr/>
          </p:nvGrpSpPr>
          <p:grpSpPr>
            <a:xfrm>
              <a:off x="1535040" y="2049480"/>
              <a:ext cx="1765440" cy="961920"/>
              <a:chOff x="1535040" y="2049480"/>
              <a:chExt cx="1765440" cy="961920"/>
            </a:xfrm>
          </p:grpSpPr>
          <p:sp>
            <p:nvSpPr>
              <p:cNvPr id="278" name="Rectangle 4"/>
              <p:cNvSpPr/>
              <p:nvPr/>
            </p:nvSpPr>
            <p:spPr>
              <a:xfrm>
                <a:off x="1535040" y="2049480"/>
                <a:ext cx="1765440" cy="961920"/>
              </a:xfrm>
              <a:prstGeom prst="rect">
                <a:avLst/>
              </a:prstGeom>
              <a:solidFill>
                <a:srgbClr val="c7e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42"/>
              <p:cNvGrpSpPr/>
              <p:nvPr/>
            </p:nvGrpSpPr>
            <p:grpSpPr>
              <a:xfrm>
                <a:off x="1581120" y="2301840"/>
                <a:ext cx="1603440" cy="456840"/>
                <a:chOff x="1581120" y="2301840"/>
                <a:chExt cx="1603440" cy="456840"/>
              </a:xfrm>
            </p:grpSpPr>
            <p:sp>
              <p:nvSpPr>
                <p:cNvPr id="280" name="Rectangle 19"/>
                <p:cNvSpPr/>
                <p:nvPr/>
              </p:nvSpPr>
              <p:spPr>
                <a:xfrm>
                  <a:off x="1895400" y="2301840"/>
                  <a:ext cx="128916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s-ES" sz="1500" spc="-1" strike="noStrike">
                      <a:solidFill>
                        <a:srgbClr val="002960"/>
                      </a:solidFill>
                      <a:latin typeface="Arial"/>
                    </a:rPr>
                    <a:t>Promover la equidad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0"/>
                <p:cNvSpPr/>
                <p:nvPr/>
              </p:nvSpPr>
              <p:spPr>
                <a:xfrm>
                  <a:off x="1581120" y="2420640"/>
                  <a:ext cx="219240" cy="218520"/>
                </a:xfrm>
                <a:prstGeom prst="ellipse">
                  <a:avLst/>
                </a:prstGeom>
                <a:solidFill>
                  <a:srgbClr val="0029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5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2" name="Rectangle 21"/>
            <p:cNvSpPr/>
            <p:nvPr/>
          </p:nvSpPr>
          <p:spPr>
            <a:xfrm>
              <a:off x="3544920" y="2082600"/>
              <a:ext cx="529740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00000"/>
                </a:lnSpc>
                <a:spcAft>
                  <a:spcPts val="81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Asegurar que todos los sectores comerciales paguen tasas efectivas de impuestos razonables y simila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Asegurar que las personas sean gravadas de acuerdo a su capacidad de pag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61"/>
          <p:cNvGrpSpPr/>
          <p:nvPr/>
        </p:nvGrpSpPr>
        <p:grpSpPr>
          <a:xfrm>
            <a:off x="1535040" y="4289400"/>
            <a:ext cx="6829560" cy="816120"/>
            <a:chOff x="1535040" y="4289400"/>
            <a:chExt cx="6829560" cy="816120"/>
          </a:xfrm>
        </p:grpSpPr>
        <p:grpSp>
          <p:nvGrpSpPr>
            <p:cNvPr id="284" name="Group 60"/>
            <p:cNvGrpSpPr/>
            <p:nvPr/>
          </p:nvGrpSpPr>
          <p:grpSpPr>
            <a:xfrm>
              <a:off x="1535040" y="4289400"/>
              <a:ext cx="1765440" cy="816120"/>
              <a:chOff x="1535040" y="4289400"/>
              <a:chExt cx="1765440" cy="816120"/>
            </a:xfrm>
          </p:grpSpPr>
          <p:sp>
            <p:nvSpPr>
              <p:cNvPr id="285" name="Rectangle 6"/>
              <p:cNvSpPr/>
              <p:nvPr/>
            </p:nvSpPr>
            <p:spPr>
              <a:xfrm>
                <a:off x="1535040" y="4289400"/>
                <a:ext cx="1765440" cy="816120"/>
              </a:xfrm>
              <a:prstGeom prst="rect">
                <a:avLst/>
              </a:prstGeom>
              <a:solidFill>
                <a:srgbClr val="c7e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Group 40"/>
              <p:cNvGrpSpPr/>
              <p:nvPr/>
            </p:nvGrpSpPr>
            <p:grpSpPr>
              <a:xfrm>
                <a:off x="1581120" y="4354920"/>
                <a:ext cx="1603440" cy="685080"/>
                <a:chOff x="1581120" y="4354920"/>
                <a:chExt cx="1603440" cy="685080"/>
              </a:xfrm>
            </p:grpSpPr>
            <p:sp>
              <p:nvSpPr>
                <p:cNvPr id="287" name="Rectangle 23"/>
                <p:cNvSpPr/>
                <p:nvPr/>
              </p:nvSpPr>
              <p:spPr>
                <a:xfrm>
                  <a:off x="1895400" y="4354920"/>
                  <a:ext cx="1289160" cy="6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s-ES" sz="1500" spc="-1" strike="noStrike">
                      <a:solidFill>
                        <a:srgbClr val="002960"/>
                      </a:solidFill>
                      <a:latin typeface="Arial"/>
                    </a:rPr>
                    <a:t>Aumentar la eficacia en la recaudación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4"/>
                <p:cNvSpPr/>
                <p:nvPr/>
              </p:nvSpPr>
              <p:spPr>
                <a:xfrm>
                  <a:off x="1581120" y="4587840"/>
                  <a:ext cx="219240" cy="218880"/>
                </a:xfrm>
                <a:prstGeom prst="ellipse">
                  <a:avLst/>
                </a:prstGeom>
                <a:solidFill>
                  <a:srgbClr val="0029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5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Rectangle 25"/>
            <p:cNvSpPr/>
            <p:nvPr/>
          </p:nvSpPr>
          <p:spPr>
            <a:xfrm>
              <a:off x="3544920" y="4349880"/>
              <a:ext cx="4819680" cy="6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3680" indent="-192240">
                <a:lnSpc>
                  <a:spcPct val="100000"/>
                </a:lnSpc>
                <a:spcAft>
                  <a:spcPts val="81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Eliminar los impuestos onerosos que no aumentan significativamente los ingresos fisca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93680" indent="-192240">
                <a:lnSpc>
                  <a:spcPct val="100000"/>
                </a:lnSpc>
                <a:spcAft>
                  <a:spcPts val="814"/>
                </a:spcAft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Hacer los impuestos más fáciles de calcular, pagar, y audita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57"/>
          <p:cNvGrpSpPr/>
          <p:nvPr/>
        </p:nvGrpSpPr>
        <p:grpSpPr>
          <a:xfrm>
            <a:off x="1535040" y="660240"/>
            <a:ext cx="7307280" cy="1133280"/>
            <a:chOff x="1535040" y="660240"/>
            <a:chExt cx="7307280" cy="1133280"/>
          </a:xfrm>
        </p:grpSpPr>
        <p:grpSp>
          <p:nvGrpSpPr>
            <p:cNvPr id="291" name="Group 56"/>
            <p:cNvGrpSpPr/>
            <p:nvPr/>
          </p:nvGrpSpPr>
          <p:grpSpPr>
            <a:xfrm>
              <a:off x="1535040" y="660240"/>
              <a:ext cx="1765440" cy="1133280"/>
              <a:chOff x="1535040" y="660240"/>
              <a:chExt cx="1765440" cy="1133280"/>
            </a:xfrm>
          </p:grpSpPr>
          <p:sp>
            <p:nvSpPr>
              <p:cNvPr id="292" name="Rectangle 3"/>
              <p:cNvSpPr/>
              <p:nvPr/>
            </p:nvSpPr>
            <p:spPr>
              <a:xfrm>
                <a:off x="1535040" y="660240"/>
                <a:ext cx="1765440" cy="1133280"/>
              </a:xfrm>
              <a:prstGeom prst="rect">
                <a:avLst/>
              </a:prstGeom>
              <a:solidFill>
                <a:srgbClr val="c7e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Group 43"/>
              <p:cNvGrpSpPr/>
              <p:nvPr/>
            </p:nvGrpSpPr>
            <p:grpSpPr>
              <a:xfrm>
                <a:off x="1581120" y="884520"/>
                <a:ext cx="1704960" cy="685080"/>
                <a:chOff x="1581120" y="884520"/>
                <a:chExt cx="1704960" cy="685080"/>
              </a:xfrm>
            </p:grpSpPr>
            <p:sp>
              <p:nvSpPr>
                <p:cNvPr id="294" name="Rectangle 27"/>
                <p:cNvSpPr/>
                <p:nvPr/>
              </p:nvSpPr>
              <p:spPr>
                <a:xfrm>
                  <a:off x="1895400" y="884520"/>
                  <a:ext cx="1390680" cy="6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s-ES" sz="1500" spc="-1" strike="noStrike">
                      <a:solidFill>
                        <a:srgbClr val="002960"/>
                      </a:solidFill>
                      <a:latin typeface="Arial"/>
                    </a:rPr>
                    <a:t>Cumplir con las Promesas del Gobierno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8"/>
                <p:cNvSpPr/>
                <p:nvPr/>
              </p:nvSpPr>
              <p:spPr>
                <a:xfrm>
                  <a:off x="1581120" y="1117800"/>
                  <a:ext cx="219240" cy="218880"/>
                </a:xfrm>
                <a:prstGeom prst="ellipse">
                  <a:avLst/>
                </a:prstGeom>
                <a:solidFill>
                  <a:srgbClr val="0029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5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6" name="Rectangle 29"/>
            <p:cNvSpPr/>
            <p:nvPr/>
          </p:nvSpPr>
          <p:spPr>
            <a:xfrm>
              <a:off x="3544920" y="679320"/>
              <a:ext cx="5297400" cy="11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>
                <a:spcBef>
                  <a:spcPts val="814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Disminuir los impuestos a personas naturales y jurídic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spcBef>
                  <a:spcPts val="814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Simplificar impuest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spcBef>
                  <a:spcPts val="814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300" spc="-1" strike="noStrike">
                  <a:solidFill>
                    <a:srgbClr val="000000"/>
                  </a:solidFill>
                  <a:latin typeface="Arial"/>
                </a:rPr>
                <a:t>Crear un Tribunal Administrativo Tributari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spcBef>
                  <a:spcPts val="814"/>
                </a:spcBef>
                <a:buClr>
                  <a:srgbClr val="002960"/>
                </a:buClr>
                <a:buSzPct val="125000"/>
                <a:buFont typeface="Arial"/>
                <a:buChar char="▪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300" spc="-1" strike="noStrike">
                  <a:solidFill>
                    <a:srgbClr val="000000"/>
                  </a:solidFill>
                  <a:latin typeface="Arial"/>
                </a:rPr>
                <a:t>Eliminar el CAI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Line 30"/>
          <p:cNvSpPr/>
          <p:nvPr/>
        </p:nvSpPr>
        <p:spPr>
          <a:xfrm>
            <a:off x="3449520" y="1920960"/>
            <a:ext cx="530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1"/>
          <p:cNvSpPr/>
          <p:nvPr/>
        </p:nvSpPr>
        <p:spPr>
          <a:xfrm>
            <a:off x="3449520" y="3139920"/>
            <a:ext cx="530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2"/>
          <p:cNvSpPr/>
          <p:nvPr/>
        </p:nvSpPr>
        <p:spPr>
          <a:xfrm>
            <a:off x="3449520" y="4160880"/>
            <a:ext cx="530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3"/>
          <p:cNvSpPr/>
          <p:nvPr/>
        </p:nvSpPr>
        <p:spPr>
          <a:xfrm>
            <a:off x="3449520" y="5234040"/>
            <a:ext cx="530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1"/>
          <p:cNvGrpSpPr/>
          <p:nvPr/>
        </p:nvGrpSpPr>
        <p:grpSpPr>
          <a:xfrm>
            <a:off x="176040" y="748800"/>
            <a:ext cx="1282680" cy="5256360"/>
            <a:chOff x="176040" y="748800"/>
            <a:chExt cx="1282680" cy="5256360"/>
          </a:xfrm>
        </p:grpSpPr>
        <p:sp>
          <p:nvSpPr>
            <p:cNvPr id="302" name="AutoShape 9"/>
            <p:cNvSpPr/>
            <p:nvPr/>
          </p:nvSpPr>
          <p:spPr>
            <a:xfrm>
              <a:off x="176040" y="2822760"/>
              <a:ext cx="1081080" cy="1106280"/>
            </a:xfrm>
            <a:custGeom>
              <a:avLst/>
              <a:gdLst>
                <a:gd name="textAreaLeft" fmla="*/ 38160 w 1081080"/>
                <a:gd name="textAreaRight" fmla="*/ 1042920 w 1081080"/>
                <a:gd name="textAreaTop" fmla="*/ 38160 h 1106280"/>
                <a:gd name="textAreaBottom" fmla="*/ 1068120 h 1106280"/>
              </a:gdLst>
              <a:ahLst/>
              <a:rect l="textAreaLeft" t="textAreaTop" r="textAreaRight" b="textAreaBottom"/>
              <a:pathLst>
                <a:path w="21600" h="22103">
                  <a:moveTo>
                    <a:pt x="2622" y="0"/>
                  </a:moveTo>
                  <a:arcTo wR="2622" hR="2622" stAng="16200000" swAng="-5400000"/>
                  <a:lnTo>
                    <a:pt x="0" y="19481"/>
                  </a:lnTo>
                  <a:arcTo wR="2622" hR="2622" stAng="10800000" swAng="-5400000"/>
                  <a:lnTo>
                    <a:pt x="18978" y="22103"/>
                  </a:lnTo>
                  <a:arcTo wR="2622" hR="2622" stAng="5400000" swAng="-5400000"/>
                  <a:lnTo>
                    <a:pt x="21600" y="2622"/>
                  </a:lnTo>
                  <a:arcTo wR="2622" hR="2622" stAng="0" swAng="-5400000"/>
                  <a:close/>
                </a:path>
              </a:pathLst>
            </a:custGeom>
            <a:solidFill>
              <a:srgbClr val="c7e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0"/>
            <p:cNvSpPr/>
            <p:nvPr/>
          </p:nvSpPr>
          <p:spPr>
            <a:xfrm rot="16200000">
              <a:off x="-1490400" y="3055680"/>
              <a:ext cx="5256360" cy="642600"/>
            </a:xfrm>
            <a:prstGeom prst="triangle">
              <a:avLst>
                <a:gd name="adj" fmla="val 50000"/>
              </a:avLst>
            </a:prstGeom>
            <a:solidFill>
              <a:srgbClr val="c7e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4"/>
            <p:cNvSpPr/>
            <p:nvPr/>
          </p:nvSpPr>
          <p:spPr>
            <a:xfrm>
              <a:off x="190440" y="3034080"/>
              <a:ext cx="120492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500" spc="-1" strike="noStrike">
                  <a:solidFill>
                    <a:srgbClr val="002960"/>
                  </a:solidFill>
                  <a:latin typeface="Arial"/>
                </a:rPr>
                <a:t>Objetivos de la reforma fisc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82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160" y="2460600"/>
            <a:ext cx="86184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3300" spc="-1" strike="noStrike">
                <a:solidFill>
                  <a:srgbClr val="002960"/>
                </a:solidFill>
                <a:latin typeface="Arial"/>
              </a:rPr>
              <a:t>Impuesto sobre la Renta</a:t>
            </a:r>
            <a:br>
              <a:rPr sz="3300"/>
            </a:br>
            <a:r>
              <a:rPr b="1" lang="es-PA" sz="3300" spc="-1" strike="noStrike">
                <a:solidFill>
                  <a:srgbClr val="002960"/>
                </a:solidFill>
                <a:latin typeface="Arial"/>
              </a:rPr>
              <a:t>de Personas Naturales</a:t>
            </a:r>
            <a:endParaRPr b="1" lang="en-US" sz="33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35800" y="6381720"/>
            <a:ext cx="209880" cy="23184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5F79-B918-426A-8A98-8336150A0D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0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Comparación de Impuestos sobre la Renta de Personas en Latinoamérica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12" name="McK 5. Source"/>
          <p:cNvSpPr/>
          <p:nvPr/>
        </p:nvSpPr>
        <p:spPr>
          <a:xfrm>
            <a:off x="119160" y="6354720"/>
            <a:ext cx="686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*BRIC: Brasil, Rusia, India y Ch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Fuente: PWC y KPM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9"/>
          <p:cNvSpPr/>
          <p:nvPr/>
        </p:nvSpPr>
        <p:spPr>
          <a:xfrm>
            <a:off x="6642000" y="2622600"/>
            <a:ext cx="19036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700" spc="-1" strike="noStrike">
                <a:solidFill>
                  <a:srgbClr val="000000"/>
                </a:solidFill>
                <a:latin typeface="Arial"/>
              </a:rPr>
              <a:t>Panamá tiene una tasa de impuesto progresiva desde un rango con una tasa mínima de 0%, hasta un rango con una tasa máxima de 27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0"/>
          <p:cNvSpPr/>
          <p:nvPr/>
        </p:nvSpPr>
        <p:spPr>
          <a:xfrm rot="5400000">
            <a:off x="4820040" y="3520080"/>
            <a:ext cx="3108240" cy="274680"/>
          </a:xfrm>
          <a:prstGeom prst="triangle">
            <a:avLst>
              <a:gd name="adj" fmla="val 50000"/>
            </a:avLst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2"/>
          <p:cNvGrpSpPr/>
          <p:nvPr/>
        </p:nvGrpSpPr>
        <p:grpSpPr>
          <a:xfrm>
            <a:off x="6437160" y="992160"/>
            <a:ext cx="581040" cy="692280"/>
            <a:chOff x="6437160" y="992160"/>
            <a:chExt cx="581040" cy="692280"/>
          </a:xfrm>
        </p:grpSpPr>
        <p:sp>
          <p:nvSpPr>
            <p:cNvPr id="316" name="Rectangle 93"/>
            <p:cNvSpPr/>
            <p:nvPr/>
          </p:nvSpPr>
          <p:spPr>
            <a:xfrm>
              <a:off x="6438960" y="995400"/>
              <a:ext cx="164880" cy="1652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0"/>
            <p:cNvSpPr/>
            <p:nvPr/>
          </p:nvSpPr>
          <p:spPr>
            <a:xfrm>
              <a:off x="6681960" y="992160"/>
              <a:ext cx="3362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sa Míni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2"/>
            <p:cNvSpPr/>
            <p:nvPr/>
          </p:nvSpPr>
          <p:spPr>
            <a:xfrm>
              <a:off x="6681960" y="1263600"/>
              <a:ext cx="3362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sa Máxi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45"/>
            <p:cNvSpPr/>
            <p:nvPr/>
          </p:nvSpPr>
          <p:spPr>
            <a:xfrm>
              <a:off x="6437160" y="1252440"/>
              <a:ext cx="168480" cy="155520"/>
            </a:xfrm>
            <a:prstGeom prst="rect">
              <a:avLst/>
            </a:prstGeom>
            <a:solidFill>
              <a:srgbClr val="9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45"/>
            <p:cNvSpPr/>
            <p:nvPr/>
          </p:nvSpPr>
          <p:spPr>
            <a:xfrm>
              <a:off x="6438960" y="1504800"/>
              <a:ext cx="168120" cy="155880"/>
            </a:xfrm>
            <a:prstGeom prst="rect">
              <a:avLst/>
            </a:prstGeom>
            <a:solidFill>
              <a:srgbClr val="0029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2"/>
            <p:cNvSpPr/>
            <p:nvPr/>
          </p:nvSpPr>
          <p:spPr>
            <a:xfrm>
              <a:off x="6681960" y="1501920"/>
              <a:ext cx="3362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edio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2" name="Object 22"/>
          <p:cNvGraphicFramePr/>
          <p:nvPr/>
        </p:nvGraphicFramePr>
        <p:xfrm>
          <a:off x="2419200" y="1446120"/>
          <a:ext cx="350388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9200" y="1446120"/>
                    <a:ext cx="350388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Rectangle 53"/>
          <p:cNvSpPr/>
          <p:nvPr/>
        </p:nvSpPr>
        <p:spPr>
          <a:xfrm>
            <a:off x="2570040" y="876240"/>
            <a:ext cx="3489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002960"/>
                </a:solidFill>
                <a:latin typeface="Arial"/>
              </a:rPr>
              <a:t>Impuesto sobre la Renta para pers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</a:rPr>
              <a:t>Porcentajes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4"/>
          <p:cNvSpPr/>
          <p:nvPr/>
        </p:nvSpPr>
        <p:spPr>
          <a:xfrm>
            <a:off x="2543040" y="1379520"/>
            <a:ext cx="3516480" cy="0"/>
          </a:xfrm>
          <a:prstGeom prst="line">
            <a:avLst/>
          </a:prstGeom>
          <a:ln w="2556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1244520" y="4383000"/>
            <a:ext cx="57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Méx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4079880" y="438300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2492280" y="4383000"/>
            <a:ext cx="142920" cy="21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6"/>
          <p:cNvSpPr/>
          <p:nvPr/>
        </p:nvSpPr>
        <p:spPr>
          <a:xfrm>
            <a:off x="1244520" y="4068720"/>
            <a:ext cx="762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4441680" y="4068720"/>
            <a:ext cx="241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8"/>
          <p:cNvSpPr/>
          <p:nvPr/>
        </p:nvSpPr>
        <p:spPr>
          <a:xfrm>
            <a:off x="2492280" y="4068720"/>
            <a:ext cx="142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9"/>
          <p:cNvSpPr/>
          <p:nvPr/>
        </p:nvSpPr>
        <p:spPr>
          <a:xfrm>
            <a:off x="1244520" y="3754440"/>
            <a:ext cx="1127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R Domini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5156280" y="375444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2530440" y="3754440"/>
            <a:ext cx="142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1244520" y="3440160"/>
            <a:ext cx="417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3"/>
          <p:cNvSpPr/>
          <p:nvPr/>
        </p:nvSpPr>
        <p:spPr>
          <a:xfrm>
            <a:off x="4065480" y="3440160"/>
            <a:ext cx="241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4"/>
          <p:cNvSpPr/>
          <p:nvPr/>
        </p:nvSpPr>
        <p:spPr>
          <a:xfrm>
            <a:off x="3324240" y="34401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1244520" y="313056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6"/>
          <p:cNvSpPr/>
          <p:nvPr/>
        </p:nvSpPr>
        <p:spPr>
          <a:xfrm>
            <a:off x="4441680" y="3130560"/>
            <a:ext cx="241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7"/>
          <p:cNvSpPr/>
          <p:nvPr/>
        </p:nvSpPr>
        <p:spPr>
          <a:xfrm>
            <a:off x="2943360" y="31449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8"/>
          <p:cNvSpPr/>
          <p:nvPr/>
        </p:nvSpPr>
        <p:spPr>
          <a:xfrm>
            <a:off x="1244520" y="2820960"/>
            <a:ext cx="771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Argen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9"/>
          <p:cNvSpPr/>
          <p:nvPr/>
        </p:nvSpPr>
        <p:spPr>
          <a:xfrm>
            <a:off x="4094280" y="28209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0"/>
          <p:cNvSpPr/>
          <p:nvPr/>
        </p:nvSpPr>
        <p:spPr>
          <a:xfrm>
            <a:off x="2943360" y="28353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1"/>
          <p:cNvSpPr/>
          <p:nvPr/>
        </p:nvSpPr>
        <p:spPr>
          <a:xfrm>
            <a:off x="1244520" y="2506680"/>
            <a:ext cx="87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Guate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1244520" y="2192400"/>
            <a:ext cx="92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El Salv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5"/>
          <p:cNvSpPr/>
          <p:nvPr/>
        </p:nvSpPr>
        <p:spPr>
          <a:xfrm>
            <a:off x="5532480" y="2206800"/>
            <a:ext cx="241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2673360" y="2206800"/>
            <a:ext cx="1429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7"/>
          <p:cNvSpPr/>
          <p:nvPr/>
        </p:nvSpPr>
        <p:spPr>
          <a:xfrm>
            <a:off x="1244520" y="1878120"/>
            <a:ext cx="881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Costa 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8"/>
          <p:cNvSpPr/>
          <p:nvPr/>
        </p:nvSpPr>
        <p:spPr>
          <a:xfrm>
            <a:off x="4246560" y="18921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9"/>
          <p:cNvSpPr/>
          <p:nvPr/>
        </p:nvSpPr>
        <p:spPr>
          <a:xfrm>
            <a:off x="3324240" y="18921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0"/>
          <p:cNvSpPr/>
          <p:nvPr/>
        </p:nvSpPr>
        <p:spPr>
          <a:xfrm>
            <a:off x="1244520" y="1563840"/>
            <a:ext cx="673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Panam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1"/>
          <p:cNvSpPr/>
          <p:nvPr/>
        </p:nvSpPr>
        <p:spPr>
          <a:xfrm>
            <a:off x="4222800" y="159228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2"/>
          <p:cNvSpPr/>
          <p:nvPr/>
        </p:nvSpPr>
        <p:spPr>
          <a:xfrm>
            <a:off x="2492280" y="1592280"/>
            <a:ext cx="142920" cy="21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55"/>
          <p:cNvGraphicFramePr/>
          <p:nvPr/>
        </p:nvGraphicFramePr>
        <p:xfrm>
          <a:off x="2419200" y="4778280"/>
          <a:ext cx="3011760" cy="13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778280"/>
                    <a:ext cx="301176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Rectangle 58"/>
          <p:cNvSpPr/>
          <p:nvPr/>
        </p:nvSpPr>
        <p:spPr>
          <a:xfrm>
            <a:off x="1219320" y="5508720"/>
            <a:ext cx="561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BRIC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1219320" y="5199120"/>
            <a:ext cx="527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OC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6"/>
          <p:cNvSpPr/>
          <p:nvPr/>
        </p:nvSpPr>
        <p:spPr>
          <a:xfrm>
            <a:off x="1219320" y="4889520"/>
            <a:ext cx="1242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400" spc="-1" strike="noStrike">
                <a:solidFill>
                  <a:srgbClr val="000000"/>
                </a:solidFill>
                <a:latin typeface="Arial"/>
                <a:ea typeface="Arial"/>
              </a:rPr>
              <a:t>Latinoamérica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0"/>
          <p:cNvSpPr/>
          <p:nvPr/>
        </p:nvSpPr>
        <p:spPr>
          <a:xfrm>
            <a:off x="4799160" y="252108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- Perso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c7e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F5F1-79F4-4951-AB98-8143774A44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3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- Perso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63"/>
          <p:cNvGrpSpPr/>
          <p:nvPr/>
        </p:nvGrpSpPr>
        <p:grpSpPr>
          <a:xfrm>
            <a:off x="1116000" y="1095480"/>
            <a:ext cx="6730920" cy="4154400"/>
            <a:chOff x="1116000" y="1095480"/>
            <a:chExt cx="6730920" cy="4154400"/>
          </a:xfrm>
        </p:grpSpPr>
        <p:sp>
          <p:nvSpPr>
            <p:cNvPr id="367" name="Rectangle 11"/>
            <p:cNvSpPr/>
            <p:nvPr/>
          </p:nvSpPr>
          <p:spPr>
            <a:xfrm>
              <a:off x="1850760" y="1289160"/>
              <a:ext cx="5996160" cy="395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"/>
            <p:cNvSpPr/>
            <p:nvPr/>
          </p:nvSpPr>
          <p:spPr>
            <a:xfrm>
              <a:off x="2543040" y="1095480"/>
              <a:ext cx="160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2960"/>
                  </a:solidFill>
                  <a:latin typeface="Arial"/>
                </a:rPr>
                <a:t>Situación Act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"/>
            <p:cNvSpPr/>
            <p:nvPr/>
          </p:nvSpPr>
          <p:spPr>
            <a:xfrm>
              <a:off x="5510160" y="1095480"/>
              <a:ext cx="160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ES" sz="1400" spc="-1" strike="noStrike">
                  <a:solidFill>
                    <a:srgbClr val="002960"/>
                  </a:solidFill>
                  <a:latin typeface="Arial"/>
                </a:rPr>
                <a:t>Propue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3"/>
            <p:cNvSpPr/>
            <p:nvPr/>
          </p:nvSpPr>
          <p:spPr>
            <a:xfrm>
              <a:off x="4851360" y="1290960"/>
              <a:ext cx="0" cy="3958920"/>
            </a:xfrm>
            <a:prstGeom prst="line">
              <a:avLst/>
            </a:prstGeom>
            <a:ln w="255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59"/>
            <p:cNvGrpSpPr/>
            <p:nvPr/>
          </p:nvGrpSpPr>
          <p:grpSpPr>
            <a:xfrm>
              <a:off x="1116000" y="1729080"/>
              <a:ext cx="1046160" cy="1431720"/>
              <a:chOff x="1116000" y="1729080"/>
              <a:chExt cx="1046160" cy="1431720"/>
            </a:xfrm>
          </p:grpSpPr>
          <p:sp>
            <p:nvSpPr>
              <p:cNvPr id="372" name="Freeform 14"/>
              <p:cNvSpPr/>
              <p:nvPr/>
            </p:nvSpPr>
            <p:spPr>
              <a:xfrm>
                <a:off x="1116000" y="1729080"/>
                <a:ext cx="1046160" cy="143172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431720"/>
                  <a:gd name="textAreaBottom" fmla="*/ 1432080 h 1431720"/>
                </a:gdLst>
                <a:ahLst/>
                <a:rect l="textAreaLeft" t="textAreaTop" r="textAreaRight" b="textAreaBottom"/>
                <a:pathLst>
                  <a:path w="1152" h="576">
                    <a:moveTo>
                      <a:pt x="0" y="0"/>
                    </a:moveTo>
                    <a:lnTo>
                      <a:pt x="1048" y="0"/>
                    </a:lnTo>
                    <a:lnTo>
                      <a:pt x="1152" y="288"/>
                    </a:lnTo>
                    <a:lnTo>
                      <a:pt x="1048" y="576"/>
                    </a:lnTo>
                    <a:lnTo>
                      <a:pt x="0" y="576"/>
                    </a:lnTo>
                    <a:lnTo>
                      <a:pt x="0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e0f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7"/>
              <p:cNvSpPr/>
              <p:nvPr/>
            </p:nvSpPr>
            <p:spPr>
              <a:xfrm>
                <a:off x="1181160" y="2125800"/>
                <a:ext cx="8395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ES" sz="1400" spc="-1" strike="noStrike">
                    <a:solidFill>
                      <a:srgbClr val="002960"/>
                    </a:solidFill>
                    <a:latin typeface="Arial"/>
                  </a:rPr>
                  <a:t>Renta Neta Gravabl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60"/>
            <p:cNvGrpSpPr/>
            <p:nvPr/>
          </p:nvGrpSpPr>
          <p:grpSpPr>
            <a:xfrm>
              <a:off x="1116000" y="3711600"/>
              <a:ext cx="1046160" cy="1431720"/>
              <a:chOff x="1116000" y="3711600"/>
              <a:chExt cx="1046160" cy="1431720"/>
            </a:xfrm>
          </p:grpSpPr>
          <p:sp>
            <p:nvSpPr>
              <p:cNvPr id="375" name="Freeform 14"/>
              <p:cNvSpPr/>
              <p:nvPr/>
            </p:nvSpPr>
            <p:spPr>
              <a:xfrm>
                <a:off x="1116000" y="3711600"/>
                <a:ext cx="1046160" cy="143172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431720"/>
                  <a:gd name="textAreaBottom" fmla="*/ 1432080 h 1431720"/>
                </a:gdLst>
                <a:ahLst/>
                <a:rect l="textAreaLeft" t="textAreaTop" r="textAreaRight" b="textAreaBottom"/>
                <a:pathLst>
                  <a:path w="1152" h="576">
                    <a:moveTo>
                      <a:pt x="0" y="0"/>
                    </a:moveTo>
                    <a:lnTo>
                      <a:pt x="1048" y="0"/>
                    </a:lnTo>
                    <a:lnTo>
                      <a:pt x="1152" y="288"/>
                    </a:lnTo>
                    <a:lnTo>
                      <a:pt x="1048" y="576"/>
                    </a:lnTo>
                    <a:lnTo>
                      <a:pt x="0" y="576"/>
                    </a:lnTo>
                    <a:lnTo>
                      <a:pt x="0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e0f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7"/>
              <p:cNvSpPr/>
              <p:nvPr/>
            </p:nvSpPr>
            <p:spPr>
              <a:xfrm>
                <a:off x="1181160" y="4002120"/>
                <a:ext cx="83952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s-ES" sz="1400" spc="-1" strike="noStrike">
                    <a:solidFill>
                      <a:srgbClr val="002960"/>
                    </a:solidFill>
                    <a:latin typeface="Arial"/>
                  </a:rPr>
                  <a:t>Gastos de Represen-tació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58"/>
            <p:cNvGrpSpPr/>
            <p:nvPr/>
          </p:nvGrpSpPr>
          <p:grpSpPr>
            <a:xfrm>
              <a:off x="2233440" y="4062600"/>
              <a:ext cx="5194440" cy="825840"/>
              <a:chOff x="2233440" y="4062600"/>
              <a:chExt cx="5194440" cy="825840"/>
            </a:xfrm>
          </p:grpSpPr>
          <p:sp>
            <p:nvSpPr>
              <p:cNvPr id="378" name="Rectangle 14"/>
              <p:cNvSpPr/>
              <p:nvPr/>
            </p:nvSpPr>
            <p:spPr>
              <a:xfrm>
                <a:off x="2233440" y="4062600"/>
                <a:ext cx="22287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Aft>
                    <a:spcPts val="751"/>
                  </a:spcAft>
                  <a:tabLst>
                    <a:tab algn="l" pos="0"/>
                    <a:tab algn="ctr" pos="89532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Todo el Gasto de Rep.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10.0 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"/>
              <p:cNvSpPr/>
              <p:nvPr/>
            </p:nvSpPr>
            <p:spPr>
              <a:xfrm>
                <a:off x="5199120" y="4062600"/>
                <a:ext cx="2228760" cy="82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25,000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10 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Más de 25,000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15 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Line 13"/>
            <p:cNvSpPr/>
            <p:nvPr/>
          </p:nvSpPr>
          <p:spPr>
            <a:xfrm flipH="1">
              <a:off x="1848960" y="3583080"/>
              <a:ext cx="5992920" cy="0"/>
            </a:xfrm>
            <a:prstGeom prst="line">
              <a:avLst/>
            </a:prstGeom>
            <a:ln w="25560">
              <a:solidFill>
                <a:srgbClr val="00296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2"/>
            <p:cNvGrpSpPr/>
            <p:nvPr/>
          </p:nvGrpSpPr>
          <p:grpSpPr>
            <a:xfrm>
              <a:off x="2233440" y="1459080"/>
              <a:ext cx="5572080" cy="2667600"/>
              <a:chOff x="2233440" y="1459080"/>
              <a:chExt cx="5572080" cy="2667600"/>
            </a:xfrm>
          </p:grpSpPr>
          <p:sp>
            <p:nvSpPr>
              <p:cNvPr id="382" name="Rectangle 14"/>
              <p:cNvSpPr/>
              <p:nvPr/>
            </p:nvSpPr>
            <p:spPr>
              <a:xfrm>
                <a:off x="2233440" y="1459080"/>
                <a:ext cx="2227320" cy="266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9,5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Ex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9,5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12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20.5 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12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15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21.5 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15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20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23.0 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20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30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24.0 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Más de 30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27.0 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5205240" y="1459080"/>
                <a:ext cx="2228760" cy="156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11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Ex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11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50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15 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Más de 50,000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A" sz="1200" spc="-1" strike="noStrike">
                    <a:solidFill>
                      <a:srgbClr val="000000"/>
                    </a:solidFill>
                    <a:latin typeface="Arial"/>
                  </a:rPr>
                  <a:t>25 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751"/>
                  </a:spcAft>
                  <a:tabLst>
                    <a:tab algn="l" pos="0"/>
                    <a:tab algn="l" pos="85680"/>
                    <a:tab algn="ctr" pos="447840"/>
                    <a:tab algn="ctr" pos="895320"/>
                    <a:tab algn="ctr" pos="1343160"/>
                    <a:tab algn="r" pos="251460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61"/>
              <p:cNvSpPr/>
              <p:nvPr/>
            </p:nvSpPr>
            <p:spPr>
              <a:xfrm>
                <a:off x="5005440" y="2409840"/>
                <a:ext cx="280008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marL="3240" indent="-3240"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Se eliminan la mayoría de exenciones, excepto: Gastos Médicos, Intereses Hipotecarios (hasta $15k), Fondos de Pensiones y Deducción Básica en el caso  de declaraciones conjuntas (sólo $800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Impuesto sobre la Renta de Personas Naturale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86" name="Text Box 34"/>
          <p:cNvSpPr/>
          <p:nvPr/>
        </p:nvSpPr>
        <p:spPr>
          <a:xfrm>
            <a:off x="2701800" y="5619600"/>
            <a:ext cx="3555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93680" indent="-192240"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100" spc="-1" strike="noStrike">
                <a:solidFill>
                  <a:srgbClr val="000000"/>
                </a:solidFill>
                <a:latin typeface="Arial"/>
              </a:rPr>
              <a:t>Estos cambios son retroactivos al 1 de Enero de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1666800" y="1523880"/>
            <a:ext cx="2387520" cy="393408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3"/>
          <p:cNvGraphicFramePr/>
          <p:nvPr/>
        </p:nvGraphicFramePr>
        <p:xfrm>
          <a:off x="368280" y="1454040"/>
          <a:ext cx="3770280" cy="41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454040"/>
                    <a:ext cx="377028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Rectangle 280"/>
          <p:cNvSpPr/>
          <p:nvPr/>
        </p:nvSpPr>
        <p:spPr>
          <a:xfrm>
            <a:off x="8545680" y="643104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C2BA-CE48-47F1-B89F-264A21C32D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900" spc="-1" strike="noStrike">
                <a:solidFill>
                  <a:srgbClr val="002960"/>
                </a:solidFill>
                <a:latin typeface="Arial"/>
              </a:rPr>
              <a:t>Disminución de ISR Personas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grpSp>
        <p:nvGrpSpPr>
          <p:cNvPr id="392" name="Group 5"/>
          <p:cNvGrpSpPr/>
          <p:nvPr/>
        </p:nvGrpSpPr>
        <p:grpSpPr>
          <a:xfrm>
            <a:off x="579240" y="814320"/>
            <a:ext cx="3835440" cy="383040"/>
            <a:chOff x="579240" y="814320"/>
            <a:chExt cx="3835440" cy="383040"/>
          </a:xfrm>
        </p:grpSpPr>
        <p:cxnSp>
          <p:nvCxnSpPr>
            <p:cNvPr id="393" name="AutoShape 6"/>
            <p:cNvCxnSpPr>
              <a:stCxn id="394" idx="0"/>
              <a:endCxn id="394" idx="1"/>
            </p:cNvCxnSpPr>
            <p:nvPr/>
          </p:nvCxnSpPr>
          <p:spPr>
            <a:xfrm>
              <a:off x="579240" y="1196640"/>
              <a:ext cx="3835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94" name="AutoShape 7"/>
            <p:cNvSpPr/>
            <p:nvPr/>
          </p:nvSpPr>
          <p:spPr>
            <a:xfrm>
              <a:off x="579600" y="814320"/>
              <a:ext cx="3835080" cy="38268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000" anchor="b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s-PA" sz="1200" spc="-1" strike="noStrike">
                  <a:solidFill>
                    <a:srgbClr val="000000"/>
                  </a:solidFill>
                  <a:latin typeface="Arial"/>
                </a:rPr>
                <a:t>Impuesto sobre la Renta de Personas Nat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s-PA" sz="1200" spc="-1" strike="noStrike">
                  <a:solidFill>
                    <a:srgbClr val="808080"/>
                  </a:solidFill>
                  <a:latin typeface="Arial"/>
                </a:rPr>
                <a:t>Individu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Line 8"/>
          <p:cNvSpPr/>
          <p:nvPr/>
        </p:nvSpPr>
        <p:spPr>
          <a:xfrm>
            <a:off x="1476360" y="157644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519120" y="5500800"/>
            <a:ext cx="9936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680" indent="-468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  <a:ea typeface="Arial"/>
              </a:rPr>
              <a:t>Pagan ISR actual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2684520" y="219384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1746360" y="5500800"/>
            <a:ext cx="9921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  <a:ea typeface="Arial"/>
              </a:rPr>
              <a:t>Totalmente exoner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2971800" y="5500800"/>
            <a:ext cx="9921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Arial"/>
                <a:ea typeface="Arial"/>
              </a:rPr>
              <a:t>Seguirán pagando ISR pero a una tasa más b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2081520" y="1278000"/>
            <a:ext cx="1578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1000" spc="-1" strike="noStrike">
                <a:solidFill>
                  <a:srgbClr val="000000"/>
                </a:solidFill>
                <a:latin typeface="Arial"/>
              </a:rPr>
              <a:t>Después de la Refo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 flipV="1">
            <a:off x="3917880" y="5144760"/>
            <a:ext cx="1351080" cy="26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7"/>
          <p:cNvSpPr/>
          <p:nvPr/>
        </p:nvSpPr>
        <p:spPr>
          <a:xfrm flipV="1">
            <a:off x="3938760" y="1060560"/>
            <a:ext cx="1319040" cy="112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2"/>
          <p:cNvSpPr/>
          <p:nvPr/>
        </p:nvSpPr>
        <p:spPr>
          <a:xfrm>
            <a:off x="6491160" y="6392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0000"/>
                </a:solidFill>
                <a:latin typeface="Arial"/>
              </a:rPr>
              <a:t>ISR - Perso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0" descr=""/>
          <p:cNvPicPr/>
          <p:nvPr/>
        </p:nvPicPr>
        <p:blipFill>
          <a:blip r:embed="rId3"/>
          <a:stretch/>
        </p:blipFill>
        <p:spPr>
          <a:xfrm>
            <a:off x="5234040" y="1023840"/>
            <a:ext cx="3219480" cy="414180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21"/>
          <p:cNvSpPr/>
          <p:nvPr/>
        </p:nvSpPr>
        <p:spPr>
          <a:xfrm>
            <a:off x="7885080" y="878040"/>
            <a:ext cx="339840" cy="384120"/>
          </a:xfrm>
          <a:prstGeom prst="downArrow">
            <a:avLst>
              <a:gd name="adj1" fmla="val 49537"/>
              <a:gd name="adj2" fmla="val 65096"/>
            </a:avLst>
          </a:prstGeom>
          <a:solidFill>
            <a:srgbClr val="00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9160" y="2460600"/>
            <a:ext cx="86184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PA" sz="3300" spc="-1" strike="noStrike">
                <a:solidFill>
                  <a:srgbClr val="002960"/>
                </a:solidFill>
                <a:latin typeface="Arial"/>
              </a:rPr>
              <a:t>Impuesto sobre la Renta</a:t>
            </a:r>
            <a:br>
              <a:rPr sz="3300"/>
            </a:br>
            <a:r>
              <a:rPr b="1" lang="es-PA" sz="3300" spc="-1" strike="noStrike">
                <a:solidFill>
                  <a:srgbClr val="002960"/>
                </a:solidFill>
                <a:latin typeface="Arial"/>
              </a:rPr>
              <a:t>de Empresas</a:t>
            </a:r>
            <a:endParaRPr b="1" lang="en-US" sz="33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8335800" y="6381720"/>
            <a:ext cx="209880" cy="231840"/>
          </a:xfrm>
          <a:prstGeom prst="rect">
            <a:avLst/>
          </a:prstGeom>
          <a:solidFill>
            <a:srgbClr val="c7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2960"/>
              </a:buClr>
              <a:buSzPct val="12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23:24:25Z</dcterms:created>
  <dc:creator>Ricardo Tribaldos Hernández</dc:creator>
  <dc:description>Upd gráfica canasta básica + Proporcionalidad</dc:description>
  <dc:language>en-US</dc:language>
  <cp:lastModifiedBy>irenec</cp:lastModifiedBy>
  <cp:lastPrinted>2009-10-15T20:40:54Z</cp:lastPrinted>
  <dcterms:modified xsi:type="dcterms:W3CDTF">2010-10-26T17:35:36Z</dcterms:modified>
  <cp:revision>1241</cp:revision>
  <dc:subject/>
  <dc:title>Reforma Fiscal 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</vt:lpwstr>
  </property>
  <property fmtid="{D5CDD505-2E9C-101B-9397-08002B2CF9AE}" pid="3" name="Approval Number">
    <vt:lpwstr>2568/OC-PN</vt:lpwstr>
  </property>
  <property fmtid="{D5CDD505-2E9C-101B-9397-08002B2CF9AE}" pid="4" name="Business Area">
    <vt:lpwstr/>
  </property>
  <property fmtid="{D5CDD505-2E9C-101B-9397-08002B2CF9AE}" pid="5" name="ContentTypeId">
    <vt:lpwstr>0x01010046CF21643EE8D14686A648AA6DAD089200EC43711F99065845BBED2C48CA2AB3CF</vt:lpwstr>
  </property>
  <property fmtid="{D5CDD505-2E9C-101B-9397-08002B2CF9AE}" pid="6" name="Country">
    <vt:lpwstr/>
  </property>
  <property fmtid="{D5CDD505-2E9C-101B-9397-08002B2CF9AE}" pid="7" name="Delivery Date">
    <vt:lpwstr>October 15, 2009</vt:lpwstr>
  </property>
  <property fmtid="{D5CDD505-2E9C-101B-9397-08002B2CF9AE}" pid="8" name="Disclosure Activity">
    <vt:lpwstr>Loan Proposal</vt:lpwstr>
  </property>
  <property fmtid="{D5CDD505-2E9C-101B-9397-08002B2CF9AE}" pid="9" name="Division or Unit">
    <vt:lpwstr>IFD/FMM</vt:lpwstr>
  </property>
  <property fmtid="{D5CDD505-2E9C-101B-9397-08002B2CF9AE}" pid="10" name="DocID">
    <vt:lpwstr/>
  </property>
  <property fmtid="{D5CDD505-2E9C-101B-9397-08002B2CF9AE}" pid="11" name="DocIDPosition">
    <vt:r8>1</vt:r8>
  </property>
  <property fmtid="{D5CDD505-2E9C-101B-9397-08002B2CF9AE}" pid="12" name="DocIDinSlide">
    <vt:bool>1</vt:bool>
  </property>
  <property fmtid="{D5CDD505-2E9C-101B-9397-08002B2CF9AE}" pid="13" name="DocIDinTitle">
    <vt:bool>0</vt:bool>
  </property>
  <property fmtid="{D5CDD505-2E9C-101B-9397-08002B2CF9AE}" pid="14" name="Document Author">
    <vt:lpwstr>Chona, Gilberto E.</vt:lpwstr>
  </property>
  <property fmtid="{D5CDD505-2E9C-101B-9397-08002B2CF9AE}" pid="15" name="Document Language IDB">
    <vt:lpwstr>Spanish</vt:lpwstr>
  </property>
  <property fmtid="{D5CDD505-2E9C-101B-9397-08002B2CF9AE}" pid="16" name="Event">
    <vt:lpwstr/>
  </property>
  <property fmtid="{D5CDD505-2E9C-101B-9397-08002B2CF9AE}" pid="17" name="Final">
    <vt:bool>1</vt:bool>
  </property>
  <property fmtid="{D5CDD505-2E9C-101B-9397-08002B2CF9AE}" pid="18" name="Fiscal Year IDB">
    <vt:lpwstr>2010</vt:lpwstr>
  </property>
  <property fmtid="{D5CDD505-2E9C-101B-9397-08002B2CF9AE}" pid="19" name="From:">
    <vt:lpwstr/>
  </property>
  <property fmtid="{D5CDD505-2E9C-101B-9397-08002B2CF9AE}" pid="20" name="Function Operations IDB">
    <vt:lpwstr>5;#Project Preparation, Planning and Design|29ca0c72-1fc4-435f-a09c-28585cb5eac9</vt:lpwstr>
  </property>
  <property fmtid="{D5CDD505-2E9C-101B-9397-08002B2CF9AE}" pid="21" name="Fund IDB">
    <vt:lpwstr/>
  </property>
  <property fmtid="{D5CDD505-2E9C-101B-9397-08002B2CF9AE}" pid="22" name="IDBDocs Number">
    <vt:lpwstr>35413376</vt:lpwstr>
  </property>
  <property fmtid="{D5CDD505-2E9C-101B-9397-08002B2CF9AE}" pid="23" name="Identifier">
    <vt:lpwstr> TECFILE</vt:lpwstr>
  </property>
  <property fmtid="{D5CDD505-2E9C-101B-9397-08002B2CF9AE}" pid="24" name="McKPaperSize">
    <vt:lpwstr>A4</vt:lpwstr>
  </property>
  <property fmtid="{D5CDD505-2E9C-101B-9397-08002B2CF9AE}" pid="25" name="Migration Info">
    <vt:lpwstr>&lt;Data&gt;&lt;APPLICATION&gt;MS POWERPOINT&lt;/APPLICATION&gt;&lt;USER_STAGE&gt;Loan Proposal&lt;/USER_STAGE&gt;&lt;PD_OBJ_TYPE&gt;0&lt;/PD_OBJ_TYPE&gt;&lt;MAKERECORD&gt;N&lt;/MAKERECORD&gt;&lt;PD_FILEPT_NO&gt;PO-PN-L1067-Anl&lt;/PD_FILEPT_NO&gt;&lt;/Data&gt;</vt:lpwstr>
  </property>
  <property fmtid="{D5CDD505-2E9C-101B-9397-08002B2CF9AE}" pid="26" name="NotesPageLayout">
    <vt:lpwstr>Message</vt:lpwstr>
  </property>
  <property fmtid="{D5CDD505-2E9C-101B-9397-08002B2CF9AE}" pid="27" name="Other Author">
    <vt:lpwstr/>
  </property>
  <property fmtid="{D5CDD505-2E9C-101B-9397-08002B2CF9AE}" pid="28" name="Project Document Type">
    <vt:lpwstr/>
  </property>
  <property fmtid="{D5CDD505-2E9C-101B-9397-08002B2CF9AE}" pid="29" name="Project Number">
    <vt:lpwstr>PN-L1066</vt:lpwstr>
  </property>
  <property fmtid="{D5CDD505-2E9C-101B-9397-08002B2CF9AE}" pid="30" name="Sector IDB">
    <vt:lpwstr/>
  </property>
  <property fmtid="{D5CDD505-2E9C-101B-9397-08002B2CF9AE}" pid="31" name="Series Operations IDB">
    <vt:lpwstr>4</vt:lpwstr>
  </property>
  <property fmtid="{D5CDD505-2E9C-101B-9397-08002B2CF9AE}" pid="32" name="Series_x0020_Operations_x0020_IDB">
    <vt:lpwstr>4;#Loan Proposal|6ee86b6f-6e46-485b-8bfb-87a1f44622ac</vt:lpwstr>
  </property>
  <property fmtid="{D5CDD505-2E9C-101B-9397-08002B2CF9AE}" pid="33" name="Sub_x005F_x002d_Sector">
    <vt:lpwstr/>
  </property>
  <property fmtid="{D5CDD505-2E9C-101B-9397-08002B2CF9AE}" pid="34" name="TaxCatchAll">
    <vt:lpwstr>5;#Project Preparation, Planning and Design|29ca0c72-1fc4-435f-a09c-28585cb5eac9;#4;#Loan Proposal|6ee86b6f-6e46-485b-8bfb-87a1f44622ac</vt:lpwstr>
  </property>
  <property fmtid="{D5CDD505-2E9C-101B-9397-08002B2CF9AE}" pid="35" name="TaxKeyword">
    <vt:lpwstr/>
  </property>
  <property fmtid="{D5CDD505-2E9C-101B-9397-08002B2CF9AE}" pid="36" name="TaxKeywordTaxHTField">
    <vt:lpwstr/>
  </property>
  <property fmtid="{D5CDD505-2E9C-101B-9397-08002B2CF9AE}" pid="37" name="Title">
    <vt:lpwstr>Slide 0</vt:lpwstr>
  </property>
  <property fmtid="{D5CDD505-2E9C-101B-9397-08002B2CF9AE}" pid="38" name="To:">
    <vt:lpwstr/>
  </property>
  <property fmtid="{D5CDD505-2E9C-101B-9397-08002B2CF9AE}" pid="39" name="Universal Objects">
    <vt:bool>1</vt:bool>
  </property>
  <property fmtid="{D5CDD505-2E9C-101B-9397-08002B2CF9AE}" pid="40" name="Webtopic">
    <vt:lpwstr>MA-FIS</vt:lpwstr>
  </property>
  <property fmtid="{D5CDD505-2E9C-101B-9397-08002B2CF9AE}" pid="41" name="c456731dbc904a5fb605ec556c33e883">
    <vt:lpwstr/>
  </property>
  <property fmtid="{D5CDD505-2E9C-101B-9397-08002B2CF9AE}" pid="42" name="display_urn:schemas-microsoft-com:office:office#Author">
    <vt:lpwstr>Cartin Barrios, Irene</vt:lpwstr>
  </property>
  <property fmtid="{D5CDD505-2E9C-101B-9397-08002B2CF9AE}" pid="43" name="display_urn:schemas-microsoft-com:office:office#Editor">
    <vt:lpwstr>Cartin Barrios, Irene</vt:lpwstr>
  </property>
  <property fmtid="{D5CDD505-2E9C-101B-9397-08002B2CF9AE}" pid="44" name="e559ffcc31d34167856647188be35015">
    <vt:lpwstr/>
  </property>
  <property fmtid="{D5CDD505-2E9C-101B-9397-08002B2CF9AE}" pid="45" name="fd0e48b6a66848a9885f717e5bbf40c4">
    <vt:lpwstr>Project Preparation, Planning and Design|29ca0c72-1fc4-435f-a09c-28585cb5eac9</vt:lpwstr>
  </property>
  <property fmtid="{D5CDD505-2E9C-101B-9397-08002B2CF9AE}" pid="46" name="j8b96605ee2f4c4e988849e658583fee">
    <vt:lpwstr/>
  </property>
  <property fmtid="{D5CDD505-2E9C-101B-9397-08002B2CF9AE}" pid="47" name="m555d3814edf4817b4410a4e57f94ce9">
    <vt:lpwstr/>
  </property>
  <property fmtid="{D5CDD505-2E9C-101B-9397-08002B2CF9AE}" pid="48" name="o5138a91267540169645e33d09c9ddc6">
    <vt:lpwstr>Loan Proposal|6ee86b6f-6e46-485b-8bfb-87a1f44622ac</vt:lpwstr>
  </property>
</Properties>
</file>