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5.png" ContentType="image/png"/>
  <Override PartName="/ppt/media/image11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2A2-7627-4AB9-A7E4-B791DC6B5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E18F-13F6-4412-AD6B-B55B554A7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19D-4EC6-4624-97A7-C580CAB39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CCD-F6E9-4D07-99DC-17AAB1A97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99E8-7B30-42E1-8869-E33741D2C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1B6C-C1FC-4316-8A91-4B1122596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801D-C2F3-4475-B7F1-5B11BBB71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187-78E3-49B7-B7E8-4D12873B2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81C-85E3-4A5B-835C-9EC0E9BA4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9CC0-D8E8-4DE8-9141-88E4B9BA9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66C5-9F96-4558-A979-C2F8CB15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9C35-DD9C-4A7A-A012-EB2719177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708B-CF8A-4C5F-982D-DC03B6E0B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7A98-C464-4E0D-BEBC-7942CA2F5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54DE-43E4-47D9-830F-E790A1597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A67F-2EBC-49DF-9835-CC3675D2DE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EB16-9ED2-4319-829A-3CBBBEAD1D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10FB-29F0-4153-B7BE-AC39648768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CCE6-4CDE-4494-9E36-9906E19774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FD65-BFC1-43C1-B84D-FC764A8A8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8777-FA29-4F25-967E-DD7CF32A47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F1F7-A6DC-41C0-9F87-9AEA47EF36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1A8C-19E8-4547-B7E5-EECFBF24FA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B851-0401-4452-9CF4-BDFCEDCC4A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84B6-E62C-4022-B6E9-2F89A6E0FE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8E5D-4261-4B08-B082-0D9FE604FA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2103-1CE6-45F5-83FE-F8F5BA0C1E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839C-F5CC-40FF-8C42-85A66C69BE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834-EB4C-48B4-BBBB-6EFB38DB62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4D0-FE75-420D-9F12-AA54BE1908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F05-A67E-4069-92C8-32DE05EED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6990-1F96-4F64-96B9-BCD1D8F197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91B-A608-427B-95A4-9EBD296E5E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908-9ADB-4223-AADF-9B0F1E04D3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902-47A7-4A17-9D61-1F88F2311F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1A2-9D92-4C5F-951F-7CD4C8B6D8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CB7-7648-40AC-9415-F308D6BB84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8A4-C41F-456D-B529-BF6A1AD02A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C8E-F347-471E-93BB-EA75738B48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D25-BD35-4AAB-99B7-B723DDFDE5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1FD-9A23-4EEE-B039-2DA0A604D3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1A69-358C-4EC2-BC3E-56716E9112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5ADD-84B1-4717-B3BF-DC564894C40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77F4-1801-48D0-84C3-79579CB7B2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6F52-2B86-4387-8342-E71A05C05C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C428D-795C-4A92-A478-153496CD58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3A0C-F364-42BB-8898-1B42B1E1F5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DDE9-C40B-4583-ACA0-CB7B80DC27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B75EB-6A14-45AF-9825-E69E8F7F49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BE72-D4F6-426D-A234-5686371439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CF8D1-949E-4385-BE85-7C5B780F5B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A4108-2270-4701-93CC-7147EE9D0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769B-B519-4D6C-A515-59E2F302AA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B7E7-D5C5-4DC9-8FD6-79E23083F1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650A-3461-4AFC-B8D6-27E743F7F4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6AD2-D4BD-4076-841A-4C784F87762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DB3A-17F5-448F-B880-CACF475A22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0B93-AFAC-40A1-A4DF-F6AA5AE15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DEO RGB.jpg"/>
          <p:cNvPicPr/>
          <p:nvPr/>
        </p:nvPicPr>
        <p:blipFill>
          <a:blip r:embed="rId2"/>
          <a:stretch/>
        </p:blipFill>
        <p:spPr>
          <a:xfrm>
            <a:off x="7105680" y="5973840"/>
            <a:ext cx="184464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D5E-1289-4DD0-9174-DF1CFC51A0AC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DEO RGB.jpg"/>
          <p:cNvPicPr/>
          <p:nvPr/>
        </p:nvPicPr>
        <p:blipFill>
          <a:blip r:embed="rId2"/>
          <a:stretch/>
        </p:blipFill>
        <p:spPr>
          <a:xfrm>
            <a:off x="5915160" y="304920"/>
            <a:ext cx="307656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 flipH="1">
            <a:off x="759960" y="2552760"/>
            <a:ext cx="3240" cy="1752480"/>
          </a:xfrm>
          <a:prstGeom prst="line">
            <a:avLst/>
          </a:prstGeom>
          <a:ln w="6480">
            <a:solidFill>
              <a:srgbClr val="96b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1"/>
          <p:cNvSpPr/>
          <p:nvPr/>
        </p:nvSpPr>
        <p:spPr>
          <a:xfrm flipH="1">
            <a:off x="8915400" y="5429160"/>
            <a:ext cx="1440" cy="900360"/>
          </a:xfrm>
          <a:prstGeom prst="line">
            <a:avLst/>
          </a:prstGeom>
          <a:ln w="6480">
            <a:solidFill>
              <a:srgbClr val="006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DEO RGB.jpg"/>
          <p:cNvPicPr/>
          <p:nvPr/>
        </p:nvPicPr>
        <p:blipFill>
          <a:blip r:embed="rId2"/>
          <a:stretch/>
        </p:blipFill>
        <p:spPr>
          <a:xfrm>
            <a:off x="7105680" y="5973840"/>
            <a:ext cx="184464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73A-9F36-49B2-A619-D7BAA043B34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DEO RGB.jpg"/>
          <p:cNvPicPr/>
          <p:nvPr/>
        </p:nvPicPr>
        <p:blipFill>
          <a:blip r:embed="rId2"/>
          <a:stretch/>
        </p:blipFill>
        <p:spPr>
          <a:xfrm>
            <a:off x="7105680" y="5973840"/>
            <a:ext cx="1844640" cy="685800"/>
          </a:xfrm>
          <a:prstGeom prst="rect">
            <a:avLst/>
          </a:prstGeom>
          <a:ln w="0">
            <a:noFill/>
          </a:ln>
        </p:spPr>
      </p:pic>
      <p:sp>
        <p:nvSpPr>
          <p:cNvPr id="128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764-3B4B-4DA4-9F61-3E42557BC7C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check.jpg"/>
          <p:cNvPicPr/>
          <p:nvPr/>
        </p:nvPicPr>
        <p:blipFill>
          <a:blip r:embed="rId2"/>
          <a:stretch/>
        </p:blipFill>
        <p:spPr>
          <a:xfrm>
            <a:off x="4780080" y="3176640"/>
            <a:ext cx="3946320" cy="318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DEO RGB.jpg"/>
          <p:cNvPicPr/>
          <p:nvPr/>
        </p:nvPicPr>
        <p:blipFill>
          <a:blip r:embed="rId2"/>
          <a:stretch/>
        </p:blipFill>
        <p:spPr>
          <a:xfrm>
            <a:off x="7105680" y="5973840"/>
            <a:ext cx="184464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4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95B-D56F-4FC5-8331-A9CB093D3C12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firma bamco eng.jpg"/>
          <p:cNvPicPr/>
          <p:nvPr/>
        </p:nvPicPr>
        <p:blipFill>
          <a:blip r:embed="rId2"/>
          <a:stretch/>
        </p:blipFill>
        <p:spPr>
          <a:xfrm>
            <a:off x="3035160" y="6429240"/>
            <a:ext cx="3289320" cy="200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DEO RGB.jpg"/>
          <p:cNvPicPr/>
          <p:nvPr/>
        </p:nvPicPr>
        <p:blipFill>
          <a:blip r:embed="rId3"/>
          <a:stretch/>
        </p:blipFill>
        <p:spPr>
          <a:xfrm>
            <a:off x="2470320" y="2647800"/>
            <a:ext cx="4203360" cy="1562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creativecommons.org/licenses/by-nc-nd/3.0/igo/legalcode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id:image001.png@01D06307.667B9380"/>
          <p:cNvPicPr/>
          <p:nvPr/>
        </p:nvPicPr>
        <p:blipFill>
          <a:blip r:embed="rId1"/>
          <a:stretch/>
        </p:blipFill>
        <p:spPr>
          <a:xfrm>
            <a:off x="1066680" y="1600200"/>
            <a:ext cx="2276640" cy="914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131840" y="2759040"/>
            <a:ext cx="6869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© 2015 Banco Interamericano de Desarrollo. Esta obra está bajo una licencia Creative Commons IGO 3.0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-No Comercial-Sin Obra Derivada (CC-IGO BY-NC-ND 3.0 IGO) (</a:t>
            </a:r>
            <a:r>
              <a:rPr b="0" lang="es-MX" sz="1200" spc="-1" strike="noStrike" u="sng">
                <a:solidFill>
                  <a:srgbClr val="14225e"/>
                </a:solidFill>
                <a:uFillTx/>
                <a:latin typeface="Arial"/>
                <a:ea typeface="Times New Roman"/>
                <a:hlinkClick r:id="rId2"/>
              </a:rPr>
              <a:t>http://creativecommons.org/licenses/by-nc-nd/3.0/igo/legalcode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MX" sz="1200" spc="-1" strike="noStrike">
                <a:solidFill>
                  <a:srgbClr val="414141"/>
                </a:solidFill>
                <a:latin typeface="Arial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puede ser reproducida para cualquier uso no-comercial otorgando crédito al BID.  No se permiten obras deriva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alquier disputa relacionada con el uso de las obras del BID que no pueda resolverse amistosamente se someterá a arbitraje de conformidad con las reglas de la CNUDMI. El uso del nombre del BID para cualquier fin que no sea para la atribución y el uso del logotipo del BID, estará sujeta a un acuerdo de licencia por separado y no está autorizado como parte de esta licencia CC-I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ar que el enlace URL incluye términos y condicionales adicionales de esta lic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s opiniones expresadas en esta publicación son de los autores y no necesariamente reflejan el punto de vista del Banco Interamericano de Desarrollo, de su Directorio Ejecutivo ni de los países que repres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4E92-FE75-4A71-A26F-A0BC9EB5F053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609480" y="1506600"/>
            <a:ext cx="7315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ograma y factores que inciden en los impacto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S PGothic"/>
              </a:rPr>
              <a:t>Fuentes de datos: encuestas de hogares, registros 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S PGothic"/>
              </a:rPr>
              <a:t>Determinar quién recolecta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S PGothic"/>
              </a:rPr>
              <a:t>Aspectos centrales de la enc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ase de preg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abajo de campo con control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ptura de datos sin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Uso de identificadores claros de la unidad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Referencia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D64-B4EC-493A-844C-D0391602DC9B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914400" y="1506600"/>
            <a:ext cx="73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rtler, Paul J., Sebastián Martínez, Patrick Premand, Laura B. Rawlings and Christel M. J. Vermeer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valuación de Impacto en la Prác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ashington, D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anco Mundial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esentaciones elaboradas po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MS PGothic"/>
              </a:rPr>
              <a:t>Sistemas Integr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MS PGothic"/>
              </a:rPr>
              <a:t>Taller de Encuestas y Evaluación de Impacto de Políticas Públicas (EEiPP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Santiago de Chile, Abril d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255276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Cómo recolectar datos para una evaluación de impacto</a:t>
            </a:r>
            <a:endParaRPr b="1" lang="en-US" sz="32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568520" y="5451480"/>
            <a:ext cx="7351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Gastón Ge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Oficina de Planificación Estratégica y Efectividad en el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e89"/>
                </a:solidFill>
                <a:latin typeface="Arial"/>
                <a:ea typeface="Arial"/>
              </a:rPr>
              <a:t>Washington,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2 Marcador de texto"/>
          <p:cNvSpPr/>
          <p:nvPr/>
        </p:nvSpPr>
        <p:spPr>
          <a:xfrm>
            <a:off x="304920" y="625140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El contenido de esta presentación representa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opinión del autor y no necesariamente del Banco Inter Americano de Desarroll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. Esta presentación incluye ilustraciones del libro “Impact Evaluation in Practice”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 Gertler, Martinez, Premand, Rawlings  y Vermeersch (2010)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¿Qué información se debe recolectar?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8A3E-D6F9-4BA8-8867-3822AB73E21C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2641680"/>
          <a:ext cx="8229600" cy="4059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895200"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upuesto para la capacitación doc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f0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ción doc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f0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 de docentes capaci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f0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en el salón de clas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7560" indent="-9036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7560" indent="-9036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empo que el docente habla inglé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7560" indent="-9036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empo que el docente dirige actividades dinám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47560" indent="-9036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empo que la mayoría de los estudiantes hablan ingl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f0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0360" indent="-9036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aje de los estudi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f0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8cc"/>
                    </a:solidFill>
                  </a:tcPr>
                </a:tc>
              </a:tr>
            </a:tbl>
          </a:graphicData>
        </a:graphic>
      </p:graphicFrame>
      <p:sp>
        <p:nvSpPr>
          <p:cNvPr id="308" name="Rounded Rectangle 3"/>
          <p:cNvSpPr/>
          <p:nvPr/>
        </p:nvSpPr>
        <p:spPr>
          <a:xfrm>
            <a:off x="533520" y="12193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9"/>
          <p:cNvSpPr/>
          <p:nvPr/>
        </p:nvSpPr>
        <p:spPr>
          <a:xfrm>
            <a:off x="2209680" y="12193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10"/>
          <p:cNvSpPr/>
          <p:nvPr/>
        </p:nvSpPr>
        <p:spPr>
          <a:xfrm>
            <a:off x="3886200" y="12193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1"/>
          <p:cNvSpPr/>
          <p:nvPr/>
        </p:nvSpPr>
        <p:spPr>
          <a:xfrm>
            <a:off x="5486400" y="12193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2"/>
          <p:cNvSpPr/>
          <p:nvPr/>
        </p:nvSpPr>
        <p:spPr>
          <a:xfrm>
            <a:off x="7162920" y="12193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1"/>
          <p:cNvSpPr/>
          <p:nvPr/>
        </p:nvSpPr>
        <p:spPr>
          <a:xfrm>
            <a:off x="1752480" y="1371600"/>
            <a:ext cx="533520" cy="26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a7ac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13"/>
          <p:cNvSpPr/>
          <p:nvPr/>
        </p:nvSpPr>
        <p:spPr>
          <a:xfrm>
            <a:off x="3535200" y="1371600"/>
            <a:ext cx="533520" cy="26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a7ac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ight Arrow 14"/>
          <p:cNvSpPr/>
          <p:nvPr/>
        </p:nvSpPr>
        <p:spPr>
          <a:xfrm>
            <a:off x="5105520" y="1371600"/>
            <a:ext cx="533160" cy="2667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0a7ac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ight Arrow 15"/>
          <p:cNvSpPr/>
          <p:nvPr/>
        </p:nvSpPr>
        <p:spPr>
          <a:xfrm>
            <a:off x="6781680" y="1371600"/>
            <a:ext cx="533520" cy="26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a7ac"/>
          </a:soli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own Arrow 4"/>
          <p:cNvSpPr/>
          <p:nvPr/>
        </p:nvSpPr>
        <p:spPr>
          <a:xfrm>
            <a:off x="914400" y="1828800"/>
            <a:ext cx="533520" cy="685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own Arrow 16"/>
          <p:cNvSpPr/>
          <p:nvPr/>
        </p:nvSpPr>
        <p:spPr>
          <a:xfrm>
            <a:off x="2629080" y="1846440"/>
            <a:ext cx="533160" cy="6858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Down Arrow 17"/>
          <p:cNvSpPr/>
          <p:nvPr/>
        </p:nvSpPr>
        <p:spPr>
          <a:xfrm>
            <a:off x="4305240" y="1846440"/>
            <a:ext cx="533520" cy="685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own Arrow 18"/>
          <p:cNvSpPr/>
          <p:nvPr/>
        </p:nvSpPr>
        <p:spPr>
          <a:xfrm>
            <a:off x="5905440" y="1860480"/>
            <a:ext cx="533520" cy="685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own Arrow 19"/>
          <p:cNvSpPr/>
          <p:nvPr/>
        </p:nvSpPr>
        <p:spPr>
          <a:xfrm>
            <a:off x="7581960" y="1860480"/>
            <a:ext cx="533520" cy="685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Variables explicativas, de implementación y otras característica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1430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Qué factores pueden explicar el puntaje de los estudiantes en el exa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4D7-FD16-4B52-8610-77F81E33EA08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1"/>
          <p:cNvSpPr/>
          <p:nvPr/>
        </p:nvSpPr>
        <p:spPr>
          <a:xfrm>
            <a:off x="2971800" y="3192480"/>
            <a:ext cx="3124080" cy="906480"/>
          </a:xfrm>
          <a:prstGeom prst="roundRect">
            <a:avLst>
              <a:gd name="adj" fmla="val 16667"/>
            </a:avLst>
          </a:prstGeom>
          <a:solidFill>
            <a:srgbClr val="6ae2ff"/>
          </a:solidFill>
          <a:ln w="255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ocimientos de ing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12"/>
          <p:cNvSpPr/>
          <p:nvPr/>
        </p:nvSpPr>
        <p:spPr>
          <a:xfrm>
            <a:off x="2971800" y="1941480"/>
            <a:ext cx="3124080" cy="906480"/>
          </a:xfrm>
          <a:prstGeom prst="roundRect">
            <a:avLst>
              <a:gd name="adj" fmla="val 16667"/>
            </a:avLst>
          </a:prstGeom>
          <a:solidFill>
            <a:srgbClr val="006e89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grama de capacitación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13"/>
          <p:cNvSpPr/>
          <p:nvPr/>
        </p:nvSpPr>
        <p:spPr>
          <a:xfrm>
            <a:off x="304920" y="3208320"/>
            <a:ext cx="1977840" cy="98280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vel educativo de padres en 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14"/>
          <p:cNvSpPr/>
          <p:nvPr/>
        </p:nvSpPr>
        <p:spPr>
          <a:xfrm>
            <a:off x="1066680" y="4732200"/>
            <a:ext cx="1905120" cy="98280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vel de ingreso del ho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15"/>
          <p:cNvSpPr/>
          <p:nvPr/>
        </p:nvSpPr>
        <p:spPr>
          <a:xfrm>
            <a:off x="3581280" y="4884840"/>
            <a:ext cx="1981440" cy="98244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clases particulares de ing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16"/>
          <p:cNvSpPr/>
          <p:nvPr/>
        </p:nvSpPr>
        <p:spPr>
          <a:xfrm>
            <a:off x="6019920" y="4732200"/>
            <a:ext cx="1981080" cy="98280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miliares que hablan ing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17"/>
          <p:cNvSpPr/>
          <p:nvPr/>
        </p:nvSpPr>
        <p:spPr>
          <a:xfrm>
            <a:off x="6781680" y="3208320"/>
            <a:ext cx="1981440" cy="982800"/>
          </a:xfrm>
          <a:prstGeom prst="roundRect">
            <a:avLst>
              <a:gd name="adj" fmla="val 16667"/>
            </a:avLst>
          </a:pr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 viviendo en un país de habla ing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https://encrypted-tbn0.gstatic.com/images?q=tbn:ANd9GcSZDiCk9G3dakXKXg7GYGXjlTaLImelB3pXIVLc0fL2R0Tcf6ar"/>
          <p:cNvPicPr/>
          <p:nvPr/>
        </p:nvPicPr>
        <p:blipFill>
          <a:blip r:embed="rId1"/>
          <a:stretch/>
        </p:blipFill>
        <p:spPr>
          <a:xfrm>
            <a:off x="2625840" y="5403960"/>
            <a:ext cx="691920" cy="691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https://encrypted-tbn1.gstatic.com/images?q=tbn:ANd9GcRzwgW7IW08KuZUDtzUsxyV-n4_Of9wjEnsVXEOugML--NCA9XqZg"/>
          <p:cNvPicPr/>
          <p:nvPr/>
        </p:nvPicPr>
        <p:blipFill>
          <a:blip r:embed="rId2"/>
          <a:stretch/>
        </p:blipFill>
        <p:spPr>
          <a:xfrm>
            <a:off x="2133720" y="39038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35" name="Right Arrow 3"/>
          <p:cNvSpPr/>
          <p:nvPr/>
        </p:nvSpPr>
        <p:spPr>
          <a:xfrm>
            <a:off x="2362320" y="3505320"/>
            <a:ext cx="685800" cy="39672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ight Arrow 21"/>
          <p:cNvSpPr/>
          <p:nvPr/>
        </p:nvSpPr>
        <p:spPr>
          <a:xfrm rot="19183200">
            <a:off x="2695320" y="4060440"/>
            <a:ext cx="685800" cy="397080"/>
          </a:xfrm>
          <a:prstGeom prst="rightArrow">
            <a:avLst>
              <a:gd name="adj1" fmla="val 50000"/>
              <a:gd name="adj2" fmla="val 49974"/>
            </a:avLst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8618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Arrow 22"/>
          <p:cNvSpPr/>
          <p:nvPr/>
        </p:nvSpPr>
        <p:spPr>
          <a:xfrm rot="16200000">
            <a:off x="4198680" y="4182480"/>
            <a:ext cx="685800" cy="39672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Arrow 23"/>
          <p:cNvSpPr/>
          <p:nvPr/>
        </p:nvSpPr>
        <p:spPr>
          <a:xfrm rot="14231400">
            <a:off x="5800320" y="4082760"/>
            <a:ext cx="685800" cy="397080"/>
          </a:xfrm>
          <a:prstGeom prst="rightArrow">
            <a:avLst>
              <a:gd name="adj1" fmla="val 50000"/>
              <a:gd name="adj2" fmla="val 49974"/>
            </a:avLst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968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24"/>
          <p:cNvSpPr/>
          <p:nvPr/>
        </p:nvSpPr>
        <p:spPr>
          <a:xfrm rot="10800000">
            <a:off x="6019560" y="3505320"/>
            <a:ext cx="685800" cy="396720"/>
          </a:xfrm>
          <a:prstGeom prst="right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54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Program Files (x86)\Microsoft Office\MEDIA\CAGCAT10\j0217698.wmf"/>
          <p:cNvPicPr/>
          <p:nvPr/>
        </p:nvPicPr>
        <p:blipFill>
          <a:blip r:embed="rId3"/>
          <a:stretch/>
        </p:blipFill>
        <p:spPr>
          <a:xfrm>
            <a:off x="6270480" y="1797120"/>
            <a:ext cx="1233720" cy="1195200"/>
          </a:xfrm>
          <a:prstGeom prst="rect">
            <a:avLst/>
          </a:prstGeom>
          <a:ln w="0">
            <a:noFill/>
          </a:ln>
        </p:spPr>
      </p:pic>
      <p:sp>
        <p:nvSpPr>
          <p:cNvPr id="341" name="Sun 2"/>
          <p:cNvSpPr/>
          <p:nvPr/>
        </p:nvSpPr>
        <p:spPr>
          <a:xfrm>
            <a:off x="8507520" y="3886200"/>
            <a:ext cx="511200" cy="5904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c0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33 Imagen" descr="p-rojos2.png"/>
          <p:cNvPicPr/>
          <p:nvPr/>
        </p:nvPicPr>
        <p:blipFill>
          <a:blip r:embed="rId4"/>
          <a:stretch/>
        </p:blipFill>
        <p:spPr>
          <a:xfrm>
            <a:off x="7772400" y="5359320"/>
            <a:ext cx="625320" cy="606600"/>
          </a:xfrm>
          <a:prstGeom prst="rect">
            <a:avLst/>
          </a:prstGeom>
          <a:ln w="0">
            <a:noFill/>
          </a:ln>
        </p:spPr>
      </p:pic>
      <p:pic>
        <p:nvPicPr>
          <p:cNvPr id="343" name="60 Imagen" descr="p-verdes2.png"/>
          <p:cNvPicPr/>
          <p:nvPr/>
        </p:nvPicPr>
        <p:blipFill>
          <a:blip r:embed="rId5"/>
          <a:stretch/>
        </p:blipFill>
        <p:spPr>
          <a:xfrm>
            <a:off x="5129280" y="5516640"/>
            <a:ext cx="6620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Fuente de infor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AB7-C97B-41EF-B6F4-72BF072E566F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"/>
          <p:cNvSpPr/>
          <p:nvPr/>
        </p:nvSpPr>
        <p:spPr>
          <a:xfrm>
            <a:off x="533520" y="140508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e89"/>
                </a:solidFill>
                <a:latin typeface="Arial"/>
                <a:ea typeface="MS PGothic"/>
              </a:rPr>
              <a:t>Registros 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e89"/>
                </a:solidFill>
                <a:latin typeface="Arial"/>
                <a:ea typeface="MS PGothic"/>
              </a:rPr>
              <a:t>C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e89"/>
                </a:solidFill>
                <a:latin typeface="Arial"/>
                <a:ea typeface="MS PGothic"/>
              </a:rPr>
              <a:t>Enc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4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5065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Implementación de una Encuesta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0581-D64D-4C62-8748-9805F40C639B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533520" y="1405080"/>
            <a:ext cx="731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e89"/>
                </a:solidFill>
                <a:latin typeface="Arial"/>
                <a:ea typeface="MS PGothic"/>
              </a:rPr>
              <a:t>¿Quién recolectará los da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  <a:ea typeface="MS PGothic"/>
              </a:rPr>
              <a:t>Agencia Estad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  <a:ea typeface="MS PGothic"/>
              </a:rPr>
              <a:t>Think 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97bf0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  <a:ea typeface="MS PGothic"/>
              </a:rPr>
              <a:t>Firma de Enc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"/>
          <p:cNvPicPr/>
          <p:nvPr/>
        </p:nvPicPr>
        <p:blipFill>
          <a:blip r:embed="rId1"/>
          <a:stretch/>
        </p:blipFill>
        <p:spPr>
          <a:xfrm>
            <a:off x="4216320" y="3040200"/>
            <a:ext cx="36324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esarrollo y piloto de cuestionario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9958-74E7-412F-A012-BF4850A18D0D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1"/>
          <a:stretch/>
        </p:blipFill>
        <p:spPr>
          <a:xfrm>
            <a:off x="2195640" y="2182680"/>
            <a:ext cx="4751280" cy="2492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"/>
          <p:cNvPicPr/>
          <p:nvPr/>
        </p:nvPicPr>
        <p:blipFill>
          <a:blip r:embed="rId2"/>
          <a:stretch/>
        </p:blipFill>
        <p:spPr>
          <a:xfrm>
            <a:off x="2195640" y="1914480"/>
            <a:ext cx="488628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ounded Rectangle 3"/>
          <p:cNvSpPr/>
          <p:nvPr/>
        </p:nvSpPr>
        <p:spPr>
          <a:xfrm>
            <a:off x="0" y="914400"/>
            <a:ext cx="2968560" cy="4038480"/>
          </a:xfrm>
          <a:custGeom>
            <a:avLst/>
            <a:gdLst>
              <a:gd name="textAreaLeft" fmla="*/ 144720 w 2968560"/>
              <a:gd name="textAreaRight" fmla="*/ 2823840 w 2968560"/>
              <a:gd name="textAreaTop" fmla="*/ 144720 h 4038480"/>
              <a:gd name="textAreaBottom" fmla="*/ 3893760 h 4038480"/>
            </a:gdLst>
            <a:ahLst/>
            <a:rect l="textAreaLeft" t="textAreaTop" r="textAreaRight" b="textAreaBottom"/>
            <a:pathLst>
              <a:path w="21600" h="29384">
                <a:moveTo>
                  <a:pt x="3600" y="0"/>
                </a:moveTo>
                <a:arcTo wR="3600" hR="3600" stAng="16200000" swAng="-5400000"/>
                <a:lnTo>
                  <a:pt x="0" y="25784"/>
                </a:lnTo>
                <a:arcTo wR="3600" hR="3600" stAng="10800000" swAng="-5400000"/>
                <a:lnTo>
                  <a:pt x="18000" y="29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6"/>
          <p:cNvSpPr/>
          <p:nvPr/>
        </p:nvSpPr>
        <p:spPr>
          <a:xfrm>
            <a:off x="155520" y="1717560"/>
            <a:ext cx="4264200" cy="4988160"/>
          </a:xfrm>
          <a:custGeom>
            <a:avLst/>
            <a:gdLst>
              <a:gd name="textAreaLeft" fmla="*/ 208080 w 4264200"/>
              <a:gd name="textAreaRight" fmla="*/ 4056120 w 4264200"/>
              <a:gd name="textAreaTop" fmla="*/ 208080 h 4988160"/>
              <a:gd name="textAreaBottom" fmla="*/ 4780080 h 4988160"/>
            </a:gdLst>
            <a:ahLst/>
            <a:rect l="textAreaLeft" t="textAreaTop" r="textAreaRight" b="textAreaBottom"/>
            <a:pathLst>
              <a:path w="21600" h="25267">
                <a:moveTo>
                  <a:pt x="3600" y="0"/>
                </a:moveTo>
                <a:arcTo wR="3600" hR="3600" stAng="16200000" swAng="-5400000"/>
                <a:lnTo>
                  <a:pt x="0" y="21667"/>
                </a:lnTo>
                <a:arcTo wR="3600" hR="3600" stAng="10800000" swAng="-5400000"/>
                <a:lnTo>
                  <a:pt x="18000" y="25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Trabajo de campo y control de calidad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0E49-A8D0-419C-A66C-607BC58EDD40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6840" y="949320"/>
            <a:ext cx="3016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a7ac"/>
                </a:solidFill>
                <a:latin typeface="Arial"/>
              </a:rPr>
              <a:t>El ej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a7ac"/>
                </a:solidFill>
                <a:latin typeface="Arial"/>
              </a:rPr>
              <a:t>del programa de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1105200" y="1914480"/>
            <a:ext cx="2364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a7ac"/>
                </a:solidFill>
                <a:latin typeface="Arial"/>
              </a:rPr>
              <a:t>El evalu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a7ac"/>
                </a:solidFill>
                <a:latin typeface="Arial"/>
              </a:rPr>
              <a:t>Agencia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ounded Rectangle 12"/>
          <p:cNvSpPr/>
          <p:nvPr/>
        </p:nvSpPr>
        <p:spPr>
          <a:xfrm>
            <a:off x="4800600" y="1143000"/>
            <a:ext cx="4038480" cy="55627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5562720"/>
              <a:gd name="textAreaBottom" fmla="*/ 5365800 h 5562720"/>
            </a:gdLst>
            <a:ahLst/>
            <a:rect l="textAreaLeft" t="textAreaTop" r="textAreaRight" b="textAreaBottom"/>
            <a:pathLst>
              <a:path w="21600" h="29752">
                <a:moveTo>
                  <a:pt x="3600" y="0"/>
                </a:moveTo>
                <a:arcTo wR="3600" hR="3600" stAng="16200000" swAng="-5400000"/>
                <a:lnTo>
                  <a:pt x="0" y="26152"/>
                </a:lnTo>
                <a:arcTo wR="3600" hR="3600" stAng="10800000" swAng="-5400000"/>
                <a:lnTo>
                  <a:pt x="18000" y="29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5040000" y="1309680"/>
            <a:ext cx="3559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a7ac"/>
                </a:solidFill>
                <a:latin typeface="Arial"/>
              </a:rPr>
              <a:t>Firma encues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a7ac"/>
                </a:solidFill>
                <a:latin typeface="Arial"/>
              </a:rPr>
              <a:t>responsable de recoger los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23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25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7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9"/>
          <p:cNvSpPr/>
          <p:nvPr/>
        </p:nvSpPr>
        <p:spPr>
          <a:xfrm>
            <a:off x="1069920" y="7700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0FCB-C776-43A6-BB36-7762CE164DE3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ounded Rectangle 29"/>
          <p:cNvSpPr/>
          <p:nvPr/>
        </p:nvSpPr>
        <p:spPr>
          <a:xfrm>
            <a:off x="2394000" y="3073320"/>
            <a:ext cx="1403280" cy="1451160"/>
          </a:xfrm>
          <a:custGeom>
            <a:avLst/>
            <a:gdLst>
              <a:gd name="textAreaLeft" fmla="*/ 63720 w 1403280"/>
              <a:gd name="textAreaRight" fmla="*/ 1339560 w 1403280"/>
              <a:gd name="textAreaTop" fmla="*/ 63720 h 1451160"/>
              <a:gd name="textAreaBottom" fmla="*/ 1387440 h 1451160"/>
            </a:gdLst>
            <a:ahLst/>
            <a:rect l="textAreaLeft" t="textAreaTop" r="textAreaRight" b="textAreaBottom"/>
            <a:pathLst>
              <a:path w="21600" h="22337">
                <a:moveTo>
                  <a:pt x="3356" y="0"/>
                </a:moveTo>
                <a:arcTo wR="3356" hR="3356" stAng="16200000" swAng="-5400000"/>
                <a:lnTo>
                  <a:pt x="0" y="18981"/>
                </a:lnTo>
                <a:arcTo wR="3356" hR="3356" stAng="10800000" swAng="-5400000"/>
                <a:lnTo>
                  <a:pt x="18244" y="22337"/>
                </a:lnTo>
                <a:arcTo wR="3356" hR="3356" stAng="5400000" swAng="-5400000"/>
                <a:lnTo>
                  <a:pt x="21600" y="3356"/>
                </a:lnTo>
                <a:arcTo wR="3356" hR="3356" stAng="0" swAng="-5400000"/>
                <a:close/>
              </a:path>
            </a:pathLst>
          </a:custGeom>
          <a:solidFill>
            <a:srgbClr val="dcf683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entagon 30"/>
          <p:cNvSpPr/>
          <p:nvPr/>
        </p:nvSpPr>
        <p:spPr>
          <a:xfrm>
            <a:off x="3854520" y="3408480"/>
            <a:ext cx="1326960" cy="41904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9" y="0"/>
                </a:lnTo>
                <a:lnTo>
                  <a:pt x="21600" y="10800"/>
                </a:lnTo>
                <a:lnTo>
                  <a:pt x="181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bf0d"/>
          </a:solidFill>
          <a:ln w="25560">
            <a:solidFill>
              <a:srgbClr val="6e8c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1"/>
          <p:cNvGrpSpPr/>
          <p:nvPr/>
        </p:nvGrpSpPr>
        <p:grpSpPr>
          <a:xfrm>
            <a:off x="3720960" y="3979800"/>
            <a:ext cx="1384560" cy="592200"/>
            <a:chOff x="3720960" y="3979800"/>
            <a:chExt cx="1384560" cy="592200"/>
          </a:xfrm>
        </p:grpSpPr>
        <p:sp>
          <p:nvSpPr>
            <p:cNvPr id="381" name="Pentagon 32"/>
            <p:cNvSpPr/>
            <p:nvPr/>
          </p:nvSpPr>
          <p:spPr>
            <a:xfrm rot="10800000">
              <a:off x="3720960" y="3979800"/>
              <a:ext cx="1384560" cy="41904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06" y="0"/>
                  </a:lnTo>
                  <a:lnTo>
                    <a:pt x="21600" y="10800"/>
                  </a:lnTo>
                  <a:lnTo>
                    <a:pt x="179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7bf0d"/>
            </a:solidFill>
            <a:ln w="25560">
              <a:solidFill>
                <a:srgbClr val="6e8c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33" descr=""/>
            <p:cNvPicPr/>
            <p:nvPr/>
          </p:nvPicPr>
          <p:blipFill>
            <a:blip r:embed="rId1"/>
            <a:stretch/>
          </p:blipFill>
          <p:spPr>
            <a:xfrm>
              <a:off x="4165920" y="4084200"/>
              <a:ext cx="550800" cy="48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34"/>
          <p:cNvGrpSpPr/>
          <p:nvPr/>
        </p:nvGrpSpPr>
        <p:grpSpPr>
          <a:xfrm>
            <a:off x="2660760" y="3429000"/>
            <a:ext cx="858600" cy="1059840"/>
            <a:chOff x="2660760" y="3429000"/>
            <a:chExt cx="858600" cy="1059840"/>
          </a:xfrm>
        </p:grpSpPr>
        <p:pic>
          <p:nvPicPr>
            <p:cNvPr id="384" name="Picture 35" descr=""/>
            <p:cNvPicPr/>
            <p:nvPr/>
          </p:nvPicPr>
          <p:blipFill>
            <a:blip r:embed="rId2"/>
            <a:stretch/>
          </p:blipFill>
          <p:spPr>
            <a:xfrm>
              <a:off x="266076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Box 36"/>
            <p:cNvSpPr/>
            <p:nvPr/>
          </p:nvSpPr>
          <p:spPr>
            <a:xfrm>
              <a:off x="2665080" y="418176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Ger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37"/>
          <p:cNvSpPr/>
          <p:nvPr/>
        </p:nvSpPr>
        <p:spPr>
          <a:xfrm>
            <a:off x="5765760" y="4876920"/>
            <a:ext cx="18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Arial"/>
              </a:rPr>
              <a:t>Brigadas de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8" descr=""/>
          <p:cNvPicPr/>
          <p:nvPr/>
        </p:nvPicPr>
        <p:blipFill>
          <a:blip r:embed="rId3"/>
          <a:stretch/>
        </p:blipFill>
        <p:spPr>
          <a:xfrm>
            <a:off x="231840" y="3560760"/>
            <a:ext cx="779400" cy="785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9" descr=""/>
          <p:cNvPicPr/>
          <p:nvPr/>
        </p:nvPicPr>
        <p:blipFill>
          <a:blip r:embed="rId4"/>
          <a:stretch/>
        </p:blipFill>
        <p:spPr>
          <a:xfrm>
            <a:off x="1511280" y="4522680"/>
            <a:ext cx="781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43"/>
          <p:cNvGrpSpPr/>
          <p:nvPr/>
        </p:nvGrpSpPr>
        <p:grpSpPr>
          <a:xfrm>
            <a:off x="4879800" y="4667400"/>
            <a:ext cx="844560" cy="547560"/>
            <a:chOff x="4879800" y="4667400"/>
            <a:chExt cx="844560" cy="547560"/>
          </a:xfrm>
        </p:grpSpPr>
        <p:sp>
          <p:nvSpPr>
            <p:cNvPr id="390" name="Freeform 5"/>
            <p:cNvSpPr/>
            <p:nvPr/>
          </p:nvSpPr>
          <p:spPr>
            <a:xfrm>
              <a:off x="4879800" y="4667400"/>
              <a:ext cx="187200" cy="5475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"/>
            <p:cNvSpPr/>
            <p:nvPr/>
          </p:nvSpPr>
          <p:spPr>
            <a:xfrm>
              <a:off x="5138640" y="4667400"/>
              <a:ext cx="214200" cy="5475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0053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5244840" y="4667400"/>
              <a:ext cx="188640" cy="5475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535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"/>
            <p:cNvSpPr/>
            <p:nvPr/>
          </p:nvSpPr>
          <p:spPr>
            <a:xfrm>
              <a:off x="5032080" y="4667400"/>
              <a:ext cx="207720" cy="547560"/>
            </a:xfrm>
            <a:custGeom>
              <a:avLst/>
              <a:gdLst/>
              <a:ahLst/>
              <a:rect l="l" t="t" r="r" b="b"/>
              <a:pathLst>
                <a:path w="878" h="2353">
                  <a:moveTo>
                    <a:pt x="438" y="0"/>
                  </a:moveTo>
                  <a:lnTo>
                    <a:pt x="482" y="0"/>
                  </a:lnTo>
                  <a:lnTo>
                    <a:pt x="526" y="41"/>
                  </a:lnTo>
                  <a:lnTo>
                    <a:pt x="570" y="124"/>
                  </a:lnTo>
                  <a:lnTo>
                    <a:pt x="570" y="206"/>
                  </a:lnTo>
                  <a:lnTo>
                    <a:pt x="526" y="248"/>
                  </a:lnTo>
                  <a:lnTo>
                    <a:pt x="526" y="289"/>
                  </a:lnTo>
                  <a:lnTo>
                    <a:pt x="482" y="330"/>
                  </a:lnTo>
                  <a:lnTo>
                    <a:pt x="482" y="371"/>
                  </a:lnTo>
                  <a:lnTo>
                    <a:pt x="613" y="413"/>
                  </a:lnTo>
                  <a:lnTo>
                    <a:pt x="657" y="454"/>
                  </a:lnTo>
                  <a:lnTo>
                    <a:pt x="789" y="908"/>
                  </a:lnTo>
                  <a:lnTo>
                    <a:pt x="701" y="1073"/>
                  </a:lnTo>
                  <a:lnTo>
                    <a:pt x="613" y="1238"/>
                  </a:lnTo>
                  <a:lnTo>
                    <a:pt x="613" y="1114"/>
                  </a:lnTo>
                  <a:lnTo>
                    <a:pt x="613" y="1073"/>
                  </a:lnTo>
                  <a:lnTo>
                    <a:pt x="701" y="908"/>
                  </a:lnTo>
                  <a:lnTo>
                    <a:pt x="613" y="619"/>
                  </a:lnTo>
                  <a:lnTo>
                    <a:pt x="613" y="908"/>
                  </a:lnTo>
                  <a:lnTo>
                    <a:pt x="613" y="1114"/>
                  </a:lnTo>
                  <a:lnTo>
                    <a:pt x="657" y="1485"/>
                  </a:lnTo>
                  <a:lnTo>
                    <a:pt x="701" y="1816"/>
                  </a:lnTo>
                  <a:lnTo>
                    <a:pt x="701" y="2228"/>
                  </a:lnTo>
                  <a:lnTo>
                    <a:pt x="877" y="2352"/>
                  </a:lnTo>
                  <a:lnTo>
                    <a:pt x="745" y="2352"/>
                  </a:lnTo>
                  <a:lnTo>
                    <a:pt x="657" y="2311"/>
                  </a:lnTo>
                  <a:lnTo>
                    <a:pt x="657" y="2352"/>
                  </a:lnTo>
                  <a:lnTo>
                    <a:pt x="570" y="2352"/>
                  </a:lnTo>
                  <a:lnTo>
                    <a:pt x="570" y="2269"/>
                  </a:lnTo>
                  <a:lnTo>
                    <a:pt x="526" y="2269"/>
                  </a:lnTo>
                  <a:lnTo>
                    <a:pt x="526" y="1774"/>
                  </a:lnTo>
                  <a:lnTo>
                    <a:pt x="438" y="1362"/>
                  </a:lnTo>
                  <a:lnTo>
                    <a:pt x="394" y="1362"/>
                  </a:lnTo>
                  <a:lnTo>
                    <a:pt x="350" y="2269"/>
                  </a:lnTo>
                  <a:lnTo>
                    <a:pt x="350" y="2269"/>
                  </a:lnTo>
                  <a:lnTo>
                    <a:pt x="306" y="2269"/>
                  </a:lnTo>
                  <a:lnTo>
                    <a:pt x="306" y="2352"/>
                  </a:lnTo>
                  <a:lnTo>
                    <a:pt x="219" y="2352"/>
                  </a:lnTo>
                  <a:lnTo>
                    <a:pt x="219" y="2311"/>
                  </a:lnTo>
                  <a:lnTo>
                    <a:pt x="175" y="2352"/>
                  </a:lnTo>
                  <a:lnTo>
                    <a:pt x="0" y="2352"/>
                  </a:lnTo>
                  <a:lnTo>
                    <a:pt x="175" y="2228"/>
                  </a:lnTo>
                  <a:lnTo>
                    <a:pt x="175" y="2228"/>
                  </a:lnTo>
                  <a:lnTo>
                    <a:pt x="219" y="1238"/>
                  </a:lnTo>
                  <a:lnTo>
                    <a:pt x="219" y="1114"/>
                  </a:lnTo>
                  <a:lnTo>
                    <a:pt x="219" y="1114"/>
                  </a:lnTo>
                  <a:lnTo>
                    <a:pt x="219" y="1155"/>
                  </a:lnTo>
                  <a:lnTo>
                    <a:pt x="87" y="1155"/>
                  </a:lnTo>
                  <a:lnTo>
                    <a:pt x="87" y="1114"/>
                  </a:lnTo>
                  <a:lnTo>
                    <a:pt x="43" y="1114"/>
                  </a:lnTo>
                  <a:lnTo>
                    <a:pt x="43" y="825"/>
                  </a:lnTo>
                  <a:lnTo>
                    <a:pt x="131" y="825"/>
                  </a:lnTo>
                  <a:lnTo>
                    <a:pt x="175" y="454"/>
                  </a:lnTo>
                  <a:lnTo>
                    <a:pt x="219" y="413"/>
                  </a:lnTo>
                  <a:lnTo>
                    <a:pt x="350" y="371"/>
                  </a:lnTo>
                  <a:lnTo>
                    <a:pt x="350" y="330"/>
                  </a:lnTo>
                  <a:lnTo>
                    <a:pt x="306" y="289"/>
                  </a:lnTo>
                  <a:lnTo>
                    <a:pt x="306" y="248"/>
                  </a:lnTo>
                  <a:lnTo>
                    <a:pt x="263" y="206"/>
                  </a:lnTo>
                  <a:lnTo>
                    <a:pt x="263" y="124"/>
                  </a:lnTo>
                  <a:lnTo>
                    <a:pt x="306" y="41"/>
                  </a:lnTo>
                  <a:lnTo>
                    <a:pt x="350" y="0"/>
                  </a:lnTo>
                  <a:lnTo>
                    <a:pt x="438" y="0"/>
                  </a:lnTo>
                </a:path>
              </a:pathLst>
            </a:custGeom>
            <a:solidFill>
              <a:srgbClr val="00535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5"/>
            <p:cNvSpPr/>
            <p:nvPr/>
          </p:nvSpPr>
          <p:spPr>
            <a:xfrm>
              <a:off x="5376600" y="4667400"/>
              <a:ext cx="214200" cy="5475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415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5537160" y="4667400"/>
              <a:ext cx="187200" cy="5475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50"/>
          <p:cNvGrpSpPr/>
          <p:nvPr/>
        </p:nvGrpSpPr>
        <p:grpSpPr>
          <a:xfrm>
            <a:off x="7620120" y="4433760"/>
            <a:ext cx="844560" cy="549360"/>
            <a:chOff x="7620120" y="4433760"/>
            <a:chExt cx="844560" cy="549360"/>
          </a:xfrm>
        </p:grpSpPr>
        <p:sp>
          <p:nvSpPr>
            <p:cNvPr id="397" name="Freeform 5"/>
            <p:cNvSpPr/>
            <p:nvPr/>
          </p:nvSpPr>
          <p:spPr>
            <a:xfrm>
              <a:off x="7620120" y="4433760"/>
              <a:ext cx="18720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"/>
            <p:cNvSpPr/>
            <p:nvPr/>
          </p:nvSpPr>
          <p:spPr>
            <a:xfrm>
              <a:off x="7878960" y="4433760"/>
              <a:ext cx="214200" cy="5493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0053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7985160" y="4433760"/>
              <a:ext cx="18864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535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772400" y="4433760"/>
              <a:ext cx="207720" cy="549360"/>
            </a:xfrm>
            <a:custGeom>
              <a:avLst/>
              <a:gdLst/>
              <a:ahLst/>
              <a:rect l="l" t="t" r="r" b="b"/>
              <a:pathLst>
                <a:path w="878" h="2353">
                  <a:moveTo>
                    <a:pt x="438" y="0"/>
                  </a:moveTo>
                  <a:lnTo>
                    <a:pt x="482" y="0"/>
                  </a:lnTo>
                  <a:lnTo>
                    <a:pt x="526" y="41"/>
                  </a:lnTo>
                  <a:lnTo>
                    <a:pt x="570" y="124"/>
                  </a:lnTo>
                  <a:lnTo>
                    <a:pt x="570" y="206"/>
                  </a:lnTo>
                  <a:lnTo>
                    <a:pt x="526" y="248"/>
                  </a:lnTo>
                  <a:lnTo>
                    <a:pt x="526" y="289"/>
                  </a:lnTo>
                  <a:lnTo>
                    <a:pt x="482" y="330"/>
                  </a:lnTo>
                  <a:lnTo>
                    <a:pt x="482" y="371"/>
                  </a:lnTo>
                  <a:lnTo>
                    <a:pt x="613" y="413"/>
                  </a:lnTo>
                  <a:lnTo>
                    <a:pt x="657" y="454"/>
                  </a:lnTo>
                  <a:lnTo>
                    <a:pt x="789" y="908"/>
                  </a:lnTo>
                  <a:lnTo>
                    <a:pt x="701" y="1073"/>
                  </a:lnTo>
                  <a:lnTo>
                    <a:pt x="613" y="1238"/>
                  </a:lnTo>
                  <a:lnTo>
                    <a:pt x="613" y="1114"/>
                  </a:lnTo>
                  <a:lnTo>
                    <a:pt x="613" y="1073"/>
                  </a:lnTo>
                  <a:lnTo>
                    <a:pt x="701" y="908"/>
                  </a:lnTo>
                  <a:lnTo>
                    <a:pt x="613" y="619"/>
                  </a:lnTo>
                  <a:lnTo>
                    <a:pt x="613" y="908"/>
                  </a:lnTo>
                  <a:lnTo>
                    <a:pt x="613" y="1114"/>
                  </a:lnTo>
                  <a:lnTo>
                    <a:pt x="657" y="1485"/>
                  </a:lnTo>
                  <a:lnTo>
                    <a:pt x="701" y="1816"/>
                  </a:lnTo>
                  <a:lnTo>
                    <a:pt x="701" y="2228"/>
                  </a:lnTo>
                  <a:lnTo>
                    <a:pt x="877" y="2352"/>
                  </a:lnTo>
                  <a:lnTo>
                    <a:pt x="745" y="2352"/>
                  </a:lnTo>
                  <a:lnTo>
                    <a:pt x="657" y="2311"/>
                  </a:lnTo>
                  <a:lnTo>
                    <a:pt x="657" y="2352"/>
                  </a:lnTo>
                  <a:lnTo>
                    <a:pt x="570" y="2352"/>
                  </a:lnTo>
                  <a:lnTo>
                    <a:pt x="570" y="2269"/>
                  </a:lnTo>
                  <a:lnTo>
                    <a:pt x="526" y="2269"/>
                  </a:lnTo>
                  <a:lnTo>
                    <a:pt x="526" y="1774"/>
                  </a:lnTo>
                  <a:lnTo>
                    <a:pt x="438" y="1362"/>
                  </a:lnTo>
                  <a:lnTo>
                    <a:pt x="394" y="1362"/>
                  </a:lnTo>
                  <a:lnTo>
                    <a:pt x="350" y="2269"/>
                  </a:lnTo>
                  <a:lnTo>
                    <a:pt x="350" y="2269"/>
                  </a:lnTo>
                  <a:lnTo>
                    <a:pt x="306" y="2269"/>
                  </a:lnTo>
                  <a:lnTo>
                    <a:pt x="306" y="2352"/>
                  </a:lnTo>
                  <a:lnTo>
                    <a:pt x="219" y="2352"/>
                  </a:lnTo>
                  <a:lnTo>
                    <a:pt x="219" y="2311"/>
                  </a:lnTo>
                  <a:lnTo>
                    <a:pt x="175" y="2352"/>
                  </a:lnTo>
                  <a:lnTo>
                    <a:pt x="0" y="2352"/>
                  </a:lnTo>
                  <a:lnTo>
                    <a:pt x="175" y="2228"/>
                  </a:lnTo>
                  <a:lnTo>
                    <a:pt x="175" y="2228"/>
                  </a:lnTo>
                  <a:lnTo>
                    <a:pt x="219" y="1238"/>
                  </a:lnTo>
                  <a:lnTo>
                    <a:pt x="219" y="1114"/>
                  </a:lnTo>
                  <a:lnTo>
                    <a:pt x="219" y="1114"/>
                  </a:lnTo>
                  <a:lnTo>
                    <a:pt x="219" y="1155"/>
                  </a:lnTo>
                  <a:lnTo>
                    <a:pt x="87" y="1155"/>
                  </a:lnTo>
                  <a:lnTo>
                    <a:pt x="87" y="1114"/>
                  </a:lnTo>
                  <a:lnTo>
                    <a:pt x="43" y="1114"/>
                  </a:lnTo>
                  <a:lnTo>
                    <a:pt x="43" y="825"/>
                  </a:lnTo>
                  <a:lnTo>
                    <a:pt x="131" y="825"/>
                  </a:lnTo>
                  <a:lnTo>
                    <a:pt x="175" y="454"/>
                  </a:lnTo>
                  <a:lnTo>
                    <a:pt x="219" y="413"/>
                  </a:lnTo>
                  <a:lnTo>
                    <a:pt x="350" y="371"/>
                  </a:lnTo>
                  <a:lnTo>
                    <a:pt x="350" y="330"/>
                  </a:lnTo>
                  <a:lnTo>
                    <a:pt x="306" y="289"/>
                  </a:lnTo>
                  <a:lnTo>
                    <a:pt x="306" y="248"/>
                  </a:lnTo>
                  <a:lnTo>
                    <a:pt x="263" y="206"/>
                  </a:lnTo>
                  <a:lnTo>
                    <a:pt x="263" y="124"/>
                  </a:lnTo>
                  <a:lnTo>
                    <a:pt x="306" y="41"/>
                  </a:lnTo>
                  <a:lnTo>
                    <a:pt x="350" y="0"/>
                  </a:lnTo>
                  <a:lnTo>
                    <a:pt x="438" y="0"/>
                  </a:lnTo>
                </a:path>
              </a:pathLst>
            </a:custGeom>
            <a:solidFill>
              <a:srgbClr val="00535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8116920" y="4433760"/>
              <a:ext cx="214200" cy="5493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415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8277480" y="4433760"/>
              <a:ext cx="18720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57"/>
          <p:cNvGrpSpPr/>
          <p:nvPr/>
        </p:nvGrpSpPr>
        <p:grpSpPr>
          <a:xfrm>
            <a:off x="5646600" y="5540400"/>
            <a:ext cx="844560" cy="549360"/>
            <a:chOff x="5646600" y="5540400"/>
            <a:chExt cx="844560" cy="549360"/>
          </a:xfrm>
        </p:grpSpPr>
        <p:sp>
          <p:nvSpPr>
            <p:cNvPr id="404" name="Freeform 5"/>
            <p:cNvSpPr/>
            <p:nvPr/>
          </p:nvSpPr>
          <p:spPr>
            <a:xfrm>
              <a:off x="5646600" y="5540400"/>
              <a:ext cx="18720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"/>
            <p:cNvSpPr/>
            <p:nvPr/>
          </p:nvSpPr>
          <p:spPr>
            <a:xfrm>
              <a:off x="5905440" y="5540400"/>
              <a:ext cx="214200" cy="5493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0053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6011640" y="5540400"/>
              <a:ext cx="18864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535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5798880" y="5540400"/>
              <a:ext cx="207720" cy="549360"/>
            </a:xfrm>
            <a:custGeom>
              <a:avLst/>
              <a:gdLst/>
              <a:ahLst/>
              <a:rect l="l" t="t" r="r" b="b"/>
              <a:pathLst>
                <a:path w="878" h="2353">
                  <a:moveTo>
                    <a:pt x="438" y="0"/>
                  </a:moveTo>
                  <a:lnTo>
                    <a:pt x="482" y="0"/>
                  </a:lnTo>
                  <a:lnTo>
                    <a:pt x="526" y="41"/>
                  </a:lnTo>
                  <a:lnTo>
                    <a:pt x="570" y="124"/>
                  </a:lnTo>
                  <a:lnTo>
                    <a:pt x="570" y="206"/>
                  </a:lnTo>
                  <a:lnTo>
                    <a:pt x="526" y="248"/>
                  </a:lnTo>
                  <a:lnTo>
                    <a:pt x="526" y="289"/>
                  </a:lnTo>
                  <a:lnTo>
                    <a:pt x="482" y="330"/>
                  </a:lnTo>
                  <a:lnTo>
                    <a:pt x="482" y="371"/>
                  </a:lnTo>
                  <a:lnTo>
                    <a:pt x="613" y="413"/>
                  </a:lnTo>
                  <a:lnTo>
                    <a:pt x="657" y="454"/>
                  </a:lnTo>
                  <a:lnTo>
                    <a:pt x="789" y="908"/>
                  </a:lnTo>
                  <a:lnTo>
                    <a:pt x="701" y="1073"/>
                  </a:lnTo>
                  <a:lnTo>
                    <a:pt x="613" y="1238"/>
                  </a:lnTo>
                  <a:lnTo>
                    <a:pt x="613" y="1114"/>
                  </a:lnTo>
                  <a:lnTo>
                    <a:pt x="613" y="1073"/>
                  </a:lnTo>
                  <a:lnTo>
                    <a:pt x="701" y="908"/>
                  </a:lnTo>
                  <a:lnTo>
                    <a:pt x="613" y="619"/>
                  </a:lnTo>
                  <a:lnTo>
                    <a:pt x="613" y="908"/>
                  </a:lnTo>
                  <a:lnTo>
                    <a:pt x="613" y="1114"/>
                  </a:lnTo>
                  <a:lnTo>
                    <a:pt x="657" y="1485"/>
                  </a:lnTo>
                  <a:lnTo>
                    <a:pt x="701" y="1816"/>
                  </a:lnTo>
                  <a:lnTo>
                    <a:pt x="701" y="2228"/>
                  </a:lnTo>
                  <a:lnTo>
                    <a:pt x="877" y="2352"/>
                  </a:lnTo>
                  <a:lnTo>
                    <a:pt x="745" y="2352"/>
                  </a:lnTo>
                  <a:lnTo>
                    <a:pt x="657" y="2311"/>
                  </a:lnTo>
                  <a:lnTo>
                    <a:pt x="657" y="2352"/>
                  </a:lnTo>
                  <a:lnTo>
                    <a:pt x="570" y="2352"/>
                  </a:lnTo>
                  <a:lnTo>
                    <a:pt x="570" y="2269"/>
                  </a:lnTo>
                  <a:lnTo>
                    <a:pt x="526" y="2269"/>
                  </a:lnTo>
                  <a:lnTo>
                    <a:pt x="526" y="1774"/>
                  </a:lnTo>
                  <a:lnTo>
                    <a:pt x="438" y="1362"/>
                  </a:lnTo>
                  <a:lnTo>
                    <a:pt x="394" y="1362"/>
                  </a:lnTo>
                  <a:lnTo>
                    <a:pt x="350" y="2269"/>
                  </a:lnTo>
                  <a:lnTo>
                    <a:pt x="350" y="2269"/>
                  </a:lnTo>
                  <a:lnTo>
                    <a:pt x="306" y="2269"/>
                  </a:lnTo>
                  <a:lnTo>
                    <a:pt x="306" y="2352"/>
                  </a:lnTo>
                  <a:lnTo>
                    <a:pt x="219" y="2352"/>
                  </a:lnTo>
                  <a:lnTo>
                    <a:pt x="219" y="2311"/>
                  </a:lnTo>
                  <a:lnTo>
                    <a:pt x="175" y="2352"/>
                  </a:lnTo>
                  <a:lnTo>
                    <a:pt x="0" y="2352"/>
                  </a:lnTo>
                  <a:lnTo>
                    <a:pt x="175" y="2228"/>
                  </a:lnTo>
                  <a:lnTo>
                    <a:pt x="175" y="2228"/>
                  </a:lnTo>
                  <a:lnTo>
                    <a:pt x="219" y="1238"/>
                  </a:lnTo>
                  <a:lnTo>
                    <a:pt x="219" y="1114"/>
                  </a:lnTo>
                  <a:lnTo>
                    <a:pt x="219" y="1114"/>
                  </a:lnTo>
                  <a:lnTo>
                    <a:pt x="219" y="1155"/>
                  </a:lnTo>
                  <a:lnTo>
                    <a:pt x="87" y="1155"/>
                  </a:lnTo>
                  <a:lnTo>
                    <a:pt x="87" y="1114"/>
                  </a:lnTo>
                  <a:lnTo>
                    <a:pt x="43" y="1114"/>
                  </a:lnTo>
                  <a:lnTo>
                    <a:pt x="43" y="825"/>
                  </a:lnTo>
                  <a:lnTo>
                    <a:pt x="131" y="825"/>
                  </a:lnTo>
                  <a:lnTo>
                    <a:pt x="175" y="454"/>
                  </a:lnTo>
                  <a:lnTo>
                    <a:pt x="219" y="413"/>
                  </a:lnTo>
                  <a:lnTo>
                    <a:pt x="350" y="371"/>
                  </a:lnTo>
                  <a:lnTo>
                    <a:pt x="350" y="330"/>
                  </a:lnTo>
                  <a:lnTo>
                    <a:pt x="306" y="289"/>
                  </a:lnTo>
                  <a:lnTo>
                    <a:pt x="306" y="248"/>
                  </a:lnTo>
                  <a:lnTo>
                    <a:pt x="263" y="206"/>
                  </a:lnTo>
                  <a:lnTo>
                    <a:pt x="263" y="124"/>
                  </a:lnTo>
                  <a:lnTo>
                    <a:pt x="306" y="41"/>
                  </a:lnTo>
                  <a:lnTo>
                    <a:pt x="350" y="0"/>
                  </a:lnTo>
                  <a:lnTo>
                    <a:pt x="438" y="0"/>
                  </a:lnTo>
                </a:path>
              </a:pathLst>
            </a:custGeom>
            <a:solidFill>
              <a:srgbClr val="00535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"/>
            <p:cNvSpPr/>
            <p:nvPr/>
          </p:nvSpPr>
          <p:spPr>
            <a:xfrm>
              <a:off x="6143400" y="5540400"/>
              <a:ext cx="214200" cy="54936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415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"/>
            <p:cNvSpPr/>
            <p:nvPr/>
          </p:nvSpPr>
          <p:spPr>
            <a:xfrm>
              <a:off x="6303960" y="5540400"/>
              <a:ext cx="187200" cy="54936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64"/>
          <p:cNvGrpSpPr/>
          <p:nvPr/>
        </p:nvGrpSpPr>
        <p:grpSpPr>
          <a:xfrm>
            <a:off x="7034040" y="5324400"/>
            <a:ext cx="844560" cy="547920"/>
            <a:chOff x="7034040" y="5324400"/>
            <a:chExt cx="844560" cy="547920"/>
          </a:xfrm>
        </p:grpSpPr>
        <p:sp>
          <p:nvSpPr>
            <p:cNvPr id="411" name="Freeform 5"/>
            <p:cNvSpPr/>
            <p:nvPr/>
          </p:nvSpPr>
          <p:spPr>
            <a:xfrm>
              <a:off x="7034040" y="5324400"/>
              <a:ext cx="187200" cy="54792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"/>
            <p:cNvSpPr/>
            <p:nvPr/>
          </p:nvSpPr>
          <p:spPr>
            <a:xfrm>
              <a:off x="7292880" y="5324400"/>
              <a:ext cx="214200" cy="54792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0053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7399080" y="5324400"/>
              <a:ext cx="188640" cy="54792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535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7186320" y="5324400"/>
              <a:ext cx="207720" cy="547920"/>
            </a:xfrm>
            <a:custGeom>
              <a:avLst/>
              <a:gdLst/>
              <a:ahLst/>
              <a:rect l="l" t="t" r="r" b="b"/>
              <a:pathLst>
                <a:path w="878" h="2353">
                  <a:moveTo>
                    <a:pt x="438" y="0"/>
                  </a:moveTo>
                  <a:lnTo>
                    <a:pt x="482" y="0"/>
                  </a:lnTo>
                  <a:lnTo>
                    <a:pt x="526" y="41"/>
                  </a:lnTo>
                  <a:lnTo>
                    <a:pt x="570" y="124"/>
                  </a:lnTo>
                  <a:lnTo>
                    <a:pt x="570" y="206"/>
                  </a:lnTo>
                  <a:lnTo>
                    <a:pt x="526" y="248"/>
                  </a:lnTo>
                  <a:lnTo>
                    <a:pt x="526" y="289"/>
                  </a:lnTo>
                  <a:lnTo>
                    <a:pt x="482" y="330"/>
                  </a:lnTo>
                  <a:lnTo>
                    <a:pt x="482" y="371"/>
                  </a:lnTo>
                  <a:lnTo>
                    <a:pt x="613" y="413"/>
                  </a:lnTo>
                  <a:lnTo>
                    <a:pt x="657" y="454"/>
                  </a:lnTo>
                  <a:lnTo>
                    <a:pt x="789" y="908"/>
                  </a:lnTo>
                  <a:lnTo>
                    <a:pt x="701" y="1073"/>
                  </a:lnTo>
                  <a:lnTo>
                    <a:pt x="613" y="1238"/>
                  </a:lnTo>
                  <a:lnTo>
                    <a:pt x="613" y="1114"/>
                  </a:lnTo>
                  <a:lnTo>
                    <a:pt x="613" y="1073"/>
                  </a:lnTo>
                  <a:lnTo>
                    <a:pt x="701" y="908"/>
                  </a:lnTo>
                  <a:lnTo>
                    <a:pt x="613" y="619"/>
                  </a:lnTo>
                  <a:lnTo>
                    <a:pt x="613" y="908"/>
                  </a:lnTo>
                  <a:lnTo>
                    <a:pt x="613" y="1114"/>
                  </a:lnTo>
                  <a:lnTo>
                    <a:pt x="657" y="1485"/>
                  </a:lnTo>
                  <a:lnTo>
                    <a:pt x="701" y="1816"/>
                  </a:lnTo>
                  <a:lnTo>
                    <a:pt x="701" y="2228"/>
                  </a:lnTo>
                  <a:lnTo>
                    <a:pt x="877" y="2352"/>
                  </a:lnTo>
                  <a:lnTo>
                    <a:pt x="745" y="2352"/>
                  </a:lnTo>
                  <a:lnTo>
                    <a:pt x="657" y="2311"/>
                  </a:lnTo>
                  <a:lnTo>
                    <a:pt x="657" y="2352"/>
                  </a:lnTo>
                  <a:lnTo>
                    <a:pt x="570" y="2352"/>
                  </a:lnTo>
                  <a:lnTo>
                    <a:pt x="570" y="2269"/>
                  </a:lnTo>
                  <a:lnTo>
                    <a:pt x="526" y="2269"/>
                  </a:lnTo>
                  <a:lnTo>
                    <a:pt x="526" y="1774"/>
                  </a:lnTo>
                  <a:lnTo>
                    <a:pt x="438" y="1362"/>
                  </a:lnTo>
                  <a:lnTo>
                    <a:pt x="394" y="1362"/>
                  </a:lnTo>
                  <a:lnTo>
                    <a:pt x="350" y="2269"/>
                  </a:lnTo>
                  <a:lnTo>
                    <a:pt x="350" y="2269"/>
                  </a:lnTo>
                  <a:lnTo>
                    <a:pt x="306" y="2269"/>
                  </a:lnTo>
                  <a:lnTo>
                    <a:pt x="306" y="2352"/>
                  </a:lnTo>
                  <a:lnTo>
                    <a:pt x="219" y="2352"/>
                  </a:lnTo>
                  <a:lnTo>
                    <a:pt x="219" y="2311"/>
                  </a:lnTo>
                  <a:lnTo>
                    <a:pt x="175" y="2352"/>
                  </a:lnTo>
                  <a:lnTo>
                    <a:pt x="0" y="2352"/>
                  </a:lnTo>
                  <a:lnTo>
                    <a:pt x="175" y="2228"/>
                  </a:lnTo>
                  <a:lnTo>
                    <a:pt x="175" y="2228"/>
                  </a:lnTo>
                  <a:lnTo>
                    <a:pt x="219" y="1238"/>
                  </a:lnTo>
                  <a:lnTo>
                    <a:pt x="219" y="1114"/>
                  </a:lnTo>
                  <a:lnTo>
                    <a:pt x="219" y="1114"/>
                  </a:lnTo>
                  <a:lnTo>
                    <a:pt x="219" y="1155"/>
                  </a:lnTo>
                  <a:lnTo>
                    <a:pt x="87" y="1155"/>
                  </a:lnTo>
                  <a:lnTo>
                    <a:pt x="87" y="1114"/>
                  </a:lnTo>
                  <a:lnTo>
                    <a:pt x="43" y="1114"/>
                  </a:lnTo>
                  <a:lnTo>
                    <a:pt x="43" y="825"/>
                  </a:lnTo>
                  <a:lnTo>
                    <a:pt x="131" y="825"/>
                  </a:lnTo>
                  <a:lnTo>
                    <a:pt x="175" y="454"/>
                  </a:lnTo>
                  <a:lnTo>
                    <a:pt x="219" y="413"/>
                  </a:lnTo>
                  <a:lnTo>
                    <a:pt x="350" y="371"/>
                  </a:lnTo>
                  <a:lnTo>
                    <a:pt x="350" y="330"/>
                  </a:lnTo>
                  <a:lnTo>
                    <a:pt x="306" y="289"/>
                  </a:lnTo>
                  <a:lnTo>
                    <a:pt x="306" y="248"/>
                  </a:lnTo>
                  <a:lnTo>
                    <a:pt x="263" y="206"/>
                  </a:lnTo>
                  <a:lnTo>
                    <a:pt x="263" y="124"/>
                  </a:lnTo>
                  <a:lnTo>
                    <a:pt x="306" y="41"/>
                  </a:lnTo>
                  <a:lnTo>
                    <a:pt x="350" y="0"/>
                  </a:lnTo>
                  <a:lnTo>
                    <a:pt x="438" y="0"/>
                  </a:lnTo>
                </a:path>
              </a:pathLst>
            </a:custGeom>
            <a:solidFill>
              <a:srgbClr val="00535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7530840" y="5324400"/>
              <a:ext cx="214200" cy="547920"/>
            </a:xfrm>
            <a:custGeom>
              <a:avLst/>
              <a:gdLst/>
              <a:ahLst/>
              <a:rect l="l" t="t" r="r" b="b"/>
              <a:pathLst>
                <a:path w="901" h="2353">
                  <a:moveTo>
                    <a:pt x="450" y="0"/>
                  </a:moveTo>
                  <a:lnTo>
                    <a:pt x="495" y="0"/>
                  </a:lnTo>
                  <a:lnTo>
                    <a:pt x="540" y="41"/>
                  </a:lnTo>
                  <a:lnTo>
                    <a:pt x="585" y="124"/>
                  </a:lnTo>
                  <a:lnTo>
                    <a:pt x="585" y="206"/>
                  </a:lnTo>
                  <a:lnTo>
                    <a:pt x="540" y="248"/>
                  </a:lnTo>
                  <a:lnTo>
                    <a:pt x="540" y="289"/>
                  </a:lnTo>
                  <a:lnTo>
                    <a:pt x="495" y="330"/>
                  </a:lnTo>
                  <a:lnTo>
                    <a:pt x="495" y="371"/>
                  </a:lnTo>
                  <a:lnTo>
                    <a:pt x="630" y="413"/>
                  </a:lnTo>
                  <a:lnTo>
                    <a:pt x="675" y="454"/>
                  </a:lnTo>
                  <a:lnTo>
                    <a:pt x="810" y="908"/>
                  </a:lnTo>
                  <a:lnTo>
                    <a:pt x="720" y="1073"/>
                  </a:lnTo>
                  <a:lnTo>
                    <a:pt x="630" y="1238"/>
                  </a:lnTo>
                  <a:lnTo>
                    <a:pt x="630" y="1114"/>
                  </a:lnTo>
                  <a:lnTo>
                    <a:pt x="630" y="1073"/>
                  </a:lnTo>
                  <a:lnTo>
                    <a:pt x="720" y="908"/>
                  </a:lnTo>
                  <a:lnTo>
                    <a:pt x="630" y="619"/>
                  </a:lnTo>
                  <a:lnTo>
                    <a:pt x="630" y="908"/>
                  </a:lnTo>
                  <a:lnTo>
                    <a:pt x="630" y="1114"/>
                  </a:lnTo>
                  <a:lnTo>
                    <a:pt x="675" y="1485"/>
                  </a:lnTo>
                  <a:lnTo>
                    <a:pt x="720" y="1816"/>
                  </a:lnTo>
                  <a:lnTo>
                    <a:pt x="720" y="2228"/>
                  </a:lnTo>
                  <a:lnTo>
                    <a:pt x="900" y="2352"/>
                  </a:lnTo>
                  <a:lnTo>
                    <a:pt x="765" y="2352"/>
                  </a:lnTo>
                  <a:lnTo>
                    <a:pt x="675" y="2311"/>
                  </a:lnTo>
                  <a:lnTo>
                    <a:pt x="675" y="2352"/>
                  </a:lnTo>
                  <a:lnTo>
                    <a:pt x="585" y="2352"/>
                  </a:lnTo>
                  <a:lnTo>
                    <a:pt x="585" y="2269"/>
                  </a:lnTo>
                  <a:lnTo>
                    <a:pt x="540" y="2269"/>
                  </a:lnTo>
                  <a:lnTo>
                    <a:pt x="540" y="1774"/>
                  </a:lnTo>
                  <a:lnTo>
                    <a:pt x="450" y="1362"/>
                  </a:lnTo>
                  <a:lnTo>
                    <a:pt x="405" y="1362"/>
                  </a:lnTo>
                  <a:lnTo>
                    <a:pt x="360" y="2269"/>
                  </a:lnTo>
                  <a:lnTo>
                    <a:pt x="360" y="2269"/>
                  </a:lnTo>
                  <a:lnTo>
                    <a:pt x="315" y="2269"/>
                  </a:lnTo>
                  <a:lnTo>
                    <a:pt x="315" y="2352"/>
                  </a:lnTo>
                  <a:lnTo>
                    <a:pt x="225" y="2352"/>
                  </a:lnTo>
                  <a:lnTo>
                    <a:pt x="225" y="2311"/>
                  </a:lnTo>
                  <a:lnTo>
                    <a:pt x="180" y="2352"/>
                  </a:lnTo>
                  <a:lnTo>
                    <a:pt x="0" y="2352"/>
                  </a:lnTo>
                  <a:lnTo>
                    <a:pt x="180" y="2228"/>
                  </a:lnTo>
                  <a:lnTo>
                    <a:pt x="180" y="2228"/>
                  </a:lnTo>
                  <a:lnTo>
                    <a:pt x="225" y="1238"/>
                  </a:lnTo>
                  <a:lnTo>
                    <a:pt x="225" y="1114"/>
                  </a:lnTo>
                  <a:lnTo>
                    <a:pt x="225" y="1114"/>
                  </a:lnTo>
                  <a:lnTo>
                    <a:pt x="225" y="1155"/>
                  </a:lnTo>
                  <a:lnTo>
                    <a:pt x="90" y="1155"/>
                  </a:lnTo>
                  <a:lnTo>
                    <a:pt x="90" y="1114"/>
                  </a:lnTo>
                  <a:lnTo>
                    <a:pt x="45" y="1114"/>
                  </a:lnTo>
                  <a:lnTo>
                    <a:pt x="45" y="825"/>
                  </a:lnTo>
                  <a:lnTo>
                    <a:pt x="135" y="825"/>
                  </a:lnTo>
                  <a:lnTo>
                    <a:pt x="180" y="454"/>
                  </a:lnTo>
                  <a:lnTo>
                    <a:pt x="225" y="413"/>
                  </a:lnTo>
                  <a:lnTo>
                    <a:pt x="360" y="371"/>
                  </a:lnTo>
                  <a:lnTo>
                    <a:pt x="360" y="330"/>
                  </a:lnTo>
                  <a:lnTo>
                    <a:pt x="315" y="289"/>
                  </a:lnTo>
                  <a:lnTo>
                    <a:pt x="315" y="248"/>
                  </a:lnTo>
                  <a:lnTo>
                    <a:pt x="270" y="206"/>
                  </a:lnTo>
                  <a:lnTo>
                    <a:pt x="270" y="124"/>
                  </a:lnTo>
                  <a:lnTo>
                    <a:pt x="315" y="41"/>
                  </a:lnTo>
                  <a:lnTo>
                    <a:pt x="360" y="0"/>
                  </a:lnTo>
                  <a:lnTo>
                    <a:pt x="450" y="0"/>
                  </a:lnTo>
                </a:path>
              </a:pathLst>
            </a:custGeom>
            <a:solidFill>
              <a:srgbClr val="4152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7691400" y="5324400"/>
              <a:ext cx="187200" cy="547920"/>
            </a:xfrm>
            <a:custGeom>
              <a:avLst/>
              <a:gdLst/>
              <a:ahLst/>
              <a:rect l="l" t="t" r="r" b="b"/>
              <a:pathLst>
                <a:path w="790" h="2353">
                  <a:moveTo>
                    <a:pt x="394" y="0"/>
                  </a:moveTo>
                  <a:lnTo>
                    <a:pt x="438" y="0"/>
                  </a:lnTo>
                  <a:lnTo>
                    <a:pt x="482" y="41"/>
                  </a:lnTo>
                  <a:lnTo>
                    <a:pt x="526" y="206"/>
                  </a:lnTo>
                  <a:lnTo>
                    <a:pt x="569" y="248"/>
                  </a:lnTo>
                  <a:lnTo>
                    <a:pt x="482" y="248"/>
                  </a:lnTo>
                  <a:lnTo>
                    <a:pt x="482" y="289"/>
                  </a:lnTo>
                  <a:lnTo>
                    <a:pt x="438" y="330"/>
                  </a:lnTo>
                  <a:lnTo>
                    <a:pt x="438" y="371"/>
                  </a:lnTo>
                  <a:lnTo>
                    <a:pt x="569" y="413"/>
                  </a:lnTo>
                  <a:lnTo>
                    <a:pt x="613" y="454"/>
                  </a:lnTo>
                  <a:lnTo>
                    <a:pt x="745" y="825"/>
                  </a:lnTo>
                  <a:lnTo>
                    <a:pt x="657" y="1073"/>
                  </a:lnTo>
                  <a:lnTo>
                    <a:pt x="569" y="1114"/>
                  </a:lnTo>
                  <a:lnTo>
                    <a:pt x="526" y="1032"/>
                  </a:lnTo>
                  <a:lnTo>
                    <a:pt x="569" y="1032"/>
                  </a:lnTo>
                  <a:lnTo>
                    <a:pt x="657" y="825"/>
                  </a:lnTo>
                  <a:lnTo>
                    <a:pt x="569" y="578"/>
                  </a:lnTo>
                  <a:lnTo>
                    <a:pt x="482" y="908"/>
                  </a:lnTo>
                  <a:lnTo>
                    <a:pt x="569" y="1114"/>
                  </a:lnTo>
                  <a:lnTo>
                    <a:pt x="657" y="1651"/>
                  </a:lnTo>
                  <a:lnTo>
                    <a:pt x="613" y="1651"/>
                  </a:lnTo>
                  <a:lnTo>
                    <a:pt x="657" y="2228"/>
                  </a:lnTo>
                  <a:lnTo>
                    <a:pt x="789" y="2352"/>
                  </a:lnTo>
                  <a:lnTo>
                    <a:pt x="701" y="2352"/>
                  </a:lnTo>
                  <a:lnTo>
                    <a:pt x="613" y="2311"/>
                  </a:lnTo>
                  <a:lnTo>
                    <a:pt x="613" y="2352"/>
                  </a:lnTo>
                  <a:lnTo>
                    <a:pt x="569" y="2352"/>
                  </a:lnTo>
                  <a:lnTo>
                    <a:pt x="569" y="2269"/>
                  </a:lnTo>
                  <a:lnTo>
                    <a:pt x="569" y="2146"/>
                  </a:lnTo>
                  <a:lnTo>
                    <a:pt x="482" y="1857"/>
                  </a:lnTo>
                  <a:lnTo>
                    <a:pt x="482" y="1651"/>
                  </a:lnTo>
                  <a:lnTo>
                    <a:pt x="306" y="1651"/>
                  </a:lnTo>
                  <a:lnTo>
                    <a:pt x="306" y="1857"/>
                  </a:lnTo>
                  <a:lnTo>
                    <a:pt x="219" y="2187"/>
                  </a:lnTo>
                  <a:lnTo>
                    <a:pt x="219" y="2269"/>
                  </a:lnTo>
                  <a:lnTo>
                    <a:pt x="219" y="2352"/>
                  </a:lnTo>
                  <a:lnTo>
                    <a:pt x="175" y="2352"/>
                  </a:lnTo>
                  <a:lnTo>
                    <a:pt x="175" y="2311"/>
                  </a:lnTo>
                  <a:lnTo>
                    <a:pt x="131" y="2352"/>
                  </a:lnTo>
                  <a:lnTo>
                    <a:pt x="43" y="2352"/>
                  </a:lnTo>
                  <a:lnTo>
                    <a:pt x="131" y="2187"/>
                  </a:lnTo>
                  <a:lnTo>
                    <a:pt x="175" y="1651"/>
                  </a:lnTo>
                  <a:lnTo>
                    <a:pt x="131" y="1651"/>
                  </a:lnTo>
                  <a:lnTo>
                    <a:pt x="175" y="1114"/>
                  </a:lnTo>
                  <a:lnTo>
                    <a:pt x="131" y="1114"/>
                  </a:lnTo>
                  <a:lnTo>
                    <a:pt x="131" y="1155"/>
                  </a:lnTo>
                  <a:lnTo>
                    <a:pt x="43" y="1155"/>
                  </a:lnTo>
                  <a:lnTo>
                    <a:pt x="43" y="1114"/>
                  </a:lnTo>
                  <a:lnTo>
                    <a:pt x="0" y="1114"/>
                  </a:lnTo>
                  <a:lnTo>
                    <a:pt x="0" y="825"/>
                  </a:lnTo>
                  <a:lnTo>
                    <a:pt x="87" y="825"/>
                  </a:lnTo>
                  <a:lnTo>
                    <a:pt x="131" y="454"/>
                  </a:lnTo>
                  <a:lnTo>
                    <a:pt x="175" y="413"/>
                  </a:lnTo>
                  <a:lnTo>
                    <a:pt x="306" y="371"/>
                  </a:lnTo>
                  <a:lnTo>
                    <a:pt x="306" y="330"/>
                  </a:lnTo>
                  <a:lnTo>
                    <a:pt x="263" y="289"/>
                  </a:lnTo>
                  <a:lnTo>
                    <a:pt x="263" y="248"/>
                  </a:lnTo>
                  <a:lnTo>
                    <a:pt x="219" y="248"/>
                  </a:lnTo>
                  <a:lnTo>
                    <a:pt x="219" y="124"/>
                  </a:lnTo>
                  <a:lnTo>
                    <a:pt x="263" y="41"/>
                  </a:lnTo>
                  <a:lnTo>
                    <a:pt x="306" y="0"/>
                  </a:lnTo>
                  <a:lnTo>
                    <a:pt x="394" y="0"/>
                  </a:lnTo>
                </a:path>
              </a:pathLst>
            </a:custGeom>
            <a:solidFill>
              <a:srgbClr val="003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71" descr=""/>
          <p:cNvPicPr/>
          <p:nvPr/>
        </p:nvPicPr>
        <p:blipFill>
          <a:blip r:embed="rId5"/>
          <a:stretch/>
        </p:blipFill>
        <p:spPr>
          <a:xfrm>
            <a:off x="995400" y="486576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2" descr=""/>
          <p:cNvPicPr/>
          <p:nvPr/>
        </p:nvPicPr>
        <p:blipFill>
          <a:blip r:embed="rId6"/>
          <a:stretch/>
        </p:blipFill>
        <p:spPr>
          <a:xfrm>
            <a:off x="1905120" y="5097600"/>
            <a:ext cx="779400" cy="779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3" descr=""/>
          <p:cNvPicPr/>
          <p:nvPr/>
        </p:nvPicPr>
        <p:blipFill>
          <a:blip r:embed="rId7"/>
          <a:stretch/>
        </p:blipFill>
        <p:spPr>
          <a:xfrm>
            <a:off x="76320" y="419112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4" descr=""/>
          <p:cNvPicPr/>
          <p:nvPr/>
        </p:nvPicPr>
        <p:blipFill>
          <a:blip r:embed="rId8"/>
          <a:stretch/>
        </p:blipFill>
        <p:spPr>
          <a:xfrm>
            <a:off x="609480" y="3713040"/>
            <a:ext cx="781200" cy="7858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75"/>
          <p:cNvSpPr/>
          <p:nvPr/>
        </p:nvSpPr>
        <p:spPr>
          <a:xfrm>
            <a:off x="782640" y="5646600"/>
            <a:ext cx="225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  <a:ea typeface="Arial"/>
              </a:rPr>
              <a:t>Especialistas</a:t>
            </a:r>
            <a:br>
              <a:rPr sz="1400"/>
            </a:br>
            <a:r>
              <a:rPr b="1" lang="es-ES" sz="1400" spc="-1" strike="noStrike">
                <a:solidFill>
                  <a:srgbClr val="c00000"/>
                </a:solidFill>
                <a:latin typeface="Arial"/>
                <a:ea typeface="Arial"/>
              </a:rPr>
              <a:t>en diseño y análisis de Evaluación de Imp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6"/>
          <p:cNvGrpSpPr/>
          <p:nvPr/>
        </p:nvGrpSpPr>
        <p:grpSpPr>
          <a:xfrm>
            <a:off x="5181480" y="2193840"/>
            <a:ext cx="3467160" cy="2020680"/>
            <a:chOff x="5181480" y="2193840"/>
            <a:chExt cx="3467160" cy="2020680"/>
          </a:xfrm>
        </p:grpSpPr>
        <p:sp>
          <p:nvSpPr>
            <p:cNvPr id="423" name="TextBox 77"/>
            <p:cNvSpPr/>
            <p:nvPr/>
          </p:nvSpPr>
          <p:spPr>
            <a:xfrm>
              <a:off x="5181480" y="3481200"/>
              <a:ext cx="15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Jefe</a:t>
              </a:r>
              <a:br>
                <a:rPr sz="1400"/>
              </a:b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de operaciones de cam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78" descr=""/>
            <p:cNvPicPr/>
            <p:nvPr/>
          </p:nvPicPr>
          <p:blipFill>
            <a:blip r:embed="rId9"/>
            <a:stretch/>
          </p:blipFill>
          <p:spPr>
            <a:xfrm>
              <a:off x="5542920" y="2836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89"/>
            <p:cNvSpPr/>
            <p:nvPr/>
          </p:nvSpPr>
          <p:spPr>
            <a:xfrm>
              <a:off x="7086600" y="3481200"/>
              <a:ext cx="15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Jefe</a:t>
              </a:r>
              <a:br>
                <a:rPr sz="1400"/>
              </a:b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de gestión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92"/>
            <p:cNvSpPr/>
            <p:nvPr/>
          </p:nvSpPr>
          <p:spPr>
            <a:xfrm>
              <a:off x="7059600" y="2193840"/>
              <a:ext cx="15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Gerente de 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79"/>
          <p:cNvGrpSpPr/>
          <p:nvPr/>
        </p:nvGrpSpPr>
        <p:grpSpPr>
          <a:xfrm>
            <a:off x="2590920" y="4599720"/>
            <a:ext cx="1496880" cy="1377000"/>
            <a:chOff x="2590920" y="4599720"/>
            <a:chExt cx="1496880" cy="1377000"/>
          </a:xfrm>
        </p:grpSpPr>
        <p:sp>
          <p:nvSpPr>
            <p:cNvPr id="428" name="TextBox 80"/>
            <p:cNvSpPr/>
            <p:nvPr/>
          </p:nvSpPr>
          <p:spPr>
            <a:xfrm>
              <a:off x="2590920" y="5456520"/>
              <a:ext cx="149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Aseguramiento de C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81"/>
            <p:cNvGrpSpPr/>
            <p:nvPr/>
          </p:nvGrpSpPr>
          <p:grpSpPr>
            <a:xfrm>
              <a:off x="2889720" y="4599720"/>
              <a:ext cx="1023120" cy="1023120"/>
              <a:chOff x="2889720" y="4599720"/>
              <a:chExt cx="1023120" cy="1023120"/>
            </a:xfrm>
          </p:grpSpPr>
          <p:pic>
            <p:nvPicPr>
              <p:cNvPr id="430" name="Picture 82" descr=""/>
              <p:cNvPicPr/>
              <p:nvPr/>
            </p:nvPicPr>
            <p:blipFill>
              <a:blip r:embed="rId10"/>
              <a:stretch/>
            </p:blipFill>
            <p:spPr>
              <a:xfrm rot="20236800">
                <a:off x="3010320" y="4720320"/>
                <a:ext cx="781920" cy="78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83" descr=""/>
              <p:cNvPicPr/>
              <p:nvPr/>
            </p:nvPicPr>
            <p:blipFill>
              <a:blip r:embed="rId11"/>
              <a:stretch/>
            </p:blipFill>
            <p:spPr>
              <a:xfrm rot="20236800">
                <a:off x="3432240" y="4718880"/>
                <a:ext cx="365760" cy="36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2" name="Group 84"/>
          <p:cNvGrpSpPr/>
          <p:nvPr/>
        </p:nvGrpSpPr>
        <p:grpSpPr>
          <a:xfrm>
            <a:off x="3798360" y="4876560"/>
            <a:ext cx="1926000" cy="610200"/>
            <a:chOff x="3798360" y="4876560"/>
            <a:chExt cx="1926000" cy="610200"/>
          </a:xfrm>
        </p:grpSpPr>
        <p:cxnSp>
          <p:nvCxnSpPr>
            <p:cNvPr id="433" name="Straight Arrow Connector 85"/>
            <p:cNvCxnSpPr/>
            <p:nvPr/>
          </p:nvCxnSpPr>
          <p:spPr>
            <a:xfrm>
              <a:off x="3798360" y="5029200"/>
              <a:ext cx="1926360" cy="45792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34" name="Straight Arrow Connector 86"/>
            <p:cNvCxnSpPr/>
            <p:nvPr/>
          </p:nvCxnSpPr>
          <p:spPr>
            <a:xfrm>
              <a:off x="3854160" y="4876560"/>
              <a:ext cx="87048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35" name="TextBox 87"/>
          <p:cNvSpPr/>
          <p:nvPr/>
        </p:nvSpPr>
        <p:spPr>
          <a:xfrm>
            <a:off x="654120" y="302904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quipo de eval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2" descr="Coffee break icon"/>
          <p:cNvPicPr/>
          <p:nvPr/>
        </p:nvPicPr>
        <p:blipFill>
          <a:blip r:embed="rId12"/>
          <a:stretch/>
        </p:blipFill>
        <p:spPr>
          <a:xfrm>
            <a:off x="7238880" y="2819520"/>
            <a:ext cx="839880" cy="839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6" descr="Office Customer Male Dark icon"/>
          <p:cNvPicPr/>
          <p:nvPr/>
        </p:nvPicPr>
        <p:blipFill>
          <a:blip r:embed="rId13"/>
          <a:stretch/>
        </p:blipFill>
        <p:spPr>
          <a:xfrm>
            <a:off x="6477120" y="2286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38" name="40 Imagen" descr="p-verdes2.png"/>
          <p:cNvPicPr/>
          <p:nvPr/>
        </p:nvPicPr>
        <p:blipFill>
          <a:blip r:embed="rId14"/>
          <a:stretch/>
        </p:blipFill>
        <p:spPr>
          <a:xfrm>
            <a:off x="723960" y="3564000"/>
            <a:ext cx="662040" cy="701640"/>
          </a:xfrm>
          <a:prstGeom prst="rect">
            <a:avLst/>
          </a:prstGeom>
          <a:ln w="0">
            <a:noFill/>
          </a:ln>
        </p:spPr>
      </p:pic>
      <p:pic>
        <p:nvPicPr>
          <p:cNvPr id="439" name="40 Imagen" descr="p-verdes2.png"/>
          <p:cNvPicPr/>
          <p:nvPr/>
        </p:nvPicPr>
        <p:blipFill>
          <a:blip r:embed="rId15"/>
          <a:stretch/>
        </p:blipFill>
        <p:spPr>
          <a:xfrm>
            <a:off x="228600" y="3976560"/>
            <a:ext cx="662040" cy="703440"/>
          </a:xfrm>
          <a:prstGeom prst="rect">
            <a:avLst/>
          </a:prstGeom>
          <a:ln w="0">
            <a:noFill/>
          </a:ln>
        </p:spPr>
      </p:pic>
      <p:pic>
        <p:nvPicPr>
          <p:cNvPr id="440" name="40 Imagen" descr="p-verdes2.png"/>
          <p:cNvPicPr/>
          <p:nvPr/>
        </p:nvPicPr>
        <p:blipFill>
          <a:blip r:embed="rId16"/>
          <a:stretch/>
        </p:blipFill>
        <p:spPr>
          <a:xfrm>
            <a:off x="2779560" y="3278160"/>
            <a:ext cx="662040" cy="701640"/>
          </a:xfrm>
          <a:prstGeom prst="rect">
            <a:avLst/>
          </a:prstGeom>
          <a:ln w="0">
            <a:noFill/>
          </a:ln>
        </p:spPr>
      </p:pic>
      <p:pic>
        <p:nvPicPr>
          <p:cNvPr id="441" name="40 Imagen" descr="p-verdes2.png"/>
          <p:cNvPicPr/>
          <p:nvPr/>
        </p:nvPicPr>
        <p:blipFill>
          <a:blip r:embed="rId17"/>
          <a:stretch/>
        </p:blipFill>
        <p:spPr>
          <a:xfrm>
            <a:off x="1089000" y="4791240"/>
            <a:ext cx="660600" cy="701640"/>
          </a:xfrm>
          <a:prstGeom prst="rect">
            <a:avLst/>
          </a:prstGeom>
          <a:ln w="0">
            <a:noFill/>
          </a:ln>
        </p:spPr>
      </p:pic>
      <p:pic>
        <p:nvPicPr>
          <p:cNvPr id="442" name="40 Imagen" descr="p-verdes2.png"/>
          <p:cNvPicPr/>
          <p:nvPr/>
        </p:nvPicPr>
        <p:blipFill>
          <a:blip r:embed="rId18"/>
          <a:stretch/>
        </p:blipFill>
        <p:spPr>
          <a:xfrm>
            <a:off x="2022480" y="4921200"/>
            <a:ext cx="662040" cy="701640"/>
          </a:xfrm>
          <a:prstGeom prst="rect">
            <a:avLst/>
          </a:prstGeom>
          <a:ln w="0">
            <a:noFill/>
          </a:ln>
        </p:spPr>
      </p:pic>
      <p:pic>
        <p:nvPicPr>
          <p:cNvPr id="443" name="40 Imagen" descr="p-verdes2.png"/>
          <p:cNvPicPr/>
          <p:nvPr/>
        </p:nvPicPr>
        <p:blipFill>
          <a:blip r:embed="rId19"/>
          <a:stretch/>
        </p:blipFill>
        <p:spPr>
          <a:xfrm>
            <a:off x="3146400" y="4513320"/>
            <a:ext cx="662040" cy="701640"/>
          </a:xfrm>
          <a:prstGeom prst="rect">
            <a:avLst/>
          </a:prstGeom>
          <a:ln w="0">
            <a:noFill/>
          </a:ln>
        </p:spPr>
      </p:pic>
      <p:pic>
        <p:nvPicPr>
          <p:cNvPr id="444" name="40 Imagen" descr="p-verdes2.png"/>
          <p:cNvPicPr/>
          <p:nvPr/>
        </p:nvPicPr>
        <p:blipFill>
          <a:blip r:embed="rId20"/>
          <a:stretch/>
        </p:blipFill>
        <p:spPr>
          <a:xfrm>
            <a:off x="5662440" y="2727360"/>
            <a:ext cx="662040" cy="701640"/>
          </a:xfrm>
          <a:prstGeom prst="rect">
            <a:avLst/>
          </a:prstGeom>
          <a:ln w="0">
            <a:noFill/>
          </a:ln>
        </p:spPr>
      </p:pic>
      <p:pic>
        <p:nvPicPr>
          <p:cNvPr id="445" name="40 Imagen" descr="p-verdes2.png"/>
          <p:cNvPicPr/>
          <p:nvPr/>
        </p:nvPicPr>
        <p:blipFill>
          <a:blip r:embed="rId21"/>
          <a:stretch/>
        </p:blipFill>
        <p:spPr>
          <a:xfrm>
            <a:off x="6450120" y="2103480"/>
            <a:ext cx="693720" cy="731880"/>
          </a:xfrm>
          <a:prstGeom prst="rect">
            <a:avLst/>
          </a:prstGeom>
          <a:ln w="0">
            <a:noFill/>
          </a:ln>
        </p:spPr>
      </p:pic>
      <p:pic>
        <p:nvPicPr>
          <p:cNvPr id="446" name="40 Imagen" descr="p-verdes2.png"/>
          <p:cNvPicPr/>
          <p:nvPr/>
        </p:nvPicPr>
        <p:blipFill>
          <a:blip r:embed="rId22"/>
          <a:stretch/>
        </p:blipFill>
        <p:spPr>
          <a:xfrm>
            <a:off x="7223040" y="2633760"/>
            <a:ext cx="695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C:\Users\gastong\Downloads\Dibujo1 (2).png"/>
          <p:cNvPicPr/>
          <p:nvPr/>
        </p:nvPicPr>
        <p:blipFill>
          <a:blip r:embed="rId1"/>
          <a:stretch/>
        </p:blipFill>
        <p:spPr>
          <a:xfrm>
            <a:off x="304920" y="790560"/>
            <a:ext cx="6667560" cy="5533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Consistencia y trasmisión de dato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017-11BE-4672-AF0F-FFC02BDADB2C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"/>
          <p:cNvSpPr/>
          <p:nvPr/>
        </p:nvSpPr>
        <p:spPr>
          <a:xfrm>
            <a:off x="152280" y="16146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cuestionarios conclu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2268360" y="1596960"/>
            <a:ext cx="21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0"/>
          <p:cNvSpPr/>
          <p:nvPr/>
        </p:nvSpPr>
        <p:spPr>
          <a:xfrm>
            <a:off x="4773600" y="14018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digi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1"/>
          <p:cNvSpPr/>
          <p:nvPr/>
        </p:nvSpPr>
        <p:spPr>
          <a:xfrm>
            <a:off x="71280" y="2666880"/>
            <a:ext cx="227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verificaci</a:t>
            </a: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ón y corrección supervisor </a:t>
            </a: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/ encues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5791320" y="62485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la n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6858000" y="4114800"/>
            <a:ext cx="12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transmisi</a:t>
            </a: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ón servidor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"/>
          <p:cNvSpPr/>
          <p:nvPr/>
        </p:nvSpPr>
        <p:spPr>
          <a:xfrm>
            <a:off x="762120" y="5800680"/>
            <a:ext cx="142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2057400" y="4681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w Cen MT"/>
                <a:ea typeface="Arial"/>
              </a:rPr>
              <a:t>digi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3733920" y="46483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almace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3733920" y="6172200"/>
            <a:ext cx="142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70c0"/>
                </a:solidFill>
                <a:latin typeface="Tw Cen MT"/>
                <a:ea typeface="Arial"/>
              </a:rPr>
              <a:t>consistencia de base de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40 Imagen" descr="p-verdes2.png"/>
          <p:cNvPicPr/>
          <p:nvPr/>
        </p:nvPicPr>
        <p:blipFill>
          <a:blip r:embed="rId2"/>
          <a:stretch/>
        </p:blipFill>
        <p:spPr>
          <a:xfrm>
            <a:off x="2266920" y="914400"/>
            <a:ext cx="476280" cy="504720"/>
          </a:xfrm>
          <a:prstGeom prst="rect">
            <a:avLst/>
          </a:prstGeom>
          <a:ln w="0">
            <a:noFill/>
          </a:ln>
        </p:spPr>
      </p:pic>
      <p:pic>
        <p:nvPicPr>
          <p:cNvPr id="463" name="40 Imagen" descr="p-verdes2.png"/>
          <p:cNvPicPr/>
          <p:nvPr/>
        </p:nvPicPr>
        <p:blipFill>
          <a:blip r:embed="rId3"/>
          <a:stretch/>
        </p:blipFill>
        <p:spPr>
          <a:xfrm>
            <a:off x="1905120" y="2016000"/>
            <a:ext cx="4554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20:14:12Z</dcterms:created>
  <dc:creator>Gaston</dc:creator>
  <dc:description/>
  <dc:language>en-US</dc:language>
  <cp:lastModifiedBy>IADB</cp:lastModifiedBy>
  <dcterms:modified xsi:type="dcterms:W3CDTF">2015-04-07T08:30:49Z</dcterms:modified>
  <cp:revision>71</cp:revision>
  <dc:subject/>
  <dc:title>Recolección de datos_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ContentTypeId">
    <vt:lpwstr>0x01010066B06E59AB175241BBFB297522263BEB002B11A066E4C7C745BA3B55825AECA582</vt:lpwstr>
  </property>
  <property fmtid="{D5CDD505-2E9C-101B-9397-08002B2CF9AE}" pid="5" name="Country">
    <vt:lpwstr/>
  </property>
  <property fmtid="{D5CDD505-2E9C-101B-9397-08002B2CF9AE}" pid="6" name="Disclosed">
    <vt:lpwstr>1</vt:lpwstr>
  </property>
  <property fmtid="{D5CDD505-2E9C-101B-9397-08002B2CF9AE}" pid="7" name="Disclosure Activity">
    <vt:lpwstr>Evaluation</vt:lpwstr>
  </property>
  <property fmtid="{D5CDD505-2E9C-101B-9397-08002B2CF9AE}" pid="8" name="Division or Unit">
    <vt:lpwstr>SPD/SDV</vt:lpwstr>
  </property>
  <property fmtid="{D5CDD505-2E9C-101B-9397-08002B2CF9AE}" pid="9" name="Document Author">
    <vt:lpwstr>Gertner, Gaston Omar</vt:lpwstr>
  </property>
  <property fmtid="{D5CDD505-2E9C-101B-9397-08002B2CF9AE}" pid="10" name="Document Language IDB">
    <vt:lpwstr>Spanish</vt:lpwstr>
  </property>
  <property fmtid="{D5CDD505-2E9C-101B-9397-08002B2CF9AE}" pid="11" name="Editor1">
    <vt:lpwstr/>
  </property>
  <property fmtid="{D5CDD505-2E9C-101B-9397-08002B2CF9AE}" pid="12" name="Fiscal Year IDB">
    <vt:lpwstr>2014</vt:lpwstr>
  </property>
  <property fmtid="{D5CDD505-2E9C-101B-9397-08002B2CF9AE}" pid="13" name="From:">
    <vt:lpwstr/>
  </property>
  <property fmtid="{D5CDD505-2E9C-101B-9397-08002B2CF9AE}" pid="14" name="Function Corporate IDB">
    <vt:lpwstr>34;#IDBDocs|cca77002-e150-4b2d-ab1f-1d7a7cdcae16</vt:lpwstr>
  </property>
  <property fmtid="{D5CDD505-2E9C-101B-9397-08002B2CF9AE}" pid="15" name="IDBDocs Number">
    <vt:lpwstr>39266512</vt:lpwstr>
  </property>
  <property fmtid="{D5CDD505-2E9C-101B-9397-08002B2CF9AE}" pid="16" name="Identifier">
    <vt:lpwstr/>
  </property>
  <property fmtid="{D5CDD505-2E9C-101B-9397-08002B2CF9AE}" pid="17" name="KP Topics">
    <vt:lpwstr/>
  </property>
  <property fmtid="{D5CDD505-2E9C-101B-9397-08002B2CF9AE}" pid="18" name="Migration Info">
    <vt:lpwstr>&lt;Data&gt;&lt;APPLICATION&gt;MS POWERPOINT&lt;/APPLICATION&gt;&lt;STAGE_CODE&gt;EVAL&lt;/STAGE_CODE&gt;&lt;USER_STAGE&gt;Evaluation&lt;/USER_STAGE&gt;&lt;PD_OBJ_TYPE&gt;0&lt;/PD_OBJ_TYPE&gt;&lt;MAKERECORD&gt;N&lt;/MAKERECORD&gt;&lt;/Data&gt;</vt:lpwstr>
  </property>
  <property fmtid="{D5CDD505-2E9C-101B-9397-08002B2CF9AE}" pid="19" name="Other Author">
    <vt:lpwstr/>
  </property>
  <property fmtid="{D5CDD505-2E9C-101B-9397-08002B2CF9AE}" pid="20" name="Publication Type">
    <vt:lpwstr/>
  </property>
  <property fmtid="{D5CDD505-2E9C-101B-9397-08002B2CF9AE}" pid="21" name="Publishing House">
    <vt:lpwstr/>
  </property>
  <property fmtid="{D5CDD505-2E9C-101B-9397-08002B2CF9AE}" pid="22" name="Region">
    <vt:lpwstr/>
  </property>
  <property fmtid="{D5CDD505-2E9C-101B-9397-08002B2CF9AE}" pid="23" name="SISCOR Number">
    <vt:lpwstr/>
  </property>
  <property fmtid="{D5CDD505-2E9C-101B-9397-08002B2CF9AE}" pid="24" name="Series Corporate IDB">
    <vt:lpwstr>35;#Unclassified|a6dff32e-d477-44cd-a56b-85efe9e0a56c</vt:lpwstr>
  </property>
  <property fmtid="{D5CDD505-2E9C-101B-9397-08002B2CF9AE}" pid="25" name="TaxCatchAll">
    <vt:lpwstr>35;#Unclassified|a6dff32e-d477-44cd-a56b-85efe9e0a56c;#34;#IDBDocs|cca77002-e150-4b2d-ab1f-1d7a7cdcae16</vt:lpwstr>
  </property>
  <property fmtid="{D5CDD505-2E9C-101B-9397-08002B2CF9AE}" pid="26" name="TaxKeyword">
    <vt:lpwstr/>
  </property>
  <property fmtid="{D5CDD505-2E9C-101B-9397-08002B2CF9AE}" pid="27" name="TaxKeywordTaxHTField">
    <vt:lpwstr/>
  </property>
  <property fmtid="{D5CDD505-2E9C-101B-9397-08002B2CF9AE}" pid="28" name="To:">
    <vt:lpwstr/>
  </property>
  <property fmtid="{D5CDD505-2E9C-101B-9397-08002B2CF9AE}" pid="29" name="URL">
    <vt:lpwstr/>
  </property>
  <property fmtid="{D5CDD505-2E9C-101B-9397-08002B2CF9AE}" pid="30" name="Webtopic">
    <vt:lpwstr>Generic</vt:lpwstr>
  </property>
  <property fmtid="{D5CDD505-2E9C-101B-9397-08002B2CF9AE}" pid="31" name="_dlc_DocId">
    <vt:lpwstr>EZSHARE-220527872-3233</vt:lpwstr>
  </property>
  <property fmtid="{D5CDD505-2E9C-101B-9397-08002B2CF9AE}" pid="32" name="_dlc_DocIdItemGuid">
    <vt:lpwstr>12f05d85-edd8-4f98-929a-01fc20c3693f</vt:lpwstr>
  </property>
  <property fmtid="{D5CDD505-2E9C-101B-9397-08002B2CF9AE}" pid="33" name="_dlc_DocIdUrl">
    <vt:lpwstr>https://idbg.sharepoint.com/teams/ez-SPD/_layouts/15/DocIdRedir.aspx?ID=EZSHARE-220527872-3233, EZSHARE-220527872-3233</vt:lpwstr>
  </property>
  <property fmtid="{D5CDD505-2E9C-101B-9397-08002B2CF9AE}" pid="34" name="b19f620ab0cb412bbbcd401bf603221b">
    <vt:lpwstr>Unclassified|a6dff32e-d477-44cd-a56b-85efe9e0a56c</vt:lpwstr>
  </property>
  <property fmtid="{D5CDD505-2E9C-101B-9397-08002B2CF9AE}" pid="35" name="cf0f1ca6d90e4583ad80995bcde0e58a">
    <vt:lpwstr>IDBDocs|cca77002-e150-4b2d-ab1f-1d7a7cdcae16</vt:lpwstr>
  </property>
  <property fmtid="{D5CDD505-2E9C-101B-9397-08002B2CF9AE}" pid="36" name="display_urn:schemas-microsoft-com:office:office#Author">
    <vt:lpwstr>migration</vt:lpwstr>
  </property>
  <property fmtid="{D5CDD505-2E9C-101B-9397-08002B2CF9AE}" pid="37" name="display_urn:schemas-microsoft-com:office:office#Editor">
    <vt:lpwstr>migration</vt:lpwstr>
  </property>
  <property fmtid="{D5CDD505-2E9C-101B-9397-08002B2CF9AE}" pid="38" name="ic46d7e087fd4a108fb86518ca413cc6">
    <vt:lpwstr/>
  </property>
  <property fmtid="{D5CDD505-2E9C-101B-9397-08002B2CF9AE}" pid="39" name="j65ec2e3a7e44c39a1acebfd2a19200a">
    <vt:lpwstr>Unclassified|a6dff32e-d477-44cd-a56b-85efe9e0a56c</vt:lpwstr>
  </property>
  <property fmtid="{D5CDD505-2E9C-101B-9397-08002B2CF9AE}" pid="40" name="j8b96605ee2f4c4e988849e658583fee">
    <vt:lpwstr/>
  </property>
  <property fmtid="{D5CDD505-2E9C-101B-9397-08002B2CF9AE}" pid="41" name="kec44a8f19e94123ac6e16fcf3f0ea78">
    <vt:lpwstr>IDBDocs|cca77002-e150-4b2d-ab1f-1d7a7cdcae16</vt:lpwstr>
  </property>
</Properties>
</file>