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A57005-0B2A-4034-9E8F-1562CCEC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799D49-6CF3-483A-849F-41711AF646B1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7850DA-AF18-484F-A637-1FE8F8D17984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7E5C19-E379-4B20-9FD2-E7483D218B2F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412FC1-B221-4EA5-88A3-E941EF4C2B8A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23E709-ECD0-48D9-B7EA-EBD10B55C295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6B9E9-002A-4717-9D06-19E869BABDC3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678F7-8812-4AA9-91F7-AEBDCF71A1C4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D7DE7-1614-4E22-80B9-0BDA1A7CC44E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24E344-D629-43DE-9CE3-3DFC8D3AE7CA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644220-7F83-43B3-ABCD-A0D713436FF6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F50FE9-A359-43B0-A948-BD360B3B11AB}" type="slidenum"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794-0F2D-47F5-85CF-5C3513D2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1AF-326C-4409-9E0F-4F12ED4B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901-8ABB-4569-AA31-2446E9DD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6E3-376E-47F3-992F-9E326077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4EA5-87B6-4A6C-89E9-A1E4696C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E62A-5A23-4F29-B278-F67D5B4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D67A-10B4-46CE-BA8D-E032B9C7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E5F9-ECE6-48BB-BFE3-20B1E39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35F-D7CC-411A-8BA0-6870919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C114-2D89-4E3E-B6CF-8FD79C4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93AD-21CB-48E7-BC10-4DD24B5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C84-8A99-41AD-AA17-F108FD88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1EA-4620-4186-B921-A98A36A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E36-7CA3-4166-ACB5-2653133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86E9-1AD1-40FC-957D-1450845C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3CB3-4A73-4B2D-95A3-1230C992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E388-0FBB-45FB-8904-C2D28638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955-1CC9-4A87-BB1B-0060C02F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EEE-13F6-4FBA-AA6A-A174AC84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BE7-2E2A-48F2-A40C-4211F76A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25A-C580-41F7-B0DB-FD252BE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A13-0E84-4CB3-902B-8334D9B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E9C-C00E-463D-B2E3-8564157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128-2217-435A-BA08-94F7E7E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8C0969-D2E9-40E7-BE9F-680EA6DB4E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C59E94-1B5F-4BCE-A2B4-D4E748EAD2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468360" y="4437000"/>
          <a:ext cx="3207960" cy="185076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437000"/>
                    <a:ext cx="320796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3" descr="IDBlogoCOLOR"/>
          <p:cNvPicPr/>
          <p:nvPr/>
        </p:nvPicPr>
        <p:blipFill>
          <a:blip r:embed="rId3"/>
          <a:stretch/>
        </p:blipFill>
        <p:spPr>
          <a:xfrm>
            <a:off x="6877080" y="4365720"/>
            <a:ext cx="1569600" cy="1871280"/>
          </a:xfrm>
          <a:prstGeom prst="rect">
            <a:avLst/>
          </a:prstGeom>
          <a:ln w="9525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11280" y="1916280"/>
            <a:ext cx="7632360" cy="18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nl-BE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nl-BE" sz="2800" spc="-1" strike="noStrike">
                <a:solidFill>
                  <a:srgbClr val="ffffff"/>
                </a:solidFill>
                <a:latin typeface="Verdana"/>
              </a:rPr>
              <a:t>Prevención contra el VIH/SIDA en comunidades afroecuatorianas vulnerab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BE" sz="2400" spc="-1" strike="noStrike">
                <a:solidFill>
                  <a:srgbClr val="ffffff"/>
                </a:solidFill>
                <a:latin typeface="Verdana"/>
              </a:rPr>
              <a:t>Informe de avances hasta noviembre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337520" y="6237360"/>
            <a:ext cx="79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074480" y="4772160"/>
            <a:ext cx="23011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NDO JAP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Copy of IMG_7699"/>
          <p:cNvPicPr/>
          <p:nvPr/>
        </p:nvPicPr>
        <p:blipFill>
          <a:blip r:embed="rId4"/>
          <a:stretch/>
        </p:blipFill>
        <p:spPr>
          <a:xfrm>
            <a:off x="-6480" y="0"/>
            <a:ext cx="1298160" cy="1730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IMG_6509"/>
          <p:cNvPicPr/>
          <p:nvPr/>
        </p:nvPicPr>
        <p:blipFill>
          <a:blip r:embed="rId5"/>
          <a:stretch/>
        </p:blipFill>
        <p:spPr>
          <a:xfrm>
            <a:off x="6191280" y="0"/>
            <a:ext cx="2952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24000" y="333360"/>
            <a:ext cx="8424360" cy="585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C" sz="1800" spc="-1" strike="noStrike">
                <a:solidFill>
                  <a:srgbClr val="ffff00"/>
                </a:solidFill>
                <a:latin typeface="Arial"/>
              </a:rPr>
              <a:t>Componente 4: 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reparación de materiales de comunicación sobre VIH/SIDA: 1 rotafolio, 4 boletines, volantes, 2 trípticos, 4 afiches, 1 calcomanía, bol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 u="sng">
                <a:solidFill>
                  <a:srgbClr val="ffffff"/>
                </a:solidFill>
                <a:uFillTx/>
                <a:latin typeface="Arial"/>
              </a:rPr>
              <a:t>Campañas de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Sondeo de preferencias (encuesta) de comunicación en  las 5  com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Gestión de difusión en medios de comunicación: 5 reportajes en periódicos (El Telégrafo, El Súper, Universo, El Hoy, 3 reportajes televisivas (RTS, Ecuavisa, CN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Difusión del proyecto en las comunidades mediante puerta a puerta, perifoneo y entrega de vol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Participación  en la Casa Abierta que fue convocada por Médicos sin Fronteras,  Casa abierta en el Subcentro de Salud # 2,  tema Pruebas Volun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IMG_4161"/>
          <p:cNvPicPr/>
          <p:nvPr/>
        </p:nvPicPr>
        <p:blipFill>
          <a:blip r:embed="rId1"/>
          <a:stretch/>
        </p:blipFill>
        <p:spPr>
          <a:xfrm>
            <a:off x="179280" y="1017720"/>
            <a:ext cx="3960360" cy="33476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197" name="Picture 6" descr="IMG_4180"/>
          <p:cNvPicPr/>
          <p:nvPr/>
        </p:nvPicPr>
        <p:blipFill>
          <a:blip r:embed="rId2"/>
          <a:stretch/>
        </p:blipFill>
        <p:spPr>
          <a:xfrm>
            <a:off x="4859280" y="1008000"/>
            <a:ext cx="4284360" cy="32126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198" name="Rectangle 7"/>
          <p:cNvSpPr/>
          <p:nvPr/>
        </p:nvSpPr>
        <p:spPr>
          <a:xfrm>
            <a:off x="0" y="272880"/>
            <a:ext cx="6372000" cy="112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s-EC" sz="2800" spc="-1" strike="noStrike">
                <a:solidFill>
                  <a:srgbClr val="ffffff"/>
                </a:solidFill>
                <a:latin typeface="Arial"/>
              </a:rPr>
              <a:t>Campañas de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Copy of IMG_7608"/>
          <p:cNvPicPr/>
          <p:nvPr/>
        </p:nvPicPr>
        <p:blipFill>
          <a:blip r:embed="rId3"/>
          <a:stretch/>
        </p:blipFill>
        <p:spPr>
          <a:xfrm>
            <a:off x="3635280" y="3284640"/>
            <a:ext cx="2582640" cy="331272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pic>
        <p:nvPicPr>
          <p:cNvPr id="200" name="Picture 8" descr="PICT0238"/>
          <p:cNvPicPr/>
          <p:nvPr/>
        </p:nvPicPr>
        <p:blipFill>
          <a:blip r:embed="rId4"/>
          <a:stretch/>
        </p:blipFill>
        <p:spPr>
          <a:xfrm>
            <a:off x="34920" y="4483080"/>
            <a:ext cx="3384360" cy="22586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468360" y="264960"/>
            <a:ext cx="835164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C" sz="1800" spc="-1" strike="noStrike">
                <a:solidFill>
                  <a:srgbClr val="ffff00"/>
                </a:solidFill>
                <a:latin typeface="Arial"/>
              </a:rPr>
              <a:t>Componente 5:  Acceso a Consejería y Pruebas Voluntarias de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Convenio de Cooperación firmado  con la </a:t>
            </a:r>
            <a:r>
              <a:rPr b="1" lang="es-EC" sz="1800" spc="-1" strike="noStrike">
                <a:solidFill>
                  <a:srgbClr val="ffff00"/>
                </a:solidFill>
                <a:latin typeface="Arial"/>
              </a:rPr>
              <a:t>Dirección Provincial de Salud del Guayas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para coordinar con los Subcentros de Salud de las comunidades para el establecimiento de centros de consejería y prueba voluntaria de VI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Acuerdo de trabajo con el </a:t>
            </a:r>
            <a:r>
              <a:rPr b="1" lang="es-EC" sz="1800" spc="-1" strike="noStrike">
                <a:solidFill>
                  <a:srgbClr val="ffff00"/>
                </a:solidFill>
                <a:latin typeface="Arial"/>
              </a:rPr>
              <a:t>Instituto Nacional de Higiene y Medicina Tropical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para los análisis de las 2500 muestras para VIH, </a:t>
            </a:r>
            <a:r>
              <a:rPr b="0" lang="es-EC" sz="1800" spc="-1" strike="noStrike">
                <a:solidFill>
                  <a:srgbClr val="ffff00"/>
                </a:solidFill>
                <a:latin typeface="Arial"/>
              </a:rPr>
              <a:t>adicionalmente,   HTLV I y Hemoglobina 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Campaña de sensibilización sobre pruebas voluntarias de VI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30,31 de octubre, 1 de noviembre 2007: entrega de 1200 bolsos informativo en los Terminales Terrestres con frecuencia a Esmeraldas. Proyección de videos, charlas a cada uno de los viaj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Campaña puerta a puerta para concienciar a las personas de las comunidades sobre la importancia de las pruebas voluntaria y un </a:t>
            </a:r>
            <a:r>
              <a:rPr b="0" lang="es-EC" sz="1800" spc="-1" strike="noStrike" u="sng">
                <a:solidFill>
                  <a:srgbClr val="ffffff"/>
                </a:solidFill>
                <a:uFillTx/>
                <a:latin typeface="Arial"/>
              </a:rPr>
              <a:t>diagnóstico temprano de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Realización de consejería y pruebas: 12 – 30 de noviembre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5 comunidades afroecuatorianas;  2500 muest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Group 599"/>
          <p:cNvGraphicFramePr/>
          <p:nvPr/>
        </p:nvGraphicFramePr>
        <p:xfrm>
          <a:off x="407880" y="214200"/>
          <a:ext cx="7992720" cy="4006800"/>
        </p:xfrm>
        <a:graphic>
          <a:graphicData uri="http://schemas.openxmlformats.org/drawingml/2006/table">
            <a:tbl>
              <a:tblPr/>
              <a:tblGrid>
                <a:gridCol w="1947600"/>
                <a:gridCol w="3336840"/>
                <a:gridCol w="2707920"/>
              </a:tblGrid>
              <a:tr h="2505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A DE MUESTRAS PARA PRUEBA DE VIH EN LAS COMUN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un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g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de muest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ndicador de impacto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alla de Tarqu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centro MSP “El Condor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. Pablo Neru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a Asistencial MS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e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centro de Salud MSP Trinitaria no.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ti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centro de Salud MSP El Mang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 8; personal Subcentro de  Salud MSP no.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yección: 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o de Salud Partic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 existe del MS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yección: 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C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muestras tom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C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s a to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C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muest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C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0 apro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591"/>
          <p:cNvSpPr/>
          <p:nvPr/>
        </p:nvSpPr>
        <p:spPr>
          <a:xfrm>
            <a:off x="250920" y="443700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s-EC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92"/>
          <p:cNvSpPr/>
          <p:nvPr/>
        </p:nvSpPr>
        <p:spPr>
          <a:xfrm>
            <a:off x="187920" y="4784760"/>
            <a:ext cx="85737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La demanda de pruebas superó ampliamente las expectativas, en todas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Comunidades lo que permite conclui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Excelente trabajo del equipo del proyecto para despertar el interés y la inquietu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de las comunidades, que  aceptan que el VIH es un problema cercano a e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C" sz="4400" spc="-1" strike="noStrike">
                <a:solidFill>
                  <a:srgbClr val="ffffff"/>
                </a:solidFill>
                <a:latin typeface="Arial"/>
              </a:rPr>
              <a:t>Conclusión 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927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El estudio CAP logró identificar neces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2. Los programas de educación y comunicación lograron la adecuada capacitación del equipo del proyecto y  las Junta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3. El equipo del Proyecto y las Juntas de Acción lograron despertar el interés a la </a:t>
            </a:r>
            <a:r>
              <a:rPr b="0" lang="es-EC" sz="2000" spc="-1" strike="noStrike" u="sng">
                <a:solidFill>
                  <a:srgbClr val="ffffff"/>
                </a:solidFill>
                <a:uFillTx/>
                <a:latin typeface="Arial"/>
              </a:rPr>
              <a:t>respuesta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al  VIH en sus respectivas comunidad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(= CAMBIO DE ACTITU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4. La alta demanda de pruebas VOLUNTARIAS de VIH en todas las comunidades y la demanda de varias otras, confirma las afirmacion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C" sz="3200" spc="-1" strike="noStrike">
                <a:solidFill>
                  <a:srgbClr val="ffffff"/>
                </a:solidFill>
                <a:latin typeface="Arial"/>
              </a:rPr>
              <a:t>Dificultades encont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Responder eficazmente a la expectativa creada en las comunidades, en cuanto a prevención y atención al VIH/S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Responder al interés manifestado por lideres de otras comunidades afoecuatorianas de ser incluidas en el proyecto VI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611280" y="476280"/>
            <a:ext cx="8064000" cy="554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s-EC" sz="2000" spc="-1" strike="noStrike">
                <a:solidFill>
                  <a:srgbClr val="ffffff"/>
                </a:solidFill>
                <a:latin typeface="Arial"/>
              </a:rPr>
              <a:t>Propuesta de trabajo 2008-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C" sz="1800" spc="-1" strike="noStrike" u="sng">
                <a:solidFill>
                  <a:srgbClr val="ffffff"/>
                </a:solidFill>
                <a:uFillTx/>
                <a:latin typeface="Arial"/>
              </a:rPr>
              <a:t>Objetiv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Responder eficazmente a la expectativa creada en las comunidades, en cuanto a prevención y atención al VIH/S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Incluir a otras comunidades afoecuatorianas en las actividades de prevención de VIH/S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C" sz="1800" spc="-1" strike="noStrike" u="sng">
                <a:solidFill>
                  <a:srgbClr val="ffffff"/>
                </a:solidFill>
                <a:uFillTx/>
                <a:latin typeface="Arial"/>
              </a:rPr>
              <a:t>Estrategi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Formar y lograr auto-sostenibilidad de grupos de auto-apoyo para personas infectadas y afectadas por el VIH/SIDA en las comun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Incluir 5 comunidades afroecuatorianas nuevas en Guayas, Esmeraldas y El Oro, aplicando materiales y métodos exito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Fortalecer alianzas estratégicas existentes, y lograr nuevas alianzas para lograr la atención a las nuevas comunidades de interé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Acceso a consejería y pruebas para las comunidades participantes (5.000 anu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IMG_7642"/>
          <p:cNvPicPr/>
          <p:nvPr/>
        </p:nvPicPr>
        <p:blipFill>
          <a:blip r:embed="rId1"/>
          <a:stretch/>
        </p:blipFill>
        <p:spPr>
          <a:xfrm>
            <a:off x="684360" y="765000"/>
            <a:ext cx="7272000" cy="54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2716200"/>
            <a:ext cx="9143640" cy="405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266760"/>
              </a:tabLst>
            </a:pPr>
            <a:r>
              <a:rPr b="1" lang="es-EC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20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C" sz="2000" spc="-1" strike="noStrike">
                <a:solidFill>
                  <a:srgbClr val="ffffff"/>
                </a:solidFill>
                <a:latin typeface="Arial"/>
              </a:rPr>
              <a:t>principales que se busca resolver mediante el 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66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6676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2000" spc="-1" strike="noStrike" u="sng">
                <a:solidFill>
                  <a:srgbClr val="ffffff"/>
                </a:solidFill>
                <a:uFillTx/>
                <a:latin typeface="Arial"/>
              </a:rPr>
              <a:t>Conocimientos incompletos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inducen actitudes y practicas que aumentan la vulnerabilidad ante la epidemia de  VIH/SIDA de jóvenes  en 5 comunidades af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66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6676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La población objetiva tiene </a:t>
            </a:r>
            <a:r>
              <a:rPr b="0" lang="es-EC" sz="2000" spc="-1" strike="noStrike" u="sng">
                <a:solidFill>
                  <a:srgbClr val="ffffff"/>
                </a:solidFill>
                <a:uFillTx/>
                <a:latin typeface="Arial"/>
              </a:rPr>
              <a:t>dificultades en acceder a los servicios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de prevención y atención al VIH/SIDA, y de salud en gen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66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6676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C" sz="2000" spc="-1" strike="noStrike" u="sng">
                <a:solidFill>
                  <a:srgbClr val="ffffff"/>
                </a:solidFill>
                <a:uFillTx/>
                <a:latin typeface="Arial"/>
              </a:rPr>
              <a:t>Baja participación de la población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 objetiva en los programas de prevención y atención al VIH/S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66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66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Copy of IMG_7591"/>
          <p:cNvPicPr/>
          <p:nvPr/>
        </p:nvPicPr>
        <p:blipFill>
          <a:blip r:embed="rId1"/>
          <a:stretch/>
        </p:blipFill>
        <p:spPr>
          <a:xfrm>
            <a:off x="4716360" y="189000"/>
            <a:ext cx="3312720" cy="24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opy of IMG_7592"/>
          <p:cNvPicPr/>
          <p:nvPr/>
        </p:nvPicPr>
        <p:blipFill>
          <a:blip r:embed="rId2"/>
          <a:stretch/>
        </p:blipFill>
        <p:spPr>
          <a:xfrm>
            <a:off x="684360" y="189000"/>
            <a:ext cx="3239640" cy="2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47680" y="114480"/>
            <a:ext cx="8640360" cy="7008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C" sz="2000" spc="-1" strike="noStrike">
                <a:solidFill>
                  <a:srgbClr val="ffffff"/>
                </a:solidFill>
                <a:latin typeface="Arial"/>
              </a:rPr>
              <a:t>2.- Beneficiarios y Beneficios de la Cooperación Técn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Beneficiarios Directo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2500 jóvenes (15- 29 anos) de 5 comunidades afroecuatorianas en zonas urbano marginales de Guayaqu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Beneficiarios Indirecto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123,000 habitantes de 5 comunidades afroecuatorianas en zonas urbano marginales de Guayaqu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Benefic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Impulso del desarrollo comunitario a través del fortalecimiento organiz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C" sz="1800" spc="-1" strike="noStrike">
                <a:solidFill>
                  <a:srgbClr val="ffffff"/>
                </a:solidFill>
                <a:latin typeface="Tahoma"/>
              </a:rPr>
              <a:t>Acceso a información que permite la auto-protección ante la epidemia de VIH/S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0"/>
          <p:cNvSpPr/>
          <p:nvPr/>
        </p:nvSpPr>
        <p:spPr>
          <a:xfrm>
            <a:off x="250920" y="509400"/>
            <a:ext cx="87134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s-EC" sz="1800" spc="-1" strike="noStrike">
                <a:solidFill>
                  <a:srgbClr val="ffff00"/>
                </a:solidFill>
                <a:latin typeface="Arial"/>
              </a:rPr>
              <a:t>Componente 1: Construcción de Capacidades de las  Juntas de Acció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1"/>
          <p:cNvSpPr/>
          <p:nvPr/>
        </p:nvSpPr>
        <p:spPr>
          <a:xfrm>
            <a:off x="232920" y="1387440"/>
            <a:ext cx="867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-  32 horas mensuales de capacitación a CACs y grupos comunitarios, de acuero 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lan de capaci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92" descr="IMG_6480"/>
          <p:cNvPicPr/>
          <p:nvPr/>
        </p:nvPicPr>
        <p:blipFill>
          <a:blip r:embed="rId1"/>
          <a:stretch/>
        </p:blipFill>
        <p:spPr>
          <a:xfrm>
            <a:off x="4572000" y="2852640"/>
            <a:ext cx="4176360" cy="3528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3" descr="IMG_8848"/>
          <p:cNvPicPr/>
          <p:nvPr/>
        </p:nvPicPr>
        <p:blipFill>
          <a:blip r:embed="rId2"/>
          <a:stretch/>
        </p:blipFill>
        <p:spPr>
          <a:xfrm>
            <a:off x="684360" y="2708280"/>
            <a:ext cx="36000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9" descr="IMG_8690"/>
          <p:cNvPicPr/>
          <p:nvPr/>
        </p:nvPicPr>
        <p:blipFill>
          <a:blip r:embed="rId1"/>
          <a:stretch/>
        </p:blipFill>
        <p:spPr>
          <a:xfrm>
            <a:off x="5040360" y="4035600"/>
            <a:ext cx="4103280" cy="2822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8"/>
          <p:cNvSpPr/>
          <p:nvPr/>
        </p:nvSpPr>
        <p:spPr>
          <a:xfrm>
            <a:off x="0" y="333360"/>
            <a:ext cx="921492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ponente 2. Investigación (FASE 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aboración de Línea de Base sobre Conocimientos, Actitudes y Comportamiento sobre VIH/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cuesta a 272 personas de 15 a 29 años (61,5% mujeres, 38,5% homb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guntas sobre 7 temas: conocimientos, percepción de riesgo, conocimientos del ABC de la prevención, discriminación, derechos y equidad de gén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Conclus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veer información sobre VIH/SIDA y servicios a la población para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iminación progresiva de mitos y creencias, cambio hacia conducta de auto-protección, asumiendo responsabil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ocimiento y aplicación del ABC de la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cilitar el acceso a consejería y prueb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79280" y="260280"/>
            <a:ext cx="8208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00"/>
                </a:solidFill>
                <a:latin typeface="Arial"/>
              </a:rPr>
              <a:t>Presentación del informe sobre el estudio de conocimientos, actitudes y  prácticas en VIH-SIDA (línea de base) en la Universidad Politécnica del Lit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ffff00"/>
                </a:solidFill>
                <a:latin typeface="Arial"/>
              </a:rPr>
              <a:t>5 junio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IMG_8698"/>
          <p:cNvPicPr/>
          <p:nvPr/>
        </p:nvPicPr>
        <p:blipFill>
          <a:blip r:embed="rId1"/>
          <a:stretch/>
        </p:blipFill>
        <p:spPr>
          <a:xfrm>
            <a:off x="1763640" y="1268280"/>
            <a:ext cx="6264000" cy="44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10960" y="333360"/>
            <a:ext cx="8675280" cy="633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ponente 3: Educación (FASE 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teriales y metodologías de educación sobre VIH/SIDA diseñados en base de los resultados del Estudio CAP (Línea de Bas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ulo I: Conocimientos generales sobre VIH/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istoria Biológica, Transmisión, Prevención, Acceso a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ulo II: Gestión de Proyec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stión de Proyectos, Desarrollo organizativo, Gobernabilidad, Movilización de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ulo III: VIVIR POSITIM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sejería entre pares, aceptando su condición de positivo, cuidándose a si mismo, Amor sexo y relaciones, Embarazo, ser padre o madre, Derechos de las personas viviendo con el VIH/SIDA, obteniendo buenos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ulo IV: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ecanismos de resistencia al cambio y técnicas persuas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cución: junio 2007 – enero 2008 (charlas y talle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Materiales de educación realiz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1 rotafolio, 4 boletines, volantes, 2 trípticos, 4 afiches, 1 calcomanía, bol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260280"/>
            <a:ext cx="9143640" cy="164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tras actividades realizadas con el material educativo: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Charlas de concientización  para 196  alumnos de 4 establecimientos educ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tarSymbol"/>
              <a:buChar char="-"/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ividad de concientización en  la comunidad Nigeria,  con el apoyo del grupo teatral Minga del Arte para la Vida (INNFA); por solicitud de la Organización Afroecuatoriana de Base Comunitaria “Nuestros Hij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IMG_3118"/>
          <p:cNvPicPr/>
          <p:nvPr/>
        </p:nvPicPr>
        <p:blipFill>
          <a:blip r:embed="rId1"/>
          <a:stretch/>
        </p:blipFill>
        <p:spPr>
          <a:xfrm>
            <a:off x="468360" y="2349360"/>
            <a:ext cx="3631680" cy="395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3055"/>
          <p:cNvPicPr/>
          <p:nvPr/>
        </p:nvPicPr>
        <p:blipFill>
          <a:blip r:embed="rId2"/>
          <a:stretch/>
        </p:blipFill>
        <p:spPr>
          <a:xfrm>
            <a:off x="5076720" y="2349360"/>
            <a:ext cx="3598560" cy="38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o educativo con aliados estratégic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04000" cy="295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   Grupos Positivo, MSF, Defensoría del Pueblo, CODAE, MSP: conferencis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ción VIHDA: apoyó con materiales; atención niños/as con VIH/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.I. Municipio de Guayaquil: atención primaria de salud a 800 niños y niñas de 0-6 años de las comun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MSF/M.I. Municipio de Guayaquil: 10 cupos para curso de promotores de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MSF: participación en varias ferias y casas abiertas sobre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IMG_7772"/>
          <p:cNvPicPr/>
          <p:nvPr/>
        </p:nvPicPr>
        <p:blipFill>
          <a:blip r:embed="rId1"/>
          <a:stretch/>
        </p:blipFill>
        <p:spPr>
          <a:xfrm>
            <a:off x="2771640" y="3735360"/>
            <a:ext cx="396036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Haz de luz">
  <a:themeElements>
    <a:clrScheme name="Haz de luz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az de luz">
  <a:themeElements>
    <a:clrScheme name="Haz de luz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am</Template>
  <TotalTime>650</TotalTime>
  <Application>LibreOffice/7.4.7.2$Linux_X86_64 LibreOffice_project/40$Build-2</Application>
  <AppVersion>15.0000</AppVersion>
  <Words>1292</Words>
  <Paragraphs>178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36:41Z</dcterms:created>
  <dc:creator> </dc:creator>
  <dc:description/>
  <dc:language>en-US</dc:language>
  <cp:lastModifiedBy>anarod</cp:lastModifiedBy>
  <dcterms:modified xsi:type="dcterms:W3CDTF">2010-07-12T02:16:05Z</dcterms:modified>
  <cp:revision>1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