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577A05-6577-4C19-93D9-669CA1F6C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95C535-7E03-4214-8669-201E2D36F97C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E43-C393-4D44-8145-075A6E10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BCD-372A-4504-932E-CBFAC3FC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055-1BE9-4682-8337-AF1652CE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46F-A1E6-4198-8ED3-44FF1174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A1AE-E83C-4402-9D1A-C9E6DD56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6DE5-36FE-4BD5-A64F-F6C5B37A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2804-6173-4885-9250-6202040C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4EA1-C7C9-45DE-AB89-A2CCD437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F8E6-64A7-4D6A-9761-A9803FB5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B636-4C05-42AB-A542-50CFB888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88D1-343F-4C46-9DED-9DBC74A6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990-2E28-4441-9038-BE47624E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1E35-4B60-4930-B655-F54AAD55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20FA-6805-441C-89B5-986B92F8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D8A8-FA94-4868-AE41-29631F65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2E1C-5B49-4C2C-BE31-5CA9C4E5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6D88-6FB6-4476-84DA-31167045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9099C-9CF5-4914-8672-8E8F5AC7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01C3B-587C-40DD-B98C-B3F2F6D5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1C76D-7025-4EE9-BA09-8F9DC951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ECC8D-9F0D-43BA-8C0C-79A8A95B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CE86E-59AE-4847-B61D-EF8F02F7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090-C156-49D7-8835-9356C2EF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C15F-6919-45DE-B0E1-78565F5C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D45E5-6732-44B9-A2BD-A4FF4392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1F832-B5B6-4C91-AA64-8196A306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C9555-7D69-43B2-9A1C-8F972D16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1A7CD-D51B-48FB-ACB1-7DADDE05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3F604-FEC9-4194-A1D4-FD86727E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324E6-0537-4B32-9848-8FA4918C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D941C-3C9C-422B-9EA4-46121A94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F238F-86EE-4426-A702-BEFDE4A1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6D2E0-E108-42E2-A2CC-40592B91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FEC-D6CC-47A3-A377-36D569CD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47DB8-F4F8-4027-B686-B0F6FC66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9E5D5-32B4-45B1-BA48-2BD56ECC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26B42-C67E-45BE-BA14-08B551BF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FF7C1-B924-4A2E-A83B-FBD3D7A5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D7501-8956-4722-9B69-0B6C908E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F8FE0-B8B3-49B6-B8D0-EB587A2F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3B7DF-898C-4C09-86A0-1F675742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19201-47D8-496A-9EE0-5879453B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3405E-F4E4-426B-8C71-77F08560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893-EBB1-4D68-BEF8-411367F6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63F-EF0A-4D25-9A7B-BFB0DAE9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F26-58B3-43E5-9F39-ED213389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9414-B25A-4408-8B75-F0111A98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8C5-F90E-4424-B022-38EA1877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C32649-2D99-4B34-8575-A8BCC248A351}" type="slidenum">
              <a:rPr b="0" lang="es-C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EB9C3F-8BE2-499D-96BF-5A1003EBAFD6}" type="slidenum">
              <a:rPr b="0" lang="es-C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ga clic para modificar el estilo de título del patr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E47985-AAAC-4B01-9480-8621EB84D988}" type="slidenum">
              <a:rPr b="0" lang="es-C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2BF32D-406B-4979-B154-036FB3CCE800}" type="slidenum">
              <a:rPr b="0" lang="es-C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220161 Rectángulo"/>
          <p:cNvSpPr/>
          <p:nvPr/>
        </p:nvSpPr>
        <p:spPr>
          <a:xfrm>
            <a:off x="457200" y="4098960"/>
            <a:ext cx="8381520" cy="192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220164 Rectángulo"/>
          <p:cNvSpPr/>
          <p:nvPr/>
        </p:nvSpPr>
        <p:spPr>
          <a:xfrm>
            <a:off x="795240" y="3297240"/>
            <a:ext cx="7848360" cy="338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UDIOS AMBIENTALES PARA EL CORREDOR VIAL PASTO - MOCOA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eunión Entidades, ONGs y Comunidad de Moco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ocoa., Noviembre 16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220166 Rectángulo"/>
          <p:cNvSpPr/>
          <p:nvPr/>
        </p:nvSpPr>
        <p:spPr>
          <a:xfrm>
            <a:off x="7667640" y="0"/>
            <a:ext cx="1476000" cy="764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220170 Rectángulo" descr=""/>
          <p:cNvPicPr/>
          <p:nvPr/>
        </p:nvPicPr>
        <p:blipFill>
          <a:blip r:embed="rId1"/>
          <a:srcRect l="-68819" t="-54759" r="-68819" b="-54759"/>
          <a:stretch/>
        </p:blipFill>
        <p:spPr>
          <a:xfrm>
            <a:off x="7419960" y="609480"/>
            <a:ext cx="1009440" cy="1066320"/>
          </a:xfrm>
          <a:prstGeom prst="rect">
            <a:avLst/>
          </a:prstGeom>
          <a:ln w="9525">
            <a:noFill/>
          </a:ln>
        </p:spPr>
      </p:pic>
      <p:sp>
        <p:nvSpPr>
          <p:cNvPr id="174" name="6 Rectángulo"/>
          <p:cNvSpPr/>
          <p:nvPr/>
        </p:nvSpPr>
        <p:spPr>
          <a:xfrm>
            <a:off x="6786720" y="1467000"/>
            <a:ext cx="2356920" cy="4546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200" spc="-1" strike="noStrike">
                <a:solidFill>
                  <a:srgbClr val="000000"/>
                </a:solidFill>
                <a:latin typeface="Univers"/>
              </a:rPr>
              <a:t>BANCO INTERAMERICANO DE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220171 Rectángulo" descr=""/>
          <p:cNvPicPr/>
          <p:nvPr/>
        </p:nvPicPr>
        <p:blipFill>
          <a:blip r:embed="rId2"/>
          <a:stretch/>
        </p:blipFill>
        <p:spPr>
          <a:xfrm>
            <a:off x="3244680" y="428760"/>
            <a:ext cx="2898360" cy="2358720"/>
          </a:xfrm>
          <a:prstGeom prst="rect">
            <a:avLst/>
          </a:prstGeom>
          <a:ln w="9525">
            <a:noFill/>
          </a:ln>
        </p:spPr>
      </p:pic>
      <p:sp>
        <p:nvSpPr>
          <p:cNvPr id="176" name="7 Rectángulo"/>
          <p:cNvSpPr/>
          <p:nvPr/>
        </p:nvSpPr>
        <p:spPr>
          <a:xfrm>
            <a:off x="285840" y="1447920"/>
            <a:ext cx="2571480" cy="4546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200" spc="-1" strike="noStrike">
                <a:solidFill>
                  <a:srgbClr val="000000"/>
                </a:solidFill>
                <a:latin typeface="Univers"/>
              </a:rPr>
              <a:t>MINISTERIODE TRANSPORTE INSTITUTO NACIONAL DE V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8 Rectángulo" descr=""/>
          <p:cNvPicPr/>
          <p:nvPr/>
        </p:nvPicPr>
        <p:blipFill>
          <a:blip r:embed="rId3"/>
          <a:stretch/>
        </p:blipFill>
        <p:spPr>
          <a:xfrm>
            <a:off x="785880" y="714240"/>
            <a:ext cx="1547280" cy="875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Arial"/>
            </a:endParaRPr>
          </a:p>
        </p:txBody>
      </p:sp>
      <p:pic>
        <p:nvPicPr>
          <p:cNvPr id="198" name="292867 Rectángulo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10061280" cy="7546680"/>
          </a:xfrm>
          <a:prstGeom prst="rect">
            <a:avLst/>
          </a:prstGeom>
          <a:ln w="57150">
            <a:solidFill>
              <a:srgbClr val="ff3300"/>
            </a:solidFill>
            <a:miter/>
          </a:ln>
        </p:spPr>
      </p:pic>
      <p:sp>
        <p:nvSpPr>
          <p:cNvPr id="199" name="292868 Conector recto"/>
          <p:cNvSpPr/>
          <p:nvPr/>
        </p:nvSpPr>
        <p:spPr>
          <a:xfrm flipV="1">
            <a:off x="7885080" y="2707920"/>
            <a:ext cx="71280" cy="28908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292869 Conector recto"/>
          <p:cNvSpPr/>
          <p:nvPr/>
        </p:nvSpPr>
        <p:spPr>
          <a:xfrm flipH="1" flipV="1">
            <a:off x="7885080" y="2420640"/>
            <a:ext cx="71280" cy="28908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292870 Conector recto"/>
          <p:cNvSpPr/>
          <p:nvPr/>
        </p:nvSpPr>
        <p:spPr>
          <a:xfrm flipH="1" flipV="1">
            <a:off x="7740360" y="2133360"/>
            <a:ext cx="144720" cy="28908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292871 Conector recto"/>
          <p:cNvSpPr/>
          <p:nvPr/>
        </p:nvSpPr>
        <p:spPr>
          <a:xfrm flipV="1">
            <a:off x="7740360" y="1989000"/>
            <a:ext cx="71640" cy="14436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292872 Conector recto"/>
          <p:cNvSpPr/>
          <p:nvPr/>
        </p:nvSpPr>
        <p:spPr>
          <a:xfrm flipH="1" flipV="1">
            <a:off x="7596000" y="1915920"/>
            <a:ext cx="216000" cy="7308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292873 Conector recto"/>
          <p:cNvSpPr/>
          <p:nvPr/>
        </p:nvSpPr>
        <p:spPr>
          <a:xfrm flipV="1">
            <a:off x="7596000" y="1773000"/>
            <a:ext cx="360" cy="14436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292874 Conector recto"/>
          <p:cNvSpPr/>
          <p:nvPr/>
        </p:nvSpPr>
        <p:spPr>
          <a:xfrm flipH="1" flipV="1">
            <a:off x="7596000" y="1557000"/>
            <a:ext cx="71280" cy="7164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292875 Conector recto"/>
          <p:cNvSpPr/>
          <p:nvPr/>
        </p:nvSpPr>
        <p:spPr>
          <a:xfrm flipH="1">
            <a:off x="7524720" y="1557000"/>
            <a:ext cx="71280" cy="36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292876 Conector recto"/>
          <p:cNvSpPr/>
          <p:nvPr/>
        </p:nvSpPr>
        <p:spPr>
          <a:xfrm flipH="1">
            <a:off x="7380000" y="1557000"/>
            <a:ext cx="144720" cy="7164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292877 Conector recto"/>
          <p:cNvSpPr/>
          <p:nvPr/>
        </p:nvSpPr>
        <p:spPr>
          <a:xfrm flipH="1" flipV="1">
            <a:off x="7235640" y="1628640"/>
            <a:ext cx="144360" cy="144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292878 Conector recto"/>
          <p:cNvSpPr/>
          <p:nvPr/>
        </p:nvSpPr>
        <p:spPr>
          <a:xfrm flipH="1" flipV="1">
            <a:off x="7092720" y="1628640"/>
            <a:ext cx="142920" cy="144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292879 Conector recto"/>
          <p:cNvSpPr/>
          <p:nvPr/>
        </p:nvSpPr>
        <p:spPr>
          <a:xfrm flipV="1">
            <a:off x="7092720" y="1557000"/>
            <a:ext cx="360" cy="7308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292880 Conector recto"/>
          <p:cNvSpPr/>
          <p:nvPr/>
        </p:nvSpPr>
        <p:spPr>
          <a:xfrm flipV="1">
            <a:off x="7092720" y="1484280"/>
            <a:ext cx="360" cy="7272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92881 Conector recto"/>
          <p:cNvSpPr/>
          <p:nvPr/>
        </p:nvSpPr>
        <p:spPr>
          <a:xfrm flipH="1" flipV="1">
            <a:off x="7019640" y="1484280"/>
            <a:ext cx="73080" cy="144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92882 Conector recto"/>
          <p:cNvSpPr/>
          <p:nvPr/>
        </p:nvSpPr>
        <p:spPr>
          <a:xfrm flipH="1" flipV="1">
            <a:off x="6876720" y="1484280"/>
            <a:ext cx="142920" cy="144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92883 Conector recto"/>
          <p:cNvSpPr/>
          <p:nvPr/>
        </p:nvSpPr>
        <p:spPr>
          <a:xfrm flipH="1" flipV="1">
            <a:off x="6659280" y="1412640"/>
            <a:ext cx="217440" cy="7308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292884 Conector recto"/>
          <p:cNvSpPr/>
          <p:nvPr/>
        </p:nvSpPr>
        <p:spPr>
          <a:xfrm flipH="1">
            <a:off x="6516360" y="1412640"/>
            <a:ext cx="142920" cy="7164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292885 Conector recto"/>
          <p:cNvSpPr/>
          <p:nvPr/>
        </p:nvSpPr>
        <p:spPr>
          <a:xfrm flipV="1">
            <a:off x="6372000" y="1484280"/>
            <a:ext cx="144360" cy="7272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292886 Conector recto"/>
          <p:cNvSpPr/>
          <p:nvPr/>
        </p:nvSpPr>
        <p:spPr>
          <a:xfrm flipH="1">
            <a:off x="6227640" y="1557000"/>
            <a:ext cx="144360" cy="7164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292887 Conector recto"/>
          <p:cNvSpPr/>
          <p:nvPr/>
        </p:nvSpPr>
        <p:spPr>
          <a:xfrm flipH="1" flipV="1">
            <a:off x="6011640" y="1628640"/>
            <a:ext cx="216000" cy="144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292888 Conector recto"/>
          <p:cNvSpPr/>
          <p:nvPr/>
        </p:nvSpPr>
        <p:spPr>
          <a:xfrm flipH="1">
            <a:off x="5651280" y="1628640"/>
            <a:ext cx="362160" cy="7128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292889 Conector recto"/>
          <p:cNvSpPr/>
          <p:nvPr/>
        </p:nvSpPr>
        <p:spPr>
          <a:xfrm flipH="1">
            <a:off x="5148000" y="1699920"/>
            <a:ext cx="503280" cy="7308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292890 Conector recto"/>
          <p:cNvSpPr/>
          <p:nvPr/>
        </p:nvSpPr>
        <p:spPr>
          <a:xfrm flipH="1">
            <a:off x="5003640" y="1773000"/>
            <a:ext cx="144360" cy="14292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292891 Conector recto"/>
          <p:cNvSpPr/>
          <p:nvPr/>
        </p:nvSpPr>
        <p:spPr>
          <a:xfrm flipV="1">
            <a:off x="7596000" y="1628640"/>
            <a:ext cx="71280" cy="7128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292892 Conector recto"/>
          <p:cNvSpPr/>
          <p:nvPr/>
        </p:nvSpPr>
        <p:spPr>
          <a:xfrm flipV="1">
            <a:off x="7596000" y="1699920"/>
            <a:ext cx="360" cy="21600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92893 Conector recto"/>
          <p:cNvSpPr/>
          <p:nvPr/>
        </p:nvSpPr>
        <p:spPr>
          <a:xfrm flipH="1">
            <a:off x="4932360" y="1915920"/>
            <a:ext cx="71280" cy="14436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292894 Conector recto"/>
          <p:cNvSpPr/>
          <p:nvPr/>
        </p:nvSpPr>
        <p:spPr>
          <a:xfrm flipH="1">
            <a:off x="4859280" y="2060280"/>
            <a:ext cx="71280" cy="7308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292895 Conector recto"/>
          <p:cNvSpPr/>
          <p:nvPr/>
        </p:nvSpPr>
        <p:spPr>
          <a:xfrm flipH="1">
            <a:off x="4787640" y="2133360"/>
            <a:ext cx="71640" cy="36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292896 Conector recto"/>
          <p:cNvSpPr/>
          <p:nvPr/>
        </p:nvSpPr>
        <p:spPr>
          <a:xfrm flipH="1">
            <a:off x="4716360" y="2133360"/>
            <a:ext cx="71280" cy="36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292897 Conector recto"/>
          <p:cNvSpPr/>
          <p:nvPr/>
        </p:nvSpPr>
        <p:spPr>
          <a:xfrm>
            <a:off x="4643280" y="1844640"/>
            <a:ext cx="73080" cy="28872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292898 Conector recto"/>
          <p:cNvSpPr/>
          <p:nvPr/>
        </p:nvSpPr>
        <p:spPr>
          <a:xfrm>
            <a:off x="4500360" y="1699920"/>
            <a:ext cx="142920" cy="14616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292899 Conector recto"/>
          <p:cNvSpPr/>
          <p:nvPr/>
        </p:nvSpPr>
        <p:spPr>
          <a:xfrm>
            <a:off x="4140000" y="1699920"/>
            <a:ext cx="358920" cy="324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292900 Conector recto"/>
          <p:cNvSpPr/>
          <p:nvPr/>
        </p:nvSpPr>
        <p:spPr>
          <a:xfrm>
            <a:off x="3924000" y="1628640"/>
            <a:ext cx="214560" cy="7452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92901 Conector recto"/>
          <p:cNvSpPr/>
          <p:nvPr/>
        </p:nvSpPr>
        <p:spPr>
          <a:xfrm flipV="1">
            <a:off x="3779640" y="1631880"/>
            <a:ext cx="142920" cy="6804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292902 Conector recto"/>
          <p:cNvSpPr/>
          <p:nvPr/>
        </p:nvSpPr>
        <p:spPr>
          <a:xfrm flipV="1">
            <a:off x="3635280" y="1703160"/>
            <a:ext cx="142920" cy="6984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292903 Conector recto"/>
          <p:cNvSpPr/>
          <p:nvPr/>
        </p:nvSpPr>
        <p:spPr>
          <a:xfrm>
            <a:off x="3419280" y="1699920"/>
            <a:ext cx="216000" cy="7308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292904 Conector recto"/>
          <p:cNvSpPr/>
          <p:nvPr/>
        </p:nvSpPr>
        <p:spPr>
          <a:xfrm flipV="1">
            <a:off x="3203280" y="1701720"/>
            <a:ext cx="216000" cy="7128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292905 Conector recto"/>
          <p:cNvSpPr/>
          <p:nvPr/>
        </p:nvSpPr>
        <p:spPr>
          <a:xfrm>
            <a:off x="2987640" y="1699920"/>
            <a:ext cx="215640" cy="7308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292906 Conector recto"/>
          <p:cNvSpPr/>
          <p:nvPr/>
        </p:nvSpPr>
        <p:spPr>
          <a:xfrm>
            <a:off x="2555640" y="1699920"/>
            <a:ext cx="432000" cy="180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292907 Conector recto"/>
          <p:cNvSpPr/>
          <p:nvPr/>
        </p:nvSpPr>
        <p:spPr>
          <a:xfrm>
            <a:off x="2555640" y="1699920"/>
            <a:ext cx="71640" cy="1800"/>
          </a:xfrm>
          <a:prstGeom prst="line">
            <a:avLst/>
          </a:prstGeom>
          <a:ln cap="rnd" w="3810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292908 Conector recto"/>
          <p:cNvSpPr/>
          <p:nvPr/>
        </p:nvSpPr>
        <p:spPr>
          <a:xfrm flipH="1">
            <a:off x="2195280" y="1699920"/>
            <a:ext cx="360360" cy="21600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292909 Conector recto"/>
          <p:cNvSpPr/>
          <p:nvPr/>
        </p:nvSpPr>
        <p:spPr>
          <a:xfrm flipH="1">
            <a:off x="1834920" y="1915920"/>
            <a:ext cx="360360" cy="36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292910 Conector recto"/>
          <p:cNvSpPr/>
          <p:nvPr/>
        </p:nvSpPr>
        <p:spPr>
          <a:xfrm flipH="1">
            <a:off x="1692000" y="1915920"/>
            <a:ext cx="142920" cy="36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292911 Conector recto"/>
          <p:cNvSpPr/>
          <p:nvPr/>
        </p:nvSpPr>
        <p:spPr>
          <a:xfrm flipH="1">
            <a:off x="1618920" y="1915920"/>
            <a:ext cx="73080" cy="7308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292912 Conector recto"/>
          <p:cNvSpPr/>
          <p:nvPr/>
        </p:nvSpPr>
        <p:spPr>
          <a:xfrm>
            <a:off x="1618920" y="1989000"/>
            <a:ext cx="360" cy="14436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292913 Conector recto"/>
          <p:cNvSpPr/>
          <p:nvPr/>
        </p:nvSpPr>
        <p:spPr>
          <a:xfrm flipH="1">
            <a:off x="1187280" y="2133360"/>
            <a:ext cx="431640" cy="35892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292914 Conector recto"/>
          <p:cNvSpPr/>
          <p:nvPr/>
        </p:nvSpPr>
        <p:spPr>
          <a:xfrm flipH="1" flipV="1">
            <a:off x="1116000" y="2420640"/>
            <a:ext cx="71280" cy="7164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292915 Conector recto"/>
          <p:cNvSpPr/>
          <p:nvPr/>
        </p:nvSpPr>
        <p:spPr>
          <a:xfrm flipH="1">
            <a:off x="1042920" y="2420640"/>
            <a:ext cx="71280" cy="7164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292916 Conector recto"/>
          <p:cNvSpPr/>
          <p:nvPr/>
        </p:nvSpPr>
        <p:spPr>
          <a:xfrm flipH="1">
            <a:off x="971280" y="2492280"/>
            <a:ext cx="71640" cy="36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292917 Conector recto"/>
          <p:cNvSpPr/>
          <p:nvPr/>
        </p:nvSpPr>
        <p:spPr>
          <a:xfrm flipH="1">
            <a:off x="684000" y="2492280"/>
            <a:ext cx="287280" cy="7308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80000" cy="50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TADO DEL E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279554 Botón de acción: Hacia delante o Siguiente">
            <a:hlinkClick r:id="rId1" action="ppaction://hlinksldjump"/>
          </p:cNvPr>
          <p:cNvSpPr/>
          <p:nvPr/>
        </p:nvSpPr>
        <p:spPr>
          <a:xfrm>
            <a:off x="4033800" y="3249720"/>
            <a:ext cx="1042560" cy="1042560"/>
          </a:xfrm>
          <a:prstGeom prst="actionButtonForwardNex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79555 CuadroTexto"/>
          <p:cNvSpPr/>
          <p:nvPr/>
        </p:nvSpPr>
        <p:spPr>
          <a:xfrm>
            <a:off x="0" y="620640"/>
            <a:ext cx="9143640" cy="6394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44600" indent="-264960" algn="just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Falta información del proyecto (Alineamiento, botaderos, vías provisionales, talleres, campamentos, etc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4960" algn="just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Falta mucha información ambiental primaria (Fauna, flora, análisis de laboratorio, inventario de comunidade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4960" algn="just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No se evalúa ambientalmente la reserva forestal, ni se presentan criterios para la sustracción del corredor v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4960" algn="just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Faltan medidas de manejo pa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277920" algn="just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Symbol"/>
              <a:buChar char="-"/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iseñar la vía de acuerdo con la sensibilidad ambiental de la zo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277920" algn="just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Symbol"/>
              <a:buChar char="-"/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Protección de la reserva forest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277920" algn="just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Symbol"/>
              <a:buChar char="-"/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Controlar los impactos durante la construcción y operación de la ví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80000" cy="50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TDR PARA LA ACTUALIZACION Y COMPLEMENTACION DEL E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291842 Botón de acción: Hacia delante o Siguiente">
            <a:hlinkClick r:id="rId1" action="ppaction://hlinksldjump"/>
          </p:cNvPr>
          <p:cNvSpPr/>
          <p:nvPr/>
        </p:nvSpPr>
        <p:spPr>
          <a:xfrm>
            <a:off x="4033800" y="3249720"/>
            <a:ext cx="1042560" cy="1042560"/>
          </a:xfrm>
          <a:prstGeom prst="actionButtonForwardNex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91843 CuadroTexto"/>
          <p:cNvSpPr/>
          <p:nvPr/>
        </p:nvSpPr>
        <p:spPr>
          <a:xfrm>
            <a:off x="144360" y="1273320"/>
            <a:ext cx="8675280" cy="517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44600" indent="-264960" algn="just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Se elaborará un documento que  compile la información del EIA mas la que se genere con los nuevos estudi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4960" algn="just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as medidas de manejo del EIA son las necesarias para construir y operar la vía, y se complementaran con las medidas para proteger la reserva que resulten del P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4960" algn="just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l estudio de actualización, al igual que los otros estudios tendrán una versión prelimar a los 4 meses y 2 meses para ajustes, excepto el PMA. A partir de la versión preliminar se iniciara la socialización de los estudios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0640"/>
            <a:ext cx="7808400" cy="2952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. EVALUACION AMBIENTAL ESTRATEGICA CORREDOR VIAL PASTO MO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RREDOR VIAL PASTO - MOC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1"/>
          <p:cNvGraphicFramePr/>
          <p:nvPr/>
        </p:nvGraphicFramePr>
        <p:xfrm>
          <a:off x="500040" y="896760"/>
          <a:ext cx="8286480" cy="5967000"/>
        </p:xfrm>
        <a:graphic>
          <a:graphicData uri="http://schemas.openxmlformats.org/presentationml/2006/ole">
            <p:oleObj progId="Word.Picture.8" r:id="rId1" spid="">
              <p:embed/>
              <p:pic>
                <p:nvPicPr>
                  <p:cNvPr id="25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896760"/>
                    <a:ext cx="8286480" cy="59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RREDOR VIAL PASTO - MO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294912 Rectángulo" descr=""/>
          <p:cNvPicPr/>
          <p:nvPr/>
        </p:nvPicPr>
        <p:blipFill>
          <a:blip r:embed="rId1"/>
          <a:srcRect l="0" t="744" r="1189" b="744"/>
          <a:stretch/>
        </p:blipFill>
        <p:spPr>
          <a:xfrm>
            <a:off x="0" y="2001960"/>
            <a:ext cx="9143640" cy="485568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8306 Rectángulo"/>
          <p:cNvSpPr/>
          <p:nvPr/>
        </p:nvSpPr>
        <p:spPr>
          <a:xfrm>
            <a:off x="1496160" y="2637000"/>
            <a:ext cx="5668920" cy="1556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98307 Rectángulo"/>
          <p:cNvSpPr/>
          <p:nvPr/>
        </p:nvSpPr>
        <p:spPr>
          <a:xfrm>
            <a:off x="7524720" y="0"/>
            <a:ext cx="1618920" cy="7646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4640" y="0"/>
            <a:ext cx="721008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TABLA DE CONTEN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251906 CuadroTexto"/>
          <p:cNvSpPr/>
          <p:nvPr/>
        </p:nvSpPr>
        <p:spPr>
          <a:xfrm>
            <a:off x="109440" y="749160"/>
            <a:ext cx="8962560" cy="575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44600" indent="-444600" algn="just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1" lang="es-MX" sz="2300" spc="-1" strike="noStrike">
                <a:solidFill>
                  <a:srgbClr val="000000"/>
                </a:solidFill>
                <a:latin typeface="Arial"/>
              </a:rPr>
              <a:t>ESTUDIOS AMBIENTALES PASTO - MOCO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Duración y Tipo de Estud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StarSymbol"/>
              <a:buAutoNum type="arabicPeriod" startAt="2"/>
            </a:pPr>
            <a:r>
              <a:rPr b="1" lang="es-MX" sz="2300" spc="-1" strike="noStrike">
                <a:solidFill>
                  <a:srgbClr val="000000"/>
                </a:solidFill>
                <a:latin typeface="Arial"/>
              </a:rPr>
              <a:t>PLAN DE MANEJO AMBIENTAL Y SOCIAL DE LA RESERVA FORESTAL DE LA CUENCA ALTA DEL RIO MOCO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StarSymbol"/>
              <a:buAutoNum type="arabicPeriod" startAt="3"/>
            </a:pPr>
            <a:r>
              <a:rPr b="1" lang="es-MX" sz="2300" spc="-1" strike="noStrike">
                <a:solidFill>
                  <a:srgbClr val="000000"/>
                </a:solidFill>
                <a:latin typeface="Arial"/>
              </a:rPr>
              <a:t>EVALUACIÓN AMBIENTAL ESTRATEGIC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0640"/>
            <a:ext cx="7808400" cy="2952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1. ESTUDIOS AMBIENTALES PASTO - MOC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138320"/>
            <a:ext cx="8280000" cy="50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277506 Botón de acción: Hacia delante o Siguiente">
            <a:hlinkClick r:id="rId1" action="ppaction://hlinksldjump"/>
          </p:cNvPr>
          <p:cNvSpPr/>
          <p:nvPr/>
        </p:nvSpPr>
        <p:spPr>
          <a:xfrm>
            <a:off x="4033800" y="3249720"/>
            <a:ext cx="1042560" cy="1042560"/>
          </a:xfrm>
          <a:prstGeom prst="actionButtonForwardNex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08224 Rectángulo"/>
          <p:cNvSpPr/>
          <p:nvPr/>
        </p:nvSpPr>
        <p:spPr>
          <a:xfrm>
            <a:off x="0" y="1792440"/>
            <a:ext cx="8857800" cy="136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l Gobierno de Colombia (GdC), buscando desarrollar el sur del país a través de la integración comercial y económica con los países vecinos y la facilitación del acceso al Pacífico, ha priorizado, en el marco de la Iniciativa para la Integración de la Infraestructura Regional Sudamericana (IIRSA)</a:t>
            </a:r>
            <a:r>
              <a:rPr b="0" lang="es-ES_tradnl" sz="12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[1]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el proyecto “Corredor de Transporte Intermodal Tumaco – Pasto– Mocoa- Puerto Asís- Belem do Pará”, el cual hace parte del Eje del Amazonas.</a:t>
            </a:r>
            <a:r>
              <a:rPr b="0" lang="es-CO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308225 Rectángulo"/>
          <p:cNvSpPr/>
          <p:nvPr/>
        </p:nvSpPr>
        <p:spPr>
          <a:xfrm>
            <a:off x="3062160" y="806400"/>
            <a:ext cx="3017520" cy="7560"/>
          </a:xfrm>
          <a:prstGeom prst="rect">
            <a:avLst/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spAutoFit/>
          </a:bodyPr>
          <a:p>
            <a:pPr>
              <a:lnSpc>
                <a:spcPct val="100000"/>
              </a:lnSpc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80000" cy="50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OPERACION TE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277509 Rectángulo"/>
          <p:cNvSpPr/>
          <p:nvPr/>
        </p:nvSpPr>
        <p:spPr>
          <a:xfrm>
            <a:off x="1000080" y="469080"/>
            <a:ext cx="7500600" cy="130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914400"/>
                <a:tab algn="l" pos="1901880"/>
                <a:tab algn="l" pos="2971800"/>
                <a:tab algn="l" pos="3273480"/>
                <a:tab algn="l" pos="4873680"/>
                <a:tab algn="l" pos="670248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Prepara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l Proyecto de Infraestructura re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914400"/>
                <a:tab algn="l" pos="1901880"/>
                <a:tab algn="l" pos="2971800"/>
                <a:tab algn="l" pos="3273480"/>
                <a:tab algn="l" pos="4873680"/>
                <a:tab algn="l" pos="67024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rredor Vial Pasto – Mo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914400"/>
                <a:tab algn="l" pos="1901880"/>
                <a:tab algn="l" pos="2971800"/>
                <a:tab algn="l" pos="3273480"/>
                <a:tab algn="l" pos="4873680"/>
                <a:tab algn="l" pos="67024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ante San Francisco - Mo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914400"/>
                <a:tab algn="l" pos="1901880"/>
                <a:tab algn="l" pos="2971800"/>
                <a:tab algn="l" pos="3273480"/>
                <a:tab algn="l" pos="4873680"/>
                <a:tab algn="l" pos="67024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CO-T1038)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77510 Rectángulo"/>
          <p:cNvSpPr/>
          <p:nvPr/>
        </p:nvSpPr>
        <p:spPr>
          <a:xfrm>
            <a:off x="142920" y="1810080"/>
            <a:ext cx="8929440" cy="496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r" pos="914400"/>
                <a:tab algn="r" pos="1901880"/>
                <a:tab algn="ctr" pos="2743200"/>
                <a:tab algn="r" pos="2971800"/>
                <a:tab algn="r" pos="3273480"/>
                <a:tab algn="r" pos="4873680"/>
                <a:tab algn="r" pos="5486400"/>
                <a:tab algn="r" pos="67024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ganismo Ejecutor: 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ituto Nacional de Vías (INV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914400"/>
                <a:tab algn="r" pos="1901880"/>
                <a:tab algn="ctr" pos="2743200"/>
                <a:tab algn="r" pos="2971800"/>
                <a:tab algn="r" pos="3273480"/>
                <a:tab algn="r" pos="4873680"/>
                <a:tab algn="r" pos="5486400"/>
                <a:tab algn="r" pos="6702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914400"/>
                <a:tab algn="r" pos="1901880"/>
                <a:tab algn="ctr" pos="2743200"/>
                <a:tab algn="r" pos="2971800"/>
                <a:tab algn="r" pos="3273480"/>
                <a:tab algn="r" pos="4873680"/>
                <a:tab algn="r" pos="5486400"/>
                <a:tab algn="r" pos="67024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nanciamiento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B: (FIRII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$ 1,3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914400"/>
                <a:tab algn="r" pos="1901880"/>
                <a:tab algn="ctr" pos="2743200"/>
                <a:tab algn="r" pos="2971800"/>
                <a:tab algn="r" pos="3273480"/>
                <a:tab algn="r" pos="4873680"/>
                <a:tab algn="r" pos="5486400"/>
                <a:tab algn="r" pos="67024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cal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$ 2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914400"/>
                <a:tab algn="r" pos="1901880"/>
                <a:tab algn="ctr" pos="2743200"/>
                <a:tab algn="r" pos="2971800"/>
                <a:tab algn="r" pos="3273480"/>
                <a:tab algn="r" pos="4873680"/>
                <a:tab algn="r" pos="5486400"/>
                <a:tab algn="r" pos="67024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tal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$ 3,3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914400"/>
                <a:tab algn="r" pos="1901880"/>
                <a:tab algn="ctr" pos="2743200"/>
                <a:tab algn="r" pos="2971800"/>
                <a:tab algn="r" pos="3273480"/>
                <a:tab algn="r" pos="4873680"/>
                <a:tab algn="r" pos="5486400"/>
                <a:tab algn="r" pos="6702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r" pos="914400"/>
                <a:tab algn="r" pos="1901880"/>
                <a:tab algn="ctr" pos="2743200"/>
                <a:tab algn="r" pos="2971800"/>
                <a:tab algn="r" pos="3273480"/>
                <a:tab algn="r" pos="4873680"/>
                <a:tab algn="r" pos="5486400"/>
                <a:tab algn="r" pos="67024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jetiv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ibuir a la integración física interregional de los departamentos de la frontera sur Colombiana de Nariño, Putumayo y Amazonas con el resto del país y con los países vecinos de Ecuador, Perú y Brasil, apoyando al INVIAS para desarrollar los estudios ambientales, socioculturales y económicos necesarios para garantizar la factibilidad de la implementación de la variante San Francisco – Mocoa, parte integrante del Corredor Vial Pasto – Mocoa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r" pos="914400"/>
                <a:tab algn="r" pos="1901880"/>
                <a:tab algn="ctr" pos="2743200"/>
                <a:tab algn="r" pos="2971800"/>
                <a:tab algn="r" pos="3273480"/>
                <a:tab algn="r" pos="4873680"/>
                <a:tab algn="r" pos="5486400"/>
                <a:tab algn="r" pos="6702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914400"/>
                <a:tab algn="r" pos="1901880"/>
                <a:tab algn="ctr" pos="2743200"/>
                <a:tab algn="r" pos="2971800"/>
                <a:tab algn="r" pos="3273480"/>
                <a:tab algn="r" pos="4873680"/>
                <a:tab algn="r" pos="5486400"/>
                <a:tab algn="r" pos="67024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lazos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íodo de Ejecución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4 m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914400"/>
                <a:tab algn="r" pos="1901880"/>
                <a:tab algn="ctr" pos="2743200"/>
                <a:tab algn="r" pos="2971800"/>
                <a:tab algn="r" pos="3273480"/>
                <a:tab algn="r" pos="4873680"/>
                <a:tab algn="r" pos="5486400"/>
                <a:tab algn="r" pos="67024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íodo de Desembols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6 m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331920"/>
            <a:ext cx="8280000" cy="50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77506 Botón de acción: Hacia delante o Siguiente">
            <a:hlinkClick r:id="rId1" action="ppaction://hlinksldjump"/>
          </p:cNvPr>
          <p:cNvSpPr/>
          <p:nvPr/>
        </p:nvSpPr>
        <p:spPr>
          <a:xfrm>
            <a:off x="4033800" y="3249720"/>
            <a:ext cx="1042560" cy="1042560"/>
          </a:xfrm>
          <a:prstGeom prst="actionButtonForwardNex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295936 Rectángulo" descr=""/>
          <p:cNvPicPr/>
          <p:nvPr/>
        </p:nvPicPr>
        <p:blipFill>
          <a:blip r:embed="rId2"/>
          <a:stretch/>
        </p:blipFill>
        <p:spPr>
          <a:xfrm>
            <a:off x="0" y="14400"/>
            <a:ext cx="9143640" cy="6843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287748 Rectángulo"/>
          <p:cNvSpPr/>
          <p:nvPr/>
        </p:nvSpPr>
        <p:spPr>
          <a:xfrm>
            <a:off x="395280" y="260280"/>
            <a:ext cx="8280000" cy="504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STO Y DURACION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DE LOS ESTU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4 Tabla"/>
          <p:cNvGraphicFramePr/>
          <p:nvPr/>
        </p:nvGraphicFramePr>
        <p:xfrm>
          <a:off x="214200" y="1143000"/>
          <a:ext cx="8643600" cy="5709960"/>
        </p:xfrm>
        <a:graphic>
          <a:graphicData uri="http://schemas.openxmlformats.org/drawingml/2006/table">
            <a:tbl>
              <a:tblPr/>
              <a:tblGrid>
                <a:gridCol w="4322520"/>
                <a:gridCol w="1177920"/>
                <a:gridCol w="1177920"/>
                <a:gridCol w="1037880"/>
                <a:gridCol w="927000"/>
              </a:tblGrid>
              <a:tr h="4856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s (miles de dólares)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5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Ingeniería Fase III y Complementación del E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89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studios Ambiéntales y Soc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s-ES_tradnl" sz="1600" spc="-1" strike="noStrike">
                        <a:solidFill>
                          <a:srgbClr val="000000"/>
                        </a:solidFill>
                        <a:latin typeface="Arial"/>
                        <a:ea typeface="Arial Unicode MS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,0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,0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89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valuación Ambiental Estratég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s-ES_tradnl" sz="1600" spc="-1" strike="noStrike">
                        <a:solidFill>
                          <a:srgbClr val="000000"/>
                        </a:solidFill>
                        <a:latin typeface="Arial"/>
                        <a:ea typeface="Arial Unicode MS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89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lan de Manejo de la Reserva Forestal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s-ES_tradnl" sz="1600" spc="-1" strike="noStrike">
                        <a:solidFill>
                          <a:srgbClr val="000000"/>
                        </a:solidFill>
                        <a:latin typeface="Arial"/>
                        <a:ea typeface="Arial Unicode MS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89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valuación Económica y Línea de 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s-ES_tradnl" sz="1600" spc="-1" strike="noStrike">
                        <a:solidFill>
                          <a:srgbClr val="000000"/>
                        </a:solidFill>
                        <a:latin typeface="Arial"/>
                        <a:ea typeface="Arial Unicode MS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89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Otros (Estudios de Detal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s-ES_tradnl" sz="1600" spc="-1" strike="noStrike">
                        <a:solidFill>
                          <a:srgbClr val="000000"/>
                        </a:solidFill>
                        <a:latin typeface="Arial"/>
                        <a:ea typeface="Arial Unicode MS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89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Fortalecimiento Institu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89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Supervisión de los estud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892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s-ES_tradnl" sz="1600" spc="-1" strike="noStrike">
                        <a:solidFill>
                          <a:srgbClr val="000000"/>
                        </a:solidFill>
                        <a:latin typeface="Arial"/>
                        <a:ea typeface="Arial Unicode MS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,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,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8920">
                <a:tc gridSpan="5"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* Incluye costo del Estudio Sociocultural      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**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los valores son estim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4200" y="1500120"/>
            <a:ext cx="8686440" cy="415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. PLAN DE MANEJO AMBIENTAL Y SOCIAL DE LA RESERVA FORESTAL PROTECTORA DE LA CUENCA ALTA DEL RÍO MO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293888 Rectángulo" descr=""/>
          <p:cNvPicPr/>
          <p:nvPr/>
        </p:nvPicPr>
        <p:blipFill>
          <a:blip r:embed="rId1"/>
          <a:stretch/>
        </p:blipFill>
        <p:spPr>
          <a:xfrm>
            <a:off x="-2286000" y="-71280"/>
            <a:ext cx="11429640" cy="7143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0</TotalTime>
  <Application>LibreOffice/7.4.7.2$Linux_X86_64 LibreOffice_project/40$Build-2</Application>
  <AppVersion>15.0000</AppVersion>
  <Words>529</Words>
  <Paragraphs>105</Paragraphs>
  <Company> CIM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15:43:20Z</dcterms:created>
  <dc:creator>mbayonap</dc:creator>
  <dc:description/>
  <dc:language>en-US</dc:language>
  <cp:lastModifiedBy>anarod</cp:lastModifiedBy>
  <dcterms:modified xsi:type="dcterms:W3CDTF">2010-07-11T17:15:12Z</dcterms:modified>
  <cp:revision>90</cp:revision>
  <dc:subject/>
  <dc:title>ALTERNATIVAS DE OPERACIÓN DEL EMBALSE DEL MUÑ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6</vt:r8>
  </property>
</Properties>
</file>