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7019925" cy="9305925"/>
</p:presentation>
</file>

<file path=ppt/commentAuthors.xml><?xml version="1.0" encoding="utf-8"?>
<p:cmAuthorLst xmlns:p="http://schemas.openxmlformats.org/presentationml/2006/main">
  <p:cmAuthor id="0" name="Derek Poulton" initials="D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1-02-09T17:01:46.964000000" idx="1">
    <p:pos x="5457" y="1414"/>
    <p:text>PUEDE PONER AQUI UNA FOTO, IMAGEN, GRAFICA, U OTRO ELEMENTE RELEVANTE A SU ORGANIZACION Y SU AREA DE MICROSEGUROS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A69C-ED7C-414E-8027-BCCBFBF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A518-0098-4403-A5B6-7A21FEB7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27AB-A1E1-45D2-B845-FD7F5FE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51BB-F6A3-4533-94D9-3BF2521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E5E1-1C7D-4DA3-9BD6-5A87857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448C0-1CF1-40F2-9FD8-A5DFDDB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64A25-6355-4F83-9CE5-DA0E5D7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B9012-90AE-4AA2-BBAC-0D7A940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5599-7163-4215-A819-2DD26E9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07466-2150-43FB-8C46-192E4066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0492-6756-4837-859D-9A0C8CEC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0F4C1-F112-4FB5-97DD-C5648243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E216-654C-48EF-9F36-4607A379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83748-4207-431B-828F-69AD8C9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63BF-1A70-4F04-99AD-11D8D9B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26608-39C1-4791-A9E9-23BD91B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F2605-3782-4B3C-96CC-D2A5B394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F3BB8-182D-45A8-A6A7-FDD3FA07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21248-B4DC-4486-A27F-F982259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F039D-B354-4213-AB8C-BFEED39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B1160-1509-4F5D-8441-CFDDF86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51064-518F-47D3-A730-06A962F7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8BEAB-B4CC-4659-BCFC-FA82A888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BABA-5E66-498C-B18E-53A4D397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2BF5-11C1-46A9-88B7-9372498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72B41-A5FC-4644-9F67-885AA607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0F8D0-E13F-486F-9633-7FE9E9F4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F40A-025C-4078-8C69-A8490759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817D5-BCED-43D8-A13E-D7EC5E0E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8DBB3-D12B-4A3A-ACE9-E49CFE90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EA3A9-D35D-4BA4-A8A5-C0BA7FB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A307E-38AB-46DF-8ED3-49DAAC8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1FA10-2321-44F6-AA1E-9F8F69B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B015-8C67-4018-AB70-D22A2C4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B471-0574-482F-A4CF-D04D63E0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0B3C-17AB-4900-A847-13A1851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4229E-3E72-4B4F-A07D-DB246C6B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F1D5-75AD-4685-9401-1B6B66D4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6826D-BB81-4C42-A641-A78FABC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82C37-CB90-4560-8B55-30E24BE0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18E19-1085-49E1-8D5C-D317A4A5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D65CA-7CB3-487D-9BC1-9A3E19E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05921-22C7-4897-969E-02ED15B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3205A-826E-45CC-97A1-3C700C9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B963A-F78E-4BC7-9628-0849F65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37F-EB23-43EE-B397-E2C36A1F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61346-A9E9-43DA-8560-E10A924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8D36E-A97C-4B2B-B16E-69B2E4F2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1FBD8-6452-4D77-BB3A-AB79274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E8CE4-98E0-4E36-AD25-5BE25810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9CC5-AE00-4125-8201-4FD577D8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A353E-B30B-4950-9D9A-192709B9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06D97-B11F-4CC3-856A-DDDCF48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77DB3-FA40-43D6-AB8C-633E792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12987-5D46-43A1-9F01-64CE2AC8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1AE25-BBD5-43D2-909D-589783A2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AAF9-82C8-4564-AE27-06D6A6C8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59928-F522-4D0F-8D76-E6B39B8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B2D84-081B-4C22-8C29-2149374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46343-B054-4725-AC39-18AEC4C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E67F2-A17B-4849-9734-CCE78EE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950EC-A58A-4B13-A4FF-3C10466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A3959-546E-4043-878D-CC551D71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BE722-0F11-42D5-86AA-C3736074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0522E-CBFB-48BC-B398-989DB5CF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D2558-96C0-4B27-B7B4-704EDA4B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4824A-433C-4876-8CF7-3866EB3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29A-601E-4819-8E4D-1CD6C94C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8F2C1-FE4A-4913-9D89-BE82590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C7A7F-7C45-4979-8DE3-8833ED59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2B81D-5AD1-4712-A677-4A667D01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397A4-2737-47CA-B4D3-D644BB9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08CEE-D21D-4546-AAA1-7DCF1EA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B36F3-42CB-4A64-9512-0CDE33D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E96FC-1C03-4986-885D-C6A74BA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F8FB9-48A5-4B56-8475-5E026EB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CE886-E36D-4105-A23A-25EEBDE2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CB152-5750-41D6-97DD-6B3163C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38B-4421-42BD-9FA2-66F1B85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A70A9-93B5-4A1A-8623-6C58C0B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72DF1-74F4-46DA-93D4-AA898310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DFED2-FDC9-4D8E-A48C-9FBF3556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065FF-77BF-48F0-9F5A-2F55CAC3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5BF58-101A-40B0-9914-88616E3A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EA7E9-F934-47B4-8568-6768C94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76908-28AD-47D4-8657-A6BA4DB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C5CD6-9DCB-431C-9DB9-6652E56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31830-DE92-4B46-B222-18752F84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C97EF-7886-439C-9730-BBC83AAF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28F0-FBD1-4C57-80A9-2ACB329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A9D04-7CD8-452A-8E40-C2BF638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17098-CB02-40A2-827F-B7710799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221B7-461A-48D0-AAC8-41D1513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21D19-2122-4CC9-BBD0-31DC2A8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0C3BA-5AC8-417B-A6F9-75A1DED0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51F7F-BAE7-4B07-83BB-0D3699ED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87116-B08F-4817-BCD6-C6FF8E39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62988-BB15-4804-AE2D-EF85299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2CFED-92CB-4EE8-B628-F3AF54B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97886-4560-4C72-8BFD-360AD69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70E1-9239-4928-A8D0-ADE0C8E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EFC01-AEB4-4E88-91AC-35F7F11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F10F5-3228-4FAC-BE78-37929DEB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CD8F0-EA99-4C54-BB74-79641D7D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EA992-254A-42F7-BB74-DE3584D7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A70AD-354C-409B-9201-D3E35A37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66082-30B8-4E6C-A42C-7EE31F4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AB936-2522-4E67-AE10-0EEC5CC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9FB92-064D-4DC5-80FA-CE232CB6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B91A1-5D60-46F4-A295-926BEA42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296BC-C415-4117-A33D-7AA7925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0562-9AD2-413F-809B-FD8E4F4E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97D-2042-4E56-BFC1-0A09A1D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9C101-6BE2-443A-ADCF-26495D8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59B96-DB96-4740-91A4-46ED2B4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BDD31-91B1-486C-BFEF-29E812C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390AC-A5B2-4121-B8E6-CD72C8DC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013C9-8919-4605-B369-39E0C1D1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4B4A-8D3C-4E08-B603-F6F1162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F87-C64B-480D-9CD6-4F4C872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601-52A5-464B-B545-769E3B8D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4DB0-7D2A-4D67-98E8-EBDB2CFD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DD61-D03F-4798-9DBF-83A30E8D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940D-ED0E-44F0-8745-2BA8C7B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C71D-5C29-4C37-9F24-2EE1620D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E6EE-6898-48E4-8504-C932559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44CB-DF82-4ED9-8EAA-265E624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7621-7146-4FE1-AE4D-C394BFA9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E422-E27E-4A38-B18C-1FEE8E8C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2F34-E31C-4088-AD77-9C13691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8ED9-161D-403E-929E-8D5A7C7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6438-F969-44F8-9110-0BBE293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714E-DD8C-43BE-BC85-8B47EB2F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9052-E00B-42C1-9670-C459FD44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FD33-CDF9-4F44-B3E1-6D6AD37A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DC06-EA9A-4C3B-B6AA-360E5561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4A62-E5D7-4369-883F-81997537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D17C-020E-4548-97A8-E22F5BE9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ECDC-3978-474F-AC1B-40BD8865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FFA1-97C7-4C38-A765-B16E90D9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3F88-AA08-4C13-885A-38AF82F1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3A98-B2A4-43E0-8C88-27E2607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74CA-710F-4F4F-90CB-F250554A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5C98-1BE5-4F1E-83EE-B421F29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E7C8-A1A5-4402-8F38-7ACB580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1B8B-4719-457E-8023-BC03737C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B958-6887-4729-A42C-1F991D6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4FAB-78FD-4296-8BE7-052778B6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3FF4-161B-47B9-9EFA-95FBE34E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FF8B-2140-4818-805A-85780669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DEC0-0E08-440A-BE12-9CAFF4A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F683-F657-46CB-8313-8C744BF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866D-B7C4-4362-ABF1-E390F987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0491-3752-43F5-A481-DD1624AE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F5A6-02A6-42F5-B04E-5AB5D065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9A2F-AF87-4658-BD4B-68C2085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CE57-FBE2-42CC-92F1-CDD7951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6648-E1BF-4BB5-B454-5980FB4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95F6-32AE-46FD-9C23-354B53F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EFF3-5046-4BDA-985A-ABD84D13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5C9A-F4C4-4839-84A5-C6E67427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EBA1-4618-49AC-A787-FD08C08A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17B4-B005-4B88-A50E-59F16004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3499-2788-4702-89EE-6BA3EC5D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3D7B-DA10-4F66-8757-49F94F5C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F6E1-A26C-4350-BFC8-6C114FA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9F03-DC05-432C-9D29-8B633D4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667D-F0EA-44EC-BB52-4372282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2B8E-CF21-473D-B595-C975DCE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C08E-B5A1-4578-9442-0D91A81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996C-C7DF-4E59-B955-11871D6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B7B7-FE7C-4ADA-98B2-E5268CB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92B7-25D3-4DB4-9C46-734DBC8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501C-7675-4DD0-9EA3-8AD384F8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D346-562F-4A51-8B12-EE90B794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84EA-05F6-4ACC-BF51-C8A0655B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CA0C-FEC0-400F-970F-AFC0FF8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C8E51-F585-4241-8564-E7F98E8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EEC4-9B19-4DA1-9E22-B0FDDED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4862-F808-479E-B097-9E713A08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D6ED6-2DE1-4718-93FB-FC8C134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80AD-A611-4D19-874F-8F398C8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2EBE-42E0-40A8-8A5F-1CAB2F9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706C-3C36-4AE0-8718-719DC409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C929-435E-45E8-8DAD-9E876AC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F04D-E698-47B0-B148-C72059C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0000-E197-4D4A-A5AB-0F470DC9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ED59-F92A-45B1-83CA-ABFCA301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04B3-58DB-4E45-B933-60D1EC80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B1AAC-0A16-4218-9DDF-D70F21B8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D012-819C-4AE9-B085-F4B1DC36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C68EA-00B8-4718-B425-AC1AF32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C0D9E-231D-44BB-9410-27076E9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2D0B-263E-43D1-80DE-2978CCA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8F402-F024-4E7B-89BF-90504CF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237E1-FED2-4E9D-9253-794EFB72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41558-7CE1-4C02-BFD9-EEA75F78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E66DF-787E-44A4-9A5B-40D2747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83680" y="4052520"/>
            <a:ext cx="85741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BE41-2B6B-40C1-AC7F-DB6685E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120" y="183960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8368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7120" y="4052520"/>
            <a:ext cx="418392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8126-9F26-4405-B364-C5A1E15B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240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81480" y="183960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836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240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81480" y="4052520"/>
            <a:ext cx="2760480" cy="20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7416-A6A9-4FE8-9B5A-79A68B79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D7174-E87C-4637-920B-744483A4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A87E-2FCE-47A2-9450-C0CD700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DF76-A928-4D8D-A546-B3587BB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B63-F87E-43B1-A220-F79813B4C72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283680" y="6436800"/>
            <a:ext cx="592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8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8144-A938-4600-B19F-02F79249507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8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6D57-2134-43B9-A1B1-3FC58E4ECA8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9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10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1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C8C-BA1F-4029-90C7-203EF18004A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124160"/>
            <a:ext cx="8575920" cy="138240"/>
            <a:chOff x="284040" y="4124160"/>
            <a:chExt cx="8575920" cy="138240"/>
          </a:xfrm>
        </p:grpSpPr>
        <p:sp>
          <p:nvSpPr>
            <p:cNvPr id="551" name="Rectangle 8"/>
            <p:cNvSpPr/>
            <p:nvPr/>
          </p:nvSpPr>
          <p:spPr>
            <a:xfrm>
              <a:off x="284040" y="41241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9"/>
            <p:cNvSpPr/>
            <p:nvPr/>
          </p:nvSpPr>
          <p:spPr>
            <a:xfrm>
              <a:off x="3025800" y="41241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4626000" y="41241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901-F06B-41C6-A10C-E2578E89452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9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F5A-0ED8-4DAD-AFA1-E1665DB1A97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9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0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D25-5905-421D-8DB7-6359B0BB086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EA3-05B8-48B4-9C5C-88E7C353120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9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1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C8A-5F35-40EF-B22F-6CCD9538E25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9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10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EF7-BCB4-4F79-989A-AB032BF03B6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8B23-BA4B-49D5-9236-47F86A833AB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9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AE7-1722-4BBB-8ADD-99F2E598641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9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C0F-4FAF-449D-8180-9045ADA7D1D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9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D2A-7041-4AA9-9EF8-58C13171731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1FA-7207-40B7-B64A-E7BC969EC3A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199800" y="6436800"/>
            <a:ext cx="262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CAD-721C-4FF5-B11E-48DC09E58B5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9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283680" y="1839600"/>
            <a:ext cx="85741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260360" indent="-345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33984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940040" indent="-331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940040" indent="-33192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324480" y="6436800"/>
            <a:ext cx="260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16E-C20D-46FE-BF00-91E3CC5790A4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72680" y="1533240"/>
            <a:ext cx="77533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DES-BID-FOMIN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419040" y="444240"/>
            <a:ext cx="78105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ICROSEGUROS  PARA LATIONAMÉRICA   Y  EL CARIB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Date Placeholder 1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2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60D-77CD-491D-B754-8BEC2C81FFC2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ooter Placeholder 4"/>
          <p:cNvSpPr/>
          <p:nvPr/>
        </p:nvSpPr>
        <p:spPr>
          <a:xfrm>
            <a:off x="200160" y="6437160"/>
            <a:ext cx="612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Picture 25" descr="portada_microseguros_azul_1.jpg"/>
          <p:cNvPicPr/>
          <p:nvPr/>
        </p:nvPicPr>
        <p:blipFill>
          <a:blip r:embed="rId1"/>
          <a:srcRect l="0" t="30279" r="0" b="30279"/>
          <a:stretch/>
        </p:blipFill>
        <p:spPr>
          <a:xfrm>
            <a:off x="284040" y="2017800"/>
            <a:ext cx="8574120" cy="4376520"/>
          </a:xfrm>
          <a:prstGeom prst="rect">
            <a:avLst/>
          </a:prstGeom>
          <a:ln w="0">
            <a:noFill/>
          </a:ln>
        </p:spPr>
      </p:pic>
      <p:sp>
        <p:nvSpPr>
          <p:cNvPr id="785" name="8 Rectángulo"/>
          <p:cNvSpPr/>
          <p:nvPr/>
        </p:nvSpPr>
        <p:spPr>
          <a:xfrm>
            <a:off x="4406760" y="2455920"/>
            <a:ext cx="4060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IMPUL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L DESARROLLO DE LOS MICROSEGUR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 LATINOAMERICA Y EL CARIB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6" name="P 3" descr="35356286"/>
          <p:cNvPicPr/>
          <p:nvPr/>
        </p:nvPicPr>
        <p:blipFill>
          <a:blip r:embed="rId2"/>
          <a:srcRect l="0" t="19867" r="0" b="21938"/>
          <a:stretch/>
        </p:blipFill>
        <p:spPr>
          <a:xfrm>
            <a:off x="7248600" y="5078520"/>
            <a:ext cx="1377720" cy="571320"/>
          </a:xfrm>
          <a:prstGeom prst="rect">
            <a:avLst/>
          </a:prstGeom>
          <a:ln w="0">
            <a:noFill/>
          </a:ln>
        </p:spPr>
      </p:pic>
      <p:pic>
        <p:nvPicPr>
          <p:cNvPr id="787" name="P 1" descr="primary_logo_medium_es-pt-fr[2]"/>
          <p:cNvPicPr/>
          <p:nvPr/>
        </p:nvPicPr>
        <p:blipFill>
          <a:blip r:embed="rId3"/>
          <a:stretch/>
        </p:blipFill>
        <p:spPr>
          <a:xfrm>
            <a:off x="4392720" y="5103720"/>
            <a:ext cx="1279440" cy="546120"/>
          </a:xfrm>
          <a:prstGeom prst="rect">
            <a:avLst/>
          </a:prstGeom>
          <a:ln w="0">
            <a:noFill/>
          </a:ln>
        </p:spPr>
      </p:pic>
      <p:pic>
        <p:nvPicPr>
          <p:cNvPr id="788" name="P 2" descr=""/>
          <p:cNvPicPr/>
          <p:nvPr/>
        </p:nvPicPr>
        <p:blipFill>
          <a:blip r:embed="rId4"/>
          <a:stretch/>
        </p:blipFill>
        <p:spPr>
          <a:xfrm>
            <a:off x="5851440" y="4319640"/>
            <a:ext cx="1397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rbel"/>
              </a:rPr>
              <a:t>LECCIONES   APRENDIDA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2" name="7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8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9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329-A8A2-4ACF-B23C-0733FFAD6608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5" name="8 Imagen" descr="microseguros.bmp"/>
          <p:cNvPicPr/>
          <p:nvPr/>
        </p:nvPicPr>
        <p:blipFill>
          <a:blip r:embed="rId1"/>
          <a:stretch/>
        </p:blipFill>
        <p:spPr>
          <a:xfrm>
            <a:off x="1843200" y="1879560"/>
            <a:ext cx="5005440" cy="3898800"/>
          </a:xfrm>
          <a:prstGeom prst="rect">
            <a:avLst/>
          </a:prstGeom>
          <a:ln w="0">
            <a:noFill/>
          </a:ln>
        </p:spPr>
      </p:pic>
      <p:sp>
        <p:nvSpPr>
          <p:cNvPr id="876" name="11 CuadroTexto"/>
          <p:cNvSpPr/>
          <p:nvPr/>
        </p:nvSpPr>
        <p:spPr>
          <a:xfrm>
            <a:off x="7281720" y="57103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12 Conector recto"/>
          <p:cNvSpPr/>
          <p:nvPr/>
        </p:nvSpPr>
        <p:spPr>
          <a:xfrm>
            <a:off x="6392880" y="5907240"/>
            <a:ext cx="676080" cy="0"/>
          </a:xfrm>
          <a:prstGeom prst="line">
            <a:avLst/>
          </a:prstGeom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rbel"/>
              </a:rPr>
              <a:t>LECCIONES  APRENDIDA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7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8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9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C80B-A7EA-4DAA-89C1-7F7EE276AF01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6 CuadroTexto"/>
          <p:cNvSpPr/>
          <p:nvPr/>
        </p:nvSpPr>
        <p:spPr>
          <a:xfrm>
            <a:off x="530280" y="1866960"/>
            <a:ext cx="8318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Ley de Microseguros no es neces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La Ley no debe generar arbitraje regulatorio y debe ser evolu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</a:rPr>
              <a:t>Los microseguros mas sobresalientes son los emprendedores e innovadores que usan de canales exter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tegración de los partici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1" lang="es-MX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alta de información cualitativa  especifica del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rbel"/>
              </a:rPr>
              <a:t>CONSTRUCCIÓN DE  CAPACIDAD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7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8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9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6EE-14D0-46FC-ACF5-37A6C90048F8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11 Grupo"/>
          <p:cNvGrpSpPr/>
          <p:nvPr/>
        </p:nvGrpSpPr>
        <p:grpSpPr>
          <a:xfrm>
            <a:off x="557280" y="1938240"/>
            <a:ext cx="7948440" cy="4284720"/>
            <a:chOff x="557280" y="1938240"/>
            <a:chExt cx="7948440" cy="4284720"/>
          </a:xfrm>
        </p:grpSpPr>
        <p:sp>
          <p:nvSpPr>
            <p:cNvPr id="888" name="AutoShape 3"/>
            <p:cNvSpPr/>
            <p:nvPr/>
          </p:nvSpPr>
          <p:spPr>
            <a:xfrm>
              <a:off x="939600" y="1938240"/>
              <a:ext cx="5825520" cy="94896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Text Box 4"/>
            <p:cNvSpPr/>
            <p:nvPr/>
          </p:nvSpPr>
          <p:spPr>
            <a:xfrm>
              <a:off x="606600" y="2035440"/>
              <a:ext cx="61801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oyo a las 6 Asociaciones UE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lan de acción Pro-Desarrollo de Microsegur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644120" y="3499920"/>
              <a:ext cx="5789880" cy="1015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Text Box 7"/>
            <p:cNvSpPr/>
            <p:nvPr/>
          </p:nvSpPr>
          <p:spPr>
            <a:xfrm>
              <a:off x="1456200" y="3663720"/>
              <a:ext cx="6180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oyo a las Compañías Asegurador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oyecto Piloto de Microsegur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AutoShape 8"/>
            <p:cNvSpPr/>
            <p:nvPr/>
          </p:nvSpPr>
          <p:spPr>
            <a:xfrm>
              <a:off x="2311920" y="5207760"/>
              <a:ext cx="5663520" cy="101520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Text Box 10"/>
            <p:cNvSpPr/>
            <p:nvPr/>
          </p:nvSpPr>
          <p:spPr>
            <a:xfrm>
              <a:off x="2014200" y="5355360"/>
              <a:ext cx="6180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ocesos, control y seguimient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oyo a las CS con consultores loca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18 Flecha curvada hacia la izquierda"/>
            <p:cNvSpPr/>
            <p:nvPr/>
          </p:nvSpPr>
          <p:spPr>
            <a:xfrm>
              <a:off x="7745400" y="2479320"/>
              <a:ext cx="760320" cy="1203120"/>
            </a:xfrm>
            <a:custGeom>
              <a:avLst/>
              <a:gdLst>
                <a:gd name="textAreaLeft" fmla="*/ 101880 w 760320"/>
                <a:gd name="textAreaRight" fmla="*/ 658440 w 760320"/>
                <a:gd name="textAreaTop" fmla="*/ 232560 h 1203120"/>
                <a:gd name="textAreaBottom" fmla="*/ 879840 h 120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350" stAng="-5400000" swAng="5400000"/>
                  <a:lnTo>
                    <a:pt x="21600" y="11617"/>
                  </a:lnTo>
                  <a:arcTo wR="21600" hR="8350" stAng="0" swAng="3375625"/>
                  <a:lnTo>
                    <a:pt x="5400" y="21335"/>
                  </a:lnTo>
                  <a:lnTo>
                    <a:pt x="0" y="18334"/>
                  </a:lnTo>
                  <a:lnTo>
                    <a:pt x="5400" y="14802"/>
                  </a:lnTo>
                  <a:lnTo>
                    <a:pt x="5400" y="16435"/>
                  </a:lnTo>
                  <a:arcTo wR="21600" hR="8350" stAng="3375625" swAng="-3111047"/>
                  <a:lnTo>
                    <a:pt x="21183" y="9984"/>
                  </a:lnTo>
                  <a:arcTo wR="21600" hR="8350" stAng="-264578" swAng="-5135422"/>
                  <a:close/>
                </a:path>
                <a:path fill="darkenLess" w="21600" h="21600">
                  <a:moveTo>
                    <a:pt x="0" y="0"/>
                  </a:moveTo>
                  <a:arcTo wR="21600" hR="8350" stAng="-5400000" swAng="5400000"/>
                  <a:lnTo>
                    <a:pt x="21600" y="11617"/>
                  </a:lnTo>
                  <a:arcTo wR="21600" hR="8350" stAng="0" swAng="-264578"/>
                  <a:lnTo>
                    <a:pt x="21183" y="9984"/>
                  </a:lnTo>
                  <a:arcTo wR="21600" hR="8350" stAng="-264578" swAng="-5135422"/>
                  <a:close/>
                </a:path>
              </a:pathLst>
            </a:cu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  <a:effectLst>
              <a:outerShdw dist="25282" dir="6598986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19 Flecha curvada hacia la derecha"/>
            <p:cNvSpPr/>
            <p:nvPr/>
          </p:nvSpPr>
          <p:spPr>
            <a:xfrm>
              <a:off x="557280" y="4176720"/>
              <a:ext cx="623880" cy="1152360"/>
            </a:xfrm>
            <a:custGeom>
              <a:avLst/>
              <a:gdLst>
                <a:gd name="textAreaLeft" fmla="*/ 83520 w 623880"/>
                <a:gd name="textAreaRight" fmla="*/ 540360 w 623880"/>
                <a:gd name="textAreaTop" fmla="*/ 231840 h 1152360"/>
                <a:gd name="textAreaBottom" fmla="*/ 84564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02" stAng="-5400000" swAng="-5400000"/>
                  <a:lnTo>
                    <a:pt x="0" y="11500"/>
                  </a:lnTo>
                  <a:arcTo wR="21600" hR="8702" stAng="10800000" swAng="-3440566"/>
                  <a:lnTo>
                    <a:pt x="16200" y="21324"/>
                  </a:lnTo>
                  <a:lnTo>
                    <a:pt x="21600" y="18802"/>
                  </a:lnTo>
                  <a:lnTo>
                    <a:pt x="16200" y="15728"/>
                  </a:lnTo>
                  <a:lnTo>
                    <a:pt x="16200" y="17127"/>
                  </a:lnTo>
                  <a:arcTo wR="21600" hR="8702" stAng="7359434" swAng="3215297"/>
                  <a:lnTo>
                    <a:pt x="281" y="10101"/>
                  </a:lnTo>
                  <a:arcTo wR="21600" hR="8702" stAng="-10574730" swAng="5174730"/>
                  <a:close/>
                </a:path>
                <a:path fill="darkenLess" w="21600" h="21600">
                  <a:moveTo>
                    <a:pt x="21600" y="0"/>
                  </a:moveTo>
                  <a:arcTo wR="21600" hR="8702" stAng="-5400000" swAng="-5400000"/>
                  <a:lnTo>
                    <a:pt x="0" y="8702"/>
                  </a:lnTo>
                  <a:arcTo wR="21600" hR="8702" stAng="10800000" swAng="-225270"/>
                  <a:lnTo>
                    <a:pt x="281" y="10101"/>
                  </a:lnTo>
                  <a:arcTo wR="21600" hR="8702" stAng="-10574730" swAng="5174730"/>
                  <a:close/>
                </a:path>
              </a:pathLst>
            </a:cu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  <a:effectLst>
              <a:outerShdw dist="25282" dir="6598986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ESTINO ESPECIFICO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83680" y="1800360"/>
            <a:ext cx="85741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Estudio de mercado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Sectoriales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Técnicos actuariales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Factibilidad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Viabilidad o definición de estructuración de planes de negocios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Desarrollo de cultura financiera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Capacitación y entrenamiento de microseguros para las CS-Agentes de la red-Usuarios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Vinculación-alianzas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Diseño de productos, prueba prototipo, etc.,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Creación del sistema de registro de datos, 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262626"/>
              </a:solidFill>
              <a:latin typeface="Calibri"/>
            </a:endParaRPr>
          </a:p>
          <a:p>
            <a:pPr marL="379800" indent="-379800"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62626"/>
                </a:solidFill>
                <a:latin typeface="Calibri"/>
              </a:rPr>
              <a:t>Automatización de sistemas de control y estadística, etc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98" name="Date Placeholder 3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ooter Placeholder 4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5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EEF-6967-4FD1-B892-4D4D5908FA80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72680" y="1533240"/>
            <a:ext cx="775332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DES-BID-FOMIN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419040" y="444240"/>
            <a:ext cx="78105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ICROSEGUROS  PARA LATIONAMÉRICA   Y  EL CARIB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Date Placeholder 1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2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C99-1088-4816-B3F9-62CDFBCC31B9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ooter Placeholder 4"/>
          <p:cNvSpPr/>
          <p:nvPr/>
        </p:nvSpPr>
        <p:spPr>
          <a:xfrm>
            <a:off x="200160" y="6437160"/>
            <a:ext cx="612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6" name="Picture 25" descr="portada_microseguros_azul_1.jpg"/>
          <p:cNvPicPr/>
          <p:nvPr/>
        </p:nvPicPr>
        <p:blipFill>
          <a:blip r:embed="rId1"/>
          <a:srcRect l="0" t="30279" r="0" b="30279"/>
          <a:stretch/>
        </p:blipFill>
        <p:spPr>
          <a:xfrm>
            <a:off x="284040" y="2017800"/>
            <a:ext cx="8574120" cy="4376520"/>
          </a:xfrm>
          <a:prstGeom prst="rect">
            <a:avLst/>
          </a:prstGeom>
          <a:ln w="0">
            <a:noFill/>
          </a:ln>
        </p:spPr>
      </p:pic>
      <p:sp>
        <p:nvSpPr>
          <p:cNvPr id="907" name="8 Rectángulo"/>
          <p:cNvSpPr/>
          <p:nvPr/>
        </p:nvSpPr>
        <p:spPr>
          <a:xfrm>
            <a:off x="4406760" y="2455920"/>
            <a:ext cx="36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RACIA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OR  SU  AT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8" name="P 3" descr="35356286"/>
          <p:cNvPicPr/>
          <p:nvPr/>
        </p:nvPicPr>
        <p:blipFill>
          <a:blip r:embed="rId2"/>
          <a:srcRect l="0" t="19867" r="0" b="21938"/>
          <a:stretch/>
        </p:blipFill>
        <p:spPr>
          <a:xfrm>
            <a:off x="7248600" y="5078520"/>
            <a:ext cx="1377720" cy="571320"/>
          </a:xfrm>
          <a:prstGeom prst="rect">
            <a:avLst/>
          </a:prstGeom>
          <a:ln w="0">
            <a:noFill/>
          </a:ln>
        </p:spPr>
      </p:pic>
      <p:pic>
        <p:nvPicPr>
          <p:cNvPr id="909" name="P 1" descr="primary_logo_medium_es-pt-fr[2]"/>
          <p:cNvPicPr/>
          <p:nvPr/>
        </p:nvPicPr>
        <p:blipFill>
          <a:blip r:embed="rId3"/>
          <a:stretch/>
        </p:blipFill>
        <p:spPr>
          <a:xfrm>
            <a:off x="4392720" y="5103720"/>
            <a:ext cx="1279440" cy="546120"/>
          </a:xfrm>
          <a:prstGeom prst="rect">
            <a:avLst/>
          </a:prstGeom>
          <a:ln w="0">
            <a:noFill/>
          </a:ln>
        </p:spPr>
      </p:pic>
      <p:pic>
        <p:nvPicPr>
          <p:cNvPr id="910" name="P 2" descr=""/>
          <p:cNvPicPr/>
          <p:nvPr/>
        </p:nvPicPr>
        <p:blipFill>
          <a:blip r:embed="rId4"/>
          <a:stretch/>
        </p:blipFill>
        <p:spPr>
          <a:xfrm>
            <a:off x="5851440" y="4319640"/>
            <a:ext cx="1397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FEDERACIÓN  INTERAMERICANA  DE  EMPRESAS  DE SEGURO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03200" y="3179880"/>
            <a:ext cx="819792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 algn="just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s una Federación sin fin de lucro que agrupa a las Asociciones de Aseguradores de 18 países de América Latina,  Estados Unidos y la Península Ibérica, con más de 50 años de experiencia y de siete mil empresas de seguros afiliadas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just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Su objetivo es coadyuvar al desarrollo de la actividad aseguradora, atendiendo los grandes temas que implica la capacidad, aptitud y eficiencias del seguro, acorde con las circunstancias actuales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1" name="Date Placeholder 6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ooter Placeholder 8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7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B68-F354-4DD6-A32F-0E6BB72D0F4C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Picture 1029" descr=""/>
          <p:cNvPicPr/>
          <p:nvPr/>
        </p:nvPicPr>
        <p:blipFill>
          <a:blip r:embed="rId1"/>
          <a:stretch/>
        </p:blipFill>
        <p:spPr>
          <a:xfrm>
            <a:off x="2592360" y="1897200"/>
            <a:ext cx="33069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Microseguros para Latinoamérica y el Caribe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proyecto con el BID/FOMI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4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5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6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421D-A42E-4A78-9F05-E0DCDE90E574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7 Grupo"/>
          <p:cNvGrpSpPr/>
          <p:nvPr/>
        </p:nvGrpSpPr>
        <p:grpSpPr>
          <a:xfrm>
            <a:off x="573120" y="1895400"/>
            <a:ext cx="7913520" cy="4359240"/>
            <a:chOff x="573120" y="1895400"/>
            <a:chExt cx="7913520" cy="4359240"/>
          </a:xfrm>
        </p:grpSpPr>
        <p:sp>
          <p:nvSpPr>
            <p:cNvPr id="800" name="Rectangle 1050"/>
            <p:cNvSpPr/>
            <p:nvPr/>
          </p:nvSpPr>
          <p:spPr>
            <a:xfrm>
              <a:off x="573120" y="1895400"/>
              <a:ext cx="791352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ulsar el desarrollo del mercado de microsegur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Rectangle 1051"/>
            <p:cNvSpPr/>
            <p:nvPr/>
          </p:nvSpPr>
          <p:spPr>
            <a:xfrm>
              <a:off x="2843280" y="3912120"/>
              <a:ext cx="374652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rsión total US$ 3,258,48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Rectangle 1052"/>
            <p:cNvSpPr/>
            <p:nvPr/>
          </p:nvSpPr>
          <p:spPr>
            <a:xfrm>
              <a:off x="2841840" y="2611080"/>
              <a:ext cx="374796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ID/FOMIN US$ 1,741,25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Rectangle 1053"/>
            <p:cNvSpPr/>
            <p:nvPr/>
          </p:nvSpPr>
          <p:spPr>
            <a:xfrm>
              <a:off x="2843280" y="3260880"/>
              <a:ext cx="374652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DES/OTROS US$ 1,517,225</a:t>
              </a:r>
              <a:r>
                <a:rPr b="1" lang="es-MX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1057"/>
            <p:cNvSpPr/>
            <p:nvPr/>
          </p:nvSpPr>
          <p:spPr>
            <a:xfrm>
              <a:off x="834120" y="5669640"/>
              <a:ext cx="7321680" cy="5850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íses participantes: Brasil, Colombia, Guatemala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éxico, Perú y Venezuela.</a:t>
              </a:r>
              <a:r>
                <a:rPr b="1" lang="es-MX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1061"/>
            <p:cNvSpPr/>
            <p:nvPr/>
          </p:nvSpPr>
          <p:spPr>
            <a:xfrm>
              <a:off x="2843280" y="4692600"/>
              <a:ext cx="3746520" cy="520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 añ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4 Flecha a la derecha con bandas"/>
            <p:cNvSpPr/>
            <p:nvPr/>
          </p:nvSpPr>
          <p:spPr>
            <a:xfrm>
              <a:off x="619560" y="2730240"/>
              <a:ext cx="1065960" cy="1377000"/>
            </a:xfrm>
            <a:custGeom>
              <a:avLst/>
              <a:gdLst>
                <a:gd name="textAreaLeft" fmla="*/ 166320 w 1065960"/>
                <a:gd name="textAreaRight" fmla="*/ 799560 w 1065960"/>
                <a:gd name="textAreaTop" fmla="*/ 344160 h 1377000"/>
                <a:gd name="textAreaBottom" fmla="*/ 1032840 h 1377000"/>
              </a:gdLst>
              <a:ahLst/>
              <a:rect l="textAreaLeft" t="textAreaTop" r="textAreaRight" b="textAreaBottom"/>
              <a:pathLst>
                <a:path w="2571750" h="5072063">
                  <a:moveTo>
                    <a:pt x="0" y="1268016"/>
                  </a:moveTo>
                  <a:lnTo>
                    <a:pt x="80367" y="1268016"/>
                  </a:lnTo>
                  <a:lnTo>
                    <a:pt x="80367" y="3804047"/>
                  </a:lnTo>
                  <a:lnTo>
                    <a:pt x="0" y="3804047"/>
                  </a:lnTo>
                  <a:lnTo>
                    <a:pt x="0" y="1268016"/>
                  </a:lnTo>
                  <a:close/>
                  <a:moveTo>
                    <a:pt x="160734" y="1268016"/>
                  </a:moveTo>
                  <a:lnTo>
                    <a:pt x="321469" y="1268016"/>
                  </a:lnTo>
                  <a:lnTo>
                    <a:pt x="321469" y="3804047"/>
                  </a:lnTo>
                  <a:lnTo>
                    <a:pt x="160734" y="3804047"/>
                  </a:lnTo>
                  <a:lnTo>
                    <a:pt x="160734" y="1268016"/>
                  </a:lnTo>
                  <a:close/>
                  <a:moveTo>
                    <a:pt x="401836" y="1268016"/>
                  </a:moveTo>
                  <a:lnTo>
                    <a:pt x="1285875" y="1268016"/>
                  </a:lnTo>
                  <a:lnTo>
                    <a:pt x="1285875" y="0"/>
                  </a:lnTo>
                  <a:lnTo>
                    <a:pt x="2571750" y="2536032"/>
                  </a:lnTo>
                  <a:lnTo>
                    <a:pt x="1285875" y="5072063"/>
                  </a:lnTo>
                  <a:lnTo>
                    <a:pt x="1285875" y="3804047"/>
                  </a:lnTo>
                  <a:lnTo>
                    <a:pt x="401836" y="3804047"/>
                  </a:lnTo>
                  <a:lnTo>
                    <a:pt x="401836" y="1268016"/>
                  </a:lnTo>
                  <a:close/>
                </a:path>
              </a:pathLst>
            </a:custGeom>
            <a:solidFill>
              <a:srgbClr val="969696"/>
            </a:solidFill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Rectangle 1063"/>
            <p:cNvSpPr/>
            <p:nvPr/>
          </p:nvSpPr>
          <p:spPr>
            <a:xfrm>
              <a:off x="799560" y="3196440"/>
              <a:ext cx="8856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versión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4 Flecha a la derecha con bandas"/>
            <p:cNvSpPr/>
            <p:nvPr/>
          </p:nvSpPr>
          <p:spPr>
            <a:xfrm>
              <a:off x="619560" y="4226400"/>
              <a:ext cx="1065960" cy="1377000"/>
            </a:xfrm>
            <a:custGeom>
              <a:avLst/>
              <a:gdLst>
                <a:gd name="textAreaLeft" fmla="*/ 166320 w 1065960"/>
                <a:gd name="textAreaRight" fmla="*/ 799560 w 1065960"/>
                <a:gd name="textAreaTop" fmla="*/ 344160 h 1377000"/>
                <a:gd name="textAreaBottom" fmla="*/ 1032840 h 1377000"/>
              </a:gdLst>
              <a:ahLst/>
              <a:rect l="textAreaLeft" t="textAreaTop" r="textAreaRight" b="textAreaBottom"/>
              <a:pathLst>
                <a:path w="2571750" h="5072063">
                  <a:moveTo>
                    <a:pt x="0" y="1268016"/>
                  </a:moveTo>
                  <a:lnTo>
                    <a:pt x="80367" y="1268016"/>
                  </a:lnTo>
                  <a:lnTo>
                    <a:pt x="80367" y="3804047"/>
                  </a:lnTo>
                  <a:lnTo>
                    <a:pt x="0" y="3804047"/>
                  </a:lnTo>
                  <a:lnTo>
                    <a:pt x="0" y="1268016"/>
                  </a:lnTo>
                  <a:close/>
                  <a:moveTo>
                    <a:pt x="160734" y="1268016"/>
                  </a:moveTo>
                  <a:lnTo>
                    <a:pt x="321469" y="1268016"/>
                  </a:lnTo>
                  <a:lnTo>
                    <a:pt x="321469" y="3804047"/>
                  </a:lnTo>
                  <a:lnTo>
                    <a:pt x="160734" y="3804047"/>
                  </a:lnTo>
                  <a:lnTo>
                    <a:pt x="160734" y="1268016"/>
                  </a:lnTo>
                  <a:close/>
                  <a:moveTo>
                    <a:pt x="401836" y="1268016"/>
                  </a:moveTo>
                  <a:lnTo>
                    <a:pt x="1285875" y="1268016"/>
                  </a:lnTo>
                  <a:lnTo>
                    <a:pt x="1285875" y="0"/>
                  </a:lnTo>
                  <a:lnTo>
                    <a:pt x="2571750" y="2536032"/>
                  </a:lnTo>
                  <a:lnTo>
                    <a:pt x="1285875" y="5072063"/>
                  </a:lnTo>
                  <a:lnTo>
                    <a:pt x="1285875" y="3804047"/>
                  </a:lnTo>
                  <a:lnTo>
                    <a:pt x="401836" y="3804047"/>
                  </a:lnTo>
                  <a:lnTo>
                    <a:pt x="401836" y="1268016"/>
                  </a:lnTo>
                  <a:close/>
                </a:path>
              </a:pathLst>
            </a:custGeom>
            <a:solidFill>
              <a:srgbClr val="969696"/>
            </a:solidFill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1065"/>
            <p:cNvSpPr/>
            <p:nvPr/>
          </p:nvSpPr>
          <p:spPr>
            <a:xfrm>
              <a:off x="731880" y="4692600"/>
              <a:ext cx="8856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z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Microseguros para Latinoamérica y el Caribe 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proyecto con el BID/FOMI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83680" y="2117880"/>
            <a:ext cx="85741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bjetivo del programa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mover los microseguros en América Latina y el Carib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arrollar un modelo piloto de productos y mercado de microseguros para las personas de bajos ingreso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poyando a 6 países y logrando dos millones de pólizas nuevas en tres año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  <a:p>
            <a:pPr lvl="1" marL="886680" indent="-44316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n una inversión total de más de 3 millones de dólar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2" name="Date Placeholder 3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FFF-5BD6-44F6-8E3F-E9307BCB1A64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OBJETIVOS  DEL PROYECTO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4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5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6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EEE3-02F2-4A9F-AB85-0CE576C1C631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7 Rectángulo"/>
          <p:cNvSpPr/>
          <p:nvPr/>
        </p:nvSpPr>
        <p:spPr>
          <a:xfrm>
            <a:off x="4361040" y="2690640"/>
            <a:ext cx="42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41414"/>
                </a:solidFill>
                <a:latin typeface="Verdana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141414"/>
                </a:solidFill>
                <a:latin typeface="Lucida Sans Unicode"/>
                <a:ea typeface="Arial"/>
              </a:rPr>
              <a:t> </a:t>
            </a:r>
            <a:r>
              <a:rPr b="0" lang="es-ES_tradnl" sz="1800" spc="-1" strike="noStrike">
                <a:solidFill>
                  <a:srgbClr val="141414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0" name="8 Marcador de contenido"/>
          <p:cNvGrpSpPr/>
          <p:nvPr/>
        </p:nvGrpSpPr>
        <p:grpSpPr>
          <a:xfrm>
            <a:off x="284040" y="2343240"/>
            <a:ext cx="8574120" cy="3797280"/>
            <a:chOff x="284040" y="2343240"/>
            <a:chExt cx="8574120" cy="3797280"/>
          </a:xfrm>
        </p:grpSpPr>
        <p:sp>
          <p:nvSpPr>
            <p:cNvPr id="821" name="Rectangle 39"/>
            <p:cNvSpPr/>
            <p:nvPr/>
          </p:nvSpPr>
          <p:spPr>
            <a:xfrm>
              <a:off x="5829480" y="2355120"/>
              <a:ext cx="1628280" cy="3532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37"/>
            <p:cNvSpPr/>
            <p:nvPr/>
          </p:nvSpPr>
          <p:spPr>
            <a:xfrm>
              <a:off x="4091760" y="2344320"/>
              <a:ext cx="1628280" cy="35326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322360" y="2343240"/>
              <a:ext cx="1628280" cy="3532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Rectangle 32"/>
            <p:cNvSpPr/>
            <p:nvPr/>
          </p:nvSpPr>
          <p:spPr>
            <a:xfrm>
              <a:off x="570240" y="2343240"/>
              <a:ext cx="1628280" cy="35326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5" name="Picture 1105" descr="spacer"/>
            <p:cNvPicPr/>
            <p:nvPr/>
          </p:nvPicPr>
          <p:blipFill>
            <a:blip r:embed="rId1"/>
            <a:stretch/>
          </p:blipFill>
          <p:spPr>
            <a:xfrm>
              <a:off x="284040" y="2678400"/>
              <a:ext cx="18720" cy="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Rectangle 1132"/>
            <p:cNvSpPr/>
            <p:nvPr/>
          </p:nvSpPr>
          <p:spPr>
            <a:xfrm>
              <a:off x="2373840" y="3449520"/>
              <a:ext cx="1501560" cy="4096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xperiencia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xitos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Rectangle 1133"/>
            <p:cNvSpPr/>
            <p:nvPr/>
          </p:nvSpPr>
          <p:spPr>
            <a:xfrm>
              <a:off x="2478600" y="3976560"/>
              <a:ext cx="1969560" cy="4683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triz de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equerimientos Mínim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Rectangle 1134"/>
            <p:cNvSpPr/>
            <p:nvPr/>
          </p:nvSpPr>
          <p:spPr>
            <a:xfrm>
              <a:off x="4254480" y="4561920"/>
              <a:ext cx="3064320" cy="4683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lan de Construcción de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apacidad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Rectangle 1135"/>
            <p:cNvSpPr/>
            <p:nvPr/>
          </p:nvSpPr>
          <p:spPr>
            <a:xfrm>
              <a:off x="1779480" y="5167080"/>
              <a:ext cx="5639400" cy="2926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onitoreo de Resultad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4 Flecha a la derecha con bandas"/>
            <p:cNvSpPr/>
            <p:nvPr/>
          </p:nvSpPr>
          <p:spPr>
            <a:xfrm>
              <a:off x="291600" y="3420360"/>
              <a:ext cx="1110600" cy="1171080"/>
            </a:xfrm>
            <a:custGeom>
              <a:avLst/>
              <a:gdLst>
                <a:gd name="textAreaLeft" fmla="*/ 173520 w 1110600"/>
                <a:gd name="textAreaRight" fmla="*/ 833040 w 1110600"/>
                <a:gd name="textAreaTop" fmla="*/ 292680 h 1171080"/>
                <a:gd name="textAreaBottom" fmla="*/ 878400 h 1171080"/>
              </a:gdLst>
              <a:ahLst/>
              <a:rect l="textAreaLeft" t="textAreaTop" r="textAreaRight" b="textAreaBottom"/>
              <a:pathLst>
                <a:path w="2571750" h="5072063">
                  <a:moveTo>
                    <a:pt x="0" y="1268016"/>
                  </a:moveTo>
                  <a:lnTo>
                    <a:pt x="80367" y="1268016"/>
                  </a:lnTo>
                  <a:lnTo>
                    <a:pt x="80367" y="3804047"/>
                  </a:lnTo>
                  <a:lnTo>
                    <a:pt x="0" y="3804047"/>
                  </a:lnTo>
                  <a:lnTo>
                    <a:pt x="0" y="1268016"/>
                  </a:lnTo>
                  <a:close/>
                  <a:moveTo>
                    <a:pt x="160734" y="1268016"/>
                  </a:moveTo>
                  <a:lnTo>
                    <a:pt x="321469" y="1268016"/>
                  </a:lnTo>
                  <a:lnTo>
                    <a:pt x="321469" y="3804047"/>
                  </a:lnTo>
                  <a:lnTo>
                    <a:pt x="160734" y="3804047"/>
                  </a:lnTo>
                  <a:lnTo>
                    <a:pt x="160734" y="1268016"/>
                  </a:lnTo>
                  <a:close/>
                  <a:moveTo>
                    <a:pt x="401836" y="1268016"/>
                  </a:moveTo>
                  <a:lnTo>
                    <a:pt x="1285875" y="1268016"/>
                  </a:lnTo>
                  <a:lnTo>
                    <a:pt x="1285875" y="0"/>
                  </a:lnTo>
                  <a:lnTo>
                    <a:pt x="2571750" y="2536032"/>
                  </a:lnTo>
                  <a:lnTo>
                    <a:pt x="1285875" y="5072063"/>
                  </a:lnTo>
                  <a:lnTo>
                    <a:pt x="1285875" y="3804047"/>
                  </a:lnTo>
                  <a:lnTo>
                    <a:pt x="401836" y="3804047"/>
                  </a:lnTo>
                  <a:lnTo>
                    <a:pt x="401836" y="1268016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Rectangle 1139"/>
            <p:cNvSpPr/>
            <p:nvPr/>
          </p:nvSpPr>
          <p:spPr>
            <a:xfrm>
              <a:off x="562320" y="3903480"/>
              <a:ext cx="653760" cy="21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AS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Rectangle 1143"/>
            <p:cNvSpPr/>
            <p:nvPr/>
          </p:nvSpPr>
          <p:spPr>
            <a:xfrm>
              <a:off x="1824840" y="3039480"/>
              <a:ext cx="1478160" cy="2926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ínea ba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Rectangle 1146"/>
            <p:cNvSpPr/>
            <p:nvPr/>
          </p:nvSpPr>
          <p:spPr>
            <a:xfrm>
              <a:off x="835920" y="2483280"/>
              <a:ext cx="2102400" cy="4683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dicion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evi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Rectangle 1149"/>
            <p:cNvSpPr/>
            <p:nvPr/>
          </p:nvSpPr>
          <p:spPr>
            <a:xfrm>
              <a:off x="7506720" y="3000600"/>
              <a:ext cx="1351440" cy="29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dicador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Rectangle 1150"/>
            <p:cNvSpPr/>
            <p:nvPr/>
          </p:nvSpPr>
          <p:spPr>
            <a:xfrm>
              <a:off x="7506720" y="3439800"/>
              <a:ext cx="1351440" cy="409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tinoamé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 el Carib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Rectangle 1151"/>
            <p:cNvSpPr/>
            <p:nvPr/>
          </p:nvSpPr>
          <p:spPr>
            <a:xfrm>
              <a:off x="7506720" y="3976560"/>
              <a:ext cx="1351440" cy="468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odos lo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ís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Line 1152"/>
            <p:cNvSpPr/>
            <p:nvPr/>
          </p:nvSpPr>
          <p:spPr>
            <a:xfrm flipV="1">
              <a:off x="3445560" y="3156480"/>
              <a:ext cx="3873240" cy="1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Line 1154"/>
            <p:cNvSpPr/>
            <p:nvPr/>
          </p:nvSpPr>
          <p:spPr>
            <a:xfrm>
              <a:off x="4154040" y="3644640"/>
              <a:ext cx="31708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Line 1155"/>
            <p:cNvSpPr/>
            <p:nvPr/>
          </p:nvSpPr>
          <p:spPr>
            <a:xfrm>
              <a:off x="4582800" y="4161960"/>
              <a:ext cx="27360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Rectangle 1156"/>
            <p:cNvSpPr/>
            <p:nvPr/>
          </p:nvSpPr>
          <p:spPr>
            <a:xfrm>
              <a:off x="7506720" y="4571640"/>
              <a:ext cx="1351440" cy="468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 – 10 Cías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– 6 País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Rectangle 1157"/>
            <p:cNvSpPr/>
            <p:nvPr/>
          </p:nvSpPr>
          <p:spPr>
            <a:xfrm>
              <a:off x="7506720" y="5176800"/>
              <a:ext cx="1351440" cy="29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ustent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878400" y="564516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Text Box 36"/>
            <p:cNvSpPr/>
            <p:nvPr/>
          </p:nvSpPr>
          <p:spPr>
            <a:xfrm>
              <a:off x="2675880" y="56185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Text Box 38"/>
            <p:cNvSpPr/>
            <p:nvPr/>
          </p:nvSpPr>
          <p:spPr>
            <a:xfrm>
              <a:off x="4423320" y="563076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01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Text Box 40"/>
            <p:cNvSpPr/>
            <p:nvPr/>
          </p:nvSpPr>
          <p:spPr>
            <a:xfrm>
              <a:off x="6230160" y="562320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Text Box 42"/>
            <p:cNvSpPr/>
            <p:nvPr/>
          </p:nvSpPr>
          <p:spPr>
            <a:xfrm>
              <a:off x="7408080" y="5863680"/>
              <a:ext cx="1185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AutoShape 41"/>
          <p:cNvSpPr/>
          <p:nvPr/>
        </p:nvSpPr>
        <p:spPr>
          <a:xfrm>
            <a:off x="7026120" y="5487840"/>
            <a:ext cx="1954440" cy="11019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42"/>
          <p:cNvSpPr/>
          <p:nvPr/>
        </p:nvSpPr>
        <p:spPr>
          <a:xfrm>
            <a:off x="7367760" y="5794200"/>
            <a:ext cx="120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  <a:ea typeface="Arial"/>
              </a:rPr>
              <a:t>2 millones póliz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146"/>
          <p:cNvSpPr/>
          <p:nvPr/>
        </p:nvSpPr>
        <p:spPr>
          <a:xfrm>
            <a:off x="3056040" y="1735200"/>
            <a:ext cx="2415960" cy="468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  <a:ea typeface="Arial"/>
              </a:rPr>
              <a:t>OBJETIVOS ESPECIIF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EL OBJETIVO DEL PROYECTO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83680" y="1891800"/>
            <a:ext cx="857412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bjetivo especificos del programa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dentificar factores clave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Determinar los requerimientos mínimos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Desarrollo de capacidades: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3" marL="1455840" indent="-30924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Plan de acción de las 6 Asociacion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3" marL="1455840" indent="-30924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Modelo Piloto de productos y mercado a desarrollar por 10 C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3" marL="1455840" indent="-30924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La meta es lograr 2 millones de nuevas pólizas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62626"/>
              </a:solidFill>
              <a:latin typeface="Calibri"/>
            </a:endParaRPr>
          </a:p>
          <a:p>
            <a:pPr lvl="1" marL="831960" indent="-4158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Replicar los casos sobresalientes en otros países de la región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2" name="Date Placeholder 3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ooter Placeholder 4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5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89D-0DC6-4462-A5BF-049A10098B8B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Date Placeholder 3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3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ooter Placeholder 4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5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3A86-B103-42C4-B40B-B709E7C6CDD1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8 Diagrama" descr=""/>
          <p:cNvPicPr/>
          <p:nvPr/>
        </p:nvPicPr>
        <p:blipFill>
          <a:blip r:embed="rId1"/>
          <a:stretch/>
        </p:blipFill>
        <p:spPr>
          <a:xfrm>
            <a:off x="853920" y="1371600"/>
            <a:ext cx="7515360" cy="4595760"/>
          </a:xfrm>
          <a:prstGeom prst="rect">
            <a:avLst/>
          </a:prstGeom>
          <a:ln w="0">
            <a:noFill/>
          </a:ln>
        </p:spPr>
      </p:pic>
      <p:sp>
        <p:nvSpPr>
          <p:cNvPr id="859" name="1 CuadroTexto"/>
          <p:cNvSpPr/>
          <p:nvPr/>
        </p:nvSpPr>
        <p:spPr>
          <a:xfrm>
            <a:off x="2146320" y="641520"/>
            <a:ext cx="54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060"/>
                </a:solidFill>
                <a:latin typeface="Calibri"/>
              </a:rPr>
              <a:t>Ciclo de factores cl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1 CuadroTexto"/>
          <p:cNvSpPr/>
          <p:nvPr/>
        </p:nvSpPr>
        <p:spPr>
          <a:xfrm>
            <a:off x="1873080" y="6014880"/>
            <a:ext cx="548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2060"/>
                </a:solidFill>
                <a:latin typeface="Calibri"/>
              </a:rPr>
              <a:t>Independientemente del nivel de maduración del microseguro existen pautas que son imprescindib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1 CuadroTexto"/>
          <p:cNvSpPr/>
          <p:nvPr/>
        </p:nvSpPr>
        <p:spPr>
          <a:xfrm>
            <a:off x="2611440" y="-6336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060"/>
                </a:solidFill>
                <a:latin typeface="Calibri"/>
              </a:rPr>
              <a:t>CASOS SELECION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5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6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7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F9C2-70A9-45A9-9F55-4FBC339A5358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8 Rectángulo"/>
          <p:cNvSpPr/>
          <p:nvPr/>
        </p:nvSpPr>
        <p:spPr>
          <a:xfrm>
            <a:off x="419040" y="1417680"/>
            <a:ext cx="8325000" cy="47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Conocer las características de la población obje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Los microseguros no deben tener exclusiones, ni requisitos de selec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Cobertura de necesidades re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Simplificación de  contratación, operación e indemn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Comercializar a través de canales extern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</a:rPr>
              <a:t>Monitor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9 Rectángulo"/>
          <p:cNvSpPr/>
          <p:nvPr/>
        </p:nvSpPr>
        <p:spPr>
          <a:xfrm>
            <a:off x="2460600" y="708120"/>
            <a:ext cx="38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99"/>
                </a:solidFill>
                <a:latin typeface="Calibri"/>
              </a:rPr>
              <a:t>Factores cl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5 Marcador de fecha"/>
          <p:cNvSpPr/>
          <p:nvPr/>
        </p:nvSpPr>
        <p:spPr>
          <a:xfrm>
            <a:off x="6324480" y="6437160"/>
            <a:ext cx="260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22-25 marzo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6 Marcador de pie de página"/>
          <p:cNvSpPr/>
          <p:nvPr/>
        </p:nvSpPr>
        <p:spPr>
          <a:xfrm>
            <a:off x="200160" y="6437160"/>
            <a:ext cx="262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  <a:ea typeface="Arial"/>
              </a:rPr>
              <a:t>Medellín, Colombi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7 Marcador de número de diapositiva"/>
          <p:cNvSpPr/>
          <p:nvPr/>
        </p:nvSpPr>
        <p:spPr>
          <a:xfrm>
            <a:off x="8305920" y="166680"/>
            <a:ext cx="63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9966-380B-405F-9320-2901EF787FD2}" type="slidenum">
              <a:rPr b="1" lang="en-US" sz="1400" spc="-1" strike="noStrike">
                <a:solidFill>
                  <a:srgbClr val="262626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995400" y="135000"/>
          <a:ext cx="7213680" cy="6308640"/>
        </p:xfrm>
        <a:graphic>
          <a:graphicData uri="http://schemas.openxmlformats.org/drawingml/2006/table">
            <a:tbl>
              <a:tblPr/>
              <a:tblGrid>
                <a:gridCol w="426960"/>
                <a:gridCol w="1833480"/>
                <a:gridCol w="471600"/>
                <a:gridCol w="115920"/>
                <a:gridCol w="563400"/>
                <a:gridCol w="115920"/>
                <a:gridCol w="622440"/>
                <a:gridCol w="525600"/>
                <a:gridCol w="529920"/>
                <a:gridCol w="712800"/>
                <a:gridCol w="1295640"/>
              </a:tblGrid>
              <a:tr h="320040"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MATRIZ AGREGADA</a:t>
                      </a:r>
                      <a:r>
                        <a:rPr b="1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RASI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COLOMB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UATEMA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EX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ER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VENEZUE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CONCLUSIO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 gridSpan="10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Ley de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o se requiere la Ley para lograr el 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é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xi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Otras leyes en 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á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mbito financi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Existe mayor regul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en los pa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í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ses con mercado m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á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s evolucion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Ley de exen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impositiva para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Regul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espec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í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fica para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Otra regul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de seguros que se aplica a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gridSpan="10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actores de Ofer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Comit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é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 de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Enriquecedor y coadyuvante del desarrollo del merc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Canales de distribu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operando con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Alternativa de merc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Canales de distribu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autorizados por normas para operar en microsegu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Mayor penetr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de merc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Desarrollo de Microfinanz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Canal tradi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Beneficio fisc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Incentivo para la Ind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Simplific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administrativa (Contrat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, oper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y registr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Indispensable para cre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Promo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Obligato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Muy conveniente para impulsar merc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Reaseguro de microseguros para da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ñ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Es necesaria para incentivar a la Indust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gridSpan="10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actores de Deman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iveles de pobre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Grandes necesidades del merc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Reme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Mercado pontecial a desarroll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9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Educaci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ó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n financi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Indispensable para cre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Exist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Proc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333333"/>
                          </a:solidFill>
                          <a:latin typeface="Arial Narrow"/>
                          <a:ea typeface="Times New Roman"/>
                        </a:rPr>
                        <a:t>Inexist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45:13Z</dcterms:created>
  <dc:creator>Miguel Solana</dc:creator>
  <dc:description/>
  <dc:language>en-US</dc:language>
  <cp:lastModifiedBy>Maria Victoria Saenz</cp:lastModifiedBy>
  <dcterms:modified xsi:type="dcterms:W3CDTF">2015-02-27T16:37:53Z</dcterms:modified>
  <cp:revision>8</cp:revision>
  <dc:subject/>
  <dc:title>Fides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3FE8B9337CED1F4D8D3A9379EA9D97C3</vt:lpwstr>
  </property>
  <property fmtid="{D5CDD505-2E9C-101B-9397-08002B2CF9AE}" pid="7" name="Country">
    <vt:lpwstr/>
  </property>
  <property fmtid="{D5CDD505-2E9C-101B-9397-08002B2CF9AE}" pid="8" name="Disclosed">
    <vt:lpwstr>1</vt:lpwstr>
  </property>
  <property fmtid="{D5CDD505-2E9C-101B-9397-08002B2CF9AE}" pid="9" name="Disclosure Activity">
    <vt:lpwstr>MIF Project Product</vt:lpwstr>
  </property>
  <property fmtid="{D5CDD505-2E9C-101B-9397-08002B2CF9AE}" pid="10" name="Division or Unit">
    <vt:lpwstr>MIF/ATF</vt:lpwstr>
  </property>
  <property fmtid="{D5CDD505-2E9C-101B-9397-08002B2CF9AE}" pid="11" name="Document Author">
    <vt:lpwstr>Saenz-Samper, Maria Victoria</vt:lpwstr>
  </property>
  <property fmtid="{D5CDD505-2E9C-101B-9397-08002B2CF9AE}" pid="12" name="Document Language IDB">
    <vt:lpwstr>Spanish</vt:lpwstr>
  </property>
  <property fmtid="{D5CDD505-2E9C-101B-9397-08002B2CF9AE}" pid="13" name="Editor1">
    <vt:lpwstr/>
  </property>
  <property fmtid="{D5CDD505-2E9C-101B-9397-08002B2CF9AE}" pid="14" name="Fiscal Year IDB">
    <vt:lpwstr>2015</vt:lpwstr>
  </property>
  <property fmtid="{D5CDD505-2E9C-101B-9397-08002B2CF9AE}" pid="15" name="From:">
    <vt:lpwstr>3002</vt:lpwstr>
  </property>
  <property fmtid="{D5CDD505-2E9C-101B-9397-08002B2CF9AE}" pid="16" name="Function Operations IDB">
    <vt:lpwstr>13;#IDBDocs|cca77002-e150-4b2d-ab1f-1d7a7cdcae16</vt:lpwstr>
  </property>
  <property fmtid="{D5CDD505-2E9C-101B-9397-08002B2CF9AE}" pid="17" name="Fund IDB">
    <vt:lpwstr/>
  </property>
  <property fmtid="{D5CDD505-2E9C-101B-9397-08002B2CF9AE}" pid="18" name="IDBDocs Number">
    <vt:lpwstr>39427430</vt:lpwstr>
  </property>
  <property fmtid="{D5CDD505-2E9C-101B-9397-08002B2CF9AE}" pid="19" name="Identifier">
    <vt:lpwstr> PUB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23671752953D42949D41542ADC191483"&gt;MS POWERPOINTMIFPRDMIF Project Product0N&lt;/div&gt;</vt:lpwstr>
  </property>
  <property fmtid="{D5CDD505-2E9C-101B-9397-08002B2CF9AE}" pid="24" name="Operation Type">
    <vt:lpwstr/>
  </property>
  <property fmtid="{D5CDD505-2E9C-101B-9397-08002B2CF9AE}" pid="25" name="Order">
    <vt:lpwstr>43200.0000000000</vt:lpwstr>
  </property>
  <property fmtid="{D5CDD505-2E9C-101B-9397-08002B2CF9AE}" pid="26" name="Other Author">
    <vt:lpwstr>3002</vt:lpwstr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RG-M1150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>R0002784216</vt:lpwstr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14;#Unclassified|a6dff32e-d477-44cd-a56b-85efe9e0a56c</vt:lpwstr>
  </property>
  <property fmtid="{D5CDD505-2E9C-101B-9397-08002B2CF9AE}" pid="38" name="Sub-Sector">
    <vt:lpwstr/>
  </property>
  <property fmtid="{D5CDD505-2E9C-101B-9397-08002B2CF9AE}" pid="39" name="Sub_x005F_x002d_Sector">
    <vt:lpwstr/>
  </property>
  <property fmtid="{D5CDD505-2E9C-101B-9397-08002B2CF9AE}" pid="40" name="TaxCatchAll">
    <vt:lpwstr>14;#Unclassified|a6dff32e-d477-44cd-a56b-85efe9e0a56c;#13;#IDBDocs|cca77002-e150-4b2d-ab1f-1d7a7cdcae16</vt:lpwstr>
  </property>
  <property fmtid="{D5CDD505-2E9C-101B-9397-08002B2CF9AE}" pid="41" name="TaxKeyword">
    <vt:lpwstr/>
  </property>
  <property fmtid="{D5CDD505-2E9C-101B-9397-08002B2CF9AE}" pid="42" name="TaxKeywordTaxHTField">
    <vt:lpwstr/>
  </property>
  <property fmtid="{D5CDD505-2E9C-101B-9397-08002B2CF9AE}" pid="43" name="To:">
    <vt:lpwstr/>
  </property>
  <property fmtid="{D5CDD505-2E9C-101B-9397-08002B2CF9AE}" pid="44" name="URL">
    <vt:lpwstr/>
  </property>
  <property fmtid="{D5CDD505-2E9C-101B-9397-08002B2CF9AE}" pid="45" name="Webtopic">
    <vt:lpwstr>Banking and Financial Services;Microenterprise and Microfinance;Private Sector Development and Competitiveness</vt:lpwstr>
  </property>
  <property fmtid="{D5CDD505-2E9C-101B-9397-08002B2CF9AE}" pid="46" name="_dlc_DocId">
    <vt:lpwstr>EZSHARE-725989276-432</vt:lpwstr>
  </property>
  <property fmtid="{D5CDD505-2E9C-101B-9397-08002B2CF9AE}" pid="47" name="_dlc_DocIdItemGuid">
    <vt:lpwstr>02663617-61a3-40cb-a872-3e7e9ffbf337</vt:lpwstr>
  </property>
  <property fmtid="{D5CDD505-2E9C-101B-9397-08002B2CF9AE}" pid="48" name="_dlc_DocIdUrl">
    <vt:lpwstr>https://idbg.sharepoint.com/teams/EZ-RG-TCP/RG-M1150/_layouts/15/DocIdRedir.aspx?ID=EZSHARE-725989276-432, EZSHARE-725989276-432</vt:lpwstr>
  </property>
  <property fmtid="{D5CDD505-2E9C-101B-9397-08002B2CF9AE}" pid="49" name="b26cdb1da78c4bb4b1c1bac2f6ac5911">
    <vt:lpwstr>Unclassified|a6dff32e-d477-44cd-a56b-85efe9e0a56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migration</vt:lpwstr>
  </property>
  <property fmtid="{D5CDD505-2E9C-101B-9397-08002B2CF9AE}" pid="53" name="display_urn:schemas-microsoft-com:office:office#Editor">
    <vt:lpwstr>ATI WF Service</vt:lpwstr>
  </property>
  <property fmtid="{D5CDD505-2E9C-101B-9397-08002B2CF9AE}" pid="54" name="e46fe2894295491da65140ffd2369f49">
    <vt:lpwstr>IDBDocs|cca77002-e150-4b2d-ab1f-1d7a7cdcae16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IDBDocs|cca77002-e150-4b2d-ab1f-1d7a7cdcae16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/>
  </property>
  <property fmtid="{D5CDD505-2E9C-101B-9397-08002B2CF9AE}" pid="59" name="j8b96605ee2f4c4e988849e658583fee">
    <vt:lpwstr/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Unclassified|a6dff32e-d477-44cd-a56b-85efe9e0a56c</vt:lpwstr>
  </property>
</Properties>
</file>