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9.jpeg" ContentType="image/jpeg"/>
  <Override PartName="/ppt/media/image11.png" ContentType="image/png"/>
  <Override PartName="/ppt/media/image12.png" ContentType="image/png"/>
  <Override PartName="/ppt/media/image14.jpeg" ContentType="image/jpeg"/>
  <Override PartName="/ppt/media/image33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D5BA-0806-43B4-8643-4044D01FCC6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06A6-1781-4D2A-9639-D207B1B9274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4AD5-7495-4001-B5EB-A57C654AA864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1B4A-5A37-43AF-B389-25F7F2EB0F8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2A49-5221-4DD1-A94A-A8A2FC9E23B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C0B8-42B7-42ED-810D-BC456D71A9D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4A3B-E2EA-482D-A490-997A387D08A7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A212-B15D-43D0-86EE-CB60ECE54784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742C-254E-45D4-9FCF-A156C6F3524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7A20-1467-4412-A92E-0374EC3F059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B4DD-E393-486B-9B49-BDCCB56530A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008-7E29-4875-B670-8031D6D3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0323-8AD7-45AB-847E-3B5F76D8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269-910C-42D3-9060-F9BA0073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B55-4E9B-4CE6-877D-B07F2A11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B9BC-92F4-4F9F-8D84-0AEDD150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A6EC-191D-45C9-A730-9507C65C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6BBE-AEEB-4503-B3FA-A2A729AE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9D41-4B27-4584-ACE0-4CFF65E0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342E-3E35-44B8-8372-9CADBF32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E97B-13AE-43DD-8D2D-B36EAD45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FF39-C501-4E00-8F3C-D3185F7A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913-B3CA-4142-A851-7333FFD0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0795-961B-4029-AC38-88B90967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BD0C-358B-4484-B453-CD49335E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EBBE-F2FB-40F9-A87D-637DFA9B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022B-C52D-4413-B400-91B209CD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DC36-4DB0-49F2-9FCD-87A3E5D5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C24-B974-462B-826D-5DFE055D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A0BD-2644-4A76-A9A8-B05AE7E5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3887-43C8-4A79-96CC-67164475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31A-1F0C-403E-BAAC-44D9C69A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BF0-8256-43F0-B0B6-15E3ED75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1E0-0D0E-4726-ABFC-8B7E3872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2A23-E43C-492A-9558-4E9EA59A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5BCF-DE14-48D6-A573-A95452BE61FE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43" name="Rectangle 9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0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2-25 marzo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99800" y="6436800"/>
            <a:ext cx="262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dellín, Colo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771D-2CB7-4F9C-91E3-BA55C8C2E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image" Target="../media/image12.png"/><Relationship Id="rId6" Type="http://schemas.openxmlformats.org/officeDocument/2006/relationships/image" Target="../media/image24.png"/><Relationship Id="rId7" Type="http://schemas.openxmlformats.org/officeDocument/2006/relationships/image" Target="../media/image23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13.png"/><Relationship Id="rId17" Type="http://schemas.openxmlformats.org/officeDocument/2006/relationships/image" Target="../media/image17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9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18.png"/><Relationship Id="rId5" Type="http://schemas.openxmlformats.org/officeDocument/2006/relationships/image" Target="../media/image21.jpeg"/><Relationship Id="rId6" Type="http://schemas.openxmlformats.org/officeDocument/2006/relationships/image" Target="../media/image15.jpe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7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2060"/>
                </a:solidFill>
                <a:latin typeface="Calibri"/>
              </a:rPr>
              <a:t>Microseguros para </a:t>
            </a:r>
            <a:br>
              <a:rPr sz="4400"/>
            </a:br>
            <a:r>
              <a:rPr b="1" lang="es-ES" sz="4400" spc="-1" strike="noStrike">
                <a:solidFill>
                  <a:srgbClr val="002060"/>
                </a:solidFill>
                <a:latin typeface="Calibri"/>
              </a:rPr>
              <a:t>Latinoamérica y el Cari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73160" y="214200"/>
            <a:ext cx="3398760" cy="1071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primary_logo_medium_es-pt-fr[2]"/>
          <p:cNvPicPr/>
          <p:nvPr/>
        </p:nvPicPr>
        <p:blipFill>
          <a:blip r:embed="rId2"/>
          <a:stretch/>
        </p:blipFill>
        <p:spPr>
          <a:xfrm>
            <a:off x="260280" y="5572080"/>
            <a:ext cx="2382840" cy="857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Users\PABLO RUIZ\Documents\fomin logos\fomin positivo castellano.jpg"/>
          <p:cNvPicPr/>
          <p:nvPr/>
        </p:nvPicPr>
        <p:blipFill>
          <a:blip r:embed="rId3"/>
          <a:stretch/>
        </p:blipFill>
        <p:spPr>
          <a:xfrm>
            <a:off x="6632640" y="5145120"/>
            <a:ext cx="25113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216000" y="195120"/>
            <a:ext cx="998280" cy="947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Users\PABLO RUIZ\Documents\fomin logos\fomin positivo castellano.jpg"/>
          <p:cNvPicPr/>
          <p:nvPr/>
        </p:nvPicPr>
        <p:blipFill>
          <a:blip r:embed="rId2"/>
          <a:stretch/>
        </p:blipFill>
        <p:spPr>
          <a:xfrm>
            <a:off x="7643880" y="5857920"/>
            <a:ext cx="1466640" cy="1000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primary_logo_medium_es-pt-fr[2]"/>
          <p:cNvPicPr/>
          <p:nvPr/>
        </p:nvPicPr>
        <p:blipFill>
          <a:blip r:embed="rId3"/>
          <a:stretch/>
        </p:blipFill>
        <p:spPr>
          <a:xfrm>
            <a:off x="157320" y="6237360"/>
            <a:ext cx="1128600" cy="40644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3"/>
          <p:cNvSpPr/>
          <p:nvPr/>
        </p:nvSpPr>
        <p:spPr>
          <a:xfrm>
            <a:off x="1886040" y="142920"/>
            <a:ext cx="5913360" cy="9795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  <a:ea typeface="Arial"/>
              </a:rPr>
              <a:t>SELECCIÓN DE PROYECTOS DE MICROSEG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5 CuadroTexto"/>
          <p:cNvSpPr/>
          <p:nvPr/>
        </p:nvSpPr>
        <p:spPr>
          <a:xfrm>
            <a:off x="214200" y="1285920"/>
            <a:ext cx="864396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Se creo un Comité Independiente,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que eligió a los 10 proyectos que se apoyarán con US$100,000 a cada uno para su desarrollo con  recursos del FOMIN, en los 6 países particip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Tipo de microseguros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Salud, Daños, Pensión y V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Inversión total de los proyectos            Más de US$2.5 mill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Mercado potencial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           70’059,000 personas en los 6 país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Se estima lograr en 18 meses             1’093,000 póliz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Beneficiando a 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    4’050,000 personas aproximad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0 Flecha derecha"/>
          <p:cNvSpPr/>
          <p:nvPr/>
        </p:nvSpPr>
        <p:spPr>
          <a:xfrm>
            <a:off x="3071880" y="392904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1 Flecha derecha"/>
          <p:cNvSpPr/>
          <p:nvPr/>
        </p:nvSpPr>
        <p:spPr>
          <a:xfrm>
            <a:off x="3357720" y="285768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2 Flecha derecha"/>
          <p:cNvSpPr/>
          <p:nvPr/>
        </p:nvSpPr>
        <p:spPr>
          <a:xfrm>
            <a:off x="4286160" y="342900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3 Flecha derecha"/>
          <p:cNvSpPr/>
          <p:nvPr/>
        </p:nvSpPr>
        <p:spPr>
          <a:xfrm>
            <a:off x="4143240" y="450072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15 Flecha derecha"/>
          <p:cNvSpPr/>
          <p:nvPr/>
        </p:nvSpPr>
        <p:spPr>
          <a:xfrm>
            <a:off x="2643120" y="507204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:\Users\PABLO RUIZ\Documents\fomin logos\fomin positivo castellano.jpg"/>
          <p:cNvPicPr/>
          <p:nvPr/>
        </p:nvPicPr>
        <p:blipFill>
          <a:blip r:embed="rId1"/>
          <a:stretch/>
        </p:blipFill>
        <p:spPr>
          <a:xfrm>
            <a:off x="7132680" y="5486400"/>
            <a:ext cx="2011320" cy="1371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primary_logo_medium_es-pt-fr[2]"/>
          <p:cNvPicPr/>
          <p:nvPr/>
        </p:nvPicPr>
        <p:blipFill>
          <a:blip r:embed="rId2"/>
          <a:stretch/>
        </p:blipFill>
        <p:spPr>
          <a:xfrm>
            <a:off x="157320" y="6032520"/>
            <a:ext cx="1699920" cy="611280"/>
          </a:xfrm>
          <a:prstGeom prst="rect">
            <a:avLst/>
          </a:prstGeom>
          <a:ln w="0">
            <a:noFill/>
          </a:ln>
        </p:spPr>
      </p:pic>
      <p:sp>
        <p:nvSpPr>
          <p:cNvPr id="183" name="8 Rectángulo"/>
          <p:cNvSpPr/>
          <p:nvPr/>
        </p:nvSpPr>
        <p:spPr>
          <a:xfrm>
            <a:off x="2286000" y="2747880"/>
            <a:ext cx="471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2060"/>
                </a:solidFill>
                <a:latin typeface="Arial"/>
              </a:rPr>
              <a:t>Gracias por s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2060"/>
                </a:solidFill>
                <a:latin typeface="Arial"/>
              </a:rPr>
              <a:t>Aten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24 Grupo"/>
          <p:cNvGrpSpPr/>
          <p:nvPr/>
        </p:nvGrpSpPr>
        <p:grpSpPr>
          <a:xfrm>
            <a:off x="173160" y="214200"/>
            <a:ext cx="8653320" cy="1071720"/>
            <a:chOff x="173160" y="214200"/>
            <a:chExt cx="8653320" cy="1071720"/>
          </a:xfrm>
        </p:grpSpPr>
        <p:pic>
          <p:nvPicPr>
            <p:cNvPr id="185" name="Picture 4" descr=""/>
            <p:cNvPicPr/>
            <p:nvPr/>
          </p:nvPicPr>
          <p:blipFill>
            <a:blip r:embed="rId3"/>
            <a:stretch/>
          </p:blipFill>
          <p:spPr>
            <a:xfrm>
              <a:off x="173160" y="214200"/>
              <a:ext cx="3398760" cy="107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10 Grupo"/>
            <p:cNvGrpSpPr/>
            <p:nvPr/>
          </p:nvGrpSpPr>
          <p:grpSpPr>
            <a:xfrm>
              <a:off x="3857760" y="214200"/>
              <a:ext cx="4968720" cy="995760"/>
              <a:chOff x="3857760" y="214200"/>
              <a:chExt cx="4968720" cy="995760"/>
            </a:xfrm>
          </p:grpSpPr>
          <p:pic>
            <p:nvPicPr>
              <p:cNvPr id="18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937760" y="804240"/>
                <a:ext cx="49140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4865760" y="225000"/>
                <a:ext cx="531360" cy="51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Picture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6522120" y="732240"/>
                <a:ext cx="51804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Picture 9" descr=""/>
              <p:cNvPicPr/>
              <p:nvPr/>
            </p:nvPicPr>
            <p:blipFill>
              <a:blip r:embed="rId7"/>
              <a:stretch/>
            </p:blipFill>
            <p:spPr>
              <a:xfrm>
                <a:off x="8250480" y="804240"/>
                <a:ext cx="504000" cy="40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Picture 4" descr=""/>
              <p:cNvPicPr/>
              <p:nvPr/>
            </p:nvPicPr>
            <p:blipFill>
              <a:blip r:embed="rId8"/>
              <a:stretch/>
            </p:blipFill>
            <p:spPr>
              <a:xfrm>
                <a:off x="3857760" y="310680"/>
                <a:ext cx="53928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Picture 5" descr=""/>
              <p:cNvPicPr/>
              <p:nvPr/>
            </p:nvPicPr>
            <p:blipFill>
              <a:blip r:embed="rId9"/>
              <a:stretch/>
            </p:blipFill>
            <p:spPr>
              <a:xfrm>
                <a:off x="4336560" y="227520"/>
                <a:ext cx="562680" cy="48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Picture 6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69760" y="227520"/>
                <a:ext cx="576000" cy="48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7" descr=""/>
              <p:cNvPicPr/>
              <p:nvPr/>
            </p:nvPicPr>
            <p:blipFill>
              <a:blip r:embed="rId11"/>
              <a:stretch/>
            </p:blipFill>
            <p:spPr>
              <a:xfrm>
                <a:off x="6450120" y="216360"/>
                <a:ext cx="576000" cy="51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Picture 8" descr=""/>
              <p:cNvPicPr/>
              <p:nvPr/>
            </p:nvPicPr>
            <p:blipFill>
              <a:blip r:embed="rId12"/>
              <a:stretch/>
            </p:blipFill>
            <p:spPr>
              <a:xfrm>
                <a:off x="7026120" y="214200"/>
                <a:ext cx="576000" cy="46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Picture 9" descr=""/>
              <p:cNvPicPr/>
              <p:nvPr/>
            </p:nvPicPr>
            <p:blipFill>
              <a:blip r:embed="rId13"/>
              <a:stretch/>
            </p:blipFill>
            <p:spPr>
              <a:xfrm>
                <a:off x="7642440" y="227520"/>
                <a:ext cx="536040" cy="45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10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68120" y="276120"/>
                <a:ext cx="558360" cy="45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13" descr=""/>
              <p:cNvPicPr/>
              <p:nvPr/>
            </p:nvPicPr>
            <p:blipFill>
              <a:blip r:embed="rId15"/>
              <a:stretch/>
            </p:blipFill>
            <p:spPr>
              <a:xfrm>
                <a:off x="5911920" y="732240"/>
                <a:ext cx="485280" cy="42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Picture 16" descr=""/>
              <p:cNvPicPr/>
              <p:nvPr/>
            </p:nvPicPr>
            <p:blipFill>
              <a:blip r:embed="rId16"/>
              <a:stretch/>
            </p:blipFill>
            <p:spPr>
              <a:xfrm>
                <a:off x="5874120" y="227520"/>
                <a:ext cx="576000" cy="474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0" name="Picture 7" descr=""/>
            <p:cNvPicPr/>
            <p:nvPr/>
          </p:nvPicPr>
          <p:blipFill>
            <a:blip r:embed="rId17"/>
            <a:stretch/>
          </p:blipFill>
          <p:spPr>
            <a:xfrm>
              <a:off x="3857760" y="799920"/>
              <a:ext cx="50472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1" descr=""/>
            <p:cNvPicPr/>
            <p:nvPr/>
          </p:nvPicPr>
          <p:blipFill>
            <a:blip r:embed="rId18"/>
            <a:stretch/>
          </p:blipFill>
          <p:spPr>
            <a:xfrm>
              <a:off x="4429080" y="809640"/>
              <a:ext cx="50472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2" descr=""/>
            <p:cNvPicPr/>
            <p:nvPr/>
          </p:nvPicPr>
          <p:blipFill>
            <a:blip r:embed="rId19"/>
            <a:stretch/>
          </p:blipFill>
          <p:spPr>
            <a:xfrm>
              <a:off x="5429160" y="785880"/>
              <a:ext cx="50472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4" descr=""/>
            <p:cNvPicPr/>
            <p:nvPr/>
          </p:nvPicPr>
          <p:blipFill>
            <a:blip r:embed="rId20"/>
            <a:stretch/>
          </p:blipFill>
          <p:spPr>
            <a:xfrm>
              <a:off x="7143840" y="714240"/>
              <a:ext cx="4284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5" descr=""/>
            <p:cNvPicPr/>
            <p:nvPr/>
          </p:nvPicPr>
          <p:blipFill>
            <a:blip r:embed="rId21"/>
            <a:stretch/>
          </p:blipFill>
          <p:spPr>
            <a:xfrm>
              <a:off x="7643880" y="785880"/>
              <a:ext cx="520560" cy="428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216000" y="195120"/>
            <a:ext cx="998280" cy="947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PABLO RUIZ\Documents\fomin logos\fomin positivo castellano.jpg"/>
          <p:cNvPicPr/>
          <p:nvPr/>
        </p:nvPicPr>
        <p:blipFill>
          <a:blip r:embed="rId2"/>
          <a:stretch/>
        </p:blipFill>
        <p:spPr>
          <a:xfrm>
            <a:off x="7132680" y="5572080"/>
            <a:ext cx="2011320" cy="128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primary_logo_medium_es-pt-fr[2]"/>
          <p:cNvPicPr/>
          <p:nvPr/>
        </p:nvPicPr>
        <p:blipFill>
          <a:blip r:embed="rId3"/>
          <a:stretch/>
        </p:blipFill>
        <p:spPr>
          <a:xfrm>
            <a:off x="157320" y="6032520"/>
            <a:ext cx="1699920" cy="6112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3"/>
          <p:cNvSpPr/>
          <p:nvPr/>
        </p:nvSpPr>
        <p:spPr>
          <a:xfrm>
            <a:off x="1886040" y="142920"/>
            <a:ext cx="5913360" cy="9795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  <a:ea typeface="Arial"/>
              </a:rPr>
              <a:t>PROGRAMA DE MICROSEG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 CuadroTexto"/>
          <p:cNvSpPr/>
          <p:nvPr/>
        </p:nvSpPr>
        <p:spPr>
          <a:xfrm>
            <a:off x="500040" y="1357200"/>
            <a:ext cx="8001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ROGRAMA DE MICROSEGUROS PARA LATINOAMERICA Y EL CARIBE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, En noviembre del 2009 se firmó el convenio entre la Federación y el Banco Interamericano de Desarrollo en su calidad de administrador del Fondo Multilateral de Inversiones, quien financia conjuntamente con FIIDES el pro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Objetivo          Impulsar el desarrollo de los microseguros en la región como instrumento de inclusión financiera de la base de la pirá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Países participantes       Brasil, Colombia, Guatemala, México, Perú y Venezue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Inversión total del programa            Más de $3 millones de dó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Lograr integrar al sector financiero         2 millones de pólizas nue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0 Flecha derecha"/>
          <p:cNvSpPr/>
          <p:nvPr/>
        </p:nvSpPr>
        <p:spPr>
          <a:xfrm>
            <a:off x="2214720" y="321480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1 Flecha derecha"/>
          <p:cNvSpPr/>
          <p:nvPr/>
        </p:nvSpPr>
        <p:spPr>
          <a:xfrm>
            <a:off x="3357720" y="407196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2 Flecha derecha"/>
          <p:cNvSpPr/>
          <p:nvPr/>
        </p:nvSpPr>
        <p:spPr>
          <a:xfrm>
            <a:off x="4357800" y="485784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3 Flecha derecha"/>
          <p:cNvSpPr/>
          <p:nvPr/>
        </p:nvSpPr>
        <p:spPr>
          <a:xfrm>
            <a:off x="4929120" y="542916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16000" y="195120"/>
            <a:ext cx="998280" cy="947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PABLO RUIZ\Documents\fomin logos\fomin positivo castellano.jpg"/>
          <p:cNvPicPr/>
          <p:nvPr/>
        </p:nvPicPr>
        <p:blipFill>
          <a:blip r:embed="rId2"/>
          <a:stretch/>
        </p:blipFill>
        <p:spPr>
          <a:xfrm>
            <a:off x="7643880" y="5857920"/>
            <a:ext cx="1466640" cy="100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primary_logo_medium_es-pt-fr[2]"/>
          <p:cNvPicPr/>
          <p:nvPr/>
        </p:nvPicPr>
        <p:blipFill>
          <a:blip r:embed="rId3"/>
          <a:stretch/>
        </p:blipFill>
        <p:spPr>
          <a:xfrm>
            <a:off x="157320" y="6237360"/>
            <a:ext cx="1128600" cy="4064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3"/>
          <p:cNvSpPr/>
          <p:nvPr/>
        </p:nvSpPr>
        <p:spPr>
          <a:xfrm>
            <a:off x="1886040" y="142920"/>
            <a:ext cx="5913360" cy="9795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  <a:ea typeface="Arial"/>
              </a:rPr>
              <a:t>PRODEMIC POR ASO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 CuadroTexto"/>
          <p:cNvSpPr/>
          <p:nvPr/>
        </p:nvSpPr>
        <p:spPr>
          <a:xfrm>
            <a:off x="214200" y="1643040"/>
            <a:ext cx="8643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rograma de Desarrollo local de Microseguros,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Las 6 Asociaciones iniciaron programas en cada país para difundir los beneficios de los microseguros en 4 vert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A la Industria               potencial de mercad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Al consumidor               diversificar opciones de produc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A canales potenciales             oportunidad de negoci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Reguladores y supervisores            coadyuvar al desarrollo del mercado, 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una regulación promotora de los microsegu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0 Flecha derecha"/>
          <p:cNvSpPr/>
          <p:nvPr/>
        </p:nvSpPr>
        <p:spPr>
          <a:xfrm>
            <a:off x="2500200" y="314316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1 Flecha derecha"/>
          <p:cNvSpPr/>
          <p:nvPr/>
        </p:nvSpPr>
        <p:spPr>
          <a:xfrm>
            <a:off x="2643120" y="3786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2 Flecha derecha"/>
          <p:cNvSpPr/>
          <p:nvPr/>
        </p:nvSpPr>
        <p:spPr>
          <a:xfrm>
            <a:off x="3357720" y="435780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3 Flecha derecha"/>
          <p:cNvSpPr/>
          <p:nvPr/>
        </p:nvSpPr>
        <p:spPr>
          <a:xfrm>
            <a:off x="3857760" y="500076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16000" y="195120"/>
            <a:ext cx="998280" cy="947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PABLO RUIZ\Documents\fomin logos\fomin positivo castellano.jpg"/>
          <p:cNvPicPr/>
          <p:nvPr/>
        </p:nvPicPr>
        <p:blipFill>
          <a:blip r:embed="rId2"/>
          <a:stretch/>
        </p:blipFill>
        <p:spPr>
          <a:xfrm>
            <a:off x="7132680" y="5486400"/>
            <a:ext cx="2011320" cy="1371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primary_logo_medium_es-pt-fr[2]"/>
          <p:cNvPicPr/>
          <p:nvPr/>
        </p:nvPicPr>
        <p:blipFill>
          <a:blip r:embed="rId3"/>
          <a:stretch/>
        </p:blipFill>
        <p:spPr>
          <a:xfrm>
            <a:off x="157320" y="6032520"/>
            <a:ext cx="1699920" cy="6112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3"/>
          <p:cNvSpPr/>
          <p:nvPr/>
        </p:nvSpPr>
        <p:spPr>
          <a:xfrm>
            <a:off x="1886040" y="142920"/>
            <a:ext cx="5913360" cy="9795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  <a:ea typeface="Arial"/>
              </a:rPr>
              <a:t>PROYECTOS POR ASO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5 CuadroTexto"/>
          <p:cNvSpPr/>
          <p:nvPr/>
        </p:nvSpPr>
        <p:spPr>
          <a:xfrm>
            <a:off x="1857240" y="1596960"/>
            <a:ext cx="664380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studio de mercado y factibilidad, propuesta de regulación promotora de microseguros y educación financiera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ara el apropiado diseño de los productos, determinar el potencial, impulsar y acrecentar el 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ducación Financiera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ediante talleres a través de la red de  Bansefi, con cuadernillos informativos para capacitar al consumidor y un website para informar a la industria los avances del s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Sistema de información de microseguros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que permita monitorear el sector y crear indicadores que generen un marco de referencia para medir la evolución del 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4"/>
          <a:stretch/>
        </p:blipFill>
        <p:spPr>
          <a:xfrm>
            <a:off x="214200" y="3429000"/>
            <a:ext cx="1598760" cy="500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5"/>
          <a:stretch/>
        </p:blipFill>
        <p:spPr>
          <a:xfrm>
            <a:off x="285840" y="4786200"/>
            <a:ext cx="1643040" cy="393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6"/>
          <a:stretch/>
        </p:blipFill>
        <p:spPr>
          <a:xfrm>
            <a:off x="324000" y="1857240"/>
            <a:ext cx="124776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216000" y="195120"/>
            <a:ext cx="998280" cy="947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PABLO RUIZ\Documents\fomin logos\fomin positivo castellano.jpg"/>
          <p:cNvPicPr/>
          <p:nvPr/>
        </p:nvPicPr>
        <p:blipFill>
          <a:blip r:embed="rId2"/>
          <a:stretch/>
        </p:blipFill>
        <p:spPr>
          <a:xfrm>
            <a:off x="7132680" y="5486400"/>
            <a:ext cx="2011320" cy="1371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primary_logo_medium_es-pt-fr[2]"/>
          <p:cNvPicPr/>
          <p:nvPr/>
        </p:nvPicPr>
        <p:blipFill>
          <a:blip r:embed="rId3"/>
          <a:stretch/>
        </p:blipFill>
        <p:spPr>
          <a:xfrm>
            <a:off x="157320" y="6032520"/>
            <a:ext cx="1699920" cy="6112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3"/>
          <p:cNvSpPr/>
          <p:nvPr/>
        </p:nvSpPr>
        <p:spPr>
          <a:xfrm>
            <a:off x="1886040" y="142920"/>
            <a:ext cx="5913360" cy="9795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  <a:ea typeface="Arial"/>
              </a:rPr>
              <a:t>PROYECTOS POR ASO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5 CuadroTexto"/>
          <p:cNvSpPr/>
          <p:nvPr/>
        </p:nvSpPr>
        <p:spPr>
          <a:xfrm>
            <a:off x="1857240" y="1500120"/>
            <a:ext cx="6786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xperiencias y mejores prácticas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n canales de distribución de productos de microseguros de bajo costo, alta capilaridad y eficiencia, que permita generar el mayor impa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ducación Financiera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a través un video que se presenta en las zonas de alta influencia (fabelas) en las que reparten un cuadernillo informativo y en las que se les invita a promoverlo entre sus familiares y amigos ganando una comi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ducación Financiera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or medio de talleres, con cuadernillos y videos, seminarios impartidos por especialista internacionales, además de estudios de mercado y comparativos de otras regiones dirigidos tanto al consumidor, como a la indust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4"/>
          <a:stretch/>
        </p:blipFill>
        <p:spPr>
          <a:xfrm>
            <a:off x="285840" y="3071880"/>
            <a:ext cx="1349280" cy="614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5"/>
          <a:stretch/>
        </p:blipFill>
        <p:spPr>
          <a:xfrm>
            <a:off x="285840" y="4500720"/>
            <a:ext cx="1433520" cy="576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6"/>
          <a:stretch/>
        </p:blipFill>
        <p:spPr>
          <a:xfrm>
            <a:off x="214200" y="1714680"/>
            <a:ext cx="1500480" cy="7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16000" y="195120"/>
            <a:ext cx="998280" cy="94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PABLO RUIZ\Documents\fomin logos\fomin positivo castellano.jpg"/>
          <p:cNvPicPr/>
          <p:nvPr/>
        </p:nvPicPr>
        <p:blipFill>
          <a:blip r:embed="rId2"/>
          <a:stretch/>
        </p:blipFill>
        <p:spPr>
          <a:xfrm>
            <a:off x="7132680" y="5486400"/>
            <a:ext cx="201132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primary_logo_medium_es-pt-fr[2]"/>
          <p:cNvPicPr/>
          <p:nvPr/>
        </p:nvPicPr>
        <p:blipFill>
          <a:blip r:embed="rId3"/>
          <a:stretch/>
        </p:blipFill>
        <p:spPr>
          <a:xfrm>
            <a:off x="157320" y="6032520"/>
            <a:ext cx="1699920" cy="6112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/>
          <p:cNvSpPr/>
          <p:nvPr/>
        </p:nvSpPr>
        <p:spPr>
          <a:xfrm>
            <a:off x="1886040" y="142920"/>
            <a:ext cx="5913360" cy="9795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  <a:ea typeface="Arial"/>
              </a:rPr>
              <a:t>PROYECTOS PILOTOS POR 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5 CuadroTexto"/>
          <p:cNvSpPr/>
          <p:nvPr/>
        </p:nvSpPr>
        <p:spPr>
          <a:xfrm>
            <a:off x="214200" y="1198440"/>
            <a:ext cx="821556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l objetivo de los 10 proyectos a apoyar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Banco do Brasil/MAPFRE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– Microseguro de vida, funerarios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de zonas conurbandas y incluyendo zonas rurales dedicadas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a la agricultura familiar, se estima un mercado de más de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3.4 millones de clientes potenciales, que se podrá atender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con las más de 5,200 oficinas en todo el país y colocar 350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il pólizas en los primeros 18 me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ositiva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- Microseguro de salud y accidentes para cubrir los 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gastos y medicamentos que no cubre el Programa Público 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de Salud y reembolso del salario por incapacidad con pago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directo de la Aseguradora, dirigido al nivel 2 y 3 del SISBEN,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ercado potencial de mas de 29 millones de hogares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se estima colocar 110 mil pólizas en el primer año a través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del pago de facturas de servicios públicos.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636480" y="1785960"/>
            <a:ext cx="863640" cy="833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"/>
          <p:cNvPicPr/>
          <p:nvPr/>
        </p:nvPicPr>
        <p:blipFill>
          <a:blip r:embed="rId5"/>
          <a:stretch/>
        </p:blipFill>
        <p:spPr>
          <a:xfrm>
            <a:off x="571680" y="3857760"/>
            <a:ext cx="879120" cy="722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9" descr="cid:image001.jpg@01CC1612.D4743630"/>
          <p:cNvPicPr/>
          <p:nvPr/>
        </p:nvPicPr>
        <p:blipFill>
          <a:blip r:embed="rId6"/>
          <a:stretch/>
        </p:blipFill>
        <p:spPr>
          <a:xfrm>
            <a:off x="568440" y="2857680"/>
            <a:ext cx="1003320" cy="266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0" descr="cid:image002.jpg@01CC1612.D4743630"/>
          <p:cNvPicPr/>
          <p:nvPr/>
        </p:nvPicPr>
        <p:blipFill>
          <a:blip r:embed="rId7"/>
          <a:stretch/>
        </p:blipFill>
        <p:spPr>
          <a:xfrm>
            <a:off x="571680" y="3143160"/>
            <a:ext cx="1002960" cy="258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http://www.fasecolda.com/fasecolda/BancoMedios/Imagenes/logo%20positiva.jpg"/>
          <p:cNvPicPr/>
          <p:nvPr/>
        </p:nvPicPr>
        <p:blipFill>
          <a:blip r:embed="rId8"/>
          <a:stretch/>
        </p:blipFill>
        <p:spPr>
          <a:xfrm>
            <a:off x="600120" y="4821120"/>
            <a:ext cx="900000" cy="6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216000" y="195120"/>
            <a:ext cx="998280" cy="947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PABLO RUIZ\Documents\fomin logos\fomin positivo castellano.jpg"/>
          <p:cNvPicPr/>
          <p:nvPr/>
        </p:nvPicPr>
        <p:blipFill>
          <a:blip r:embed="rId2"/>
          <a:stretch/>
        </p:blipFill>
        <p:spPr>
          <a:xfrm>
            <a:off x="7132680" y="5486400"/>
            <a:ext cx="2011320" cy="137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primary_logo_medium_es-pt-fr[2]"/>
          <p:cNvPicPr/>
          <p:nvPr/>
        </p:nvPicPr>
        <p:blipFill>
          <a:blip r:embed="rId3"/>
          <a:stretch/>
        </p:blipFill>
        <p:spPr>
          <a:xfrm>
            <a:off x="157320" y="6032520"/>
            <a:ext cx="1699920" cy="61128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/>
          <p:cNvSpPr/>
          <p:nvPr/>
        </p:nvSpPr>
        <p:spPr>
          <a:xfrm>
            <a:off x="1886040" y="142920"/>
            <a:ext cx="5913360" cy="9795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  <a:ea typeface="Arial"/>
              </a:rPr>
              <a:t>PROYECTOS PILOTOS POR 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5 CuadroTexto"/>
          <p:cNvSpPr/>
          <p:nvPr/>
        </p:nvSpPr>
        <p:spPr>
          <a:xfrm>
            <a:off x="214200" y="1285920"/>
            <a:ext cx="82868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La Rural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– Microseguro de daños para inquilinos de los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ercados (comerciantes), que les permite proteger sus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fuente de ingresos de algún incendio, inundación, robo, etc.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l mercado potencial de 1,100,000 microempresarios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rurales, se estima colocar 130 mil pólizas en 18 meses y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rimas totales de US$200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tlas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 Microseguro de indemnización hospitalaria para el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asegurado o algún miembro de su familia, dirigido a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icroempresarios de zonas urbanas marginadas y rurales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ertenecientes a la economía informal y con acceso limitado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a servicios médicos, mercado potencial 5,000,000, se estima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colocar 50,000 en los próximo 18 me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4"/>
          <a:stretch/>
        </p:blipFill>
        <p:spPr>
          <a:xfrm>
            <a:off x="642960" y="1714680"/>
            <a:ext cx="963720" cy="792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5"/>
          <a:stretch/>
        </p:blipFill>
        <p:spPr>
          <a:xfrm>
            <a:off x="642960" y="3857760"/>
            <a:ext cx="1008000" cy="761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://www.agis.com.gt/images/Logo%20Aseguradoras/AsegRural.JPG"/>
          <p:cNvPicPr/>
          <p:nvPr/>
        </p:nvPicPr>
        <p:blipFill>
          <a:blip r:embed="rId6"/>
          <a:stretch/>
        </p:blipFill>
        <p:spPr>
          <a:xfrm>
            <a:off x="500040" y="2643120"/>
            <a:ext cx="1187640" cy="500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www.segurosatlas.com.mx/assets/images/logoSA.png"/>
          <p:cNvPicPr/>
          <p:nvPr/>
        </p:nvPicPr>
        <p:blipFill>
          <a:blip r:embed="rId7"/>
          <a:stretch/>
        </p:blipFill>
        <p:spPr>
          <a:xfrm>
            <a:off x="500040" y="4714920"/>
            <a:ext cx="1285920" cy="48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216000" y="195120"/>
            <a:ext cx="998280" cy="94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Users\PABLO RUIZ\Documents\fomin logos\fomin positivo castellano.jpg"/>
          <p:cNvPicPr/>
          <p:nvPr/>
        </p:nvPicPr>
        <p:blipFill>
          <a:blip r:embed="rId2"/>
          <a:stretch/>
        </p:blipFill>
        <p:spPr>
          <a:xfrm>
            <a:off x="7132680" y="5486400"/>
            <a:ext cx="2011320" cy="1371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primary_logo_medium_es-pt-fr[2]"/>
          <p:cNvPicPr/>
          <p:nvPr/>
        </p:nvPicPr>
        <p:blipFill>
          <a:blip r:embed="rId3"/>
          <a:stretch/>
        </p:blipFill>
        <p:spPr>
          <a:xfrm>
            <a:off x="157320" y="6032520"/>
            <a:ext cx="1699920" cy="61128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3"/>
          <p:cNvSpPr/>
          <p:nvPr/>
        </p:nvSpPr>
        <p:spPr>
          <a:xfrm>
            <a:off x="1886040" y="142920"/>
            <a:ext cx="5913360" cy="9795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  <a:ea typeface="Arial"/>
              </a:rPr>
              <a:t>PROYECTOS PILOTO POR 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5 CuadroTexto"/>
          <p:cNvSpPr/>
          <p:nvPr/>
        </p:nvSpPr>
        <p:spPr>
          <a:xfrm>
            <a:off x="0" y="1260360"/>
            <a:ext cx="885816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Hir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icroseguro de poyo al retiro, (cesantía y vejez) a través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de la Red Nacional de Cajas de ahorro en zonas rurales, mercado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otencial 6 millones, se estima colocar 18,000 póliz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Mapfre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 Portal integral de operación, administración y venta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de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diferentes modalidades de microseguros que permitirá a las IMF´s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y a otros canales ofrecer más productos a menor costo; mercado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otencial es más de 200 IMF´s y 10 millones de clientes, se estima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colocar en 3 IMF´s y colocar 20 mil pólizas en el primer a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Zurich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icroseguros de salud para zonas rurales de alta margi-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nalidad, que les apoye hacer frente a los gastos paralelos que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suscitan ante el diagnostico de una enfermedad, así como cam-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añas de prevención de enfermedades y protección, se distribuirá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a través de REDSOL, se estima colocar 29,500 pólizas y primas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recibidas por US$35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4"/>
          <a:stretch/>
        </p:blipFill>
        <p:spPr>
          <a:xfrm>
            <a:off x="420840" y="1214280"/>
            <a:ext cx="1008000" cy="762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HIR-SEGUROS"/>
          <p:cNvPicPr/>
          <p:nvPr/>
        </p:nvPicPr>
        <p:blipFill>
          <a:blip r:embed="rId5"/>
          <a:stretch/>
        </p:blipFill>
        <p:spPr>
          <a:xfrm>
            <a:off x="571680" y="19288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0" descr="cid:image002.jpg@01CC1612.D4743630"/>
          <p:cNvPicPr/>
          <p:nvPr/>
        </p:nvPicPr>
        <p:blipFill>
          <a:blip r:embed="rId6"/>
          <a:stretch/>
        </p:blipFill>
        <p:spPr>
          <a:xfrm>
            <a:off x="428760" y="3456000"/>
            <a:ext cx="1003320" cy="258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://www.zurich.com.mx/images/logo.gif"/>
          <p:cNvPicPr/>
          <p:nvPr/>
        </p:nvPicPr>
        <p:blipFill>
          <a:blip r:embed="rId7"/>
          <a:stretch/>
        </p:blipFill>
        <p:spPr>
          <a:xfrm>
            <a:off x="214200" y="4714920"/>
            <a:ext cx="122256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16000" y="195120"/>
            <a:ext cx="998280" cy="947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PABLO RUIZ\Documents\fomin logos\fomin positivo castellano.jpg"/>
          <p:cNvPicPr/>
          <p:nvPr/>
        </p:nvPicPr>
        <p:blipFill>
          <a:blip r:embed="rId2"/>
          <a:stretch/>
        </p:blipFill>
        <p:spPr>
          <a:xfrm>
            <a:off x="7132680" y="5486400"/>
            <a:ext cx="2011320" cy="1371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primary_logo_medium_es-pt-fr[2]"/>
          <p:cNvPicPr/>
          <p:nvPr/>
        </p:nvPicPr>
        <p:blipFill>
          <a:blip r:embed="rId3"/>
          <a:stretch/>
        </p:blipFill>
        <p:spPr>
          <a:xfrm>
            <a:off x="157320" y="6032520"/>
            <a:ext cx="1699920" cy="6112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1886040" y="142920"/>
            <a:ext cx="5913360" cy="9795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  <a:ea typeface="Arial"/>
              </a:rPr>
              <a:t>PROYECTOS PILOTOS POR 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5 CuadroTexto"/>
          <p:cNvSpPr/>
          <p:nvPr/>
        </p:nvSpPr>
        <p:spPr>
          <a:xfrm>
            <a:off x="-71280" y="1143000"/>
            <a:ext cx="900108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La Positiva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icroseguro de Salud y Accidentes para los que no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tienen servicios de salud a través de cooperativas, cajas rurales o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unicipales, etc., mercado potencial de más de 5 millones, se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stima 50,500 pólizas y primas por US$493,3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rotecta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– Microseguros de salud ProtegeMÁS, por incapacidad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arcial o temporal, por enfermedad o accidente, dirigido a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mprendedores de los ramos más vulnerables como agrario, pesca,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tc., se distribuirá a través de Mibanco, mercado potencial de más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de 500 mil, se estima 119 mil pólizas y primas de US$191,74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La Oriental –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icroseguros de vida, gastos funerarios y accidente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ersonales, distribuido a través de stands de loterias, centro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ulturales comunitarios, centrales camioneras, etc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., mercado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otencial de 59 mil clientes, pólizas 11,811 y primas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US$178,7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4"/>
          <a:stretch/>
        </p:blipFill>
        <p:spPr>
          <a:xfrm>
            <a:off x="500040" y="4357800"/>
            <a:ext cx="858960" cy="691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5"/>
          <a:stretch/>
        </p:blipFill>
        <p:spPr>
          <a:xfrm>
            <a:off x="571680" y="1357200"/>
            <a:ext cx="869760" cy="716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La Positiva"/>
          <p:cNvPicPr/>
          <p:nvPr/>
        </p:nvPicPr>
        <p:blipFill>
          <a:blip r:embed="rId6"/>
          <a:stretch/>
        </p:blipFill>
        <p:spPr>
          <a:xfrm>
            <a:off x="428760" y="2071800"/>
            <a:ext cx="1071360" cy="455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Protecta"/>
          <p:cNvPicPr/>
          <p:nvPr/>
        </p:nvPicPr>
        <p:blipFill>
          <a:blip r:embed="rId7"/>
          <a:stretch/>
        </p:blipFill>
        <p:spPr>
          <a:xfrm>
            <a:off x="428760" y="3214800"/>
            <a:ext cx="1104840" cy="46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Object 8"/>
          <p:cNvGraphicFramePr/>
          <p:nvPr/>
        </p:nvGraphicFramePr>
        <p:xfrm>
          <a:off x="357120" y="5000760"/>
          <a:ext cx="1173240" cy="458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0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7120" y="5000760"/>
                    <a:ext cx="11732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23:00:25Z</dcterms:created>
  <dc:creator>PABLO RUIZ</dc:creator>
  <dc:description/>
  <dc:language>en-US</dc:language>
  <cp:lastModifiedBy>Maria Victoria Saenz</cp:lastModifiedBy>
  <dcterms:modified xsi:type="dcterms:W3CDTF">2015-02-27T17:46:02Z</dcterms:modified>
  <cp:revision>36</cp:revision>
  <dc:subject/>
  <dc:title>Presentación F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stract">
    <vt:lpwstr/>
  </property>
  <property fmtid="{D5CDD505-2E9C-101B-9397-08002B2CF9AE}" pid="3" name="Access to Information Policy">
    <vt:lpwstr>Public</vt:lpwstr>
  </property>
  <property fmtid="{D5CDD505-2E9C-101B-9397-08002B2CF9AE}" pid="4" name="Approval Number">
    <vt:lpwstr/>
  </property>
  <property fmtid="{D5CDD505-2E9C-101B-9397-08002B2CF9AE}" pid="5" name="Business Area">
    <vt:lpwstr/>
  </property>
  <property fmtid="{D5CDD505-2E9C-101B-9397-08002B2CF9AE}" pid="6" name="ContentTypeId">
    <vt:lpwstr>0x0101001A458A224826124E8B45B1D613300CFC003FE8B9337CED1F4D8D3A9379EA9D97C3</vt:lpwstr>
  </property>
  <property fmtid="{D5CDD505-2E9C-101B-9397-08002B2CF9AE}" pid="7" name="Country">
    <vt:lpwstr/>
  </property>
  <property fmtid="{D5CDD505-2E9C-101B-9397-08002B2CF9AE}" pid="8" name="Disclosed">
    <vt:lpwstr>1</vt:lpwstr>
  </property>
  <property fmtid="{D5CDD505-2E9C-101B-9397-08002B2CF9AE}" pid="9" name="Disclosure Activity">
    <vt:lpwstr>MIF Project Product</vt:lpwstr>
  </property>
  <property fmtid="{D5CDD505-2E9C-101B-9397-08002B2CF9AE}" pid="10" name="Division or Unit">
    <vt:lpwstr>MIF/ATF</vt:lpwstr>
  </property>
  <property fmtid="{D5CDD505-2E9C-101B-9397-08002B2CF9AE}" pid="11" name="Document Author">
    <vt:lpwstr>Saenz-Samper, Maria Victoria</vt:lpwstr>
  </property>
  <property fmtid="{D5CDD505-2E9C-101B-9397-08002B2CF9AE}" pid="12" name="Document Language IDB">
    <vt:lpwstr>Spanish</vt:lpwstr>
  </property>
  <property fmtid="{D5CDD505-2E9C-101B-9397-08002B2CF9AE}" pid="13" name="Editor1">
    <vt:lpwstr/>
  </property>
  <property fmtid="{D5CDD505-2E9C-101B-9397-08002B2CF9AE}" pid="14" name="Fiscal Year IDB">
    <vt:lpwstr>2015</vt:lpwstr>
  </property>
  <property fmtid="{D5CDD505-2E9C-101B-9397-08002B2CF9AE}" pid="15" name="From:">
    <vt:lpwstr>3002</vt:lpwstr>
  </property>
  <property fmtid="{D5CDD505-2E9C-101B-9397-08002B2CF9AE}" pid="16" name="Function Operations IDB">
    <vt:lpwstr>13;#IDBDocs|cca77002-e150-4b2d-ab1f-1d7a7cdcae16</vt:lpwstr>
  </property>
  <property fmtid="{D5CDD505-2E9C-101B-9397-08002B2CF9AE}" pid="17" name="Fund IDB">
    <vt:lpwstr/>
  </property>
  <property fmtid="{D5CDD505-2E9C-101B-9397-08002B2CF9AE}" pid="18" name="IDBDocs Number">
    <vt:lpwstr>39427768</vt:lpwstr>
  </property>
  <property fmtid="{D5CDD505-2E9C-101B-9397-08002B2CF9AE}" pid="19" name="Identifier">
    <vt:lpwstr> PUB</vt:lpwstr>
  </property>
  <property fmtid="{D5CDD505-2E9C-101B-9397-08002B2CF9AE}" pid="20" name="Issue Date">
    <vt:lpwstr/>
  </property>
  <property fmtid="{D5CDD505-2E9C-101B-9397-08002B2CF9AE}" pid="21" name="KP Topics">
    <vt:lpwstr/>
  </property>
  <property fmtid="{D5CDD505-2E9C-101B-9397-08002B2CF9AE}" pid="22" name="Key Document">
    <vt:lpwstr>0</vt:lpwstr>
  </property>
  <property fmtid="{D5CDD505-2E9C-101B-9397-08002B2CF9AE}" pid="23" name="Migration Info">
    <vt:lpwstr>&lt;div class="ExternalClass1527DD468B6F4897A5D7B0D906428ED4"&gt;MS POWERPOINTMIFPRDMIF Project Product0N&lt;/div&gt;</vt:lpwstr>
  </property>
  <property fmtid="{D5CDD505-2E9C-101B-9397-08002B2CF9AE}" pid="24" name="Operation Type">
    <vt:lpwstr/>
  </property>
  <property fmtid="{D5CDD505-2E9C-101B-9397-08002B2CF9AE}" pid="25" name="Order">
    <vt:lpwstr>43800.0000000000</vt:lpwstr>
  </property>
  <property fmtid="{D5CDD505-2E9C-101B-9397-08002B2CF9AE}" pid="26" name="Other Author">
    <vt:lpwstr>3002</vt:lpwstr>
  </property>
  <property fmtid="{D5CDD505-2E9C-101B-9397-08002B2CF9AE}" pid="27" name="Package Code">
    <vt:lpwstr/>
  </property>
  <property fmtid="{D5CDD505-2E9C-101B-9397-08002B2CF9AE}" pid="28" name="Phase">
    <vt:lpwstr/>
  </property>
  <property fmtid="{D5CDD505-2E9C-101B-9397-08002B2CF9AE}" pid="29" name="Project Document Type">
    <vt:lpwstr/>
  </property>
  <property fmtid="{D5CDD505-2E9C-101B-9397-08002B2CF9AE}" pid="30" name="Project Number">
    <vt:lpwstr>RG-M1150</vt:lpwstr>
  </property>
  <property fmtid="{D5CDD505-2E9C-101B-9397-08002B2CF9AE}" pid="31" name="Publication Type">
    <vt:lpwstr/>
  </property>
  <property fmtid="{D5CDD505-2E9C-101B-9397-08002B2CF9AE}" pid="32" name="Publishing House">
    <vt:lpwstr/>
  </property>
  <property fmtid="{D5CDD505-2E9C-101B-9397-08002B2CF9AE}" pid="33" name="Record Number">
    <vt:lpwstr>R0002784228</vt:lpwstr>
  </property>
  <property fmtid="{D5CDD505-2E9C-101B-9397-08002B2CF9AE}" pid="34" name="Region">
    <vt:lpwstr/>
  </property>
  <property fmtid="{D5CDD505-2E9C-101B-9397-08002B2CF9AE}" pid="35" name="SISCOR Number">
    <vt:lpwstr/>
  </property>
  <property fmtid="{D5CDD505-2E9C-101B-9397-08002B2CF9AE}" pid="36" name="Sector IDB">
    <vt:lpwstr/>
  </property>
  <property fmtid="{D5CDD505-2E9C-101B-9397-08002B2CF9AE}" pid="37" name="Series Operations IDB">
    <vt:lpwstr>14;#Unclassified|a6dff32e-d477-44cd-a56b-85efe9e0a56c</vt:lpwstr>
  </property>
  <property fmtid="{D5CDD505-2E9C-101B-9397-08002B2CF9AE}" pid="38" name="Sub-Sector">
    <vt:lpwstr/>
  </property>
  <property fmtid="{D5CDD505-2E9C-101B-9397-08002B2CF9AE}" pid="39" name="Sub_x005F_x002d_Sector">
    <vt:lpwstr/>
  </property>
  <property fmtid="{D5CDD505-2E9C-101B-9397-08002B2CF9AE}" pid="40" name="TaxCatchAll">
    <vt:lpwstr>14;#Unclassified|a6dff32e-d477-44cd-a56b-85efe9e0a56c;#13;#IDBDocs|cca77002-e150-4b2d-ab1f-1d7a7cdcae16</vt:lpwstr>
  </property>
  <property fmtid="{D5CDD505-2E9C-101B-9397-08002B2CF9AE}" pid="41" name="TaxKeyword">
    <vt:lpwstr/>
  </property>
  <property fmtid="{D5CDD505-2E9C-101B-9397-08002B2CF9AE}" pid="42" name="TaxKeywordTaxHTField">
    <vt:lpwstr/>
  </property>
  <property fmtid="{D5CDD505-2E9C-101B-9397-08002B2CF9AE}" pid="43" name="To:">
    <vt:lpwstr/>
  </property>
  <property fmtid="{D5CDD505-2E9C-101B-9397-08002B2CF9AE}" pid="44" name="URL">
    <vt:lpwstr/>
  </property>
  <property fmtid="{D5CDD505-2E9C-101B-9397-08002B2CF9AE}" pid="45" name="Webtopic">
    <vt:lpwstr>Banking and Financial Services;Microenterprise and Microfinance;Private Sector Development and Competitiveness</vt:lpwstr>
  </property>
  <property fmtid="{D5CDD505-2E9C-101B-9397-08002B2CF9AE}" pid="46" name="_dlc_DocId">
    <vt:lpwstr>EZSHARE-725989276-438</vt:lpwstr>
  </property>
  <property fmtid="{D5CDD505-2E9C-101B-9397-08002B2CF9AE}" pid="47" name="_dlc_DocIdItemGuid">
    <vt:lpwstr>a5db2fc7-5d77-4c87-95c0-7f5eb22df6d3</vt:lpwstr>
  </property>
  <property fmtid="{D5CDD505-2E9C-101B-9397-08002B2CF9AE}" pid="48" name="_dlc_DocIdUrl">
    <vt:lpwstr>https://idbg.sharepoint.com/teams/EZ-RG-TCP/RG-M1150/_layouts/15/DocIdRedir.aspx?ID=EZSHARE-725989276-438, EZSHARE-725989276-438</vt:lpwstr>
  </property>
  <property fmtid="{D5CDD505-2E9C-101B-9397-08002B2CF9AE}" pid="49" name="b26cdb1da78c4bb4b1c1bac2f6ac5911">
    <vt:lpwstr>Unclassified|a6dff32e-d477-44cd-a56b-85efe9e0a56c</vt:lpwstr>
  </property>
  <property fmtid="{D5CDD505-2E9C-101B-9397-08002B2CF9AE}" pid="50" name="b2ec7cfb18674cb8803df6b262e8b107">
    <vt:lpwstr/>
  </property>
  <property fmtid="{D5CDD505-2E9C-101B-9397-08002B2CF9AE}" pid="51" name="c456731dbc904a5fb605ec556c33e883">
    <vt:lpwstr/>
  </property>
  <property fmtid="{D5CDD505-2E9C-101B-9397-08002B2CF9AE}" pid="52" name="display_urn:schemas-microsoft-com:office:office#Author">
    <vt:lpwstr>migration</vt:lpwstr>
  </property>
  <property fmtid="{D5CDD505-2E9C-101B-9397-08002B2CF9AE}" pid="53" name="display_urn:schemas-microsoft-com:office:office#Editor">
    <vt:lpwstr>ATI WF Service</vt:lpwstr>
  </property>
  <property fmtid="{D5CDD505-2E9C-101B-9397-08002B2CF9AE}" pid="54" name="e46fe2894295491da65140ffd2369f49">
    <vt:lpwstr>IDBDocs|cca77002-e150-4b2d-ab1f-1d7a7cdcae16</vt:lpwstr>
  </property>
  <property fmtid="{D5CDD505-2E9C-101B-9397-08002B2CF9AE}" pid="55" name="e559ffcc31d34167856647188be35015">
    <vt:lpwstr/>
  </property>
  <property fmtid="{D5CDD505-2E9C-101B-9397-08002B2CF9AE}" pid="56" name="fd0e48b6a66848a9885f717e5bbf40c4">
    <vt:lpwstr>IDBDocs|cca77002-e150-4b2d-ab1f-1d7a7cdcae16</vt:lpwstr>
  </property>
  <property fmtid="{D5CDD505-2E9C-101B-9397-08002B2CF9AE}" pid="57" name="g511464f9e53401d84b16fa9b379a574">
    <vt:lpwstr/>
  </property>
  <property fmtid="{D5CDD505-2E9C-101B-9397-08002B2CF9AE}" pid="58" name="ic46d7e087fd4a108fb86518ca413cc6">
    <vt:lpwstr/>
  </property>
  <property fmtid="{D5CDD505-2E9C-101B-9397-08002B2CF9AE}" pid="59" name="j8b96605ee2f4c4e988849e658583fee">
    <vt:lpwstr/>
  </property>
  <property fmtid="{D5CDD505-2E9C-101B-9397-08002B2CF9AE}" pid="60" name="m555d3814edf4817b4410a4e57f94ce9">
    <vt:lpwstr/>
  </property>
  <property fmtid="{D5CDD505-2E9C-101B-9397-08002B2CF9AE}" pid="61" name="nddeef1749674d76abdbe4b239a70bc6">
    <vt:lpwstr/>
  </property>
  <property fmtid="{D5CDD505-2E9C-101B-9397-08002B2CF9AE}" pid="62" name="o5138a91267540169645e33d09c9ddc6">
    <vt:lpwstr>Unclassified|a6dff32e-d477-44cd-a56b-85efe9e0a56c</vt:lpwstr>
  </property>
</Properties>
</file>