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BC4EF-46C0-4849-AEDC-3BAC4BB25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E3648-6BC4-40C0-8892-DA51722D7A20}" type="slidenum">
              <a:rPr b="0" lang="en-US" sz="1200" spc="-1" strike="noStrike">
                <a:solidFill>
                  <a:srgbClr val="3c3c3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9BC-76C1-4E11-80AE-70642ADB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B1F-8D9E-4885-8328-15B33885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B8251-6138-4D36-986C-6EF3AB5B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1E4F0-767E-41DB-9B52-D227806D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A3B43-DC2E-431F-8810-5A37D15D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5BBAB-893B-4B12-BD70-90BA397B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3AE30-3D4F-41B2-A4B5-0703C89E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354D-60B9-4661-B21F-2739A89B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45E8F-63B8-4B1F-A27E-C91A0E84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E0F2-AC3F-49C2-9DC7-F71C9D7F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BF638-4F18-4EF9-B224-D9BDEA25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FFDE9-4CAD-45C0-B3DD-A5AA83C3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0AE-8A3E-4A48-B51C-AF37B2BE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10D9F-4EE9-4514-8D7B-7AF2B99B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AD7D-FC94-4D03-9FCF-52902A97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78BC3-E1C5-4306-B696-5B01478B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B83C4-0D8E-4C5D-A060-BA3E36E7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1DFF8-56BF-49B9-BA0D-C9FE4A5E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730CF-A8BD-46D2-9CCE-C5264B61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D5223-849A-4433-A3D8-C7D62F6F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A23EF-A23D-4BDF-9800-2BD001B1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5C1F0-2A78-4E12-A51F-58302DA6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66EE3-2AA7-41E8-8F0E-57D40699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636-B939-4CCA-A37C-B66A82D8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17282-6721-48FD-9010-65EDD08D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C922C-9349-418F-88B4-55451DFA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04BD5-8BF5-4137-8BAE-780B29C0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923CA-3A2D-4BE7-BBDF-6BDFFFC8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4F06A-E99B-4F7A-BB6D-DB85C8F5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C43DB-5F31-42F9-8A62-37E2F7CA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02AEE-5606-4044-B3C2-7297E854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8E619-9A86-42A9-A61A-9FD667BE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8B821-7330-48D4-847C-5B4E1DDF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05164-B3FE-48F3-A690-679DDA30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772C4-BC3A-48C7-A161-28BA888A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32AB6-66B4-4F1D-9288-D4CCFB22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77D74-8014-470B-8BEB-5594D175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0ABDA-55B9-42B8-9BCB-EDD61F12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B11E9-4349-4581-BEEF-02F41721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ACB68-63FA-4B5A-913D-0983D84D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1DA3E-622C-4517-997E-CDE0BC1E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F760C-BAB1-4BAF-B9F3-7FFC0ECA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71D52-9CC2-4FAF-8727-7A55353D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60AE6-7A5E-42D5-AA1B-67E1B529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18987-B04B-44B2-A9E7-DEC48564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87399-FCEC-4A73-9924-A44781AF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41F10-B6EC-48F1-867B-D80990AC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44CFF-D1D0-40EA-8689-21B04748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CE010-918A-4F00-AFF6-B5872970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3DFD5-ABD3-4CE0-8DC2-C4E3E0CB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A0FC8-ED42-4C11-A1F6-C64431F8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84CC5-8C8E-41CF-B412-CFBD349B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F3E78-338A-431E-96BA-5728ADEC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22905-EA69-4C8B-8007-4D773CEC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D6BAB-C7E1-41E8-9384-BFFE8F66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4FAC6-DE9C-4393-BDE6-B53353F6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3FEAF-C7CF-4570-BEE1-943B804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3AB16-081E-44B9-BEB6-A5B1540F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8D5FA-B3A2-49AD-8F37-83CED730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1F063-9C32-46AC-86D3-CD5553E8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EB4B6-1877-4396-85E3-1EC00D76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23632-D013-4F21-B18F-60D809D2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C3B9F-A378-4BA8-AC00-6AEF9899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ED36F-3CFF-45BF-9D07-C0959420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777B8-C22F-4AE0-B547-B9D6AFAB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6E6B6-183B-451F-BA9F-58EC672B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2B963-09F3-4092-9807-9F2FAB7E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EB342-5979-4FC1-B46B-1D9CCE58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2C0F9-3530-4CB4-B539-A5CAD2C2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6AD2A-3FFB-4253-88B0-8D95C610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695D9-9D7B-4FF9-A0EF-442A2715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FD61B-E0D6-48E7-9F37-92E6C8B0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A625C-EBD7-4036-AAF1-CB60F287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C9DE4-E521-455A-8DFF-30A7F4E7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4E39A-F85F-4FC4-B6EA-051095EE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EA6E0-D74A-41B0-B352-0E6BAAED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E3527-2F35-49AA-8106-21361CD9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6DA87-C785-4290-8D8C-A011D81D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B7F27-13CE-4E22-98A5-201B7BA6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77341-9547-43B5-BC5A-DD0B7CF0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77D8F-F593-49A6-8A79-DD05AAB9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9547F-DFC4-4812-8792-16E0D0DD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E2EF6-F87E-46DB-9D5E-CA418175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08BBE-D583-4E07-8938-C30681AC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7064C-9C3E-4560-AD29-7A2B88EE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C8A55-C8D7-4F54-AF59-24BD2516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1EE83-C909-4BE3-B816-D62D9324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5108E-DE1F-44E7-8E5E-6B3A1272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F6B6D-5F7B-470B-934E-1EFE4286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7142E-AC5C-4FC0-8ED0-014966E3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4C12B-3262-4786-ADD7-47AC9385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58136-7670-4BE4-AF76-16B30D15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A72F8-6133-4E99-9937-164DD58F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EABE5-8D6F-49AB-9DCC-083F97E9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55DF4-30D1-4222-A4C1-BC250EE4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DD7B8-65BF-4449-A362-0515891C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F0620-8BF7-4C7D-9884-D13182BA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4AD98-8E66-454B-911C-A60DE1DD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61AFF-2433-46CA-B6F0-4A6A55E7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FCC52-4647-4981-A061-85192619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8812B-63D3-4CD9-8DF0-D77D4CF1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3AD00-7653-4D69-A523-D30C83D0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FBE31-57F6-411F-89AD-5DC55E80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A2352-1952-481C-831B-53DB0203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B45-2B54-4A9A-AA51-5D739C2C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BEBC3-26DB-4F14-83A3-9C15A9A6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85C8D-EFD4-4328-8A9F-0A376418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98EF0-0396-44AF-80BF-FAFAC6A1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B44E0-91EE-4E1D-BA25-9AAE954E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BDD59-8BFF-4746-BA83-C55AA6E3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20092-4595-4864-9948-48F05755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A99DD-9052-4891-B3DF-AC4EA1F1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4D435-3B54-47C3-805D-0F2224F5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4C187-75B0-4C88-9C9E-06BA4C14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2AA71-AB14-4863-98D6-C3B70F03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BF1E1-5BA1-4592-8A5F-ED2788F5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CAF63-4768-472E-8F67-14C5AA60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6D427-FF5C-4FFA-98DE-DCA67CA5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E8C85-2632-41AC-A4E4-9666833A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7E018-9FEA-4F06-A2B1-3A47B8AB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D95A2-2C98-45C6-AF2F-C1714249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9F631-9338-4BEE-BF95-EA00C2ED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512-87FD-4DCB-939A-09F09ED9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D75-20E7-4CBE-96AD-53AEF247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720-CCEF-4845-9440-575D3DC9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368-E7B1-4123-9B67-3093EDB9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30E-0FB0-4A05-B471-D82650D0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627-25DA-4035-A796-A9251FBD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2452-01C6-4AA2-B78D-3509C114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120D-DB91-4A46-96F2-72C33EA4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EE73-7B77-4F56-8AAE-473EA6AB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D68C-02F9-40A5-8B7B-E1470C5A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D2EA-D75B-4F20-B658-FE7CE90A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897-2CD9-4354-859F-61C9EAC4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0D5C-F0D1-4ECA-B0C6-D7A2E6CA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4D34-EC88-47A0-AEAA-371B213C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2B25-9A08-49CA-B8F7-CFA54F0C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1926-4593-46CA-BEF3-CF83CAE0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5FC3-F01C-4ACD-BCC1-3A47BB48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33C7-A673-40CF-92C9-4FA766EA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3645-19B1-4087-936C-60E7B9AC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C07B-C4F0-4E21-8BA7-0FDEF1ED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EAD98-5B12-43D2-AD2E-35BE9FF8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4CDA9-D871-4308-99C6-CCA6DC34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817EA-777E-471E-A95F-632F5D66380E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CB0CA-6E81-4C7E-8C8D-D14F4CCCD375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3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1B1EA-A863-47AD-9B35-103552B4DD63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26451-BA35-4968-9DBA-6909D6634107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1CA5A-B85D-4318-A435-9E2F4DA7043C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005C4-1125-4CC3-AAF5-80E37C3DCC72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rcRect l="0" t="0" r="0" b="12327"/>
          <a:stretch/>
        </p:blipFill>
        <p:spPr>
          <a:xfrm>
            <a:off x="0" y="0"/>
            <a:ext cx="9144000" cy="6012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B337E-B609-4344-AAF4-2050CC5AA6AD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1D5C6-1C9A-43ED-BCD2-72B5D3A08EEC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0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E4C9E-0912-4232-A1EB-D30CF5F344FC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86A31-7844-4DC5-86A5-8C39454C12AB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4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DE946-E555-4D92-981B-08CC929949FA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661B9-B6AB-480C-96F4-FB8732F4C133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88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700F6-38C3-4DEF-A8C3-CEC721C91727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92C14-C705-4620-B5E8-D30F40C52FA4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2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959F8-2B7C-4506-BDF6-A91B1FC48A90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595A2-0037-4BE0-AA10-FDAF79902556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76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E7D13-5D18-4E43-AF6D-DD96B7EFA155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8AF5A-76FE-4A27-9F35-95292E7E2FAB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0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1AC6B-F28D-4EC2-BFB1-682988662C97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AF892-E2E7-4D9E-920B-253D659F33ED}" type="slidenum">
              <a:rPr b="0" lang="en-US" sz="2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64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Picture 8" descr=""/>
            <p:cNvPicPr/>
            <p:nvPr/>
          </p:nvPicPr>
          <p:blipFill>
            <a:blip r:embed="rId3"/>
            <a:stretch/>
          </p:blipFill>
          <p:spPr>
            <a:xfrm>
              <a:off x="294120" y="2664360"/>
              <a:ext cx="3780720" cy="140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6" name="Picture 3" descr=""/>
          <p:cNvPicPr/>
          <p:nvPr/>
        </p:nvPicPr>
        <p:blipFill>
          <a:blip r:embed="rId4"/>
          <a:stretch/>
        </p:blipFill>
        <p:spPr>
          <a:xfrm>
            <a:off x="7294680" y="5958000"/>
            <a:ext cx="1671480" cy="6570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2" descr="D:\DATA.IDB\Documents\CARLOS_AG\01-SPD\00-IDB-identity\logos\BID_LOGOS_BLANCO\BID_LOGOS_BLANCO\BID_LOGOS_BLANCO\BID_espanol\bid_slogan_esp\bid_slogan_esp-01.png"/>
          <p:cNvPicPr/>
          <p:nvPr/>
        </p:nvPicPr>
        <p:blipFill>
          <a:blip r:embed="rId5"/>
          <a:stretch/>
        </p:blipFill>
        <p:spPr>
          <a:xfrm>
            <a:off x="210960" y="2136600"/>
            <a:ext cx="3326040" cy="2351160"/>
          </a:xfrm>
          <a:prstGeom prst="rect">
            <a:avLst/>
          </a:prstGeom>
          <a:ln w="0">
            <a:noFill/>
          </a:ln>
        </p:spPr>
      </p:pic>
      <p:sp>
        <p:nvSpPr>
          <p:cNvPr id="768" name="Straight Connector 11"/>
          <p:cNvSpPr/>
          <p:nvPr/>
        </p:nvSpPr>
        <p:spPr>
          <a:xfrm>
            <a:off x="579600" y="3960720"/>
            <a:ext cx="29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pic>
        <p:nvPicPr>
          <p:cNvPr id="769" name="Picture 2" descr="C:\Users\carlosag\Desktop\Twitter_logo_white.png"/>
          <p:cNvPicPr/>
          <p:nvPr/>
        </p:nvPicPr>
        <p:blipFill>
          <a:blip r:embed="rId6"/>
          <a:stretch/>
        </p:blipFill>
        <p:spPr>
          <a:xfrm>
            <a:off x="561960" y="4684680"/>
            <a:ext cx="293760" cy="239760"/>
          </a:xfrm>
          <a:prstGeom prst="rect">
            <a:avLst/>
          </a:prstGeom>
          <a:ln w="0">
            <a:noFill/>
          </a:ln>
        </p:spPr>
      </p:pic>
      <p:pic>
        <p:nvPicPr>
          <p:cNvPr id="770" name="Group 13" descr=""/>
          <p:cNvPicPr/>
          <p:nvPr/>
        </p:nvPicPr>
        <p:blipFill>
          <a:blip r:embed="rId7"/>
          <a:stretch/>
        </p:blipFill>
        <p:spPr>
          <a:xfrm>
            <a:off x="549360" y="4297320"/>
            <a:ext cx="315720" cy="16524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"/>
            <p:cNvPicPr/>
            <p:nvPr/>
          </p:nvPicPr>
          <p:blipFill>
            <a:blip r:embed="rId3"/>
            <a:stretch/>
          </p:blipFill>
          <p:spPr>
            <a:xfrm>
              <a:off x="7331400" y="5891040"/>
              <a:ext cx="1724400" cy="82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Picture 2" descr="D:\DATA.IDB\Documents\CARLOS_AG\01-SPD\00-IDB-identity\logos\BID_LOGOS_BLANCO\BID_LOGOS_BLANCO\BID_LOGOS_BLANCO\BID_espanol\bid_español_solo\BID-01.png"/>
          <p:cNvPicPr/>
          <p:nvPr/>
        </p:nvPicPr>
        <p:blipFill>
          <a:blip r:embed="rId4"/>
          <a:stretch/>
        </p:blipFill>
        <p:spPr>
          <a:xfrm>
            <a:off x="7410600" y="5748480"/>
            <a:ext cx="1566720" cy="1108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55680" y="63482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División de Competitividad e Innovación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2" descr="C:\Users\michaelaw\Desktop\Picture2.pn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7" descr="http://idbnet.iadb.org/sites/identity/en/Documents/Logo%20IDB/Spanish/Color/Medium%20resolution/BID_eslogan_español_MR-150dpi_color.png"/>
          <p:cNvPicPr/>
          <p:nvPr/>
        </p:nvPicPr>
        <p:blipFill>
          <a:blip r:embed="rId3"/>
          <a:stretch/>
        </p:blipFill>
        <p:spPr>
          <a:xfrm>
            <a:off x="353880" y="2101680"/>
            <a:ext cx="3362400" cy="23781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3" descr="C:\Users\michaelaw\Desktop\Twitter bird.png"/>
          <p:cNvPicPr/>
          <p:nvPr/>
        </p:nvPicPr>
        <p:blipFill>
          <a:blip r:embed="rId4"/>
          <a:stretch/>
        </p:blipFill>
        <p:spPr>
          <a:xfrm>
            <a:off x="638280" y="4640400"/>
            <a:ext cx="291960" cy="24444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2" descr="C:\Users\michaelaw\Desktop\Picture1.png"/>
          <p:cNvPicPr/>
          <p:nvPr/>
        </p:nvPicPr>
        <p:blipFill>
          <a:blip r:embed="rId2"/>
          <a:stretch/>
        </p:blipFill>
        <p:spPr>
          <a:xfrm>
            <a:off x="-11160" y="0"/>
            <a:ext cx="9167760" cy="68580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7" descr="http://idbnet.iadb.org/sites/identity/en/Documents/Logo%20IDB/Spanish/Color/Medium%20resolution/BID_eslogan_español_MR-150dpi_color.png"/>
          <p:cNvPicPr/>
          <p:nvPr/>
        </p:nvPicPr>
        <p:blipFill>
          <a:blip r:embed="rId3"/>
          <a:stretch/>
        </p:blipFill>
        <p:spPr>
          <a:xfrm>
            <a:off x="353880" y="2101680"/>
            <a:ext cx="3362400" cy="23781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C:\Users\michaelaw\Desktop\Twitter bird.png"/>
          <p:cNvPicPr/>
          <p:nvPr/>
        </p:nvPicPr>
        <p:blipFill>
          <a:blip r:embed="rId4"/>
          <a:stretch/>
        </p:blipFill>
        <p:spPr>
          <a:xfrm>
            <a:off x="638280" y="4640400"/>
            <a:ext cx="291960" cy="24444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michaelaw\Documents\MyJabberFiles\carlosag@ipt.iadb.org\Grey background 2.png"/>
          <p:cNvPicPr/>
          <p:nvPr/>
        </p:nvPicPr>
        <p:blipFill>
          <a:blip r:embed="rId2"/>
          <a:stretch/>
        </p:blipFill>
        <p:spPr>
          <a:xfrm>
            <a:off x="-61920" y="-39600"/>
            <a:ext cx="9267840" cy="69339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355680" y="63482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000" spc="-1" strike="noStrike">
                <a:solidFill>
                  <a:srgbClr val="7f7f7f"/>
                </a:solidFill>
                <a:latin typeface="Arial"/>
              </a:rPr>
              <a:t>Oficina de Planificación Estratégica y Efectividad en el Desarrollo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pic>
        <p:nvPicPr>
          <p:cNvPr id="86" name="Picture 2" descr="C:\Users\michaelaw\OneDrive - Inter-American Development Bank Group\BID_sin descriptor_ByN_MR_150dpi.png"/>
          <p:cNvPicPr/>
          <p:nvPr/>
        </p:nvPicPr>
        <p:blipFill>
          <a:blip r:embed="rId3"/>
          <a:stretch/>
        </p:blipFill>
        <p:spPr>
          <a:xfrm>
            <a:off x="7289640" y="5761080"/>
            <a:ext cx="1616400" cy="1143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Users\michaelaw\Documents\MyJabberFiles\carlosag@ipt.iadb.org\Grey background.png"/>
          <p:cNvPicPr/>
          <p:nvPr/>
        </p:nvPicPr>
        <p:blipFill>
          <a:blip r:embed="rId2"/>
          <a:stretch/>
        </p:blipFill>
        <p:spPr>
          <a:xfrm>
            <a:off x="-63360" y="0"/>
            <a:ext cx="9216720" cy="689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michaelaw\OneDrive - Inter-American Development Bank Group\BID_sin descriptor_ByN_MR_150dpi.png"/>
          <p:cNvPicPr/>
          <p:nvPr/>
        </p:nvPicPr>
        <p:blipFill>
          <a:blip r:embed="rId3"/>
          <a:stretch/>
        </p:blipFill>
        <p:spPr>
          <a:xfrm>
            <a:off x="7289640" y="5761080"/>
            <a:ext cx="1616400" cy="1143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355680" y="63482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000" spc="-1" strike="noStrike">
                <a:solidFill>
                  <a:srgbClr val="7f7f7f"/>
                </a:solidFill>
                <a:latin typeface="Arial"/>
              </a:rPr>
              <a:t>Oficina de Planificación Estratégica y Efectividad en el Desarrollo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355680" y="63482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Oficina de Planificación Estratégica y Efectividad en el Desarrollo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pic>
        <p:nvPicPr>
          <p:cNvPr id="167" name="Picture 3" descr="C:\Users\michaelaw\OneDrive - Inter-American Development Bank Group\BID_Spanish_Without descriptor_White_PNG.png"/>
          <p:cNvPicPr/>
          <p:nvPr/>
        </p:nvPicPr>
        <p:blipFill>
          <a:blip r:embed="rId2"/>
          <a:stretch/>
        </p:blipFill>
        <p:spPr>
          <a:xfrm>
            <a:off x="7201080" y="5743440"/>
            <a:ext cx="1616040" cy="1143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michaelaw\Desktop\logo_english_white_without%20descriptor.png"/>
          <p:cNvPicPr/>
          <p:nvPr/>
        </p:nvPicPr>
        <p:blipFill>
          <a:blip r:embed="rId2"/>
          <a:stretch/>
        </p:blipFill>
        <p:spPr>
          <a:xfrm>
            <a:off x="7313760" y="5753160"/>
            <a:ext cx="161748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michaelaw\OneDrive - Inter-American Development Bank Group\BID_sin descriptor_ByN_MR_150dpi.png"/>
          <p:cNvPicPr/>
          <p:nvPr/>
        </p:nvPicPr>
        <p:blipFill>
          <a:blip r:embed="rId3"/>
          <a:stretch/>
        </p:blipFill>
        <p:spPr>
          <a:xfrm>
            <a:off x="7289640" y="5761080"/>
            <a:ext cx="1616400" cy="1143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7351560" y="5756400"/>
            <a:ext cx="1552680" cy="965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4"/>
          <a:stretch/>
        </p:blipFill>
        <p:spPr>
          <a:xfrm>
            <a:off x="7351560" y="5832360"/>
            <a:ext cx="1552680" cy="7714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8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A2C01-5926-4643-BFDF-5ABFC2A9F3F3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6"/>
          </p:nvPr>
        </p:nvSpPr>
        <p:spPr>
          <a:xfrm>
            <a:off x="655272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CA5CA-EA05-4CEF-A5BD-20147B354DC1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F835E-C812-4374-B0ED-28A0D6128A87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9"/>
          </p:nvPr>
        </p:nvSpPr>
        <p:spPr>
          <a:xfrm>
            <a:off x="655272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D131C-00A2-4ED7-9477-C9CCCFB913EC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700" spc="-1" strike="noStrike">
                <a:solidFill>
                  <a:srgbClr val="005073"/>
                </a:solidFill>
                <a:latin typeface="Arial Black"/>
              </a:rPr>
              <a:t>Línea de Crédito Condicional para Proyectos de Inversión de Fomento a la Innovación, Emprendimiento, Capital Humano e Investigación. UR-O1153</a:t>
            </a:r>
            <a:endParaRPr b="0" lang="en-US" sz="27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595959"/>
                </a:solidFill>
                <a:latin typeface="Arial"/>
              </a:rPr>
              <a:t>Teoría del Cambio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ight Arrow 30"/>
          <p:cNvSpPr/>
          <p:nvPr/>
        </p:nvSpPr>
        <p:spPr>
          <a:xfrm>
            <a:off x="0" y="87480"/>
            <a:ext cx="2603520" cy="1147680"/>
          </a:xfrm>
          <a:prstGeom prst="rightArrow">
            <a:avLst>
              <a:gd name="adj1" fmla="val 78574"/>
              <a:gd name="adj2" fmla="val 25332"/>
            </a:avLst>
          </a:prstGeom>
          <a:solidFill>
            <a:srgbClr val="fab428"/>
          </a:solidFill>
          <a:ln w="25560">
            <a:solidFill>
              <a:srgbClr val="b883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000" spc="-1" strike="noStrike" u="sng">
                <a:solidFill>
                  <a:srgbClr val="3c3c3c"/>
                </a:solidFill>
                <a:uFillTx/>
                <a:latin typeface="Arial"/>
                <a:ea typeface="Times New Roman"/>
              </a:rPr>
              <a:t>Desafio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  <a:ea typeface="Times New Roman"/>
              </a:rPr>
              <a:t>Cmto TFP Uruguay 1960-2011=0.3% (Emergentes: 1.4%)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  <a:ea typeface="Times New Roman"/>
              </a:rPr>
              <a:t>Contribución I+D a Cmto TFP:8% (Emergentes:46%)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01" name="Rectangle 1"/>
          <p:cNvSpPr/>
          <p:nvPr/>
        </p:nvSpPr>
        <p:spPr>
          <a:xfrm>
            <a:off x="3119400" y="168120"/>
            <a:ext cx="2921040" cy="279720"/>
          </a:xfrm>
          <a:prstGeom prst="rect">
            <a:avLst/>
          </a:prstGeom>
          <a:gradFill rotWithShape="0">
            <a:gsLst>
              <a:gs pos="0">
                <a:srgbClr val="ffbe09"/>
              </a:gs>
              <a:gs pos="100000">
                <a:srgbClr val="ffe06e"/>
              </a:gs>
            </a:gsLst>
            <a:lin ang="16200000"/>
          </a:gradFill>
          <a:ln w="9360">
            <a:solidFill>
              <a:srgbClr val="fab22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c3c3c"/>
                </a:solidFill>
                <a:latin typeface="Arial"/>
              </a:rPr>
              <a:t>Bajo Cmto a LP de la TFP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02" name="Rectangle 4"/>
          <p:cNvSpPr/>
          <p:nvPr/>
        </p:nvSpPr>
        <p:spPr>
          <a:xfrm>
            <a:off x="3127320" y="905040"/>
            <a:ext cx="2921040" cy="471240"/>
          </a:xfrm>
          <a:prstGeom prst="rect">
            <a:avLst/>
          </a:prstGeom>
          <a:gradFill rotWithShape="0">
            <a:gsLst>
              <a:gs pos="0">
                <a:srgbClr val="ffbe09"/>
              </a:gs>
              <a:gs pos="100000">
                <a:srgbClr val="ffe06e"/>
              </a:gs>
            </a:gsLst>
            <a:lin ang="16200000"/>
          </a:gradFill>
          <a:ln w="9360">
            <a:solidFill>
              <a:srgbClr val="fab22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Baja inversión en I+D (0,34%)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Baja inversión empresarial en I+D 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(30% de inversión nacional en I+D)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03" name="Rectangle 8"/>
          <p:cNvSpPr/>
          <p:nvPr/>
        </p:nvSpPr>
        <p:spPr>
          <a:xfrm>
            <a:off x="1814400" y="2014560"/>
            <a:ext cx="2343240" cy="673200"/>
          </a:xfrm>
          <a:prstGeom prst="rect">
            <a:avLst/>
          </a:prstGeom>
          <a:gradFill rotWithShape="0">
            <a:gsLst>
              <a:gs pos="0">
                <a:srgbClr val="ffbe09"/>
              </a:gs>
              <a:gs pos="100000">
                <a:srgbClr val="ffe06e"/>
              </a:gs>
            </a:gsLst>
            <a:lin ang="16200000"/>
          </a:gradFill>
          <a:ln w="9360">
            <a:solidFill>
              <a:srgbClr val="fab22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Falta de Financiamiento Temprano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Bajas capacidades para I+D+i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Capacidades Institucionales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04" name="Rectangle 10"/>
          <p:cNvSpPr/>
          <p:nvPr/>
        </p:nvSpPr>
        <p:spPr>
          <a:xfrm>
            <a:off x="5018040" y="2049480"/>
            <a:ext cx="2217960" cy="658800"/>
          </a:xfrm>
          <a:prstGeom prst="rect">
            <a:avLst/>
          </a:prstGeom>
          <a:gradFill rotWithShape="0">
            <a:gsLst>
              <a:gs pos="0">
                <a:srgbClr val="ffbe09"/>
              </a:gs>
              <a:gs pos="100000">
                <a:srgbClr val="ffe06e"/>
              </a:gs>
            </a:gsLst>
            <a:lin ang="16200000"/>
          </a:gradFill>
          <a:ln w="9360">
            <a:solidFill>
              <a:srgbClr val="fab22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Regulaciones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Propiedad Intelectual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Clima de negocios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Política tributaria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05" name="TextBox 4"/>
          <p:cNvSpPr/>
          <p:nvPr/>
        </p:nvSpPr>
        <p:spPr>
          <a:xfrm>
            <a:off x="7062840" y="1749600"/>
            <a:ext cx="1219320" cy="398520"/>
          </a:xfrm>
          <a:prstGeom prst="rect">
            <a:avLst/>
          </a:prstGeom>
          <a:solidFill>
            <a:srgbClr val="f9ba9d"/>
          </a:solidFill>
          <a:ln w="25560">
            <a:solidFill>
              <a:srgbClr val="e95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  <a:ea typeface="Times New Roman"/>
              </a:rPr>
              <a:t>No atendido por el programa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06" name="Rectangle 15"/>
          <p:cNvSpPr/>
          <p:nvPr/>
        </p:nvSpPr>
        <p:spPr>
          <a:xfrm>
            <a:off x="844560" y="3244680"/>
            <a:ext cx="1990800" cy="605160"/>
          </a:xfrm>
          <a:prstGeom prst="rect">
            <a:avLst/>
          </a:prstGeom>
          <a:gradFill rotWithShape="0">
            <a:gsLst>
              <a:gs pos="0">
                <a:srgbClr val="ffbe09"/>
              </a:gs>
              <a:gs pos="100000">
                <a:srgbClr val="ffe06e"/>
              </a:gs>
            </a:gsLst>
            <a:lin ang="16200000"/>
          </a:gradFill>
          <a:ln w="9360">
            <a:solidFill>
              <a:srgbClr val="fab22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Bajo financiamiento público y privado especializado para la Innovación y el Emprendimiento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07" name="Rectangle 18"/>
          <p:cNvSpPr/>
          <p:nvPr/>
        </p:nvSpPr>
        <p:spPr>
          <a:xfrm>
            <a:off x="1028880" y="4213080"/>
            <a:ext cx="1890360" cy="782640"/>
          </a:xfrm>
          <a:prstGeom prst="rect">
            <a:avLst/>
          </a:prstGeom>
          <a:gradFill rotWithShape="0">
            <a:gsLst>
              <a:gs pos="0">
                <a:srgbClr val="ffbe09"/>
              </a:gs>
              <a:gs pos="100000">
                <a:srgbClr val="ffe06e"/>
              </a:gs>
            </a:gsLst>
            <a:lin ang="16200000"/>
          </a:gradFill>
          <a:ln w="9360">
            <a:solidFill>
              <a:srgbClr val="fab22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Asimetrías de Información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Baja Prendabilidad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Externalidades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Falta de capacidades en VC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08" name="Rectangle 20"/>
          <p:cNvSpPr/>
          <p:nvPr/>
        </p:nvSpPr>
        <p:spPr>
          <a:xfrm>
            <a:off x="2941560" y="3244680"/>
            <a:ext cx="1989360" cy="605160"/>
          </a:xfrm>
          <a:prstGeom prst="rect">
            <a:avLst/>
          </a:prstGeom>
          <a:gradFill rotWithShape="0">
            <a:gsLst>
              <a:gs pos="0">
                <a:srgbClr val="ffbe09"/>
              </a:gs>
              <a:gs pos="100000">
                <a:srgbClr val="ffe06e"/>
              </a:gs>
            </a:gsLst>
            <a:lin ang="16200000"/>
          </a:gradFill>
          <a:ln w="9360">
            <a:solidFill>
              <a:srgbClr val="fab22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Escasez relativa de personas con formación tecnológica y científica avanzada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09" name="Rectangle 23"/>
          <p:cNvSpPr/>
          <p:nvPr/>
        </p:nvSpPr>
        <p:spPr>
          <a:xfrm>
            <a:off x="3011400" y="4227480"/>
            <a:ext cx="2212920" cy="712800"/>
          </a:xfrm>
          <a:prstGeom prst="rect">
            <a:avLst/>
          </a:prstGeom>
          <a:gradFill rotWithShape="0">
            <a:gsLst>
              <a:gs pos="0">
                <a:srgbClr val="ffbe09"/>
              </a:gs>
              <a:gs pos="100000">
                <a:srgbClr val="ffe06e"/>
              </a:gs>
            </a:gsLst>
            <a:lin ang="16200000"/>
          </a:gradFill>
          <a:ln w="9360">
            <a:solidFill>
              <a:srgbClr val="fab22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Asimetrías de Información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Externalidades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Restricciones de Oferta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10" name="Rectangle 25"/>
          <p:cNvSpPr/>
          <p:nvPr/>
        </p:nvSpPr>
        <p:spPr>
          <a:xfrm>
            <a:off x="957240" y="5361120"/>
            <a:ext cx="2292480" cy="1319040"/>
          </a:xfrm>
          <a:prstGeom prst="rect">
            <a:avLst/>
          </a:prstGeom>
          <a:gradFill rotWithShape="0">
            <a:gsLst>
              <a:gs pos="0">
                <a:srgbClr val="ffbe09"/>
              </a:gs>
              <a:gs pos="100000">
                <a:srgbClr val="ffe06e"/>
              </a:gs>
            </a:gsLst>
            <a:lin ang="16200000"/>
          </a:gradFill>
          <a:ln w="9360">
            <a:solidFill>
              <a:srgbClr val="fab22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Validación Ideas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Incubación y aceleración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Capital Semilla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Apoyo a Inversionistas Ángeles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Co- Inversión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ANR y AR innovación.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Articulación universidad-industria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11" name="Rectangle 26"/>
          <p:cNvSpPr/>
          <p:nvPr/>
        </p:nvSpPr>
        <p:spPr>
          <a:xfrm>
            <a:off x="3354480" y="5369040"/>
            <a:ext cx="1869840" cy="974520"/>
          </a:xfrm>
          <a:prstGeom prst="rect">
            <a:avLst/>
          </a:prstGeom>
          <a:gradFill rotWithShape="0">
            <a:gsLst>
              <a:gs pos="0">
                <a:srgbClr val="ffbe09"/>
              </a:gs>
              <a:gs pos="100000">
                <a:srgbClr val="ffe06e"/>
              </a:gs>
            </a:gsLst>
            <a:lin ang="16200000"/>
          </a:gradFill>
          <a:ln w="9360">
            <a:solidFill>
              <a:srgbClr val="fab22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Becas de PG áreas de vacancia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Circulación de Talentos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Inserción en empresas 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12" name="Right Arrow 30"/>
          <p:cNvSpPr/>
          <p:nvPr/>
        </p:nvSpPr>
        <p:spPr>
          <a:xfrm>
            <a:off x="0" y="1820880"/>
            <a:ext cx="1112760" cy="1050840"/>
          </a:xfrm>
          <a:prstGeom prst="rightArrow">
            <a:avLst>
              <a:gd name="adj1" fmla="val 78574"/>
              <a:gd name="adj2" fmla="val 25326"/>
            </a:avLst>
          </a:prstGeom>
          <a:solidFill>
            <a:srgbClr val="fab428"/>
          </a:solidFill>
          <a:ln w="25560">
            <a:solidFill>
              <a:srgbClr val="b883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000" spc="-1" strike="noStrike">
                <a:solidFill>
                  <a:srgbClr val="3c3c3c"/>
                </a:solidFill>
                <a:latin typeface="Arial"/>
                <a:ea typeface="Times New Roman"/>
              </a:rPr>
              <a:t>Problemas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13" name="Right Arrow 30"/>
          <p:cNvSpPr/>
          <p:nvPr/>
        </p:nvSpPr>
        <p:spPr>
          <a:xfrm>
            <a:off x="0" y="4116240"/>
            <a:ext cx="816120" cy="1049400"/>
          </a:xfrm>
          <a:prstGeom prst="rightArrow">
            <a:avLst>
              <a:gd name="adj1" fmla="val 78574"/>
              <a:gd name="adj2" fmla="val 25324"/>
            </a:avLst>
          </a:prstGeom>
          <a:solidFill>
            <a:srgbClr val="fab428"/>
          </a:solidFill>
          <a:ln w="25560">
            <a:solidFill>
              <a:srgbClr val="b883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000" spc="-1" strike="noStrike">
                <a:solidFill>
                  <a:srgbClr val="3c3c3c"/>
                </a:solidFill>
                <a:latin typeface="Arial"/>
                <a:ea typeface="Times New Roman"/>
              </a:rPr>
              <a:t>Causas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14" name="Right Arrow 30"/>
          <p:cNvSpPr/>
          <p:nvPr/>
        </p:nvSpPr>
        <p:spPr>
          <a:xfrm>
            <a:off x="0" y="5460840"/>
            <a:ext cx="914400" cy="1051200"/>
          </a:xfrm>
          <a:prstGeom prst="rightArrow">
            <a:avLst>
              <a:gd name="adj1" fmla="val 78574"/>
              <a:gd name="adj2" fmla="val 25324"/>
            </a:avLst>
          </a:prstGeom>
          <a:solidFill>
            <a:srgbClr val="fab428"/>
          </a:solidFill>
          <a:ln w="25560">
            <a:solidFill>
              <a:srgbClr val="b883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000" spc="-1" strike="noStrike">
                <a:solidFill>
                  <a:srgbClr val="3c3c3c"/>
                </a:solidFill>
                <a:latin typeface="Arial"/>
                <a:ea typeface="Times New Roman"/>
              </a:rPr>
              <a:t>Solución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15" name="Rectangle 39"/>
          <p:cNvSpPr/>
          <p:nvPr/>
        </p:nvSpPr>
        <p:spPr>
          <a:xfrm>
            <a:off x="7229520" y="3232080"/>
            <a:ext cx="1401840" cy="538200"/>
          </a:xfrm>
          <a:prstGeom prst="rect">
            <a:avLst/>
          </a:prstGeom>
          <a:gradFill rotWithShape="0">
            <a:gsLst>
              <a:gs pos="0">
                <a:srgbClr val="ffbe09"/>
              </a:gs>
              <a:gs pos="100000">
                <a:srgbClr val="ffe06e"/>
              </a:gs>
            </a:gsLst>
            <a:lin ang="16200000"/>
          </a:gradFill>
          <a:ln w="9360">
            <a:solidFill>
              <a:srgbClr val="fab22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Capacidades organizacionales en desarrollo 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16" name="Rectangle 44"/>
          <p:cNvSpPr/>
          <p:nvPr/>
        </p:nvSpPr>
        <p:spPr>
          <a:xfrm>
            <a:off x="7334280" y="4245120"/>
            <a:ext cx="1401840" cy="712800"/>
          </a:xfrm>
          <a:prstGeom prst="rect">
            <a:avLst/>
          </a:prstGeom>
          <a:gradFill rotWithShape="0">
            <a:gsLst>
              <a:gs pos="0">
                <a:srgbClr val="ffbe09"/>
              </a:gs>
              <a:gs pos="100000">
                <a:srgbClr val="ffe06e"/>
              </a:gs>
            </a:gsLst>
            <a:lin ang="16200000"/>
          </a:gradFill>
          <a:ln w="9360">
            <a:solidFill>
              <a:srgbClr val="fab22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Procesos.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Monitoreo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Evaluación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17" name="Rectangle 57"/>
          <p:cNvSpPr/>
          <p:nvPr/>
        </p:nvSpPr>
        <p:spPr>
          <a:xfrm>
            <a:off x="7319880" y="5402160"/>
            <a:ext cx="1447920" cy="974880"/>
          </a:xfrm>
          <a:prstGeom prst="rect">
            <a:avLst/>
          </a:prstGeom>
          <a:gradFill rotWithShape="0">
            <a:gsLst>
              <a:gs pos="0">
                <a:srgbClr val="ffbe09"/>
              </a:gs>
              <a:gs pos="100000">
                <a:srgbClr val="ffe06e"/>
              </a:gs>
            </a:gsLst>
            <a:lin ang="16200000"/>
          </a:gradFill>
          <a:ln w="9360">
            <a:solidFill>
              <a:srgbClr val="fab22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Integrar y automatizar procesos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Capacitar en EI 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Articulación SNI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18" name="Rectangle 34"/>
          <p:cNvSpPr/>
          <p:nvPr/>
        </p:nvSpPr>
        <p:spPr>
          <a:xfrm>
            <a:off x="5062680" y="3238560"/>
            <a:ext cx="1941480" cy="531720"/>
          </a:xfrm>
          <a:prstGeom prst="rect">
            <a:avLst/>
          </a:prstGeom>
          <a:gradFill rotWithShape="0">
            <a:gsLst>
              <a:gs pos="0">
                <a:srgbClr val="ffbe09"/>
              </a:gs>
              <a:gs pos="100000">
                <a:srgbClr val="ffe06e"/>
              </a:gs>
            </a:gsLst>
            <a:lin ang="16200000"/>
          </a:gradFill>
          <a:ln w="9360">
            <a:solidFill>
              <a:srgbClr val="fab22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Limitadas capacidades para  realizar investigación y desarrollo orientada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19" name="Rectangle 36"/>
          <p:cNvSpPr/>
          <p:nvPr/>
        </p:nvSpPr>
        <p:spPr>
          <a:xfrm>
            <a:off x="5452920" y="4249800"/>
            <a:ext cx="1673280" cy="712800"/>
          </a:xfrm>
          <a:prstGeom prst="rect">
            <a:avLst/>
          </a:prstGeom>
          <a:gradFill rotWithShape="0">
            <a:gsLst>
              <a:gs pos="0">
                <a:srgbClr val="ffbe09"/>
              </a:gs>
              <a:gs pos="100000">
                <a:srgbClr val="ffe06e"/>
              </a:gs>
            </a:gsLst>
            <a:lin ang="16200000"/>
          </a:gradFill>
          <a:ln w="9360">
            <a:solidFill>
              <a:srgbClr val="fab22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Externalidades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No link oferta demanda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Pobre infraestructura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20" name="Rectangle 38"/>
          <p:cNvSpPr/>
          <p:nvPr/>
        </p:nvSpPr>
        <p:spPr>
          <a:xfrm>
            <a:off x="5467320" y="5400720"/>
            <a:ext cx="1673280" cy="941400"/>
          </a:xfrm>
          <a:prstGeom prst="rect">
            <a:avLst/>
          </a:prstGeom>
          <a:gradFill rotWithShape="0">
            <a:gsLst>
              <a:gs pos="0">
                <a:srgbClr val="ffbe09"/>
              </a:gs>
              <a:gs pos="100000">
                <a:srgbClr val="ffe06e"/>
              </a:gs>
            </a:gsLst>
            <a:lin ang="16200000"/>
          </a:gradFill>
          <a:ln w="9360">
            <a:solidFill>
              <a:srgbClr val="fab22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ANR investigación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Fondos Temáticos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Competencias de desafíos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 marL="171360" indent="-171360" algn="ctr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3c3c3c"/>
                </a:solidFill>
                <a:latin typeface="Arial"/>
              </a:rPr>
              <a:t>Financiamiento Infraestructura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cxnSp>
        <p:nvCxnSpPr>
          <p:cNvPr id="921" name="Straight Arrow Connector 21"/>
          <p:cNvCxnSpPr>
            <a:stCxn id="901" idx="2"/>
            <a:endCxn id="902" idx="0"/>
          </p:cNvCxnSpPr>
          <p:nvPr/>
        </p:nvCxnSpPr>
        <p:spPr>
          <a:xfrm>
            <a:off x="4579920" y="447840"/>
            <a:ext cx="8640" cy="457920"/>
          </a:xfrm>
          <a:prstGeom prst="straightConnector1">
            <a:avLst/>
          </a:prstGeom>
          <a:ln w="25560">
            <a:solidFill>
              <a:srgbClr val="fab428"/>
            </a:solidFill>
            <a:miter/>
            <a:tailEnd len="med" type="triangle" w="med"/>
          </a:ln>
        </p:spPr>
      </p:cxnSp>
      <p:cxnSp>
        <p:nvCxnSpPr>
          <p:cNvPr id="922" name="Connector: Elbow 32"/>
          <p:cNvCxnSpPr>
            <a:stCxn id="902" idx="2"/>
            <a:endCxn id="903" idx="0"/>
          </p:cNvCxnSpPr>
          <p:nvPr/>
        </p:nvCxnSpPr>
        <p:spPr>
          <a:xfrm rot="5400000">
            <a:off x="3467160" y="894240"/>
            <a:ext cx="639000" cy="1602360"/>
          </a:xfrm>
          <a:prstGeom prst="bentConnector3">
            <a:avLst>
              <a:gd name="adj1" fmla="val 50000"/>
            </a:avLst>
          </a:prstGeom>
          <a:ln w="25560">
            <a:solidFill>
              <a:srgbClr val="fab428"/>
            </a:solidFill>
            <a:miter/>
            <a:tailEnd len="med" type="triangle" w="med"/>
          </a:ln>
        </p:spPr>
      </p:cxnSp>
      <p:cxnSp>
        <p:nvCxnSpPr>
          <p:cNvPr id="923" name="Connector: Elbow 43"/>
          <p:cNvCxnSpPr>
            <a:endCxn id="904" idx="0"/>
          </p:cNvCxnSpPr>
          <p:nvPr/>
        </p:nvCxnSpPr>
        <p:spPr>
          <a:xfrm>
            <a:off x="4587480" y="1695240"/>
            <a:ext cx="1539000" cy="354600"/>
          </a:xfrm>
          <a:prstGeom prst="bentConnector2">
            <a:avLst/>
          </a:prstGeom>
          <a:ln w="25560">
            <a:solidFill>
              <a:srgbClr val="fab428"/>
            </a:solidFill>
            <a:miter/>
            <a:tailEnd len="med" type="triangle" w="med"/>
          </a:ln>
        </p:spPr>
      </p:cxnSp>
      <p:cxnSp>
        <p:nvCxnSpPr>
          <p:cNvPr id="924" name="Connector: Elbow 54"/>
          <p:cNvCxnSpPr>
            <a:stCxn id="903" idx="2"/>
            <a:endCxn id="906" idx="0"/>
          </p:cNvCxnSpPr>
          <p:nvPr/>
        </p:nvCxnSpPr>
        <p:spPr>
          <a:xfrm rot="5400000">
            <a:off x="2134080" y="2392920"/>
            <a:ext cx="557640" cy="1146960"/>
          </a:xfrm>
          <a:prstGeom prst="bentConnector3">
            <a:avLst>
              <a:gd name="adj1" fmla="val 50000"/>
            </a:avLst>
          </a:prstGeom>
          <a:ln w="25560">
            <a:solidFill>
              <a:srgbClr val="fab428"/>
            </a:solidFill>
            <a:miter/>
            <a:tailEnd len="med" type="triangle" w="med"/>
          </a:ln>
        </p:spPr>
      </p:cxnSp>
      <p:cxnSp>
        <p:nvCxnSpPr>
          <p:cNvPr id="925" name="Connector: Elbow 56"/>
          <p:cNvCxnSpPr>
            <a:stCxn id="903" idx="2"/>
            <a:endCxn id="908" idx="0"/>
          </p:cNvCxnSpPr>
          <p:nvPr/>
        </p:nvCxnSpPr>
        <p:spPr>
          <a:xfrm flipH="1" rot="16200000">
            <a:off x="3181320" y="2491200"/>
            <a:ext cx="557640" cy="950040"/>
          </a:xfrm>
          <a:prstGeom prst="bentConnector3">
            <a:avLst>
              <a:gd name="adj1" fmla="val 50000"/>
            </a:avLst>
          </a:prstGeom>
          <a:ln w="25560">
            <a:solidFill>
              <a:srgbClr val="fab428"/>
            </a:solidFill>
            <a:miter/>
            <a:tailEnd len="med" type="triangle" w="med"/>
          </a:ln>
        </p:spPr>
      </p:cxnSp>
      <p:cxnSp>
        <p:nvCxnSpPr>
          <p:cNvPr id="926" name="Connector: Elbow 59"/>
          <p:cNvCxnSpPr>
            <a:stCxn id="903" idx="2"/>
            <a:endCxn id="918" idx="0"/>
          </p:cNvCxnSpPr>
          <p:nvPr/>
        </p:nvCxnSpPr>
        <p:spPr>
          <a:xfrm flipH="1" rot="16200000">
            <a:off x="4233960" y="1439640"/>
            <a:ext cx="551520" cy="3047040"/>
          </a:xfrm>
          <a:prstGeom prst="bentConnector3">
            <a:avLst>
              <a:gd name="adj1" fmla="val 49967"/>
            </a:avLst>
          </a:prstGeom>
          <a:ln w="25560">
            <a:solidFill>
              <a:srgbClr val="fab428"/>
            </a:solidFill>
            <a:miter/>
            <a:tailEnd len="med" type="triangle" w="med"/>
          </a:ln>
        </p:spPr>
      </p:cxnSp>
      <p:cxnSp>
        <p:nvCxnSpPr>
          <p:cNvPr id="927" name="Connector: Elbow 62"/>
          <p:cNvCxnSpPr>
            <a:stCxn id="903" idx="2"/>
            <a:endCxn id="915" idx="0"/>
          </p:cNvCxnSpPr>
          <p:nvPr/>
        </p:nvCxnSpPr>
        <p:spPr>
          <a:xfrm flipH="1" rot="16200000">
            <a:off x="5185800" y="488160"/>
            <a:ext cx="545040" cy="4943880"/>
          </a:xfrm>
          <a:prstGeom prst="bentConnector3">
            <a:avLst>
              <a:gd name="adj1" fmla="val 49966"/>
            </a:avLst>
          </a:prstGeom>
          <a:ln w="25560">
            <a:solidFill>
              <a:srgbClr val="fab428"/>
            </a:solidFill>
            <a:miter/>
            <a:tailEnd len="med" type="triangle" w="med"/>
          </a:ln>
        </p:spPr>
      </p:cxnSp>
      <p:cxnSp>
        <p:nvCxnSpPr>
          <p:cNvPr id="928" name="Connector: Elbow 24576"/>
          <p:cNvCxnSpPr>
            <a:endCxn id="907" idx="0"/>
          </p:cNvCxnSpPr>
          <p:nvPr/>
        </p:nvCxnSpPr>
        <p:spPr>
          <a:xfrm flipH="1" rot="16200000">
            <a:off x="1708920" y="3949560"/>
            <a:ext cx="443520" cy="84600"/>
          </a:xfrm>
          <a:prstGeom prst="bentConnector3">
            <a:avLst>
              <a:gd name="adj1" fmla="val 49959"/>
            </a:avLst>
          </a:prstGeom>
          <a:ln w="25560">
            <a:solidFill>
              <a:srgbClr val="fab428"/>
            </a:solidFill>
            <a:miter/>
            <a:tailEnd len="med" type="triangle" w="med"/>
          </a:ln>
        </p:spPr>
      </p:cxnSp>
      <p:cxnSp>
        <p:nvCxnSpPr>
          <p:cNvPr id="929" name="Connector: Elbow 24578"/>
          <p:cNvCxnSpPr>
            <a:stCxn id="907" idx="2"/>
            <a:endCxn id="910" idx="0"/>
          </p:cNvCxnSpPr>
          <p:nvPr/>
        </p:nvCxnSpPr>
        <p:spPr>
          <a:xfrm flipH="1" rot="16200000">
            <a:off x="1855440" y="5112720"/>
            <a:ext cx="366120" cy="131040"/>
          </a:xfrm>
          <a:prstGeom prst="bentConnector3">
            <a:avLst>
              <a:gd name="adj1" fmla="val 50000"/>
            </a:avLst>
          </a:prstGeom>
          <a:ln w="25560">
            <a:solidFill>
              <a:srgbClr val="fab428"/>
            </a:solidFill>
            <a:miter/>
            <a:tailEnd len="med" type="triangle" w="med"/>
          </a:ln>
        </p:spPr>
      </p:cxnSp>
      <p:cxnSp>
        <p:nvCxnSpPr>
          <p:cNvPr id="930" name="Connector: Elbow 24583"/>
          <p:cNvCxnSpPr>
            <a:stCxn id="908" idx="2"/>
            <a:endCxn id="909" idx="0"/>
          </p:cNvCxnSpPr>
          <p:nvPr/>
        </p:nvCxnSpPr>
        <p:spPr>
          <a:xfrm flipH="1" rot="16200000">
            <a:off x="3836880" y="3947040"/>
            <a:ext cx="378360" cy="183240"/>
          </a:xfrm>
          <a:prstGeom prst="bentConnector3">
            <a:avLst>
              <a:gd name="adj1" fmla="val 50000"/>
            </a:avLst>
          </a:prstGeom>
          <a:ln w="25560">
            <a:solidFill>
              <a:srgbClr val="fab428"/>
            </a:solidFill>
            <a:miter/>
            <a:tailEnd len="med" type="triangle" w="med"/>
          </a:ln>
        </p:spPr>
      </p:cxnSp>
      <p:cxnSp>
        <p:nvCxnSpPr>
          <p:cNvPr id="931" name="Connector: Elbow 24586"/>
          <p:cNvCxnSpPr>
            <a:stCxn id="918" idx="2"/>
            <a:endCxn id="919" idx="0"/>
          </p:cNvCxnSpPr>
          <p:nvPr/>
        </p:nvCxnSpPr>
        <p:spPr>
          <a:xfrm flipH="1" rot="16200000">
            <a:off x="5921280" y="3881160"/>
            <a:ext cx="480240" cy="257760"/>
          </a:xfrm>
          <a:prstGeom prst="bentConnector3">
            <a:avLst>
              <a:gd name="adj1" fmla="val 49962"/>
            </a:avLst>
          </a:prstGeom>
          <a:ln w="25560">
            <a:solidFill>
              <a:srgbClr val="fab428"/>
            </a:solidFill>
            <a:miter/>
            <a:tailEnd len="med" type="triangle" w="med"/>
          </a:ln>
        </p:spPr>
      </p:cxnSp>
      <p:cxnSp>
        <p:nvCxnSpPr>
          <p:cNvPr id="932" name="Connector: Elbow 24588"/>
          <p:cNvCxnSpPr>
            <a:stCxn id="915" idx="2"/>
            <a:endCxn id="916" idx="0"/>
          </p:cNvCxnSpPr>
          <p:nvPr/>
        </p:nvCxnSpPr>
        <p:spPr>
          <a:xfrm flipH="1" rot="16200000">
            <a:off x="7744320" y="3954240"/>
            <a:ext cx="475560" cy="106920"/>
          </a:xfrm>
          <a:prstGeom prst="bentConnector3">
            <a:avLst>
              <a:gd name="adj1" fmla="val 50000"/>
            </a:avLst>
          </a:prstGeom>
          <a:ln w="25560">
            <a:solidFill>
              <a:srgbClr val="fab428"/>
            </a:solidFill>
            <a:miter/>
            <a:tailEnd len="med" type="triangle" w="med"/>
          </a:ln>
        </p:spPr>
      </p:cxnSp>
      <p:cxnSp>
        <p:nvCxnSpPr>
          <p:cNvPr id="933" name="Connector: Elbow 24592"/>
          <p:cNvCxnSpPr>
            <a:stCxn id="909" idx="2"/>
            <a:endCxn id="911" idx="0"/>
          </p:cNvCxnSpPr>
          <p:nvPr/>
        </p:nvCxnSpPr>
        <p:spPr>
          <a:xfrm flipH="1" rot="16200000">
            <a:off x="3989160" y="5068440"/>
            <a:ext cx="429480" cy="172080"/>
          </a:xfrm>
          <a:prstGeom prst="bentConnector3">
            <a:avLst>
              <a:gd name="adj1" fmla="val 50000"/>
            </a:avLst>
          </a:prstGeom>
          <a:ln w="25560">
            <a:solidFill>
              <a:srgbClr val="fab428"/>
            </a:solidFill>
            <a:miter/>
            <a:tailEnd len="med" type="triangle" w="med"/>
          </a:ln>
        </p:spPr>
      </p:cxnSp>
      <p:cxnSp>
        <p:nvCxnSpPr>
          <p:cNvPr id="934" name="Connector: Elbow 24594"/>
          <p:cNvCxnSpPr>
            <a:stCxn id="919" idx="2"/>
            <a:endCxn id="920" idx="0"/>
          </p:cNvCxnSpPr>
          <p:nvPr/>
        </p:nvCxnSpPr>
        <p:spPr>
          <a:xfrm flipH="1" rot="16200000">
            <a:off x="6077520" y="5173920"/>
            <a:ext cx="438840" cy="15120"/>
          </a:xfrm>
          <a:prstGeom prst="bentConnector3">
            <a:avLst>
              <a:gd name="adj1" fmla="val 50000"/>
            </a:avLst>
          </a:prstGeom>
          <a:ln w="25560">
            <a:solidFill>
              <a:srgbClr val="fab428"/>
            </a:solidFill>
            <a:miter/>
            <a:tailEnd len="med" type="triangle" w="med"/>
          </a:ln>
        </p:spPr>
      </p:cxnSp>
      <p:cxnSp>
        <p:nvCxnSpPr>
          <p:cNvPr id="935" name="Connector: Elbow 24596"/>
          <p:cNvCxnSpPr>
            <a:stCxn id="916" idx="2"/>
            <a:endCxn id="917" idx="0"/>
          </p:cNvCxnSpPr>
          <p:nvPr/>
        </p:nvCxnSpPr>
        <p:spPr>
          <a:xfrm flipH="1" rot="16200000">
            <a:off x="7817760" y="5175720"/>
            <a:ext cx="444960" cy="8640"/>
          </a:xfrm>
          <a:prstGeom prst="bentConnector3">
            <a:avLst>
              <a:gd name="adj1" fmla="val 49959"/>
            </a:avLst>
          </a:prstGeom>
          <a:ln w="25560">
            <a:solidFill>
              <a:srgbClr val="fab42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Results chain</a:t>
            </a:r>
            <a:endParaRPr b="0" lang="en-US" sz="28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655308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80939-5C1E-4C29-A7FD-C2EA07DE2F7F}" type="slidenum">
              <a:rPr b="0" lang="en-US" sz="1000" spc="-1" strike="noStrike">
                <a:solidFill>
                  <a:srgbClr val="919191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38" name="Rounded Rectangle 10"/>
          <p:cNvSpPr/>
          <p:nvPr/>
        </p:nvSpPr>
        <p:spPr>
          <a:xfrm flipH="1">
            <a:off x="201600" y="1951200"/>
            <a:ext cx="1463760" cy="657000"/>
          </a:xfrm>
          <a:prstGeom prst="roundRect">
            <a:avLst>
              <a:gd name="adj" fmla="val 16667"/>
            </a:avLst>
          </a:prstGeom>
          <a:solidFill>
            <a:srgbClr val="568842"/>
          </a:soli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UMOS</a:t>
            </a:r>
            <a:endParaRPr b="0" lang="en-US" sz="14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39" name="Rounded Rectangle 11"/>
          <p:cNvSpPr/>
          <p:nvPr/>
        </p:nvSpPr>
        <p:spPr>
          <a:xfrm flipH="1">
            <a:off x="1958400" y="1952640"/>
            <a:ext cx="1463400" cy="657360"/>
          </a:xfrm>
          <a:prstGeom prst="roundRect">
            <a:avLst>
              <a:gd name="adj" fmla="val 16667"/>
            </a:avLst>
          </a:prstGeom>
          <a:solidFill>
            <a:srgbClr val="568842"/>
          </a:soli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14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40" name="Rounded Rectangle 12"/>
          <p:cNvSpPr/>
          <p:nvPr/>
        </p:nvSpPr>
        <p:spPr>
          <a:xfrm flipH="1">
            <a:off x="3849120" y="1944720"/>
            <a:ext cx="1461960" cy="655560"/>
          </a:xfrm>
          <a:prstGeom prst="roundRect">
            <a:avLst>
              <a:gd name="adj" fmla="val 16667"/>
            </a:avLst>
          </a:prstGeom>
          <a:solidFill>
            <a:srgbClr val="568842"/>
          </a:soli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DUCTOS</a:t>
            </a:r>
            <a:endParaRPr b="0" lang="en-US" sz="14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41" name="Rounded Rectangle 13"/>
          <p:cNvSpPr/>
          <p:nvPr/>
        </p:nvSpPr>
        <p:spPr>
          <a:xfrm flipH="1">
            <a:off x="7382880" y="1947960"/>
            <a:ext cx="1463400" cy="652320"/>
          </a:xfrm>
          <a:prstGeom prst="roundRect">
            <a:avLst>
              <a:gd name="adj" fmla="val 16667"/>
            </a:avLst>
          </a:prstGeom>
          <a:solidFill>
            <a:srgbClr val="568842"/>
          </a:soli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ACTOS</a:t>
            </a:r>
            <a:endParaRPr b="0" lang="en-US" sz="14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42" name="Rounded Rectangle 14"/>
          <p:cNvSpPr/>
          <p:nvPr/>
        </p:nvSpPr>
        <p:spPr>
          <a:xfrm flipH="1">
            <a:off x="5611680" y="1940040"/>
            <a:ext cx="1463760" cy="655560"/>
          </a:xfrm>
          <a:prstGeom prst="roundRect">
            <a:avLst>
              <a:gd name="adj" fmla="val 16667"/>
            </a:avLst>
          </a:prstGeom>
          <a:solidFill>
            <a:srgbClr val="568842"/>
          </a:soli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43" name="Right Arrow 15"/>
          <p:cNvSpPr/>
          <p:nvPr/>
        </p:nvSpPr>
        <p:spPr>
          <a:xfrm>
            <a:off x="1665360" y="2127240"/>
            <a:ext cx="293760" cy="24624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80808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44" name="Right Arrow 16"/>
          <p:cNvSpPr/>
          <p:nvPr/>
        </p:nvSpPr>
        <p:spPr>
          <a:xfrm>
            <a:off x="3443400" y="2124000"/>
            <a:ext cx="371520" cy="24624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80808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45" name="Right Arrow 17"/>
          <p:cNvSpPr/>
          <p:nvPr/>
        </p:nvSpPr>
        <p:spPr>
          <a:xfrm>
            <a:off x="5340240" y="2149560"/>
            <a:ext cx="293760" cy="2476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80808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46" name="Right Arrow 18"/>
          <p:cNvSpPr/>
          <p:nvPr/>
        </p:nvSpPr>
        <p:spPr>
          <a:xfrm>
            <a:off x="7075440" y="2133720"/>
            <a:ext cx="293760" cy="24588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80808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47" name="Straight Connector 26"/>
          <p:cNvSpPr/>
          <p:nvPr/>
        </p:nvSpPr>
        <p:spPr>
          <a:xfrm>
            <a:off x="5468760" y="1512720"/>
            <a:ext cx="0" cy="4643640"/>
          </a:xfrm>
          <a:prstGeom prst="line">
            <a:avLst/>
          </a:prstGeom>
          <a:ln w="69840">
            <a:solidFill>
              <a:srgbClr val="82be2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48" name="Straight Connector 27"/>
          <p:cNvSpPr/>
          <p:nvPr/>
        </p:nvSpPr>
        <p:spPr>
          <a:xfrm flipH="1">
            <a:off x="7233840" y="1541520"/>
            <a:ext cx="1800" cy="4643280"/>
          </a:xfrm>
          <a:prstGeom prst="line">
            <a:avLst/>
          </a:prstGeom>
          <a:ln w="95400">
            <a:solidFill>
              <a:srgbClr val="82be2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49" name="Straight Connector 28"/>
          <p:cNvSpPr/>
          <p:nvPr/>
        </p:nvSpPr>
        <p:spPr>
          <a:xfrm>
            <a:off x="3711600" y="1512720"/>
            <a:ext cx="4680" cy="4643640"/>
          </a:xfrm>
          <a:prstGeom prst="line">
            <a:avLst/>
          </a:prstGeom>
          <a:ln w="19080">
            <a:solidFill>
              <a:srgbClr val="82be2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50" name="TextBox 31"/>
          <p:cNvSpPr/>
          <p:nvPr/>
        </p:nvSpPr>
        <p:spPr>
          <a:xfrm>
            <a:off x="3822840" y="2727360"/>
            <a:ext cx="16509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Proyectos de innovación y emprendimiento financiados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Proyectos de incubación financiados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Becas de formación de capital humano financiadas.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Proyectos de I</a:t>
            </a:r>
            <a:r>
              <a:rPr b="1" lang="en-US" sz="1200" spc="-1" strike="noStrike">
                <a:solidFill>
                  <a:srgbClr val="595959"/>
                </a:solidFill>
                <a:latin typeface="Calibri"/>
                <a:ea typeface="Arial"/>
              </a:rPr>
              <a:t>+D orientados </a:t>
            </a: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 financiados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Sistemas de información mejorados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Evaluaciones de Impacto realizadas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51" name="TextBox 32"/>
          <p:cNvSpPr/>
          <p:nvPr/>
        </p:nvSpPr>
        <p:spPr>
          <a:xfrm>
            <a:off x="5459400" y="2714760"/>
            <a:ext cx="17780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Aumento de la inversión en innovación en empresas.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Aumento inserción de capital humano avanzado en empresas.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Producción de conocimiento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Mejora eficiencia procesos internos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Rediseño de instrumentos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52" name="TextBox 33"/>
          <p:cNvSpPr/>
          <p:nvPr/>
        </p:nvSpPr>
        <p:spPr>
          <a:xfrm>
            <a:off x="7267680" y="268452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Aumento de la productividad de las empresas 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53" name="TextBox 36"/>
          <p:cNvSpPr/>
          <p:nvPr/>
        </p:nvSpPr>
        <p:spPr>
          <a:xfrm>
            <a:off x="1928880" y="2732040"/>
            <a:ext cx="18162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Diseño de Bases.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Organización de convocatorias.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Apertura de ventanillas.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Articulación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Difusión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Elaboración de propuestas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Monitoreo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Cierre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Evaluación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Calibri"/>
                <a:ea typeface="Arial"/>
              </a:rPr>
              <a:t>Consultorías sistemas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54" name="TextBox 38"/>
          <p:cNvSpPr/>
          <p:nvPr/>
        </p:nvSpPr>
        <p:spPr>
          <a:xfrm>
            <a:off x="162000" y="2720880"/>
            <a:ext cx="1509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808080"/>
                </a:solidFill>
                <a:latin typeface="Arial"/>
              </a:rPr>
              <a:t>Instrumentos y recursos financieros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808080"/>
                </a:solidFill>
                <a:latin typeface="Arial"/>
              </a:rPr>
              <a:t>Tiempo de consultores y especialistas</a:t>
            </a:r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55" name="TextBox 25"/>
          <p:cNvSpPr/>
          <p:nvPr/>
        </p:nvSpPr>
        <p:spPr>
          <a:xfrm>
            <a:off x="8112240" y="816120"/>
            <a:ext cx="97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80808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56" name="Title 1"/>
          <p:cNvSpPr/>
          <p:nvPr/>
        </p:nvSpPr>
        <p:spPr>
          <a:xfrm>
            <a:off x="176040" y="328680"/>
            <a:ext cx="8828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70c0"/>
                </a:solidFill>
                <a:latin typeface="Arial Black"/>
                <a:ea typeface="Arial"/>
              </a:rPr>
              <a:t>Línea de Crédito Condicional para proyectos de Innovación, Emprendimiento, Capital Humano e Investigación</a:t>
            </a:r>
            <a:r>
              <a:rPr b="0" lang="es-ES_tradnl" sz="4000" spc="-1" strike="noStrike">
                <a:solidFill>
                  <a:srgbClr val="0070c0"/>
                </a:solidFill>
                <a:latin typeface="Arial Black"/>
                <a:ea typeface="Arial"/>
              </a:rPr>
              <a:t>.</a:t>
            </a:r>
            <a:endParaRPr b="0" lang="en-US" sz="4000" spc="-1" strike="noStrike">
              <a:solidFill>
                <a:srgbClr val="3c3c3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880920" y="4241880"/>
            <a:ext cx="359424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Arial"/>
                <a:ea typeface="Arial"/>
              </a:rPr>
              <a:t>gcrespi@iadb.org</a:t>
            </a: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80920" y="4684320"/>
            <a:ext cx="3594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1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701028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7A7F5-EF6A-4CB1-B3E9-8882AA7D65E4}" type="slidenum">
              <a:rPr b="0" lang="en-US" sz="1800" spc="-1" strike="noStrike">
                <a:solidFill>
                  <a:srgbClr val="919191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18:54:59Z</dcterms:created>
  <dc:creator>nialvarez</dc:creator>
  <dc:description/>
  <dc:language>en-US</dc:language>
  <cp:lastModifiedBy>Crespi, Gustavo Atilio</cp:lastModifiedBy>
  <dcterms:modified xsi:type="dcterms:W3CDTF">2017-06-05T18:52:57Z</dcterms:modified>
  <cp:revision>1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